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777-5891-492C-A169-591AF8CF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BAB-FB98-4B79-B729-67A59EB8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230-CBA6-4CC0-ABD0-02B975A2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A01-474C-47A4-99B0-2230C9B3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1BE-F04C-465E-A8A1-F453DD85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088-56E5-47C5-B47F-3BBDF16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D9E4-5ACF-4AB3-A8CB-D28B103E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2193-E664-4D2F-9566-0D54F65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06AC-4477-4F91-9035-A3EBB7C2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0117-969E-46DF-87DF-BA434BA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C2B6-84A2-4A95-B8F0-B4932E5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441-D856-438A-974B-5B458DA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84DF-45B4-4A51-B853-2283DC44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2DE-008B-4AE9-9275-487F650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301C-DFCF-431F-AE83-533B58D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96D-CE01-4E05-91BD-5574800E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632A-A911-4252-896A-9A33D806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C40-0164-4484-AB44-60CC12B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4F6-6362-492C-8A25-EB3110E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EFA-9063-4DCF-9899-D785E14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557-605B-4DF7-B327-39E6E48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AFE-DC49-4451-B732-BD6DF97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162-39C1-4741-8BDF-5B54B513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037-1BAB-4137-9335-5812DEB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2" name="Picture 8" descr="CNVBNR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7E58-0688-482D-9325-929DCB2B9367}" type="slidenum"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55" name="Picture 15" descr="CNVBNR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AD7-51CD-4D81-9C78-80F7AD73EE38}" type="slidenum">
              <a:rPr b="0" lang="ru-RU" sz="14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125360"/>
          <a:ext cx="8304480" cy="5732640"/>
        </p:xfrm>
        <a:graphic>
          <a:graphicData uri="http://schemas.openxmlformats.org/drawingml/2006/table">
            <a:tbl>
              <a:tblPr/>
              <a:tblGrid>
                <a:gridCol w="1893960"/>
                <a:gridCol w="1997280"/>
                <a:gridCol w="2315880"/>
                <a:gridCol w="2097360"/>
              </a:tblGrid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im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Aspec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P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Indefinit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Am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is    don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a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was   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were   don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shall   be will    don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am  being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is    don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was    being          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were   done</a:t>
                      </a: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Have bee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has   don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had been done</a:t>
                      </a: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shall  hav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will    bee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         </a:t>
                      </a: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done</a:t>
                      </a: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AutoShape 73"/>
          <p:cNvSpPr/>
          <p:nvPr/>
        </p:nvSpPr>
        <p:spPr>
          <a:xfrm>
            <a:off x="2916360" y="2349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0" name="AutoShape 83"/>
          <p:cNvSpPr/>
          <p:nvPr/>
        </p:nvSpPr>
        <p:spPr>
          <a:xfrm>
            <a:off x="2843280" y="386064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1" name="AutoShape 93"/>
          <p:cNvSpPr/>
          <p:nvPr/>
        </p:nvSpPr>
        <p:spPr>
          <a:xfrm>
            <a:off x="2987640" y="5373720"/>
            <a:ext cx="576360" cy="863640"/>
          </a:xfrm>
          <a:custGeom>
            <a:avLst/>
            <a:gdLst>
              <a:gd name="textAreaLeft" fmla="*/ 0 w 576360"/>
              <a:gd name="textAreaRight" fmla="*/ 208080 w 576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2" name="AutoShape 94"/>
          <p:cNvSpPr/>
          <p:nvPr/>
        </p:nvSpPr>
        <p:spPr>
          <a:xfrm>
            <a:off x="5148360" y="2276640"/>
            <a:ext cx="358560" cy="1009440"/>
          </a:xfrm>
          <a:custGeom>
            <a:avLst/>
            <a:gdLst>
              <a:gd name="textAreaLeft" fmla="*/ 0 w 358560"/>
              <a:gd name="textAreaRight" fmla="*/ 129600 w 358560"/>
              <a:gd name="textAreaTop" fmla="*/ 26280 h 1009440"/>
              <a:gd name="textAreaBottom" fmla="*/ 98316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3" name="AutoShape 95"/>
          <p:cNvSpPr/>
          <p:nvPr/>
        </p:nvSpPr>
        <p:spPr>
          <a:xfrm>
            <a:off x="5076720" y="386064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4" name="AutoShape 97"/>
          <p:cNvSpPr/>
          <p:nvPr/>
        </p:nvSpPr>
        <p:spPr>
          <a:xfrm>
            <a:off x="7451640" y="2205000"/>
            <a:ext cx="358920" cy="1009800"/>
          </a:xfrm>
          <a:custGeom>
            <a:avLst/>
            <a:gdLst>
              <a:gd name="textAreaLeft" fmla="*/ 0 w 358920"/>
              <a:gd name="textAreaRight" fmla="*/ 129600 w 3589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5" name="AutoShape 105"/>
          <p:cNvSpPr/>
          <p:nvPr/>
        </p:nvSpPr>
        <p:spPr>
          <a:xfrm>
            <a:off x="7451640" y="537372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Ограничения: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1) страдательный залог невозможен, если в действительном залоге прямое дополнение является  инфинитивом. Например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We arranged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to meet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 at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5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o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’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clock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. 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Мы договорились встретиться в 5 часов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2) если после глаголов, обозначающих мыслительные процессы, физические ощущения, предложения, просьбы, решения и т.п., дополнение выражено придаточным предложением, то подлежащим в страдательной конструкции становится формальное местоимение, а придаточное предложение, как и раньше, следует за глаголом сказуемым. Например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We knew that he wouldn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’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 accept the offer.</a:t>
            </a:r>
            <a:r>
              <a:rPr b="0" i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It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 was known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hat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he wouldn’t accept the offer. 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Мы знали, что он не примет предложение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Было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известно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,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что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он не примет этого предложения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3) в английском языке есть ряд переходных глаголов (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resemble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suit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fit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have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possess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lack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), с которыми страдательный залог невозможен. Например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he boy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resembles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 his father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.  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Мальчик похож на своего отца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Но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не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he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father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is resembled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by the boy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4)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с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глаголами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о say, to explain, to announce, to point out, to devote, to suggest, to propose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и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т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п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.,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оторые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встречаютс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с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двум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дополнениями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,        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возможна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только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одна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страдательна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онструкци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- 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пряма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.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Например: 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hen the difficulty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was explained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them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Затем им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объяснили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 эту трудность.         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Bookman Old Style"/>
              </a:rPr>
              <a:t>Отрицательная и вопросительная формы страдательного залога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: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1) в отрицательной форме частица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not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ставится после первого вспомогательного   глагола -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The b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о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ok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h</a:t>
            </a:r>
            <a:r>
              <a:rPr b="0" i="1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а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s not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been written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;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2) в вопросительной форме первый вспомогательный глагол ставится перед подлежащим –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Has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the book been written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He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walked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in the park every evening.   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Он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гулял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по парку каждый вечер.                                                               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The parents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walked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him into his room. 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Родител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провел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его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в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его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комнату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He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ran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down the road towards the car.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Он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бежал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по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дороге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к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машине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We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ran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our boat into some quiet little nook. 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Мы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направил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нашу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лодку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в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.                            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спокойную маленькую бухту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67920"/>
            <a:ext cx="8223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в английском языке практически нет других средств, кроме страдательного залога, которые позволили бы, в случае необходимости, не называть производителя действия. 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Сравните с русским языком, где таких средств несколько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а) неопределенно-личные предложения, например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I don’t like when I’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m ordered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about. - 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H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е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люблю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огда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мной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командуют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.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б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)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безличные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предложения</a:t>
            </a:r>
            <a:r>
              <a:rPr b="0" lang="en-US" sz="2400" spc="-1" strike="noStrike">
                <a:solidFill>
                  <a:srgbClr val="333333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He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was told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to stay at home. 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Ему 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велено было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сидеть дома. 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в) инфинитивные предложения: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He 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hasn</a:t>
            </a:r>
            <a:r>
              <a:rPr b="0" i="1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’</a:t>
            </a:r>
            <a:r>
              <a:rPr b="0" i="1" lang="en-US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t been heard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from for two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333333"/>
                </a:solidFill>
                <a:latin typeface="Bookman Old Style"/>
              </a:rPr>
              <a:t>days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. -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От него ничего</a:t>
            </a:r>
            <a:r>
              <a:rPr b="0" lang="ru-RU" sz="2400" spc="-1" strike="noStrike" u="sng">
                <a:solidFill>
                  <a:srgbClr val="333333"/>
                </a:solidFill>
                <a:uFillTx/>
                <a:latin typeface="Bookman Old Style"/>
              </a:rPr>
              <a:t> не слыхать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уже два</a:t>
            </a:r>
            <a:r>
              <a:rPr b="0" i="1" lang="ru-RU" sz="24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дня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0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620640"/>
          <a:ext cx="8294760" cy="6118200"/>
        </p:xfrm>
        <a:graphic>
          <a:graphicData uri="http://schemas.openxmlformats.org/drawingml/2006/table">
            <a:tbl>
              <a:tblPr/>
              <a:tblGrid>
                <a:gridCol w="4148280"/>
                <a:gridCol w="4146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Bodoni MT Black"/>
                        </a:rPr>
                        <a:t>Русские непереходные глаголы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Bodoni MT Black"/>
                        </a:rPr>
                        <a:t>Английские переходные глаголы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помогать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help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управлять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manag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звонить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ring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отвечать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answer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следовать з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follow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присутствовать н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attend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влиять</a:t>
                      </a: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н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influenc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воздействовать на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to affec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Ему помогли открыть дверь.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333333"/>
                          </a:solidFill>
                          <a:latin typeface="Bookman Old Style"/>
                        </a:rPr>
                        <a:t>He was helped to open the door.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81518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3) в английском языке употребление страдательного залога возможно не только с глаголами, требующими прямого дополнении, но и с глаголами, после которых встречаются косвенные и предложные дополнения, если значение этих глаголов соответствует значению переходных глаголов - направленности на предмет/лицо. К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таким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глаголам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относятся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: to listen to, to look after, to wait for, to call upon, to search for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др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.: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The young trees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were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properly -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За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молодым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деревьями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хорошо</a:t>
            </a: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looked after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.                               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присматривали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836280"/>
            <a:ext cx="8223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В зависимости от характера дополнения английские глаголы могут употребляться в страдательном залоге в следующих конструкциях: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1)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прямой страдательный залог (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the Direct Passive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)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, в котором подлежащее соответствует прямому дополнению действительного залога. Например: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W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е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speak English here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. </a:t>
            </a:r>
            <a:r>
              <a:rPr b="0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English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is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spoken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here.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 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Здесь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говорят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по-английски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I knew why they’d chosen me. </a:t>
            </a:r>
            <a:r>
              <a:rPr b="0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 I knew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333333"/>
                </a:solidFill>
                <a:latin typeface="Bookman Old Style"/>
              </a:rPr>
              <a:t>why I </a:t>
            </a:r>
            <a:r>
              <a:rPr b="0" i="1" lang="en-US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had been chosen</a:t>
            </a:r>
            <a:r>
              <a:rPr b="0" i="1" lang="ru-RU" sz="2800" spc="-1" strike="noStrike">
                <a:solidFill>
                  <a:srgbClr val="333333"/>
                </a:solidFill>
                <a:latin typeface="Bookman Old Style"/>
              </a:rPr>
              <a:t>.- 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Я знал, почему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ookman Old Style"/>
              </a:rPr>
              <a:t>выбрали</a:t>
            </a:r>
            <a:r>
              <a:rPr b="0" lang="ru-RU" sz="2800" spc="-1" strike="noStrike">
                <a:solidFill>
                  <a:srgbClr val="333333"/>
                </a:solidFill>
                <a:latin typeface="Bookman Old Style"/>
              </a:rPr>
              <a:t> меня.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0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2)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косвенный страдательный залог (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The Indirect Passive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), в котором подлежащее соответствует косвенному дополнению действительного залога. Косвенный страдательный залог встречается только с глаголами типа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tell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give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show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pay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leave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promise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lend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o send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и др., которые сочетаются с двумя дополнениями - прямым и косвенным, и   поэтому с ними возможны две страдательные конструкции: прямая страдательная конструкция, описанная выше, и косвенная. Например: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She gave her sister a car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  -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Она подарила своей сестре машину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Her sister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was given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a car.  -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Ее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сестре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подарили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машину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A car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was given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to her sister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Однако чаще подлежащим в страдательной конструкции становится дополнение, обозначающее лицо: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Bookman Old Style"/>
              </a:rPr>
              <a:t>You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were lent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en thousands pounds last year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В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прошлом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году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Bookman Old Style"/>
              </a:rPr>
              <a:t>вам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одолжили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десять тысяч фунтов. 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84360" y="414972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120b"/>
                </a:solidFill>
                <a:latin typeface="Bookman Old Style"/>
              </a:rPr>
              <a:t>Т</a:t>
            </a:r>
            <a:r>
              <a:rPr b="1" i="1" lang="en-US" sz="4400" spc="-1" strike="noStrike">
                <a:solidFill>
                  <a:srgbClr val="6b120b"/>
                </a:solidFill>
                <a:latin typeface="Bookman Old Style"/>
              </a:rPr>
              <a:t>he Passive Voice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81518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З)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предложный страдательный залог 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(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The Prepositional Passive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в котором подлежащее соответствует предложному дополнению действительного залога. Предлог в этой конструкции сохраняет свое место после глагола. Например: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hey have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sent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for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the doctor.</a:t>
            </a:r>
            <a:r>
              <a:rPr b="0" i="1" lang="en-US" sz="20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Т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he doctor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has been sent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for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. 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- </a:t>
            </a:r>
            <a:r>
              <a:rPr b="1" lang="ru-RU" sz="2000" spc="-1" strike="noStrike">
                <a:solidFill>
                  <a:srgbClr val="333333"/>
                </a:solidFill>
                <a:latin typeface="Bookman Old Style"/>
              </a:rPr>
              <a:t>За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 доктором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послали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She hated when somebody was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laughing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at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her.</a:t>
            </a:r>
            <a:r>
              <a:rPr b="0" i="1" lang="en-US" sz="2000" spc="-1" strike="noStrike">
                <a:solidFill>
                  <a:srgbClr val="333333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She hated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when she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was being laughed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at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Она терпеть не могла, когда </a:t>
            </a:r>
            <a:r>
              <a:rPr b="1" lang="ru-RU" sz="2000" spc="-1" strike="noStrike">
                <a:solidFill>
                  <a:srgbClr val="333333"/>
                </a:solidFill>
                <a:latin typeface="Bookman Old Style"/>
              </a:rPr>
              <a:t>над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 ней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смеялись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Как видно из приведенных примеров, ни одна конструкция не нуждается в назывании производителя действия. Однако если высказывание требует этого, то слово, обозначающее деятеля, вводится предлогом 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b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у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. Например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Many valuable pictures were destroyed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by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 the fire</a:t>
            </a:r>
            <a:r>
              <a:rPr b="0" i="1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.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-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В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огне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погибли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многие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ценные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картины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The theatre </a:t>
            </a:r>
            <a:r>
              <a:rPr b="0" i="1" lang="en-US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was closed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333333"/>
                </a:solidFill>
                <a:latin typeface="Bookman Old Style"/>
              </a:rPr>
              <a:t>by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the police</a:t>
            </a:r>
            <a:r>
              <a:rPr b="0" i="1" lang="ru-RU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r>
              <a:rPr b="0" i="1" lang="en-US" sz="2000" spc="-1" strike="noStrike">
                <a:solidFill>
                  <a:srgbClr val="333333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Театр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был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Bookman Old Style"/>
              </a:rPr>
              <a:t>закрыт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ru-RU" sz="2000" spc="-1" strike="noStrike" u="sng">
                <a:solidFill>
                  <a:srgbClr val="333333"/>
                </a:solidFill>
                <a:uFillTx/>
                <a:latin typeface="Bookman Old Style"/>
              </a:rPr>
              <a:t>полицией</a:t>
            </a:r>
            <a:r>
              <a:rPr b="0" lang="en-US" sz="2000" spc="-1" strike="noStrike">
                <a:solidFill>
                  <a:srgbClr val="333333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18:53Z</dcterms:created>
  <dc:creator>comp</dc:creator>
  <dc:description/>
  <dc:language>en-US</dc:language>
  <cp:lastModifiedBy>Ната</cp:lastModifiedBy>
  <dcterms:modified xsi:type="dcterms:W3CDTF">2014-04-03T07:16:08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49</vt:lpwstr>
  </property>
</Properties>
</file>