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F8D58-5747-4C32-84CA-AAB16735AF6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40737-B0D2-450D-999B-C743405D2D1E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194A-F17E-4030-A490-C5F840D0F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CC60-8E13-4A9B-9F88-E0CD9A285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8580-443A-4A81-9616-20E6ECFCA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FF92-5CCE-4EC0-8E32-FFCAC970C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92A2-35B0-443C-9554-9E82E2C13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9CDE-4975-41EF-9363-A1A4206D7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3063-01BB-4633-8826-9111B92FC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4B75-1140-4441-9B22-E93F3E0DF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A428-A465-446F-95E9-9D4BF6C32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CC33-4869-4DC8-A9E9-540292E9D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4F02-84DC-4B50-A26B-BC3A04D9C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3D40-40C3-489E-BB14-34525AB34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a8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D2303-1E3C-4833-97EF-90671E7A54AF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9680" y="285480"/>
            <a:ext cx="835812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ИСТЕРСТВО ОБРАЗОВАНИЯ И НАУКИ  РОССИЙСКОЙ ФЕДЕРАЦИИ 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ЛЬНЕВОСТОЧНЫЙ ФЕДЕРАЛЬНЫЙ ГОСУДАРСТВЕННЫЙ УНИВЕРСИТЕТ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________________________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000240" y="1642680"/>
            <a:ext cx="5786640" cy="27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ЕННОСТИ АССОРТИМЕНТА ДЕТСКОЙ  ОБУВ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TextBox 3"/>
          <p:cNvSpPr/>
          <p:nvPr/>
        </p:nvSpPr>
        <p:spPr>
          <a:xfrm>
            <a:off x="5642640" y="4643280"/>
            <a:ext cx="3016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нитель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удентка 421 ТМ групп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кив Кристи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Прямая соединительная линия 5"/>
          <p:cNvSpPr/>
          <p:nvPr/>
        </p:nvSpPr>
        <p:spPr>
          <a:xfrm>
            <a:off x="5357880" y="4572000"/>
            <a:ext cx="32860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2"/>
          <p:cNvSpPr/>
          <p:nvPr/>
        </p:nvSpPr>
        <p:spPr>
          <a:xfrm>
            <a:off x="0" y="8640"/>
            <a:ext cx="914400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принципы безопасной обуви </a:t>
            </a:r>
            <a:br>
              <a:rPr sz="28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 медицинской точки зрения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ФОРМА И ФАСОН ОБУВ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br>
              <a:rPr sz="1100"/>
            </a:b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Рисунок 2" descr="http://www.kakadustyle.ru/templates/kakadu_glavnaya/images/r2.jpg"/>
          <p:cNvPicPr/>
          <p:nvPr/>
        </p:nvPicPr>
        <p:blipFill>
          <a:blip r:embed="rId1"/>
          <a:stretch/>
        </p:blipFill>
        <p:spPr>
          <a:xfrm>
            <a:off x="214200" y="3481560"/>
            <a:ext cx="2500560" cy="315252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3"/>
          <p:cNvSpPr/>
          <p:nvPr/>
        </p:nvSpPr>
        <p:spPr>
          <a:xfrm>
            <a:off x="4287960" y="2575440"/>
            <a:ext cx="18072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Box 5"/>
          <p:cNvSpPr/>
          <p:nvPr/>
        </p:nvSpPr>
        <p:spPr>
          <a:xfrm>
            <a:off x="357120" y="1500120"/>
            <a:ext cx="87868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ская обувь должна иметь достаточно просторную круглую носовую часть, которая предоставляет достаточно места для пальцев. Чем более выровненный внутренний край обуви, тем лучше, потому что в этом случае большой палец находится в своем естественном положении и отсутствует его стеснение с остальными пальцами. По возможности отказаться от выбора остроносой обуви, потому что она способна деформировать пальцы ребенк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Box 6"/>
          <p:cNvSpPr/>
          <p:nvPr/>
        </p:nvSpPr>
        <p:spPr>
          <a:xfrm>
            <a:off x="3786120" y="3643200"/>
            <a:ext cx="4714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МАТЕРИАЛ  ВЕРХ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ирайте обувь, которая изготовлена из натуральных (природных) материалов или современных синтетических материал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7" name="Рисунок 19" descr="http://www.kakadustyle.ru/templates/kakadu_glavnaya/images/razmeri.jpg"/>
          <p:cNvPicPr/>
          <p:nvPr/>
        </p:nvPicPr>
        <p:blipFill>
          <a:blip r:embed="rId1"/>
          <a:stretch/>
        </p:blipFill>
        <p:spPr>
          <a:xfrm>
            <a:off x="0" y="285840"/>
            <a:ext cx="9144000" cy="210816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20" descr="http://www.kakadustyle.ru/templates/kakadu_glavnaya/images/podbor_obuvi.gif"/>
          <p:cNvPicPr/>
          <p:nvPr/>
        </p:nvPicPr>
        <p:blipFill>
          <a:blip r:embed="rId2"/>
          <a:stretch/>
        </p:blipFill>
        <p:spPr>
          <a:xfrm>
            <a:off x="0" y="2500200"/>
            <a:ext cx="9144000" cy="41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Основные понятия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143000"/>
            <a:ext cx="82296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вь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изделие для предохранения ног от внешних воздействий и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ущее утилитарные и эстетические функции.</a:t>
            </a:r>
            <a:br>
              <a:rPr sz="2200"/>
            </a:b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мер обуви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еличина, характеризующая длину стопы или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льки обуви. В РФ применяется метрическая система, т.е длина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опы измеряется в миллиметрах.</a:t>
            </a:r>
            <a:br>
              <a:rPr sz="2200"/>
            </a:b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нота обуви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условное обозначение обхвата (внутренней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ы обуви) в пучках. Полнота является одной из основных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рактеристик впорности обуви.</a:t>
            </a:r>
            <a:br>
              <a:rPr sz="2200"/>
            </a:b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ль обуви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новый по виду, форме и материалу образец.</a:t>
            </a:r>
            <a:br>
              <a:rPr sz="2200"/>
            </a:b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льная обувь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обувь, при конструировании которой акцент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ается прежде всего на современное направление моды.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Классификация обуви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14200" y="642960"/>
            <a:ext cx="87156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TextBox 7"/>
          <p:cNvSpPr/>
          <p:nvPr/>
        </p:nvSpPr>
        <p:spPr>
          <a:xfrm>
            <a:off x="285840" y="2143080"/>
            <a:ext cx="4143240" cy="14655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ЬНУЮ: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вь спортивная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вь ортопедическая или медицинская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вь производственная или защитна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TextBox 8"/>
          <p:cNvSpPr/>
          <p:nvPr/>
        </p:nvSpPr>
        <p:spPr>
          <a:xfrm>
            <a:off x="4786200" y="2143080"/>
            <a:ext cx="3643560" cy="11912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ТОВУЮ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ашняя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льная или выходная, повседнев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Прямоугольник 13"/>
          <p:cNvSpPr/>
          <p:nvPr/>
        </p:nvSpPr>
        <p:spPr>
          <a:xfrm>
            <a:off x="2928960" y="714240"/>
            <a:ext cx="3500280" cy="857520"/>
          </a:xfrm>
          <a:prstGeom prst="rect">
            <a:avLst/>
          </a:prstGeom>
          <a:solidFill>
            <a:srgbClr val="ffff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ю обув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но разделить на обув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Стрелка вниз 17"/>
          <p:cNvSpPr/>
          <p:nvPr/>
        </p:nvSpPr>
        <p:spPr>
          <a:xfrm>
            <a:off x="3071880" y="1571760"/>
            <a:ext cx="428400" cy="571320"/>
          </a:xfrm>
          <a:prstGeom prst="downArrow">
            <a:avLst>
              <a:gd name="adj1" fmla="val 50000"/>
              <a:gd name="adj2" fmla="val 5001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Стрелка вниз 18"/>
          <p:cNvSpPr/>
          <p:nvPr/>
        </p:nvSpPr>
        <p:spPr>
          <a:xfrm>
            <a:off x="5357880" y="1571760"/>
            <a:ext cx="428400" cy="571320"/>
          </a:xfrm>
          <a:prstGeom prst="downArrow">
            <a:avLst>
              <a:gd name="adj1" fmla="val 50000"/>
              <a:gd name="adj2" fmla="val 5001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Rectangle 1"/>
          <p:cNvSpPr/>
          <p:nvPr/>
        </p:nvSpPr>
        <p:spPr>
          <a:xfrm>
            <a:off x="2160" y="-360"/>
            <a:ext cx="276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666666"/>
                </a:solidFill>
                <a:latin typeface="Arial"/>
                <a:ea typeface="Times New Roman"/>
              </a:rPr>
              <a:t>   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Прямоугольник 21"/>
          <p:cNvSpPr/>
          <p:nvPr/>
        </p:nvSpPr>
        <p:spPr>
          <a:xfrm>
            <a:off x="571680" y="3714840"/>
            <a:ext cx="821520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Современная обувь подразделяется по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овозрастному признаку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ам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начению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алам верха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за 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ош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По сезонам можно выделить: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имняя обувь, летняя обувь, демисезонная обувь, всесезонная обув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2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Группы обуви по половозрастному признаку делят на: </a:t>
            </a:r>
            <a:br>
              <a:rPr sz="4000"/>
            </a:b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</a:t>
            </a:r>
            <a:br>
              <a:rPr sz="1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жскую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нскую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ьчиковую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кольную для мальчиков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вичью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кольную для девочек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школьную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усарики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нетки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Виды обув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42560" y="642960"/>
            <a:ext cx="900108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ы обуви определяются степенью закрытия ноги деталями верха обуви.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тинки, полботинки, сапоги, туфли, сандалии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тинки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обувь с берцами, закрывающими лодыжку. 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ботинки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обувь с берцами, расположенными ниже лодыжек и           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ностью закрывающая тыльную часть стопы. 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поги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обувь с высокими голенищами, закрывающими голень. Их разновидностью являются 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пожки и сапоги с голенищами выше колен. Полусапоги - обувь с берцами, закрывающими 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жнюю часть голени.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фли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обувь с берцами, расположенными ниже лодыжек и частично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рывающая тыльную часть стопы. Туфли могут состоять из ремешков и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ть приспособление для закрепления на стопе. 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ндалии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ервоначально обувь в виде деревянной, кожаной или пробковой подошвы, 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реплявшейся к ноге ремешками. В настоящее время это, в основном, 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ичная обувь из натуральной или искусственной кожи с ремешками, без каблуков. Сандалии – 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жская и детская бесподкладочная обувь. Верх которой частично закрывает тыльную 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ерхность стопы. С.называют также все виды ремешковой обуви.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Овал 14"/>
          <p:cNvSpPr/>
          <p:nvPr/>
        </p:nvSpPr>
        <p:spPr>
          <a:xfrm>
            <a:off x="500040" y="1143000"/>
            <a:ext cx="7643880" cy="642960"/>
          </a:xfrm>
          <a:prstGeom prst="ellipse">
            <a:avLst/>
          </a:prstGeom>
          <a:solidFill>
            <a:srgbClr val="d7e4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Выделяют пять основных видов обуви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7" name="Прямая со стрелкой 29"/>
          <p:cNvCxnSpPr/>
          <p:nvPr/>
        </p:nvCxnSpPr>
        <p:spPr>
          <a:xfrm flipH="1">
            <a:off x="2499480" y="1785600"/>
            <a:ext cx="143640" cy="21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8" name="Прямая со стрелкой 31"/>
          <p:cNvCxnSpPr/>
          <p:nvPr/>
        </p:nvCxnSpPr>
        <p:spPr>
          <a:xfrm flipH="1">
            <a:off x="3712320" y="1785960"/>
            <a:ext cx="2520" cy="286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9" name="Прямая со стрелкой 33"/>
          <p:cNvCxnSpPr/>
          <p:nvPr/>
        </p:nvCxnSpPr>
        <p:spPr>
          <a:xfrm>
            <a:off x="4928040" y="1785960"/>
            <a:ext cx="72360" cy="286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0" name="Прямая со стрелкой 35"/>
          <p:cNvCxnSpPr/>
          <p:nvPr/>
        </p:nvCxnSpPr>
        <p:spPr>
          <a:xfrm>
            <a:off x="5713920" y="1785960"/>
            <a:ext cx="143640" cy="286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1" name="Прямая со стрелкой 37"/>
          <p:cNvCxnSpPr/>
          <p:nvPr/>
        </p:nvCxnSpPr>
        <p:spPr>
          <a:xfrm>
            <a:off x="6714000" y="1714680"/>
            <a:ext cx="14364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материалы, применяемые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верха и низа обуви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42920" y="1000080"/>
            <a:ext cx="878688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Шевро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ожа хромового дубления, выработанная из козлины;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Шеврет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ожа хромового дубления, выработанная из овчины;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Замша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ожа жирового дубления, выработанная из оленьего опойка или овчины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Овчина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шкура овец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Нубук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орсистая кожа хромового дубления с подшлифованной мелкозернистым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бразивными материалами лицевой поверхностью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Напплак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собо тонкая лакированная кожа повышенной эластичности,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работаннаяиз шкур крупного рогатого скота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Материалы подошвы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ожволон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подошвенная резина с аналогичными коже твердостью, толщиной,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стичностью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Эластомер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ысокомолекулярное соединение с высокой пластичностью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лиуретан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синтетический материал отличающийся легкостью и эластичностью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ВХ</a:t>
            </a: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ливинилхлорид - эластичный, пористый, легкий, в основном применяется в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тней обуви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езина обувная</a:t>
            </a: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эластичный материал, образующийся в результате вулканизации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учука. Различают пористые и непористые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Материалы для изготовления детской обуви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785520"/>
            <a:ext cx="82296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верха детской обуви круглосезонного назначения рекомендована натуральная кожа (ГОСТ 26165-84 "Детская обувь")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детали верха обуви должны изготавливаться с учетом гостированных толщин натуральной кожи в соответствии с          ГОСТ 179-74 "Обувь механического производства"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летней обуви наряду с кожей в качестве верха рекомендуются различные текстильные материалы целиком или в комбинации с кожей (рогожка, полудвунитка, прогулочная, джинсовая и др.), которые в гигиеническом отношении являются наилучшими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утепленной обуви для верха рекомендуются сукно, драп, полушерстяные, шерстяные материалы, фетр, войлок и др. материалы. В школьной обуви, особенно для старшего возраста, целесообразно использовать подкладку с частичным применением синтетических волокон (не более 50%)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подкладки в детской обуви рекомендуются натуральная кожа и хлопчатобумажные материалы. Подкладка должна быть мягкой, эластичной и не вызывать неудобства при эксплуатации обуви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второстепенных деталей обуви (клапаны, манжеты, отделки и др.) в целях улучшения внешнего вида эксплуатационных свойств детской обуви допускается использование различных синтетических материалов (искусственная кожа, мех и др.)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ределение детей и подростков на возрастно-половые группы и соответствующие каждой группе род и номера обуви</a:t>
            </a:r>
            <a:br>
              <a:rPr sz="2200"/>
            </a:b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285840" y="1000080"/>
          <a:ext cx="8658000" cy="3473640"/>
        </p:xfrm>
        <a:graphic>
          <a:graphicData uri="http://schemas.openxmlformats.org/drawingml/2006/table">
            <a:tbl>
              <a:tblPr/>
              <a:tblGrid>
                <a:gridCol w="1022400"/>
                <a:gridCol w="3262320"/>
                <a:gridCol w="2787480"/>
                <a:gridCol w="1585800"/>
              </a:tblGrid>
              <a:tr h="60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рупп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озрастные и половы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од обуви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буви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длина в мм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вочки и мальчики  до год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усарики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5 - 12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вочки и мальчики  1-3 год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ладшая дошкольная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 - 15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вочки и мальчики  4-7 ле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аршая дошкольная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0 - 2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вочки 8 - 12 лет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школьная для девочек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5 - 24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вочки 13 - 17 лет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дростковая для девоче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5 – 26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льчики 8 - 12 лет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школьная для мальчиков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5 – 24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льчики 13 - 17 ле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дростковая для мальчиков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5 - 28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78" name="TextBox 4"/>
          <p:cNvSpPr/>
          <p:nvPr/>
        </p:nvSpPr>
        <p:spPr>
          <a:xfrm>
            <a:off x="142920" y="4714920"/>
            <a:ext cx="88581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меры обуви определяются не только номером, но и полнотой. При одной и той же длине стопа может иметь разные поперечные и объемные размеры (полноты). В связи с этим ГОСТом 3927-75 "Колодки обувные" предусмотрен выпуск детской обуви трех полнот в пределах каждого размера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тификация обуви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285480" y="1142640"/>
            <a:ext cx="864396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вь является видом одежды, только для ног. Она выполняет тепловую,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ханическую и эстетическую функции.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тификация обув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такой системе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тификации РФ как ГОСТ Р, осуществляется в соответствии с Федеральным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ом «О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ическом регулировании» и в соответствии с общими правилами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тификации продукции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одится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тификация обув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 основании Постановления Правительства   № 982 «Единый перечень продукции». В зависимости от того, в каком перечне находится продукция, такой документ на неё и оформляется: либо сертификат соответствия, либо декларация соответствия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язательным является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тификат на обувь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ля детей.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1T10:18:10Z</dcterms:created>
  <dc:creator>SSI</dc:creator>
  <dc:description/>
  <dc:language>en-US</dc:language>
  <cp:lastModifiedBy>SSI</cp:lastModifiedBy>
  <dcterms:modified xsi:type="dcterms:W3CDTF">2011-12-01T13:20:56Z</dcterms:modified>
  <cp:revision>23</cp:revision>
  <dc:subject/>
  <dc:title>Слайд 1</dc:title>
</cp:coreProperties>
</file>