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209-D3D0-40DD-9213-BADC0108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6D4-4CA9-4C9D-A93D-0783C290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310B9-A49A-4A94-8570-8011458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BB8D5-163D-452B-856A-95CB658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6A1E4-0C8C-4871-B28B-504737F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D627C-F184-40C9-81F9-676D17A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E3CE3-5020-4D44-BAE6-0033746B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05099-5426-403F-B48D-88C2D9B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2E7AD-B4BF-4C42-92BE-A190C69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C6CD3-DBAC-477D-91F5-BB5A3306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CBDD68-7902-49A1-947F-BE4FC9B2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C27-F04B-499A-AAF2-FDB1C884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A2A-95F7-4F86-9912-ED666608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DE63F-B7B6-406F-B819-D3F3D176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1A88-D267-42DB-A0D0-A84DE814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AF66D-396C-46BD-BA00-326D0F0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6F7DD-95C6-4934-9930-EFED9006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3F3CD-3AEA-4743-8166-2ED80DD8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C92C4-04A2-4FF8-AFD7-16DCEFA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3E278-6498-4B49-B332-B257ED9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FE1-8B9E-4A45-940C-B8EBD543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FB1E-1C94-4950-A99B-70D2C60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90FA8-A25A-48DE-93A6-31D558BE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20677-4A0D-444A-BE37-BA1EA8D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2D5DB-3D60-49B8-A5AF-ABAE7BB0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2419E-BA6C-470A-B3EB-1C159256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417F-573B-4DA1-866B-9FC715EA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210E-B89B-4733-83F0-A4D620AC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D956-646B-4E92-82EC-EB38A62F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52DB-7522-4D32-9B72-D556BEE5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72FF-3830-433F-BB58-90F2273F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8F4-89FF-4CCF-AA2A-60EFEA38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5A67-164E-4F2B-B48D-6C6B6852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118D-BB75-4216-907D-E5EF052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4A4C-F3A6-4888-A937-B4AC2CE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7E8B-88B9-4C2B-94D7-5419905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BB93-7FA8-4969-BC52-6EDAFD1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3645-11DB-4279-9B2B-5995E29E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DADA-9709-42E0-A7AE-C8CE21DE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FC65A-5B09-4E25-A022-4A1D04C8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DAD48-D468-4AF4-8868-4400BD7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61F00-D3D7-4E79-9A68-449BE8EC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6E3-8C79-4565-B5CF-A28E75C4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ECC38-565F-45CF-AF56-1D75531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C565F-9258-4B5F-A136-76F36BCD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0DDAA-FCC1-40C5-9FB0-461DF416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C1E87-D83C-42DF-A404-3704086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947F9-5724-4BA6-AB02-9A1B1C6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D1A30-6A88-45A4-A6E9-A3DE083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45E0A-05A9-401D-B840-C33E4F5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C4E09-CD5F-448B-BD86-76CF3F2D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4D43C-7370-4433-B084-6FBA36DC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5026-ECEB-4D21-8D09-90DB4F32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445-BCE3-400A-B360-A35E77E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9EB6-D2DA-48CF-88A2-B8AB836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89A5E-3338-4182-ACB7-A2A009B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7E82-D003-440F-B3F8-50A51A55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94243-805D-4855-AD55-5566810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999EB-17B8-4A28-986D-2D9B3BA6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DDF91-3B40-41C2-BD38-EB98C2E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AB6BA-642B-4926-85C6-7E92D00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8185-3694-4A1B-9F44-B895B58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7B70-ED54-40B6-9DED-853CCC04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5F07-61AF-4836-A8C7-5BB0B664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C0B-EA34-42D6-BD00-F08AD64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6E21-A866-4E1F-8BC5-13EDA523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2DF96-3436-4312-A2C4-EE87FAD4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CCFC-E040-42BB-90CE-BE51387D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ABC3-CFC7-46C0-8FEE-772C4BB9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CFC9-9B3F-4E50-96EC-850E864E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6816-94B0-41F8-B36C-F1D61451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A7B92-66AB-44C6-84E0-91CD0DE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5A4A7-3CBC-4846-848D-B40BE24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6CD31-8BE6-4F4D-9797-7D2FA7C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DE1A8-8739-4AEE-8533-E647C83C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17E-8DEA-48AE-A69E-4694F37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943AA-E92F-4FBC-B743-C2161DD7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F32C-8AAC-4B47-BD80-F7040E72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2F6E-67F8-4FA0-B568-D4868CA0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0CD75-C74B-4EB3-878E-6CBBBCCB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ADB9-D055-4600-8F44-09003DC3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8992-9463-4DA3-9B32-A15F4849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7AB7C-863C-4C22-9086-8D8D256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DF70-6008-4217-8631-0852FD3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228D8-23A5-4290-9010-38D77425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2DB12-07F3-489B-A455-CD848D9D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4F7-7A92-42E7-A075-7637441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676E2-D45B-4D96-80D1-F8A4607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A9DFC-6750-4957-A5E6-3788C12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7B994-D0B2-4A5F-BC0E-DB4D6BE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2C896-E74C-42A4-9A95-F8870688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0C14-ED2B-4BE8-A026-BFCDCE2D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00B45-A818-4F28-A519-13006896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660BFA-5727-4B42-919D-688DD68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9BE49-0943-4560-AFE2-75EBADA8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89A2A-8E5A-4A07-AA20-83ECA73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EC1E2-98EF-4406-9217-0671B18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C92-1C95-4612-A893-6E7E384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E65D8-6D41-4395-94B3-A2E99168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9EA399-0830-4086-BE08-3A3A84D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9766B-C644-41BA-BF2F-07CA1A0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6EF1B-B483-4C03-8AC4-DC0E3C4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99AED-D578-450F-A825-096BE299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B9B06-4997-4426-A90D-754661FF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EC287-E72B-447B-9767-4C6596E4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E43C2-C0E1-4F49-95CA-57DCBC1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10F71-2F9E-420B-859B-FAB18DE1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C1D7B-EBD9-456C-846F-ED37B494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BD65-8298-4EB2-9838-83FAD2577F9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B26D-B4AD-4112-BD3B-05F3AA78B5A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2B62-FF72-4AD9-9B24-8C692E0D6F0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2E2F-E633-470F-808B-E63054B8019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D29-2BCE-4659-A0E2-8134B01F041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1D9-70B4-4889-BD4F-8FF59B4B1C4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5D4-B9D0-45CD-9417-D58EC6DC579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28BD-A285-4CD8-9542-03FA1149708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4C86-A9C2-404F-9706-88370C07AEC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512640" y="-49320"/>
            <a:ext cx="8204400" cy="1841760"/>
          </a:xfrm>
          <a:prstGeom prst="rect">
            <a:avLst/>
          </a:prstGeom>
          <a:ln w="0">
            <a:noFill/>
          </a:ln>
        </p:spPr>
      </p:pic>
      <p:pic>
        <p:nvPicPr>
          <p:cNvPr id="395" name="Содержимое 4" descr="1274212631_auto39.jpg"/>
          <p:cNvPicPr/>
          <p:nvPr/>
        </p:nvPicPr>
        <p:blipFill>
          <a:blip r:embed="rId2"/>
          <a:stretch/>
        </p:blipFill>
        <p:spPr>
          <a:xfrm>
            <a:off x="428760" y="1857240"/>
            <a:ext cx="5524200" cy="41436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"/>
          <p:cNvSpPr/>
          <p:nvPr/>
        </p:nvSpPr>
        <p:spPr>
          <a:xfrm>
            <a:off x="6500880" y="4714920"/>
            <a:ext cx="221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боту выполнила ученица 9  «Б» класса Озорнина Марина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15080" y="356760"/>
            <a:ext cx="160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2560" y="85680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be8d5"/>
                </a:solidFill>
                <a:latin typeface="Century Gothic"/>
              </a:rPr>
              <a:t>Железнодорожный транспорт является одним из наиболее часто используемых видов транспорта, поэтому он должен быть размещен по стране повсеместно. На самом же деле железнодорожный транспорт размещен неравномерно. Густой и разветвленной сетью железных дорог обладает европейская часть России. Это связано не только с огромными территориями страны, но и с большой территориальной дифференциацией в ее заселенности, уровне и типе хозяйствования. Конфигурация сети радиально-кольцевая с центром в городе Москве. Плотность железных дорог России достаточно низкая </a:t>
            </a:r>
            <a:r>
              <a:rPr b="0" lang="ru-RU" sz="1900" spc="-1" strike="noStrike" baseline="30000">
                <a:solidFill>
                  <a:srgbClr val="ebe8d5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ebe8d5"/>
                </a:solidFill>
                <a:latin typeface="Century Gothic"/>
              </a:rPr>
              <a:t>, поэтому довольно высока их грузонапряженность.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Содержимое 4" descr="62103_1239710887_40606x008528_s800x600.jpg"/>
          <p:cNvPicPr/>
          <p:nvPr/>
        </p:nvPicPr>
        <p:blipFill>
          <a:blip r:embed="rId1"/>
          <a:stretch/>
        </p:blipFill>
        <p:spPr>
          <a:xfrm>
            <a:off x="5143680" y="214200"/>
            <a:ext cx="3857400" cy="310068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4" descr="tovarnyak_ugol.jpg"/>
          <p:cNvPicPr/>
          <p:nvPr/>
        </p:nvPicPr>
        <p:blipFill>
          <a:blip r:embed="rId2"/>
          <a:stretch/>
        </p:blipFill>
        <p:spPr>
          <a:xfrm>
            <a:off x="5143680" y="3357720"/>
            <a:ext cx="3857400" cy="32828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285840" y="21420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dcc1"/>
                </a:solidFill>
                <a:latin typeface="Cambria"/>
              </a:rPr>
              <a:t>          </a:t>
            </a:r>
            <a:r>
              <a:rPr b="1" lang="ru-RU" sz="2800" spc="-1" strike="noStrike">
                <a:solidFill>
                  <a:srgbClr val="e2dcc1"/>
                </a:solidFill>
                <a:latin typeface="Cambria"/>
              </a:rPr>
              <a:t>Характеристика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3286080" y="285840"/>
            <a:ext cx="6753240" cy="1152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360" y="6858000"/>
            <a:ext cx="785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3840" y="1285560"/>
            <a:ext cx="8751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ервые железные дороги в России были построены в середине XIX в. В 1837 году открыта «экспериментальная» железная дорога Санкт-Петербург - Царское Село, а в 1851 г. - первая крупная железнодорожная магистраль Москва - Санкт-Петербург. Уже к концу XIX в. железнодорожный транспорт превысил по грузообороту традиционные для России гужевой и речной, а к 1913 г. превзошел грузооборот речного в 6 раз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сновной каркас железнодорожной сети России был сформирован во второй половине XIX - начале XX в. Железные дороги строились в первую очередь для обеспечения транспортно-экономических связей Центра с основными сырьевыми и продовольственными базами страны, а также морскими портами, что определило их радиальную конфигурацию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713040" y="-60480"/>
            <a:ext cx="4303800" cy="1541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1285560"/>
            <a:ext cx="866592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Ежегодно в России железнодорожным транспортом пользуются 1 300 000 000 пассажиров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Самой длинной железной дорогой считается транссибирская магистраль, которая имеет протяженность около 9300 километров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Первая железная дорога была открыта между Петербургом и Москвой, причем первые трое суток перевозки осуществлялись бесплатно. Попросту никто не хотел кататься на такой неизведанной штуке, как поезд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2"/>
          <p:cNvSpPr/>
          <p:nvPr/>
        </p:nvSpPr>
        <p:spPr>
          <a:xfrm>
            <a:off x="285840" y="4287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dcc1"/>
                </a:solidFill>
                <a:latin typeface="Cambria"/>
              </a:rPr>
              <a:t>Основные преимущества железнодорожного транспорт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Прямоугольник 14"/>
          <p:cNvSpPr/>
          <p:nvPr/>
        </p:nvSpPr>
        <p:spPr>
          <a:xfrm>
            <a:off x="571680" y="1643040"/>
            <a:ext cx="2786040" cy="1714680"/>
          </a:xfrm>
          <a:prstGeom prst="rect">
            <a:avLst/>
          </a:prstGeom>
          <a:gradFill rotWithShape="0">
            <a:gsLst>
              <a:gs pos="0">
                <a:srgbClr val="84a584"/>
              </a:gs>
              <a:gs pos="100000">
                <a:srgbClr val="beddbe"/>
              </a:gs>
            </a:gsLst>
            <a:lin ang="16200000"/>
          </a:gra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Прямоугольник 15"/>
          <p:cNvSpPr/>
          <p:nvPr/>
        </p:nvSpPr>
        <p:spPr>
          <a:xfrm>
            <a:off x="3786120" y="1643040"/>
            <a:ext cx="2357640" cy="1714680"/>
          </a:xfrm>
          <a:prstGeom prst="rect">
            <a:avLst/>
          </a:prstGeom>
          <a:gradFill rotWithShape="0">
            <a:gsLst>
              <a:gs pos="0">
                <a:srgbClr val="84a584"/>
              </a:gs>
              <a:gs pos="100000">
                <a:srgbClr val="beddbe"/>
              </a:gs>
            </a:gsLst>
            <a:lin ang="16200000"/>
          </a:gra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6429240" y="1643040"/>
            <a:ext cx="2357640" cy="1714680"/>
          </a:xfrm>
          <a:prstGeom prst="rect">
            <a:avLst/>
          </a:prstGeom>
          <a:gradFill rotWithShape="0">
            <a:gsLst>
              <a:gs pos="0">
                <a:srgbClr val="84a584"/>
              </a:gs>
              <a:gs pos="100000">
                <a:srgbClr val="beddbe"/>
              </a:gs>
            </a:gsLst>
            <a:lin ang="16200000"/>
          </a:gra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Прямоугольник 17"/>
          <p:cNvSpPr/>
          <p:nvPr/>
        </p:nvSpPr>
        <p:spPr>
          <a:xfrm>
            <a:off x="1500120" y="3643200"/>
            <a:ext cx="2714760" cy="1285920"/>
          </a:xfrm>
          <a:prstGeom prst="rect">
            <a:avLst/>
          </a:prstGeom>
          <a:gradFill rotWithShape="0">
            <a:gsLst>
              <a:gs pos="0">
                <a:srgbClr val="84a584"/>
              </a:gs>
              <a:gs pos="100000">
                <a:srgbClr val="beddbe"/>
              </a:gs>
            </a:gsLst>
            <a:lin ang="16200000"/>
          </a:gra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Прямоугольник 18"/>
          <p:cNvSpPr/>
          <p:nvPr/>
        </p:nvSpPr>
        <p:spPr>
          <a:xfrm>
            <a:off x="5500800" y="3643200"/>
            <a:ext cx="2571480" cy="1285920"/>
          </a:xfrm>
          <a:prstGeom prst="rect">
            <a:avLst/>
          </a:prstGeom>
          <a:gradFill rotWithShape="0">
            <a:gsLst>
              <a:gs pos="0">
                <a:srgbClr val="84a584"/>
              </a:gs>
              <a:gs pos="100000">
                <a:srgbClr val="beddbe"/>
              </a:gs>
            </a:gsLst>
            <a:lin ang="16200000"/>
          </a:gra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TextBox 22"/>
          <p:cNvSpPr/>
          <p:nvPr/>
        </p:nvSpPr>
        <p:spPr>
          <a:xfrm>
            <a:off x="857160" y="200016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TextBox 23"/>
          <p:cNvSpPr/>
          <p:nvPr/>
        </p:nvSpPr>
        <p:spPr>
          <a:xfrm>
            <a:off x="642960" y="20718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6451"/>
                </a:solidFill>
                <a:latin typeface="Cambria"/>
              </a:rPr>
              <a:t> </a:t>
            </a:r>
            <a:r>
              <a:rPr b="0" lang="ru-RU" sz="1800" spc="-1" strike="noStrike">
                <a:solidFill>
                  <a:srgbClr val="676451"/>
                </a:solidFill>
                <a:latin typeface="Cambria"/>
              </a:rPr>
              <a:t>Высокая провозная способность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TextBox 24"/>
          <p:cNvSpPr/>
          <p:nvPr/>
        </p:nvSpPr>
        <p:spPr>
          <a:xfrm>
            <a:off x="3929040" y="171468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6451"/>
                </a:solidFill>
                <a:latin typeface="Cambria"/>
              </a:rPr>
              <a:t>Эффективность перевозок массовых грузов на большие расстояния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TextBox 25"/>
          <p:cNvSpPr/>
          <p:nvPr/>
        </p:nvSpPr>
        <p:spPr>
          <a:xfrm>
            <a:off x="6643800" y="20001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0" lang="ru-RU" sz="1800" spc="-1" strike="noStrike">
                <a:solidFill>
                  <a:srgbClr val="676451"/>
                </a:solidFill>
                <a:latin typeface="Cambria"/>
              </a:rPr>
              <a:t>Сравнительно большие скорост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TextBox 26"/>
          <p:cNvSpPr/>
          <p:nvPr/>
        </p:nvSpPr>
        <p:spPr>
          <a:xfrm>
            <a:off x="1785960" y="38577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6451"/>
                </a:solidFill>
                <a:latin typeface="Cambria"/>
              </a:rPr>
              <a:t>Надежность и безопасность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TextBox 27"/>
          <p:cNvSpPr/>
          <p:nvPr/>
        </p:nvSpPr>
        <p:spPr>
          <a:xfrm>
            <a:off x="5715000" y="3857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6451"/>
                </a:solidFill>
                <a:latin typeface="Cambria"/>
              </a:rPr>
              <a:t>Низкая себестоимость перевозок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8"/>
          <p:cNvSpPr/>
          <p:nvPr/>
        </p:nvSpPr>
        <p:spPr>
          <a:xfrm>
            <a:off x="1214280" y="7858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dcc1"/>
                </a:solidFill>
                <a:latin typeface="Cambria"/>
              </a:rPr>
              <a:t>Проблемы: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785880" y="1643040"/>
            <a:ext cx="3571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dcc1"/>
                </a:solidFill>
                <a:latin typeface="Times New Roman"/>
                <a:ea typeface="Times New Roman"/>
              </a:rPr>
              <a:t>1) </a:t>
            </a:r>
            <a:r>
              <a:rPr b="0" lang="ru-RU" sz="1800" spc="-1" strike="noStrike">
                <a:solidFill>
                  <a:srgbClr val="ebe8d5"/>
                </a:solidFill>
                <a:latin typeface="Times New Roman"/>
                <a:ea typeface="Times New Roman"/>
              </a:rPr>
              <a:t>Отечественный перевозчик активно вытесняется с внешне торговых маршрутов, в частности, сокращается доля автоперевозок во внешнеторговых связях.</a:t>
            </a:r>
            <a:r>
              <a:rPr b="0" lang="ru-RU" sz="1800" spc="-1" strike="noStrike">
                <a:solidFill>
                  <a:srgbClr val="ebe8d5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714240" y="3286080"/>
            <a:ext cx="350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e8d5"/>
                </a:solidFill>
                <a:latin typeface="Cambria"/>
              </a:rPr>
              <a:t>2)Система организации перевозок грузов в контейнерах не обеспечивает их конкурентоспособности с другими видами транспорта</a:t>
            </a:r>
            <a:r>
              <a:rPr b="0" i="1" lang="ru-RU" sz="1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TextBox 16"/>
          <p:cNvSpPr/>
          <p:nvPr/>
        </p:nvSpPr>
        <p:spPr>
          <a:xfrm>
            <a:off x="4643280" y="4929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dcc1"/>
                </a:solidFill>
                <a:latin typeface="Cambria"/>
              </a:rPr>
              <a:t>4)Финансово-Экономические проблемы на железнодорожном транспорте являются главными в настоящее время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TextBox 17"/>
          <p:cNvSpPr/>
          <p:nvPr/>
        </p:nvSpPr>
        <p:spPr>
          <a:xfrm>
            <a:off x="785880" y="492912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dcc1"/>
                </a:solidFill>
                <a:latin typeface="Cambria"/>
              </a:rPr>
              <a:t>3)Обеспеченность Дальнего Востока железными дорогами значительно ниже среднероссийского  уровня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4" name="Содержимое 4" descr="Перспективы-железнодорожных-грузоперевозок-475244_567x332.jpg"/>
          <p:cNvPicPr/>
          <p:nvPr/>
        </p:nvPicPr>
        <p:blipFill>
          <a:blip r:embed="rId1"/>
          <a:stretch/>
        </p:blipFill>
        <p:spPr>
          <a:xfrm>
            <a:off x="4429080" y="1785960"/>
            <a:ext cx="4321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ажно повышать конкурентоспособность ж/д транспорта на внутреннем и международном рынке услуг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процессе формирования инвестиционных программ необходимо вводить обязательный принцип распределения инвестиционных ресурс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ажно улучшать качество обслуживания транспорта и расширять перечень сервисных услуг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3760" y="542880"/>
            <a:ext cx="9674280" cy="5924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</dc:creator>
  <dc:description/>
  <dc:language>en-US</dc:language>
  <cp:lastModifiedBy>anton</cp:lastModifiedBy>
  <dcterms:modified xsi:type="dcterms:W3CDTF">2016-06-09T11:13:40Z</dcterms:modified>
  <cp:revision>38</cp:revision>
  <dc:subject/>
  <dc:title>Железнодорожный транспорт России</dc:title>
</cp:coreProperties>
</file>