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7C4-AF9B-47AB-838E-412A6CB4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F67-93CB-4293-967B-A12C9EA2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249-7CD0-47BB-8392-689289AA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B37-48AE-471D-914A-C72B7F40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2ADB-681F-4157-81A6-7329E0EE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61A1-17FA-49EA-97B3-3BC3D9EF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7CA7-744C-4851-986B-5863B5CA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2EFB-F344-42BF-A843-225DA0B8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A19C-5BCD-4E06-B2F6-57BD21AE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B7D0-6BF8-41B4-AF8C-8A79A5DD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DB2A-36EB-45AF-BE83-80483A8B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58E-48C5-4548-B864-C2187725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93FD-5A28-43A6-99B7-A97C365C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9B0C-55D8-4397-9DAD-2962AB67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3623-54EF-46B4-AD43-F8B4CA0F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68F0-B858-4A01-B73D-27A5D0E3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0364-83B3-4A37-B8E5-B246FE02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36B-B734-47C8-BA1D-DC408A06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17E-07CF-47F0-B2BE-18F76482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A97-F6AB-4372-A1D2-70A5B35E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1BE-50D9-4F74-BA57-3A0B0C7F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0AD-83AF-4B57-B96D-DB298023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32A-23B6-4883-AECF-2A4EC656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CCC-4D05-4B37-8ACE-2B6434E4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E13A-881C-4C61-A26A-53380734578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39BA-54F9-4E91-ABFB-582430E7C47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порт в жизни челове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Кузьминых Ксюш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станина Наташ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8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5" descr="41160_1024_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44600" y="120600"/>
            <a:ext cx="8445600" cy="16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сё больше людей стало заниматься спортом, и все потому, что люди хотят красиво выглядеть и хорошо чувствовать себя. И ради этого они бегут после работы в спорт залы, что бы скинуть пару кило. Поспорю, вы бы тоже не отказались от плоского животика и накаченного пресса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5" descr="sport"/>
          <p:cNvPicPr/>
          <p:nvPr/>
        </p:nvPicPr>
        <p:blipFill>
          <a:blip r:embed="rId1"/>
          <a:stretch/>
        </p:blipFill>
        <p:spPr>
          <a:xfrm>
            <a:off x="1258920" y="2647800"/>
            <a:ext cx="63374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222011121520"/>
          <p:cNvPicPr/>
          <p:nvPr/>
        </p:nvPicPr>
        <p:blipFill>
          <a:blip r:embed="rId1"/>
          <a:stretch/>
        </p:blipFill>
        <p:spPr>
          <a:xfrm>
            <a:off x="468360" y="-25560"/>
            <a:ext cx="795636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вильный образ жизн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920" y="2204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соблюдения правильного образа жизни нужно придерживаться следующих основных правил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1. Соблюдение режима труда и отдыха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2. Личная гигиена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3. Отказ от курения, употребления алкоголя и наркотиков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4. Безопасное поведение в общественных местах, позволяющие избежать травм и других повреждений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Lebron-James-High-School-photos-01"/>
          <p:cNvPicPr/>
          <p:nvPr/>
        </p:nvPicPr>
        <p:blipFill>
          <a:blip r:embed="rId1"/>
          <a:stretch/>
        </p:blipFill>
        <p:spPr>
          <a:xfrm>
            <a:off x="755640" y="-171360"/>
            <a:ext cx="7237440" cy="84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 малоподвижного образа жизн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Среди причин, по которым подростки не занимаются спортом, следующие: нет фитнес-центров и аквапарков по доступным ценам (15,0%), отсутствуют льготы на билеты на спортивные соревнования и мало спортивных секций по месту жительства (по 14,5%), нет условий для самостоятельных занятий (10,8%), отсутствуют пункты проката спортивного инвентаря (8,5%), мало крупных зрелищных мероприятий (7,8%), мало современных видов спорта (6,6%), а предлагаемые виды однообразны (6,1%). При этом коэффициент количества причин на одного респондента составил в среднем 1,6.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99200" y="43560"/>
            <a:ext cx="8121240" cy="60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нимайтесь спортом!!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5" descr="278852-2000x1258"/>
          <p:cNvPicPr/>
          <p:nvPr/>
        </p:nvPicPr>
        <p:blipFill>
          <a:blip r:embed="rId1"/>
          <a:stretch/>
        </p:blipFill>
        <p:spPr>
          <a:xfrm>
            <a:off x="-396720" y="676440"/>
            <a:ext cx="9828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09:58:46Z</dcterms:created>
  <dc:creator>5</dc:creator>
  <dc:description/>
  <dc:language>en-US</dc:language>
  <cp:lastModifiedBy>Тарас</cp:lastModifiedBy>
  <dcterms:modified xsi:type="dcterms:W3CDTF">2015-07-15T07:43:08Z</dcterms:modified>
  <cp:revision>2</cp:revision>
  <dc:subject/>
  <dc:title>Спорт в жизни человека</dc:title>
</cp:coreProperties>
</file>