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332-1DB3-4623-9BE5-E003A825B8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B3A-5B28-44CC-AA4B-4340A7C8D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677-6581-47F1-A187-88EE8754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3D1-6234-44A2-8185-6C99260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1E1-C768-44B9-B569-2FFBDE36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903-8104-4529-8FCB-12B3C05F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915-C7FC-428F-BE6A-72A1A34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1F8-D4CA-4A04-89EA-BC2B3578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102-0F98-411D-9CA8-5C1761E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4F5-26CD-4AFC-9DE6-BF8BB1BA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EFA-636B-4721-A8CA-52B7A641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B18-66FB-473C-BC94-CD6E6C6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070-00B7-4FDE-9CA1-52C38BE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332-1F55-4014-A5FC-AF86203E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1B63-00BF-4F34-8E1D-0456AC930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talurgu.ru/content/view/274/216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9040" y="1994040"/>
            <a:ext cx="7772400" cy="19126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400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250920" y="585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изучении структуры чугуна и стали строят диаграммы состояния - графические изображения, дающие наглядное представление о кристаллизации и превращениях, совершающихся при их нагреве и охлаж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50920" y="19098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грамма состояний строится по критическим точкам, определяемым различными методами. Одним из важнейших методов является термичес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50920" y="2925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Критическая точка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это температура, при которой происходит изменение кристаллической решетки вещества. Экспериментальное определение критических точек основано на изучении процессов нагрева (температур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) и охлаждения (температур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971640" y="1238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иаграмма состояния системы железо - угле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50920" y="4365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горизонтальной оси диаграммы откладывается содержание углерода в сплаве в процентах, по вертикальной - температура в °С. Каждая точка на диаграмме характеризует определенный состав сплава при определенной температу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m-40.ru/images/Fe-C.png"/>
          <p:cNvPicPr/>
          <p:nvPr/>
        </p:nvPicPr>
        <p:blipFill>
          <a:blip r:embed="rId1"/>
          <a:stretch/>
        </p:blipFill>
        <p:spPr>
          <a:xfrm>
            <a:off x="971640" y="620640"/>
            <a:ext cx="7926120" cy="583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m-40.ru/images/Fe-C.png"/>
          <p:cNvPicPr/>
          <p:nvPr/>
        </p:nvPicPr>
        <p:blipFill>
          <a:blip r:embed="rId2"/>
          <a:stretch/>
        </p:blipFill>
        <p:spPr>
          <a:xfrm>
            <a:off x="641520" y="1386000"/>
            <a:ext cx="320400" cy="4302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641520" y="18900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иаграмма состояния системы железо - угле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2700360" y="6453360"/>
            <a:ext cx="576360" cy="21564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2" h="21600">
                <a:moveTo>
                  <a:pt x="21830" y="3794"/>
                </a:moveTo>
                <a:lnTo>
                  <a:pt x="35842" y="10800"/>
                </a:lnTo>
                <a:lnTo>
                  <a:pt x="2183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835280" y="6453360"/>
            <a:ext cx="720720" cy="21564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2108" h="21600">
                <a:moveTo>
                  <a:pt x="0" y="0"/>
                </a:moveTo>
                <a:lnTo>
                  <a:pt x="72108" y="0"/>
                </a:lnTo>
                <a:lnTo>
                  <a:pt x="72108" y="21600"/>
                </a:lnTo>
                <a:lnTo>
                  <a:pt x="0" y="21600"/>
                </a:lnTo>
                <a:close/>
              </a:path>
              <a:path fill="lightenLess" w="72108" h="21600">
                <a:moveTo>
                  <a:pt x="0" y="0"/>
                </a:moveTo>
                <a:lnTo>
                  <a:pt x="72108" y="0"/>
                </a:lnTo>
                <a:lnTo>
                  <a:pt x="70708" y="1400"/>
                </a:lnTo>
                <a:lnTo>
                  <a:pt x="1400" y="1400"/>
                </a:lnTo>
                <a:close/>
              </a:path>
              <a:path fill="darken" w="72108" h="21600">
                <a:moveTo>
                  <a:pt x="72108" y="0"/>
                </a:moveTo>
                <a:lnTo>
                  <a:pt x="72108" y="21600"/>
                </a:lnTo>
                <a:lnTo>
                  <a:pt x="70708" y="20200"/>
                </a:lnTo>
                <a:lnTo>
                  <a:pt x="70708" y="1400"/>
                </a:lnTo>
                <a:close/>
              </a:path>
              <a:path fill="darkenLess" w="72108" h="21600">
                <a:moveTo>
                  <a:pt x="72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708" y="20200"/>
                </a:lnTo>
                <a:close/>
              </a:path>
              <a:path fill="lighten" w="72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108" h="21600">
                <a:moveTo>
                  <a:pt x="29048" y="10800"/>
                </a:moveTo>
                <a:lnTo>
                  <a:pt x="43060" y="3794"/>
                </a:lnTo>
                <a:lnTo>
                  <a:pt x="430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161"/>
          <p:cNvSpPr/>
          <p:nvPr/>
        </p:nvSpPr>
        <p:spPr>
          <a:xfrm flipV="1">
            <a:off x="1200240" y="2925360"/>
            <a:ext cx="4824360" cy="11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201"/>
          <p:cNvSpPr/>
          <p:nvPr/>
        </p:nvSpPr>
        <p:spPr>
          <a:xfrm>
            <a:off x="1224000" y="5060880"/>
            <a:ext cx="684360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186"/>
          <p:cNvSpPr/>
          <p:nvPr/>
        </p:nvSpPr>
        <p:spPr>
          <a:xfrm flipV="1">
            <a:off x="3641760" y="2936520"/>
            <a:ext cx="4417920" cy="468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2"/>
          <p:cNvSpPr/>
          <p:nvPr/>
        </p:nvSpPr>
        <p:spPr>
          <a:xfrm>
            <a:off x="1195560" y="5405400"/>
            <a:ext cx="68641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3"/>
          <p:cNvSpPr/>
          <p:nvPr/>
        </p:nvSpPr>
        <p:spPr>
          <a:xfrm>
            <a:off x="1195560" y="4889520"/>
            <a:ext cx="68641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1187280" y="514656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1200240" y="3822840"/>
            <a:ext cx="687204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1187280" y="411624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1179360" y="4375080"/>
            <a:ext cx="68803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1179360" y="4630680"/>
            <a:ext cx="68803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1187280" y="360036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1187280" y="282420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11"/>
          <p:cNvSpPr/>
          <p:nvPr/>
        </p:nvSpPr>
        <p:spPr>
          <a:xfrm>
            <a:off x="1187280" y="308304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2"/>
          <p:cNvSpPr/>
          <p:nvPr/>
        </p:nvSpPr>
        <p:spPr>
          <a:xfrm>
            <a:off x="1187280" y="256212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13"/>
          <p:cNvSpPr/>
          <p:nvPr/>
        </p:nvSpPr>
        <p:spPr>
          <a:xfrm flipV="1">
            <a:off x="1195560" y="3328560"/>
            <a:ext cx="6864120" cy="1116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7"/>
          <p:cNvSpPr/>
          <p:nvPr/>
        </p:nvSpPr>
        <p:spPr>
          <a:xfrm flipH="1" flipV="1">
            <a:off x="1192320" y="452520"/>
            <a:ext cx="7920" cy="5508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658800" y="55180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1"/>
          <p:cNvSpPr/>
          <p:nvPr/>
        </p:nvSpPr>
        <p:spPr>
          <a:xfrm>
            <a:off x="614160" y="4484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495720" y="3452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35"/>
          <p:cNvSpPr/>
          <p:nvPr/>
        </p:nvSpPr>
        <p:spPr>
          <a:xfrm>
            <a:off x="1195560" y="2303640"/>
            <a:ext cx="68641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36"/>
          <p:cNvSpPr/>
          <p:nvPr/>
        </p:nvSpPr>
        <p:spPr>
          <a:xfrm>
            <a:off x="1158840" y="1752480"/>
            <a:ext cx="690084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37"/>
          <p:cNvSpPr/>
          <p:nvPr/>
        </p:nvSpPr>
        <p:spPr>
          <a:xfrm>
            <a:off x="1195560" y="2044800"/>
            <a:ext cx="68641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38"/>
          <p:cNvSpPr/>
          <p:nvPr/>
        </p:nvSpPr>
        <p:spPr>
          <a:xfrm>
            <a:off x="1187280" y="152388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40"/>
          <p:cNvSpPr/>
          <p:nvPr/>
        </p:nvSpPr>
        <p:spPr>
          <a:xfrm>
            <a:off x="1179360" y="1258920"/>
            <a:ext cx="68803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41"/>
          <p:cNvSpPr/>
          <p:nvPr/>
        </p:nvSpPr>
        <p:spPr>
          <a:xfrm>
            <a:off x="1187280" y="995400"/>
            <a:ext cx="687240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ая соединительная линия 42"/>
          <p:cNvSpPr/>
          <p:nvPr/>
        </p:nvSpPr>
        <p:spPr>
          <a:xfrm flipV="1">
            <a:off x="1212840" y="717480"/>
            <a:ext cx="6846840" cy="648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3"/>
          <p:cNvSpPr/>
          <p:nvPr/>
        </p:nvSpPr>
        <p:spPr>
          <a:xfrm>
            <a:off x="1260360" y="5675400"/>
            <a:ext cx="6799320" cy="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8"/>
          <p:cNvSpPr/>
          <p:nvPr/>
        </p:nvSpPr>
        <p:spPr>
          <a:xfrm>
            <a:off x="495720" y="2416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49"/>
          <p:cNvSpPr/>
          <p:nvPr/>
        </p:nvSpPr>
        <p:spPr>
          <a:xfrm>
            <a:off x="503640" y="189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0"/>
          <p:cNvSpPr/>
          <p:nvPr/>
        </p:nvSpPr>
        <p:spPr>
          <a:xfrm>
            <a:off x="495720" y="1376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495720" y="84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3"/>
          <p:cNvSpPr/>
          <p:nvPr/>
        </p:nvSpPr>
        <p:spPr>
          <a:xfrm>
            <a:off x="749160" y="216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ая соединительная линия 67"/>
          <p:cNvSpPr/>
          <p:nvPr/>
        </p:nvSpPr>
        <p:spPr>
          <a:xfrm>
            <a:off x="1770120" y="758880"/>
            <a:ext cx="0" cy="516888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70"/>
          <p:cNvSpPr/>
          <p:nvPr/>
        </p:nvSpPr>
        <p:spPr>
          <a:xfrm>
            <a:off x="2347920" y="735120"/>
            <a:ext cx="9360" cy="52117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71"/>
          <p:cNvSpPr/>
          <p:nvPr/>
        </p:nvSpPr>
        <p:spPr>
          <a:xfrm>
            <a:off x="2882880" y="743040"/>
            <a:ext cx="0" cy="520056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72"/>
          <p:cNvSpPr/>
          <p:nvPr/>
        </p:nvSpPr>
        <p:spPr>
          <a:xfrm>
            <a:off x="5072040" y="7207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73"/>
          <p:cNvSpPr/>
          <p:nvPr/>
        </p:nvSpPr>
        <p:spPr>
          <a:xfrm>
            <a:off x="6167520" y="7351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74"/>
          <p:cNvSpPr/>
          <p:nvPr/>
        </p:nvSpPr>
        <p:spPr>
          <a:xfrm>
            <a:off x="6708600" y="7351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75"/>
          <p:cNvSpPr/>
          <p:nvPr/>
        </p:nvSpPr>
        <p:spPr>
          <a:xfrm>
            <a:off x="7785000" y="7207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76"/>
          <p:cNvSpPr/>
          <p:nvPr/>
        </p:nvSpPr>
        <p:spPr>
          <a:xfrm>
            <a:off x="2206800" y="5975280"/>
            <a:ext cx="2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7"/>
          <p:cNvSpPr/>
          <p:nvPr/>
        </p:nvSpPr>
        <p:spPr>
          <a:xfrm>
            <a:off x="3257640" y="5950080"/>
            <a:ext cx="2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8"/>
          <p:cNvSpPr/>
          <p:nvPr/>
        </p:nvSpPr>
        <p:spPr>
          <a:xfrm>
            <a:off x="4375080" y="5948280"/>
            <a:ext cx="3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9"/>
          <p:cNvSpPr/>
          <p:nvPr/>
        </p:nvSpPr>
        <p:spPr>
          <a:xfrm>
            <a:off x="5468760" y="5948280"/>
            <a:ext cx="3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0"/>
          <p:cNvSpPr/>
          <p:nvPr/>
        </p:nvSpPr>
        <p:spPr>
          <a:xfrm>
            <a:off x="6570720" y="5934240"/>
            <a:ext cx="3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2"/>
          <p:cNvSpPr/>
          <p:nvPr/>
        </p:nvSpPr>
        <p:spPr>
          <a:xfrm>
            <a:off x="8177040" y="594828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3"/>
          <p:cNvSpPr/>
          <p:nvPr/>
        </p:nvSpPr>
        <p:spPr>
          <a:xfrm>
            <a:off x="7694640" y="5950080"/>
            <a:ext cx="6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,6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87"/>
          <p:cNvSpPr/>
          <p:nvPr/>
        </p:nvSpPr>
        <p:spPr>
          <a:xfrm>
            <a:off x="1179360" y="5961240"/>
            <a:ext cx="6880320" cy="4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Управляющая кнопка: настраиваемая 136"/>
          <p:cNvSpPr/>
          <p:nvPr/>
        </p:nvSpPr>
        <p:spPr>
          <a:xfrm rot="5400000">
            <a:off x="333000" y="6023160"/>
            <a:ext cx="406440" cy="60300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603000"/>
              <a:gd name="textAreaBottom" fmla="*/ 576720 h 603000"/>
            </a:gdLst>
            <a:ahLst/>
            <a:rect l="textAreaLeft" t="textAreaTop" r="textAreaRight" b="textAreaBottom"/>
            <a:pathLst>
              <a:path w="21600" h="32037">
                <a:moveTo>
                  <a:pt x="0" y="0"/>
                </a:moveTo>
                <a:lnTo>
                  <a:pt x="21600" y="0"/>
                </a:lnTo>
                <a:lnTo>
                  <a:pt x="21600" y="32037"/>
                </a:lnTo>
                <a:lnTo>
                  <a:pt x="0" y="32037"/>
                </a:lnTo>
                <a:close/>
              </a:path>
              <a:path fill="lightenLess" w="21600" h="32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037">
                <a:moveTo>
                  <a:pt x="21600" y="0"/>
                </a:moveTo>
                <a:lnTo>
                  <a:pt x="21600" y="32037"/>
                </a:lnTo>
                <a:lnTo>
                  <a:pt x="20200" y="30637"/>
                </a:lnTo>
                <a:lnTo>
                  <a:pt x="20200" y="1400"/>
                </a:lnTo>
                <a:close/>
              </a:path>
              <a:path fill="darkenLess" w="21600" h="32037">
                <a:moveTo>
                  <a:pt x="21600" y="32037"/>
                </a:moveTo>
                <a:lnTo>
                  <a:pt x="0" y="32037"/>
                </a:lnTo>
                <a:lnTo>
                  <a:pt x="1400" y="30637"/>
                </a:lnTo>
                <a:lnTo>
                  <a:pt x="20200" y="30637"/>
                </a:lnTo>
                <a:close/>
              </a:path>
              <a:path fill="lighten" w="21600" h="32037">
                <a:moveTo>
                  <a:pt x="0" y="32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63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Прямая со стрелкой 139"/>
          <p:cNvCxnSpPr/>
          <p:nvPr/>
        </p:nvCxnSpPr>
        <p:spPr>
          <a:xfrm>
            <a:off x="2887200" y="563040"/>
            <a:ext cx="5547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0" name="TextBox 141"/>
          <p:cNvSpPr/>
          <p:nvPr/>
        </p:nvSpPr>
        <p:spPr>
          <a:xfrm>
            <a:off x="2849400" y="21096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к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Прямая со стрелкой 143"/>
          <p:cNvCxnSpPr/>
          <p:nvPr/>
        </p:nvCxnSpPr>
        <p:spPr>
          <a:xfrm>
            <a:off x="8246880" y="2050920"/>
            <a:ext cx="1080" cy="26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2" name="TextBox 145"/>
          <p:cNvSpPr/>
          <p:nvPr/>
        </p:nvSpPr>
        <p:spPr>
          <a:xfrm>
            <a:off x="8288280" y="2025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49"/>
          <p:cNvSpPr/>
          <p:nvPr/>
        </p:nvSpPr>
        <p:spPr>
          <a:xfrm>
            <a:off x="1158840" y="5176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151"/>
          <p:cNvSpPr/>
          <p:nvPr/>
        </p:nvSpPr>
        <p:spPr>
          <a:xfrm flipV="1">
            <a:off x="8059680" y="216000"/>
            <a:ext cx="0" cy="575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54"/>
          <p:cNvSpPr/>
          <p:nvPr/>
        </p:nvSpPr>
        <p:spPr>
          <a:xfrm>
            <a:off x="8044920" y="3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55"/>
          <p:cNvSpPr/>
          <p:nvPr/>
        </p:nvSpPr>
        <p:spPr>
          <a:xfrm>
            <a:off x="5762520" y="5961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4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157"/>
          <p:cNvSpPr/>
          <p:nvPr/>
        </p:nvSpPr>
        <p:spPr>
          <a:xfrm flipV="1">
            <a:off x="6084720" y="2922120"/>
            <a:ext cx="0" cy="3025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65"/>
          <p:cNvSpPr/>
          <p:nvPr/>
        </p:nvSpPr>
        <p:spPr>
          <a:xfrm>
            <a:off x="520560" y="29462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67"/>
          <p:cNvSpPr/>
          <p:nvPr/>
        </p:nvSpPr>
        <p:spPr>
          <a:xfrm>
            <a:off x="5911200" y="2489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74"/>
          <p:cNvSpPr/>
          <p:nvPr/>
        </p:nvSpPr>
        <p:spPr>
          <a:xfrm>
            <a:off x="4356000" y="9763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дкий раств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75"/>
          <p:cNvSpPr/>
          <p:nvPr/>
        </p:nvSpPr>
        <p:spPr>
          <a:xfrm>
            <a:off x="3470400" y="5961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,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177"/>
          <p:cNvSpPr/>
          <p:nvPr/>
        </p:nvSpPr>
        <p:spPr>
          <a:xfrm flipH="1" flipV="1">
            <a:off x="3581280" y="2945880"/>
            <a:ext cx="7920" cy="3024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лок-схема: узел 178"/>
          <p:cNvSpPr/>
          <p:nvPr/>
        </p:nvSpPr>
        <p:spPr>
          <a:xfrm>
            <a:off x="3535200" y="2894040"/>
            <a:ext cx="106560" cy="954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9"/>
          <p:cNvSpPr/>
          <p:nvPr/>
        </p:nvSpPr>
        <p:spPr>
          <a:xfrm>
            <a:off x="3571200" y="249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91"/>
          <p:cNvSpPr/>
          <p:nvPr/>
        </p:nvSpPr>
        <p:spPr>
          <a:xfrm>
            <a:off x="8076240" y="275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92"/>
          <p:cNvSpPr/>
          <p:nvPr/>
        </p:nvSpPr>
        <p:spPr>
          <a:xfrm>
            <a:off x="3135240" y="19828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+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193"/>
          <p:cNvSpPr/>
          <p:nvPr/>
        </p:nvSpPr>
        <p:spPr>
          <a:xfrm>
            <a:off x="6877080" y="2247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+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Блок-схема: узел 195"/>
          <p:cNvSpPr/>
          <p:nvPr/>
        </p:nvSpPr>
        <p:spPr>
          <a:xfrm>
            <a:off x="1320840" y="5013360"/>
            <a:ext cx="106200" cy="9504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Блок-схема: узел 196"/>
          <p:cNvSpPr/>
          <p:nvPr/>
        </p:nvSpPr>
        <p:spPr>
          <a:xfrm>
            <a:off x="2133720" y="5013360"/>
            <a:ext cx="106200" cy="9504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98"/>
          <p:cNvSpPr/>
          <p:nvPr/>
        </p:nvSpPr>
        <p:spPr>
          <a:xfrm>
            <a:off x="6138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99"/>
          <p:cNvSpPr/>
          <p:nvPr/>
        </p:nvSpPr>
        <p:spPr>
          <a:xfrm>
            <a:off x="1189440" y="37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207"/>
          <p:cNvSpPr/>
          <p:nvPr/>
        </p:nvSpPr>
        <p:spPr>
          <a:xfrm>
            <a:off x="1212840" y="4116240"/>
            <a:ext cx="974880" cy="951120"/>
          </a:xfrm>
          <a:custGeom>
            <a:avLst/>
            <a:gdLst/>
            <a:ahLst/>
            <a:rect l="l" t="t" r="r" b="b"/>
            <a:pathLst>
              <a:path w="809625" h="971550">
                <a:moveTo>
                  <a:pt x="809625" y="971550"/>
                </a:moveTo>
                <a:cubicBezTo>
                  <a:pt x="596106" y="814387"/>
                  <a:pt x="382587" y="657225"/>
                  <a:pt x="247650" y="495300"/>
                </a:cubicBezTo>
                <a:cubicBezTo>
                  <a:pt x="112712" y="333375"/>
                  <a:pt x="56356" y="166687"/>
                  <a:pt x="0" y="0"/>
                </a:cubicBezTo>
              </a:path>
            </a:pathLst>
          </a:custGeom>
          <a:noFill/>
          <a:ln w="381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10"/>
          <p:cNvSpPr/>
          <p:nvPr/>
        </p:nvSpPr>
        <p:spPr>
          <a:xfrm>
            <a:off x="1986840" y="4630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11"/>
          <p:cNvSpPr/>
          <p:nvPr/>
        </p:nvSpPr>
        <p:spPr>
          <a:xfrm>
            <a:off x="4029120" y="472284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27 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16"/>
          <p:cNvSpPr/>
          <p:nvPr/>
        </p:nvSpPr>
        <p:spPr>
          <a:xfrm>
            <a:off x="8087400" y="491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ISOCTEUR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217"/>
          <p:cNvSpPr/>
          <p:nvPr/>
        </p:nvSpPr>
        <p:spPr>
          <a:xfrm>
            <a:off x="1333440" y="505296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18"/>
          <p:cNvSpPr/>
          <p:nvPr/>
        </p:nvSpPr>
        <p:spPr>
          <a:xfrm>
            <a:off x="1004400" y="590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220"/>
          <p:cNvSpPr/>
          <p:nvPr/>
        </p:nvSpPr>
        <p:spPr>
          <a:xfrm>
            <a:off x="2201760" y="5154480"/>
            <a:ext cx="5040" cy="83844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225"/>
          <p:cNvSpPr/>
          <p:nvPr/>
        </p:nvSpPr>
        <p:spPr>
          <a:xfrm>
            <a:off x="1860840" y="5961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226"/>
          <p:cNvSpPr/>
          <p:nvPr/>
        </p:nvSpPr>
        <p:spPr>
          <a:xfrm>
            <a:off x="1892160" y="297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227"/>
          <p:cNvSpPr/>
          <p:nvPr/>
        </p:nvSpPr>
        <p:spPr>
          <a:xfrm>
            <a:off x="2685600" y="436104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28"/>
          <p:cNvSpPr/>
          <p:nvPr/>
        </p:nvSpPr>
        <p:spPr>
          <a:xfrm>
            <a:off x="503640" y="60156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109"/>
          <p:cNvSpPr/>
          <p:nvPr/>
        </p:nvSpPr>
        <p:spPr>
          <a:xfrm>
            <a:off x="3990960" y="72864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10"/>
          <p:cNvSpPr/>
          <p:nvPr/>
        </p:nvSpPr>
        <p:spPr>
          <a:xfrm>
            <a:off x="3432240" y="743040"/>
            <a:ext cx="0" cy="520056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ая соединительная линия 111"/>
          <p:cNvSpPr/>
          <p:nvPr/>
        </p:nvSpPr>
        <p:spPr>
          <a:xfrm>
            <a:off x="5619600" y="7351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112"/>
          <p:cNvSpPr/>
          <p:nvPr/>
        </p:nvSpPr>
        <p:spPr>
          <a:xfrm>
            <a:off x="4524480" y="7477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ая соединительная линия 114"/>
          <p:cNvSpPr/>
          <p:nvPr/>
        </p:nvSpPr>
        <p:spPr>
          <a:xfrm>
            <a:off x="7254720" y="720720"/>
            <a:ext cx="0" cy="5199120"/>
          </a:xfrm>
          <a:prstGeom prst="line">
            <a:avLst/>
          </a:prstGeom>
          <a:ln w="3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247"/>
          <p:cNvSpPr/>
          <p:nvPr/>
        </p:nvSpPr>
        <p:spPr>
          <a:xfrm>
            <a:off x="1224000" y="880920"/>
            <a:ext cx="2327400" cy="20275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ая соединительная линия 251"/>
          <p:cNvSpPr/>
          <p:nvPr/>
        </p:nvSpPr>
        <p:spPr>
          <a:xfrm flipH="1">
            <a:off x="2223720" y="2975040"/>
            <a:ext cx="1327320" cy="20527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олилиния 45"/>
          <p:cNvSpPr/>
          <p:nvPr/>
        </p:nvSpPr>
        <p:spPr>
          <a:xfrm>
            <a:off x="1200240" y="851040"/>
            <a:ext cx="4884480" cy="2043000"/>
          </a:xfrm>
          <a:custGeom>
            <a:avLst/>
            <a:gdLst/>
            <a:ahLst/>
            <a:rect l="l" t="t" r="r" b="b"/>
            <a:pathLst>
              <a:path w="4905375" h="2085975">
                <a:moveTo>
                  <a:pt x="0" y="0"/>
                </a:moveTo>
                <a:cubicBezTo>
                  <a:pt x="338137" y="26194"/>
                  <a:pt x="676275" y="52388"/>
                  <a:pt x="1143000" y="171450"/>
                </a:cubicBezTo>
                <a:cubicBezTo>
                  <a:pt x="1609725" y="290513"/>
                  <a:pt x="2330786" y="524451"/>
                  <a:pt x="2800350" y="714375"/>
                </a:cubicBezTo>
                <a:cubicBezTo>
                  <a:pt x="3269914" y="904299"/>
                  <a:pt x="3745485" y="1198660"/>
                  <a:pt x="3960384" y="1310996"/>
                </a:cubicBezTo>
                <a:cubicBezTo>
                  <a:pt x="4175283" y="1423332"/>
                  <a:pt x="4059905" y="1370760"/>
                  <a:pt x="4089745" y="1388390"/>
                </a:cubicBezTo>
                <a:cubicBezTo>
                  <a:pt x="4119585" y="1406020"/>
                  <a:pt x="4103950" y="1392057"/>
                  <a:pt x="4139426" y="1416777"/>
                </a:cubicBezTo>
                <a:cubicBezTo>
                  <a:pt x="4174902" y="1441497"/>
                  <a:pt x="4195449" y="1458891"/>
                  <a:pt x="4304994" y="1534280"/>
                </a:cubicBezTo>
                <a:cubicBezTo>
                  <a:pt x="4414539" y="1609669"/>
                  <a:pt x="4500512" y="1670176"/>
                  <a:pt x="4600575" y="1762125"/>
                </a:cubicBezTo>
                <a:cubicBezTo>
                  <a:pt x="4700638" y="1854074"/>
                  <a:pt x="4841875" y="1977231"/>
                  <a:pt x="4905375" y="20859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олилиния 46"/>
          <p:cNvSpPr/>
          <p:nvPr/>
        </p:nvSpPr>
        <p:spPr>
          <a:xfrm>
            <a:off x="6110280" y="538200"/>
            <a:ext cx="1952640" cy="2325600"/>
          </a:xfrm>
          <a:custGeom>
            <a:avLst/>
            <a:gdLst/>
            <a:ahLst/>
            <a:rect l="l" t="t" r="r" b="b"/>
            <a:pathLst>
              <a:path w="1952625" h="2362200">
                <a:moveTo>
                  <a:pt x="1952625" y="0"/>
                </a:moveTo>
                <a:cubicBezTo>
                  <a:pt x="1896269" y="34925"/>
                  <a:pt x="1724422" y="127397"/>
                  <a:pt x="1609725" y="202406"/>
                </a:cubicBezTo>
                <a:cubicBezTo>
                  <a:pt x="1495028" y="277415"/>
                  <a:pt x="1369219" y="356393"/>
                  <a:pt x="1252538" y="445293"/>
                </a:cubicBezTo>
                <a:cubicBezTo>
                  <a:pt x="1085851" y="569118"/>
                  <a:pt x="995362" y="666750"/>
                  <a:pt x="914400" y="742950"/>
                </a:cubicBezTo>
                <a:cubicBezTo>
                  <a:pt x="833438" y="819150"/>
                  <a:pt x="816372" y="836613"/>
                  <a:pt x="764381" y="904875"/>
                </a:cubicBezTo>
                <a:cubicBezTo>
                  <a:pt x="712390" y="973138"/>
                  <a:pt x="694531" y="996950"/>
                  <a:pt x="602456" y="1152525"/>
                </a:cubicBezTo>
                <a:cubicBezTo>
                  <a:pt x="510381" y="1308100"/>
                  <a:pt x="329009" y="1646238"/>
                  <a:pt x="228600" y="1847850"/>
                </a:cubicBezTo>
                <a:cubicBezTo>
                  <a:pt x="128191" y="2049462"/>
                  <a:pt x="49212" y="2225675"/>
                  <a:pt x="0" y="23622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62"/>
          <p:cNvSpPr/>
          <p:nvPr/>
        </p:nvSpPr>
        <p:spPr>
          <a:xfrm>
            <a:off x="536400" y="27050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1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63"/>
          <p:cNvSpPr/>
          <p:nvPr/>
        </p:nvSpPr>
        <p:spPr>
          <a:xfrm>
            <a:off x="585720" y="501336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лок-схема: узел 166"/>
          <p:cNvSpPr/>
          <p:nvPr/>
        </p:nvSpPr>
        <p:spPr>
          <a:xfrm>
            <a:off x="6024600" y="2863800"/>
            <a:ext cx="119160" cy="1256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6"/>
          <p:cNvSpPr/>
          <p:nvPr/>
        </p:nvSpPr>
        <p:spPr>
          <a:xfrm>
            <a:off x="2836800" y="6157800"/>
            <a:ext cx="36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угле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58"/>
          <p:cNvSpPr/>
          <p:nvPr/>
        </p:nvSpPr>
        <p:spPr>
          <a:xfrm flipH="1">
            <a:off x="1179360" y="6342120"/>
            <a:ext cx="16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Прямая со стрелкой 60"/>
          <p:cNvCxnSpPr>
            <a:stCxn id="185" idx="3"/>
          </p:cNvCxnSpPr>
          <p:nvPr/>
        </p:nvCxnSpPr>
        <p:spPr>
          <a:xfrm>
            <a:off x="6451200" y="6341760"/>
            <a:ext cx="16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8" name="Блок-схема: узел 153"/>
          <p:cNvSpPr/>
          <p:nvPr/>
        </p:nvSpPr>
        <p:spPr>
          <a:xfrm>
            <a:off x="8031240" y="500040"/>
            <a:ext cx="71280" cy="81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Блок-схема: узел 197"/>
          <p:cNvSpPr/>
          <p:nvPr/>
        </p:nvSpPr>
        <p:spPr>
          <a:xfrm>
            <a:off x="1143000" y="4035600"/>
            <a:ext cx="106200" cy="9504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Блок-схема: узел 148"/>
          <p:cNvSpPr/>
          <p:nvPr/>
        </p:nvSpPr>
        <p:spPr>
          <a:xfrm>
            <a:off x="1150920" y="816120"/>
            <a:ext cx="73080" cy="648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ая соединительная линия 171"/>
          <p:cNvSpPr/>
          <p:nvPr/>
        </p:nvSpPr>
        <p:spPr>
          <a:xfrm>
            <a:off x="401760" y="4861080"/>
            <a:ext cx="0" cy="84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73"/>
          <p:cNvSpPr/>
          <p:nvPr/>
        </p:nvSpPr>
        <p:spPr>
          <a:xfrm rot="16200000">
            <a:off x="-511200" y="2430720"/>
            <a:ext cx="18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Прямая со стрелкой 176"/>
          <p:cNvCxnSpPr/>
          <p:nvPr/>
        </p:nvCxnSpPr>
        <p:spPr>
          <a:xfrm flipV="1">
            <a:off x="388440" y="517320"/>
            <a:ext cx="1080" cy="124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4" name="Полилиния 16"/>
          <p:cNvSpPr/>
          <p:nvPr/>
        </p:nvSpPr>
        <p:spPr>
          <a:xfrm>
            <a:off x="1208160" y="4132440"/>
            <a:ext cx="129960" cy="879120"/>
          </a:xfrm>
          <a:custGeom>
            <a:avLst/>
            <a:gdLst/>
            <a:ahLst/>
            <a:rect l="l" t="t" r="r" b="b"/>
            <a:pathLst>
              <a:path w="129938" h="878238">
                <a:moveTo>
                  <a:pt x="786" y="0"/>
                </a:moveTo>
                <a:cubicBezTo>
                  <a:pt x="-4811" y="146373"/>
                  <a:pt x="20589" y="282414"/>
                  <a:pt x="42114" y="428787"/>
                </a:cubicBezTo>
                <a:cubicBezTo>
                  <a:pt x="63639" y="575160"/>
                  <a:pt x="108413" y="804191"/>
                  <a:pt x="129938" y="878238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олилиния 17"/>
          <p:cNvSpPr/>
          <p:nvPr/>
        </p:nvSpPr>
        <p:spPr>
          <a:xfrm>
            <a:off x="1244520" y="5103720"/>
            <a:ext cx="82800" cy="843120"/>
          </a:xfrm>
          <a:custGeom>
            <a:avLst/>
            <a:gdLst/>
            <a:ahLst/>
            <a:rect l="l" t="t" r="r" b="b"/>
            <a:pathLst>
              <a:path w="82657" h="842075">
                <a:moveTo>
                  <a:pt x="82657" y="0"/>
                </a:moveTo>
                <a:cubicBezTo>
                  <a:pt x="61131" y="66729"/>
                  <a:pt x="39606" y="133458"/>
                  <a:pt x="25830" y="273804"/>
                </a:cubicBezTo>
                <a:cubicBezTo>
                  <a:pt x="12054" y="414150"/>
                  <a:pt x="0" y="842075"/>
                  <a:pt x="0" y="842075"/>
                </a:cubicBezTo>
              </a:path>
            </a:pathLst>
          </a:custGeom>
          <a:noFill/>
          <a:ln w="3816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Управляющая кнопка: далее 106">
            <a:hlinkClick r:id="" action="ppaction://hlinkshowjump?jump=nextslide"/>
          </p:cNvPr>
          <p:cNvSpPr/>
          <p:nvPr/>
        </p:nvSpPr>
        <p:spPr>
          <a:xfrm>
            <a:off x="3825720" y="656100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Управляющая кнопка: назад 107">
            <a:hlinkClick r:id="" action="ppaction://hlinkshowjump?jump=previousslide"/>
          </p:cNvPr>
          <p:cNvSpPr/>
          <p:nvPr/>
        </p:nvSpPr>
        <p:spPr>
          <a:xfrm>
            <a:off x="2981160" y="6561000"/>
            <a:ext cx="719280" cy="21600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844" h="21600">
                <a:moveTo>
                  <a:pt x="0" y="0"/>
                </a:moveTo>
                <a:lnTo>
                  <a:pt x="71844" y="0"/>
                </a:lnTo>
                <a:lnTo>
                  <a:pt x="71844" y="21600"/>
                </a:lnTo>
                <a:lnTo>
                  <a:pt x="0" y="21600"/>
                </a:lnTo>
                <a:close/>
              </a:path>
              <a:path fill="lightenLess" w="71844" h="21600">
                <a:moveTo>
                  <a:pt x="0" y="0"/>
                </a:moveTo>
                <a:lnTo>
                  <a:pt x="71844" y="0"/>
                </a:lnTo>
                <a:lnTo>
                  <a:pt x="70444" y="1400"/>
                </a:lnTo>
                <a:lnTo>
                  <a:pt x="1400" y="1400"/>
                </a:lnTo>
                <a:close/>
              </a:path>
              <a:path fill="darken" w="71844" h="21600">
                <a:moveTo>
                  <a:pt x="71844" y="0"/>
                </a:moveTo>
                <a:lnTo>
                  <a:pt x="71844" y="21600"/>
                </a:lnTo>
                <a:lnTo>
                  <a:pt x="70444" y="20200"/>
                </a:lnTo>
                <a:lnTo>
                  <a:pt x="70444" y="1400"/>
                </a:lnTo>
                <a:close/>
              </a:path>
              <a:path fill="darkenLess" w="71844" h="21600">
                <a:moveTo>
                  <a:pt x="71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44" y="20200"/>
                </a:lnTo>
                <a:close/>
              </a:path>
              <a:path fill="lighten" w="71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44" h="21600">
                <a:moveTo>
                  <a:pt x="28916" y="10800"/>
                </a:moveTo>
                <a:lnTo>
                  <a:pt x="42929" y="3794"/>
                </a:lnTo>
                <a:lnTo>
                  <a:pt x="4292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641520" y="18900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иаграмма состояния системы железо - угле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992160" y="65088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ие точки диаграммы «Железо-углерод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55560" y="1054080"/>
          <a:ext cx="7890120" cy="5321160"/>
        </p:xfrm>
        <a:graphic>
          <a:graphicData uri="http://schemas.openxmlformats.org/drawingml/2006/table">
            <a:tbl>
              <a:tblPr/>
              <a:tblGrid>
                <a:gridCol w="1336680"/>
                <a:gridCol w="1013040"/>
                <a:gridCol w="1436400"/>
                <a:gridCol w="4104000"/>
              </a:tblGrid>
              <a:tr h="100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очка диа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мпера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держание углерода, % (по масс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арактеристика т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пература плавления желе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мпература плавления цемент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  ледебурита - механической смеси аустенита с содержанием углерода 2,14 % и цементита первич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е содержание углерода в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γ-желез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вращение  α-железа в γ-желе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е содержание углерода в  α-желез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 перлита 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ой смеси феррита (имеющего 0,02 % углерода) и цементита вторично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427640" y="656100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40" h="21600">
                <a:moveTo>
                  <a:pt x="21764" y="3794"/>
                </a:moveTo>
                <a:lnTo>
                  <a:pt x="35777" y="10800"/>
                </a:lnTo>
                <a:lnTo>
                  <a:pt x="217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3492360" y="6561000"/>
            <a:ext cx="719280" cy="216000"/>
          </a:xfrm>
          <a:custGeom>
            <a:avLst/>
            <a:gdLst>
              <a:gd name="textAreaLeft" fmla="*/ 13680 w 719280"/>
              <a:gd name="textAreaRight" fmla="*/ 705600 w 71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844" h="21600">
                <a:moveTo>
                  <a:pt x="0" y="0"/>
                </a:moveTo>
                <a:lnTo>
                  <a:pt x="71844" y="0"/>
                </a:lnTo>
                <a:lnTo>
                  <a:pt x="71844" y="21600"/>
                </a:lnTo>
                <a:lnTo>
                  <a:pt x="0" y="21600"/>
                </a:lnTo>
                <a:close/>
              </a:path>
              <a:path fill="lightenLess" w="71844" h="21600">
                <a:moveTo>
                  <a:pt x="0" y="0"/>
                </a:moveTo>
                <a:lnTo>
                  <a:pt x="71844" y="0"/>
                </a:lnTo>
                <a:lnTo>
                  <a:pt x="70444" y="1400"/>
                </a:lnTo>
                <a:lnTo>
                  <a:pt x="1400" y="1400"/>
                </a:lnTo>
                <a:close/>
              </a:path>
              <a:path fill="darken" w="71844" h="21600">
                <a:moveTo>
                  <a:pt x="71844" y="0"/>
                </a:moveTo>
                <a:lnTo>
                  <a:pt x="71844" y="21600"/>
                </a:lnTo>
                <a:lnTo>
                  <a:pt x="70444" y="20200"/>
                </a:lnTo>
                <a:lnTo>
                  <a:pt x="70444" y="1400"/>
                </a:lnTo>
                <a:close/>
              </a:path>
              <a:path fill="darkenLess" w="71844" h="21600">
                <a:moveTo>
                  <a:pt x="71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44" y="20200"/>
                </a:lnTo>
                <a:close/>
              </a:path>
              <a:path fill="lighten" w="71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44" h="21600">
                <a:moveTo>
                  <a:pt x="28916" y="10800"/>
                </a:moveTo>
                <a:lnTo>
                  <a:pt x="42929" y="3794"/>
                </a:lnTo>
                <a:lnTo>
                  <a:pt x="4292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http://klenauto.ru/node/avtom-12.png"/>
          <p:cNvPicPr/>
          <p:nvPr/>
        </p:nvPicPr>
        <p:blipFill>
          <a:blip r:embed="rId1"/>
          <a:stretch/>
        </p:blipFill>
        <p:spPr>
          <a:xfrm>
            <a:off x="468360" y="620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11280" y="809640"/>
            <a:ext cx="7921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елезоуглеродистые сплавы являются основными конструкционными материалами практически всех стран мира. Масштабы их производства в значительной мере характеризуют технико-экономический уровень развития государства и служат материальной основой для различных отраслей техники. Их производство по объему превосходит производство всех остальных металлов и сплавов вместе взятых более чем в 10 р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общем случае железоуглеродистые сплавы подразделяются на две основные группы: стали и чугу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лучение сплавов с заданными свойствами базируется, прежде всего на анализе системы «состав–структура–свойства» и ее изменении при воздействии внешних условий таких, как температура, давление, механические нагрузки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61128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ЖЕЛЕЗОУГЛЕРОДИСТЫЕ СПЛА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28560" y="2602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оненты железоуглеродистых спла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47680" y="1214280"/>
            <a:ext cx="864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елезо (лат. Ferrum) открыто в III тысячелетии до н.э., это химический элемент VIII группы периодической системы Менделеева, атомный номер 26, плотность 7,83 г/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 Блестящий серебристо-белый металл с температурой плавления 1539 °С.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Широко распространено в природе, занимая второе место (после алюминия) среди мет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елезо имеет аллотропные модификации  которые различаются по кристаллической структу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 температуре ниже 768 °С устойчиво </a:t>
            </a:r>
            <a:r>
              <a:rPr b="1" lang="el-GR" sz="2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железо с объемно-центрированной кубической решеткой (ОЦК). При 768 °С железо становиться немагнитным, решетка остается той же. Между 911 °С и 1392 °С устойчиво </a:t>
            </a:r>
            <a:r>
              <a:rPr b="1" lang="el-GR" sz="22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железо с гранецентрированной кубической решеткой. Выше 1392 °С вновь образуется ОЦК-решет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11280" y="1413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елезо является важнейшим металлом современной техники, хотя в чистом виде практически не используется по причине низких прочностных характеристик. Оно необходимо для жизнедеятельности многих живых организмов, в том числе и человека (входит в состав гемоглоби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пособность железа растворять углерод и другие элементы служит основой для получения разнообразных сплавов способных выдерживать воздействие высоких и низких температур, вакуума и высоких давлений, агрессивных сред, больших переменных напряжений, ядерных излучений и др. На долю таких сплавов приходится около 95 % всей металлической продукции (стали, чугуны, ферросплав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11280" y="921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оненты железоуглеродистых спла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3000" y="1069920"/>
            <a:ext cx="864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глерод (лат. Carboneum) химический элемент периодической системы Менделеева, атомный номер 6, плотность 2,5 г/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, температура плавления ≈ 3500 °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кристаллические модификации углерода – алмаз и графит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611280" y="1159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оненты железоуглеродистых спла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http://edu.dvgups.ru/METDOC/GDTRAN/NTS/TEH_MET/TEH_KM/METOD/BABENKO_UP/frame/3.files/image006.gif"/>
          <p:cNvPicPr/>
          <p:nvPr/>
        </p:nvPicPr>
        <p:blipFill>
          <a:blip r:embed="rId1"/>
          <a:stretch/>
        </p:blipFill>
        <p:spPr>
          <a:xfrm>
            <a:off x="1908000" y="2637000"/>
            <a:ext cx="4856400" cy="2112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332000" y="47498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сталлические решетки: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– алмаза;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– граф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43000" y="5180040"/>
            <a:ext cx="8650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единениях с железом углерод приобретает металлические свойства. Он может растворяться в решетке железа по механизму внедрения, т.е. внедряться в межузельные пространства, а также образовывать химические соединения Fe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; Fe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611280" y="119700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мес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ычные (фосфор Р, сера S, марганец Mn, кремний Si, водород Н, азот N, кислород 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егирующие (хром Cr, никель Ni, молибден Mo, вольфрам W, ванадий V, титан Ti, кобальт Со, медь Cu и др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дифицирующие (магний Mg, церий Ce, кальций Ca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11280" y="189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оненты железоуглеродистых спла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11280" y="1015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а железоуглеродистых сплав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11280" y="765000"/>
            <a:ext cx="7921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зависимости от температуры и содержания углерода сплавы железо - углерод могут иметь структурные составляющие: феррит, цементит, перлит, аустенит, ледебурит и графит. Так же структура сплавов определяется размером и формой зерен (кристаллов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611280" y="2276640"/>
            <a:ext cx="7921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Ферри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 представляет собой твердый раствор углерода в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α-железе</a:t>
            </a:r>
            <a:r>
              <a:rPr b="1" lang="ru-RU" sz="2000" spc="-1" strike="noStrike">
                <a:solidFill>
                  <a:srgbClr val="7f7f7f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723° С в α-железе может содержаться до 0,02% углерода, а при 20° С всего лишь 0,006% углерода. Феррит обладает высокой пластичностью, низкой твердостью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НВ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0-100), прочностью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σ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alibri"/>
              </a:rPr>
              <a:t>ь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 25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гс/мм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)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агнитными свойствами, которые сохраняются до температуры 768°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феррит"/>
          <p:cNvPicPr/>
          <p:nvPr/>
        </p:nvPicPr>
        <p:blipFill>
          <a:blip r:embed="rId2"/>
          <a:stretch/>
        </p:blipFill>
        <p:spPr>
          <a:xfrm>
            <a:off x="3390840" y="4195800"/>
            <a:ext cx="2362320" cy="1647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611280" y="584352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кроструктура феррита представляет собой однородные зер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90400" y="836640"/>
            <a:ext cx="79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Аустени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(от имени английского ученого Робертса-Аустена) – твердый раствор углерода и других элементов в 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желез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332000" y="1857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а железоуглеродистых сплав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http://edu.dvgups.ru/METDOC/GDTRAN/NTS/TEH_MET/TEH_KM/METOD/BABENKO_UP/frame/3.files/image010.gif"/>
          <p:cNvPicPr/>
          <p:nvPr/>
        </p:nvPicPr>
        <p:blipFill>
          <a:blip r:embed="rId1"/>
          <a:stretch/>
        </p:blipFill>
        <p:spPr>
          <a:xfrm>
            <a:off x="871560" y="1744560"/>
            <a:ext cx="2448000" cy="2016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1"/>
          <p:cNvSpPr/>
          <p:nvPr/>
        </p:nvSpPr>
        <p:spPr>
          <a:xfrm>
            <a:off x="395280" y="38577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сталлическая решетка аустенита: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ы железа;        – атом угле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12"/>
          <p:cNvSpPr/>
          <p:nvPr/>
        </p:nvSpPr>
        <p:spPr>
          <a:xfrm>
            <a:off x="2592360" y="4246560"/>
            <a:ext cx="216000" cy="21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372960" y="4246560"/>
            <a:ext cx="217440" cy="21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8" descr="http://edu.dvgups.ru/METDOC/GDTRAN/NTS/TEH_MET/TEH_KM/METOD/BABENKO_UP/frame/3.files/image016.gif"/>
          <p:cNvPicPr/>
          <p:nvPr/>
        </p:nvPicPr>
        <p:blipFill>
          <a:blip r:embed="rId2"/>
          <a:srcRect l="0" t="0" r="0" b="22415"/>
          <a:stretch/>
        </p:blipFill>
        <p:spPr>
          <a:xfrm>
            <a:off x="5602320" y="1744560"/>
            <a:ext cx="264780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3"/>
          <p:cNvSpPr/>
          <p:nvPr/>
        </p:nvSpPr>
        <p:spPr>
          <a:xfrm>
            <a:off x="5349240" y="345276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кроструктура аустен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263520" y="4724280"/>
            <a:ext cx="85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ксимальная растворимость углерода в аустените при t = 1147 °С равна 2,14 %. При снижении температуры растворимость уменьшается и при t = 727 °С составляет 0,8 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5"/>
          <p:cNvSpPr/>
          <p:nvPr/>
        </p:nvSpPr>
        <p:spPr>
          <a:xfrm>
            <a:off x="352440" y="5729400"/>
            <a:ext cx="85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устенит немагнитен, обладает по сравнению с ферритом меньшим удельным объемом, пластичен, имеет большую тверд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11280" y="1052640"/>
            <a:ext cx="79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менти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– химическое соединение железа с углеродом (карбид железа Fe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), содержит углерода 6,67 %, плотность 7,82 г/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пература плавления цементита (около 1250 °С) точно не установлена, так как в процессе нагрева он разлагается, что и искажает результаты изме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ментит имеет высокую твердость (НВ &gt; 800, царапает стекло), но очень низкую (практически нулевую) пластич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ментит неустойчив и при определенных условиях распадается на железо и углерод в виде граф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1275120" y="333360"/>
            <a:ext cx="59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а железоуглеродистых сплав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11280" y="429264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меняя состав и структуру, получают железоуглеродистые сплавы с разнообразными свойствами, что делает их универсальными материал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18:05:22Z</dcterms:created>
  <dc:creator>User</dc:creator>
  <dc:description/>
  <dc:language>en-US</dc:language>
  <cp:lastModifiedBy>Valerii</cp:lastModifiedBy>
  <dcterms:modified xsi:type="dcterms:W3CDTF">2016-11-28T21:37:19Z</dcterms:modified>
  <cp:revision>28</cp:revision>
  <dc:subject/>
  <dc:title>Презентация PowerPoint</dc:title>
</cp:coreProperties>
</file>