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8518-53DF-4B5F-A087-8613F6B5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E2A0-453B-49EA-8F3B-5EC6A68B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0558-16F8-483F-9FB7-57DBBBABC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57E4-1854-4DF1-AEF9-D27C21393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64DC-3E95-48F3-A544-B236C091E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4F76-47A1-468C-898C-44D6E6A1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98F0-DFD0-4E4B-8CE4-F2F9BE6B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CB6D-D917-4266-973C-30065D22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0404-C961-429C-A728-0CD321B1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EBFF-D3B4-41BC-808C-E63E3DB5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9CB6-0D4C-4297-96F9-7053F103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EDDC-E3C9-463C-AFA5-B40F1D69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4385-47CD-4AC8-B689-91DEDF97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5C6C-420B-44A8-A00E-DEFDFBAC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F2C9-C9DA-4E37-A235-BC28F738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BBED-0BEB-48D9-A031-9EED028F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F5AC-FEC6-4746-9C4B-AAEFEFC7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8FF0-745C-475C-A21B-D824221D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83BB-8EED-4B68-9598-B1F84FE7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D373-D326-4D7C-B3FC-B558B66C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EE81-56DE-49D2-BED4-3F6FF3B7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5270-7A5D-45B9-9B5F-1E9D52FF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3ED9-6B96-455C-A6F1-6927D5A5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4827-2876-40CF-936A-C9C6AAC6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B871-11FE-47F5-9DA0-CD5B368EA20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" name="Picture 13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4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1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" name="Picture 15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A2F3-D979-4958-9F94-0E66D67E5E5F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0000"/>
                </a:solidFill>
                <a:latin typeface="Times New Roman"/>
              </a:rPr>
              <a:t>Тема 7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3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сновы теории потребительского повед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1483920"/>
            <a:ext cx="8209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На рынке потребитель сталкивается с бесчисленным количеством товаров и услуг, из которых он должен сформировать свою </a:t>
            </a: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"потребительскую корзину",</a:t>
            </a: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 т.е. набор товаров, который обладает для него определенной </a:t>
            </a: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полезностью</a:t>
            </a: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61760" y="3765600"/>
            <a:ext cx="7986600" cy="22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требительская корзин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бор товаров и услуг, обеспечивающий жизнедеятельность человека и характеризующий типичный уровень и структуру месячного (годового) потребления человека или семьи.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Известно, что различают </a:t>
            </a:r>
            <a:br>
              <a:rPr sz="4000"/>
            </a:br>
            <a:r>
              <a:rPr b="0" i="1" lang="ru-RU" sz="4000" spc="-1" strike="noStrike">
                <a:solidFill>
                  <a:srgbClr val="420000"/>
                </a:solidFill>
                <a:latin typeface="Times New Roman"/>
              </a:rPr>
              <a:t>общую и предельную полезность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80" y="182880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00"/>
                </a:solidFill>
                <a:latin typeface="Times New Roman"/>
              </a:rPr>
              <a:t>Общая полез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это удовлетворение, которое получают от потребления определенного набора единиц това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00"/>
                </a:solidFill>
                <a:latin typeface="Times New Roman"/>
              </a:rPr>
              <a:t>Предельной полезность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зывают полезность, равную приращению, увеличению общей полезности в результате приобретения дополнительной единицы данного това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ельная полезность отражает степень настоятельности потребности. Снижение предельной полезности связано с уменьшением субъективной оценки потребителем единицы товара, когда возрастает количество приобретенных единиц этого благ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дение предельной полезности по мере приобретения потребителем дополнительных единиц определенного товара известно под названием </a:t>
            </a:r>
            <a:r>
              <a:rPr b="1" i="1" lang="ru-RU" sz="2400" spc="-1" strike="noStrike">
                <a:solidFill>
                  <a:srgbClr val="660000"/>
                </a:solidFill>
                <a:latin typeface="Times New Roman"/>
              </a:rPr>
              <a:t>закона убывающей предельной полезности</a:t>
            </a:r>
            <a:r>
              <a:rPr b="0" i="1" lang="ru-RU" sz="2400" spc="-1" strike="noStrike">
                <a:solidFill>
                  <a:srgbClr val="66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00"/>
                </a:solidFill>
                <a:latin typeface="Times New Roman"/>
              </a:rPr>
              <a:t>Полезность</a:t>
            </a:r>
            <a:r>
              <a:rPr b="0" lang="ru-RU" sz="3000" spc="-1" strike="noStrike">
                <a:solidFill>
                  <a:srgbClr val="420000"/>
                </a:solidFill>
                <a:latin typeface="Times New Roman"/>
              </a:rPr>
              <a:t> - понятие субъективное, поэтому оно не поддается точному количественному измерению.</a:t>
            </a:r>
            <a:endParaRPr b="0" lang="en-US" sz="3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Times New Roman"/>
              </a:rPr>
              <a:t>Кардиналист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пытаясь вычислить предельную полезность, вводят условную единицу - ютиль, с помощью которой определяют степень удовлетворения потребности 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utilit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англ, полезность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окупную полезность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бого количества продукта определяют путем суммирования показателей предельной полезнос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U=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/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1371240"/>
            <a:ext cx="79866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Если каждая последующая единица товара обладает все меньшей и меньшей предельной, или добавочной, полезностью, то потребитель станет покупать дополнительные единицы товара лишь при условии снижения их цены.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39640" y="3573000"/>
            <a:ext cx="81360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00"/>
                </a:solidFill>
                <a:latin typeface="Arial"/>
              </a:rPr>
              <a:t>Закон убывающей предельной полезности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позволяет обосновать </a:t>
            </a:r>
            <a:r>
              <a:rPr b="1" lang="ru-RU" sz="2500" spc="-1" strike="noStrike">
                <a:solidFill>
                  <a:srgbClr val="660000"/>
                </a:solidFill>
                <a:latin typeface="Arial"/>
              </a:rPr>
              <a:t>закон падающего спроса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(нисходящую кривую спроса), а также объяснить, как следует покупателю распределить свой денежный доход между различными товарами и услугами, которые он может купить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Потребитель - разумный человек, который пытается так распорядиться своим денежным доходом, чтобы получить </a:t>
            </a: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максимальную совокупную полезность.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этому потребитель должен выбирать между различными товарами, чтобы при ограниченном денежном доходе получить в свое распоряжение наиболее предпочтительный, с его точки зрения, набор товаров и услуг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ыми словами, покупатель будет предъявлять спрос до тех пор, пока предельная полезность в расчете на одну денежную единицу, потраченную на данный товар, не станет равной предельной полезности на денежную единицу, израсходованную на другой това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33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Правило потребительского поведения состоит в том, чтобы каждая последняя единица денежных затрат на приобретение товара приносила одинаковую, т.е.добавочную, полезность.</a:t>
            </a: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9" name="Picture 4" descr="for9-1"/>
          <p:cNvPicPr/>
          <p:nvPr/>
        </p:nvPicPr>
        <p:blipFill>
          <a:blip r:embed="rId1"/>
          <a:stretch/>
        </p:blipFill>
        <p:spPr>
          <a:xfrm>
            <a:off x="395280" y="2349360"/>
            <a:ext cx="8424720" cy="1440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for9-2"/>
          <p:cNvPicPr/>
          <p:nvPr/>
        </p:nvPicPr>
        <p:blipFill>
          <a:blip r:embed="rId2"/>
          <a:stretch/>
        </p:blipFill>
        <p:spPr>
          <a:xfrm>
            <a:off x="468360" y="4076640"/>
            <a:ext cx="83516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1371240"/>
            <a:ext cx="79866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Сторонники </a:t>
            </a: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ординалистского</a:t>
            </a: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 подхода утверждают, что полезность невозможно измерить количественно, но на основе предпочтений можно выявить </a:t>
            </a:r>
            <a:r>
              <a:rPr b="1" i="1" lang="ru-RU" sz="2800" spc="-1" strike="noStrike">
                <a:solidFill>
                  <a:srgbClr val="420000"/>
                </a:solidFill>
                <a:latin typeface="Times New Roman"/>
              </a:rPr>
              <a:t>порядковую полезность</a:t>
            </a: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, то есть описать поведение потребителя путем ранжирования.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95280" y="3716280"/>
            <a:ext cx="85694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нцепция кривых безразличия разработана итальянским ученым В. Парето в начале XX в., затем в 1939 г. английский ученый Д.Р.Хикс углубил е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основе данного метода лежит геометрическое совмещение двух типов кривых - так называемой </a:t>
            </a:r>
            <a:r>
              <a:rPr b="1" lang="ru-RU" sz="2600" spc="-1" strike="noStrike">
                <a:solidFill>
                  <a:srgbClr val="333300"/>
                </a:solidFill>
                <a:latin typeface="Arial"/>
              </a:rPr>
              <a:t>бюджетной линии и кривых безразлич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Бюджетная линия</a:t>
            </a: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 показывает различные комбинации двух продуктов, которые могут быть приобретены при фиксированной величине денежного дохода.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Л</a:t>
            </a:r>
            <a:r>
              <a:rPr b="1" i="1" lang="ru-RU" sz="3200" spc="-1" strike="noStrike">
                <a:solidFill>
                  <a:srgbClr val="333300"/>
                </a:solidFill>
                <a:latin typeface="Times New Roman"/>
              </a:rPr>
              <a:t>иния бюджетного огранич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кроме того дает информацию о наиболее выгодном наборе продуктов для потребителя, её уравнение можно записать следующим образо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Y=P</a:t>
            </a:r>
            <a:r>
              <a:rPr b="1" i="1" lang="ru-RU" sz="3200" spc="-1" strike="noStrike" baseline="-25000">
                <a:solidFill>
                  <a:srgbClr val="3333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Q</a:t>
            </a:r>
            <a:r>
              <a:rPr b="1" i="1" lang="ru-RU" sz="3200" spc="-1" strike="noStrike" baseline="-25000">
                <a:solidFill>
                  <a:srgbClr val="3333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+P</a:t>
            </a:r>
            <a:r>
              <a:rPr b="1" i="1" lang="ru-RU" sz="3200" spc="-1" strike="noStrike" baseline="-25000">
                <a:solidFill>
                  <a:srgbClr val="3333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Q</a:t>
            </a:r>
            <a:r>
              <a:rPr b="1" i="1" lang="ru-RU" sz="3200" spc="-1" strike="noStrike" baseline="-25000">
                <a:solidFill>
                  <a:srgbClr val="3333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Y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 – доход потребителя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P</a:t>
            </a:r>
            <a:r>
              <a:rPr b="0" lang="ru-RU" sz="2800" spc="-1" strike="noStrike" baseline="-25000">
                <a:solidFill>
                  <a:srgbClr val="3333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, P</a:t>
            </a:r>
            <a:r>
              <a:rPr b="0" lang="ru-RU" sz="2800" spc="-1" strike="noStrike" baseline="-25000">
                <a:solidFill>
                  <a:srgbClr val="3333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 – цена товаров А и Б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Q</a:t>
            </a:r>
            <a:r>
              <a:rPr b="0" lang="ru-RU" sz="2800" spc="-1" strike="noStrike" baseline="-25000">
                <a:solidFill>
                  <a:srgbClr val="3333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, Q</a:t>
            </a:r>
            <a:r>
              <a:rPr b="0" lang="ru-RU" sz="2800" spc="-1" strike="noStrike" baseline="-25000">
                <a:solidFill>
                  <a:srgbClr val="3333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 – количество товаров А и 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оложение бюджетной линии зависит о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чины денежного доход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ения цен на това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нижение денежного дохода при условии, что цены на товары остаются неизменными, приводит к параллельному смещению бюджетной линии влев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ответственно увеличение денежного дохода приводит к смещению бюджетной линии вправ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Наклон бюджетной линии зависит от отношения цены товара </a:t>
            </a:r>
            <a:r>
              <a:rPr b="1" i="1" lang="en-US" sz="3200" spc="-1" strike="noStrike">
                <a:solidFill>
                  <a:srgbClr val="420000"/>
                </a:solidFill>
                <a:latin typeface="Times New Roman"/>
              </a:rPr>
              <a:t>B</a:t>
            </a: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(P</a:t>
            </a:r>
            <a:r>
              <a:rPr b="1" i="1" lang="en-US" sz="3200" spc="-1" strike="noStrike" baseline="-25000">
                <a:solidFill>
                  <a:srgbClr val="420000"/>
                </a:solidFill>
                <a:latin typeface="Times New Roman"/>
              </a:rPr>
              <a:t>B</a:t>
            </a: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 к цене товара </a:t>
            </a: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A(P</a:t>
            </a:r>
            <a:r>
              <a:rPr b="1" i="1" lang="en-US" sz="3200" spc="-1" strike="noStrike" baseline="-25000">
                <a:solidFill>
                  <a:srgbClr val="420000"/>
                </a:solidFill>
                <a:latin typeface="Times New Roman"/>
              </a:rPr>
              <a:t>A</a:t>
            </a: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38" name="Picture 4" descr="ris15"/>
          <p:cNvPicPr/>
          <p:nvPr/>
        </p:nvPicPr>
        <p:blipFill>
          <a:blip r:embed="rId1"/>
          <a:stretch/>
        </p:blipFill>
        <p:spPr>
          <a:xfrm>
            <a:off x="826920" y="2060640"/>
            <a:ext cx="61930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лан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560" y="1862280"/>
            <a:ext cx="871380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нятие «потребитель», материальные, духовные, социальные потребности потребителя. Функция полезности. Понятие «потребительская корзина». Закон возвышения потребносте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нятия «общая полезность», «предельная полезность». Закон убывающей предельной полезности. Правило потребительского поведе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ъяснения поведения потребителя с помощью кривых безразличия. Карта кривых безразличия. Бюджетная линия. Условия равновесия потребителя. Кривые Энгел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560" y="1483920"/>
            <a:ext cx="79138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Графическое изображение различных комбинаций двух экономических благ, имеющих одинаковую полезность для потребителя, называется</a:t>
            </a:r>
            <a:r>
              <a:rPr b="0" i="1" lang="ru-RU" sz="32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333300"/>
                </a:solidFill>
                <a:latin typeface="Times New Roman"/>
              </a:rPr>
              <a:t>кривой безразличия</a:t>
            </a:r>
            <a:r>
              <a:rPr b="0" i="1" lang="ru-RU" sz="3200" spc="-1" strike="noStrike">
                <a:solidFill>
                  <a:srgbClr val="333300"/>
                </a:solidFill>
                <a:latin typeface="Times New Roman"/>
              </a:rPr>
              <a:t> (U)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95280" y="3716280"/>
            <a:ext cx="8424720" cy="23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ножество кривых безразличия одного потребителя образуют </a:t>
            </a:r>
            <a:r>
              <a:rPr b="1" i="1" lang="ru-RU" sz="2600" spc="-1" strike="noStrike">
                <a:solidFill>
                  <a:srgbClr val="333300"/>
                </a:solidFill>
                <a:latin typeface="Arial"/>
              </a:rPr>
              <a:t>карту безразличия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 этом чем правее и выше расположена кривая безразличия, тем большее удовлетворение приносят представленные ею комбинации двух благ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График кривой безразличи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9280" y="1828440"/>
            <a:ext cx="43164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почтения потребителя таковы, что он удовлетворяет одинаковую совокупную потребность в продуктах А и В при любой их комбинации, показанной на рисун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довательно, потребителю безразлично, какую именно комбинацию продуктов он действительно приобрет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1" descr="ris16"/>
          <p:cNvPicPr/>
          <p:nvPr/>
        </p:nvPicPr>
        <p:blipFill>
          <a:blip r:embed="rId1"/>
          <a:stretch/>
        </p:blipFill>
        <p:spPr>
          <a:xfrm>
            <a:off x="4932360" y="1916280"/>
            <a:ext cx="3816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При рассмотрении поведения покупателя с помощью кривых безразличия возникает вопрос: от какого количества одного товара готов отказаться потребитель, чтобы приобрести дополнительную единицу другого товара.</a:t>
            </a: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88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вет на этот вопрос даёт 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предельная норма замещения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 (МRS)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оторая показывает, в какой степени (в пределе) потребитель готов заменить один товар другим (товар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оваром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так, чтобы получить при этом то же удовлетворение полез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меньшающийся наклон кривой безразличия отражает правило уменьшающейся предельной нормы замещения, суть которого в том, что чем меньше единиц товар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меет потребитель, тем труднее ему отказаться от большего количества единиц товар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чтобы компенсировать потерю товар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арта кривых безразличи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3640" y="1828800"/>
            <a:ext cx="43923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того чтобы иметь представление о вкусах конкретного покупателя, изображают целую серию кривых безразличия, которая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ртой кривых безразлич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а показывает норму замещения двух товаров при любых уровнях потребления этих тов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7" descr="ris17"/>
          <p:cNvPicPr/>
          <p:nvPr/>
        </p:nvPicPr>
        <p:blipFill>
          <a:blip r:embed="rId1"/>
          <a:stretch/>
        </p:blipFill>
        <p:spPr>
          <a:xfrm>
            <a:off x="4788000" y="1844640"/>
            <a:ext cx="4105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Максимизация полезности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8920" y="1828440"/>
            <a:ext cx="45370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бинация, максимизирующая полезность потребителя, или равновесная комбинация продуктов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кажется в точке X, в которой бюджетная линия касается кривой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о достигается, когда отношения предельных полезностей отдельных товаров к их ценам равны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1:P1=MU2:P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7" descr="ris18"/>
          <p:cNvPicPr/>
          <p:nvPr/>
        </p:nvPicPr>
        <p:blipFill>
          <a:blip r:embed="rId1"/>
          <a:stretch/>
        </p:blipFill>
        <p:spPr>
          <a:xfrm>
            <a:off x="4643280" y="1773360"/>
            <a:ext cx="42498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Факторы потребительского выбора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яду с общими принципами выбора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ционального потребительского выбо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ществуют особенности, которые определяются влиянием на него рыночного спроса, а также вкусов и предпочтений. Эти факторы обуславливают функциональный или нефункциональный характер спро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ональный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прос на товар, обусловленный качествами това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ефункциональный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прос, обусловленный факторами, не связанный с самим товар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Особое значение при 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ефункциональном спросе</a:t>
            </a:r>
            <a:r>
              <a:rPr b="0" lang="ru-RU" sz="28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 имеют случаи взаимного влияния рыночного и индивидуального спроса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8920" y="2162160"/>
            <a:ext cx="8713800" cy="37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ффект присоедин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 большинств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требитель покупает то же, что и другие потребител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ффект сноб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ремление выделиться из толпы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ффект Вебле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естижное или демонстративное потребление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ональный и нефункциональный спрос</a:t>
            </a:r>
            <a:r>
              <a:rPr b="0" lang="ru-RU" sz="26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 в экономической теории часто соотносят с нормальным и аномальным поведением потребителя.</a:t>
            </a:r>
            <a:endParaRPr b="0" lang="en-US" sz="2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896472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ормальное поведение потребител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исывается законом спроса. Иными словами, при растущей цене на определенный продукт его потребление, как правило, будет уменьшаться. При падении цены потребитель будет покупать товары в большем количеств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номальное поведение потребител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значает то, что поведение потребителя непредсказуемо, он реагирует на процессы рынка совершенно иначе, чем большинство его агентов. Этим, в частности, можно объяснить стремление покупать недвижимость даже при растущих ценах в условиях инфля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Потребитель появляется на рынке с целью приобрести товары, необходимые для удовлетворения его многочисленных потребностей.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выяснить, почему потребитель приобретает какой-то определенный набор товаров и услуг, а не любой другой, который можно было бы составить из имеющихся на рынке товаров, нам предстоит выяснит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420000"/>
              </a:buClr>
              <a:buSzPct val="70000"/>
              <a:buFont typeface="Wingdings 3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потребности, какие именно потребности необходимо удовлетворить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420000"/>
              </a:buClr>
              <a:buSzPct val="70000"/>
              <a:buFont typeface="Wingdings 3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это сделать рационально, т.е. на имеющийся денежный доход получить максимальную полезность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420000"/>
              </a:buClr>
              <a:buSzPct val="70000"/>
              <a:buFont typeface="Wingdings 3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факторы определяют поведение потребителя на рынке, т. е. формируют его спро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Times New Roman"/>
              </a:rPr>
              <a:t>Потребности </a:t>
            </a:r>
            <a:r>
              <a:rPr b="0" lang="ru-RU" sz="3600" spc="-1" strike="noStrike">
                <a:solidFill>
                  <a:srgbClr val="420000"/>
                </a:solidFill>
                <a:latin typeface="Times New Roman"/>
              </a:rPr>
              <a:t>- это объективная нужда в чем-либо, необходимом для обеспечения жизнедеятельности человека, развития его личности.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62120" y="3765600"/>
            <a:ext cx="7696080" cy="22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кономической науке существуют различные критерии классификации потребностей, но поскольку речь идет об экономическом субъекте (человеке и хозяйственной деятельности), то его личные потребности подразделяются на </a:t>
            </a:r>
            <a:r>
              <a:rPr b="0" i="1" lang="ru-RU" sz="2400" spc="-1" strike="noStrike">
                <a:solidFill>
                  <a:srgbClr val="660000"/>
                </a:solidFill>
                <a:latin typeface="Arial"/>
              </a:rPr>
              <a:t>потребности воспроизводства рабочей силы и потребности всестороннего развития лич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6480" y="6919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00"/>
                </a:solidFill>
                <a:latin typeface="Times New Roman"/>
              </a:rPr>
              <a:t>Потребности воспроизводства рабочей силы </a:t>
            </a: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отражают условия производственной деятельности человека.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 ним от нося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90000"/>
              <a:buFont typeface="Wingding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требности в пищ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90000"/>
              <a:buFont typeface="Wingding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ежд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90000"/>
              <a:buFont typeface="Wingding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лищ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90000"/>
              <a:buFont typeface="Wingding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анспорт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90000"/>
              <a:buFont typeface="Wingding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хранении здоровь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90000"/>
              <a:buFont typeface="Wingding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и профессионального образован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90000"/>
              <a:buFont typeface="Wingding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формации и т.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го, насколько полно удовлетворяется эта группа потребностей, зависит эффективность труда работника, его настроени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емление полнее удовлетворять свои потребности побуждает человека постоянно и качественно трудиться, повышать свою квалификац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Другая группа - </a:t>
            </a:r>
            <a:r>
              <a:rPr b="1" i="1" lang="ru-RU" sz="2400" spc="-1" strike="noStrike">
                <a:solidFill>
                  <a:srgbClr val="420000"/>
                </a:solidFill>
                <a:latin typeface="Times New Roman"/>
              </a:rPr>
              <a:t>потребности всестороннего развития личности</a:t>
            </a: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 - намного сложнее и многограннее, поскольку отражает все условия жизнедеятельности человека в обществе.</a:t>
            </a: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496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потребности социально активной личности, они включают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требности в физическом и духовном совершенствовани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ворческой деятельност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льтурном и эстетическом воспитании и т.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довлетворение потребности всестороннего развития личности делает человека более утонченным и возвышенным, предполагает потребление особых благ и услуг (музыкальные инструменты; изучение художественной литературы, правил хорошего тона; занятия спортом, музыкой, живописью и т.п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81360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Развитие и формирование потребностей человека - это процесс объективный, определяющийся действием всеобщего экономического закона возвышения потребностей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68000" y="3765240"/>
            <a:ext cx="8280360" cy="24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о воздействует на процесс формирования потребностей через свою социально-экономическую политику: обязательное бесплатное среднее образование; специальное высшее образование; страховая медицина; пропаганда здорового образа жизни; рациональное питание; контроль качества товаров и услуг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Поведение потребителя в рыночной экономике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9647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меры, структура и динамика спроса потребителя в условиях ограниченного бюджета в микроэкономике исследуется теорией потребительского поведения, основанной н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маржинализм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е </a:t>
            </a:r>
            <a:r>
              <a:rPr b="1" i="1" lang="ru-RU" sz="2800" spc="-1" strike="noStrike">
                <a:solidFill>
                  <a:srgbClr val="333300"/>
                </a:solidFill>
                <a:latin typeface="Times New Roman"/>
              </a:rPr>
              <a:t>исходными принципа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является признани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333300"/>
              </a:buClr>
              <a:buSzPct val="11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-первых, экономического суверенитета потребителя (то есть возможности влиять на предложение товаров через спрос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333300"/>
              </a:buClr>
              <a:buSzPct val="11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-вторых, рациональности поведения потребителя, если он получает максимум полезности при ограниченном доход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280" y="1371240"/>
            <a:ext cx="8209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20000"/>
                </a:solidFill>
                <a:latin typeface="Times New Roman"/>
              </a:rPr>
              <a:t>Значительная роль в выборе товаров и способов удовлетворения потребностей принадлежит человеку: что купить и в каком количестве - решает потребитель, именно он определяет объем и структуру потребления.</a:t>
            </a:r>
            <a:br>
              <a:rPr sz="2600"/>
            </a:br>
            <a:r>
              <a:rPr b="0" lang="ru-RU" sz="2600" spc="-1" strike="noStrike">
                <a:solidFill>
                  <a:srgbClr val="420000"/>
                </a:solidFill>
                <a:latin typeface="Times New Roman"/>
              </a:rPr>
              <a:t>Как должен вести себя потребитель на рынке, чему отдать предпочтение?</a:t>
            </a:r>
            <a:endParaRPr b="0" lang="en-US" sz="2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требительское повед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это процесс формирования спроса потребителей на разнообразные товары и услуги с учетом их дохода и личных предпочт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15:10:30Z</dcterms:created>
  <dc:creator>снежинка</dc:creator>
  <dc:description/>
  <dc:language>en-US</dc:language>
  <cp:lastModifiedBy>Admin</cp:lastModifiedBy>
  <dcterms:modified xsi:type="dcterms:W3CDTF">2016-10-19T21:24:14Z</dcterms:modified>
  <cp:revision>10</cp:revision>
  <dc:subject/>
  <dc:title>Тема 5</dc:title>
</cp:coreProperties>
</file>