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E3C-F4C1-432B-B058-7ADC69ED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BC2-D65A-4211-98EE-0E8CC36D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F21-2BC1-46CD-AB6D-95EFB145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877-4300-47A7-A206-02CEB698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FB13-D406-48C5-9493-838CAA0C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2481-3280-44FC-9572-2E708928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E963-7A50-4440-A543-0A97780E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4715-003E-496B-8563-7CEFE660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6914-0A24-4B1E-8B66-4E6B899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F3F-6F20-4426-BB1E-D3D647F9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9D49-2D49-4960-A9D9-E4A41D7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2BF-99A0-4C26-B919-D52A9036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7D7E-2133-43F2-AF05-646B83D1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94F3-237D-4167-B32C-79F9C38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E12F-80D7-47A0-B25C-5B880CDF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0C49-2E75-42C6-BB5C-1DF9A163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8403-7A58-41B5-A4B8-A9D68336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423-C1B3-4969-B591-BE69F26B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D36-0D3A-47A3-A433-6EAEFEC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B37-2DB6-4703-BD66-4A4127C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21B-A186-414E-9FBC-4879D913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DAB-18FB-483E-A8F1-8FC15BC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55A-A37F-4C39-8D30-5B3EC88C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D80-AE58-4A04-A59C-6E2F1C5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8E03-0CD5-4E9F-8D5C-1148308E12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" name="Picture 13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1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Picture 15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FF6-2180-4060-A383-20B3F7857CE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Тема 7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3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ы теории потребительского повед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8209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На рынке потребитель сталкивается с бесчисленным количеством товаров и услуг, из которых он должен сформировать свою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"потребительскую корзину",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т.е. набор товаров, который обладает для него определенной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полезностью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9866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ребительская корзи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ор товаров и услуг, обеспечивающий жизнедеятельность человека и характеризующий типичный уровень и структуру месячного (годового) потребления человека или семьи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звестно, что различают </a:t>
            </a:r>
            <a:br>
              <a:rPr sz="4000"/>
            </a:br>
            <a:r>
              <a:rPr b="0" i="1" lang="ru-RU" sz="4000" spc="-1" strike="noStrike">
                <a:solidFill>
                  <a:srgbClr val="420000"/>
                </a:solidFill>
                <a:latin typeface="Times New Roman"/>
              </a:rPr>
              <a:t>общую и предельную полезность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Times New Roman"/>
              </a:rPr>
              <a:t>Общая полез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удовлетворение, которое получают от потребления определенного набора единиц тов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Times New Roman"/>
              </a:rPr>
              <a:t>Предельной полез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полезность, равную приращению, увеличению общей полезности в результате приобретения дополнительной единицы данного тов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ельная полезность отражает степень настоятельности потребности. Снижение предельной полезности связано с уменьшением субъективной оценки потребителем единицы товара, когда возрастает количество приобретенных единиц этого бла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дение предельной полезности по мере приобретения потребителем дополнительных единиц определенного товара известно под названием </a:t>
            </a:r>
            <a:r>
              <a:rPr b="1" i="1" lang="ru-RU" sz="2400" spc="-1" strike="noStrike">
                <a:solidFill>
                  <a:srgbClr val="660000"/>
                </a:solidFill>
                <a:latin typeface="Times New Roman"/>
              </a:rPr>
              <a:t>закона убывающей предельной полезности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Times New Roman"/>
              </a:rPr>
              <a:t>Полезность</a:t>
            </a:r>
            <a:r>
              <a:rPr b="0" lang="ru-RU" sz="3000" spc="-1" strike="noStrike">
                <a:solidFill>
                  <a:srgbClr val="420000"/>
                </a:solidFill>
                <a:latin typeface="Times New Roman"/>
              </a:rPr>
              <a:t> - понятие субъективное, поэтому оно не поддается точному количественному измерению.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Кардиналис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ытаясь вычислить предельную полезность, вводят условную единицу - ютиль, с помощью которой определяют степень удовлетворения потребност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англ, полезность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ую полезность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го количества продукта определяют путем суммирования показателей предельной полез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U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/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86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Если каждая последующая единица товара обладает все меньшей и меньшей предельной, или добавочной, полезностью, то потребитель станет покупать дополнительные единицы товара лишь при условии снижения их цены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9640" y="3573000"/>
            <a:ext cx="813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00"/>
                </a:solidFill>
                <a:latin typeface="Arial"/>
              </a:rPr>
              <a:t>Закон убывающей предельной полезност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позволяет обосновать </a:t>
            </a:r>
            <a:r>
              <a:rPr b="1" lang="ru-RU" sz="2500" spc="-1" strike="noStrike">
                <a:solidFill>
                  <a:srgbClr val="660000"/>
                </a:solidFill>
                <a:latin typeface="Arial"/>
              </a:rPr>
              <a:t>закон падающего спрос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нисходящую кривую спроса), а также объяснить, как следует покупателю распределить свой денежный доход между различными товарами и услугами, которые он может купить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отребитель - разумный человек, который пытается так распорядиться своим денежным доходом, чтобы получить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максимальную совокупную полезность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ому потребитель должен выбирать между различными товарами, чтобы при ограниченном денежном доходе получить в свое распоряжение наиболее предпочтительный, с его точки зрения, набор товаров и услу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ыми словами, покупатель будет предъявлять спрос до тех пор, пока предельная полезность в расчете на одну денежную единицу, потраченную на данный товар, не станет равной предельной полезности на денежную единицу, израсходованную на другой това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Правило потребительского поведения состоит в том, чтобы каждая последняя единица денежных затрат на приобретение товара приносила одинаковую, т.е.добавочную, полезность.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9" name="Picture 4" descr="for9-1"/>
          <p:cNvPicPr/>
          <p:nvPr/>
        </p:nvPicPr>
        <p:blipFill>
          <a:blip r:embed="rId1"/>
          <a:stretch/>
        </p:blipFill>
        <p:spPr>
          <a:xfrm>
            <a:off x="395280" y="2349360"/>
            <a:ext cx="842472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or9-2"/>
          <p:cNvPicPr/>
          <p:nvPr/>
        </p:nvPicPr>
        <p:blipFill>
          <a:blip r:embed="rId2"/>
          <a:stretch/>
        </p:blipFill>
        <p:spPr>
          <a:xfrm>
            <a:off x="468360" y="4076640"/>
            <a:ext cx="8351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86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Сторонники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рдиналистского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подхода утверждают, что полезность невозможно измерить количественно, но на основе предпочтений можно выявить </a:t>
            </a: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порядковую полезность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, то есть описать поведение потребителя путем ранжирования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5280" y="371628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цепция кривых безразличия разработана итальянским ученым В. Парето в начале XX в., затем в 1939 г. английский ученый Д.Р.Хикс углубил е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основе данного метода лежит геометрическое совмещение двух типов кривых - так называемой </a:t>
            </a:r>
            <a:r>
              <a:rPr b="1" lang="ru-RU" sz="2600" spc="-1" strike="noStrike">
                <a:solidFill>
                  <a:srgbClr val="333300"/>
                </a:solidFill>
                <a:latin typeface="Arial"/>
              </a:rPr>
              <a:t>бюджетной линии и кривых безразлич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юджетная линия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показывает различные комбинации двух продуктов, которые могут быть приобретены при фиксированной величине денежного дохода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Л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иния бюджетного огранич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роме того дает информацию о наиболее выгодном наборе продуктов для потребителя, её уравнение можно записа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Y=P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+P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 – доход потребител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, P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 – цена товаров А и Б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, Q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 – количество товаров А и 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ие бюджетной линии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ы денежного дохо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я цен на това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денежного дохода при условии, что цены на товары остаются неизменными, приводит к параллельному смещению бюджетной линии вле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енно увеличение денежного дохода приводит к смещению бюджетной линии впра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Наклон бюджетной линии зависит от отношения цены товара </a:t>
            </a: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(P</a:t>
            </a:r>
            <a:r>
              <a:rPr b="1" i="1" lang="en-US" sz="3200" spc="-1" strike="noStrike" baseline="-25000">
                <a:solidFill>
                  <a:srgbClr val="42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к цене товара 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A(P</a:t>
            </a:r>
            <a:r>
              <a:rPr b="1" i="1" lang="en-US" sz="3200" spc="-1" strike="noStrike" baseline="-25000">
                <a:solidFill>
                  <a:srgbClr val="42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8" name="Picture 4" descr="ris15"/>
          <p:cNvPicPr/>
          <p:nvPr/>
        </p:nvPicPr>
        <p:blipFill>
          <a:blip r:embed="rId1"/>
          <a:stretch/>
        </p:blipFill>
        <p:spPr>
          <a:xfrm>
            <a:off x="826920" y="2060640"/>
            <a:ext cx="619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лан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862280"/>
            <a:ext cx="871380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«потребитель», материальные, духовные, социальные потребности потребителя. Функция полезности. Понятие «потребительская корзина». Закон возвышения потребност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я «общая полезность», «предельная полезность». Закон убывающей предельной полезности. Правило потребительского повед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яснения поведения потребителя с помощью кривых безразличия. Карта кривых безразличия. Бюджетная линия. Условия равновесия потребителя. Кривые Энгел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9138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Графическое изображение различных комбинаций двух экономических благ, имеющих одинаковую полезность для потребителя, называется</a:t>
            </a:r>
            <a:r>
              <a:rPr b="0" i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кривой безразличия</a:t>
            </a:r>
            <a:r>
              <a:rPr b="0" i="1" lang="ru-RU" sz="3200" spc="-1" strike="noStrike">
                <a:solidFill>
                  <a:srgbClr val="333300"/>
                </a:solidFill>
                <a:latin typeface="Times New Roman"/>
              </a:rPr>
              <a:t> (U)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716280"/>
            <a:ext cx="84247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жество кривых безразличия одного потребителя образуют </a:t>
            </a: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карту безразличия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этом чем правее и выше расположена кривая безразличия, тем большее удовлетворение приносят представленные ею комбинации двух бла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рафик кривой безразлич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828440"/>
            <a:ext cx="4316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почтения потребителя таковы, что он удовлетворяет одинаковую совокупную потребность в продуктах А и В при любой их комбинации, показанной на рису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, потребителю безразлично, какую именно комбинацию продуктов он действительно приобрет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" descr="ris16"/>
          <p:cNvPicPr/>
          <p:nvPr/>
        </p:nvPicPr>
        <p:blipFill>
          <a:blip r:embed="rId1"/>
          <a:stretch/>
        </p:blipFill>
        <p:spPr>
          <a:xfrm>
            <a:off x="4932360" y="191628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При рассмотрении поведения покупателя с помощью кривых безразличия возникает вопрос: от какого количества одного товара готов отказаться потребитель, чтобы приобрести дополнительную единицу другого товара.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 на этот вопрос даёт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(МRS)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торая показывает, в какой степени (в пределе) потребитель готов заменить один товар другим (товар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вар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так, чтобы получить при этом то же удовлетворение полез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ьшающийся наклон кривой безразличия отражает правило уменьшающейся предельной нормы замещения, суть которого в том, что чем меньше единиц товар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меет потребитель, тем труднее ему отказаться от большего количества единиц товар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чтобы компенсировать потерю товар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арта кривых безразлич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4392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иметь представление о вкусах конкретного покупателя, изображают целую серию кривых безразличия, котора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й кривых безразлич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оказывает норму замещения двух товаров при любых уровнях потребления этих тов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ris17"/>
          <p:cNvPicPr/>
          <p:nvPr/>
        </p:nvPicPr>
        <p:blipFill>
          <a:blip r:embed="rId1"/>
          <a:stretch/>
        </p:blipFill>
        <p:spPr>
          <a:xfrm>
            <a:off x="4788000" y="1844640"/>
            <a:ext cx="410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ксимизация полезности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4537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бинация, максимизирующая полезность потребителя, или равновесная комбинация продукт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ажется в точке X, в которой бюджетная линия касается криво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достигается, когда отношения предельных полезностей отдельных товаров к их ценам равн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1:P1=MU2:P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ris18"/>
          <p:cNvPicPr/>
          <p:nvPr/>
        </p:nvPicPr>
        <p:blipFill>
          <a:blip r:embed="rId1"/>
          <a:stretch/>
        </p:blipFill>
        <p:spPr>
          <a:xfrm>
            <a:off x="4643280" y="1773360"/>
            <a:ext cx="42498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Факторы потребительского выбо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общими принципами выбора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ционального потребительского выб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ществуют особенности, которые определяются влиянием на него рыночного спроса, а также вкусов и предпочтений. Эти факторы обуславливают функциональный или нефункциональный характер спр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ь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рос на товар, обусловленный качествами тов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функциональ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рос, обусловленный факторами, не связанный с самим товар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Особое значение при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функциональном спросе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имеют случаи взаимного влияния рыночного и индивидуального спрос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2162160"/>
            <a:ext cx="87138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ффект присоеди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большинст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требитель покупает то же, что и другие потребите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ффект сноб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ремление выделиться из тол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ффект Вебл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естижное или демонстративное потребл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ьный и нефункциональный спрос</a:t>
            </a:r>
            <a:r>
              <a:rPr b="0" lang="ru-RU" sz="26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в экономической теории часто соотносят с нормальным и аномальным поведением потребителя.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9647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рмальное поведение потреб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ывается законом спроса. Иными словами, при растущей цене на определенный продукт его потребление, как правило, будет уменьшаться. При падении цены потребитель будет покупать товары в большем количе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омальное поведение потреб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ает то, что поведение потребителя непредсказуемо, он реагирует на процессы рынка совершенно иначе, чем большинство его агентов. Этим, в частности, можно объяснить стремление покупать недвижимость даже при растущих ценах в условиях инфля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отребитель появляется на рынке с целью приобрести товары, необходимые для удовлетворения его многочисленных потребностей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яснить, почему потребитель приобретает какой-то определенный набор товаров и услуг, а не любой другой, который можно было бы составить из имеющихся на рынке товаров, нам предстоит выясни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420000"/>
              </a:buClr>
              <a:buSzPct val="70000"/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потребности, какие именно потребности необходимо удовлетвори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420000"/>
              </a:buClr>
              <a:buSzPct val="70000"/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это сделать рационально, т.е. на имеющийся денежный доход получить максимальную полез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420000"/>
              </a:buClr>
              <a:buSzPct val="70000"/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факторы определяют поведение потребителя на рынке, т. е. формируют его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Потребности 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- это объективная нужда в чем-либо, необходимом для обеспечения жизнедеятельности человека, развития его личности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3765600"/>
            <a:ext cx="769608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кономической науке существуют различные критерии классификации потребностей, но поскольку речь идет об экономическом субъекте (человеке и хозяйственной деятельности), то его личные потребности подразделяются на </a:t>
            </a:r>
            <a:r>
              <a:rPr b="0" i="1" lang="ru-RU" sz="2400" spc="-1" strike="noStrike">
                <a:solidFill>
                  <a:srgbClr val="660000"/>
                </a:solidFill>
                <a:latin typeface="Arial"/>
              </a:rPr>
              <a:t>потребности воспроизводства рабочей силы и потребности всестороннего развития лич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6480" y="691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Times New Roman"/>
              </a:rPr>
              <a:t>Потребности воспроизводства рабочей силы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отражают условия производственной деятельности человека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 ним от нося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ности в пищ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еж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ищ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и здоровь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и профессионального образ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и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го, насколько полно удовлетворяется эта группа потребностей, зависит эффективность труда работника, его настро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полнее удовлетворять свои потребности побуждает человека постоянно и качественно трудиться, повышать свою квалифик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Другая группа - </a:t>
            </a:r>
            <a:r>
              <a:rPr b="1" i="1" lang="ru-RU" sz="2400" spc="-1" strike="noStrike">
                <a:solidFill>
                  <a:srgbClr val="420000"/>
                </a:solidFill>
                <a:latin typeface="Times New Roman"/>
              </a:rPr>
              <a:t>потребности всестороннего развития личности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- намного сложнее и многограннее, поскольку отражает все условия жизнедеятельности человека в обществе.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6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потребности социально активной личности, они включаю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ности в физическом и духовном совершенствован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ворческой деятельност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ьтурном и эстетическом воспитании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овлетворение потребности всестороннего развития личности делает человека более утонченным и возвышенным, предполагает потребление особых благ и услуг (музыкальные инструменты; изучение художественной литературы, правил хорошего тона; занятия спортом, музыкой, живописью и т.п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136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Развитие и формирование потребностей человека - это процесс объективный, определяющийся действием всеобщего экономического закона возвышения потребностей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3765240"/>
            <a:ext cx="828036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воздействует на процесс формирования потребностей через свою социально-экономическую политику: обязательное бесплатное среднее образование; специальное высшее образование; страховая медицина; пропаганда здорового образа жизни; рациональное питание; контроль качества товаров и услуг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Поведение потребителя в рыночной экономике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меры, структура и динамика спроса потребителя в условиях ограниченного бюджета в микроэкономике исследуется теорией потребительского поведения, основанной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ржинализ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е 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исходными принцип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ризна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333300"/>
              </a:buClr>
              <a:buSzPct val="11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-первых, экономического суверенитета потребителя (то есть возможности влиять на предложение товаров через спрос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333300"/>
              </a:buClr>
              <a:buSzPct val="11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-вторых, рациональности поведения потребителя, если он получает максимум полезности при ограниченном дох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371240"/>
            <a:ext cx="8209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20000"/>
                </a:solidFill>
                <a:latin typeface="Times New Roman"/>
              </a:rPr>
              <a:t>Значительная роль в выборе товаров и способов удовлетворения потребностей принадлежит человеку: что купить и в каком количестве - решает потребитель, именно он определяет объем и структуру потребления.</a:t>
            </a:r>
            <a:br>
              <a:rPr sz="2600"/>
            </a:br>
            <a:r>
              <a:rPr b="0" lang="ru-RU" sz="2600" spc="-1" strike="noStrike">
                <a:solidFill>
                  <a:srgbClr val="420000"/>
                </a:solidFill>
                <a:latin typeface="Times New Roman"/>
              </a:rPr>
              <a:t>Как должен вести себя потребитель на рынке, чему отдать предпочтение?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ребительск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процесс формирования спроса потребителей на разнообразные товары и услуги с учетом их дохода и личных предпочт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10:30Z</dcterms:created>
  <dc:creator>снежинка</dc:creator>
  <dc:description/>
  <dc:language>en-US</dc:language>
  <cp:lastModifiedBy>Admin</cp:lastModifiedBy>
  <dcterms:modified xsi:type="dcterms:W3CDTF">2016-10-19T21:24:14Z</dcterms:modified>
  <cp:revision>10</cp:revision>
  <dc:subject/>
  <dc:title>Тема 5</dc:title>
</cp:coreProperties>
</file>