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65BD-EACB-471A-A814-21C36D4E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3AA9F-300B-4A9E-A561-DDC0994DA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79E9-B7A1-42DE-B412-595890942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8B78E-ED7C-4615-8F8A-03528495D1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01E3-74A1-4A28-8740-4BAC4C87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69B24-1059-4EE1-BB22-37721FFED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4789-2B45-4B47-8F1C-6FA9009A6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4EE41-F518-46D9-ABDF-1EC12B840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C6693-73F9-4899-A10A-95C70CB79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AF4C2-5EC3-409C-99C8-8F30132C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6661-7E2A-4FA7-B35F-51CAB574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6AD24-E993-4F36-80E0-44FE565DD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F1E94-026E-4A1E-92B9-FA366C02D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8E2F3-BB6E-4427-B084-144C97FD2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1E82-83FE-45BD-9A84-E6C13105E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BBC8E-17EE-4A76-B0FC-C7794E735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21E37-4E27-44C7-B2D8-4DE10B6AC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75456D-B4B3-4BC3-9131-0880292F2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B1808E-4868-42B4-8183-EF996588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F634B5-70AF-4139-8BEC-323C6E130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969C63-AFA2-40F2-90A9-630A3936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87AF6FE-EEAA-4403-877A-7EEEED359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32CB-F952-4473-B1F1-10E1A5D58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D5F993-F19C-4FA4-992A-E34A1A7A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234021B-7F21-4D3B-AC1A-A20D0F45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98C2F0-FF51-4860-A91B-0FD21B08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56E951-2B6B-432A-AFE5-BC55B45B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44273C-4721-41B5-8E85-A67C5BDC2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C0C0EA-64BD-4A2E-93B7-C559A161E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1C70C9-D586-4C83-A5E4-3DB5EDF300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26496A-2E2D-4734-BC05-4964BFE649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EFA72F-417A-44FA-9792-80891307E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51788-A412-4E16-B381-DAEDE632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E3875-24C7-4D06-9A61-B57BE596B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A8E1C2-A34E-4FA2-8E2E-C15224912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9B2CCE-547C-46EA-B798-6104E6020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F6637C-006B-47EA-9A0C-2A4070BD1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6A0D9-9799-490C-80DB-EE6E4F60E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6278B0-AD50-4C25-AD27-57507785B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6DB44E-2804-4140-A12A-5A63AE50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E1AFA-2114-484D-AFE7-EB0F0D50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D1731-DE9E-4A73-82E5-4426E1F2F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5A8D5B-1518-47AA-8952-C46807171B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02A235-07AB-47CE-98DA-98297F65E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6CB58-982E-44C3-A9AA-E8AB199DB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8C3DD0-8A0C-49C3-B04E-14A22BC5D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AF17009-2DAB-4CEF-B6B0-2079D424C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A9F11BE-389E-45F8-B2E4-5C9D640B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E54962-483E-4FF0-AFE9-EB4308D8C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6AA34F-CA7F-48B8-B08D-39E779F5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B29FD2D-B736-471B-AFA4-20CB962EC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337DA2-8452-4FA2-8000-6EC42DC33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EA7DB8-9E5D-4F0A-8D77-FFDEC057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9C3507-8F12-48A5-915F-3C039423A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3BACFA-2556-4F01-80AF-D374DEDE7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8D7E-7FA9-4486-BECD-2D9A9EA6B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473119-B811-4BA2-BE28-D27E889D6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2309DB-2682-4866-81B7-9F0C19A82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B7D1CE-1CDE-403D-BC8A-F3352DD11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413287-38C3-43E5-99C2-14AE748EC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A6CC394-BBB5-423E-AD54-54906AD18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5FED74-FC4C-4E90-BC50-71B1668B7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8B1291-033C-4437-AB84-C48B6523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ACB16C4-0B4C-4DA5-BE5C-55E17288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A6064E-885A-4982-9980-85CE1EADA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39943F-9350-4439-849B-67FB407F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7060B-E61A-4C62-ACCB-5E77FA08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E97A26-5AA7-4DB8-BE19-103AC54C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419E0A-6658-4751-B04E-5F6C821CB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8F582A4-F1C2-48AE-A49C-A1C62ECF21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8D4286-88B0-425E-935C-06F6D2B76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0EDA46-7F3A-45C2-A193-BE0B1AC6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3404C0-3FA5-4970-9AE2-EFF0EFD9B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436B9E0-4953-4A71-A07B-73C16F7F8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AF0546-573C-45B3-977D-A8FCFAB4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3B547C-D4A8-4EB0-B05D-1F088910D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A610D1-E47C-4B30-9B34-64BCDA24C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D6D8D-43C6-4243-8CD2-6C2A4558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50EF721-020E-4349-9B86-2AF0C67CF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8D31D96-7D6E-43B4-BFB0-6A17DBE28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73496FD-95C3-4006-8403-C11CC0A7A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F62591-A82A-4B15-B540-23887E864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F150EE-A047-4868-A024-B8D8CB557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D032-30F7-4776-9C30-EB303D44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D2DF-3866-4190-A3A1-DE9C943910C6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C7F39-9D3D-427A-8FBC-BC5FAFA17D3E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C809-7191-4DCE-B3DA-20B9E1958002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39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39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6F2BA-2117-479A-9A2A-990004A57600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B651C-D3BE-4DE8-87CF-56C9AE6146A4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3E3C-2C14-4BEC-A940-222478373755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92D53-407B-4C96-ADA6-FD358F9DBCDF}" type="slidenum">
              <a:rPr b="1" lang="ru-RU" sz="1400" spc="-1" strike="noStrike">
                <a:solidFill>
                  <a:srgbClr val="ffffff"/>
                </a:solidFill>
                <a:latin typeface="Century Schoolboo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2285640" y="3123720"/>
            <a:ext cx="6172200" cy="189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ОСНОВЫ СУБД </a:t>
            </a:r>
            <a:r>
              <a:rPr b="1" lang="en-US" sz="3000" spc="-1" strike="noStrike">
                <a:solidFill>
                  <a:srgbClr val="575f6d"/>
                </a:solidFill>
                <a:latin typeface="Century Schoolbook"/>
              </a:rPr>
              <a:t>ORAC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2285640" y="5003640"/>
            <a:ext cx="617220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Лекция №1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Введение. Цели и задачи. Краткая история развития СУБД </a:t>
            </a:r>
            <a:r>
              <a:rPr b="1" lang="en-US" sz="1700" spc="-1" strike="noStrike">
                <a:solidFill>
                  <a:srgbClr val="575f6d"/>
                </a:solidFill>
                <a:latin typeface="Century Schoolbook"/>
              </a:rPr>
              <a:t>ORACLE</a:t>
            </a: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. Основные понятия и определения СУБД </a:t>
            </a:r>
            <a:r>
              <a:rPr b="1" lang="en-US" sz="1700" spc="-1" strike="noStrike">
                <a:solidFill>
                  <a:srgbClr val="575f6d"/>
                </a:solidFill>
                <a:latin typeface="Century Schoolbook"/>
              </a:rPr>
              <a:t>ORACLE</a:t>
            </a:r>
            <a:r>
              <a:rPr b="1" lang="ru-RU" sz="1700" spc="-1" strike="noStrike">
                <a:solidFill>
                  <a:srgbClr val="575f6d"/>
                </a:solidFill>
                <a:latin typeface="Century Schoolbook"/>
              </a:rPr>
              <a:t>. Архитектура </a:t>
            </a:r>
            <a:r>
              <a:rPr b="1" lang="en-US" sz="1700" spc="-1" strike="noStrike">
                <a:solidFill>
                  <a:srgbClr val="575f6d"/>
                </a:solidFill>
                <a:latin typeface="Century Schoolbook"/>
              </a:rPr>
              <a:t>ORACLE</a:t>
            </a:r>
            <a:endParaRPr b="0" lang="en-US" sz="17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ФАЙЛЫ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RAC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йлы данных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бственно данные (в этих файлах хранятся таблицы, индексы и все остальные сегменты)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йлы журнала повторного выполнения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Журналы транзакций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яющие файлы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пределяют местонахождение файлов данных и содержат другую необходимую информацию о состоянии базы данных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ые файлы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ользуются при сортировке больших объемов данных и для хранения временных объектов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йлы паролей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спользуются для аутентификации пользователей, выполняющих администрирование удаленно, по сети. Мы не будем их подробно рассматривать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ФАЙЛЫ ДАННЫХ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ждое табличное пространство состоит из одного или нескольких дисковых файлов, называемых файлами данных. Файл данных может принадлежать одному и только одному табличному пространству. После создания файлов их размеры можно изменять. При создании новых табличных пространств необходимо созда­вать и новые файлы данных. После добавления файла данных к табличному пространству его уже нельзя удалить или связать с другим табличным пространством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ли объекты базы данных сохраняются в нескольких табличных пространствах, можно разделить их на физическом уровне, разместив соответствующие файлы данных на различных дисках. Разделение данных представляет собой важный инструмент планирования и настройки того способа, с помощью которого база данных работает с запросами ввода/вывода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900" spc="-1" strike="noStrike">
                <a:solidFill>
                  <a:srgbClr val="575f6d"/>
                </a:solidFill>
                <a:latin typeface="Century Schoolbook"/>
              </a:rPr>
              <a:t>СВЯЗЬ МЕЖДУ ТАБЛИЧНЫМИ ПРОСТРАНСТВАМИ БД И ФАЙЛАМИ ДАННЫХ</a:t>
            </a:r>
            <a:endParaRPr b="0" lang="en-US" sz="29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1"/>
          <a:stretch/>
        </p:blipFill>
        <p:spPr>
          <a:xfrm>
            <a:off x="754200" y="1700280"/>
            <a:ext cx="7635600" cy="46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ЖУРНАЛЫ ПОВТОР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cle поддерживает журналы всех транзакций в базе данных. Транзакции записываются в файлы, называемые файлами оперативных журналов повтора. Эти фай­лы используются для восстановления транзакций базы данных в надлежащем порядке в случае сбоя БД. Сохранение информации журналов повтора является внешним по отношению к файлам данных базы данных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йлы журналов повтора также предоставляют потоку Oracle способ записи данных на диск. Когда в базе данных выполняется транзакция, она заносится в буферы журнала повторов, а измененные во время транзакции блоки данных не записываются сразу на диск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базы данных Oracle будут иметь не менее трех файлов журнала повторов. В Oracle запись в файлы журнала повторов производится циклически: после за­полнения первого файла идет запись во второй файл, пока он не будет заполнен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УПРАВЛЯЮЩИЕ ФАЙЛ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ая архитектура базы данных в целом поддерживается ее управляющими файлами. Эти файлы записывают управляющую информацию обо всех файлах базы данных, поддерживают внутреннюю целостность и руководят операциями         восстановления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кольку управляющие файлы имеют огромное значение для базы данных, производится оперативное создание нескольких копий. Эти файлы обычно сохраняются на разных дисках, чтобы свести к минимуму их возможное повреждение при сбое диска. База данных будет создавать и поддерживать управляющие файлы, заданные при ее создани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entury Schoolbook"/>
              </a:rPr>
              <a:t>ВРЕМЕННЫЕ ФАЙЛ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енные файлы данных в Oracle — это специальный тип файлов данных. Сервер Oracle использует временные файлы для хранения промежуточных результатов сортировки большого объема данных или результирующих множеств, если для них не хватает оперативной памят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оянные объекты данных, такие как таблицы или индексы, во временных файлах никогда не хранятся, в отличие от содержимого временных таблиц и построенных по ним индексов. Так что создать таблицы приложения во временном файле данных нельзя, а вот хранить в нем данные можно, если использовать временную таблицу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ТРУКТУРЫ ПАМЯТИ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System Global Area — глобальная область системы. Это большой совместно используемый сегмент памяти, к которому обращаются все процессы Oracle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Process Global Area — глобальная область процесса. Это приватная область памяти процесса или потока, недоступная другим процессам/потокам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G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User Global Area — глобальная область пользователя. Это область памяти, связанная с сеансом. Глобальная область памяти может находиться в SGA либо в PGA. Если сервер работает в режиме MTS, она располагается в области SGA, если в режиме выделенного сервера, — в области PGA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УЛЫ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SGA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86" name="Picture 2" descr=""/>
          <p:cNvPicPr/>
          <p:nvPr/>
        </p:nvPicPr>
        <p:blipFill>
          <a:blip r:embed="rId1"/>
          <a:stretch/>
        </p:blipFill>
        <p:spPr>
          <a:xfrm>
            <a:off x="485640" y="2060640"/>
            <a:ext cx="7559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ФИЗИЧЕСКИЕ ПРОЦЕСС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В экземпляре Oracle есть три класса процессов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Серверные процессы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ни выполняют запросы клиентов. Мы уже затрагивали тему выделенных и разделяемых серверов. И те, и другие относятся к серверным процессам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Фоновые процессы.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 Это процессы, которые начинают выполняться при запуске экземпляра и решают различные задачи поддержки базы данных, такие как запись блоков на диск, поддержка активного журнала повторного выполнения, удаление прекративших работу процессов и т.д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53440" indent="-25344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entury Schoolbook"/>
              </a:rPr>
              <a:t>Подчиненные процессы. </a:t>
            </a:r>
            <a:r>
              <a:rPr b="0" lang="ru-RU" sz="2000" spc="-1" strike="noStrike">
                <a:solidFill>
                  <a:srgbClr val="000000"/>
                </a:solidFill>
                <a:latin typeface="Century Schoolbook"/>
              </a:rPr>
              <a:t>Они подобны фоновым процессам, но выполняют, корме того, действия от имени фонового или серверного процесса. Мы рассмотрим все эти процессы и постараемся выяснить, какую роль они играют в экземпляре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СЕРВЕРНЫЕ ПРОЦЕСС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деленные и разделяемые серверы решают одну и ту же задачу: обрабатывают передаваемые им SQL-операторы. При получении запроса SELECT * FROM EMP именно выделенный/разделяемый сервер Oracle будет разбирать его и помещать в разделяемый пул (или находить соответствующий запрос в разделяемом пуле). Именно этот процесс создает план выполнения запроса. Этот процесс реализует план запроса, находя необходимые данные в буферном кэше или считывая данные в буферный кэш с диска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кие серверные процессы можно назвать "рабочими лошадками" СУБД. Часто именно они потребляют основную часть процессорного времени в системе, поскольку выполняют сортировку, суммирование, соединения – в общем, почти все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ВЕДЕНИЕ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в современном мире электронных технологий практически невозможно представить компанию (фирму или организацию), в которой не требуется обработка некоторого объёма информации. Информацию требуется, где–то хранить. Информация может динамически изменяться. Регулярно требуется выборка данных по определённым критериям из всего массива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е Университета Южной Каролины установило, что общий объем сохраненных данных к 2007 году  составил 295 экзабайт (295 миллиардов гигабайтов). Согласно отчету компании IDC, объем информации по всему миру возрастает в 2 раза каждые 2 года и в этом году будет создано 1,8 зеттабайт данных – это несколько быстрее, чем предполагается в законе Мура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ФОНОВЫЕ ПРОЦЕСС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новые процессы выполняют рутинные задачи сопровождения, обеспечивающие работу СУБД. Есть, например, процесс, автоматически поддерживающий буферный кэш и при необходимости записывающий блоки данных на диск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два класса фоновых процессов: предназначенные исключительно для решения конкретных задач (как только что описанные) и решающие множество различных задач. Например, есть фоновый процесс, обеспечивающий работу внутренних очередей заданий в Oracle. Этот процесс контролирует очередь заданий и выполняет находящиеся в ней задания. Во многом он похож на выделенный сервер, но без подключения к клиенту. 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ФОНОВЫЕ ПРОЦЕСС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MO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монитор процессов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MO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монитор системы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восстановление распределенной базы данных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KPT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бработка контрольной точки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BW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запись блоков базы данных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GWR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запись журнала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C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архивирование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SP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ервер блоков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MO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нтроль блокировок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MD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демон диспетчера блокировок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CKn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блокирование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ВЗАИМОДЕЙСТВИЕ ФОНОВЫХ ПРОЦЕССОВ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6" name="Picture 2" descr=""/>
          <p:cNvPicPr/>
          <p:nvPr/>
        </p:nvPicPr>
        <p:blipFill>
          <a:blip r:embed="rId1"/>
          <a:stretch/>
        </p:blipFill>
        <p:spPr>
          <a:xfrm>
            <a:off x="880920" y="1628640"/>
            <a:ext cx="7382160" cy="48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ОДЧИНЕННЫЕ ПРОЦЕССЫ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pic>
        <p:nvPicPr>
          <p:cNvPr id="398" name="Содержимое 3" descr=""/>
          <p:cNvPicPr/>
          <p:nvPr/>
        </p:nvPicPr>
        <p:blipFill>
          <a:blip r:embed="rId1"/>
          <a:stretch/>
        </p:blipFill>
        <p:spPr>
          <a:xfrm>
            <a:off x="450720" y="1560600"/>
            <a:ext cx="7480440" cy="49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ОДЧИНЕННЫЕ ПРОЦЕССЫ ВВОДА/ВЫВОД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чиненные процессы ввода/вывода используются для эмуляции асинхронного ввода/вывода в системах или на устройствах, которые его не поддерживают. Например, ленточные устройства (чрезвычайно медленно работающие) не поддерживают асинхронный ввод/вывод. Используя подчиненные процессы ввода/вывода, можно сымитировать для ленточных устройств такой способ работы, который операционная система обычно обеспечивает для дисков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ПОДЧИНЕННЫЕ ПРОЦЕССЫ ПАРАЛЛЕЛЬНЫХ ЗАПРОСОВ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Oracle 7.1 появились средства распараллеливания запросов к базе данных. Речь идет о возможности создавать для SQL-операторов типа SELECT, CREATE TABLE, CREATE INDEX, UPDATE и т.д. план выполнения, состоящий из нескольких планов, которые можно выполнять одновременно. Результаты выполнения этих планов объединяются. Это позволяет выполнить операцию за меньшее время, чем при последовательном выполнении. Например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ЦЕЛЬ И ЗАДАЧИ КУРСА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данного курса состоит в формировании концептуальных представлений об основных принципах работы с СУБД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CLE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 разработке баз данных в СУБД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CLE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основных средствах и технологиях СУБД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CLE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озможностях процедурного языка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QL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также об основных приемах администрирования СУБД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CLE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ой задачей учебного курса является представление студентам фундаментальных понятий, лежащих в основе работы с СУБД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CLE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 иллюстрация способов реализации основных понятий о базах данных в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CLE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Отметим, что в данном учебном курсе не ставится задача детального изучения администрирования и разработки базы данных в СУБД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CLE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Полное описание СУБД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CLE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дминистрирование, приемы увеличения производительности и оптимизация должны рассматриваться в отдельных курсах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8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СТОРИЯ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RAC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7 – Ларри Эллисон, Боб Майнер и Эд Оутс основали компанию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Development Laboratories (SDL)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дшественницу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acle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79 – SDL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енила имя 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lational Software, Inc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RSI) и выпустила Oracle v2. Это была первая коммерческая система управления реляционными базами данных (СУРБД) на основе языка запросов SQL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2 – RSI вновь сменила своё имя и стала называться Oracle Systems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3 – выпущена версия Oracle 3, переписанная на C и поддерживающая функции COMMIT и ROLLBACK для реализации транзакций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4 – выпущена версия Oracle 4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5 – выпущена версия Oracle 5, одна из первых СУРБД, работающих в клиент–серверных средах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8 – выпущена версия Oracle 6, с поддержкой блокировок на уровне строк и средств «горячего» резервирования. Появляется поддержка встроенного языка PL/SQL в средстве разработки приложений Oracle Forms v3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ИСТОРИЯ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RAC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2 – выпущена версия Oracle 7, с поддержкой ссылочной целостности, хранимых процедур и триггеров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97 – выпущена версия Oracle 8 (8.0) Появляется поддержка средств объектно–ориентированной разработки и мультимедийных приложений; партиционирование таблиц. Oracle становится объектно–реляционной СУБД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1 –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пущена верс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acle 9i Release 1 (9.0.1)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верси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9i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являютс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едства обработк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ML–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кументов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я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acle RAC (Real Application Clusters),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заме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acle Parallel Server (OPS);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ханизм создания репликаций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acle Streams;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роллируемый курсор для программ н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С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+;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роенная в СУБД поддерж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LAP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ta Mining;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именование столбцов и ограничений целостност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ка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Java 1.3.1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Unicode 3.1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4 – выпущена версия Oracle 10g Release 1 (10.1.0); «g» в названии обозначает «Grid» («сеть»), символизируя поддержку распределенных вычислений (Grid–вычислений).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СНОВНЫЕ ПОНЯТ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за данных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набор данных. Oracle позволяет сохранять данные и получать к ним доступ в соответствии с моделью, называемой реляционной. В связи с этим Oracle называют системой управления реляционными базами данных (РСУБД). Чаще всего под базой данных подразумевают не только физические данные, но также и комбинацию физических объектов, объектов памяти и процессов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261720" indent="-26172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земпляром (или сервером) БД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ывается набор структур памяти и фоновых процессов, обращающихся к группе файлов базы данных. К одной базе данных могут обращаться несколько экземпляров (свойство Real Application Clusters). Экземпляр может смонтировать и открыть только одну базу данных в каждый момент времени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ОСНОВНЫЕ ПОНЯТИЯ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rtup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запуск)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процесс выполнения команды, необходимой для того, чтобы сделать базу данны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CL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оступной для приложений. После завершения процесса запуска, база данных становится в режи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Затем база данных готова к использованию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utdown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остановка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о процесс остановки базы данны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CL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Когда база данны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CL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остановлена никто не может получить доступ к информации и к файлам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cl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  <a:p>
            <a:pPr marL="264600" indent="-2646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ground process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фоновые процессы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эти процессы поддерживают доступ к запущенной базе данны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CL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играют жизненно важную роль в реализации работы базы данных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CLE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1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зличные фоновые процессы рождаются, когда база данных запущена и каждый из них производит небольшое количество заданий до момента остановки базы данных.</a:t>
            </a:r>
            <a:endParaRPr b="0" lang="en-US" sz="20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АРХИТЕКТУРА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RAC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йлы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дут рассмотрены пять видов файлов, образующих базу данных и поддерживающих экземпляр. Это файлы параметров, сообщений, данных, временных данных и журналов повторного выполнения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ы памят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в частности системная глобальная область (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Global Are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 Мы рассмотрим взаимодействие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G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G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Будут также рассмотрены входящие в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GA Java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пул, разделяемый пул и большой пул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  <a:p>
            <a:pPr marL="457200" indent="-45720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изические процессы или потоки.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Будут описаны три типа процессов, образующих экземпляр: серверные процессы, фоновые процессы и подчиненные процессы.</a:t>
            </a:r>
            <a:endParaRPr b="0" lang="en-US" sz="2200" spc="-1" strike="noStrike">
              <a:solidFill>
                <a:srgbClr val="000000"/>
              </a:solidFill>
              <a:latin typeface="Century School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</a:rPr>
              <a:t>АРХИТЕКТУРА </a:t>
            </a: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ORACLE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8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9" name="Object 1"/>
          <p:cNvGraphicFramePr/>
          <p:nvPr/>
        </p:nvGraphicFramePr>
        <p:xfrm>
          <a:off x="1749600" y="1501920"/>
          <a:ext cx="5644800" cy="53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0" name="Object 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49600" y="1501920"/>
                    <a:ext cx="5644800" cy="53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5T11:39:15Z</dcterms:created>
  <dc:creator>DEVELOPER-XP</dc:creator>
  <dc:description/>
  <dc:language>en-US</dc:language>
  <cp:lastModifiedBy>DEVELOPER-XP</cp:lastModifiedBy>
  <dcterms:modified xsi:type="dcterms:W3CDTF">2012-10-26T15:29:33Z</dcterms:modified>
  <cp:revision>15</cp:revision>
  <dc:subject/>
  <dc:title>Слайд 1</dc:title>
</cp:coreProperties>
</file>