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E81-E44B-44FE-AADD-6F0E36CB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35A-C310-486B-A406-475BA2A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51A-91FE-4B23-9794-83823603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603-34BB-44E1-B129-A435795F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069-EC4B-4F64-91A7-54835AA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0D1-614B-46F5-9034-00C0E636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6C1-B370-4317-B115-25095021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808-196D-40AC-AE21-96CA8B3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163-6BAD-4215-833F-F33E4A4A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671-A6A1-4397-A842-4DAA749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E37-AC22-4214-B753-FF071D8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652-C857-40E3-B150-BE01D33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626-6123-4E17-B75A-4F5877307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08000" y="4428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ЛС, РЕГУЛИРУЮЩИЕ ФУНКЦИИ ЖК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КЦИЯ -1 (к 1-му заняти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638760" y="5413320"/>
            <a:ext cx="2468880" cy="144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622920" y="4221000"/>
            <a:ext cx="2521080" cy="1416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324000" y="2448000"/>
            <a:ext cx="8640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редства, влияющие на аппетит (горечи и анорексигенные Л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Рвотные и противорвотные средства (на 2-е занят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нтацид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нтисекретор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астроцитопроте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Times New Roman"/>
              </a:rPr>
              <a:t>Нет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Times New Roman"/>
              </a:rPr>
              <a:t>- Компонентов желудочного с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Times New Roman"/>
              </a:rPr>
              <a:t>- Ферментных и антифермент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00040" y="58420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тор - Романов Борис Константинович,        доктор медицинских наук, профессор,                завуч кафедры фармакологии фарм.ф-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146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3399"/>
                </a:solidFill>
                <a:latin typeface="Times New Roman"/>
              </a:rPr>
              <a:t>Средства, повышающие аппети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Горечи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лыни настой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Полыни горькой трав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Тысячелистника обыкновенного трав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1+2 = «Сбор для возбуждения аппетита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Одуванчика корн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е средства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-314640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нсулин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-314640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наболические стероид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 Клонидин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4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 Амитриптилин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</a:rPr>
              <a:t>2. Средства, подавляющие  аппетит (анорексигенные средств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drugs08"/>
          <p:cNvPicPr/>
          <p:nvPr/>
        </p:nvPicPr>
        <p:blipFill>
          <a:blip r:embed="rId1"/>
          <a:stretch/>
        </p:blipFill>
        <p:spPr>
          <a:xfrm>
            <a:off x="7531200" y="4952880"/>
            <a:ext cx="1612800" cy="1905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0" y="1413000"/>
            <a:ext cx="896472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Принимать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gt; 12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д. при ИМТ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г/м</a:t>
            </a:r>
            <a:r>
              <a:rPr b="0" lang="ru-RU" sz="2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3700" spc="-1" strike="noStrike" u="sng">
                <a:solidFill>
                  <a:srgbClr val="000000"/>
                </a:solidFill>
                <a:uFillTx/>
                <a:latin typeface="Times New Roman"/>
              </a:rPr>
              <a:t>Сибутрамин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 (Меридиа, Редуксин) –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етит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рмогене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аптейк серотонина и НА – непрямой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мимети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Орлистат (Ксеникал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очные эффекты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0%)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нница, тахикардия, тошнота, потливость,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ивопоказания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8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6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, А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145/90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укома, ИБС, ЦВБ, заболевания печени и почек, беременность, лакта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-108000" y="-3456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Times New Roman"/>
              </a:rPr>
              <a:t>Рвотные сред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Апоморфина гидрохлори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9280" y="1700280"/>
            <a:ext cx="88934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Фармакодинам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мулирует дофаминов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рецепторы  триггерной зоны рвотного центра, что приводит к возникновению рв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Фармакокине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ится подкож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ный эффект развивается через 5-10 мину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болизируется в печени, выводится почками и с грудным моло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ЦНС"/>
          <p:cNvPicPr/>
          <p:nvPr/>
        </p:nvPicPr>
        <p:blipFill>
          <a:blip r:embed="rId1"/>
          <a:stretch/>
        </p:blipFill>
        <p:spPr>
          <a:xfrm>
            <a:off x="6746760" y="115920"/>
            <a:ext cx="2362320" cy="1774800"/>
          </a:xfrm>
          <a:prstGeom prst="rect">
            <a:avLst/>
          </a:prstGeom>
          <a:ln w="0">
            <a:noFill/>
          </a:ln>
        </p:spPr>
      </p:pic>
      <p:sp>
        <p:nvSpPr>
          <p:cNvPr id="132" name="Oval 6"/>
          <p:cNvSpPr/>
          <p:nvPr/>
        </p:nvSpPr>
        <p:spPr>
          <a:xfrm>
            <a:off x="7913520" y="1033560"/>
            <a:ext cx="27324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8123400" y="1392120"/>
            <a:ext cx="13644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0"/>
            <a:ext cx="9144000" cy="70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Times New Roman"/>
              </a:rPr>
              <a:t>Противорвотные средства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Блокаторы дофаминовых </a:t>
            </a:r>
            <a:r>
              <a:rPr b="1" i="1" lang="en-US" sz="3200" spc="-1" strike="noStrike">
                <a:solidFill>
                  <a:srgbClr val="ff3399"/>
                </a:solidFill>
                <a:latin typeface="Times New Roman"/>
              </a:rPr>
              <a:t>D</a:t>
            </a:r>
            <a:r>
              <a:rPr b="1" i="1" lang="ru-RU" sz="32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-рецеп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мперид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Мотилиум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елективный, наркоз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ер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этилперазин (Торекан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еселективный, при любой рво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Стимуляторы 5-НТ</a:t>
            </a:r>
            <a:r>
              <a:rPr b="1" i="1" lang="ru-RU" sz="3200" spc="-1" strike="noStrike" baseline="-25000">
                <a:solidFill>
                  <a:srgbClr val="ff3399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-рецеп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запри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 1999 г. – кардиотоксичен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укалоприд, Тегасеро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Блокаторы серотониновых 5-НТ</a:t>
            </a:r>
            <a:r>
              <a:rPr b="1" i="1" lang="ru-RU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-рецеп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клопрами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окинетик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-Н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блокатор,5-Н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активатор+</a:t>
            </a:r>
            <a:r>
              <a:rPr b="0" i="1" lang="en-US" sz="1800" spc="-1" strike="noStrike">
                <a:solidFill>
                  <a:srgbClr val="ff3399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ff3399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ff3399"/>
                </a:solidFill>
                <a:latin typeface="Times New Roman"/>
              </a:rPr>
              <a:t>блок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ндансетр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1990 г.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-Н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блок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описетрон, Алосет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Гистаминовые Н</a:t>
            </a:r>
            <a:r>
              <a:rPr b="1" i="1" lang="ru-RU" sz="3200" spc="-1" strike="noStrike" baseline="-25000">
                <a:solidFill>
                  <a:srgbClr val="ff3399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</a:rPr>
              <a:t>-блокатор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прази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ипольфен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Циклизин, Меклози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они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0"/>
            <a:ext cx="9036000" cy="55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локаторы М-холинорецептор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ополами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Аэрон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морская, воздушная, Миньера болезнь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Стимуляторы мотилиновых рецептор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тили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ормон из 22 АМК)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Эритромици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др.макроли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аннабинол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ронабино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имулятор СВ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рецепторов рвотного цент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локаторы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K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цепторо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рецепторов вещества Р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эксперимен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ензодиазепины, глюкокортикоиды и НПВ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99"/>
                </a:solidFill>
                <a:latin typeface="Times New Roman"/>
              </a:rPr>
              <a:t>Антацидные средства</a:t>
            </a:r>
            <a:r>
              <a:rPr b="1" lang="en-US" sz="3500" spc="-1" strike="noStrike">
                <a:solidFill>
                  <a:srgbClr val="ff3399"/>
                </a:solidFill>
                <a:latin typeface="Times New Roman"/>
              </a:rPr>
              <a:t> - </a:t>
            </a:r>
            <a:r>
              <a:rPr b="0" lang="ru-RU" sz="3000" spc="-1" strike="noStrike">
                <a:solidFill>
                  <a:srgbClr val="ff3399"/>
                </a:solidFill>
                <a:latin typeface="Times New Roman"/>
              </a:rPr>
              <a:t>нейтрализаторы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HCl</a:t>
            </a:r>
            <a:r>
              <a:rPr b="0" lang="ru-RU" sz="3000" spc="-1" strike="noStrike">
                <a:solidFill>
                  <a:srgbClr val="ff3399"/>
                </a:solidFill>
                <a:latin typeface="Times New Roman"/>
              </a:rPr>
              <a:t> при </a:t>
            </a:r>
            <a:r>
              <a:rPr b="0" lang="ru-RU" sz="3000" spc="-1" strike="noStrike" u="sng">
                <a:solidFill>
                  <a:srgbClr val="ff3399"/>
                </a:solidFill>
                <a:uFillTx/>
                <a:latin typeface="Times New Roman"/>
              </a:rPr>
              <a:t>гиперацидных</a:t>
            </a:r>
            <a:r>
              <a:rPr b="0" lang="ru-RU" sz="3000" spc="-1" strike="noStrike">
                <a:solidFill>
                  <a:srgbClr val="ff3399"/>
                </a:solidFill>
                <a:latin typeface="Times New Roman"/>
              </a:rPr>
              <a:t> состояния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сасывающие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в ЖС)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аци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трия гидрокарбонат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 образует СО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(стимулятор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C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гния карбонат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 не образует СО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 слабительный эффек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льция карбонат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- не образует СО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 усиливает запо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гния карбонат + Кальция карбонат (Рен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всасывающиеся антаци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медленные, 2-4 час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Алгелдрат + Магния гидроксид (Алмагел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аалокс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алдрат (Гелусил), Алюминия фосфат (Фосфалюгель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сорбирующие антаци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исмута трикалия дицитрат (Де-Но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+ антихеликобакте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смута нитрат основной, Викалин, Викаи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8099280" y="90792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44000" y="256536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0 ми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7885080" y="1844640"/>
            <a:ext cx="125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885080" y="6206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8101080" y="1844640"/>
            <a:ext cx="1042920" cy="72072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064360" y="197172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9"/>
          <p:cNvSpPr/>
          <p:nvPr/>
        </p:nvSpPr>
        <p:spPr>
          <a:xfrm>
            <a:off x="8172360" y="836640"/>
            <a:ext cx="647640" cy="1751040"/>
          </a:xfrm>
          <a:custGeom>
            <a:avLst/>
            <a:gdLst/>
            <a:ahLst/>
            <a:rect l="l" t="t" r="r" b="b"/>
            <a:pathLst>
              <a:path w="408" h="1103">
                <a:moveTo>
                  <a:pt x="0" y="725"/>
                </a:moveTo>
                <a:cubicBezTo>
                  <a:pt x="41" y="362"/>
                  <a:pt x="83" y="0"/>
                  <a:pt x="136" y="45"/>
                </a:cubicBezTo>
                <a:cubicBezTo>
                  <a:pt x="189" y="90"/>
                  <a:pt x="273" y="891"/>
                  <a:pt x="318" y="997"/>
                </a:cubicBezTo>
                <a:cubicBezTo>
                  <a:pt x="363" y="1103"/>
                  <a:pt x="385" y="891"/>
                  <a:pt x="408" y="6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0"/>
            <a:ext cx="9144000" cy="70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</a:rPr>
              <a:t>Антисекреторные  средст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вляют секрецию соляной кислоты и пепсина клетками желуд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еселективные  М - холиноблок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ропина сульфат,  Метацин,  Платифил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Селективные М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холиноблок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рензепин (Гастроцепи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Блокаторы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гистаминовых рецеп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метидин,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нитиди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амотиди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изатидин, Роксатид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Блокаторы  гастриновых рецеп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лум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Блокаторы Н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К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АТФ-азы (протоновой пом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мепразо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Рабепразол, Лансопразол, Пантапро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9144000" cy="65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Гастроцитопроте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астроцитопротекторы (гастропротекторы) -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лекарственные средства, повышающие резистентность нормальной и поврежденной слизистой оболочки желудка и 12-перстной кишки к агрессивным факторам желудочного с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яторы секреции сли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зопростол (Сайтотек),  Энпрост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ленкообразующие сре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«Невсасывающиеся антациды»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исмута трикалия дицитр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(Де-нол)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см. антацид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ралфат, Висмута нитрат ос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0"/>
            <a:ext cx="9144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зопростол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тетический аналог простагландина Е.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Стимулятор секреции слизи, бикарбонатов и сурфактантоподобных фосфолипи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профилактика и лечение эрозий и язв желудка и 12-перстной кишки у лиц, принимающих НПВ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беременн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бочные эффек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головная боль, тошнота, диаре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нпрости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о фармакологическим свойствам близок к мизопростолу, однако лучше переносится и реже вызывает побочные эффек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91440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смута трикалия дицитра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е-нол) – коллоидный препарат висмута - образует в кислой среде защитную пленку на поверхности эрозий и язв, обволакивает париетальные клетки слизистой желудка (цитопротективное действ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Стимулирует образование простагландина Е</a:t>
            </a:r>
            <a:r>
              <a:rPr b="0" lang="ru-RU" sz="3200" spc="-1" strike="noStrike" baseline="-25000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, увеличивает выработку защитной сли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Активен в отношении Helicobacter pyl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выраженные нарушения функции почек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бочные эффек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диаре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924360" y="3803760"/>
            <a:ext cx="5219640" cy="305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3851280" y="1155600"/>
            <a:ext cx="5329080" cy="2994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05092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атомия Ж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43280" y="1916280"/>
            <a:ext cx="504720" cy="2017440"/>
          </a:xfrm>
          <a:custGeom>
            <a:avLst/>
            <a:gdLst>
              <a:gd name="textAreaLeft" fmla="*/ 322560 w 504720"/>
              <a:gd name="textAreaRight" fmla="*/ 505080 w 504720"/>
              <a:gd name="textAreaTop" fmla="*/ 52560 h 2017440"/>
              <a:gd name="textAreaBottom" fmla="*/ 1964880 h 20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50920" y="1989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Верхние отделы Ж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лость рта, глотка, пищев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2843280" y="4148280"/>
            <a:ext cx="504720" cy="2709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70560 h 2709720"/>
              <a:gd name="textAreaBottom" fmla="*/ 2639160 h 270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50920" y="40766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редние отделы Ж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желудок, 12-перстная кишка, печень, поджелудочная железа, тонкий киш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50920" y="592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Нижние отделы ЖКТ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стый кишечни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890880" y="1125360"/>
            <a:ext cx="0" cy="573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3851280" y="1125360"/>
            <a:ext cx="529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179280" y="620640"/>
            <a:ext cx="4392720" cy="22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44280"/>
            <a:ext cx="8785440" cy="67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ЭКЗАМЕНАЦИОННЫЕ ПРЕПАРАТЫ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Сибутрамин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еридиа, Редукси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Домперид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Мотилиу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дансетр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Ранитид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мотид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мепраз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гедрат+Магния гидроксид (Алмагел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смута трикалия дицитрат (Де-Н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беверин (Дюспатали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ста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з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еметионин (Гептрал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октовая кислота (Липами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сфолипиды эссенциальные (Эссенциале Н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улоза (Дюфала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содезоксихолевая кислота (Урсофал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Макрогол 400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орлакс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ннозиды А и В (Сенад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трия пикосульфат (Гутталак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сакодил (Дульколак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Симетик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Эспумизан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* Лоперами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Имодиум, Ларемид, Суперило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ек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илак фор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79280" y="2997360"/>
            <a:ext cx="640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43280" y="299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ледующей лекци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292720" y="765000"/>
            <a:ext cx="3600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565360"/>
            <a:ext cx="5040360" cy="429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051520" y="2565360"/>
            <a:ext cx="413064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4000" y="1700280"/>
            <a:ext cx="467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Мышцы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2 слоя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48360" y="1700280"/>
            <a:ext cx="399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елезы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слизисто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3635280" y="112536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435640" y="1052640"/>
            <a:ext cx="57780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Гистология Ж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8027640" y="5589720"/>
            <a:ext cx="106164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авные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псиноге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886880" y="3860640"/>
            <a:ext cx="1220040" cy="9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риетал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ые –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Cl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икарбона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н.фак. Кас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57440" y="2852640"/>
            <a:ext cx="105084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лизист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каловид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ые кл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2708280"/>
            <a:ext cx="2305080" cy="13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аружи – продольные мышц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и – циркулярные мыш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0" y="-2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егуляция Ж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692280"/>
          <a:ext cx="8713800" cy="3786120"/>
        </p:xfrm>
        <a:graphic>
          <a:graphicData uri="http://schemas.openxmlformats.org/drawingml/2006/table">
            <a:tbl>
              <a:tblPr/>
              <a:tblGrid>
                <a:gridCol w="4897440"/>
                <a:gridCol w="381636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 Нервная регуля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яя иннерваци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Холинергическая 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. vagu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Норадренергическ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нуса мыш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нуса сфинкт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нняя (автономная)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одслизистое сплетение (между мышцами и слизисто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Внутреннее мышечное сплетение (между мышцам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рецию желе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стальтик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50920" y="4797360"/>
          <a:ext cx="8713800" cy="1844640"/>
        </p:xfrm>
        <a:graphic>
          <a:graphicData uri="http://schemas.openxmlformats.org/drawingml/2006/table">
            <a:tbl>
              <a:tblPr/>
              <a:tblGrid>
                <a:gridCol w="4897440"/>
                <a:gridCol w="38163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. Гуморальная регуля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агландин Е</a:t>
                      </a:r>
                      <a:r>
                        <a:rPr b="0" lang="ru-RU" sz="2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рецию слиз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стрин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дуцент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-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ок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рецию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стамин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дуцент лаброцит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рецию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остат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екрецию 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755640" y="1197000"/>
            <a:ext cx="8388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Воспаление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слизистой оболочки (-ит)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стоматит, гастрит, колит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Эрозия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слизистой оболочки –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заживает бесследно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Язва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слизистой и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глубже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заживает рубцом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(стеноз)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или разрыв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(кровотечение) </a:t>
            </a: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или пенетрация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(прорастание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6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Times New Roman"/>
              </a:rPr>
              <a:t>Рак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атоморфология  Ж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66560" y="1268280"/>
            <a:ext cx="0" cy="532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898560" y="3716280"/>
            <a:ext cx="7850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50920" y="1268280"/>
            <a:ext cx="0" cy="252108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236000" y="3284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роцесс обрат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7236000" y="3740040"/>
            <a:ext cx="19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роцесс необрат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ипы и локализация язв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(6 видов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79280" y="1628640"/>
            <a:ext cx="8785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-перстной киш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торики и секреции кислоты: 12 п.к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уд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екреции слизи и бикарбоната: нижняя 1/3 желуд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сс яз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ишемия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ислоты – язва в средней ча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ПВС-яз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екреции ПГ: 12 п.к. + нижние 2/3 желуд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ллингер-Эллис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екреции гастрина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ижняя 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флюкс-эзофаг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бр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желчи ввер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500"/>
              </a:spcBef>
              <a:buClr>
                <a:srgbClr val="ff33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</a:rPr>
              <a:t>СРЕДСТВА, ВЛИЯЮЩИЕ НА АППЕТИ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6-ЖКТ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913440" y="4065480"/>
            <a:ext cx="2230560" cy="279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pat12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4581360"/>
            <a:ext cx="2627280" cy="231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Череп+Мозг"/>
          <p:cNvPicPr/>
          <p:nvPr/>
        </p:nvPicPr>
        <p:blipFill>
          <a:blip r:embed="rId3"/>
          <a:stretch/>
        </p:blipFill>
        <p:spPr>
          <a:xfrm>
            <a:off x="3203640" y="981000"/>
            <a:ext cx="2628720" cy="2879640"/>
          </a:xfrm>
          <a:prstGeom prst="rect">
            <a:avLst/>
          </a:prstGeom>
          <a:ln w="0">
            <a:noFill/>
          </a:ln>
        </p:spPr>
      </p:pic>
      <p:sp>
        <p:nvSpPr>
          <p:cNvPr id="88" name="Oval 16"/>
          <p:cNvSpPr/>
          <p:nvPr/>
        </p:nvSpPr>
        <p:spPr>
          <a:xfrm>
            <a:off x="4211640" y="1844640"/>
            <a:ext cx="2872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4572000" y="1844640"/>
            <a:ext cx="358920" cy="360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156360" y="1916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, ДА, 5-ГТ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5867280" y="69228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щевые центры гипоталамуса: центр голода, и центр насы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 flipV="1">
            <a:off x="1908000" y="2205000"/>
            <a:ext cx="2303640" cy="20160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324000" y="2421000"/>
            <a:ext cx="22320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уморальная регуля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уровень глюкоз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в кр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 flipV="1">
            <a:off x="2050920" y="2349360"/>
            <a:ext cx="2160720" cy="1943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659640" y="2276640"/>
            <a:ext cx="2232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рвная регуля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флексы со слизис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5"/>
          <p:cNvSpPr/>
          <p:nvPr/>
        </p:nvSpPr>
        <p:spPr>
          <a:xfrm flipH="1" flipV="1">
            <a:off x="5003280" y="2420640"/>
            <a:ext cx="2305080" cy="208764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6"/>
          <p:cNvSpPr/>
          <p:nvPr/>
        </p:nvSpPr>
        <p:spPr>
          <a:xfrm flipH="1" flipV="1">
            <a:off x="4788000" y="2349360"/>
            <a:ext cx="2448000" cy="223200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7"/>
          <p:cNvSpPr/>
          <p:nvPr/>
        </p:nvSpPr>
        <p:spPr>
          <a:xfrm>
            <a:off x="4643280" y="2565360"/>
            <a:ext cx="0" cy="29512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8"/>
          <p:cNvSpPr/>
          <p:nvPr/>
        </p:nvSpPr>
        <p:spPr>
          <a:xfrm>
            <a:off x="3492360" y="5516640"/>
            <a:ext cx="2519640" cy="0"/>
          </a:xfrm>
          <a:prstGeom prst="line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4068720" y="5516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Э - систе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"/>
          <p:cNvSpPr/>
          <p:nvPr/>
        </p:nvSpPr>
        <p:spPr>
          <a:xfrm>
            <a:off x="4859280" y="2565360"/>
            <a:ext cx="0" cy="295128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1"/>
          <p:cNvSpPr/>
          <p:nvPr/>
        </p:nvSpPr>
        <p:spPr>
          <a:xfrm>
            <a:off x="3492360" y="5300640"/>
            <a:ext cx="2519640" cy="0"/>
          </a:xfrm>
          <a:prstGeom prst="line">
            <a:avLst/>
          </a:prstGeom>
          <a:ln w="7632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Times New Roman"/>
              </a:rPr>
              <a:t>ГОРЕЧИ </a:t>
            </a: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mar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2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щества горького вкуса, стимулирующие аппетит пр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гипоацидных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состояния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Преданность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191280" y="24210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Павловская собака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82560" y="5411880"/>
            <a:ext cx="1871640" cy="11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Павловская собака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2916360" y="5457960"/>
            <a:ext cx="180000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Павловская собака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2841480" y="5411880"/>
            <a:ext cx="1871640" cy="118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Павловская собака"/>
          <p:cNvPicPr/>
          <p:nvPr/>
        </p:nvPicPr>
        <p:blipFill>
          <a:blip r:embed="rId5">
            <a:lum bright="-30000"/>
          </a:blip>
          <a:stretch/>
        </p:blipFill>
        <p:spPr>
          <a:xfrm>
            <a:off x="5075280" y="5457960"/>
            <a:ext cx="1800360" cy="113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Павловская собака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5075280" y="5411880"/>
            <a:ext cx="1871640" cy="11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Павловская собака"/>
          <p:cNvPicPr/>
          <p:nvPr/>
        </p:nvPicPr>
        <p:blipFill>
          <a:blip r:embed="rId7">
            <a:lum bright="-30000"/>
          </a:blip>
          <a:stretch/>
        </p:blipFill>
        <p:spPr>
          <a:xfrm>
            <a:off x="7308720" y="5457960"/>
            <a:ext cx="1800360" cy="1139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2987640" y="4149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Опыт И.П.Павло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50920" y="472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Базальная секреция    2.Пища        3.Горечь        4.Пища + Горе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1476360" y="6453360"/>
            <a:ext cx="574560" cy="14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3637080" y="6453360"/>
            <a:ext cx="574560" cy="14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869080" y="6453360"/>
            <a:ext cx="574560" cy="14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8029440" y="6453360"/>
            <a:ext cx="574920" cy="14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611280" y="3645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 flipV="1">
            <a:off x="611280" y="24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55640" y="371628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           23                11                23           11            23                11               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22"/>
          <p:cNvSpPr/>
          <p:nvPr/>
        </p:nvSpPr>
        <p:spPr>
          <a:xfrm>
            <a:off x="971640" y="2625840"/>
            <a:ext cx="4680000" cy="885600"/>
          </a:xfrm>
          <a:custGeom>
            <a:avLst/>
            <a:gdLst/>
            <a:ahLst/>
            <a:rect l="l" t="t" r="r" b="b"/>
            <a:pathLst>
              <a:path w="2948" h="558">
                <a:moveTo>
                  <a:pt x="0" y="551"/>
                </a:moveTo>
                <a:cubicBezTo>
                  <a:pt x="91" y="282"/>
                  <a:pt x="182" y="14"/>
                  <a:pt x="318" y="7"/>
                </a:cubicBezTo>
                <a:cubicBezTo>
                  <a:pt x="454" y="0"/>
                  <a:pt x="658" y="506"/>
                  <a:pt x="817" y="506"/>
                </a:cubicBezTo>
                <a:cubicBezTo>
                  <a:pt x="976" y="506"/>
                  <a:pt x="1127" y="7"/>
                  <a:pt x="1270" y="7"/>
                </a:cubicBezTo>
                <a:cubicBezTo>
                  <a:pt x="1413" y="7"/>
                  <a:pt x="1550" y="499"/>
                  <a:pt x="1678" y="506"/>
                </a:cubicBezTo>
                <a:cubicBezTo>
                  <a:pt x="1806" y="513"/>
                  <a:pt x="1905" y="45"/>
                  <a:pt x="2041" y="52"/>
                </a:cubicBezTo>
                <a:cubicBezTo>
                  <a:pt x="2177" y="59"/>
                  <a:pt x="2344" y="558"/>
                  <a:pt x="2495" y="551"/>
                </a:cubicBezTo>
                <a:cubicBezTo>
                  <a:pt x="2646" y="544"/>
                  <a:pt x="2797" y="275"/>
                  <a:pt x="2948" y="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619280" y="2087640"/>
            <a:ext cx="381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Циркадный ритм базальной секреции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Cl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(и аппетита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19280" y="5950080"/>
            <a:ext cx="727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1                                           10                                            5                                          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0" y="4653000"/>
            <a:ext cx="9144000" cy="211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ые эфиры и гликозиды (абсинтин и др.), раздражая рецепторы слизистой оболочки полости рта, рефлекторно повышают возбудимость центра гол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последующий приём пищи сопровождается значимым усилением первой (сложнорефлекторной) фазы секреции желуд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ндий Светлана Павловна</dc:creator>
  <dc:description/>
  <dc:language>en-US</dc:language>
  <cp:lastModifiedBy>user</cp:lastModifiedBy>
  <dcterms:modified xsi:type="dcterms:W3CDTF">2016-01-19T10:42:53Z</dcterms:modified>
  <cp:revision>91</cp:revision>
  <dc:subject/>
  <dc:title>PowerPoint Presentation</dc:title>
</cp:coreProperties>
</file>