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4C9A-3392-4C3D-B7E9-DAAE672D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A28D-3C40-42A3-9053-0A809394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286C-6190-4B63-812D-8ABB1EFD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E53-CBFE-4E63-981D-7D10205F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DA43-B214-455A-9816-562ED8D4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BF0B-14E5-44EC-84B8-79DCD3EB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6450-3FF7-417F-BC48-0B818514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F7A4-A38C-40F1-B13C-BB5A8845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B39E-A806-4997-A36A-151285B9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87D7-E2F9-4842-B472-6FF6B49E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AC15-06BF-49C0-8447-7DD31229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9B07-CAB4-4125-8E7E-7D28478C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6E29-6A9F-4340-994D-0D79CB690A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0/07/Asia_history_map_1400.pn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map_UZB"/>
          <p:cNvPicPr/>
          <p:nvPr/>
        </p:nvPicPr>
        <p:blipFill>
          <a:blip r:embed="rId1"/>
          <a:stretch/>
        </p:blipFill>
        <p:spPr>
          <a:xfrm>
            <a:off x="324000" y="692280"/>
            <a:ext cx="8640720" cy="5595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3975120" y="568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059280" y="26028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собенности ведения бизне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в Республике Узбекис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298800" y="5348160"/>
            <a:ext cx="267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Чекиров Нурсул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еписанные нормы общ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8598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имание к статусу собеседника с соблюдением правил, ритуал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ка доверенных лиц, имеющих «выход» на вашего партн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сное подтверждение вашего статуса и полномоч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бсолютное соблюдение правил вежливого разгов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нстрация понимания местной ситу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1" descr=""/>
          <p:cNvPicPr/>
          <p:nvPr/>
        </p:nvPicPr>
        <p:blipFill>
          <a:blip r:embed="rId1"/>
          <a:stretch/>
        </p:blipFill>
        <p:spPr>
          <a:xfrm>
            <a:off x="1023840" y="4979880"/>
            <a:ext cx="2792520" cy="18781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"/>
          <p:cNvPicPr/>
          <p:nvPr/>
        </p:nvPicPr>
        <p:blipFill>
          <a:blip r:embed="rId2"/>
          <a:stretch/>
        </p:blipFill>
        <p:spPr>
          <a:xfrm>
            <a:off x="4718160" y="4979880"/>
            <a:ext cx="2805120" cy="1878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бычаи и традиции РУ: </a:t>
            </a:r>
            <a:br>
              <a:rPr sz="2800"/>
            </a:br>
            <a:r>
              <a:rPr b="0" i="1" lang="ru-RU" sz="2800" spc="-1" strike="noStrike">
                <a:solidFill>
                  <a:srgbClr val="006666"/>
                </a:solidFill>
                <a:latin typeface="Arial"/>
              </a:rPr>
              <a:t>чай и чайная церемо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640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й – главный напиток страны: пьется до, 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я и посл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аривается в маленьких чайниках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вается в маленькие пиа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больше уважение, тем меньше наливают ч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больше вы просите подлить чай, тем больш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ажение к хозяев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ванному гостю наливают чай до краев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енная жизнь – в мечетях, на базаре, чайхо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бычаи и традиции РУ: </a:t>
            </a:r>
            <a:br>
              <a:rPr sz="2800"/>
            </a:br>
            <a:r>
              <a:rPr b="0" i="1" lang="ru-RU" sz="2800" spc="-1" strike="noStrike">
                <a:solidFill>
                  <a:srgbClr val="006666"/>
                </a:solidFill>
                <a:latin typeface="Arial"/>
              </a:rPr>
              <a:t>простейшие правила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яясь в гости, желательно захватить с собой сувениры или сладости для детей хозя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визитом в чей-либо дом следует позвон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руку обычно здороваются только с мужчин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пожатие уместно, только если женщина первой протягивает ру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женщинами и лицами, сидящими в отдалении, здороваются, прикладывая правую руку к сердцу и сопровождая этот жест легким наклоном голов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ремя рукопожатия традиционно интересуются здоровьем, состоянием дел на работе и д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ремя еды руками или когда вы даете или берете какие-либо предметы, всегда используется только правая ру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 занимать место, которое указывает хозяин. Чем дальше оно от входа, тем почет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бычаи и традиции РУ: </a:t>
            </a:r>
            <a:r>
              <a:rPr b="0" i="1" lang="ru-RU" sz="2800" spc="-1" strike="noStrike">
                <a:solidFill>
                  <a:srgbClr val="006666"/>
                </a:solidFill>
                <a:latin typeface="Arial"/>
              </a:rPr>
              <a:t>махал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640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диционная форма общественных отношений в Узбекистан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едская община, объединения мужчин "джура", цеховые объединения мастеров-ремеслен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 тысячелетнюю историю и является центром семейно-бытовых и религиозных обрядов и празд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правило, в традиционных махаллях действуют мече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шар - древний обычай взаимопомощи. Методом хашара помогают близким строить дом, благоустраивать свой район, улицу, гор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ханизм местного самоуправления, признанный зако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одня махалля - территориальное объединение семей с целью кооперации и взаимопомощи как в районах индивидуальной застройки и традиционных частях городов, так и многоэтажных домов и улиц промышленных горо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ть из более 10 000 махаллей охватывает всю территорию республики и являются важным звеном в укреплении гражданского общ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 от 2 сентября 1992 определяет, что органами самоуправления граждан по месту жительства являются сходы. Они избирают на 2,5 года председателя (аксакала) и его советников. Координационным органом является общественный неправительственный фонд "Махалля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естное сообщество, махал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Махал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место принятия решения на уровне села (квартала), определяет отношение к тем или иным людям и событ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宋体"/>
              </a:rPr>
              <a:t>NB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язательно предусматривайте в бизнес-планах отчисление на благотворитель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имущественно поддерживайте не отдельных людей, а местные общины, от отношения которых зависит деятельность вашего предприя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тремитесь проводить широкомасштабн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кампании в прессе, но следите, чтобы люди узнавали через прессу о вкладе Вашего предприятия в улучшение жизни территории или общ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роводи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мпании, позаботьтесь о креативе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1" descr=""/>
          <p:cNvPicPr/>
          <p:nvPr/>
        </p:nvPicPr>
        <p:blipFill>
          <a:blip r:embed="rId1"/>
          <a:stretch/>
        </p:blipFill>
        <p:spPr>
          <a:xfrm>
            <a:off x="7308720" y="4711680"/>
            <a:ext cx="1987560" cy="1755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Типичные ошибки иностранных предприним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ход в страну без предварительного изучения ее традиций и особенностей, ошибки при проведении перегово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ход без подготовки и анализа экономической ситуации, путем установления тесных отношений только с высшими государственными чиновни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ие договоренности не означают решения вопроса и создания условий для развития бизнеса, а лишь только являются предварительным условием для согласования процеду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ая степень доверия к местным людям в подборе персонала и выборе стратегии развития бизнес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омерное отношение («комплекс колонизатора») к стране и ее жител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правильная оценка местных кадров в способности к ведению бизнеса (универсальная гибкость и умение вступить в контакт с любым контрагентом, подладиться под его особенности, четко понимая и преследуя свои интерес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PR-стратегии, понятной местному сообществ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0" y="177840"/>
            <a:ext cx="9259920" cy="60595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есколько советов бизнесмен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Крупный бизне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еобходима формальная (на уровне юридических соглашений) и неформальная поддержка со стороны высших органов государственной власти Р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целесообразно добиться поддержки Вашего проекта со стороны государственных органов Р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Средний бизне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еобходима формальная (на уровне юридических соглашений) и неформальная поддержка со стороны региональных органов власти Р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целесообразно избегать пересечения интересов предприятия с интересами государства или представителями кланов, находящимися у власти в 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Малый бизне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актически полностью приходиться вести дела «на свой страх и рис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еобходима неформальная поддержка со стороны  глав местных общ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tretch/>
        </p:blipFill>
        <p:spPr>
          <a:xfrm>
            <a:off x="33480" y="765000"/>
            <a:ext cx="8916840" cy="5256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Безопасность и кадровая поли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4649"/>
                </a:solidFill>
                <a:latin typeface="Arial"/>
              </a:rPr>
              <a:t>Лучше </a:t>
            </a:r>
            <a:r>
              <a:rPr b="1" lang="ru-RU" sz="1800" spc="-1" strike="noStrike">
                <a:solidFill>
                  <a:srgbClr val="1e4649"/>
                </a:solidFill>
                <a:latin typeface="Arial"/>
              </a:rPr>
              <a:t>не поручать</a:t>
            </a:r>
            <a:r>
              <a:rPr b="0" lang="ru-RU" sz="1800" spc="-1" strike="noStrike">
                <a:solidFill>
                  <a:srgbClr val="1e4649"/>
                </a:solidFill>
                <a:latin typeface="Arial"/>
              </a:rPr>
              <a:t> местным представителя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e46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4649"/>
                </a:solidFill>
                <a:latin typeface="Arial"/>
              </a:rPr>
              <a:t>систему внутренней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e46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4649"/>
                </a:solidFill>
                <a:latin typeface="Arial"/>
              </a:rPr>
              <a:t>проведение кадровой поли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4649"/>
                </a:solidFill>
                <a:latin typeface="Arial"/>
              </a:rPr>
              <a:t>При наборе топ-менеджеров</a:t>
            </a:r>
            <a:r>
              <a:rPr b="0" lang="ru-RU" sz="1800" spc="-1" strike="noStrike">
                <a:solidFill>
                  <a:srgbClr val="1e4649"/>
                </a:solidFill>
                <a:latin typeface="Arial"/>
              </a:rPr>
              <a:t> из состава местных жителей обязательно учитывайте их родственные связи, принадлежность к тому или иному кла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4649"/>
                </a:solidFill>
                <a:latin typeface="Arial"/>
              </a:rPr>
              <a:t>При наборе менеджеров среднего звена</a:t>
            </a:r>
            <a:r>
              <a:rPr b="0" lang="ru-RU" sz="1800" spc="-1" strike="noStrike">
                <a:solidFill>
                  <a:srgbClr val="1e4649"/>
                </a:solidFill>
                <a:latin typeface="Arial"/>
              </a:rPr>
              <a:t> из состава местных жителей, предпочтение отдавайте родившимся и получившим образование в крупных горо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4649"/>
                </a:solidFill>
                <a:latin typeface="Arial"/>
              </a:rPr>
              <a:t>При наборе линейных менеджеров</a:t>
            </a:r>
            <a:r>
              <a:rPr b="0" lang="ru-RU" sz="1800" spc="-1" strike="noStrike">
                <a:solidFill>
                  <a:srgbClr val="1e4649"/>
                </a:solidFill>
                <a:latin typeface="Arial"/>
              </a:rPr>
              <a:t> обратите внимание на выпускников высших учебных заведений. Они более прогрессивны, менее связаны клановыми обязательст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4649"/>
                </a:solidFill>
                <a:latin typeface="Arial"/>
              </a:rPr>
              <a:t>При проведении масштабных работ в удаленных районах</a:t>
            </a:r>
            <a:r>
              <a:rPr b="0" lang="ru-RU" sz="1800" spc="-1" strike="noStrike">
                <a:solidFill>
                  <a:srgbClr val="1e4649"/>
                </a:solidFill>
                <a:latin typeface="Arial"/>
              </a:rPr>
              <a:t> с опорой на местные трудовые ресурсы, стремитесь, чтобы руководящий и производственный состав состоял из представителей разных кланов, лучше, чтобы руководящий состав состоял из представителей другого района республ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41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2755800" y="0"/>
            <a:ext cx="3926160" cy="44323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" descr=""/>
          <p:cNvPicPr/>
          <p:nvPr/>
        </p:nvPicPr>
        <p:blipFill>
          <a:blip r:embed="rId2"/>
          <a:stretch/>
        </p:blipFill>
        <p:spPr>
          <a:xfrm>
            <a:off x="1895400" y="2914560"/>
            <a:ext cx="5748480" cy="3230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179280" y="351000"/>
            <a:ext cx="8677440" cy="6507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229600" cy="464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збекистане бизнес может делать только г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збекистане бизнес - это инструмен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служивания тех или иных планов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больше планы, тем сложнее жить бизне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NB!!!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асть в Узбекистане всегда может оказа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ияние 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знес, вне зависимости о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ьной правов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826920" y="444600"/>
            <a:ext cx="67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Выводы из ранее сказанн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4"/>
          <p:cNvSpPr/>
          <p:nvPr/>
        </p:nvSpPr>
        <p:spPr>
          <a:xfrm>
            <a:off x="324000" y="26028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Республика Узбекистан: 135 националь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5"/>
          <p:cNvSpPr/>
          <p:nvPr/>
        </p:nvSpPr>
        <p:spPr>
          <a:xfrm>
            <a:off x="539640" y="907920"/>
            <a:ext cx="8353440" cy="50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сленность населени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7,4 млн. человек (на 1 октября 2008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нический соста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ессиональный соста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збеки – 80%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сульмане-сунн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ие – 5,5% (4%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нафитского мазхаб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– 8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джики – 5%  (9%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славные – 9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захи – 3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собый славяно-христиа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акалпаки – 2,5%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ьтурный ареал, более 100 лет 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тары – 1,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осударственный язык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збек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93 году Узбекистан перешел с кириллицы на латиниц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ородах и промышленных зонах страны русский стоит на втором месте по частоте употреб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ий язык обязателен для изучения во всех вузах страны и де-факто остается языком межнационального общ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ой или иной степени русским языком в владеет около 70%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Файл:Asia history map 1400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657360"/>
            <a:ext cx="7619760" cy="5543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745560" y="189000"/>
            <a:ext cx="745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Узбекистан эпохи Амира Тимура, 1400 н.э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(ист.: Википед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Осведомленность о Кыргызстане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Абсолютное большинство опрошенных счит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ыргызстан дружественной Узбекистану страной (73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Узбекистанцы выступают за разрешение любых конфликтов с Кыргызстаном во всех сферах общественно-политической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о представлениям опрошенных, в списке стран,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ыми следует интегрироваться Узбекистану,  Кыргызстан занимает лидирующее место после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За интеграцию с Кыргызстаном в сфере эконом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казались 68% опрошенных, в военной сфере – %,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литической  - 30%, в сфере культуры – 1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6696000" cy="3948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ерьезный бизнесмен. Кто это? 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(вебинар по Р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ржит свое слово, выполняет договоренности, честны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ет бедн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ривлекает к себе внимание С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ается не привлекать внимание власти, но имеет личные контакты с представителями вла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ется членом предпринимательских сообществ (ТПП, ассоциа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ьзуется уважением в местной общ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ачества, присущие кыргызстанцу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(каким должен быть бизнес-партнер из РФ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ris2"/>
          <p:cNvPicPr/>
          <p:nvPr/>
        </p:nvPicPr>
        <p:blipFill>
          <a:blip r:embed="rId1"/>
          <a:stretch/>
        </p:blipFill>
        <p:spPr>
          <a:xfrm>
            <a:off x="457200" y="1341360"/>
            <a:ext cx="822960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дели ведения бизнеса зарубежными компаниями на территории Узбекистана, Таджикистана и Кирги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дель №1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«бизнес с политической крыше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наиболее практикуемая в Узбекистане, Таджикистане и Киргизии иностран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нвесторами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иск политической поддержки на высшем уровне государственного управл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репление личных отношений с политическим деятелем – «куратором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держание особых отношений с «куратором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чет на решение возникающих трудностей административным воздействием указанного лиц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дель № 2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«бизнес с дружеским оскало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иск заинтересованных в инвестициях таджикских бизнесменов, с  последующим использованием их связей в высших политических кругах для защиты бизнес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ние “тесной” группы, отстаивающей интересы в развернувшейся борьб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чет на решение возникающих трудностей инкорпорированием противников в группу, или их подкуп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дель № 3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«партнерский бизне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иск заинтересованных в инвестициях таджикских бизнесменов, с  последующим «выращиванием условий» взаимовыгодного сотрудничест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ановление партнерских отношений, построенных на взаимовыгодном сотрудничестве и доверии в совместном бизнес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имание к изменяющимся интересам и снятие проблем на взаимовыгодной основ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е поддержки в высших политических кругах, построенной на репутации зарубежного партнера у местных и иностранных бизнесме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1327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Алгоритм установления дов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42560" y="1197000"/>
            <a:ext cx="748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ление контакта после рекомендации влиятельного челове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нстрация открытости и радуш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агресс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местные трапезы, отд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учение подарков (от простых к более дороги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, наконец, совместная работ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5:59:43Z</dcterms:created>
  <dc:creator>elenaby</dc:creator>
  <dc:description/>
  <dc:language>en-US</dc:language>
  <cp:lastModifiedBy>Buudaiyk</cp:lastModifiedBy>
  <dcterms:modified xsi:type="dcterms:W3CDTF">2014-12-07T13:06:32Z</dcterms:modified>
  <cp:revision>23</cp:revision>
  <dc:subject/>
  <dc:title>Слайд 1</dc:title>
</cp:coreProperties>
</file>