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46A-BB34-433E-9C01-53823C14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CE4-DC18-40C9-B7E1-C1E2A699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09D-0EE0-48E1-8D59-77C3AD24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8DC-B073-4281-A23A-8F029F4B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131F-DD99-4031-A556-9E685B08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0A0-4073-4D91-82C7-424BCAA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E95-348B-47AA-8E36-F46B455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C32-8FA3-4367-BB58-B9E67FB0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CCC0-7467-4924-A39B-BD96A3ED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0F96-D58D-47F7-81C1-B3EA1BE9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BB34-C456-4710-8FCC-A55A59C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3AF-288E-46E1-909C-EEC05F4B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89E-2D91-479C-B0B5-AAB0A06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74EC-24A0-4C29-945D-88A258A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BB63-A4CD-4656-88F6-9257EEE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06E-F066-4F53-B400-AD980C41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1159-A04A-475C-B977-25BEF223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8CC-3797-4904-A3A5-D6A87536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E75-72B0-4DB9-8625-DACE263F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DB0-5701-429F-86FB-0057B6A2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2E8-04B0-4410-BA0D-9EB75432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D86-EC5F-4494-95C2-1B856AA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253-EF6A-4841-88D9-1D836360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23F-C3C1-4F39-AB5B-F369390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Rectangle 9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Rectangle 3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01760"/>
            <a:ext cx="892008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00160" y="5937120"/>
            <a:ext cx="8943840" cy="5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Picture 4" descr="JJJ (827)"/>
          <p:cNvPicPr/>
          <p:nvPr/>
        </p:nvPicPr>
        <p:blipFill>
          <a:blip r:embed="rId1"/>
          <a:stretch/>
        </p:blipFill>
        <p:spPr>
          <a:xfrm>
            <a:off x="2195640" y="2008080"/>
            <a:ext cx="4406760" cy="351648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2520" y="1801800"/>
            <a:ext cx="59738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Основные положения ст. 122 УК РФ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Заведомое поставление другого лица в опасность заражения ВИЧ-инфекцией наказывается ограничением свободы на срок до трех лет, либо арестом на срок от трех до шести месяцев, либо лишением свободы на срок до одного го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Заражение другого лица ВИЧ-инфекцией лицом, знавшем о наличии у него этой болезни, наказывается лишением свободы на срок до пяти лет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5" descr="JJJ (1)"/>
          <p:cNvPicPr/>
          <p:nvPr/>
        </p:nvPicPr>
        <p:blipFill>
          <a:blip r:embed="rId1"/>
          <a:stretch/>
        </p:blipFill>
        <p:spPr>
          <a:xfrm>
            <a:off x="6156360" y="3130560"/>
            <a:ext cx="2863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520" y="1801440"/>
            <a:ext cx="60451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ff"/>
                </a:solidFill>
                <a:uFillTx/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дготовить доклад или сообщение в тетради на тему: «СПИД. Симптомы, причины, способы заражения, лечение, профилактика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5" descr="JJJ (827)"/>
          <p:cNvPicPr/>
          <p:nvPr/>
        </p:nvPicPr>
        <p:blipFill>
          <a:blip r:embed="rId1"/>
          <a:stretch/>
        </p:blipFill>
        <p:spPr>
          <a:xfrm>
            <a:off x="4932360" y="3429000"/>
            <a:ext cx="40878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6" descr="gerb"/>
          <p:cNvPicPr/>
          <p:nvPr/>
        </p:nvPicPr>
        <p:blipFill>
          <a:blip r:embed="rId1"/>
          <a:stretch/>
        </p:blipFill>
        <p:spPr>
          <a:xfrm>
            <a:off x="0" y="1628640"/>
            <a:ext cx="1047600" cy="113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флаг"/>
          <p:cNvPicPr/>
          <p:nvPr/>
        </p:nvPicPr>
        <p:blipFill>
          <a:blip r:embed="rId2"/>
          <a:stretch/>
        </p:blipFill>
        <p:spPr>
          <a:xfrm>
            <a:off x="8101080" y="1700280"/>
            <a:ext cx="1042920" cy="76176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2"/>
          <p:cNvSpPr txBox="1"/>
          <p:nvPr/>
        </p:nvSpPr>
        <p:spPr>
          <a:xfrm>
            <a:off x="324000" y="2205000"/>
            <a:ext cx="4608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160" y="1915920"/>
            <a:ext cx="561348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История возникновения СПИД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Родина СПИДа – Центральная Африк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Носители – местные обезьяны, затем военнослужащие США, которые перенесли СПИД в Америк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80-ые годы прошлого века – широкое распространение «Чумы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века»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Через несколько лет болезнь поразила страны Западной Европ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Первые описания болезни  - США, 1981 год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1991 год – около 12 млн. ВИЧ-инфицированных человек, из них около 2 млн. человек заболело СПИД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5" descr="JJJ (299)"/>
          <p:cNvPicPr/>
          <p:nvPr/>
        </p:nvPicPr>
        <p:blipFill>
          <a:blip r:embed="rId1"/>
          <a:stretch/>
        </p:blipFill>
        <p:spPr>
          <a:xfrm>
            <a:off x="6064200" y="2881440"/>
            <a:ext cx="30798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520" y="1801440"/>
            <a:ext cx="50371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СПИД характеризуется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Медленно  прогрессирующим дефектом иммунной системы (СПИД – синдром приобретенного дефицита иммунитет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00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СПИД – финальная стадия инфекционного заболевания, называемого вирусом иммунодефицита человека (ВИЧ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JJJ (163)"/>
          <p:cNvPicPr/>
          <p:nvPr/>
        </p:nvPicPr>
        <p:blipFill>
          <a:blip r:embed="rId1"/>
          <a:stretch/>
        </p:blipFill>
        <p:spPr>
          <a:xfrm>
            <a:off x="5416560" y="2838600"/>
            <a:ext cx="37274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5" name="Diagram 6"/>
          <p:cNvGrpSpPr/>
          <p:nvPr/>
        </p:nvGrpSpPr>
        <p:grpSpPr>
          <a:xfrm>
            <a:off x="684720" y="1820520"/>
            <a:ext cx="7776720" cy="4631400"/>
            <a:chOff x="684720" y="1820520"/>
            <a:chExt cx="7776720" cy="4631400"/>
          </a:xfrm>
        </p:grpSpPr>
        <p:sp>
          <p:nvSpPr>
            <p:cNvPr id="106" name="_s1028"/>
            <p:cNvSpPr/>
            <p:nvPr/>
          </p:nvSpPr>
          <p:spPr>
            <a:xfrm>
              <a:off x="1929600" y="1820520"/>
              <a:ext cx="5288040" cy="3148920"/>
            </a:xfrm>
            <a:custGeom>
              <a:avLst/>
              <a:gdLst>
                <a:gd name="textAreaLeft" fmla="*/ 0 w 5288040"/>
                <a:gd name="textAreaRight" fmla="*/ 5288400 w 5288040"/>
                <a:gd name="textAreaTop" fmla="*/ 0 h 3148920"/>
                <a:gd name="textAreaBottom" fmla="*/ 3149280 h 31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008080"/>
                </a:gs>
              </a:gsLst>
              <a:lin ang="8100000"/>
            </a:gra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_s1029"/>
            <p:cNvSpPr/>
            <p:nvPr/>
          </p:nvSpPr>
          <p:spPr>
            <a:xfrm rot="5400000">
              <a:off x="4242960" y="1491840"/>
              <a:ext cx="3148920" cy="5288040"/>
            </a:xfrm>
            <a:custGeom>
              <a:avLst/>
              <a:gdLst>
                <a:gd name="textAreaLeft" fmla="*/ 0 w 3148920"/>
                <a:gd name="textAreaRight" fmla="*/ 3149280 w 3148920"/>
                <a:gd name="textAreaTop" fmla="*/ 0 h 5288040"/>
                <a:gd name="textAreaBottom" fmla="*/ 5288400 h 52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cccc"/>
                </a:gs>
                <a:gs pos="100000">
                  <a:srgbClr val="008080"/>
                </a:gs>
              </a:gsLst>
              <a:lin ang="2700000"/>
            </a:gradFill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_s1030"/>
            <p:cNvSpPr/>
            <p:nvPr/>
          </p:nvSpPr>
          <p:spPr>
            <a:xfrm rot="10800000">
              <a:off x="1929240" y="3302640"/>
              <a:ext cx="5288040" cy="3149280"/>
            </a:xfrm>
            <a:custGeom>
              <a:avLst/>
              <a:gdLst>
                <a:gd name="textAreaLeft" fmla="*/ 0 w 5288040"/>
                <a:gd name="textAreaRight" fmla="*/ 5288400 w 5288040"/>
                <a:gd name="textAreaTop" fmla="*/ 0 h 3149280"/>
                <a:gd name="textAreaBottom" fmla="*/ 3149640 h 31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080"/>
                </a:gs>
              </a:gsLst>
              <a:lin ang="189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_s1031"/>
            <p:cNvSpPr/>
            <p:nvPr/>
          </p:nvSpPr>
          <p:spPr>
            <a:xfrm rot="16200000">
              <a:off x="1754280" y="1491840"/>
              <a:ext cx="3148920" cy="5288040"/>
            </a:xfrm>
            <a:custGeom>
              <a:avLst/>
              <a:gdLst>
                <a:gd name="textAreaLeft" fmla="*/ 0 w 3148920"/>
                <a:gd name="textAreaRight" fmla="*/ 3149280 w 3148920"/>
                <a:gd name="textAreaTop" fmla="*/ 0 h 5288040"/>
                <a:gd name="textAreaBottom" fmla="*/ 5288400 h 52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8080"/>
                </a:gs>
              </a:gsLst>
              <a:lin ang="135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5979600" y="2109960"/>
              <a:ext cx="1993680" cy="11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buClr>
                  <a:srgbClr val="ffcc00"/>
                </a:buClr>
                <a:buFont typeface="Times New Roman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ирус  попадает в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здоровую клетку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5983200" y="4971600"/>
              <a:ext cx="19929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3.Вирус внедряется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 генную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структуру клетк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_s1034"/>
            <p:cNvSpPr/>
            <p:nvPr/>
          </p:nvSpPr>
          <p:spPr>
            <a:xfrm>
              <a:off x="1177200" y="4975200"/>
              <a:ext cx="1993680" cy="11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4.Человек теряет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способность к борьбе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с любыми инфекциям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_s1035"/>
            <p:cNvSpPr/>
            <p:nvPr/>
          </p:nvSpPr>
          <p:spPr>
            <a:xfrm>
              <a:off x="1170720" y="2113920"/>
              <a:ext cx="1993680" cy="11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r">
                <a:buClr>
                  <a:srgbClr val="ffcc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ирус Т-лимфоцит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иммунной системы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ызывает болезнь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4" name="Text Box 24"/>
          <p:cNvSpPr/>
          <p:nvPr/>
        </p:nvSpPr>
        <p:spPr>
          <a:xfrm>
            <a:off x="2411280" y="371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Этапы развития болезн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520" y="1801800"/>
            <a:ext cx="57578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Убить вирус можно нагреванием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кровеносной системы до + 56</a:t>
            </a:r>
            <a:r>
              <a:rPr b="0" lang="ru-RU" sz="2400" spc="-1" strike="noStrike" baseline="30000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в течение 50 минут. Так как эту процедуру не сможет выдержать ни один человек, можно говорить о том, что вылечить это заболевание невозможно. Кстати, выявить болезнь тоже очень сложно. Она долгое время может себя не проявлять, а обнаружить ее можно только в лабораторных условиях по специальной методик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5" descr="JJJ (827)"/>
          <p:cNvPicPr/>
          <p:nvPr/>
        </p:nvPicPr>
        <p:blipFill>
          <a:blip r:embed="rId1"/>
          <a:stretch/>
        </p:blipFill>
        <p:spPr>
          <a:xfrm>
            <a:off x="6012000" y="2924280"/>
            <a:ext cx="2935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520" y="1801440"/>
            <a:ext cx="546912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Способы заражения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ри половых контактах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ри попадании в кровь через нестерильные медицинские прибор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Times New Roman"/>
              </a:rPr>
              <a:t>В России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наиболее распространен второй способ. Количество заболевших постоянно растет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1995 год – на 100 тыс. человек было 1-3 случая заболевани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1996 год – 131 случай заболевани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1999 год – более 13 тысяч случае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5" descr="JJJ (98)"/>
          <p:cNvPicPr/>
          <p:nvPr/>
        </p:nvPicPr>
        <p:blipFill>
          <a:blip r:embed="rId1"/>
          <a:stretch/>
        </p:blipFill>
        <p:spPr>
          <a:xfrm>
            <a:off x="5724360" y="3692520"/>
            <a:ext cx="32958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Picture 4" descr="JJJ (683)"/>
          <p:cNvPicPr/>
          <p:nvPr/>
        </p:nvPicPr>
        <p:blipFill>
          <a:blip r:embed="rId1"/>
          <a:stretch/>
        </p:blipFill>
        <p:spPr>
          <a:xfrm>
            <a:off x="0" y="172548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Picture 4" descr="JJJ (753)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5684760" cy="50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Профилактика СПИ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– единственный путь борьбы с ним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Основные направления профилактики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бучение населения правильному половому поведению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граничение половых партнеров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Использование презерватив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облюдение правил личной гигиен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беспечение правил обращения со шприцам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терилизация мединструментов и систем переливания кров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Использование одноразовых инструмент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5" descr="JJJ (98)"/>
          <p:cNvPicPr/>
          <p:nvPr/>
        </p:nvPicPr>
        <p:blipFill>
          <a:blip r:embed="rId1"/>
          <a:stretch/>
        </p:blipFill>
        <p:spPr>
          <a:xfrm>
            <a:off x="5940360" y="3816360"/>
            <a:ext cx="3079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9:54:12Z</dcterms:created>
  <dc:creator>PASARELLA</dc:creator>
  <dc:description/>
  <dc:language>en-US</dc:language>
  <cp:lastModifiedBy>admin</cp:lastModifiedBy>
  <dcterms:modified xsi:type="dcterms:W3CDTF">2014-03-10T14:36:46Z</dcterms:modified>
  <cp:revision>25</cp:revision>
  <dc:subject/>
  <dc:title>СПИД И ЕГО ПРОФИЛАКТИКА</dc:title>
</cp:coreProperties>
</file>