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A76-485C-4577-9569-9BF6A660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BE9-FAAC-4397-A509-6A48C4DC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B62-2DD0-4484-9240-0C8B5457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44C-21B3-4190-AFE5-4836F5FA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336-EB3E-4494-A63B-D08E051A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C971-E7FB-44B1-89CD-4A04048A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CAE-DE77-4458-9FF5-4E03654F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4B9B-F8EE-4497-BD51-D5ACAA85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20A-B825-4548-A6B8-29BF24A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59A-BC16-4B35-A5AA-EFDDB04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ED1B-BC80-4E4D-9745-F756683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518-2BD0-4F23-B3F4-207ADC6E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E17F-8C36-4386-A768-EF5AC7A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B481-597E-4CE4-94D0-593515D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745-8D68-491E-B6F6-04DEF1C7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3E0-65A4-4C69-B25B-4EBCFE12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3F6C-E5F0-4EA6-81CF-DCC3BD38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27F-1595-4331-A84F-36C9387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C4D-02F3-4D71-B1A7-B52EECA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72A-6410-44FE-B738-36A16551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59D-8BA4-49C0-9B05-87B9C6D2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90D-8444-4545-A1B8-AAC16B1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883-0FA3-483F-BB77-508DA96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378-7CC2-4937-AAFD-EEF8E23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AC3-50DE-480C-85E0-F804D4568E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865-685D-4C4C-8B49-2EBA8E106A0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ffffff"/>
                </a:solidFill>
                <a:latin typeface="Garamond"/>
              </a:rPr>
              <a:t>Основные законы термодинамики</a:t>
            </a:r>
            <a:endParaRPr b="0" lang="en-US" sz="67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ы термодинамики. Термодинамические процессы. Циклы. Цикл Кар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бъединенное уравн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диненное уравнение первого и второго закона термодинамики для обратимых процессов и 1 кг рабочего те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429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р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ая гипотеза тепловой машины, устанавливающая условия превращения теплоты в работу с точки зрения получения максимального к.п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ая величина к.п.д. тепловой машины – особенность теплоты, а не технического несовершенства маши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етические тепловые машины работают по круговым термодинамическим процессам – цикл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торой закон термодинамики для циклов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, в котором рабочее тела, претерпев ряд изменений, возвращается в первоначальное состояние, наз.кругов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 3 элемен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реватель или теплоприемник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лодильник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&g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ее те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ример цикл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водят тепл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чее тело расширяется и совершает рабо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озвращения рабочего тела в первоначальное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жат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 внутренней энергии в форме теплоты рабочее тело отдаст холодильник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ота цик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цикла: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1914480" cy="514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971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5562720" y="3429000"/>
                <a:ext cx="2438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с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ж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икл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сканирование0023"/>
          <p:cNvPicPr/>
          <p:nvPr/>
        </p:nvPicPr>
        <p:blipFill>
          <a:blip r:embed="rId1"/>
          <a:stretch/>
        </p:blipFill>
        <p:spPr>
          <a:xfrm>
            <a:off x="2057400" y="1523880"/>
            <a:ext cx="4702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икл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сех циклах изменение внутренней энергии, энтальпии и энтропии равно 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закон термодинамики для циклов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4479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торой закон термодинамики в формулировке Карн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руговом процесса теплота нагревателя не может быть полностью превращена в рабо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окупность процессов расширения и сжатия образовала термодинамический цикл, площадь которого равна работе, совершенной рабочим тел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лассификация цик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икл прямой – линия процесса расширения 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-v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аграмме расположена выше линии сжа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икл обратный - 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икл обратимый – состоит из обратимых процес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икл необратимый - 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прямым циклам работают все тепловые двигатели, производимая работа отдается внешнему потребител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братным циклам работают холодильные машины, теплота переходит от холодного тела к горяч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епень совершенства цикл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ценки цикла необходимо знать долю теплот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вращенной в полезную работу. Термический к.п.д.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.е. невозможно создать тепловую машину, термический к.п.д. которой был бы равен единиц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2819520"/>
            <a:ext cx="3381480" cy="866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ервый закон термодинамик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исчезает некоторое количество тепловой энергии, возникает эквивалентное количество механической энергии (в виде совершенной работ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совершении какой-либо работы появляется эквивалентное ей количество тепловой энерг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икл Карн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аграм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-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диаграм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6" descr="сканирование0024"/>
          <p:cNvPicPr/>
          <p:nvPr/>
        </p:nvPicPr>
        <p:blipFill>
          <a:blip r:embed="rId1"/>
          <a:stretch/>
        </p:blipFill>
        <p:spPr>
          <a:xfrm>
            <a:off x="914400" y="2166840"/>
            <a:ext cx="7848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Цикл Сади Карн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рмодинамический цикл состоит из 2-х изотермических и 2-х адиабатных процесс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тимый круговой процес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остоит из обратимых термодинамических процесс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рмический к.п.д. цикла Карно не зависит от природы газа и определяется температурами нагревателя и холодиль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ичество подведенного теп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плота цик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.п.д. цикла К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6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1533600" cy="476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8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590920" cy="5144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2"/>
              <p:cNvSpPr txBox="1"/>
              <p:nvPr/>
            </p:nvSpPr>
            <p:spPr>
              <a:xfrm>
                <a:off x="4119480" y="4724280"/>
                <a:ext cx="47959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ц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ц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S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снова второго закона термодинамик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евращения тепла в механическую работу необходимы два источника тепла с различной температурой и рабочее те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цикле тепло источника с большей температурой не может быть полностью превращено в работу, т.к. часть его отдается источнику с меньшей температур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о не может само переходить от тела менее нагретого к более нагретому без затрат рабо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торой закон термодинамики для цик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матическая запис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к = - обратимые цикл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к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&lt; - необратимые цик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интеграл, взятый по замкнутому контуру, равен 0, то под знаком интеграла находится полный дифференциал некоторой функци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141912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4343400" y="5486400"/>
            <a:ext cx="12762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атематическое выражение первого закона термодинамик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к газообразному рабочему телу, находящемуся в равновесии, подвести тепло, то часть его пойдет на изменение внутренней энергии, а часть затрачивается на совершение работ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981080" y="4267080"/>
            <a:ext cx="502452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Работа расширения: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1 кг массы рабочего тел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Копия сканирование0023"/>
          <p:cNvPicPr/>
          <p:nvPr/>
        </p:nvPicPr>
        <p:blipFill>
          <a:blip r:embed="rId1"/>
          <a:stretch/>
        </p:blipFill>
        <p:spPr>
          <a:xfrm>
            <a:off x="2957400" y="2509920"/>
            <a:ext cx="3229200" cy="183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374328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5715000" y="5181480"/>
            <a:ext cx="1752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-v 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иаграмм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-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лощадь, ограниченная кривой, осью абсцисс и ординатами крайних точек, равна работе расши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шняя работа –положительная в процессах расширения и отрицательная – в процессах сжат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сканирование0017"/>
          <p:cNvPicPr/>
          <p:nvPr/>
        </p:nvPicPr>
        <p:blipFill>
          <a:blip r:embed="rId1"/>
          <a:stretch/>
        </p:blipFill>
        <p:spPr>
          <a:xfrm>
            <a:off x="4648320" y="1855800"/>
            <a:ext cx="41148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q=0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ует теплообмен системы с окружающей средой, процесс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диабат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 тела не меняется,                , процесс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охор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внутренняя энергия системы не меняется, процесс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отермическ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800" y="-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720" y="593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520" y="-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586764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156204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3"/>
          <a:stretch/>
        </p:blipFill>
        <p:spPr>
          <a:xfrm>
            <a:off x="914400" y="2590920"/>
            <a:ext cx="107640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5638680" y="2666880"/>
            <a:ext cx="106704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17" descr=""/>
          <p:cNvPicPr/>
          <p:nvPr/>
        </p:nvPicPr>
        <p:blipFill>
          <a:blip r:embed="rId5"/>
          <a:stretch/>
        </p:blipFill>
        <p:spPr>
          <a:xfrm>
            <a:off x="3352680" y="3124080"/>
            <a:ext cx="1295640" cy="476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9" descr=""/>
          <p:cNvPicPr/>
          <p:nvPr/>
        </p:nvPicPr>
        <p:blipFill>
          <a:blip r:embed="rId6"/>
          <a:stretch/>
        </p:blipFill>
        <p:spPr>
          <a:xfrm>
            <a:off x="838080" y="3657600"/>
            <a:ext cx="1076400" cy="476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1"/>
          <p:cNvSpPr/>
          <p:nvPr/>
        </p:nvSpPr>
        <p:spPr>
          <a:xfrm>
            <a:off x="4426920" y="444600"/>
            <a:ext cx="2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2" descr=""/>
          <p:cNvPicPr/>
          <p:nvPr/>
        </p:nvPicPr>
        <p:blipFill>
          <a:blip r:embed="rId7"/>
          <a:stretch/>
        </p:blipFill>
        <p:spPr>
          <a:xfrm>
            <a:off x="4343400" y="4572000"/>
            <a:ext cx="12859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ервый закон термодинамик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172960"/>
            <a:ext cx="403848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тверждает взаимопревращаемость теплоты и работы и не ставит ограничений в осуществлении этого процес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противоречит существованию вечного двигат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0417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6160" y="167472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ращение работы в теплоту не связано с ограничения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ращение теплоты в работу требует определенных услов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возможно возвращение ТДС в первоначальное состояние без каких-либо изменений в окружающей сред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ратимы все естественные процес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торой закон термодинамик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0764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юбой реальный самопроизвольный процесс необрат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текании в ТДС необратимого процесса неизменно возрастает энтропия. Чем больше необратимость – тем больше энтропия. Изменение энтропии – мера необратимости термодинамических процес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налитическое выражение второго закона термодинамик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к &gt; характеризует необратим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к = характеризует обратим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13240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9-11-11T05:14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