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E63-04C0-4EBF-8862-F99DF6D1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62E-4B82-4A59-A260-18909C87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718-6593-4D96-A910-D9B722C0D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F01-8862-44F8-8E89-DCAD0B24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BAFE-4EEC-42B5-BBBF-4D6FE111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9FC2-CB00-474D-B2BE-ABFA5627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0700-B2E8-4D54-846F-04C96C55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7A4C-96D3-413D-9CF5-82E3BE1F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D199-2374-400A-852E-8175683A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0442-8679-4A6F-90AA-2F462D9A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EC8D-04A2-4752-8383-9E6A9180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0534-9A7A-4051-9B70-0DF0BDF0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EED2-4D7F-45D2-88B8-73E7F38E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9088-982A-4721-8D4F-A397AED4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2482-CC5A-4122-8CC0-200AC3DC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93C3-705B-45F5-99AE-9CA947B4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6712-95CF-44A0-AD5E-4D763EA27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2F7BE-890D-4DEF-93CD-DE9FB924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3B8DA-3BF2-49A7-803A-B6D46DA1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2B4A-98C6-43E4-AB0A-5F64FABC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CE85B-7BA2-4BBB-A94A-FA169887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7420-A574-4B25-BE09-E3DF5664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055-3A55-4C21-8F50-A73C4A31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FE9C8-2723-49DA-AB19-0434E7AA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2A98C-C52C-436A-A40E-29364647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1CFCF-A228-48AC-A986-BDB9B052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2534-A5BF-408A-9580-3294254A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2A57-0120-4A60-90B9-246EAE6B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99AD2-D0C8-4B84-8519-28FD269C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A6655-9E55-4FA4-AE66-E713D501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00DC8-E731-4D66-B42C-A6C82629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9EB55-2DA1-4F29-B40F-8696422F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3210-A57D-4777-A018-9F4D6F10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16B-D6D3-4682-9A12-F13000A0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34802-8606-4E80-9C21-CEF42C87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7BF1-AD49-4CAE-90A2-AF54DD32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F7248-DF07-463E-A892-4FD79036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1C69C-E7D3-405E-80DB-55C754B8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FB30A-7D26-4702-890F-058E7649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9C3CB-51F4-41A2-9768-A11F8A07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E1C6-C93B-4AD7-905F-380BCB9E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DCDFD-36F6-4859-A03F-8B9FD117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1B2CE-686A-498B-A791-56C8AD1A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416C0-E896-4FB3-B146-57C4B411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1AE-0706-49E8-AF5C-B0173033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5963F-AEBF-4996-906B-502A165C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3C458-9DD7-423C-808D-B04C7A97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001E3-8191-423B-A1FB-5D5C3DD6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F0387-A4F0-43DE-A66A-61771A48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9C2FE-7C7B-46AB-9023-5752F8AA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3E802-ADE4-487E-AAE9-AE3EFE40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54605-7B10-446B-8408-F0C0F1B6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69E8A-2BE7-46E4-B4ED-E9537766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23DD0-D18F-4762-A22E-8BDCE501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5FB4E-BEA2-4190-8EA7-79B69518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034-46A5-4687-8186-765C30AE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AACA6-F4CF-4F49-9FDF-4E82B782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2B5-4AAD-441F-B739-2F73E9E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F59-2EC7-45CC-8E93-D8E82789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E18-F25C-45CA-B894-98189A3E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C83C-1513-41BF-BB7E-4D66B2A37BE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5826-AAFC-483B-A1CA-9CA63743BC5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EB4F-66AD-4501-B6E1-68EEF52C2C4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2AA7-6D5A-4259-9C69-160371B4DD7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5422-D218-4499-A059-E28AAF7F0B0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96464"/>
                </a:solidFill>
                <a:latin typeface="Cambria"/>
              </a:rPr>
              <a:t>Царенко С.В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пинальная травм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еред и после выписки из ОРИТ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Широкие показания к неинвазивной ИВЛ в раннем и отдаленном периоде при повреждении шейного отдела спинного мозг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Летальность с высокой спинальной травмой в течение 1-го года: почти 90% - без НИВЛ, около 40% - с НИВЛ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150920" y="4221000"/>
            <a:ext cx="2968560" cy="2043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72880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Основные положения лекции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Чем выше уровень травмы – тем хуже исход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Хирургическое лечение при грубом неврологическом дефиците чаще всего просто облегчает уход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Индивидуализированный подход к инвазивной ИВЛ в острейшем период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Широкие показания к длительной неинвазивной ИВЛ при  шейной травме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Диагностика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3848040" cy="4524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331308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линическая картина острого период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врологическая симптоматика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арапарез (ы) или параплегия, тетрапарез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очетанные и комбинированные повреждени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Часто сочетается с ЧМТ (шейный отдел спинного мозга), ушибом легких и переломами ребер (грудной отдел СМ), повреждениями почек м забрюшинными гематомами (поясничный отдел СМ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мбинированные поражения: утопление, ожоги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линическая картина острого период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рушения дыхани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равма шейного отдела – диафрагмальное дыхани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рушения гемодинамик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равма шейного отдела – спинальный шок, СССУ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Клиническая картина острого периода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исфункция ЖКТ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порный парез желудка, стрессорные язвы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асстройства терморегуляции и септические осложнени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нейрогенная гипертермия» – казуистика, основная причина – септические осложнения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невмони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лежн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очевая инфекци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аневая инфекция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Хирургическое лечени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табилизация позвоночного столба, удаление детрита и гематом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Влияние на неврологический исход сомнительное при грубом неврологическом дефиците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Осложняет ведение острого периода, но облегчает ухо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собенности анестезии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стабильность гемодинамики, нежелательность использования сукцинилхолина, синдром вегетативной дисфункции в отдаленном периоде травмы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онсервативное лечени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90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офилактика вторичной ишемии спинного мозга: оксигенация и гемодинамика (с меньшим «усердием» по ср с ЧМТ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ортикостероиды не используют (критика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ASCISS II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Борьба с парезом желудка и кишечника, энтеральное питание, ингибиторы протонной помпы (по показаниям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онсервативное лечение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опрос об интубации трахеи и трахеостомии при шейной травме – индивидуальный подход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нвазивная ИВЛ - индивидуально , неинвазивная ИВЛ – при шейных травмах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ход – регулярные повороты с соблюдением оси тела (даже оперированного больного – 5-7 дней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Мочевыводящая система – обеспечение оттока мочи (контроль остаточной мочи), профилактика пролежней уретры у мужчин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Реабилитация в реанимации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осстановление движений (пассивная гимнастика, велотренажеры, миостимуляторы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осстановление функций тазовых органов («тренировка» мочевого пузыря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даленный период: синдром вегетативной гиперрефлексии при поражении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 VII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и выше (гиперсимпатикус ниже уровня поражения, гиперпарасимпатикус – выше) – максимально при стимуляции аноректальной зоны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Деканюляция трахе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казания к продленной неинвазивной вентиляции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16:10Z</dcterms:created>
  <dc:creator>vitek</dc:creator>
  <dc:description/>
  <dc:language>en-US</dc:language>
  <cp:lastModifiedBy>Home</cp:lastModifiedBy>
  <dcterms:modified xsi:type="dcterms:W3CDTF">2016-10-17T00:41:25Z</dcterms:modified>
  <cp:revision>23</cp:revision>
  <dc:subject/>
  <dc:title>Спинальная травма</dc:title>
</cp:coreProperties>
</file>