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1C07-225A-41B1-B62F-78418F731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8463-886F-4BB2-8227-355C6A04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C5E7-488E-44D0-91D6-C12C10D07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6988-B6DC-4D12-B10E-EDD1E9C17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F5AA-DDDE-4ECA-83DC-B412E7E2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A925-2571-42DE-B0B2-F6F14C7A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2D34-2B56-48BD-AF1C-FBBB9462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4561-9B32-493D-8B36-B60457C6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8BB6-55B7-455D-BC46-417055D8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5A78-69E5-4914-9BEE-42869035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5BD7-B927-4056-A4A0-17C69351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2AC9-5C61-4A8E-9453-C27ABA3F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39AB-3BC6-4F35-9B30-73972AE2F0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98108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АЗОВЫЕ ТЕХНОЛОГИИ ЛОКАЛЬНЫХ СЕТ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ехнологии локальных сет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0" y="1371600"/>
            <a:ext cx="85345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thernet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корость передачи данных 10 Мбит/с. Максимальная длина сети - 2.5 к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Token Ring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корость передачи данных 4 или 16 Мбит/с. Максимальная длина сет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4 к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FDDI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орость передач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100 Мбит/с. Максимальная длина сети - 100 к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st Ethernet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корость передачи данных 100 Мбит/с. Максимальная длина сети - 200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igabit Etherne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орость передачи данных до 1Гби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. Максимальная длина сети - 200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ппаратные средства локальных сетей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нии передачи дан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тевые контролле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емопередатчики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ceive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вторители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eate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центраторы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ст (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dg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мутатор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c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нцип работы мос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18"/>
          <p:cNvGrpSpPr/>
          <p:nvPr/>
        </p:nvGrpSpPr>
        <p:grpSpPr>
          <a:xfrm>
            <a:off x="990720" y="2089080"/>
            <a:ext cx="6933600" cy="1697400"/>
            <a:chOff x="990720" y="2089080"/>
            <a:chExt cx="6933600" cy="1697400"/>
          </a:xfrm>
        </p:grpSpPr>
        <p:sp>
          <p:nvSpPr>
            <p:cNvPr id="75" name="Text Box 3"/>
            <p:cNvSpPr/>
            <p:nvPr/>
          </p:nvSpPr>
          <p:spPr>
            <a:xfrm>
              <a:off x="3733560" y="2089080"/>
              <a:ext cx="1447560" cy="1086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360000" bIns="360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Мос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4"/>
            <p:cNvSpPr/>
            <p:nvPr/>
          </p:nvSpPr>
          <p:spPr>
            <a:xfrm>
              <a:off x="5181480" y="2438280"/>
              <a:ext cx="22824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5"/>
            <p:cNvSpPr/>
            <p:nvPr/>
          </p:nvSpPr>
          <p:spPr>
            <a:xfrm>
              <a:off x="3504960" y="2438280"/>
              <a:ext cx="22824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8"/>
            <p:cNvSpPr/>
            <p:nvPr/>
          </p:nvSpPr>
          <p:spPr>
            <a:xfrm flipH="1">
              <a:off x="1447560" y="2666880"/>
              <a:ext cx="2057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9"/>
            <p:cNvSpPr/>
            <p:nvPr/>
          </p:nvSpPr>
          <p:spPr>
            <a:xfrm flipH="1">
              <a:off x="5410080" y="2666880"/>
              <a:ext cx="2057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10"/>
            <p:cNvSpPr/>
            <p:nvPr/>
          </p:nvSpPr>
          <p:spPr>
            <a:xfrm>
              <a:off x="990720" y="3276360"/>
              <a:ext cx="914040" cy="51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К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11"/>
            <p:cNvSpPr/>
            <p:nvPr/>
          </p:nvSpPr>
          <p:spPr>
            <a:xfrm flipV="1">
              <a:off x="1447560" y="2666520"/>
              <a:ext cx="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12"/>
            <p:cNvSpPr/>
            <p:nvPr/>
          </p:nvSpPr>
          <p:spPr>
            <a:xfrm>
              <a:off x="2209680" y="3276360"/>
              <a:ext cx="914040" cy="51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К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13"/>
            <p:cNvSpPr/>
            <p:nvPr/>
          </p:nvSpPr>
          <p:spPr>
            <a:xfrm flipV="1">
              <a:off x="2666880" y="2666520"/>
              <a:ext cx="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4"/>
            <p:cNvSpPr/>
            <p:nvPr/>
          </p:nvSpPr>
          <p:spPr>
            <a:xfrm>
              <a:off x="7010280" y="3276360"/>
              <a:ext cx="914040" cy="51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К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15"/>
            <p:cNvSpPr/>
            <p:nvPr/>
          </p:nvSpPr>
          <p:spPr>
            <a:xfrm flipV="1">
              <a:off x="7467480" y="2666520"/>
              <a:ext cx="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16"/>
            <p:cNvSpPr/>
            <p:nvPr/>
          </p:nvSpPr>
          <p:spPr>
            <a:xfrm>
              <a:off x="5638680" y="3276360"/>
              <a:ext cx="914040" cy="51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К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17"/>
            <p:cNvSpPr/>
            <p:nvPr/>
          </p:nvSpPr>
          <p:spPr>
            <a:xfrm flipV="1">
              <a:off x="6095880" y="2666520"/>
              <a:ext cx="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19"/>
          <p:cNvSpPr/>
          <p:nvPr/>
        </p:nvSpPr>
        <p:spPr>
          <a:xfrm>
            <a:off x="2438280" y="2057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5334120" y="20574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Object 21"/>
          <p:cNvGraphicFramePr/>
          <p:nvPr/>
        </p:nvGraphicFramePr>
        <p:xfrm>
          <a:off x="2666880" y="4343400"/>
          <a:ext cx="3872160" cy="185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4343400"/>
                    <a:ext cx="3872160" cy="18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сновные по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етевая технологи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это согласованный набор стандартных протоколов и реализующих их программно - аппаратных средств, достаточный для построения компьютерной се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окальные сети строятся по стандартам физического и канального уровн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Физический уровен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бельные линии связ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бель на основе витой пар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аксиальный кабель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локонно-оптический кабел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спроводные линии связ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диоканалы наземной и спутниковой связ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фракрасные каналы связ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азерная связ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итая па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экранированная витая пара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shielded Twisted Pair, UTP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gory 1, ... , Category 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ранированная витая пара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ielded Twisted Pair, STP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1, ... , Type 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Object 4"/>
          <p:cNvGraphicFramePr/>
          <p:nvPr/>
        </p:nvGraphicFramePr>
        <p:xfrm>
          <a:off x="5715000" y="190440"/>
          <a:ext cx="2895480" cy="12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190440"/>
                    <a:ext cx="2895480" cy="1257480"/>
                  </a:xfrm>
                  <a:prstGeom prst="rect">
                    <a:avLst/>
                  </a:prstGeom>
                  <a:ln w="25560">
                    <a:solidFill>
                      <a:srgbClr val="3366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" name="Rectangle 5"/>
          <p:cNvSpPr/>
          <p:nvPr/>
        </p:nvSpPr>
        <p:spPr>
          <a:xfrm>
            <a:off x="685800" y="4800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аксиальный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абел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Object 6"/>
          <p:cNvGraphicFramePr/>
          <p:nvPr/>
        </p:nvGraphicFramePr>
        <p:xfrm>
          <a:off x="5715000" y="4838760"/>
          <a:ext cx="2895480" cy="125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4838760"/>
                    <a:ext cx="2895480" cy="1257120"/>
                  </a:xfrm>
                  <a:prstGeom prst="rect">
                    <a:avLst/>
                  </a:prstGeom>
                  <a:ln w="255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олоконно-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птический кабел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Object 6"/>
          <p:cNvGraphicFramePr/>
          <p:nvPr/>
        </p:nvGraphicFramePr>
        <p:xfrm>
          <a:off x="4114800" y="1981080"/>
          <a:ext cx="4492800" cy="433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981080"/>
                    <a:ext cx="4492800" cy="4337280"/>
                  </a:xfrm>
                  <a:prstGeom prst="rect">
                    <a:avLst/>
                  </a:prstGeom>
                  <a:ln w="25560">
                    <a:solidFill>
                      <a:srgbClr val="3366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ногомодов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омодов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абельные линии связ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Object 3"/>
          <p:cNvGraphicFramePr/>
          <p:nvPr/>
        </p:nvGraphicFramePr>
        <p:xfrm>
          <a:off x="928800" y="1998720"/>
          <a:ext cx="7481880" cy="406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1998720"/>
                    <a:ext cx="7481880" cy="40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152280" y="14940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лосы пропускания линий связи и частотные диапазон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3"/>
          <p:cNvGraphicFramePr/>
          <p:nvPr/>
        </p:nvGraphicFramePr>
        <p:xfrm>
          <a:off x="1447920" y="1357200"/>
          <a:ext cx="6019560" cy="549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357200"/>
                    <a:ext cx="6019560" cy="54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анальный уровен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правление доступом к каналу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um Access Control, МА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правление логическим каналом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Link Control, LLC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609480" y="4419720"/>
            <a:ext cx="8269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оступом к се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зывают взаимодействие станции (узла сети) со средой передачи данных для обмена информацией с другими станциями. Управление доступом к среде - это установление последовательности, в которой станции получают доступ к среде передачи данны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етод доступа к среде пере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учайный, основанный на контроле передачи данных в линии связи и устранении конфликтов, возникающих из-за попыток одновременного начала передачи двумя или более станциями, путем повторения попыток захвата линии через случайный отрезок времен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терминированный, основанный на передаче полномочий передающей станции с помощью специального информационного объекта, называемого маркеро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7T06:14:15Z</dcterms:created>
  <dc:creator>Андрей</dc:creator>
  <dc:description/>
  <dc:language>en-US</dc:language>
  <cp:lastModifiedBy>Пользователь</cp:lastModifiedBy>
  <dcterms:modified xsi:type="dcterms:W3CDTF">2015-10-03T19:18:14Z</dcterms:modified>
  <cp:revision>29</cp:revision>
  <dc:subject/>
  <dc:title>ПОИСК ИНФОРМАЦИИ  В ИНТЕРНЕТ</dc:title>
</cp:coreProperties>
</file>