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11DE-9A1C-4906-B193-B4F6EB1F6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367C-458E-42B8-991E-9751162E4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8DAA-7D5C-401C-8305-7E9F77086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466F-DC24-43B6-A2D3-ED777E9A7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4DFE-68DD-4F6B-82B9-38BB5A7BB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DC10-BCC9-49B4-8FE8-C7C84D1DF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E8D7-A309-4DBB-8FD0-BB9CC7387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44A0-67FC-4077-9364-3B9963B08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6E6E-78C0-4A3C-BD3A-218B2E0E2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A614-BB1B-4079-A88C-DD070F0D34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0EFC-256C-406C-B82B-A7326A059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9101-01F9-4498-B93D-10098C192D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41FB-454C-4D3F-B17B-BBF4E2939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7C02-CB14-4FB4-A570-2B001E2F2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04A4-51A3-4974-85EB-546E33B86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4684-DB08-4ADC-B1BF-9C623173C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C765-9600-494E-A4B3-3B4E46209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F02B-8FF0-4B08-8982-067EBF9A2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73A-B74E-4722-9FEE-66BF1BD761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8C8-745D-4CEC-85D0-FDC94C243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58DE-49FE-445B-9DB0-3C94DBEE5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15B7-7130-4208-87FA-755894182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B3D7-1CAA-432D-9EBF-73A19A064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5DC7-C280-4D13-BB6B-22BF48DB5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6CA4-0A5B-4532-A582-95EA17425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52C7-0D69-4CDE-8D60-628EEB78A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420-3B13-4051-9608-7B6BDA4780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FD60-E429-40F2-8D83-59638C041E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6ED5-8CEC-4C75-B03A-EA910178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A5C8-6FAC-4F09-931F-66F67031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DF6D-3C30-4437-A1E3-6A4594657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6AA8-DA40-4AEB-B880-26ADEB9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FBFB-E0D1-407E-AFE7-F2BC594E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9506-8D47-4183-AAD3-461A267B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EC1A-D96B-45C0-93CB-F8BB65F8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18EC-7EDC-461F-9C45-D612139E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126C-E706-43B5-BC23-F9AC68AB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2E04-EF6E-419B-BDD1-B3D235C6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CC21-DCF8-465E-AA51-8B3B087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43F4-4C65-46D0-A5CC-B9F1D5EA3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500040" y="1857240"/>
            <a:ext cx="8064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6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egoe UI Light"/>
              </a:rPr>
              <a:t>Особенности безработицы</a:t>
            </a:r>
            <a:endParaRPr b="1" lang="en-US" sz="2060" spc="1" strike="noStrike">
              <a:ln w="9360">
                <a:solidFill>
                  <a:srgbClr val="9933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egoe UI Light"/>
              <a:ea typeface="Segoe U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Предложение на рынке тру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vpravo"/>
          <p:cNvPicPr/>
          <p:nvPr/>
        </p:nvPicPr>
        <p:blipFill>
          <a:blip r:embed="rId1"/>
          <a:stretch/>
        </p:blipFill>
        <p:spPr>
          <a:xfrm>
            <a:off x="11725200" y="3200400"/>
            <a:ext cx="142920" cy="66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vpravo"/>
          <p:cNvPicPr/>
          <p:nvPr/>
        </p:nvPicPr>
        <p:blipFill>
          <a:blip r:embed="rId2"/>
          <a:stretch/>
        </p:blipFill>
        <p:spPr>
          <a:xfrm>
            <a:off x="12161880" y="3200400"/>
            <a:ext cx="142920" cy="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едложение труд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847800" y="620640"/>
            <a:ext cx="0" cy="440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847440" y="5021280"/>
            <a:ext cx="47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0" y="1668600"/>
            <a:ext cx="77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2860560"/>
            <a:ext cx="84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0" y="3900600"/>
            <a:ext cx="84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19"/>
          <p:cNvSpPr/>
          <p:nvPr/>
        </p:nvSpPr>
        <p:spPr>
          <a:xfrm flipV="1">
            <a:off x="1201680" y="1338840"/>
            <a:ext cx="3183120" cy="3120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847800" y="4140360"/>
            <a:ext cx="1768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849240" y="3100320"/>
            <a:ext cx="2968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847800" y="1981080"/>
            <a:ext cx="3467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 flipV="1">
            <a:off x="2546280" y="4140000"/>
            <a:ext cx="0" cy="880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 flipV="1">
            <a:off x="3817800" y="3100320"/>
            <a:ext cx="0" cy="1920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4314960" y="1982520"/>
            <a:ext cx="6120" cy="2958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4038120" y="5181480"/>
            <a:ext cx="5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0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448800" y="517212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8"/>
          <p:cNvSpPr/>
          <p:nvPr/>
        </p:nvSpPr>
        <p:spPr>
          <a:xfrm>
            <a:off x="2190240" y="518148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9"/>
          <p:cNvSpPr/>
          <p:nvPr/>
        </p:nvSpPr>
        <p:spPr>
          <a:xfrm>
            <a:off x="4932360" y="1101240"/>
            <a:ext cx="4103640" cy="393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е труда реагирует на изменение цен: по мере их роста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&lt;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&lt;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снижается ставка реальной зарплаты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следствие этого уменьшается предложение труда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0" y="5624640"/>
            <a:ext cx="9144000" cy="1263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ие уровня цен вызывает движение вниз по кривой предложения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2"/>
          <p:cNvSpPr/>
          <p:nvPr/>
        </p:nvSpPr>
        <p:spPr>
          <a:xfrm>
            <a:off x="4211640" y="19162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3"/>
          <p:cNvSpPr/>
          <p:nvPr/>
        </p:nvSpPr>
        <p:spPr>
          <a:xfrm>
            <a:off x="3708360" y="306864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4"/>
          <p:cNvSpPr/>
          <p:nvPr/>
        </p:nvSpPr>
        <p:spPr>
          <a:xfrm>
            <a:off x="2484360" y="407664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тел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работ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казателе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работицы является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казатель уровн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работиц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безработиц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ставляет собой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ношение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численности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езработных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к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щей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численности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бочей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ил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умме количества занятых и безработных)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3708360" y="5129280"/>
                <a:ext cx="34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безработ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личают три типа безработи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рикционную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ную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клическу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5760" y="260280"/>
            <a:ext cx="8458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стественный уровень безрабо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Естественный уровень безработ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о такой уровень безработицы при котором 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сит полностью </a:t>
            </a:r>
            <a:r>
              <a:rPr b="0" i="1" lang="ru-RU" sz="3200" spc="-1" strike="noStrike">
                <a:solidFill>
                  <a:srgbClr val="cc0000"/>
                </a:solidFill>
                <a:latin typeface="Times New Roman"/>
              </a:rPr>
              <a:t>добровольный характер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фрикционную безработ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труктурную безработ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ическая или конъюнктурная безработ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работица, причиной которой выступает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рецесс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азывается циклической безработиц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периоды бу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с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рабочую силу настолько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ел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что безработица оказывается ниже естественно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периоды спа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блюдаются обратные процессы, и фактическая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безработица превышает естественный уров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актическая безработица и ее естественный уров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ическая безработица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может превыш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й естественный уровень (при спад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ический уровень безработицы рассчитывается как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умма уров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езработицы всех типов (фрикционной, структурной и циклическ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фактического уровня безработицы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может быть как больше (при спаде), так и меньш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ри буме)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естествен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ровня безработ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8772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Классификация безработицы </a:t>
            </a:r>
            <a:r>
              <a:rPr b="0" i="1" lang="ru-RU" sz="4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классическая</a:t>
            </a:r>
            <a:r>
              <a:rPr b="0" i="1" lang="ru-RU" sz="4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2117520"/>
            <a:ext cx="3527280" cy="31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Фрикцио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Структу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0" y="2133360"/>
            <a:ext cx="4392720" cy="34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Цикл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лассическая безработ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08000" y="26028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Застойная и скрытая безрабо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Скрыт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езработица характеризуется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неполной занят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течении рабочего дня, рабочего месяца или года, а также выполнение работником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не полного объ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Застой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езработица, к ней относится та часть незанятых, которая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потеряла работ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утратила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получение пособия по безработице,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отчаялась най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у и уже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приспособила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жить на социальные пода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7200"/>
            <a:ext cx="86868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Зависимость между инфляцией и безработицей, или кривая Филлип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48720" cy="55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Население и его экономическая характер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ое и незанятое нас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ие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рос на рынк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ение на рынк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ы безработ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икционная, структурная, циклическая, классическ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ие естественного уровня безработ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тическая, добровольная, вынужденная, застойная, скры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безработица связана с инфляцией и выпу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вая Филли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ременные под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последствия безрабо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ук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06280" y="189000"/>
            <a:ext cx="8686800" cy="79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опрос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Кривая Филлипса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торая устанавливает отрицательную связь между темпом инфляции и уровнем безработицы, имеет место лишь при в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краткосрочном период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 долгосрочном периоде зависимости между инфляцией и безработицей н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экономика функционирует при естественном уровне безработ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отношение между краткосрочными и долгосрочной кривыми Филлипса проиллюстрировано на следующем сла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47640" y="998640"/>
            <a:ext cx="7848720" cy="5859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5720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вая Филлипса в долгосрочном и краткосрочном период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185280" y="1303200"/>
            <a:ext cx="23036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Долгосроч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Кривая Филли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433120" y="2852640"/>
            <a:ext cx="23036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Краткосроч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Кривая Филли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851280" y="2006640"/>
            <a:ext cx="0" cy="42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4229280" y="3357360"/>
            <a:ext cx="1206360" cy="587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V="1">
            <a:off x="4229280" y="3346560"/>
            <a:ext cx="1195200" cy="1589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1979640" y="2728800"/>
            <a:ext cx="2736720" cy="2644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168640" y="1916280"/>
            <a:ext cx="2908080" cy="288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755640" y="1790640"/>
            <a:ext cx="503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900000" y="3324240"/>
            <a:ext cx="503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900000" y="4187880"/>
            <a:ext cx="5032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292720" y="4437000"/>
            <a:ext cx="3166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4694400" y="5445000"/>
            <a:ext cx="316692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следствия безрабо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еляют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эконом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ствия безработицы, которые проявляются как на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индивидуальн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, так и на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обществен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ро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Неэкономически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ствия от потери рабо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ическ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индивидуаль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ровне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неэконом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ствия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стрес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чая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рвные и сердечно-сосудистые заболе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алу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лонность к преступлени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социальное пове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следствия безрабо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общественн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ровне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неэкономиче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следствия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ост социаль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апряжен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плоть до политических переворотов.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(Рузвельт, объясняя причину проведения им политики «Нового курса», писал, что хотел «предотвратить революцию отчаяния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уровня заболеваемости,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мертности и преступ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тери об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связи с расходами на образование, профессиональную подготовку и обеспечение квалификации людям, которые в результате оказываются не в состоянии их применить, а, следовательно, окуп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следствия безрабо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ие последствия на индивидуальном уро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отер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ох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части дохода (т.е.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нижении текущего дох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отеря квалифик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поэтому уменьшении шансов найти высокооплачиваемую, престижную работу в будущем (т.е.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озможном снижении уровня будущих доход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кон Оуке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кономические последствия безработицы на уровне общества в цел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ят в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недопроизводстве ВВ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между отставанием ВНП и уровнем безработицы эмпирически вывел американский экономист Артур Оукен (A.Oku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е 60-х годов он указал на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вязь между отставанием фактического объема выпуска и уровнем безработиц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Эта зависимость получила название «закона Оуке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800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тур Оукен рассчитал для экономики США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коэффици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казывающий, на сколько процентов сокращается фактический объем выпуска если фактический уровень безработицы увеличивается на 1 процентный пункт, т.е. это </a:t>
            </a: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коэффициент чувствительности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отставания ВВП к изменению уровня безработиц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экономики США в те годы, по расчетам Оукена, он составлял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2.5%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Для других стран и других времен он может быть численно и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кон Оуке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2195640" y="115920"/>
            <a:ext cx="47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00"/>
                </a:solidFill>
                <a:latin typeface="Times New Roman"/>
              </a:rPr>
              <a:t>Насел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2706840"/>
            <a:ext cx="4572000" cy="131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Трудоспособное нас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788000" y="2706840"/>
            <a:ext cx="4356000" cy="131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Нетрудоспособное нас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6588000" y="476280"/>
            <a:ext cx="2530440" cy="2160720"/>
          </a:xfrm>
          <a:prstGeom prst="wedgeEllipseCallout">
            <a:avLst>
              <a:gd name="adj1" fmla="val -49310"/>
              <a:gd name="adj2" fmla="val 65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ключается в численность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620640"/>
            <a:ext cx="2340000" cy="2017800"/>
          </a:xfrm>
          <a:prstGeom prst="wedgeEllipseCallout">
            <a:avLst>
              <a:gd name="adj1" fmla="val 39689"/>
              <a:gd name="adj2" fmla="val 65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ается в численность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71280" y="5229360"/>
            <a:ext cx="2916360" cy="1512720"/>
          </a:xfrm>
          <a:prstGeom prst="wedgeEllipseCallout">
            <a:avLst>
              <a:gd name="adj1" fmla="val -10861"/>
              <a:gd name="adj2" fmla="val -137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ется экономически активным нас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6119640" y="5229360"/>
            <a:ext cx="2916360" cy="1512720"/>
          </a:xfrm>
          <a:prstGeom prst="wedgeEllipseCallout">
            <a:avLst>
              <a:gd name="adj1" fmla="val -898"/>
              <a:gd name="adj2" fmla="val -137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ется экономически неактивным нас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484360" y="4005360"/>
            <a:ext cx="4175280" cy="2663640"/>
          </a:xfrm>
          <a:prstGeom prst="wedgeEllipseCallout">
            <a:avLst>
              <a:gd name="adj1" fmla="val -31370"/>
              <a:gd name="adj2" fmla="val -5411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оспособное население може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нят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занят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 flipH="1">
            <a:off x="3348000" y="1125360"/>
            <a:ext cx="1224000" cy="15116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4572000" y="1125360"/>
            <a:ext cx="1584360" cy="15116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89344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чески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неактивное населе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люди, не включаемые в численность рабочей си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люди,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не заня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 общественном производстве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и не стремящиес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получить рабо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89308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у категорию </a:t>
            </a:r>
            <a:r>
              <a:rPr b="0" i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автоматическ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включаю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ледующие группы насе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дети до 16 лет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лица, 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отбывающие  срок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заключения в  тюрьмах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люди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находящиеся 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в психиатрических лечебницах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инвалид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(это т.н. «</a:t>
            </a:r>
            <a:r>
              <a:rPr b="0" lang="ru-RU" sz="2600" spc="-1" strike="noStrike" u="sng">
                <a:solidFill>
                  <a:srgbClr val="333399"/>
                </a:solidFill>
                <a:uFillTx/>
                <a:latin typeface="Times New Roman"/>
              </a:rPr>
              <a:t>институциональное насел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юди, которые в принципе могли бы трудиться, но не делают этого в силу разных причин, т.е. которые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не не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 не хотят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не могут работать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не ищут работу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студенты дневного отделения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вышедшие на пенсию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домохозяйки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бродяги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люд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>
                <a:solidFill>
                  <a:srgbClr val="cc0000"/>
                </a:solidFill>
                <a:latin typeface="Times New Roman"/>
              </a:rPr>
              <a:t>прекратившие поиск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работ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969840" y="1557360"/>
            <a:ext cx="2378160" cy="647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978200" y="2133720"/>
            <a:ext cx="2593800" cy="647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3924360" y="2709720"/>
            <a:ext cx="4319640" cy="64800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900000" y="3357720"/>
            <a:ext cx="1584360" cy="431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>
            <a:off x="971640" y="4869000"/>
            <a:ext cx="1584360" cy="431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2987640" y="4869000"/>
            <a:ext cx="2879640" cy="431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6084720" y="4869000"/>
            <a:ext cx="2519640" cy="431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971640" y="5373720"/>
            <a:ext cx="4537080" cy="431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5651640" y="5373720"/>
            <a:ext cx="3492360" cy="431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2916360" y="5805360"/>
            <a:ext cx="1368360" cy="43200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5"/>
          <p:cNvSpPr/>
          <p:nvPr/>
        </p:nvSpPr>
        <p:spPr>
          <a:xfrm>
            <a:off x="971640" y="5877000"/>
            <a:ext cx="1944720" cy="431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6"/>
          <p:cNvSpPr/>
          <p:nvPr/>
        </p:nvSpPr>
        <p:spPr>
          <a:xfrm>
            <a:off x="5076720" y="5877000"/>
            <a:ext cx="3240360" cy="431640"/>
          </a:xfrm>
          <a:prstGeom prst="ellipse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403280" y="26028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нятие безрабо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8920" y="1414080"/>
            <a:ext cx="87138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нормальн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функционирования национальной экономики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необходимо иметь незадействованн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ые могли бы быть использованы в случае необходим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ому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необходимый объективно обусловленный резерв рабочей силы называется безработиц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8135640" cy="381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ографический асп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дерный асп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растной асп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нический асп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991080" y="304920"/>
            <a:ext cx="718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труктура безработ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Спрос на рынке тру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vpravo"/>
          <p:cNvPicPr/>
          <p:nvPr/>
        </p:nvPicPr>
        <p:blipFill>
          <a:blip r:embed="rId1"/>
          <a:stretch/>
        </p:blipFill>
        <p:spPr>
          <a:xfrm>
            <a:off x="11725200" y="3200400"/>
            <a:ext cx="142920" cy="66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vpravo"/>
          <p:cNvPicPr/>
          <p:nvPr/>
        </p:nvPicPr>
        <p:blipFill>
          <a:blip r:embed="rId2"/>
          <a:stretch/>
        </p:blipFill>
        <p:spPr>
          <a:xfrm>
            <a:off x="12161880" y="3200400"/>
            <a:ext cx="142920" cy="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is7_1"/>
          <p:cNvPicPr/>
          <p:nvPr/>
        </p:nvPicPr>
        <p:blipFill>
          <a:blip r:embed="rId1"/>
          <a:stretch/>
        </p:blipFill>
        <p:spPr>
          <a:xfrm>
            <a:off x="324000" y="620640"/>
            <a:ext cx="3608280" cy="595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alfa"/>
          <p:cNvPicPr/>
          <p:nvPr/>
        </p:nvPicPr>
        <p:blipFill>
          <a:blip r:embed="rId2"/>
          <a:stretch/>
        </p:blipFill>
        <p:spPr>
          <a:xfrm>
            <a:off x="11820600" y="3124080"/>
            <a:ext cx="104760" cy="85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139680" y="58680"/>
            <a:ext cx="896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спроса на труд в неоклассической конце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896000" y="1341360"/>
            <a:ext cx="3924000" cy="1702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фик производственной функции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 flipV="1">
            <a:off x="3492000" y="1484280"/>
            <a:ext cx="136692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4896000" y="1341360"/>
            <a:ext cx="3924000" cy="1702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фик производственной функции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 flipH="1" flipV="1">
            <a:off x="3492000" y="1484280"/>
            <a:ext cx="136692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896000" y="4581360"/>
            <a:ext cx="3924000" cy="1702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фик ставки реальной заработной платы (w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3635280" y="5445000"/>
            <a:ext cx="1224000" cy="14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 flipH="1" flipV="1">
            <a:off x="1476360" y="1989000"/>
            <a:ext cx="6480" cy="4176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835280" y="1844640"/>
            <a:ext cx="1441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 flipH="1" flipV="1">
            <a:off x="1979640" y="1628280"/>
            <a:ext cx="6480" cy="453708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 flipV="1">
            <a:off x="2411280" y="1484280"/>
            <a:ext cx="6480" cy="4681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4:25:37Z</dcterms:created>
  <dc:creator>Vassily</dc:creator>
  <dc:description/>
  <dc:language>en-US</dc:language>
  <cp:lastModifiedBy>Admin</cp:lastModifiedBy>
  <dcterms:modified xsi:type="dcterms:W3CDTF">2013-10-09T21:46:42Z</dcterms:modified>
  <cp:revision>81</cp:revision>
  <dc:subject/>
  <dc:title>Безработица</dc:title>
</cp:coreProperties>
</file>