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8" descr="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C4E346F-B25B-4B8D-90BC-C826871A16D4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68360" y="333360"/>
            <a:ext cx="538956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7b9"/>
                </a:solidFill>
                <a:latin typeface="Verdana"/>
              </a:rPr>
              <a:t>Способ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7b9"/>
                </a:solidFill>
                <a:latin typeface="Verdana"/>
              </a:rPr>
              <a:t>их природ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7b9"/>
                </a:solidFill>
                <a:latin typeface="Verdana"/>
              </a:rPr>
              <a:t>ви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Склонность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0040" y="1071720"/>
            <a:ext cx="8229600" cy="47145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тк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прежде всего, проявляются в склонности определенному виду деятельности или повышенной любознательности ко всему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клонност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это первый и наиболее ранний признак зарождающейся способности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клонность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является в стремлении, тяготении ребенка (или взрослого) к определенной деятельности (рисованию, занятию музыкой и пр.). Очевидно, склонность свидетельствует о наличии определенных породных предпосылок к развитию способностей, так как она нередко проявляется даже при неблагоприятных условиях. Трудно предположить что-нибудь другое, когда человек, вне специальной среды, занимается какой-либо деятельностью без внешнего побуждения (занимается решением задач, когда в семье все музицируют, или, наоборот, с большой радостью слушает музыку и поет, когда вокруг все равнодушно относятся к музыке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Истинная  и Мнимая (Ложная)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 склонность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999720"/>
            <a:ext cx="4181400" cy="46436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При </a:t>
            </a: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ложной, или мнимой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склонности обнаруживается или поверхностное, часто пассивное (созерцательное) отношение к предмету увлечения, или же деятельное увлечение, но с достижением посредственных результатов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3280" y="1000080"/>
            <a:ext cx="4214880" cy="452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При </a:t>
            </a: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истинной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 склонности наблюдается не только неодолимое тяготение к соответствующей деятельности, но и быстрое достижение значительных результатов, продвижение к мастерству.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64296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Виды способност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1143000"/>
            <a:ext cx="8400960" cy="452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ктуальные способности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ляют часть потенциальных способностей. Это те потенциальные способности, для которых имеются объективные условия и возмож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д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потенциальными способностями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дразумеваются возможности развития человека, проявляющиеся каждый раз, когда перед ним возникают новые задачи, требующие решени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356760"/>
            <a:ext cx="8229600" cy="50007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бщие способности -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способности, которые одинаковым образом проявляют себя в различных видах человеческой деятельности. Они связаны с более общими условиями ведущих форм человеческой деятельности. Эти способности представляют собой свойства психики как единой системы, определяющей успешность любой деятельности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пециальные способности </a:t>
            </a: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вслед за Б.М.Тепловым специальными способностями называют способности к определенным видам деятельности)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Специальные способности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0040" y="10713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являются условиями, необходимыми для успешного выполнения какого-либо конкретного вида деятельности. К ним относятся, например,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музыкальный слух, музыкальная память, чувство ритма у музыкантов, «оценка пропорций» у художников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 др. Рассматривая психику как единую систему, перерабатывающую информацию, можно сказать, что она: а) приобретает знания, б) применяет их в) преобразовывает и сохраняет зн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Общие способност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760" y="1213920"/>
            <a:ext cx="8229600" cy="42865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интеллект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как способность к применению знаний, способность решать задачи на основе имеющихся знаний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бучаемость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как способность к приобретению знаний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реативность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как способность к преобразованию имеющихся знани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368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entury Schoolbook"/>
              </a:rPr>
              <a:t>Интеллект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сновная форма познания человеком действительност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428760" y="2007360"/>
            <a:ext cx="8358120" cy="16174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пособность к обучению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пособность к оперированию символам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пособность к активному овладению закономерностями окружающей нас действительн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43000" y="3790800"/>
            <a:ext cx="6786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езультат измерени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нтеллекта обычно представлен в так называемом уровне интеллекта, или IQ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Модели интелле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Факторные модел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Когнитивные модел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Модель ментального опыта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86832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Факторные модел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0040" y="999720"/>
            <a:ext cx="8229600" cy="50007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сть большое количество подходов к проблеме интеллекта. Наиболее фундаментальным, с которого начиналось научное исследование интеллекта, считается психометрический подход, в русле которого сформировались факторные модели интеллекта. Все модели объединяет общий методологический подход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них выделяются разные способности (факторы) и с помощью определенной математической процедуры (факторного анализа) исследуется взаимозависимость между этими факторами. Есть модели одноуровневые, предполагающие, что каждый фактор независим от другого, фактора есть модели иерархические, или многоуровневые. Наибольшую известность в психологии и в области прикладного использования данных психологии получили наибольшую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звестность факторные модели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.Спирмена, Л.Терстоуна, Дж.Гилфорда и Р.Б.Кэттел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9704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Когнитивные модел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Они имеют косвенное отношение к психологии способностей, так как представители когнитивной психологии под термином «интеллект» подразумевают некую систему познавательных процессов, которые обеспечивают решение задач. </a:t>
            </a: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Когнитивно ориентированные исследователи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очень редко обращаются к проблемам индивидуальных различий и прибегают в своих работах к данным измерительной психологии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just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500040" y="734760"/>
            <a:ext cx="8001000" cy="4253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Narrow"/>
              </a:rPr>
              <a:t>Общее понятие о способностя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- Проблематика исследования способно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- Определение понятия «способность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- Современные направ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Narrow"/>
              </a:rPr>
              <a:t>Природа способност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- Концепции возникновения способно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- Задат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- Склон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Narrow"/>
              </a:rPr>
              <a:t>Виды способност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Модели интелл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Креативность (общие творческие способност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бучаемость (Общие способности к усвоению учебных знани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9704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Модель ментального опыт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В структуру ментального опыта включаются способы кодирования информации, понятийные психические структуры, «архетипичные» и семантические структуры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Таким образом, как и другие представители когнитивного подхода, автор подходит к расширительной трактовке понятия интеллекта. Включает в систему интеллектуальных (когнитивных по своей природе) способностей многочисленные внешние факторы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Креативность</a:t>
            </a:r>
            <a:r>
              <a:rPr b="0" lang="ru-RU" sz="35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br>
              <a:rPr sz="3500"/>
            </a:br>
            <a:r>
              <a:rPr b="0" lang="ru-RU" sz="2500" spc="-1" strike="noStrike">
                <a:solidFill>
                  <a:srgbClr val="002060"/>
                </a:solidFill>
                <a:latin typeface="Century Schoolbook"/>
              </a:rPr>
              <a:t>(общие творческие способности)</a:t>
            </a:r>
            <a:br>
              <a:rPr sz="3500"/>
            </a:b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2142720"/>
            <a:ext cx="8229600" cy="2614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д креативностью понимается общая способность человека к творчеству, проявляясь в различных сферах его активност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500040" y="428760"/>
            <a:ext cx="8429760" cy="52131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ж.Гилфорд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их последних работах выделя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ь параметров креатив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) способность к обнаружению и постановке проблем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) способность к генерированию большого числа идей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) способность продуцировать разнообразные идеи (гибкость)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) способность отвечать на раздражители нестандартно (оригинальность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5) способность усовершенствовать объект, добавляя детали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6) способность решать проблемы (способность к анализу и синтезу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Обучаемость </a:t>
            </a:r>
            <a:br>
              <a:rPr sz="4000"/>
            </a:br>
            <a:r>
              <a:rPr b="0" lang="ru-RU" sz="2500" spc="-1" strike="noStrike">
                <a:solidFill>
                  <a:srgbClr val="262673"/>
                </a:solidFill>
                <a:latin typeface="Century Schoolbook"/>
              </a:rPr>
              <a:t>(общие способности к усвоению учебных знаний)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бучаемость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 это общая познавательная способность, которая проявляется в скорости и легкости приобретения новых знаний и навыков, в качестве усвоения учебного материала и в качестве выполнения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285840" y="366840"/>
            <a:ext cx="8572320" cy="2304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Имплицитная обучаем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яет собой способность к элементарным формам обучения и запоминания. Она сохраняется даже у больных с удаленными височными долями коры головного мозга и проявляется в том, что человек в эксперименте улучшает выполнение определенных заданий, но сам не может описать, чему же он научился. Имплицитная обучаемость, наряду с креативностью, обусловлена доминированием бессознательной активности псих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57120" y="3150000"/>
            <a:ext cx="8429760" cy="16945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Эксплицитная обучаем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является в быстром обучении, иногда после первого ж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а позволяет нам распознавать случившиеся прежде и незнакомые события. Эксплицитная обучаемость, как и интеллект, связана с доминированием сознания над бессознательным в процессе регуляции. Ее еще называют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натель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учаем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6686280" cy="72576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Талан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480"/>
            <a:ext cx="8229600" cy="385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олее высокой ступенью проявления способностей называют талантом. </a:t>
            </a: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Талант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это совокупность способностей, позволяющее человеку получить продукт деятельности, который отличается новизной, высоким совершенством и общественной значимостью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акже как и отдельные способности, талант представляет собой лишь возможность приобретения высокого мастерства и значительных успехов в творчестве. </a:t>
            </a: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Талант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это сочетание способностей. Отдельная способность, изолированная от других, не может быть определена как талант, даже если она достигла очень высокого уровня развития и ярко выражен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Гениальн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Гениальность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высшая ступень проявления творческой личности. Гениальность выражается в творчестве, имеющем историческое значение для общества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642960" y="3429000"/>
            <a:ext cx="8143920" cy="22262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.Н.Дружинин предлагает следующую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формулу гения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Гений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(высокий интеллект + еще более высокая креативность) x активность псих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357120" y="573480"/>
            <a:ext cx="8501040" cy="5045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отличие от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росто креативов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гениальный человек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обладает очень мощной активностью бессознательного. В связи с этим он склонен к крайним эмоциональным состояниям. Что из них является следствием, а что причиной пока еще не установлено, но выявлена взаимосвязь между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креативности с нейротизм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Гений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оздает новую эпоху в своей области знаний. Для гения характерны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чрезвычайная творческая продуктивность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владение культурным наследием прошлого при решительном преодолении им устаревших норм и традици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еятельность, способствующая прогрессивному развитию обществ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1928520"/>
            <a:ext cx="8229600" cy="207180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entury Schoolbook"/>
              </a:rPr>
              <a:t>СПАСИБО ЗА ВНИМАНИЕ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428760" y="785880"/>
            <a:ext cx="8501040" cy="45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облема способностей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стоянно ставится перед человеком жизнью. Она всегда была для него столь же важна, сколь и актуальна. Сложность изучения способностей связана с тем, что способности не даны человеку непосредственно в его самонаблюдениях и переживаниях. Мы лишь опосредованно делаем заключение о них, обычно соотнося уровень овладения деятельностью одним человеком с уровнем овладения ею друг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1182240" y="214200"/>
            <a:ext cx="68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7b9"/>
                </a:solidFill>
                <a:uFillTx/>
                <a:latin typeface="Verdana"/>
              </a:rPr>
              <a:t>Общее понятие о способ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70080" y="285840"/>
            <a:ext cx="83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7b9"/>
                </a:solidFill>
                <a:uFillTx/>
                <a:latin typeface="Verdana"/>
              </a:rPr>
              <a:t>Проблематика исследования способ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4"/>
          <p:cNvCxnSpPr/>
          <p:nvPr/>
        </p:nvCxnSpPr>
        <p:spPr>
          <a:xfrm flipH="1">
            <a:off x="1071360" y="785880"/>
            <a:ext cx="429120" cy="35784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47" name="Прямая со стрелкой 5"/>
          <p:cNvCxnSpPr/>
          <p:nvPr/>
        </p:nvCxnSpPr>
        <p:spPr>
          <a:xfrm flipH="1">
            <a:off x="3714480" y="713880"/>
            <a:ext cx="72000" cy="50076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5428080" y="785520"/>
            <a:ext cx="143640" cy="50076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49" name="Прямая со стрелкой 7"/>
          <p:cNvCxnSpPr/>
          <p:nvPr/>
        </p:nvCxnSpPr>
        <p:spPr>
          <a:xfrm>
            <a:off x="7214040" y="785880"/>
            <a:ext cx="429480" cy="42912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0" name="Прямоугольник 8"/>
          <p:cNvSpPr/>
          <p:nvPr/>
        </p:nvSpPr>
        <p:spPr>
          <a:xfrm>
            <a:off x="142920" y="1285920"/>
            <a:ext cx="2643120" cy="4483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ервая проблема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сается особенностей развития способностей и факторов, обуславливающих это развитие. Она требует разрешения вопроса о соотношении наследственности и среды, как основных детерминант развития способ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2857680" y="1357200"/>
            <a:ext cx="2071440" cy="25628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торая проблема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вязана с выявлений взаимосвязи межу специальными и общими способ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5000760" y="1357200"/>
            <a:ext cx="2071440" cy="31114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 второй проблемой теснейшим образом связана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блема (третья)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здания методов измерения способ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7143840" y="1357200"/>
            <a:ext cx="1785960" cy="36601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твертой важнейшей проблемой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сихологии общих способностей является проблема взаимосвязи способности и деятельност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пособност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071720"/>
            <a:ext cx="8229600" cy="3071520"/>
          </a:xfrm>
          <a:prstGeom prst="rect">
            <a:avLst/>
          </a:prstGeom>
          <a:noFill/>
          <a:ln w="9360">
            <a:solidFill>
              <a:srgbClr val="2abbf5"/>
            </a:solidFill>
            <a:miter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spcBef>
                <a:spcPts val="62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Способности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 – это индивидуально-психологические особенности, являющиеся субъективными условиями успешного осуществления определенного рода деятельности или ряда деятельностей, несводимые к знаниям, умениям и навыкам, но обусловливающие легкость, быстроту и прочность овладения новыми способами и приемами деятельности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Разработка проблемы способностей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отечественной психологии связана с именами трех крупнейших ученых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Б.М.Теплова, С.Л.Рубинштейна и Б.Г.Ананьев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7680" y="142560"/>
            <a:ext cx="3286080" cy="428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Б.М.Теплов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642960"/>
            <a:ext cx="8229600" cy="1571760"/>
          </a:xfrm>
          <a:prstGeom prst="rect">
            <a:avLst/>
          </a:prstGeom>
          <a:noFill/>
          <a:ln w="9360">
            <a:solidFill>
              <a:srgbClr val="2abbf5"/>
            </a:solidFill>
            <a:miter/>
          </a:ln>
        </p:spPr>
        <p:txBody>
          <a:bodyPr lIns="90000" rIns="90000" tIns="46800" bIns="46800" anchor="t">
            <a:normAutofit fontScale="48000"/>
          </a:bodyPr>
          <a:p>
            <a:pPr marL="164520" indent="-164520" algn="just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Его интересовали общие проблемы способностей. Рассматривая связь между способностями, с одной стороны, и знаниями, умениями, навыками, с другой, Теплов подчеркивал, что они несводимы один к другому, а находятся в диалектической взаимозависимости: способности обусловлены наличными у человека знаниями, умениями и навыками и, в свою очередь, сами позволяют более легко и прочно овладеть знаниями, умениями и навыками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164520" indent="-164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164520" indent="-16452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164520" indent="-16452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.Л.Рубинштейн активно разрабатывал вопрос о соотношении способностей и одаренности. Он утверждал, что способности существуют и проявляются в конкретных видах деятельности, а не в чистом виде, как это предполагали многие ученые за рубеж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164520" indent="-16452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164520" indent="-16452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164520" indent="-164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 работ Б.Г.Ананьева началось исследование уровней способностей. Ананьева также интересовали вопросы взаимосвязи способности и характера, способности и личности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164520" indent="-16452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164520" indent="-16452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164520" indent="-16452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2643120" y="2286000"/>
            <a:ext cx="3571920" cy="428760"/>
          </a:xfrm>
          <a:prstGeom prst="rect">
            <a:avLst/>
          </a:prstGeom>
          <a:solidFill>
            <a:srgbClr val="2abbf5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С.Л.Рубинштей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571680" y="2714760"/>
            <a:ext cx="8229600" cy="1071360"/>
          </a:xfrm>
          <a:prstGeom prst="rect">
            <a:avLst/>
          </a:prstGeom>
          <a:noFill/>
          <a:ln w="9360">
            <a:solidFill>
              <a:srgbClr val="2ab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2643120" y="3857760"/>
            <a:ext cx="3643560" cy="428400"/>
          </a:xfrm>
          <a:prstGeom prst="rect">
            <a:avLst/>
          </a:prstGeom>
          <a:solidFill>
            <a:srgbClr val="2abbf5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Б.Г.Ананье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одержимое 2"/>
          <p:cNvSpPr/>
          <p:nvPr/>
        </p:nvSpPr>
        <p:spPr>
          <a:xfrm>
            <a:off x="642960" y="4357800"/>
            <a:ext cx="8229600" cy="857160"/>
          </a:xfrm>
          <a:prstGeom prst="rect">
            <a:avLst/>
          </a:prstGeom>
          <a:noFill/>
          <a:ln w="9360">
            <a:solidFill>
              <a:srgbClr val="2ab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2540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овременные направл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7120" y="9284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рвое – психофизиологическое,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исследует связи основных свойств нервной системы (задатков) и общих способностей человека (Э.А.Голубева, В.М.Русалов и др.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ва последующих направления основываются на предположен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что способности должны рассматриваться в первую очередь в их общем выражении, согласно которому они у человека – «родовые» свойства, а не с точки зрения вопроса об индивидуальных различиях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2abbf5"/>
          </a:solidFill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Природа способност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143000"/>
            <a:ext cx="8229600" cy="57168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онцепции возникновения способносте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Стрелка вниз 5"/>
          <p:cNvSpPr/>
          <p:nvPr/>
        </p:nvSpPr>
        <p:spPr>
          <a:xfrm>
            <a:off x="1071720" y="1785960"/>
            <a:ext cx="6429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6"/>
          <p:cNvSpPr/>
          <p:nvPr/>
        </p:nvSpPr>
        <p:spPr>
          <a:xfrm>
            <a:off x="4071960" y="1785960"/>
            <a:ext cx="6429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7"/>
          <p:cNvSpPr/>
          <p:nvPr/>
        </p:nvSpPr>
        <p:spPr>
          <a:xfrm>
            <a:off x="7000920" y="1785960"/>
            <a:ext cx="6429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214200" y="2428920"/>
            <a:ext cx="31435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ронни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и врожденных способносте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верждают, что способности – это биологические детерминированные свойства личности, их проявление и развитие всецело зависят наследственности, унаследованного генетического фонда. Обучение и воспитание, считают они, может лишь ускорить процесс проявления способностей, они обязательно проявятся и без педагогического воздейств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3500280" y="2428920"/>
            <a:ext cx="26434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тивоположность первой концепции способностей, вторая утверждает, что способности всецело определяются средой и воспитанием, то ес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цело приобретенные свойства лич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У.Эшби утверждает, что способности, и даже гениальность, определяются приобретенными свойств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6286680" y="2449080"/>
            <a:ext cx="25714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етья концепция способностей утверждает, чт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ичие индивидуальных природных особенностей (задатков) способствует становлению и развитию тех или иных способност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месте с тем способности успешно формируются в деятельности при благоприятных условиях жизни. Эта концепция подтверждается как специальными исследованиями, так и прак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2abbf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Задатк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1285920"/>
            <a:ext cx="8229600" cy="41148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тк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это врожденные анатомо-физиологические особенности каждого отдельного индивида, генетически детерминированные и являющиеся предпосылками развития способностей (Б.М.Теплов). Задатки представляют собой лишь возможности и предпосылки развития способностей, но еще не гарантируют, не предопределяют появление и развитие тех или иных способностей. Они многозначны, то есть, в зависимости от деятельности и соответствующих условий, на их основе могут развиваться разные способности. Задатки подобны дремлющему человеку, они являются потенциальными возможностями, которые так и не удастся «пробудить», использовать, если человек не будет заниматься соответствующей деятельность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2012</cp:lastModifiedBy>
  <dcterms:modified xsi:type="dcterms:W3CDTF">2013-02-21T21:48:09Z</dcterms:modified>
  <cp:revision>56</cp:revision>
  <dc:subject/>
  <dc:title>Blue Work Silhouette</dc:title>
</cp:coreProperties>
</file>