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DD1-25D9-41C9-A99D-6AE75F2C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EDF-7B75-46F0-9399-4E57749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419-DC04-4ECC-8A1A-A9E8657D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C43-D9B9-4B0C-8E25-2B696725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2A1B-6B1B-4EBA-AEC0-25B49C7A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3DF4-FF90-46CB-ACB4-7B88745A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E9FC-DD1A-4497-BF15-B9FF71D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AEDD-81DA-44E2-9FEA-2016CCE1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F93-AF5A-4F41-B9AC-74B9FCBD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DB5-D00D-418A-BFA0-8250E1B9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7354-6308-453D-8471-81100CC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257-B5D5-4FA2-B468-1D341ADB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5642-A7F6-4E80-AAF9-1087DFA2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19D9-F14D-4E82-9B5F-2466A7D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1731-B82A-4042-A240-21C3CA04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390A-EBE3-4EC3-B5E1-941A03B8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9A9D-1ABC-41C9-A2E3-54224AE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25FA-01C4-4C1B-BF26-144DDBA0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CC1-6893-494A-8DAC-5FC62780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0F8B-1FBF-4773-B1B4-3BA449A4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B9FD-8BFA-40D7-9059-4AE036E2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BF9-BE9F-4D29-A2AA-24C14D38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16F-D80D-4474-A123-9752D9F4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8FE-C437-439A-AF38-56ADFF7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2520-9741-43C9-9891-A85AD3784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AA4E-8EBD-4458-92E9-A39A61036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Жирорастворимые витамины»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345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цы 8 класса «Б» МОУ СОШ №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сильевой Ален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тель – Шмыкова И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ие сведенья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точная норм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6560" y="2275920"/>
            <a:ext cx="81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уточная потребность = дети до 1 года жизни - 0,5 мг/кг (обычно полность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лучают с молоком матери), взрослые - 0,3 мг/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880" y="3024720"/>
            <a:ext cx="82184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каз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иповитаминоз, высокая физическая нагрузка, нарушение менструального цикл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роза прерывания беременности, неврастения при переутомлени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стенический синдром, первичная мышечная дистрофия, посттравма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ичная миопатия, заболевания связочного аппарата и мышц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генеративные и пролиферативные изменения суставов и связочного аппар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звоночника и крупных суставов, дерматомиозиты, псориаз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ериод реконвалесценсии при заболеваниях, протекающих с лихорадк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герантологии (пожилой возраст), спазм периферических сосуд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эпилепсии (для повышения эффективности противосудорожных средств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комплексном лечении при многих заболеваниях (как антиоксидант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ы гипо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ым и наиболее ранним признаком, проявляющимся довольно быстро при недостаточном поступлении с пищей витамина Е и избыточном поступлении ненасыщенных жирных кислот, является мышечная дистрофия. Дистрофия скелетных мышц считается наиболее универсальным проявлением авитаминоза Е. Наиболее тяжелые поражения отмечаются в диафрагме. Мышечные волокна подвергаются распаду, а в некротизированных волокнах откладываются соли кальц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ечени при авитаминозе Е описаны некрозы, жировая дистрофия, расширение синусоидов, уменьшение содержания гликог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статочность также может провоцировать сокращение длительности жизни красных кровяных клеток (эритроцитов). Исследования на животных доказывают, что при дефиците витамина Е могут также страдать сердечная мышца и репродуктивные функции организ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знаки гипер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мин Е относительно нетоксичен. Обзор более 10 тысяч случаев дополнительного приема витамина Е в высоких дозах (от 200 до 3000 МЕ в день) в течение нескольких лет показал, что каких-либо серьезных побочных эффектов не было. При высоких дозах может развиться проходящая тошнота, метеоризм, диарея, может подниматься кровяное давле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84720" y="4149720"/>
            <a:ext cx="2376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«Д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(кальциферол)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770200" cy="2243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916360" y="4667400"/>
            <a:ext cx="291600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ЛЬЦЕРО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Д участвует в гомеостазе кальция, действуя на кишечник и кости. Он выполняет свою активную функцию в виде метаболита кальцийтриола, образуемого в почках под влиянием паратиреоидного гормона. В кишечнике витамин Д регулирует всасывание кальция и фосфата. В костях он имеет особое значение для минерализации вновь образующейся ткани. Витамин Д имеет также значение для регуляции обмена веществ в костной ткани, что является основой его эффекта при остеопорозе. По-видимому, он участвует также в росте клеток и их дифференциации, т.к. рецепторы витамина Д были обнаружены во многих клетках млекопитающих, включая опухолевые клетки. Содержится в: люцер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вощ, крапива, петруш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ичный желток, сливочное масл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ыр, рыбий жир, икр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лочные продук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219640" y="4149720"/>
            <a:ext cx="346716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ие сведенья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точная норм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жедневная потребность в витамине Д составляет 400 МЕ (10 мкг) в возрасте 6 месяцев, 600 МЕ в 3 года и 800 МЕ старше 3 лет. У взрослых за исключением периода беременности и лактации потребность в витамине Д составляет 100 МЕ (2,5 мкг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ая функция витамина D - обеспечение нормального роста и развития костей, предупреждение рахита и остеопороза. Он регулирует минеральный обмен и способствует отложению кальция в костной ткани и дентине, таким образом, препятствуя остеомаляции (размягчению) кост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ы гипо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сновным признаком недостаточности витамина D является рахит и размягчение костей (остеомаляция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ее легкие формы дефицита витамина D проявляются такими симптомами как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теря аппетита, снижение вес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щущение жжения во рту и в горле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ссонниц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худшение зр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372360" y="357336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знаки гипер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рименении неадекватных доз витамина D и продолжительном лечении развивается острое или хроническое отравление (D-гипервитаминозы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редозировке витамина D наблюдаетс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абость, потеря аппетита, тошнота, рвота, запоры, диаре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кие боли в суставах, головные и мышечные бол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хорадка, повышение артериального давления, судороги, замедление пульса, затруднение дыха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ительное применение витамина D в повышенных дозах или использование его в сверхвысоких дозах может вызв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асывание стромы костей, развитие остеопороза, деминерализацию косте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величение синтеза мукополисахаридов в мягких тканях (сосуды, клапаны сердца и т.д.) с последующей их кальцификацией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ложение солей Ca++ в почках, сосудах, в сердце, в легких, кишечнике, приводящее к значительным нарушениям функции этих органов (астенизация, головная боль, головокружение, тошнота, рвота, нарушение сна, жажда, полиурия, оссалгии и артралги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«К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(синтетический                                                          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фитоменадион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84720" y="1052640"/>
            <a:ext cx="2953080" cy="2214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79280" y="77148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9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98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98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98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интетический фитоменадион.</a:t>
            </a:r>
            <a:r>
              <a:rPr b="1" lang="ru-RU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жно сказать, что витамин К - противогеморрагический витамин, или коагуляционный. В организм витамин К поступает в основном с пищей, частично образуется микроорганизмами кишечника. Всасывание витамина, поступающего с пищей, происходит при участии желч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биологической активности синтетическ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парат сохраняет свойства природного витамина К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: зеленые томаты, плоды шиповни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стья шпината, капуста (брюссель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цветная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пива, хвоя, овес, соя, рожь, пше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948360" y="3933720"/>
            <a:ext cx="2035440" cy="2713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«А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(РЕТИНОЛ)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372360" y="692280"/>
            <a:ext cx="2381040" cy="24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238104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щие сведенья: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очная норм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витамине К, то есть то количество, которое необходимо для предотвращения дефицита в нормальных условиях, 1 мкг на килограмм веса тела в день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ЗА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патиты, циррозы печени, легочные кровотечения при туберкулезе легких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протетеинемия, длительные диаре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ременным в течение последнего месяца беременности для предупреждения кровотечений у новорожденных, геморрагическая болезнь новорожденных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лактика кровотечений при подготовке к плановой хирургической операции, кровотечения после ранений или хирургических вмешательств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операционный период при угрозе кровотечения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птические заболевания, сопровождающиеся геморрагическими явлениями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воточивость и геморрагические диатезы, обтурационная желтух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ы гиповитаминоза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 витаминов группы К в организме приводит к развитию геморрагического синдро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новорожденных недостаточность витамина К проявляется кровотечениями изо рта, носа, пупка, мочевых путей. Появляются желудочно-кишечные кровотечения, кровавая рвота, жидкий, дегтеобразный кал, внутрикожные и подкожны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взрослых проявления зависят от тяжести витаминной недостаточности и проявляются внутрикожными и подкожными кровоизлияниями, кровоточивостью десен, носовыми и желудочно-кишечными кровотечен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нним признаком гиповитаминоза К является пониженное содержание протромбина в крови (гипопротромбинемия). При снижении содержания протромбина до 35% наступает опасность кровоизлияния при травмах; при снижении содержания протромбина до 15-20 % могут развиться тяжелые кровотеч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фицит витамина К может развиться при желчекаменной болезни, при пролонгированном внутривенном питании, при нарушениях образования и секреции желчи (инфекционные и токсические гепатиты, цирроз печени, желчно-каменная болезнь, опухоли поджелудочной железы, дискинезия желчных путей), а также при длительном приеме антибиотиков или сульфаниламидных препаратов, способных угнетать микрофлору кишечника, синтезирующую витамин 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знаки гипервитаминоза.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лучаев гипервитаминоза К не отмечено, так как сам по себе он не является токсичным. Однако применяя препараты витамина К необходимо помнить о его способности повышать свертываемость крови, что недопустимо при некоторых состояния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29400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ТИНО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тамин А (ретинол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ствует во всех обменных процессах, регулирует процессы роста, функционирование органов зрени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А содержится только в продуктах животного происхождения: рыбьем жире, печени трески. Печени животных, сливочном масле, куриных яйцах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572080" y="160020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572080" y="3941640"/>
            <a:ext cx="218916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ТИНОЛ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продуктах растительного происхождения содержится каротин, из которого в организме может образовываться витамин 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4824360" cy="4437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щие сведенья:</a:t>
            </a:r>
            <a:br>
              <a:rPr sz="4000"/>
            </a:br>
            <a:endParaRPr b="1" lang="en-US" sz="40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точная норм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уточная потребность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А для взрослых составляет 1,5 мг, или 5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84720" y="5157720"/>
            <a:ext cx="2521080" cy="1554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800" y="2637360"/>
            <a:ext cx="9068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КАЗ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тамин А назнач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различных заболеваниях кожи и слизистых оболочек (молочница, себорейная экз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другие проявления аллергодерматозо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заболеваниях глаз (конъюнктивит, кератит); ежедневный прием ретинола улучш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даптацию к темнот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активации процессов заживления и регенерации при лечении ожогов, ран, переломов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тинол входит в состав комплексной терапии при лечен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ой и хронической пневмони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рых и хронических заболеваниях печени и желчевыводящих пу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over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мптомы гипо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имптомы гиповитаминоз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фицит витамина А определяется как содержание ретинола в сыворотке крови ниже 0,35 мкмоль/л. Однако, даже при уровне в плазме 0,70-1,22 мкмоль/л может наблюдаться значительное снижение содержания витамина А в печени, где он накапливается. Уровень витамина А в плазме начинает снижаться тогда, когда его концентрация в печени падает до 0,7 мкмоль/г ткан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чины возникновения гиповитаминоза А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достаточное содержание витамина А в пище, особенно в зимне-весенний период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балансированное питание (длительный дефицит полноценных белков нарушает усвоение витамина А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граничение потребления жиров (витамин А является жирорастворимым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олевания печени и желчевыводящих путей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болевания поджелудочной железы, кишечника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ннее старение кожи с образованием морщин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ная болевая и температурная чувствительность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ная чувствительность зубной эмали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опление корок и слизи в углах глаз, ощущение "песка" в глазах, покраснение ве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ым известным симптомом гиповитаминоза А является так называемая "куриная слепота" (ночная слепота или гемералопия) - резкое ухудшение зрения при пониженной освещенност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знаки гипервитаминоза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4995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передозировке витамина А могут наблюдаться боли в животе; задержки менструаций; увеличение печени и селезенки; желудочно-кишечные расстройства; выпадение волос; зуд; суставные боли; тошнота; рвота; мелкие трещины на губах и в уголках р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и хроническом гипервитаминозе А наблюдае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хость и пигментация кожи, выпадение волос, ломкость ногте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оли в области суставов и костей, диффузное утолщение косте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величение печени и селезенки, диспепсические явления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00720" y="4797360"/>
            <a:ext cx="23814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ТАМИН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«Е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токоферол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2560680" cy="1920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603840" y="404640"/>
            <a:ext cx="2105280" cy="2664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203640" y="4657680"/>
            <a:ext cx="233676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КОФЕРОЛ</a:t>
            </a: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итамин 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коферо́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— жирорастворимый витамин, являющийся важным антиоксидантом. В природе существует в восьми различных формах (изомерах), отличающихся биологической активностью и исполняемыми в теле функциями. Как антиоксидант, защищает организм от вредоносного влияния токсинов , например молочной кислоты . Его нехватка может служить одной из причин вялости и малокровии. Содержится в растительном и сливочном маслах, зелени, молоке, яйцах, печени, мясе, а также зародышах злаковых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3:07:17Z</dcterms:created>
  <dc:creator>User</dc:creator>
  <dc:description/>
  <dc:language>en-US</dc:language>
  <cp:lastModifiedBy>Imango</cp:lastModifiedBy>
  <dcterms:modified xsi:type="dcterms:W3CDTF">2008-03-28T18:34:55Z</dcterms:modified>
  <cp:revision>3</cp:revision>
  <dc:subject/>
  <dc:title>Презентация на тему: Жирорастворимые Витамины</dc:title>
</cp:coreProperties>
</file>