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F9D2-EEDE-4FCD-863A-44FB57D19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B96C-1463-4EEB-8DB5-D214AE07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0A34-A4EB-4D92-9543-DEF56050B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7F5B-BCF9-44CB-B86E-01BAECBCC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2272-5366-465A-A09D-D5FEB812D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8C19-548F-46A5-AB66-8BE31B74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E4F4-C79D-471E-A116-D7E96305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8636-59FB-4EFC-9AC0-37FDA7DC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6886-2AA1-4C50-9CC8-181DCCD3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ABB4-FA35-45AC-8CEA-6C74CEEF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4B19-8ADD-43A1-89DF-42BBB25B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79D8-7C92-41FC-B056-FA4C9D98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5536-085A-4C58-BC09-9CD60725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DE05A-A49A-4895-B294-95915276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02D4-1771-4449-AA1F-952ABD2B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4192-F9EF-44D6-A09E-89607785A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5902-419F-43E1-9BDA-44D8257A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EA578D-7DE9-4BFD-88FF-8996A5DC1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247DF2-FA33-4825-B9BE-1825EB20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0B6055-9177-4D91-85FE-025376FD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E924B6-97C7-45A7-A13F-9F2AFDFE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9B09F9-E6BC-4A9B-AAEC-A0A76F53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FF85-8AB1-45F9-BA8B-10709018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44B725-97C4-4F2A-88E7-A3AD3F3C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07495B-BF16-44AB-B7CE-3A91623C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3D1E44-3B6A-457C-8104-7D30F27A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237021-63A1-4DD9-AACA-A266E619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2E9AA4-36F0-446D-BE7D-6AD6E4FF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F291F5-87F0-43C3-B26D-43126E340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FE8301-3977-4E2B-90C8-3DDE6DFF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196FF-DB26-4946-B01E-99B73C4D1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87364-7AC8-4F2D-9279-7424B97E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327D6-3E26-410B-8B8D-BB399762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B7B9-4194-49EE-8BCC-79BCC1B6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79E82-200E-4085-B241-8316C460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73814-4AAD-4621-BBCA-2FCD5703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9B138-9304-4A55-9A10-131F414F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D7C54-F9BD-44AE-82B5-6903CFDB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CEC7A-3A75-498F-BE12-0C425519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58C0A-F2E7-4399-9BB8-53EF0EFA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83905-5C1D-4960-B46A-653F309B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FC89C-6FBA-4FBB-B9A4-2D2FEFF30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55800-6C6C-47DC-997C-627EE46EC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DF35B2-3364-4D12-87D2-FC94DC61C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F3D1-8C2C-4560-A7F9-0DC46F01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204347-F555-413F-A522-6AFA91AA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1E000B-42D8-4811-8176-0EEDEE1E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DABFD4-7987-4E9B-8272-C923842A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E97C3D-48A3-4762-8383-AF3DFEE5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8F5B19-6D2B-4530-8736-46D58A0D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B163C5-F68D-42B2-830C-D2FDE9EA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E6584C-064F-4E33-B157-0729DB87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B7B6F8-6788-4861-929F-3856426F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ED14D2-026A-4016-A388-A5867E55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827612-98D5-4022-8C26-2961690C3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1295-396B-4B34-B332-9C86289D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384A42-A3FD-411F-BC8B-A39901819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A4EDF1-6083-41AF-8F16-14734260F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8D27AF-0F73-4325-8B01-CEBBCA1F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DF4ED8-DA55-497C-8FC3-A9B62F47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A7277D-B991-4ED1-A502-3379DB9B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44B18F-C162-454F-964D-620CC771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33F253-C89A-4A8F-A4BA-95EAD73C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B55A67-ABA3-42B2-9A18-A1ABAE59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1366B1-190F-4E33-87AA-DA700597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13095F-B42B-4124-BFFC-34E792C9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AE8F-337A-4CDA-9A9E-0BC5FFBB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5E5E33-3670-4BF5-8386-B5BB2087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8037F2-D777-465A-92D8-B0A199CD2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582E62-6208-4F85-8858-519CBD6DB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EF3473-258F-4C18-A48D-D62DA0BAB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07FE2F-8622-46F4-BC84-DEC73B94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EFB04E-952C-4868-A435-39B4BBBC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4FD74C-0D80-4A8A-A36B-5615B617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9519FC-276C-430C-AD60-C737D3E1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F14102-0759-4C3A-AF58-CA92F5BC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6BC299-87E0-4AC2-8E9A-9EC089F2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426A-C582-4084-9FC3-D33F60B9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A12C76-61B4-4108-84D6-F6A3BD2F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1B835B-CE83-43CA-9C1C-0E16D041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BFFC25-85EF-4891-9AE6-63C0895D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09A8CC-E562-4AA0-8845-34F2FDA4E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9639D1-2D8C-48EA-8F06-4979F49B7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161B-E566-47EB-8496-2823CD0C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Monotype Corsiva"/>
              </a:rPr>
              <a:t>Click to edit the title text format</a:t>
            </a: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Segoe Script"/>
              </a:rPr>
              <a:t>Click to edit the outline text format</a:t>
            </a: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Segoe Script"/>
              </a:rPr>
              <a:t>Second Outline Level</a:t>
            </a: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Segoe Script"/>
              </a:rPr>
              <a:t>Third Outline Level</a:t>
            </a: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Segoe Script"/>
              </a:rPr>
              <a:t>Fourth Outline Level</a:t>
            </a: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  <a:p>
            <a:pPr lvl="4" marL="1461960" indent="-182520">
              <a:spcBef>
                <a:spcPts val="601"/>
              </a:spcBef>
              <a:buClr>
                <a:srgbClr val="adced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Segoe Script"/>
              </a:rPr>
              <a:t>Fifth Outline Level</a:t>
            </a: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  <a:p>
            <a:pPr lvl="5" marL="1461960" indent="-182520">
              <a:spcBef>
                <a:spcPts val="601"/>
              </a:spcBef>
              <a:buClr>
                <a:srgbClr val="00206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Segoe Script"/>
              </a:rPr>
              <a:t>Sixth Outline Level</a:t>
            </a: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  <a:p>
            <a:pPr lvl="6" marL="1461960" indent="-182520">
              <a:spcBef>
                <a:spcPts val="601"/>
              </a:spcBef>
              <a:buClr>
                <a:srgbClr val="00206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Segoe Script"/>
              </a:rPr>
              <a:t>Seventh Outline Level</a:t>
            </a: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C83A-6541-4A7D-B6D7-50F903D6C07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dced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de0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de0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f0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dcedc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f0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dcedc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dced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Monotype Corsiva"/>
              </a:rPr>
              <a:t>Click to edit the title text format</a:t>
            </a: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Segoe Script"/>
              </a:rPr>
              <a:t>Click to edit the outline text format</a:t>
            </a: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Segoe Script"/>
              </a:rPr>
              <a:t>Second Outline Level</a:t>
            </a: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Segoe Script"/>
              </a:rPr>
              <a:t>Third Outline Level</a:t>
            </a: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Segoe Script"/>
              </a:rPr>
              <a:t>Fourth Outline Level</a:t>
            </a: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  <a:p>
            <a:pPr lvl="4" marL="1461960" indent="-182520">
              <a:spcBef>
                <a:spcPts val="601"/>
              </a:spcBef>
              <a:buClr>
                <a:srgbClr val="adced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Segoe Script"/>
              </a:rPr>
              <a:t>Fifth Outline Level</a:t>
            </a: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  <a:p>
            <a:pPr lvl="5" marL="1461960" indent="-182520">
              <a:spcBef>
                <a:spcPts val="601"/>
              </a:spcBef>
              <a:buClr>
                <a:srgbClr val="00206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Segoe Script"/>
              </a:rPr>
              <a:t>Sixth Outline Level</a:t>
            </a: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  <a:p>
            <a:pPr lvl="6" marL="1461960" indent="-182520">
              <a:spcBef>
                <a:spcPts val="601"/>
              </a:spcBef>
              <a:buClr>
                <a:srgbClr val="00206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Segoe Script"/>
              </a:rPr>
              <a:t>Seventh Outline Level</a:t>
            </a: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CDFD-4F10-4531-9CEA-B4F008A5BFD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Monotype Corsiva"/>
              </a:rPr>
              <a:t>Click to edit the title text format</a:t>
            </a: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Segoe Script"/>
              </a:rPr>
              <a:t>Click to edit the outline text format</a:t>
            </a: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Segoe Script"/>
              </a:rPr>
              <a:t>Second Outline Level</a:t>
            </a: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Segoe Script"/>
              </a:rPr>
              <a:t>Third Outline Level</a:t>
            </a: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Segoe Script"/>
              </a:rPr>
              <a:t>Fourth Outline Level</a:t>
            </a: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  <a:p>
            <a:pPr lvl="4" marL="1461960" indent="-182520">
              <a:spcBef>
                <a:spcPts val="601"/>
              </a:spcBef>
              <a:buClr>
                <a:srgbClr val="adced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Segoe Script"/>
              </a:rPr>
              <a:t>Fifth Outline Level</a:t>
            </a: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  <a:p>
            <a:pPr lvl="5" marL="1461960" indent="-182520">
              <a:spcBef>
                <a:spcPts val="601"/>
              </a:spcBef>
              <a:buClr>
                <a:srgbClr val="00206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Segoe Script"/>
              </a:rPr>
              <a:t>Sixth Outline Level</a:t>
            </a: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  <a:p>
            <a:pPr lvl="6" marL="1461960" indent="-182520">
              <a:spcBef>
                <a:spcPts val="601"/>
              </a:spcBef>
              <a:buClr>
                <a:srgbClr val="00206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Segoe Script"/>
              </a:rPr>
              <a:t>Seventh Outline Level</a:t>
            </a: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9675-29B7-4C9A-80BC-1730576A393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dced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de0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de0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f0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dcedc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f0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dcedc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dced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Monotype Corsiva"/>
              </a:rPr>
              <a:t>Click to edit the title text format</a:t>
            </a: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f5fa"/>
                </a:solidFill>
                <a:latin typeface="Segoe Script"/>
              </a:rPr>
              <a:t>Click to edit the outline text format</a:t>
            </a:r>
            <a:endParaRPr b="0" lang="en-US" sz="2400" spc="-1" strike="noStrike">
              <a:solidFill>
                <a:srgbClr val="def5fa"/>
              </a:solidFill>
              <a:latin typeface="Segoe Script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f5fa"/>
                </a:solidFill>
                <a:latin typeface="Segoe Script"/>
              </a:rPr>
              <a:t>Second Outline Level</a:t>
            </a:r>
            <a:endParaRPr b="0" lang="en-US" sz="2400" spc="-1" strike="noStrike">
              <a:solidFill>
                <a:srgbClr val="def5fa"/>
              </a:solidFill>
              <a:latin typeface="Segoe Script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f5fa"/>
                </a:solidFill>
                <a:latin typeface="Segoe Script"/>
              </a:rPr>
              <a:t>Third Outline Level</a:t>
            </a:r>
            <a:endParaRPr b="0" lang="en-US" sz="2400" spc="-1" strike="noStrike">
              <a:solidFill>
                <a:srgbClr val="def5fa"/>
              </a:solidFill>
              <a:latin typeface="Segoe Script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f5fa"/>
                </a:solidFill>
                <a:latin typeface="Segoe Script"/>
              </a:rPr>
              <a:t>Fourth Outline Level</a:t>
            </a:r>
            <a:endParaRPr b="0" lang="en-US" sz="2400" spc="-1" strike="noStrike">
              <a:solidFill>
                <a:srgbClr val="def5fa"/>
              </a:solidFill>
              <a:latin typeface="Segoe Script"/>
            </a:endParaRPr>
          </a:p>
          <a:p>
            <a:pPr lvl="4" marL="1461960" indent="-182520">
              <a:spcBef>
                <a:spcPts val="601"/>
              </a:spcBef>
              <a:buClr>
                <a:srgbClr val="adced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f5fa"/>
                </a:solidFill>
                <a:latin typeface="Segoe Script"/>
              </a:rPr>
              <a:t>Fifth Outline Level</a:t>
            </a:r>
            <a:endParaRPr b="0" lang="en-US" sz="2400" spc="-1" strike="noStrike">
              <a:solidFill>
                <a:srgbClr val="def5fa"/>
              </a:solidFill>
              <a:latin typeface="Segoe Script"/>
            </a:endParaRPr>
          </a:p>
          <a:p>
            <a:pPr lvl="5" marL="1461960" indent="-182520">
              <a:spcBef>
                <a:spcPts val="601"/>
              </a:spcBef>
              <a:buClr>
                <a:srgbClr val="def5f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f5fa"/>
                </a:solidFill>
                <a:latin typeface="Segoe Script"/>
              </a:rPr>
              <a:t>Sixth Outline Level</a:t>
            </a:r>
            <a:endParaRPr b="0" lang="en-US" sz="2400" spc="-1" strike="noStrike">
              <a:solidFill>
                <a:srgbClr val="def5fa"/>
              </a:solidFill>
              <a:latin typeface="Segoe Script"/>
            </a:endParaRPr>
          </a:p>
          <a:p>
            <a:pPr lvl="6" marL="1461960" indent="-182520">
              <a:spcBef>
                <a:spcPts val="601"/>
              </a:spcBef>
              <a:buClr>
                <a:srgbClr val="def5f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f5fa"/>
                </a:solidFill>
                <a:latin typeface="Segoe Script"/>
              </a:rPr>
              <a:t>Seventh Outline Level</a:t>
            </a:r>
            <a:endParaRPr b="0" lang="en-US" sz="2400" spc="-1" strike="noStrike">
              <a:solidFill>
                <a:srgbClr val="def5fa"/>
              </a:solidFill>
              <a:latin typeface="Segoe Scrip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3C08-CADB-46E6-8CCB-26A5619D9E2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Monotype Corsiva"/>
              </a:rPr>
              <a:t>Click to edit the title text format</a:t>
            </a: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Segoe Script"/>
              </a:rPr>
              <a:t>Click to edit the outline text format</a:t>
            </a: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Segoe Script"/>
              </a:rPr>
              <a:t>Second Outline Level</a:t>
            </a: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Segoe Script"/>
              </a:rPr>
              <a:t>Third Outline Level</a:t>
            </a: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Segoe Script"/>
              </a:rPr>
              <a:t>Fourth Outline Level</a:t>
            </a: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  <a:p>
            <a:pPr lvl="4" marL="1461960" indent="-182520">
              <a:spcBef>
                <a:spcPts val="601"/>
              </a:spcBef>
              <a:buClr>
                <a:srgbClr val="adced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Segoe Script"/>
              </a:rPr>
              <a:t>Fifth Outline Level</a:t>
            </a: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  <a:p>
            <a:pPr lvl="5" marL="1461960" indent="-182520">
              <a:spcBef>
                <a:spcPts val="601"/>
              </a:spcBef>
              <a:buClr>
                <a:srgbClr val="00206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Segoe Script"/>
              </a:rPr>
              <a:t>Sixth Outline Level</a:t>
            </a: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  <a:p>
            <a:pPr lvl="6" marL="1461960" indent="-182520">
              <a:spcBef>
                <a:spcPts val="601"/>
              </a:spcBef>
              <a:buClr>
                <a:srgbClr val="00206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Segoe Script"/>
              </a:rPr>
              <a:t>Seventh Outline Level</a:t>
            </a: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82C0-1E20-4D0B-B421-C1843AC5935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Monotype Corsiva"/>
              </a:rPr>
              <a:t>Click to edit the title text format</a:t>
            </a: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Segoe Script"/>
              </a:rPr>
              <a:t>Click to edit the outline text format</a:t>
            </a: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Segoe Script"/>
              </a:rPr>
              <a:t>Second Outline Level</a:t>
            </a: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Segoe Script"/>
              </a:rPr>
              <a:t>Third Outline Level</a:t>
            </a: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Segoe Script"/>
              </a:rPr>
              <a:t>Fourth Outline Level</a:t>
            </a: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  <a:p>
            <a:pPr lvl="4" marL="1461960" indent="-182520">
              <a:spcBef>
                <a:spcPts val="601"/>
              </a:spcBef>
              <a:buClr>
                <a:srgbClr val="adced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Segoe Script"/>
              </a:rPr>
              <a:t>Fifth Outline Level</a:t>
            </a: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  <a:p>
            <a:pPr lvl="5" marL="1461960" indent="-182520">
              <a:spcBef>
                <a:spcPts val="601"/>
              </a:spcBef>
              <a:buClr>
                <a:srgbClr val="00206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Segoe Script"/>
              </a:rPr>
              <a:t>Sixth Outline Level</a:t>
            </a: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  <a:p>
            <a:pPr lvl="6" marL="1461960" indent="-182520">
              <a:spcBef>
                <a:spcPts val="601"/>
              </a:spcBef>
              <a:buClr>
                <a:srgbClr val="00206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Segoe Script"/>
              </a:rPr>
              <a:t>Seventh Outline Level</a:t>
            </a: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A136-100B-441E-A0A7-78F3978C698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dce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Monotype Corsiva"/>
              </a:rPr>
              <a:t>Click to edit the title text format</a:t>
            </a: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Segoe Script"/>
              </a:rPr>
              <a:t>Click to edit the outline text format</a:t>
            </a: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  <a:p>
            <a:pPr lvl="1" marL="639720" indent="-27288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Segoe Script"/>
              </a:rPr>
              <a:t>Second Outline Level</a:t>
            </a: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  <a:p>
            <a:pPr lvl="2" marL="914400" indent="-182520">
              <a:spcBef>
                <a:spcPts val="601"/>
              </a:spcBef>
              <a:buClr>
                <a:srgbClr val="268ea8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Segoe Script"/>
              </a:rPr>
              <a:t>Third Outline Level</a:t>
            </a: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  <a:p>
            <a:pPr lvl="3" marL="1187280" indent="-182520">
              <a:spcBef>
                <a:spcPts val="601"/>
              </a:spcBef>
              <a:buClr>
                <a:srgbClr val="adced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Segoe Script"/>
              </a:rPr>
              <a:t>Fourth Outline Level</a:t>
            </a: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  <a:p>
            <a:pPr lvl="4" marL="1461960" indent="-182520">
              <a:spcBef>
                <a:spcPts val="601"/>
              </a:spcBef>
              <a:buClr>
                <a:srgbClr val="adcedc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Segoe Script"/>
              </a:rPr>
              <a:t>Fifth Outline Level</a:t>
            </a: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  <a:p>
            <a:pPr lvl="5" marL="1461960" indent="-182520">
              <a:spcBef>
                <a:spcPts val="601"/>
              </a:spcBef>
              <a:buClr>
                <a:srgbClr val="00206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Segoe Script"/>
              </a:rPr>
              <a:t>Sixth Outline Level</a:t>
            </a: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  <a:p>
            <a:pPr lvl="6" marL="1461960" indent="-182520">
              <a:spcBef>
                <a:spcPts val="601"/>
              </a:spcBef>
              <a:buClr>
                <a:srgbClr val="00206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Segoe Script"/>
              </a:rPr>
              <a:t>Seventh Outline Level</a:t>
            </a:r>
            <a:endParaRPr b="0" lang="en-US" sz="24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7E45-84C3-4108-A4A4-394CFA8AD95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Segoe Scrip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499680"/>
            <a:ext cx="61722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Monotype Corsiva"/>
              </a:rPr>
              <a:t>КОНСТАНТИН ФЁДОРОВИЧ </a:t>
            </a:r>
            <a:r>
              <a:rPr b="1" lang="ru-RU" sz="4800" spc="-1" strike="noStrike">
                <a:solidFill>
                  <a:srgbClr val="002060"/>
                </a:solidFill>
                <a:latin typeface="Monotype Corsiva"/>
              </a:rPr>
              <a:t>ЮОН</a:t>
            </a:r>
            <a:endParaRPr b="0" lang="en-US" sz="48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2143080"/>
            <a:ext cx="617220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2060"/>
              </a:solidFill>
              <a:latin typeface="Segoe Script"/>
            </a:endParaRPr>
          </a:p>
        </p:txBody>
      </p:sp>
      <p:pic>
        <p:nvPicPr>
          <p:cNvPr id="353" name="Picture 2" descr="C:\Documents and Settings\Admin\Рабочий стол\Наташино\Домашнее задание\Картинки\К.Ф.Юон\yuon-002.jpg"/>
          <p:cNvPicPr/>
          <p:nvPr/>
        </p:nvPicPr>
        <p:blipFill>
          <a:blip r:embed="rId1"/>
          <a:stretch/>
        </p:blipFill>
        <p:spPr>
          <a:xfrm>
            <a:off x="2500200" y="2143080"/>
            <a:ext cx="3167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Monotype Corsiva"/>
              </a:rPr>
              <a:t>КОНСТАНТИН ФЁДОРОВИЧ ЮОН- РУССКИЙ СОВЕТСКИЙ ЖИВОПИСЕЦ, МАСТЕР ПЕЙЗАЖА, ТЕАТРАЛЬНЫЙ ХУДОЖНИК, ТЕОРЕТИК ИСКУССТВА.</a:t>
            </a:r>
            <a:endParaRPr b="0" lang="en-US" sz="28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2285640"/>
            <a:ext cx="746748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Segoe Script"/>
              </a:rPr>
              <a:t>Родился 12 (24) октября 1875 год в Москве, в немецкоязычной швейцарской семье.</a:t>
            </a:r>
            <a:endParaRPr b="0" lang="en-US" sz="1700" spc="-1" strike="noStrike">
              <a:solidFill>
                <a:srgbClr val="002060"/>
              </a:solidFill>
              <a:latin typeface="Segoe Script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Segoe Script"/>
              </a:rPr>
              <a:t>С 1892 по 1898 год учился в МУЖВЗ.</a:t>
            </a:r>
            <a:endParaRPr b="0" lang="en-US" sz="1700" spc="-1" strike="noStrike">
              <a:solidFill>
                <a:srgbClr val="002060"/>
              </a:solidFill>
              <a:latin typeface="Segoe Script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Segoe Script"/>
              </a:rPr>
              <a:t>По окончании училища два года работал в мастерской В. А. Серова. Затем основал собственную студию, в которой преподавал с 1900 по 1917 совместно с И. О. Дудиным.</a:t>
            </a:r>
            <a:endParaRPr b="0" lang="en-US" sz="1700" spc="-1" strike="noStrike">
              <a:solidFill>
                <a:srgbClr val="002060"/>
              </a:solidFill>
              <a:latin typeface="Segoe Script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Segoe Script"/>
              </a:rPr>
              <a:t>В 1903 году стал одним из организаторов Союза русских художников. Он также входил в число участников объединения «Мир искусства».</a:t>
            </a:r>
            <a:endParaRPr b="0" lang="en-US" sz="1700" spc="-1" strike="noStrike">
              <a:solidFill>
                <a:srgbClr val="002060"/>
              </a:solidFill>
              <a:latin typeface="Segoe Script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Segoe Script"/>
              </a:rPr>
              <a:t>С 1907 года работал в области театральной декорации.</a:t>
            </a:r>
            <a:endParaRPr b="0" lang="en-US" sz="1700" spc="-1" strike="noStrike">
              <a:solidFill>
                <a:srgbClr val="002060"/>
              </a:solidFill>
              <a:latin typeface="Segoe Script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Segoe Script"/>
              </a:rPr>
              <a:t>Вёл художественную студию на Пречистенских рабочих курсах с И. О. Дудиным</a:t>
            </a:r>
            <a:endParaRPr b="0" lang="en-US" sz="1700" spc="-1" strike="noStrike">
              <a:solidFill>
                <a:srgbClr val="00206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pic>
        <p:nvPicPr>
          <p:cNvPr id="357" name="Содержимое 6" descr="yuon-010.jpg"/>
          <p:cNvPicPr/>
          <p:nvPr/>
        </p:nvPicPr>
        <p:blipFill>
          <a:blip r:embed="rId1"/>
          <a:stretch/>
        </p:blipFill>
        <p:spPr>
          <a:xfrm>
            <a:off x="500040" y="1500120"/>
            <a:ext cx="3643200" cy="4748400"/>
          </a:xfrm>
          <a:prstGeom prst="rect">
            <a:avLst/>
          </a:prstGeom>
          <a:ln w="0">
            <a:noFill/>
          </a:ln>
        </p:spPr>
      </p:pic>
      <p:pic>
        <p:nvPicPr>
          <p:cNvPr id="358" name="Содержимое 7" descr="yuon-014.jpg"/>
          <p:cNvPicPr/>
          <p:nvPr/>
        </p:nvPicPr>
        <p:blipFill>
          <a:blip r:embed="rId2"/>
          <a:stretch/>
        </p:blipFill>
        <p:spPr>
          <a:xfrm>
            <a:off x="4500720" y="1500120"/>
            <a:ext cx="3500280" cy="47484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502200" y="473400"/>
            <a:ext cx="3567600" cy="83844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Script"/>
              </a:rPr>
              <a:t>Подмосковный пейзаж.</a:t>
            </a:r>
            <a:endParaRPr b="0" lang="en-US" sz="16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388400" y="473400"/>
            <a:ext cx="3567600" cy="83844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Script"/>
              </a:rPr>
              <a:t>Березы. Петровское.</a:t>
            </a:r>
            <a:endParaRPr b="0" lang="en-US" sz="1600" spc="-1" strike="noStrike">
              <a:solidFill>
                <a:srgbClr val="00206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500040"/>
            <a:ext cx="746748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Segoe Script"/>
              </a:rPr>
              <a:t>В 1925 года Юон стал членом АХРР, хотя есть все основания полагать, что он не симпатизировал большевизму. Так, на созданной в 1921 или 1922 году картине «Новая планета»художник изобразил космическую катастрофу, которая символизирует Октябрьскую революцию. В другой "космической" картине «Люди» (1923 г.) угадываются контуры Соловецкого лагеря особого назначения (СЛОН). Большой известностью пользуется и его картина «Купола и ласточки. Успенский собор Троице-Сергиевой лавры» (1921 г.). Это панорамный пейзаж, написанный с колокольни собора ясным летним вечером, на закате. Под ласковым небом благоденствует земля, и на переднем плане сияют освещенные солнцем купола с золотыми узорчатыми крестами. Сам мотив не только очень эффектен, но и весьма смел для эпохи беспощадной борьбы новой власти с церковью.</a:t>
            </a:r>
            <a:endParaRPr b="0" lang="en-US" sz="1700" spc="-1" strike="noStrike">
              <a:solidFill>
                <a:srgbClr val="002060"/>
              </a:solidFill>
              <a:latin typeface="Segoe Script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Segoe Script"/>
              </a:rPr>
              <a:t>Помимо работы в живописном жанре, он активно занялся оформлением театральных постановок («Борис Годунов» в парижском театре Дягилева, «Ревизор» в Художественном театре, «Аракчеевщина» и др.), а также художественной графикой.</a:t>
            </a:r>
            <a:endParaRPr b="0" lang="en-US" sz="1700" spc="-1" strike="noStrike">
              <a:solidFill>
                <a:srgbClr val="00206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pic>
        <p:nvPicPr>
          <p:cNvPr id="364" name="Содержимое 6" descr="yuon-041.jpg"/>
          <p:cNvPicPr/>
          <p:nvPr/>
        </p:nvPicPr>
        <p:blipFill>
          <a:blip r:embed="rId1"/>
          <a:stretch/>
        </p:blipFill>
        <p:spPr>
          <a:xfrm>
            <a:off x="457200" y="1500120"/>
            <a:ext cx="3657600" cy="4786560"/>
          </a:xfrm>
          <a:prstGeom prst="rect">
            <a:avLst/>
          </a:prstGeom>
          <a:ln w="0">
            <a:noFill/>
          </a:ln>
        </p:spPr>
      </p:pic>
      <p:pic>
        <p:nvPicPr>
          <p:cNvPr id="365" name="Содержимое 7" descr="yuon-042.jpg"/>
          <p:cNvPicPr/>
          <p:nvPr/>
        </p:nvPicPr>
        <p:blipFill>
          <a:blip r:embed="rId2"/>
          <a:stretch/>
        </p:blipFill>
        <p:spPr>
          <a:xfrm>
            <a:off x="4371840" y="1500120"/>
            <a:ext cx="3657600" cy="47865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495360" y="609840"/>
            <a:ext cx="3581280" cy="7092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Script"/>
              </a:rPr>
              <a:t>Парад на Красной площади 7 ноября 1941 года.</a:t>
            </a:r>
            <a:endParaRPr b="0" lang="en-US" sz="16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381560" y="609840"/>
            <a:ext cx="3581280" cy="7092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Script"/>
              </a:rPr>
              <a:t>Штурм Кремля в 1917 году. </a:t>
            </a:r>
            <a:endParaRPr b="0" lang="en-US" sz="1600" spc="-1" strike="noStrike">
              <a:solidFill>
                <a:srgbClr val="00206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428760"/>
            <a:ext cx="7467480" cy="60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Segoe Script"/>
              </a:rPr>
              <a:t>В 1948 по 1950 годы художник работал директором Научно-исследовательского института теории и истории изобразительных искусств АХ СССР.</a:t>
            </a:r>
            <a:endParaRPr b="0" lang="en-US" sz="1700" spc="-1" strike="noStrike">
              <a:solidFill>
                <a:srgbClr val="002060"/>
              </a:solidFill>
              <a:latin typeface="Segoe Script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Segoe Script"/>
              </a:rPr>
              <a:t>С 1952 по 1955 преподавал в качестве профессора в Московском художественном институте им. В. И. Сурикова, а также в ряде других учебных заведений. С 1957 года был первым секретарем правления СХ СССР.</a:t>
            </a:r>
            <a:endParaRPr b="0" lang="en-US" sz="1700" spc="-1" strike="noStrike">
              <a:solidFill>
                <a:srgbClr val="002060"/>
              </a:solidFill>
              <a:latin typeface="Segoe Script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Segoe Script"/>
              </a:rPr>
              <a:t>К. Ф. Юон умер 11 апреля 1958 года. Похоронен в Москве на Новодевичьем кладбище .</a:t>
            </a:r>
            <a:endParaRPr b="0" lang="en-US" sz="1700" spc="-1" strike="noStrike">
              <a:solidFill>
                <a:srgbClr val="002060"/>
              </a:solidFill>
              <a:latin typeface="Segoe Script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Segoe Script"/>
              </a:rPr>
              <a:t>Юон был награжден:</a:t>
            </a:r>
            <a:endParaRPr b="0" lang="en-US" sz="1700" spc="-1" strike="noStrike">
              <a:solidFill>
                <a:srgbClr val="002060"/>
              </a:solidFill>
              <a:latin typeface="Segoe Script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Segoe Script"/>
              </a:rPr>
              <a:t>Сталинская премия первой степени (1943) — за многолетние выдающиеся достижения в искусстве</a:t>
            </a:r>
            <a:endParaRPr b="0" lang="en-US" sz="1700" spc="-1" strike="noStrike">
              <a:solidFill>
                <a:srgbClr val="002060"/>
              </a:solidFill>
              <a:latin typeface="Segoe Script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Segoe Script"/>
              </a:rPr>
              <a:t>Орден Ленина</a:t>
            </a:r>
            <a:endParaRPr b="0" lang="en-US" sz="1700" spc="-1" strike="noStrike">
              <a:solidFill>
                <a:srgbClr val="002060"/>
              </a:solidFill>
              <a:latin typeface="Segoe Script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Segoe Script"/>
              </a:rPr>
              <a:t>Орден Трудового Красного Знамени (1943)</a:t>
            </a:r>
            <a:endParaRPr b="0" lang="en-US" sz="1700" spc="-1" strike="noStrike">
              <a:solidFill>
                <a:srgbClr val="002060"/>
              </a:solidFill>
              <a:latin typeface="Segoe Script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Segoe Script"/>
              </a:rPr>
              <a:t>Народный художник СССР (1950)</a:t>
            </a:r>
            <a:endParaRPr b="0" lang="en-US" sz="1700" spc="-1" strike="noStrike">
              <a:solidFill>
                <a:srgbClr val="002060"/>
              </a:solidFill>
              <a:latin typeface="Segoe Script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Segoe Script"/>
              </a:rPr>
              <a:t>Народный художник РСФСР (1945)</a:t>
            </a:r>
            <a:endParaRPr b="0" lang="en-US" sz="1700" spc="-1" strike="noStrike">
              <a:solidFill>
                <a:srgbClr val="002060"/>
              </a:solidFill>
              <a:latin typeface="Segoe Script"/>
            </a:endParaRPr>
          </a:p>
          <a:p>
            <a:pPr marL="272880" indent="-272880">
              <a:spcBef>
                <a:spcPts val="601"/>
              </a:spcBef>
              <a:buClr>
                <a:srgbClr val="2da2b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Segoe Script"/>
              </a:rPr>
              <a:t>На московском доме, где он жил и работал (улица Земляной вал, 14—16), установлена мемориальная доска.</a:t>
            </a:r>
            <a:endParaRPr b="0" lang="en-US" sz="1700" spc="-1" strike="noStrike">
              <a:solidFill>
                <a:srgbClr val="00206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pic>
        <p:nvPicPr>
          <p:cNvPr id="371" name="Содержимое 6" descr="yuon-027.jpg"/>
          <p:cNvPicPr/>
          <p:nvPr/>
        </p:nvPicPr>
        <p:blipFill>
          <a:blip r:embed="rId1"/>
          <a:stretch/>
        </p:blipFill>
        <p:spPr>
          <a:xfrm>
            <a:off x="428760" y="1643040"/>
            <a:ext cx="3657600" cy="4643640"/>
          </a:xfrm>
          <a:prstGeom prst="rect">
            <a:avLst/>
          </a:prstGeom>
          <a:ln w="0">
            <a:noFill/>
          </a:ln>
        </p:spPr>
      </p:pic>
      <p:pic>
        <p:nvPicPr>
          <p:cNvPr id="372" name="Содержимое 7" descr="yuon-017.jpg"/>
          <p:cNvPicPr/>
          <p:nvPr/>
        </p:nvPicPr>
        <p:blipFill>
          <a:blip r:embed="rId2"/>
          <a:stretch/>
        </p:blipFill>
        <p:spPr>
          <a:xfrm>
            <a:off x="4371840" y="1643040"/>
            <a:ext cx="3657600" cy="464364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495360" y="537840"/>
            <a:ext cx="3581280" cy="70956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Script"/>
              </a:rPr>
              <a:t>Мартовское солнце.</a:t>
            </a:r>
            <a:endParaRPr b="0" lang="en-US" sz="16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381560" y="537840"/>
            <a:ext cx="3581280" cy="70956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Script"/>
              </a:rPr>
              <a:t>Зимний день.</a:t>
            </a:r>
            <a:endParaRPr b="0" lang="en-US" sz="1600" spc="-1" strike="noStrike">
              <a:solidFill>
                <a:srgbClr val="00206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pic>
        <p:nvPicPr>
          <p:cNvPr id="376" name="Содержимое 6" descr="yuon-007.jpg"/>
          <p:cNvPicPr/>
          <p:nvPr/>
        </p:nvPicPr>
        <p:blipFill>
          <a:blip r:embed="rId1"/>
          <a:stretch/>
        </p:blipFill>
        <p:spPr>
          <a:xfrm>
            <a:off x="457200" y="1571760"/>
            <a:ext cx="3657600" cy="4643280"/>
          </a:xfrm>
          <a:prstGeom prst="rect">
            <a:avLst/>
          </a:prstGeom>
          <a:ln w="0">
            <a:noFill/>
          </a:ln>
        </p:spPr>
      </p:pic>
      <p:pic>
        <p:nvPicPr>
          <p:cNvPr id="377" name="Содержимое 7" descr="yuon-006.jpg"/>
          <p:cNvPicPr/>
          <p:nvPr/>
        </p:nvPicPr>
        <p:blipFill>
          <a:blip r:embed="rId2"/>
          <a:stretch/>
        </p:blipFill>
        <p:spPr>
          <a:xfrm>
            <a:off x="4371840" y="1571760"/>
            <a:ext cx="3657600" cy="464328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502200" y="402120"/>
            <a:ext cx="3567600" cy="838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Script"/>
              </a:rPr>
              <a:t>Троице-Сергиева Лавра. Зимой.</a:t>
            </a:r>
            <a:endParaRPr b="0" lang="en-US" sz="1600" spc="-1" strike="noStrike">
              <a:solidFill>
                <a:srgbClr val="002060"/>
              </a:solidFill>
              <a:latin typeface="Segoe Scrip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388400" y="402120"/>
            <a:ext cx="3567600" cy="838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Segoe Script"/>
              </a:rPr>
              <a:t>Купола и ласточки. Успенский собор Троице-Сергиевой лавры</a:t>
            </a:r>
            <a:endParaRPr b="0" lang="en-US" sz="1600" spc="-1" strike="noStrike">
              <a:solidFill>
                <a:srgbClr val="00206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Monotype Corsiva"/>
              </a:rPr>
              <a:t>НОВАЯ ПЛАНЕТА.</a:t>
            </a:r>
            <a:endParaRPr b="0" lang="en-US" sz="3000" spc="-1" strike="noStrike">
              <a:solidFill>
                <a:srgbClr val="002060"/>
              </a:solidFill>
              <a:latin typeface="Monotype Corsiva"/>
            </a:endParaRPr>
          </a:p>
        </p:txBody>
      </p:sp>
      <p:pic>
        <p:nvPicPr>
          <p:cNvPr id="381" name="Содержимое 3" descr="yuon-004.jpg"/>
          <p:cNvPicPr/>
          <p:nvPr/>
        </p:nvPicPr>
        <p:blipFill>
          <a:blip r:embed="rId1"/>
          <a:stretch/>
        </p:blipFill>
        <p:spPr>
          <a:xfrm>
            <a:off x="857160" y="1000080"/>
            <a:ext cx="72151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1T10:34:39Z</dcterms:created>
  <dc:creator>Admin</dc:creator>
  <dc:description/>
  <dc:language>en-US</dc:language>
  <cp:lastModifiedBy>Анастасия Зарница</cp:lastModifiedBy>
  <dcterms:modified xsi:type="dcterms:W3CDTF">2017-01-15T08:07:13Z</dcterms:modified>
  <cp:revision>9</cp:revision>
  <dc:subject/>
  <dc:title>Константин Фёдорович Юон</dc:title>
</cp:coreProperties>
</file>