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26E-CD41-42DD-9958-9FF808E0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DFD-9F5F-4D2F-B514-3CFC509B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B68-D078-4A89-8412-6EA264AC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1F9-912B-49A9-8112-7CD846FE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983D-3A12-4251-951B-F036EDF5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2BAF-3A8D-466A-AEE3-B741DD78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FC24-53D0-4F3C-881C-C83F7784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0F23-D48C-40F8-9C9F-C505B78F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509B-8756-4FDA-960A-D4D0BDB4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CC2B-8DEC-406B-8C13-CBA0004F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A37D-1D5B-42A8-A8BB-4CBD6218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BC2-D842-4DBE-9D92-C7CEBF25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2E8D-A7D1-4A5F-ADF6-F87C16FB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AEA4-0736-44F7-BAD9-E52A9DE7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602D-B0C3-47DB-8738-04ED8014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6709-12FA-45B1-82BF-39CCDAD2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62F8-A7D7-4857-BC32-E483EC7D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8E1-815D-417C-8B36-74AA91BB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4B8-72AE-40EE-A99C-78D704B5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DD1-B454-4732-843D-FAB8FEF5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DE6-2D70-433A-8EBA-92A02DAD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A03-A7A7-4614-AC47-D04E6B1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9B2-6A99-402F-8DC2-AF0D05D8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F6D-A4BB-4E9D-9BB3-B9D8231B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DCE7-377C-4314-961D-6F3562F8AC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783-0E19-4851-BBF9-4CE42544DC2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&#1057;&#1083;&#1086;&#1074;&#1072;&#1088;&#1100;.doc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8"/>
          <p:cNvSpPr txBox="1"/>
          <p:nvPr/>
        </p:nvSpPr>
        <p:spPr>
          <a:xfrm>
            <a:off x="1619280" y="2492280"/>
            <a:ext cx="6619680" cy="23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знь и творчество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ктора Михайловича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аснецова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В.М.Васнецов «Богатыр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Богатыри"/>
          <p:cNvPicPr/>
          <p:nvPr/>
        </p:nvPicPr>
        <p:blipFill>
          <a:blip r:embed="rId1"/>
          <a:stretch/>
        </p:blipFill>
        <p:spPr>
          <a:xfrm>
            <a:off x="2100240" y="1523880"/>
            <a:ext cx="62913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В.М.Васнецов «Витязь на распутье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Витязь на распутье"/>
          <p:cNvPicPr/>
          <p:nvPr/>
        </p:nvPicPr>
        <p:blipFill>
          <a:blip r:embed="rId1"/>
          <a:stretch/>
        </p:blipFill>
        <p:spPr>
          <a:xfrm>
            <a:off x="1668600" y="1523880"/>
            <a:ext cx="71546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" descr="Иван-царевич на сером волке"/>
          <p:cNvPicPr/>
          <p:nvPr/>
        </p:nvPicPr>
        <p:blipFill>
          <a:blip r:embed="rId1"/>
          <a:stretch/>
        </p:blipFill>
        <p:spPr>
          <a:xfrm>
            <a:off x="1763640" y="404640"/>
            <a:ext cx="4218120" cy="58658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1"/>
          <p:cNvSpPr/>
          <p:nvPr/>
        </p:nvSpPr>
        <p:spPr>
          <a:xfrm>
            <a:off x="6159240" y="2924280"/>
            <a:ext cx="268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.М.Васнец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«Иван царевич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на сером волке»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В.М.Васнецов «Алёнуш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9" descr="Этюд"/>
          <p:cNvPicPr/>
          <p:nvPr/>
        </p:nvPicPr>
        <p:blipFill>
          <a:blip r:embed="rId1"/>
          <a:stretch/>
        </p:blipFill>
        <p:spPr>
          <a:xfrm>
            <a:off x="1476360" y="1484280"/>
            <a:ext cx="3532320" cy="4608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Картина"/>
          <p:cNvPicPr/>
          <p:nvPr/>
        </p:nvPicPr>
        <p:blipFill>
          <a:blip r:embed="rId2"/>
          <a:stretch/>
        </p:blipFill>
        <p:spPr>
          <a:xfrm>
            <a:off x="5292720" y="1484280"/>
            <a:ext cx="3568680" cy="5111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1"/>
          <p:cNvSpPr/>
          <p:nvPr/>
        </p:nvSpPr>
        <p:spPr>
          <a:xfrm>
            <a:off x="2556360" y="6164280"/>
            <a:ext cx="10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этюд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Times New Roman"/>
              </a:rPr>
              <a:t>В.М.Васнецов «Ковёр-самолёт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8" descr="Ковёр-самолёт"/>
          <p:cNvPicPr/>
          <p:nvPr/>
        </p:nvPicPr>
        <p:blipFill>
          <a:blip r:embed="rId1"/>
          <a:stretch/>
        </p:blipFill>
        <p:spPr>
          <a:xfrm>
            <a:off x="1569960" y="1523880"/>
            <a:ext cx="735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 «Снегуроч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Снегурочка"/>
          <p:cNvPicPr/>
          <p:nvPr/>
        </p:nvPicPr>
        <p:blipFill>
          <a:blip r:embed="rId1"/>
          <a:stretch/>
        </p:blipFill>
        <p:spPr>
          <a:xfrm>
            <a:off x="3492360" y="1125360"/>
            <a:ext cx="3546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«Три царевны подземного царст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" descr="Три царевны подземного царства"/>
          <p:cNvPicPr/>
          <p:nvPr/>
        </p:nvPicPr>
        <p:blipFill>
          <a:blip r:embed="rId1"/>
          <a:stretch/>
        </p:blipFill>
        <p:spPr>
          <a:xfrm>
            <a:off x="1708200" y="1523880"/>
            <a:ext cx="7075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После побоища Игоря Светославича с половцами"/>
          <p:cNvPicPr/>
          <p:nvPr/>
        </p:nvPicPr>
        <p:blipFill>
          <a:blip r:embed="rId1"/>
          <a:stretch/>
        </p:blipFill>
        <p:spPr>
          <a:xfrm>
            <a:off x="1535040" y="1523880"/>
            <a:ext cx="7421760" cy="4714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 «После побоища Игоря Святославича с половцам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В.М.Васнецов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Царь Иван Васильевич Грозны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Царь Василий Иванович Грозный"/>
          <p:cNvPicPr/>
          <p:nvPr/>
        </p:nvPicPr>
        <p:blipFill>
          <a:blip r:embed="rId1"/>
          <a:stretch/>
        </p:blipFill>
        <p:spPr>
          <a:xfrm>
            <a:off x="1692360" y="1628640"/>
            <a:ext cx="2647800" cy="471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Княгиня Ольга"/>
          <p:cNvPicPr/>
          <p:nvPr/>
        </p:nvPicPr>
        <p:blipFill>
          <a:blip r:embed="rId2"/>
          <a:stretch/>
        </p:blipFill>
        <p:spPr>
          <a:xfrm>
            <a:off x="6372360" y="260280"/>
            <a:ext cx="2127240" cy="6167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1"/>
          <p:cNvSpPr/>
          <p:nvPr/>
        </p:nvSpPr>
        <p:spPr>
          <a:xfrm>
            <a:off x="4769280" y="337644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Княгиня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льга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556000" y="4680"/>
            <a:ext cx="525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1880- 1890-х гг. В.М.Васнецов работает для театра. Отличающиеся народно-поэтическим складом декорации и костюмы к пьесе-сказке "Снегурочка" А. Н. Островского (поставлена в домашнем театре С. И. Мамонтова в 1882) и одноимённой опере Н. А. Римского-Корсакова (в Московской частной русской опере С. И. Мамонтова в 1886), исполненные по эскизам Васнецова,- пример творческой интерпретации подлинного археологического и этнографического материала,- оказали большое влияние на развитие русского театрального-декорационного искусства в конце 19 - начале 20 вв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58920" y="836280"/>
            <a:ext cx="3816360" cy="50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снецов родился в семье сель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щенника в 1848 году. Детские годы его прошли в небольшом селе Рябове Вятской губернии (ныне Кировская область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ая издавна славилась величественной красотой природы, искусством народных умельцев —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тников, резчиков, игрушечник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есь впервые юный Васнец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ышал и на всю жизнь полюби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ские народные сказки, были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с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image002"/>
          <p:cNvPicPr/>
          <p:nvPr/>
        </p:nvPicPr>
        <p:blipFill>
          <a:blip r:embed="rId1"/>
          <a:stretch/>
        </p:blipFill>
        <p:spPr>
          <a:xfrm>
            <a:off x="1187280" y="907920"/>
            <a:ext cx="315144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550880" y="566100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В.М.Васнецов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«Автопортрет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«Эскиз декорации к опере «Снегуроч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8" descr="Эскиз декорации к опере снегурочка"/>
          <p:cNvPicPr/>
          <p:nvPr/>
        </p:nvPicPr>
        <p:blipFill>
          <a:blip r:embed="rId1"/>
          <a:stretch/>
        </p:blipFill>
        <p:spPr>
          <a:xfrm>
            <a:off x="1979640" y="1523880"/>
            <a:ext cx="6532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 «Снегурочка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скиз костюма к опере «Снегурочка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Снегурочка и Дед Мороз"/>
          <p:cNvPicPr/>
          <p:nvPr/>
        </p:nvPicPr>
        <p:blipFill>
          <a:blip r:embed="rId1"/>
          <a:stretch/>
        </p:blipFill>
        <p:spPr>
          <a:xfrm>
            <a:off x="3876840" y="1523880"/>
            <a:ext cx="2736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1763640" y="547920"/>
            <a:ext cx="69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В своём творчестве Виктор Михайлович обращался к религиозным темам. В 1885-96 годах Васнецов выполнил большую часть росписей Владимирского собора в Киеве. В росписях Владимирского собора Васнецов пытался внести духовное содержание и эмоциональность в традиционную систему церковной монументальной живописи, которая во 2-й половине 19 в. пришла в полный упадок.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 «Радость праведных о господ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радость праведных о господе"/>
          <p:cNvPicPr/>
          <p:nvPr/>
        </p:nvPicPr>
        <p:blipFill>
          <a:blip r:embed="rId1"/>
          <a:stretch/>
        </p:blipFill>
        <p:spPr>
          <a:xfrm>
            <a:off x="1500120" y="2106720"/>
            <a:ext cx="7491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 «Христос –вседержител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6" descr="Христос вседержитель"/>
          <p:cNvPicPr/>
          <p:nvPr/>
        </p:nvPicPr>
        <p:blipFill>
          <a:blip r:embed="rId1"/>
          <a:stretch/>
        </p:blipFill>
        <p:spPr>
          <a:xfrm>
            <a:off x="3125880" y="1523880"/>
            <a:ext cx="42386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2193480" y="1701000"/>
            <a:ext cx="590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В. М. Васнецов обладал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разносторонними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дарованиями.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Он создал ряд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проникновенных и глубоких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портретов: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ртрет дочери Т.В.Васнецово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Портрет дочери Т"/>
          <p:cNvPicPr/>
          <p:nvPr/>
        </p:nvPicPr>
        <p:blipFill>
          <a:blip r:embed="rId1"/>
          <a:stretch/>
        </p:blipFill>
        <p:spPr>
          <a:xfrm>
            <a:off x="3427560" y="1523880"/>
            <a:ext cx="3635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ртрет Елены Ариановны Прахово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портрет Елены Адриановны Праховой"/>
          <p:cNvPicPr/>
          <p:nvPr/>
        </p:nvPicPr>
        <p:blipFill>
          <a:blip r:embed="rId1"/>
          <a:stretch/>
        </p:blipFill>
        <p:spPr>
          <a:xfrm>
            <a:off x="3627360" y="1523880"/>
            <a:ext cx="3235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818640" y="212760"/>
            <a:ext cx="7502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...Недалеко от шумного Садового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кольца, в одном из тихих переулков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Москвы, стоит сказочный терем. Это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Дом-музей В. М. Васнецова,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остроенный по его проекту в 1894 г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Здесь он жил, работал и умер в 1926 году,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однимаясь к себе в мастерскую,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чтобы закончить портрет друга —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художника М. В. Нестерова. В этом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доме сегодня всегда много детей — они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иходят сюда, движимые интересом к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творчеству одного из самых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оэтичных художников России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414160" y="402120"/>
            <a:ext cx="516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Художественное образование он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олучил в лучшем учебном заведени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России — Петербургской Академи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художеств, где подружился с И. 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Репиным, И. Н. Крамским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7" name="Picture 5" descr="Императорская Академия художеств, Петербург"/>
          <p:cNvPicPr/>
          <p:nvPr/>
        </p:nvPicPr>
        <p:blipFill>
          <a:blip r:embed="rId1"/>
          <a:stretch/>
        </p:blipFill>
        <p:spPr>
          <a:xfrm>
            <a:off x="2771640" y="2349360"/>
            <a:ext cx="4248360" cy="2998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2199600" y="5516640"/>
            <a:ext cx="55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 годы учёбы выполнял рисунки дл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журналов и дешёвых народных изделий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5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878 г. он переезжает в Москву, ныне жизнь и творчество его будут тесно связаны с древней столицей Росси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скве Виктор Михайлович сближается со многими замечательными художниками, с основателем знаменитой галереи П. М. Третьяковы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эскизу Виктора Михайловича сделан фасад здания всеми любим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тьяковской галереи — Третьяков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4" descr="портрет П"/>
          <p:cNvPicPr/>
          <p:nvPr/>
        </p:nvPicPr>
        <p:blipFill>
          <a:blip r:embed="rId1"/>
          <a:stretch/>
        </p:blipFill>
        <p:spPr>
          <a:xfrm>
            <a:off x="1763640" y="2205000"/>
            <a:ext cx="3019320" cy="40989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5"/>
          <p:cNvSpPr/>
          <p:nvPr/>
        </p:nvSpPr>
        <p:spPr>
          <a:xfrm>
            <a:off x="5434200" y="57340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ртрет П.М.Третьякова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Художник И.Е.Репин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Picture 16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880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>
            <a:hlinkClick r:id="" action="ppaction://hlinkshowjump?jump=previousslide"/>
          </p:cNvPr>
          <p:cNvSpPr/>
          <p:nvPr/>
        </p:nvSpPr>
        <p:spPr>
          <a:xfrm>
            <a:off x="8686800" y="654696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197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снецов становится активным членом мамонтовского кружка художников, музыкантов, часто гостит в загородной усадьбе С.И.Мамонтова (богатого купца и покровителя художников) в селе Абрамце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Picture 10" descr="Дубовая роща в Абрамцеве"/>
          <p:cNvPicPr/>
          <p:nvPr/>
        </p:nvPicPr>
        <p:blipFill>
          <a:blip r:embed="rId1"/>
          <a:stretch/>
        </p:blipFill>
        <p:spPr>
          <a:xfrm>
            <a:off x="3780000" y="2276640"/>
            <a:ext cx="5184720" cy="3224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3920040" y="573408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.М.Васнецов «Дубовая роща в Абрамцеве»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Picture 12" descr="Портрет С"/>
          <p:cNvPicPr/>
          <p:nvPr/>
        </p:nvPicPr>
        <p:blipFill>
          <a:blip r:embed="rId2"/>
          <a:stretch/>
        </p:blipFill>
        <p:spPr>
          <a:xfrm>
            <a:off x="1403280" y="3645000"/>
            <a:ext cx="2197080" cy="2727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1476360" y="220500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.Е.Репин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«Портрет С.И.Мамонтова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" action="ppaction://hlinkshowjump?jump=previousslide"/>
          </p:cNvPr>
          <p:cNvSpPr/>
          <p:nvPr/>
        </p:nvSpPr>
        <p:spPr>
          <a:xfrm>
            <a:off x="8686800" y="654696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31196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70-е гг. выступил с небольшими жанровыми картинами, тщательно написанными преимущественно в серовато-коричневой цветовой гамм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ценках уличной и домашней жизни мелких купцов и чиновников, городской бедноты и крестьян Васнецов с большой наблюдательностью запечатлел различные типы современного ему общества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 «Книжная лавоч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Книжная лавочка"/>
          <p:cNvPicPr/>
          <p:nvPr/>
        </p:nvPicPr>
        <p:blipFill>
          <a:blip r:embed="rId1"/>
          <a:stretch/>
        </p:blipFill>
        <p:spPr>
          <a:xfrm>
            <a:off x="3238560" y="1197000"/>
            <a:ext cx="37688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М.Васнецов «С квартиры на квартир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С квартиры на квартиру"/>
          <p:cNvPicPr/>
          <p:nvPr/>
        </p:nvPicPr>
        <p:blipFill>
          <a:blip r:embed="rId1"/>
          <a:stretch/>
        </p:blipFill>
        <p:spPr>
          <a:xfrm>
            <a:off x="2411280" y="1125360"/>
            <a:ext cx="57945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835280" y="495360"/>
            <a:ext cx="70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 1880-е гг., оставив жанровую живопись, создавал произведения на темы национальной истории, русских былин и народных сказок, посвятив им почти полностью всё своё дальнейшее творчество. Одним из первых русских художников обратившись к русскому фольклору, Васнецов стремился придать эпический характер своим произведениям, в поэтической форме воплотить вековые народные идеалы и высокие патриотические чувства.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7:16:03Z</dcterms:created>
  <dc:creator>Пользователь</dc:creator>
  <dc:description/>
  <dc:language>en-US</dc:language>
  <cp:lastModifiedBy>Бубняша</cp:lastModifiedBy>
  <dcterms:modified xsi:type="dcterms:W3CDTF">2015-08-23T12:11:50Z</dcterms:modified>
  <cp:revision>11</cp:revision>
  <dc:subject/>
  <dc:title>Слайд 1</dc:title>
</cp:coreProperties>
</file>