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2F8-F732-4EA6-AAFE-A13CB1BB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846-9F10-4231-9332-0CC0D24F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EF3-51B7-4BCE-945D-4FC56743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9F3-920E-43B8-813D-A7FC38CB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E960F-8994-4157-9D44-34C8F945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ECCDE-D0A8-4964-8564-D61D6C6B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16C4E-4A75-4BC9-AD18-5780DEF4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FCEB1-3768-410B-9D77-62220D68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A055B-DB1B-40E8-B414-203C23EA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DA42F-5FFF-4852-9E72-91FE3257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AD152-1A7F-4220-88AD-33533476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EBB-871C-4515-8011-55EF90E6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B03C1-D311-4057-996A-5B563BFD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2ECCE-7149-4E3A-81D1-E3D0F376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80199-AF4F-4982-9890-865C0A55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C5039-EAAD-43EE-887F-80BC9F4B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19565-1444-4E80-8943-198CD3F1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C99-BA65-4CA7-BE15-ADF7ADCA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2E1-56D4-433C-B1F1-56FBCACA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F71-E2BA-4005-9D5F-E94D5C0C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742-A326-4457-ACFD-C9C6D5D7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9B5-52B9-4396-9007-CDEDED8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C9B-19EA-4FED-98E2-E1552DB5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F38-992A-4B22-97C7-7E1651C7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21B5-F4FF-4868-9009-FE9B7A874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81C4-2F27-4920-881D-86396BFF0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ff"/>
                </a:solidFill>
                <a:latin typeface="Tahoma"/>
              </a:rPr>
              <a:t>Животный мир Камчат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Arial"/>
              </a:rPr>
              <a:t>Лос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3520" y="1309680"/>
            <a:ext cx="7772400" cy="5319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3660120"/>
            <a:ext cx="53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ось является наиболее крупным представителем диких копытных животных. Основными и постоянными местами обитания лося являются участки около болот, облесенные овраги, островки леса посреди полей, речные долин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ний вес среднестатистического лося – 570 килограммов (рекордный максимум – 655 килограммов), рост – около 2,4 метра. Например, если лосенок рождается летом, то к осени он набирает уже порядка одного центнер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оси – и дневные, и ночные животные, они не любят гнус и жару, поэтому днем прячутся по шею в болота и озера или обитают на хорошо продуваемых полянах и рединах, а также залезают в обильные заросли хвойных молодняков в поисках спасения от насекомых. Лоси обладают умением плавать и способны без остановок преодолеть 2 либо 3 километра по воде. Во времена сильных зимних морозов лоси питаются только в светлое время суток, причем с частыми перерывами для отдыха. Когда наступает ночь, сохатые проводят на лежке до рассвета. Особой страстью лосей являются солонцы. Лоси в основном питаются зелеными растениям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41148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злюбленный корм лося – это листья рябины, осины, берёзы, ивы, черёмухи, крушины, ясеня и клёна. Не гнушаются и палой листво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течение суток лось может съесть до 35 кг различного корма, зимой же – не более 11-15 кг. Таким образом, за год одно животное употребит почти 7 тонн корм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Кормление лося"/>
          <p:cNvPicPr/>
          <p:nvPr/>
        </p:nvPicPr>
        <p:blipFill>
          <a:blip r:embed="rId2"/>
          <a:stretch/>
        </p:blipFill>
        <p:spPr>
          <a:xfrm>
            <a:off x="380880" y="228600"/>
            <a:ext cx="4724640" cy="3352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15000" y="228600"/>
            <a:ext cx="2685960" cy="3638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3040" y="291960"/>
            <a:ext cx="4343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ff"/>
                </a:solidFill>
                <a:latin typeface="Tahoma"/>
              </a:rPr>
              <a:t>Рыс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3962160" cy="563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3276720" cy="274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775440"/>
            <a:ext cx="8610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Это довольно крупная кошка. Длина тела В2-110 см, высота в холке до 65 см. Вес взрослых зверей достигает 15-20 кг. У рыси сильные ноги с широкими круглыми лапами, что позволяет ей не вязнуть в рыхлом снегу. На ушах - длинные кисточки, по бокам головы - хорошо выраженные баки. Хвост короткий. Окрас от бледно-палевого до рыжего с более или менее выраженной пятнистостью. Рысь - характерный обитатель лесов. Она хорошо лазает по деревьям. Питается зайцами, птицами, мышевидными грызунами. Нападает на телят копытных животных.  Самка приносит 2-3 котен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явление рыси на полуострове совпало с высокой численностью зайца-беляка. Так, в 1936 г. в Камчатской области было заготовлено рекордное количество заячьих шкурок - около 84 тыс. штук. Впервые на Камчатке рысь была отмечена в 1939 г. в южной половине полуострова. Сейчас рысь встречается во всех районах, но численность ее везде невелика и не превышает 200-300 особей. Ежегодно в области добывают 50-60 рыс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ahoma"/>
              </a:rPr>
              <a:t>Росомах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Это ловкий и сильный зверь с массивным, приземистым, медведеобразным телом. Длина туловища до 86 см, высота в холке до 45 см, вес 10-16 кг. Волосяной покров высокий, блестящий, несколько грубоватый, буро-коричневого или рыжевато-бурого цвета. Обитает в разнообразных угодьях, включая тундру. Ведет одиночный бродячий образ жизни. Питается копытными животными, боровой дичью, зайцами и грызунами, падалью. Хорошо лазает по деревьям. Благодаря необыкновенной физической силе и большой выносливости небольшая росомаха легко утаскивает тушу, которую взрослый человек вряд ли сможет протащить и несколько десятков метров. Волки, с одной стороны, боятся росомахи, но с другой, собираясь в стаи, мстят ей, за то, что она отбирает у них пищу. Когда волков много, росомаха вскакивает на дерево и ждет, когда они уйдут, не проявляя ни малейшего признака беспокойства. Она всегда уверена в себе. Если росомаха находит добычу, она отгоняет ее других животных. Росомаха играет важную роль в природных сообществах, уничтожая неполноценных животных и их трупы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0T02:31:5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