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3.jpeg" ContentType="image/jpeg"/>
  <Override PartName="/ppt/media/image20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E80-1AB5-4767-9B95-F56F1852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6B5-A4C9-4ECC-8095-9A405E47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16E-4463-4C74-A9C7-9F98E39C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5DA-A88A-4114-AE23-977BA3B8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E0B-3A1A-4C57-AD7E-0AEFFE47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C6E-448F-43BB-991B-70C86561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49D-8C5E-4AA8-8F8A-73229B58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F93-E95E-4D26-AEEC-40AEA665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051A-2793-4632-846D-8E28CE31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04E-2278-48AF-A032-96330614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A70-0630-40DD-B15E-B61D9CA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A1D-6FC8-4BCD-9BFB-41B44FF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EE3D-987D-4F0A-B9A0-A0625CFFA4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igpicture.ru/?p=32271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commons.wikimedia.org/wiki/File:Richard_Dawkins_Cooper_Union_Shankbone.jpg%3Fuselang=ru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fact06 10 видов животных, названных в честь знаменитосте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5"/>
          <p:cNvSpPr/>
          <p:nvPr/>
        </p:nvSpPr>
        <p:spPr>
          <a:xfrm>
            <a:off x="1500120" y="5572080"/>
            <a:ext cx="6500880" cy="1143000"/>
          </a:xfrm>
          <a:prstGeom prst="roundRect">
            <a:avLst>
              <a:gd name="adj" fmla="val 16667"/>
            </a:avLst>
          </a:prstGeom>
          <a:solidFill>
            <a:srgbClr val="aae2ca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Животные, названные в честь знаменитост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518480" y="142920"/>
            <a:ext cx="46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алеозавр Дэвида Аттенбо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http://trackerpg.com/actors/devid-attenboro-2.jpg"/>
          <p:cNvPicPr/>
          <p:nvPr/>
        </p:nvPicPr>
        <p:blipFill>
          <a:blip r:embed="rId1"/>
          <a:stretch/>
        </p:blipFill>
        <p:spPr>
          <a:xfrm>
            <a:off x="214200" y="928800"/>
            <a:ext cx="190512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3876840" y="3071880"/>
            <a:ext cx="5267160" cy="30765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8"/>
          <p:cNvSpPr/>
          <p:nvPr/>
        </p:nvSpPr>
        <p:spPr>
          <a:xfrm>
            <a:off x="2286000" y="857160"/>
            <a:ext cx="66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ское увлечение британского натуралиста Дэвида Аттенборо динозаврами послужило причиной выбора его имени для названия одного из видов давно исчезнувших морских ящеров. Американский палеонтолог Дэвид Аттенборо назвал ящера Attenborosaurus conybea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357120" y="3857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метим, что в че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нборо были назва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ще несколько друг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ов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878120" y="285840"/>
            <a:ext cx="34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ролик Хью Хефн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5524560" y="142920"/>
            <a:ext cx="3619440" cy="3647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Татьяна\Desktop\Безымянный.png"/>
          <p:cNvPicPr/>
          <p:nvPr/>
        </p:nvPicPr>
        <p:blipFill>
          <a:blip r:embed="rId2"/>
          <a:srcRect l="11539" t="0" r="15394" b="0"/>
          <a:stretch/>
        </p:blipFill>
        <p:spPr>
          <a:xfrm>
            <a:off x="7421400" y="3857760"/>
            <a:ext cx="1722600" cy="235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m.nasha.lv/newsimages/image-22-0029d9aaa2674d1e93cfe3d043de4e6e.jpg"/>
          <p:cNvPicPr/>
          <p:nvPr/>
        </p:nvPicPr>
        <p:blipFill>
          <a:blip r:embed="rId3"/>
          <a:srcRect l="0" t="0" r="45003" b="0"/>
          <a:stretch/>
        </p:blipFill>
        <p:spPr>
          <a:xfrm>
            <a:off x="5643720" y="4000680"/>
            <a:ext cx="1776240" cy="21459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500040" y="12142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Хью Хефнера, основателя журнала Playboy, не могло достаться кому-то кроме кролика. Sylvilagus palustris hefneri, болотный кролик, обитает на юго-востоке США. Стоит упомянуть также тот факт, что Хефнер неоднократно делал материальные пожертвования в фонд охраны редких видов крол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660480" y="214200"/>
            <a:ext cx="39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Лягушка принца Чарль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5357880" y="3946680"/>
            <a:ext cx="3500280" cy="2630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0" y="142920"/>
            <a:ext cx="4224240" cy="30718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57800" y="9288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ый в 2008 году вид лягушки наконец-то обрел имя в начале 2012 г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е назвали Hyloscirtus princecharlesi, в честь принца Чарль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357120" y="3643200"/>
            <a:ext cx="842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аготворительная деятельность принца, направленная на защиту фауны тропических лесов, не мог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ться не отмеченной учены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 лягушка, живуща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вадоре, обрела «королевское» и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1928880" y="285840"/>
            <a:ext cx="5857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ученые все реже ломают себе голову над придумывани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ваний новых биологическ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новые виды животных, растений и микроорганизмов называют в честь знаменитых люд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на свете появились – паразит Боба Марли, овод Бейонсе, жук Джорджа Буша и другие «звездные» созд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представлены «тезки» известных актеров, певцов и полит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6572160" y="357120"/>
            <a:ext cx="2243160" cy="1685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500040" y="4786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Татьяна\Desktop\Безымянный.png"/>
          <p:cNvPicPr/>
          <p:nvPr/>
        </p:nvPicPr>
        <p:blipFill>
          <a:blip r:embed="rId3"/>
          <a:stretch/>
        </p:blipFill>
        <p:spPr>
          <a:xfrm>
            <a:off x="285840" y="428760"/>
            <a:ext cx="1368360" cy="200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Татьяна\Desktop\Безымянный.png"/>
          <p:cNvPicPr/>
          <p:nvPr/>
        </p:nvPicPr>
        <p:blipFill>
          <a:blip r:embed="rId4"/>
          <a:srcRect l="17520" t="0" r="16047" b="0"/>
          <a:stretch/>
        </p:blipFill>
        <p:spPr>
          <a:xfrm>
            <a:off x="500040" y="2786040"/>
            <a:ext cx="1400040" cy="132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Татьяна\Desktop\Безымянный.png"/>
          <p:cNvPicPr/>
          <p:nvPr/>
        </p:nvPicPr>
        <p:blipFill>
          <a:blip r:embed="rId5"/>
          <a:srcRect l="3779" t="3441" r="3748" b="3666"/>
          <a:stretch/>
        </p:blipFill>
        <p:spPr>
          <a:xfrm>
            <a:off x="6357960" y="4500720"/>
            <a:ext cx="25448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304360" y="0"/>
            <a:ext cx="36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Рыба Ричарда Докин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Richard Dawkins Cooper Union Shankbo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142920"/>
            <a:ext cx="2809800" cy="351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Татьяна\Desktop\Безымянный.png"/>
          <p:cNvPicPr/>
          <p:nvPr/>
        </p:nvPicPr>
        <p:blipFill>
          <a:blip r:embed="rId3"/>
          <a:srcRect l="5957" t="7527" r="22807" b="39989"/>
          <a:stretch/>
        </p:blipFill>
        <p:spPr>
          <a:xfrm>
            <a:off x="2286000" y="3571920"/>
            <a:ext cx="5429160" cy="3000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357120" y="78588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ый род рыб, в который входит четыр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а, был назван в честь Ричарда Докинз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ловам самого Докинза, он был очен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ьщен такой честью и считает эт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бок очень красивыми. Англий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ый совершенно не смущен фак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о, что  рыбы, которые теперь носят е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,  находятся практически в сам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у эволюционной цеп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159640" y="142920"/>
            <a:ext cx="33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Паразит Боба Мар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:\Users\Татьяна\Desktop\Безымянный.png"/>
          <p:cNvPicPr/>
          <p:nvPr/>
        </p:nvPicPr>
        <p:blipFill>
          <a:blip r:embed="rId1"/>
          <a:srcRect l="10717" t="7144" r="14293" b="0"/>
          <a:stretch/>
        </p:blipFill>
        <p:spPr>
          <a:xfrm>
            <a:off x="5715000" y="214200"/>
            <a:ext cx="3286080" cy="305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prikol.me/admin-posts/publish/10_vidov_jivotnyh_nazvannyh_v_chest_znamenitostey_foto_paparatstsi_de02ee9529c2d1ffd61ec686d881864f.jpg"/>
          <p:cNvPicPr/>
          <p:nvPr/>
        </p:nvPicPr>
        <p:blipFill>
          <a:blip r:embed="rId2"/>
          <a:stretch/>
        </p:blipFill>
        <p:spPr>
          <a:xfrm>
            <a:off x="304920" y="3376440"/>
            <a:ext cx="4230720" cy="4505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57120" y="10000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 Сиккел, американский ученый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ниверситета штата Арканзас, счит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енькое ракообразное существо, котор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зитирует на рыбах в Карибском мор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ойным носить имя звезды регги Б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ли. Свою любовь к музыке знаменит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4572000" y="3429000"/>
            <a:ext cx="428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майца Сиккел  решил увековечить в названии паразита, которого считает чудом природы, и окрестил его Gnathia marley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652120" y="21420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Овод Бейон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C:\Users\Татьяна\Desktop\Безымянный.png"/>
          <p:cNvPicPr/>
          <p:nvPr/>
        </p:nvPicPr>
        <p:blipFill>
          <a:blip r:embed="rId1"/>
          <a:srcRect l="3779" t="3441" r="3748" b="3666"/>
          <a:stretch/>
        </p:blipFill>
        <p:spPr>
          <a:xfrm>
            <a:off x="6286680" y="285840"/>
            <a:ext cx="2587320" cy="1887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Татьяна\Desktop\Безымянный.png"/>
          <p:cNvPicPr/>
          <p:nvPr/>
        </p:nvPicPr>
        <p:blipFill>
          <a:blip r:embed="rId2"/>
          <a:stretch/>
        </p:blipFill>
        <p:spPr>
          <a:xfrm>
            <a:off x="5286240" y="1500120"/>
            <a:ext cx="3733920" cy="51832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7"/>
          <p:cNvSpPr/>
          <p:nvPr/>
        </p:nvSpPr>
        <p:spPr>
          <a:xfrm>
            <a:off x="428760" y="19288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январе 2012 года был открыт новый вид очень редких оводов. Ученый Брайан Лессард назвал его в честь знаменитой американской певицы Бейонсе – Scaptia beyoncea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ловам ученого, все дело в крохотных золотистых волосках на груди насекомого, именно они напомнили ему о певиц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513360" y="1429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Лемур Джона Кли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http://www.infoniac.ru/upload/medialibrary/8af/8afe1a7e7f0bc663e8a4a97ba30dc70b.jpg"/>
          <p:cNvPicPr/>
          <p:nvPr/>
        </p:nvPicPr>
        <p:blipFill>
          <a:blip r:embed="rId1"/>
          <a:stretch/>
        </p:blipFill>
        <p:spPr>
          <a:xfrm>
            <a:off x="285840" y="857160"/>
            <a:ext cx="4786200" cy="38131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5072040" y="214200"/>
            <a:ext cx="385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актера и комика Джона Клиза теперь носит один из новооткрытых видов лему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05 году Avahi cleesei был обнаружен ученым Урсом Талманном на Мадагаскар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лманн объяснил свой выбор так, многие фильмы с участием актера пропагандируют охра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285840" y="4786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роды, и свою признательность ученый решил выразить именно таким образом. Клиз же в свою очередь признался, что подобный жест его тронул, и вообще он очень любит лему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427400" y="14292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Жук Джорджа Буш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Users\Татьяна\Desktop\Безымянный.png"/>
          <p:cNvPicPr/>
          <p:nvPr/>
        </p:nvPicPr>
        <p:blipFill>
          <a:blip r:embed="rId1"/>
          <a:srcRect l="17520" t="0" r="16047" b="0"/>
          <a:stretch/>
        </p:blipFill>
        <p:spPr>
          <a:xfrm>
            <a:off x="584280" y="3714840"/>
            <a:ext cx="2987640" cy="2824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Джордж Уокер Буш"/>
          <p:cNvPicPr/>
          <p:nvPr/>
        </p:nvPicPr>
        <p:blipFill>
          <a:blip r:embed="rId2"/>
          <a:stretch/>
        </p:blipFill>
        <p:spPr>
          <a:xfrm>
            <a:off x="6286680" y="142920"/>
            <a:ext cx="2666880" cy="3533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85840" y="785880"/>
            <a:ext cx="8715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жордж Буш – это не только бывш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идент США, но еще и жу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ый Квентин Уиллер таким образ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ает свою консервативну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тическую позицию – назыв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ых им жуков в честь полит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2005 году он назвал новые виды в че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це-президента Дика Чейни и минист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роны Дональда Рамсфельда. По словам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иллера, Джордж Буш был благодарен за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ой жест учен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773080" y="142920"/>
            <a:ext cx="30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Жук Кейт Уинсл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C:\Users\Татьяна\Desktop\Безымянный.png"/>
          <p:cNvPicPr/>
          <p:nvPr/>
        </p:nvPicPr>
        <p:blipFill>
          <a:blip r:embed="rId1"/>
          <a:stretch/>
        </p:blipFill>
        <p:spPr>
          <a:xfrm>
            <a:off x="2214720" y="3857760"/>
            <a:ext cx="1923840" cy="28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Татьяна\Desktop\Безымянный.png"/>
          <p:cNvPicPr/>
          <p:nvPr/>
        </p:nvPicPr>
        <p:blipFill>
          <a:blip r:embed="rId2"/>
          <a:srcRect l="6415" t="4591" r="4337" b="0"/>
          <a:stretch/>
        </p:blipFill>
        <p:spPr>
          <a:xfrm>
            <a:off x="5786280" y="214200"/>
            <a:ext cx="3071880" cy="4653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85840" y="85572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к Agra Katewinsletae получил свое и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сть актрисы Кейт Уинслет, в част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-за ее роли в фильме «Титани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томолог Терри Эрвин таким витиеват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м хотел сказать об угроз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чезновения, которая нависла над эт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учком из-за утраты ле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ильме героиня Уинслет была спасе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ученый                       опасается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ая же судьба                  не ждет открыт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 вид насекомого             из-за того, что огромные площади тропических                          лесов уничтожаются и превращаются                              в пастбищ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499040" y="142920"/>
            <a:ext cx="35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Жук Адольфа Гитл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C:\Users\Татьяна\Desktop\Безымянный.png"/>
          <p:cNvPicPr/>
          <p:nvPr/>
        </p:nvPicPr>
        <p:blipFill>
          <a:blip r:embed="rId1"/>
          <a:srcRect l="0" t="0" r="0" b="2396"/>
          <a:stretch/>
        </p:blipFill>
        <p:spPr>
          <a:xfrm>
            <a:off x="3500280" y="3754440"/>
            <a:ext cx="1857600" cy="2960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Users\Татьяна\Desktop\Безымянный.png"/>
          <p:cNvPicPr/>
          <p:nvPr/>
        </p:nvPicPr>
        <p:blipFill>
          <a:blip r:embed="rId2"/>
          <a:srcRect l="12528" t="8202" r="14080" b="9790"/>
          <a:stretch/>
        </p:blipFill>
        <p:spPr>
          <a:xfrm>
            <a:off x="6072120" y="0"/>
            <a:ext cx="2928960" cy="5000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500040" y="1143000"/>
            <a:ext cx="8286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я Адольфа Гитлера носит слепой жу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ophthalmus hitle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редкий вид обитает только в пя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жных пещерах Слове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цкий энтомолог открыл эт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 в 1933 году и назвал его в че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назначенного канцлера Герм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ольфа Гитл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13:59Z</dcterms:created>
  <dc:creator>Света</dc:creator>
  <dc:description/>
  <dc:language>en-US</dc:language>
  <cp:lastModifiedBy>Татьяна</cp:lastModifiedBy>
  <dcterms:modified xsi:type="dcterms:W3CDTF">2013-06-03T12:53:06Z</dcterms:modified>
  <cp:revision>40</cp:revision>
  <dc:subject/>
  <dc:title>Русская икона. Древнерусская живопись </dc:title>
</cp:coreProperties>
</file>