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0E1-780A-45AF-864C-6CFF6FD5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78A-D936-4D30-A725-62483B69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DB9-A7A2-4BE7-9160-29B9B7D7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379-152C-452A-B17A-5110E280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61C-E094-4C31-86B2-F4ABD7A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89B-F1AB-40ED-8F67-3C30FDB1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E3B-BBAD-46AB-B873-CA659B29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DD2-DCCA-42E7-A266-D0ED4396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396F-BE29-4974-B2B6-F5690055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A87-44D3-405C-AA40-9D9417A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905-38AD-4547-BC5E-B3668B3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E09-61F7-42C3-A486-2734344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4F15-2CCF-4FD5-9626-5A9BAF25A6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офроницкое место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9CC0-77B7-4F99-8114-DE07D16A7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43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ы экономики и прогнозирования геологоразведочных работ (ГРР) и разработки месторо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5157720"/>
            <a:ext cx="83628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ладчик:            Владимир Тар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CDDB-29F5-4B49-8418-BE34617DE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5075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 геологразведочных раб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836280"/>
            <a:ext cx="849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компенсации добычи УВС и необходимого прироста запасов определяются направления ГРР по регионам, минимальные объемы работ и планируются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объектов, выявленных и подготовленных к глубокому бурен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ценка перспективных и прогнозных ресурсов нефти и газ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ие затраты на подготовку одной струк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площадь одной подготовленной струк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ельные затраты в расчете на 1 км2 площади подготовленной струк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ельные затраты на 1 пог. км сейсморазведочных рабо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яя продолжительность подготовки одной струк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подтверждаемости подготовленных структур (коэффици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успешности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54DA-C1F1-4140-B7D3-667EC581E74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0758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эффективности ГР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549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ходя из общих показателей ГРР, рассчитываются удельные показатели геолого-экономической эффектив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рост запасов на 1 м проходки, тн/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ст запасов на 1 м проходки (Пз/м) определяется делением прироста запасов на объем бур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з/м.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 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Qз – ожидаемый прирост извлекаемых запасов категории С1 + С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рост запасов на 1 скважину, тн/скв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ст запасов на 1 скважину (Пз/скв) определяется делением прироста запасов на количество пробуренных поисково-разведочных скважи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з/скв.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/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де n – количество проектируемых поисково-разведочных скваж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рост запасов на 1 тысячу рублей затрат, тн. / 1000 руб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ст запасов на 1000 руб. затрат (Пз/1000 руб.) определяется дел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роста запасов на величину затрат на поисковые рабо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з/1000 руб=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 /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C – затраты на поисковые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траты на подготовку 1 тн прироста (Cт) запасо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ся делением  суммарных затрат на поисково-разведочные работы в тыс. руб. на величину полученных запасов в тн.: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=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/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42E5-7C95-444B-95CE-490FCC997E9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рное распределение затрат при проведении поисковых и геологоразведочных раб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960-7092-4B4C-B635-FA5A4350F10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25280" y="1268280"/>
            <a:ext cx="89852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оги и платежи при ГР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ыписка из лиценз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CA82-31B6-4F66-A26B-6186FEB7A0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24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02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оги и платежи при ГР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04B0-3A82-4839-BF61-8B25B6258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8850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раты на проектные и изыскательские рабо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62064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траты на проектные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проектных работ на разработку месторождения зависит от размеров месторождения, количества залежей, стадии проектир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ирование производится на каждую залеж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проектных работ может составлять от 1200 000 до десятков миллионов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траты на изыскательские рабо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ыскательские работы производятся под каждую поисково-разведочную скважину и на все элементы обустройства месторождения и включают в себ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енерно-геодезическия изыск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енерно-геологические изыск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енерно-гидрометеорологические изыск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женерно-экологическия изыск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ко-археологические изыск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комлексных изыскательских работ колеблется может достигать  десятков, а иногда и сотен миллионов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C6D8-87CB-4262-8091-FA350ADF79D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29880"/>
            <a:ext cx="89280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траты на добычу жидкости и подготовка нефти и газ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764640"/>
            <a:ext cx="8928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себестоимости добычи нефти и газа связано с комплексом сложных и многообразных процессов: разбуривание залежей, управление движением жидкости к забоям скважин, движение жидкости по стволу скваж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разработки и эксплуатации месторождений нефти и газа определяют следующие статьи расход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ходы на энергию по извлечению нефт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Нефтедобыче характерна большая энергоемк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Расходы по искусственному воздействию на пласт, которые складываются, в том числе и из заработной платы работников, занятых в цехах поддержания пластового давления, отчисления на социальное страхование, стоимости закачиваемых воды, сжатого воздуха или газа, амортизации нагнетательных скважин и другие расх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Расходы, связанные с увеличением нефтеотдачи пластов и интенсификации притоков (ГРП, ЗБС, ОПЗ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Заработная плата производственных рабоч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Отчисления на социальное страхов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Амортизация скваж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Расходы по сбору и транспортировке нефти и г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Расходы по технологической подготовке неф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9. Расходы на подготовку и освоение производства: затраты на подготовительные работы, связанные с организацией новых предприятий на вновь вводимых в разработку площад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0. Расходы на содержание и эксплуатацию оборудования. Здесь отражаются расходы по подземному текущему ремонту скваж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7A39-68EE-4188-85FC-0CD12790FAD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34920"/>
            <a:ext cx="892800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траты на добычу жидкости и подготовку нефти и газ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69228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1. Общепроизводственные расходы – содержание инженерно-технологических служб, средств автоматизации и телемеханизации производственных процес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2. Инновационная деятельность  – расходы на научно-исследовательские работы на предприят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ебестоимости добычи нефти и газа больший удельный вес характеризует условно-постоянные затраты (до 65 процентов), которые включают в себя амортизацию скважин, заработную плату, затраты на освоение и подготовку производства и на эксплуатацию и содержание оборудования. Эта особенность структуры себестоимости позволяет снижать себестоимость за счёт роста объёмов нефти и га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значение в структуре себестоимости нефти и газа имеют природно-географические условия (месторасположение месторождения, рельеф местности, климат, характер почвы и растительности, водные и энергетические ресурсы). Большое значение имеет и глубина скважин. С увеличением глубины скважин возрастают капитальные вложения в бурение скважин, и увеличивается её стоимость, что увеличивает статью по амортизационным отчислен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сплуатация глубоких скважин отличается повышенными затратами энергию, текущий ремонт основных фондов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A7A-EF34-401A-91A1-95FAA9BFF66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ная структура затрат на добычу жидкости и подготовку нефти и газа в ХМ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09A3-91EF-42C3-8768-478BFE5FCCC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71520" y="1125360"/>
            <a:ext cx="8304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затрат на старых месторождениях Поволж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39F7-3007-4325-95A3-357FB49F2A6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76327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сти, которые определяют специфику разработки нефтяных  месторождений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1052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ое месторождение полезных ископаемых характеризуется только ему присущими особенностями геологического строения, размерами, формой и глубиной залегания залежей, качеством и изменчивостью вмещающих пород, сложностью горно-геологических условий их добычи.  Кроме этих природных (внутренних) факторов на экономическую оценку освоения месторождения оказывают влияние внешние факторы: географо-экономическое расположение месторождения, энергетическое обеспечение и транспортная освоенность района (трубопроводы, дороги, ж/д)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своение месторождений по этап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лительность подготовительных рабо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енденция значительного снижения показателей осваиваемой структуры с начала ее разработки, что обусловлено ухудшением геологических характеристи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восполнимость природных ресурс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однозначность и неполнота информации по конкретным месторождения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обходимость поддержания рентабельности добычи на разрабатываемом месторождении при истощении запасов месторо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сокие капиталовложения при разведке и начальном обустройстве нефтяных и газовых месторожд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ысокая стоимость работ и длительный период оборота капитальных  в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902-469A-4C2E-B682-45EBF9AE2EB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28080"/>
            <a:ext cx="8928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ценка экономической эффективности разработки нефтяных и газовых месторожд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07920"/>
            <a:ext cx="8928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решения этой задачи и выбора оптимального варианта проекта в мировой практике используется проектный анализ, позволяющий принять  разумные решения по рациональному использованию ресурсов. В задачу проектного анализа входит установление ценности проекта, которая опреде ляется разностью между его положительными результатами-«выгодами»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рицательными-«затрата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вестиции должны быть направлены в объекты, которые будут высокорентабельными. В силу этого финансовый анализ является одним из главных в оценке эффективности про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и месторожд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анализа является  оценка финансовых результатов проекта для инвесторов и для других участников проек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нансовая рентабельность вариантов проекта оценивается систем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итериев и осуществляется последовательным расчетом показателе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Доход от реализации продукции – выго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Капитальные влож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Эксплуатационные затраты , включая амортизационные отчисл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рибы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Налоговые выплаты, включая налог на прибыл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Чистая прибыл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Чистый доход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Чистый дисконтированный доход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E345-641B-4960-B1AF-943571EA686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 добычи нефти и г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21E-E597-4E7C-88BC-1EF0FA857D7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912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080"/>
            <a:ext cx="814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DFE8-4E76-498F-BA04-F57F67B65E4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65120" y="620640"/>
            <a:ext cx="821844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бестоимость добычи неф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028E-8661-4659-8A82-6373DCB9E90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98480" y="907920"/>
            <a:ext cx="75265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хема добычи и подготовки нефти и г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6DD7-E27E-4FE4-A6CD-69B883DF642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39640" y="1558800"/>
            <a:ext cx="80010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хема сбора и подготовки неф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A3AD-76D2-4C07-B09F-D8FEF60EA33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1403280" y="969840"/>
            <a:ext cx="5778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765000"/>
            <a:ext cx="82202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ятельность нефтяных компаний (НК) характеризуется сложностью управленческих решений, масштаб и стоимость которых, в большинстве случаев существенно выше, чем во многих других сегментах экономи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эти решения тесно связаны с инвестиционной политикой НК, фактически определяющей финансовое состояние компании и ее производственно-сбытовые возможности в среднесрочной и долгосрочной перспекти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управления инвестициями в нефтяной промышленности, связанные в основном с необходимостью учета многих факторов при подготовке решений (макроэкономические показатели, технико-экономические показатели месторождений и скважин, затраты на консервацию, риски, производственные мощности, возможности транспортной системы и др.). Число этих факторов только для одного сектора нефтедобычи измеряется сотнями. В целом же (с учетом временного фактора, а также общего количества месторождений, скважин и др.) требуется провести одновременную компьютерную обработку нескольких десятков миллионов цифр, характеризующих все возможные проекты Н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долгосрочном инвестиционном планировании оценка влияния такого объема факторов принципиально сложная задач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D607-A552-4414-AA18-6A9826F17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олого-экономический прогноз ресурсов углеводородного сырья (УВ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лого-экономический прогноз ресурсов УВС любого нефтегазоносного района является многофакторным исследованием, включающим последовательно связанные между собой оп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инвестиционной привлекательности подготовленных для лицензирования и проектируемых участков нефтегазоносных недр опирается на геолого-экономический прогно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а оценки эффективности геологоразведочных работ сводится к соизмерению полученных (или ожидаемых) результатов с затраченными средствами или объемами работ. Такое соизмерение важно потому, что увеличение объемных результатов и даже такой существенный показатель эффективности геологоразведочных работ, как опережение прироста запасов в сравнении с текущей добычей нефти или газа, могут быть достигнуты за счет крупных затрат, что далеко не всегда бывает экономически целесообразн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-за недостаточной прогнозной проработки экономических результатов геологоразведочных работ, многие нефтяные и газовые месторождения после их открытия оказались неэффективными для добычи, а вложенные в их поиск и разведку средства - замороженными на неопределенный с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11E4-A581-443E-961B-B9D4D43CDA8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иск и разведка месторожд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дготовка запас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затраты на проектные и изыскательские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урение и опробование скваж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бустройство месторожд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обычи жидкости и подготовка нефти и газ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ация хранения и перевозок: прокладка нефтепроводов или организация траспорта нефти ж/д или автомобильным транспор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кологическая безопас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рганизация мероприятия по снижению аварийности и возможных нештатных ситу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оздание производственной инфраструк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DAB6-BFE0-4D37-97D9-67D7927CC65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ефтяного проек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 разведка месторо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7640" y="765000"/>
            <a:ext cx="8785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иски и разведка месторождений нефти и газа, как и других полезных ископаемых, представляют собой непрерывный процесс, включающий геологические, геофизические, геохимические и технологические исследования, направленные на изучение строения, состава и свойств горных пород. Вдальнейшем, на основе полученной в процессе разведки геолого-геофизической информации, подсчитывают запасы и обосновывают технологическую схему разработки месторождений и залежей нефти и газ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та и качество полученной информации предопределяют конечную экономическую результативность разработки разведанных запасов полезных ископаемых и правильную оценку развития региона в це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ивность ГРР зависит от сложности геологического строения изучаемого объекта, выбора оптимального комплекса геолого-съемочных, поисковых и разведочных работ, обеспечивающих необходимую и достаточную информацию для решения поставленной задач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ями геолого-экономической эффективности являются выполнение геологического задания в возможно кратчайшие сроки с использованием минимально необходимых, но достаточных объемов работ и финансовых средств для получения конечного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ходы на геологоразведку – вложение в будущее нефтедобы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7885080" y="6356520"/>
            <a:ext cx="80172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6E14-B5DF-4978-A5C3-B65BDE8BCB2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хема прогнозирования геологоразведочных работ (ГРР) и разработки месторожд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B9FD-8462-44AA-B624-4D046D09DE7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7280" y="795240"/>
            <a:ext cx="63500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я стадия поисков месторождений У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00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ее было отмечено, что поисковый этап включает в себя 2 стад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стадию выявления и подготовки объектов для поискового бур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 стадию поиска месторождений (залежей) нефти и г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емые работы на 1-й стадии носят аналитический характер, которая включает в себя сбор и обработку материалов работ прошлых лет (аэромагнитная и гравиметрическая съемка, результаты геохимических исследов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работ может составлять от первых десятков до 100 миллионов рублей. Основные затраты – покупка материа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2-й стадии  производятся сейсморазведочные работы и бурение поисково-оценочных скваж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935-9FC7-4456-B3AE-17C285DDD1F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я стадия поисков месторождений У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98064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мость сейсморазведочных работ 2Д колеблется от 330 000 рублей до 400 000 рублей за 1 пог.км. Стоимость работ зависит от района работ, инфраструкту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поискового бурения колеблется от 35 000 до 85 000 рублей за 1 м проходки. В районе Дулисьминского месторождения, Ханты-Мансийском АО стоимость бурения 1м составляет около 50 000 – 60 000 рублей за 1 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бурении поисковых скважин отбирается керн из каждого потенциально продуктивного пл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етом ранее произведенных затрат на 1 –й стадии поисковых работ общая сумма, затраченная на открытие месторождения может составить от 300 до 1000 млн. рублей в зависимости от площади участка и его удал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учае открытия месторождения, поисковый этап заканчивается оперативным подсчетом запасов УВС и  технико-экономическим расчетом (ТЭР) по укрупненным показателям для перспективной оценки эффективности освоения месторо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6663-C1B9-4F70-A137-0B6ED1CD135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едка месторо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апе разведки месторождения проводится бурение нескольких разведочных скважин, и в случае, если месторождение имеет сложное геологическое строение производится сейсморазведка 3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бурения скважин на данном этапе несколько ниже, чем поисковых, и она может составлять от 30000 до 65000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в тоже время на этапе разведки месторождения производится большое количество исследований (ВСП, исследование керна, составляется геологическая модель месторождения). Стоимость одного ВСП составляет от 6 млн. до 10 млн. рублей, исследование керна дной скважины составляет около 1 300 000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едочный этап заканчивается утверждением запаов УВС на ГКЗ (Государственная комиссия по запас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технико-экономических обоснований (ТЭО) с детальным расчетом эксплуатационных, капитальных затрат товарной продукции с целью характеристики инвестиционной привлекательности освоения месторождения по результирующим показателям и на основе анализа  денежных  пото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ка бизнес-планов, инвестиционных проектов, коммерческих предложений промышленного освоения месторож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4603-3DCF-41B1-B654-44DA3420044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8:22:56Z</dcterms:created>
  <dc:creator>Вера В. Дурягина</dc:creator>
  <dc:description/>
  <dc:language>en-US</dc:language>
  <cp:lastModifiedBy>Филатов Николай Васильевич</cp:lastModifiedBy>
  <cp:lastPrinted>2014-02-04T04:50:31Z</cp:lastPrinted>
  <dcterms:modified xsi:type="dcterms:W3CDTF">2015-10-29T08:02:16Z</dcterms:modified>
  <cp:revision>868</cp:revision>
  <dc:subject/>
  <dc:title>Презентация PowerPoint</dc:title>
</cp:coreProperties>
</file>