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A8F2-AE9C-429F-B2A4-A0A00E7B83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EF4F-1402-4196-9C48-189F3966FA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F26-4292-487B-B728-91C1C41B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4A6-AE04-4AA7-A1AD-7B4232D2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24B-2A47-4C2D-ACB6-AB46AD17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CCA-B281-4850-87B3-A929743C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6338-B716-4FE8-BDB7-A65DAA58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EC3C-76CF-435B-AC0B-4BC6C001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0B15-0B66-4E14-94C3-B442D098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6350-1DCF-413C-8A4A-BEED4221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F5D0-0AD5-468E-9BB5-06185787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5EA6-67F7-49E6-A0DA-72DC93D5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F7FB-1EB6-4D1A-B086-1C513AED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242-E353-474A-A511-6449C946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F724-708F-435B-A6E1-6B4BCEC4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648D-E7BC-434E-B989-A777A52E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356B-FC76-4417-B97E-D559C38A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0518-B444-4251-AF54-1BBAEC46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A746-0A17-4A42-87F2-E60AA22A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B00C1-7757-466D-976C-A4DDEB79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C3F1-93E3-4372-B3FB-7BC4C9BF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671C-B695-4920-BC94-C1F83AD9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2C72-E44F-42EE-BB12-A9A76402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4C75-7058-4FE5-A4E6-BB95D1F3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954-1DD7-41D2-A78D-66FCFFB1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C422-1BCE-4727-8ADD-5F4A117C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3B8C-ED58-47B2-8FD6-B8C990C4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259E-F75E-4A5F-A28D-A5C89BD7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B335-DAB9-4209-8206-F689DA71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FB36-2597-4256-893A-5E0CC2A1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85FA7-C5E9-4EA9-AD0F-CA2B489F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E764-055C-4954-BDEC-6A1D6C85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BEE30-B971-438D-919F-D7435A78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1BE33-5C9B-4D89-B936-2044846F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38436-C167-42DA-BA11-1E7B7562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B0D-4064-4227-905A-958495C9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2E25-0397-48EE-BFAB-9FD2FE81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DB849-1E56-4319-BD01-5B6921CA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6571B-B552-4E73-943D-39B06140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8F6E-3532-4166-95D1-B3B66098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4997-4F54-44BA-B481-938DF48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B5443-7272-4CC8-96D7-8856BE03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5977-7681-460F-9758-3BE07C26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7EA9-0CB6-4D1A-8BD0-0639E7EA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6E1AF-7F95-47AD-AF2B-431EF5D0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936-7EC3-4078-B04F-68C8DB70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744-3D5D-4BCC-AA1E-8A7D9693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D20-684E-4CDC-A0DC-DCE689E3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E2C-1DD6-4EFD-B262-42D15203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770-E24A-488A-BF2C-F894A0B2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7A5A-FFA4-4DF2-B2EC-7269D6E4AF5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E6BF-375D-4326-9087-4192E8D5595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5EBB-66AD-4D3F-80EF-68185CF9A5B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AE6F-728D-494E-979C-65640861F8D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екция №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ведение. Цели и задачи. Основные понятия и определение. Требования к базам данны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Уровни абстракции в СУБД. Функции абстрактных данных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ет 3 уровня архитектуры СУБД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нутренний уровень - наиболее близкий к физическому хранени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нешний уровень - наиболее близкий к пользовател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цептуальный уровень - является промежуточным между двумя первы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ункции СУБД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ение данны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ботка данн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зопасность и целостность данн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становление данных и дублиров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варь данн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изводительность. СУБД должна выполнять свои функции с максимальной производительн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Экспертные системы и базы знаний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Экспертная систем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система искусственного интеллекта, включающая знания об определенной слабо структурированной и трудно формализуемой узкой предметной области и способная предлагать и объяснять пользователю разумные реш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Экспертные системы и базы знаний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База знаний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– семантическая модель, описывающая предметную область и позволяющая отвечать на такие вопросы из этой предметной области, ответы на которые в явном виде не присутствуют в базе. База знаний является основным компонентом интеллектуальных и экспертных систем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Для хранения баз знаний в современных экспертных системах используются либо промышленные СУБД и специализированное промежуточное ПО, либо специализированное ПО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1189080" y="2494080"/>
            <a:ext cx="66024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ве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сторически сложившееся развитие вычислительных систем обусловило необходимость хранения в электронном (машиночитаемом) виде все большего количества информаци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мере развития систем баз данных, менялись принципы организации данных в них: первоначально данные представлялись на основе иерархической, а в последствии сетевой модел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конце 1970-х – начале 1980-х годов начали появляться первые реляционные продукты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стема баз данны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762120" y="2362320"/>
            <a:ext cx="7772040" cy="3047400"/>
            <a:chOff x="762120" y="2362320"/>
            <a:chExt cx="7772040" cy="3047400"/>
          </a:xfrm>
        </p:grpSpPr>
        <p:sp>
          <p:nvSpPr>
            <p:cNvPr id="209" name="Rectangle 5"/>
            <p:cNvSpPr/>
            <p:nvPr/>
          </p:nvSpPr>
          <p:spPr>
            <a:xfrm>
              <a:off x="2892960" y="3388320"/>
              <a:ext cx="3510000" cy="202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762120" y="3388320"/>
              <a:ext cx="1378800" cy="55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762120" y="4858560"/>
              <a:ext cx="1378800" cy="55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7155360" y="3388320"/>
              <a:ext cx="1378800" cy="55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7155360" y="4858560"/>
              <a:ext cx="1378800" cy="55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762120" y="2362320"/>
              <a:ext cx="137880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икладные программис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7155360" y="2362320"/>
              <a:ext cx="137880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нечные пользова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2892960" y="2545920"/>
              <a:ext cx="35100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истема управления базами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3"/>
            <p:cNvSpPr/>
            <p:nvPr/>
          </p:nvSpPr>
          <p:spPr>
            <a:xfrm>
              <a:off x="3770640" y="3571920"/>
              <a:ext cx="1755000" cy="165384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3645360" y="3648600"/>
              <a:ext cx="18802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База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1426320" y="4200120"/>
              <a:ext cx="49320" cy="439560"/>
              <a:chOff x="1426320" y="4200120"/>
              <a:chExt cx="49320" cy="439560"/>
            </a:xfrm>
          </p:grpSpPr>
          <p:sp>
            <p:nvSpPr>
              <p:cNvPr id="220" name="Oval 16"/>
              <p:cNvSpPr/>
              <p:nvPr/>
            </p:nvSpPr>
            <p:spPr>
              <a:xfrm>
                <a:off x="1426320" y="4200120"/>
                <a:ext cx="49320" cy="72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17"/>
              <p:cNvSpPr/>
              <p:nvPr/>
            </p:nvSpPr>
            <p:spPr>
              <a:xfrm>
                <a:off x="1426320" y="4383720"/>
                <a:ext cx="49320" cy="72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8"/>
              <p:cNvSpPr/>
              <p:nvPr/>
            </p:nvSpPr>
            <p:spPr>
              <a:xfrm>
                <a:off x="1426320" y="4567320"/>
                <a:ext cx="49320" cy="72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9"/>
            <p:cNvGrpSpPr/>
            <p:nvPr/>
          </p:nvGrpSpPr>
          <p:grpSpPr>
            <a:xfrm>
              <a:off x="7819920" y="4200120"/>
              <a:ext cx="49320" cy="439560"/>
              <a:chOff x="7819920" y="4200120"/>
              <a:chExt cx="49320" cy="439560"/>
            </a:xfrm>
          </p:grpSpPr>
          <p:sp>
            <p:nvSpPr>
              <p:cNvPr id="224" name="Oval 20"/>
              <p:cNvSpPr/>
              <p:nvPr/>
            </p:nvSpPr>
            <p:spPr>
              <a:xfrm>
                <a:off x="7819920" y="4200120"/>
                <a:ext cx="49320" cy="72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21"/>
              <p:cNvSpPr/>
              <p:nvPr/>
            </p:nvSpPr>
            <p:spPr>
              <a:xfrm>
                <a:off x="7819920" y="4383720"/>
                <a:ext cx="49320" cy="72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2"/>
              <p:cNvSpPr/>
              <p:nvPr/>
            </p:nvSpPr>
            <p:spPr>
              <a:xfrm>
                <a:off x="7819920" y="4567320"/>
                <a:ext cx="49320" cy="72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Line 23"/>
            <p:cNvSpPr/>
            <p:nvPr/>
          </p:nvSpPr>
          <p:spPr>
            <a:xfrm>
              <a:off x="2140920" y="3648600"/>
              <a:ext cx="1629720" cy="551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4"/>
            <p:cNvSpPr/>
            <p:nvPr/>
          </p:nvSpPr>
          <p:spPr>
            <a:xfrm flipV="1">
              <a:off x="2140920" y="4751280"/>
              <a:ext cx="1629720" cy="367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5"/>
            <p:cNvSpPr/>
            <p:nvPr/>
          </p:nvSpPr>
          <p:spPr>
            <a:xfrm flipH="1">
              <a:off x="5525280" y="3648600"/>
              <a:ext cx="1629720" cy="551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6"/>
            <p:cNvSpPr/>
            <p:nvPr/>
          </p:nvSpPr>
          <p:spPr>
            <a:xfrm flipH="1" flipV="1">
              <a:off x="5525280" y="4751280"/>
              <a:ext cx="1629720" cy="367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айловые систем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торическим шагом явился переход к использованию централизованных систем управления файлами. С точки зрения прикладной программы файл - это именованная область внешней памяти, в которую можно записывать и из которой можно считывать данны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руктуры файлов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разметке магнитного диска каждая дорожка размечается на одно и то же количество блоков таким образом, что в каждый блок можно записать по максимуму одно и то же число бай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произведения обмена с магнитным диском на уровне аппаратуры нужно указать номер цилиндра, номер поверхности, номер блока на соответствующей дорожке и число байтов, которое нужно записать или прочитать от начала этого бло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менование файлов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современные файловые системы поддерживают многоуровневое именование файлов за счет поддержания во внешней памяти дополнительных файлов со специальной структурой - каталог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ное имя файла состоит из списка имен каталогов плюс имя файла в каталоге, непосредственно содержащем данный фай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нятие БД и СУБ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истема баз данных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это компьютеризированная система основная задача которой  – хранение информации и предоставление доступа к ней по требованию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стема баз данных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стема баз данных включает в себ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анные, непосредственно сохраняемые в базе данных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ппаратное обеспеч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граммное обеспеч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ьзователей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рикладные программисты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конечные пользователи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администраторы баз данных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нятие СУБ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УБД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это специализированное программное обеспечение, предоставляющее пользователю базы данных возможность работать с ней, не вникая в детали хранения информации на уровне программного обеспеч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04:55:35Z</dcterms:created>
  <dc:creator>Пак Виталий Станиславович</dc:creator>
  <dc:description/>
  <dc:language>en-US</dc:language>
  <cp:lastModifiedBy>DEVELOPER-XP</cp:lastModifiedBy>
  <dcterms:modified xsi:type="dcterms:W3CDTF">2012-01-31T07:56:30Z</dcterms:modified>
  <cp:revision>22</cp:revision>
  <dc:subject/>
  <dc:title>Базы и банки данных. Лекция №2</dc:title>
</cp:coreProperties>
</file>