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3E81-74C2-47B8-B33F-2AB5F446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5C14-7F59-4CDA-BDD3-1798E37D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D835-78CF-4CFA-B09F-38265E2D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B06-E5A9-467F-93CF-86546959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0929-6B51-42F4-8FBB-89FF95B1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3E09-CDC5-45A5-AFA8-9A2B9956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282B-7776-4316-B16C-43F5FE6A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5EFF-FBF5-48E0-9EDB-4FD4FA09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4EFB-3528-4E14-AEA7-44CFE66B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F8AD-B2A6-4EFC-B927-0FF2FFD7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0075-8C91-4DF5-B53A-9105F001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FEE-C1FD-43C8-B284-18B3D0B6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E811-8977-40AF-8EED-643777F4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9B38-07E1-4060-BBA6-A94254EC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72FD-8E7B-4FA6-A740-AB7639B6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EF32-C2A0-457E-AE8D-E98882D5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F0A5-22A4-4784-94AA-25098615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ED0-9A5B-4764-94A5-D67CC9F5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D438-B854-4864-8E4E-D49903AD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C93-4D9F-4F2B-8665-420D892C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2D6-B0C7-455D-BDFB-C874E2BA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7F2E-AA82-491A-8643-6B583DE4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8ED-F5D3-4A74-BFE9-2133916A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FB64-7280-459D-9C0D-E88D70D9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4731-B2DF-4F5E-B5EB-E4AAE101B9A3}" type="slidenum"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A802-2D7F-4529-8054-2508FEA6FB11}" type="slidenum">
              <a:rPr b="0" lang="uk-U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43;&#1072;&#1083;&#1072;&#1082;&#1090;&#1080;&#1082;&#1080;" TargetMode="External"/><Relationship Id="rId2" Type="http://schemas.openxmlformats.org/officeDocument/2006/relationships/hyperlink" Target="http://uk.wikipedia.org/wiki/&#1057;&#1086;&#1085;&#1103;&#1095;&#1085;&#1072;_&#1089;&#1080;&#1089;&#1090;&#1077;&#1084;&#1072;" TargetMode="External"/><Relationship Id="rId3" Type="http://schemas.openxmlformats.org/officeDocument/2006/relationships/hyperlink" Target="http://uk.wikipedia.org/wiki/&#1047;&#1086;&#1088;&#1110;" TargetMode="External"/><Relationship Id="rId4" Type="http://schemas.openxmlformats.org/officeDocument/2006/relationships/hyperlink" Target="http://uk.wikipedia.org/wiki/&#1054;&#1082;&#1086;" TargetMode="External"/><Relationship Id="rId5" Type="http://schemas.openxmlformats.org/officeDocument/2006/relationships/hyperlink" Target="http://uk.wikipedia.org/wiki/&#1043;&#1072;&#1083;&#1072;&#1082;&#1090;&#1080;&#1082;&#1072;" TargetMode="External"/><Relationship Id="rId6" Type="http://schemas.openxmlformats.org/officeDocument/2006/relationships/hyperlink" Target="http://uk.wikipedia.org/wiki/&#1055;&#1086;&#1089;&#1083;&#1110;&#1076;&#1086;&#1074;&#1085;&#1110;&#1089;&#1090;&#1100;_&#1061;&#1072;&#1073;&#1073;&#1083;&#1072;" TargetMode="External"/><Relationship Id="rId7" Type="http://schemas.openxmlformats.org/officeDocument/2006/relationships/hyperlink" Target="http://uk.wikipedia.org/wiki/&#1043;&#1072;&#1083;&#1072;&#1082;&#1090;&#1080;&#1082;&#1072;_&#1040;&#1085;&#1076;&#1088;&#1086;&#1084;&#1077;&#1076;&#1080;" TargetMode="External"/><Relationship Id="rId8" Type="http://schemas.openxmlformats.org/officeDocument/2006/relationships/hyperlink" Target="http://uk.wikipedia.org/wiki/&#1043;&#1072;&#1083;&#1072;&#1082;&#1090;&#1080;&#1082;&#1072;_&#1058;&#1088;&#1080;&#1082;&#1091;&#1090;&#1085;&#1080;&#1082;&#1072;" TargetMode="External"/><Relationship Id="rId9" Type="http://schemas.openxmlformats.org/officeDocument/2006/relationships/hyperlink" Target="http://uk.wikipedia.org/wiki/&#1052;&#1110;&#1089;&#1094;&#1077;&#1074;&#1072;_&#1075;&#1088;&#1091;&#1087;&#1072;" TargetMode="External"/><Relationship Id="rId10" Type="http://schemas.openxmlformats.org/officeDocument/2006/relationships/hyperlink" Target="http://uk.wikipedia.org/wiki/&#1053;&#1072;&#1076;&#1089;&#1082;&#1091;&#1087;&#1095;&#1077;&#1085;&#1085;&#1103;_&#1044;&#1110;&#1074;&#1080;" TargetMode="External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k.wikipedia.org/wiki/&#1063;&#1091;&#1084;&#1072;&#1094;&#1090;&#1074;&#1086;" TargetMode="External"/><Relationship Id="rId3" Type="http://schemas.openxmlformats.org/officeDocument/2006/relationships/hyperlink" Target="http://uk.wikipedia.org/wiki/&#1050;&#1088;&#1080;&#1084;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uk.wikipedia.org/wiki/&#1047;&#1086;&#1083;&#1086;&#1090;&#1086;" TargetMode="External"/><Relationship Id="rId6" Type="http://schemas.openxmlformats.org/officeDocument/2006/relationships/hyperlink" Target="http://uk.wikipedia.org/wiki/&#1050;&#1086;&#1083;&#1110;&#1089;&#1085;&#1080;&#1094;&#1103;" TargetMode="External"/><Relationship Id="rId7" Type="http://schemas.openxmlformats.org/officeDocument/2006/relationships/hyperlink" Target="http://uk.wikipedia.org/wiki/&#1055;&#1088;&#1086;&#1088;&#1086;&#1082;" TargetMode="External"/><Relationship Id="rId8" Type="http://schemas.openxmlformats.org/officeDocument/2006/relationships/hyperlink" Target="http://uk.wikipedia.org/wiki/&#1030;&#1083;&#1083;&#1103;_(&#1087;&#1088;&#1086;&#1088;&#1086;&#1082;)" TargetMode="External"/><Relationship Id="rId9" Type="http://schemas.openxmlformats.org/officeDocument/2006/relationships/hyperlink" Target="http://uk.wikipedia.org/wiki/&#1061;&#1088;&#1080;&#1089;&#1090;&#1080;&#1103;&#1085;&#1089;&#1090;&#1074;&#1086;" TargetMode="External"/><Relationship Id="rId10" Type="http://schemas.openxmlformats.org/officeDocument/2006/relationships/hyperlink" Target="http://uk.wikipedia.org/wiki/&#1055;&#1077;&#1088;&#1091;&#1085;" TargetMode="External"/><Relationship Id="rId11" Type="http://schemas.openxmlformats.org/officeDocument/2006/relationships/hyperlink" Target="http://uk.wikipedia.org/wiki/&#1041;&#1083;&#1080;&#1089;&#1082;&#1072;&#1074;&#1082;&#1072;" TargetMode="External"/><Relationship Id="rId12" Type="http://schemas.openxmlformats.org/officeDocument/2006/relationships/hyperlink" Target="http://uk.wikipedia.org/wiki/&#1040;&#1088;&#1110;&#1076;&#1085;&#1080;&#1082;" TargetMode="External"/><Relationship Id="rId13" Type="http://schemas.openxmlformats.org/officeDocument/2006/relationships/hyperlink" Target="http://uk.wikipedia.org/w/index.php?title=&#1058;&#1088;&#1080;&#1085;&#1088;&#1086;&#1076;&amp;action=edit&amp;redlink=1" TargetMode="External"/><Relationship Id="rId14" Type="http://schemas.openxmlformats.org/officeDocument/2006/relationships/hyperlink" Target="http://uk.wikipedia.org/w/index.php?title=&#1058;&#1088;&#1080;&#1102;&#1076;&#1072;&amp;action=edit&amp;redlink=1" TargetMode="External"/><Relationship Id="rId15" Type="http://schemas.openxmlformats.org/officeDocument/2006/relationships/hyperlink" Target="http://uk.wikipedia.org/wiki/&#1063;&#1086;&#1088;&#1090;" TargetMode="External"/><Relationship Id="rId16" Type="http://schemas.openxmlformats.org/officeDocument/2006/relationships/hyperlink" Target="http://uk.wikipedia.org/wiki/&#1041;&#1110;&#1089;" TargetMode="External"/><Relationship Id="rId17" Type="http://schemas.openxmlformats.org/officeDocument/2006/relationships/hyperlink" Target="http://uk.wikipedia.org/wiki/&#1063;&#1091;&#1075;&#1072;&#1081;&#1089;&#1090;&#1077;&#1088;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k.wikipedia.org/wiki/&#1053;&#1077;&#1073;&#1086;" TargetMode="External"/><Relationship Id="rId3" Type="http://schemas.openxmlformats.org/officeDocument/2006/relationships/hyperlink" Target="http://uk.wikipedia.org/wiki/&#1042;&#1077;&#1083;&#1080;&#1082;&#1077;_&#1082;&#1086;&#1083;&#1086;" TargetMode="External"/><Relationship Id="rId4" Type="http://schemas.openxmlformats.org/officeDocument/2006/relationships/hyperlink" Target="http://uk.wikipedia.org/wiki/&#1053;&#1077;&#1073;&#1077;&#1089;&#1085;&#1072;_&#1089;&#1092;&#1077;&#1088;&#1072;" TargetMode="External"/><Relationship Id="rId5" Type="http://schemas.openxmlformats.org/officeDocument/2006/relationships/hyperlink" Target="http://uk.wikipedia.org/wiki/&#1054;&#1088;&#1077;&#1083;_(&#1089;&#1091;&#1079;&#1110;&#1088;%27&#1103;)" TargetMode="External"/><Relationship Id="rId6" Type="http://schemas.openxmlformats.org/officeDocument/2006/relationships/hyperlink" Target="http://uk.wikipedia.org/wiki/&#1057;&#1090;&#1088;&#1110;&#1083;&#1072;_(&#1089;&#1091;&#1079;&#1110;&#1088;%27&#1103;)" TargetMode="External"/><Relationship Id="rId7" Type="http://schemas.openxmlformats.org/officeDocument/2006/relationships/hyperlink" Target="http://uk.wikipedia.org/wiki/&#1051;&#1080;&#1089;&#1080;&#1095;&#1082;&#1072;_(&#1089;&#1091;&#1079;&#1110;&#1088;%27&#1103;)" TargetMode="External"/><Relationship Id="rId8" Type="http://schemas.openxmlformats.org/officeDocument/2006/relationships/hyperlink" Target="http://uk.wikipedia.org/wiki/&#1051;&#1077;&#1073;&#1110;&#1076;&#1100;_(&#1089;&#1091;&#1079;&#1110;&#1088;%27&#1103;)" TargetMode="External"/><Relationship Id="rId9" Type="http://schemas.openxmlformats.org/officeDocument/2006/relationships/hyperlink" Target="http://uk.wikipedia.org/wiki/&#1062;&#1077;&#1092;&#1077;&#1081;_(&#1089;&#1091;&#1079;&#1110;&#1088;%27&#1103;)" TargetMode="External"/><Relationship Id="rId10" Type="http://schemas.openxmlformats.org/officeDocument/2006/relationships/hyperlink" Target="http://uk.wikipedia.org/wiki/&#1050;&#1072;&#1089;&#1089;&#1110;&#1086;&#1087;&#1077;&#1103;_(&#1089;&#1091;&#1079;&#1110;&#1088;%27&#1103;)" TargetMode="External"/><Relationship Id="rId11" Type="http://schemas.openxmlformats.org/officeDocument/2006/relationships/hyperlink" Target="http://uk.wikipedia.org/wiki/&#1055;&#1077;&#1088;&#1089;&#1077;&#1081;_(&#1089;&#1091;&#1079;&#1110;&#1088;%27&#1103;)" TargetMode="External"/><Relationship Id="rId12" Type="http://schemas.openxmlformats.org/officeDocument/2006/relationships/hyperlink" Target="http://uk.wikipedia.org/wiki/&#1042;&#1110;&#1079;&#1085;&#1080;&#1095;&#1080;&#1081;_(&#1089;&#1091;&#1079;&#1110;&#1088;%27&#1103;)" TargetMode="External"/><Relationship Id="rId13" Type="http://schemas.openxmlformats.org/officeDocument/2006/relationships/hyperlink" Target="http://uk.wikipedia.org/wiki/&#1058;&#1077;&#1083;&#1077;&#1094;&#1100;_(&#1089;&#1091;&#1079;&#1110;&#1088;%27&#1103;)" TargetMode="External"/><Relationship Id="rId14" Type="http://schemas.openxmlformats.org/officeDocument/2006/relationships/hyperlink" Target="http://uk.wikipedia.org/wiki/&#1041;&#1083;&#1080;&#1079;&#1085;&#1102;&#1082;&#1080;_(&#1089;&#1091;&#1079;&#1110;&#1088;%27&#1103;)" TargetMode="External"/><Relationship Id="rId15" Type="http://schemas.openxmlformats.org/officeDocument/2006/relationships/hyperlink" Target="http://uk.wikipedia.org/wiki/&#1028;&#1076;&#1080;&#1085;&#1086;&#1088;&#1110;&#1075;_(&#1089;&#1091;&#1079;&#1110;&#1088;%27&#1103;)" TargetMode="External"/><Relationship Id="rId16" Type="http://schemas.openxmlformats.org/officeDocument/2006/relationships/hyperlink" Target="http://uk.wikipedia.org/wiki/&#1050;&#1086;&#1088;&#1084;&#1072;_(&#1089;&#1091;&#1079;&#1110;&#1088;%27&#1103;)" TargetMode="External"/><Relationship Id="rId17" Type="http://schemas.openxmlformats.org/officeDocument/2006/relationships/hyperlink" Target="http://uk.wikipedia.org/wiki/&#1042;&#1110;&#1090;&#1088;&#1080;&#1083;&#1072;_(&#1089;&#1091;&#1079;&#1110;&#1088;%27&#1103;)" TargetMode="External"/><Relationship Id="rId18" Type="http://schemas.openxmlformats.org/officeDocument/2006/relationships/hyperlink" Target="http://uk.wikipedia.org/wiki/&#1055;&#1110;&#1074;&#1076;&#1077;&#1085;&#1085;&#1080;&#1081;_&#1061;&#1088;&#1077;&#1089;&#1090;_(&#1089;&#1091;&#1079;&#1110;&#1088;%27&#1103;)" TargetMode="External"/><Relationship Id="rId19" Type="http://schemas.openxmlformats.org/officeDocument/2006/relationships/hyperlink" Target="http://uk.wikipedia.org/wiki/&#1062;&#1080;&#1088;&#1082;&#1091;&#1083;&#1100;_(&#1089;&#1091;&#1079;&#1110;&#1088;%27&#1103;)" TargetMode="External"/><Relationship Id="rId20" Type="http://schemas.openxmlformats.org/officeDocument/2006/relationships/hyperlink" Target="http://uk.wikipedia.org/wiki/&#1055;&#1110;&#1074;&#1076;&#1077;&#1085;&#1085;&#1080;&#1081;_&#1058;&#1088;&#1080;&#1082;&#1091;&#1090;&#1085;&#1080;&#1082;_(&#1089;&#1091;&#1079;&#1110;&#1088;%27&#1103;)" TargetMode="External"/><Relationship Id="rId21" Type="http://schemas.openxmlformats.org/officeDocument/2006/relationships/hyperlink" Target="http://uk.wikipedia.org/wiki/&#1057;&#1082;&#1086;&#1088;&#1087;&#1110;&#1086;&#1085;_(&#1089;&#1091;&#1079;&#1110;&#1088;%27&#1103;)" TargetMode="External"/><Relationship Id="rId22" Type="http://schemas.openxmlformats.org/officeDocument/2006/relationships/hyperlink" Target="http://uk.wikipedia.org/wiki/&#1057;&#1090;&#1088;&#1110;&#1083;&#1077;&#1094;&#1100;_(&#1089;&#1091;&#1079;&#1110;&#1088;%27&#1103;)" TargetMode="External"/><Relationship Id="rId23" Type="http://schemas.openxmlformats.org/officeDocument/2006/relationships/image" Target="../media/image5.jpeg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k.wikipedia.org/wiki/&#1042;&#1095;&#1077;&#1085;&#1080;&#1081;" TargetMode="External"/><Relationship Id="rId3" Type="http://schemas.openxmlformats.org/officeDocument/2006/relationships/hyperlink" Target="http://uk.wikipedia.org/wiki/&#1044;&#1077;&#1084;&#1086;&#1082;&#1088;&#1080;&#1090;" TargetMode="External"/><Relationship Id="rId4" Type="http://schemas.openxmlformats.org/officeDocument/2006/relationships/hyperlink" Target="http://uk.wikipedia.org/wiki/XVIII" TargetMode="External"/><Relationship Id="rId5" Type="http://schemas.openxmlformats.org/officeDocument/2006/relationships/hyperlink" Target="http://uk.wikipedia.org/wiki/&#1060;&#1088;&#1110;&#1076;&#1088;&#1110;&#1093;_&#1042;&#1110;&#1083;&#1100;&#1075;&#1077;&#1083;&#1100;&#1084;_&#1043;&#1077;&#1088;&#1096;&#1077;&#1083;&#1100;" TargetMode="External"/><Relationship Id="rId6" Type="http://schemas.openxmlformats.org/officeDocument/2006/relationships/hyperlink" Target="http://uk.wikipedia.org/wiki/&#1057;&#1110;&#1088;&#1110;&#1091;&#1089;" TargetMode="External"/><Relationship Id="rId7" Type="http://schemas.openxmlformats.org/officeDocument/2006/relationships/hyperlink" Target="http://uk.wikipedia.org/wiki/&#1057;&#1074;&#1110;&#1090;&#1083;&#1086;&#1074;&#1080;&#1081;_&#1088;&#1110;&#1082;" TargetMode="Externa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k.wikipedia.org/wiki/&#1047;&#1086;&#1088;&#1110;" TargetMode="External"/><Relationship Id="rId3" Type="http://schemas.openxmlformats.org/officeDocument/2006/relationships/hyperlink" Target="http://uk.wikipedia.org/wiki/&#1042;&#1110;&#1082;_&#1042;&#1089;&#1077;&#1089;&#1074;&#1110;&#1090;&#1091;" TargetMode="External"/><Relationship Id="rId4" Type="http://schemas.openxmlformats.org/officeDocument/2006/relationships/hyperlink" Target="http://uk.wikipedia.org/wiki/&#1050;&#1072;&#1088;&#1083;&#1080;&#1082;&#1086;&#1074;&#1072;_&#1075;&#1072;&#1083;&#1072;&#1082;&#1090;&#1080;&#1082;&#1072;" TargetMode="External"/><Relationship Id="rId5" Type="http://schemas.openxmlformats.org/officeDocument/2006/relationships/hyperlink" Target="http://uk.wikipedia.org/w/index.php?title=&#1055;&#1077;&#1088;&#1096;&#1110;_&#1079;&#1086;&#1088;&#1110;&amp;action=edit&amp;redlink=1" TargetMode="External"/><Relationship Id="rId6" Type="http://schemas.openxmlformats.org/officeDocument/2006/relationships/hyperlink" Target="http://uk.wikipedia.org/wiki/&#1052;&#1077;&#1090;&#1072;&#1083;&#1110;&#1095;&#1085;&#1110;&#1089;&#1090;&#1100;" TargetMode="External"/><Relationship Id="rId7" Type="http://schemas.openxmlformats.org/officeDocument/2006/relationships/hyperlink" Target="http://uk.wikipedia.org/wiki/&#1042;&#1089;&#1077;&#1089;&#1074;&#1110;&#1090;" TargetMode="External"/><Relationship Id="rId8" Type="http://schemas.openxmlformats.org/officeDocument/2006/relationships/hyperlink" Target="http://uk.wikipedia.org/wiki/&#1047;&#1110;&#1088;&#1082;&#1072;" TargetMode="External"/><Relationship Id="rId9" Type="http://schemas.openxmlformats.org/officeDocument/2006/relationships/hyperlink" Target="http://uk.wikipedia.org/wiki/&#1043;&#1072;&#1083;&#1086;" TargetMode="External"/><Relationship Id="rId10" Type="http://schemas.openxmlformats.org/officeDocument/2006/relationships/hyperlink" Target="http://uk.wikipedia.org/wiki/2010" TargetMode="External"/><Relationship Id="rId11" Type="http://schemas.openxmlformats.org/officeDocument/2006/relationships/hyperlink" Target="http://uk.wikipedia.org/wiki/&#1063;&#1080;&#1083;&#1110;" TargetMode="External"/><Relationship Id="rId12" Type="http://schemas.openxmlformats.org/officeDocument/2006/relationships/hyperlink" Target="http://uk.wikipedia.org/wiki/&#1050;&#1072;&#1088;&#1083;&#1080;&#1082;&#1086;&#1074;&#1072;_&#1075;&#1072;&#1083;&#1072;&#1082;&#1090;&#1080;&#1082;&#1072;" TargetMode="External"/><Relationship Id="rId13" Type="http://schemas.openxmlformats.org/officeDocument/2006/relationships/hyperlink" Target="http://uk.wikipedia.org/wiki/&#1055;&#1110;&#1095;_(&#1089;&#1091;&#1079;&#1110;&#1088;%27&#1103;)" TargetMode="External"/><Relationship Id="rId14" Type="http://schemas.openxmlformats.org/officeDocument/2006/relationships/hyperlink" Target="http://uk.wikipedia.org/wiki/&#1057;&#1082;&#1091;&#1083;&#1100;&#1087;&#1090;&#1086;&#1088;_(&#1089;&#1091;&#1079;&#1110;&#1088;%27&#1103;)" TargetMode="External"/><Relationship Id="rId15" Type="http://schemas.openxmlformats.org/officeDocument/2006/relationships/hyperlink" Target="http://uk.wikipedia.org/wiki/&#1057;&#1077;&#1082;&#1089;&#1090;&#1072;&#1085;&#1090;_(&#1089;&#1091;&#1079;&#1110;&#1088;%27&#1103;)" TargetMode="External"/><Relationship Id="rId16" Type="http://schemas.openxmlformats.org/officeDocument/2006/relationships/hyperlink" Target="http://uk.wikipedia.org/wiki/&#1050;&#1110;&#1083;&#1100;_(&#1089;&#1091;&#1079;&#1110;&#1088;%27&#1103;)" TargetMode="External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k.wikipedia.org/wiki/&#1047;&#1086;&#1088;&#1103;&#1085;&#1072;_&#1089;&#1080;&#1089;&#1090;&#1077;&#1084;&#1072;" TargetMode="External"/><Relationship Id="rId3" Type="http://schemas.openxmlformats.org/officeDocument/2006/relationships/hyperlink" Target="http://uk.wikipedia.org/wiki/&#1050;&#1072;&#1088;&#1083;&#1080;&#1082;&#1086;&#1074;&#1072;_&#1075;&#1072;&#1083;&#1072;&#1082;&#1090;&#1080;&#1082;&#1072;" TargetMode="External"/><Relationship Id="rId4" Type="http://schemas.openxmlformats.org/officeDocument/2006/relationships/hyperlink" Target="http://uk.wikipedia.org/wiki/&#1047;&#1086;&#1088;&#1103;&#1085;&#1080;&#1081;_&#1087;&#1086;&#1090;&#1110;&#1082;" TargetMode="External"/><Relationship Id="rId5" Type="http://schemas.openxmlformats.org/officeDocument/2006/relationships/hyperlink" Target="http://uk.wikipedia.org/wiki/&#1050;&#1091;&#1083;&#1103;&#1089;&#1090;&#1077;_&#1089;&#1082;&#1091;&#1087;&#1095;&#1077;&#1085;&#1085;&#1103;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uk.wikipedia.org/wiki/&#1042;&#1077;&#1083;&#1080;&#1082;&#1072;_&#1052;&#1072;&#1075;&#1077;&#1083;&#1083;&#1072;&#1085;&#1086;&#1074;&#1072;_&#1061;&#1084;&#1072;&#1088;&#1072;" TargetMode="External"/><Relationship Id="rId8" Type="http://schemas.openxmlformats.org/officeDocument/2006/relationships/image" Target="../media/image1.png"/><Relationship Id="rId9" Type="http://schemas.openxmlformats.org/officeDocument/2006/relationships/hyperlink" Target="http://uk.wikipedia.org/wiki/&#1052;&#1072;&#1083;&#1072;_&#1052;&#1072;&#1075;&#1077;&#1083;&#1083;&#1072;&#1085;&#1086;&#1074;&#1072;_&#1061;&#1084;&#1072;&#1088;&#1072;" TargetMode="External"/><Relationship Id="rId10" Type="http://schemas.openxmlformats.org/officeDocument/2006/relationships/image" Target="../media/image1.png"/><Relationship Id="rId11" Type="http://schemas.openxmlformats.org/officeDocument/2006/relationships/hyperlink" Target="http://uk.wikipedia.org/wiki/&#1050;&#1072;&#1088;&#1083;&#1080;&#1082;&#1086;&#1074;&#1072;_&#1075;&#1072;&#1083;&#1072;&#1082;&#1090;&#1080;&#1082;&#1072;_&#1042;&#1077;&#1083;&#1080;&#1082;&#1080;&#1081;_&#1055;&#1077;&#1089;" TargetMode="External"/><Relationship Id="rId12" Type="http://schemas.openxmlformats.org/officeDocument/2006/relationships/image" Target="../media/image1.png"/><Relationship Id="rId13" Type="http://schemas.openxmlformats.org/officeDocument/2006/relationships/hyperlink" Target="http://uk.wikipedia.org/w/index.php?title=&#1055;&#1086;&#1090;&#1110;&#1082;_&#1057;&#1090;&#1088;&#1110;&#1083;&#1100;&#1094;&#1103;&amp;action=edit&amp;redlink=1" TargetMode="External"/><Relationship Id="rId14" Type="http://schemas.openxmlformats.org/officeDocument/2006/relationships/image" Target="../media/image1.png"/><Relationship Id="rId15" Type="http://schemas.openxmlformats.org/officeDocument/2006/relationships/hyperlink" Target="http://uk.wikipedia.org/wiki/&#1055;&#1086;&#1090;&#1110;&#1082;_&#1061;&#1077;&#1083;&#1084;&#1110;" TargetMode="External"/><Relationship Id="rId16" Type="http://schemas.openxmlformats.org/officeDocument/2006/relationships/hyperlink" Target="http://uk.wikipedia.org/wiki/&#1063;&#1091;&#1084;&#1072;&#1094;&#1100;&#1082;&#1080;&#1081;_&#1064;&#1083;&#1103;&#1093;#cite_note-22" TargetMode="External"/><Relationship Id="rId17" Type="http://schemas.openxmlformats.org/officeDocument/2006/relationships/image" Target="../media/image1.png"/><Relationship Id="rId18" Type="http://schemas.openxmlformats.org/officeDocument/2006/relationships/hyperlink" Target="http://uk.wikipedia.org/wiki/NGC_5466" TargetMode="External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42;&#1077;&#1083;&#1080;&#1082;&#1072;_&#1052;&#1072;&#1075;&#1077;&#1083;&#1083;&#1072;&#1085;&#1086;&#1074;&#1072;_&#1061;&#1084;&#1072;&#1088;&#1072;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Чумацький Шлях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0" y="1699920"/>
            <a:ext cx="3348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власна назва </a:t>
            </a:r>
            <a:r>
              <a:rPr b="0" lang="uk-UA" sz="16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галактики</a:t>
            </a: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, у якій розташована </a:t>
            </a:r>
            <a:r>
              <a:rPr b="0" lang="uk-UA" sz="16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Сонячна система</a:t>
            </a: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, а також усі </a:t>
            </a:r>
            <a:r>
              <a:rPr b="0" lang="uk-UA" sz="16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зорі</a:t>
            </a: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, які ми бачимо неозброєним </a:t>
            </a:r>
            <a:r>
              <a:rPr b="0" lang="uk-UA" sz="16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оком</a:t>
            </a: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Чумацький Шлях є спіральною </a:t>
            </a:r>
            <a:r>
              <a:rPr b="0" lang="uk-UA" sz="16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галактикою</a:t>
            </a: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 типу SBbc за </a:t>
            </a:r>
            <a:r>
              <a:rPr b="0" lang="uk-UA" sz="16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класифікацією Хаббла</a:t>
            </a: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, що разом із </a:t>
            </a:r>
            <a:r>
              <a:rPr b="0" lang="uk-UA" sz="16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галактикою Андромеди</a:t>
            </a: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uk-UA" sz="16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Галактикою Трикутника</a:t>
            </a: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 та низкою інших галактик утворюють </a:t>
            </a:r>
            <a:r>
              <a:rPr b="0" lang="uk-UA" sz="1600" spc="-1" strike="noStrike" u="sng">
                <a:solidFill>
                  <a:srgbClr val="ffff99"/>
                </a:solidFill>
                <a:uFillTx/>
                <a:latin typeface="Verdana"/>
                <a:hlinkClick r:id="rId9"/>
              </a:rPr>
              <a:t>місцеву галактичну групу</a:t>
            </a: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. У свою чергу, місцева група входить до</a:t>
            </a:r>
            <a:r>
              <a:rPr b="0" lang="en-A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1600" spc="-1" strike="noStrike" u="sng">
                <a:solidFill>
                  <a:srgbClr val="ffff99"/>
                </a:solidFill>
                <a:uFillTx/>
                <a:latin typeface="Verdana"/>
                <a:hlinkClick r:id="rId10"/>
              </a:rPr>
              <a:t>Надскупчення Діви</a:t>
            </a: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5" descr="x_37471ad9%5B1%5D"/>
          <p:cNvPicPr/>
          <p:nvPr/>
        </p:nvPicPr>
        <p:blipFill>
          <a:blip r:embed="rId11"/>
          <a:stretch/>
        </p:blipFill>
        <p:spPr>
          <a:xfrm>
            <a:off x="3300480" y="1628640"/>
            <a:ext cx="56563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 останні 80 років в результаті роботи астрономів Сонце майже вдвічі «наблизилося» до центру Галактики. Здавалося б, і розмір всієї нашої зоряної системи повинен був зменшитися вдвічі. Але ні, за ці роки були відкриті зірки, скупчення і хмари газу на відстані близько 100 кпк від центру Галактики. Так що діаметр нашого зіркового дому став майже 200 кпк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99"/>
                </a:solidFill>
                <a:latin typeface="Arial"/>
              </a:rPr>
              <a:t>Походження назви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Українці здавна мали багато назв нашої галактики. </a:t>
            </a:r>
            <a:r>
              <a:rPr b="1" lang="uk-UA" sz="2400" spc="-1" strike="noStrike">
                <a:solidFill>
                  <a:srgbClr val="ffffff"/>
                </a:solidFill>
                <a:latin typeface="Verdana"/>
              </a:rPr>
              <a:t>Чумацький шлях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 — найпоширеніша з них. Згідно з легендою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чумаки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їздили до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Криму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 по сіль, орієнтуючись вночі на світлу смугу на небі. Також вживається назва </a:t>
            </a:r>
            <a:r>
              <a:rPr b="1" lang="uk-UA" sz="2400" spc="-1" strike="noStrike">
                <a:solidFill>
                  <a:srgbClr val="ffffff"/>
                </a:solidFill>
                <a:latin typeface="Verdana"/>
              </a:rPr>
              <a:t>Молочний шлях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Verdana"/>
              </a:rPr>
              <a:t>Божа дорога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 — давня українська назва Чумацького Шляху. Цією дорогою нібито у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золотій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колісниці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 їздить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пророк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Ілля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9"/>
              </a:rPr>
              <a:t>християнський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 наступник праукраїнського й праслов'янського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10"/>
              </a:rPr>
              <a:t>Перуна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) і гримить, метаючи золоті стріли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11"/>
              </a:rPr>
              <a:t>блискавиць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 у демонів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12"/>
              </a:rPr>
              <a:t>Арідника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13"/>
              </a:rPr>
              <a:t>Тринрода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14"/>
              </a:rPr>
              <a:t>Триюду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15"/>
              </a:rPr>
              <a:t>Чортів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16"/>
              </a:rPr>
              <a:t>Бісів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17"/>
              </a:rPr>
              <a:t>Чугайстрів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 та інши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99"/>
                </a:solidFill>
                <a:latin typeface="Arial"/>
              </a:rPr>
              <a:t>Чумацький Шлях як небесне явище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30956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Чумацький Шлях при спогляданні на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небі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 виглядає як неяскрава дифузна світла смуга, що проходить приблизно вздовж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великого кола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небесної сфери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. У північній півкулі наша Галактика перетинає сузір'я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Орла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Стріли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Лисички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Лебедя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9"/>
              </a:rPr>
              <a:t>Цефея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10"/>
              </a:rPr>
              <a:t>Кассіопеї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11"/>
              </a:rPr>
              <a:t>Персея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12"/>
              </a:rPr>
              <a:t>Візничого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13"/>
              </a:rPr>
              <a:t>Тельця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 та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14"/>
              </a:rPr>
              <a:t>Близнюків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; у південному —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15"/>
              </a:rPr>
              <a:t>Єдинорога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16"/>
              </a:rPr>
              <a:t>Корми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17"/>
              </a:rPr>
              <a:t>Вітрил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18"/>
              </a:rPr>
              <a:t>Південного Хреста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19"/>
              </a:rPr>
              <a:t>Циркуля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20"/>
              </a:rPr>
              <a:t>Південного Трикутника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21"/>
              </a:rPr>
              <a:t>Скорпіона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 та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22"/>
              </a:rPr>
              <a:t>Стрільця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. У Стрільці лежить центр Галактики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5" descr="galaktuka"/>
          <p:cNvPicPr/>
          <p:nvPr/>
        </p:nvPicPr>
        <p:blipFill>
          <a:blip r:embed="rId23"/>
          <a:stretch/>
        </p:blipFill>
        <p:spPr>
          <a:xfrm>
            <a:off x="3132000" y="1197000"/>
            <a:ext cx="579456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Історія відкриття Галактики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218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Першим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вченим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, який припустив, що Чумацький Шлях складається із віддалених зірок, був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Демокрит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. У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XVIII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 столітті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Вільям Гершель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 зробив спробу визначити розміри Галактики, ґрунтуючись на результатах своїх підрахунків. Він довів, що наша зоряна система має скінчені розміри й утворює своєрідний товстий диск: у площині Чумацький Шлях простягається на відстань не більше 850 одиниць, а в перпендикулярному напрямку — на 200 одиниць, якщо взяти за одиницю відстань до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Сіріуса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. За сучасною шкалою відстаней це відповідає 7300 х 1700 </a:t>
            </a:r>
            <a:r>
              <a:rPr b="0" lang="uk-UA" sz="18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світлових років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5" descr="Файл:Herschel-Galaxy.png"/>
          <p:cNvPicPr/>
          <p:nvPr/>
        </p:nvPicPr>
        <p:blipFill>
          <a:blip r:embed="rId8"/>
          <a:stretch/>
        </p:blipFill>
        <p:spPr>
          <a:xfrm>
            <a:off x="755640" y="3468600"/>
            <a:ext cx="7885080" cy="2360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755640" y="5733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Форма Чумацького Шляху, яку дослідив Вільям Гершель 1785 року. Сонячна система знаходиться посередині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Вік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Дуже важко визначити вік, коли сформувався Чумацький Шлях, але наразі вік найдавніших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зірок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 у галактиці оцінюється у 13,6 мільярдів років, що приблизно дорівнює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віку Всесвіту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. За сучасними уявленнями, Чумацький Шлях утворився внаслідок зіткнення і злиття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невеликих галактик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. Свідченнями цього є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перші зорі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 з дуже низькою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металічністю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, що утворилися на найранішому етапі існування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Всесвіту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. Такі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зірки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 вчені знаходять у галактичному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9"/>
              </a:rPr>
              <a:t>гало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 — «околиці» Чумацького шляху, що тягнеться за межі його видимої частини. У лютому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10"/>
              </a:rPr>
              <a:t>2010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 року астрономи Європейської південної обсерваторії (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11"/>
              </a:rPr>
              <a:t>Чилі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) виявили такі ж зірки в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12"/>
              </a:rPr>
              <a:t>карликових галактиках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 у сузір'ях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13"/>
              </a:rPr>
              <a:t>Печі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14"/>
              </a:rPr>
              <a:t>Скульптора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15"/>
              </a:rPr>
              <a:t>Секстанта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 і </a:t>
            </a:r>
            <a:r>
              <a:rPr b="0" lang="uk-UA" sz="2400" spc="-1" strike="noStrike" u="sng">
                <a:solidFill>
                  <a:srgbClr val="ffff99"/>
                </a:solidFill>
                <a:uFillTx/>
                <a:latin typeface="Verdana"/>
                <a:hlinkClick r:id="rId16"/>
              </a:rPr>
              <a:t>Кіля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Arial"/>
              </a:rPr>
              <a:t>Супутники Галактики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Наша Галактика є гігантською </a:t>
            </a:r>
            <a:r>
              <a:rPr b="0" lang="uk-UA" sz="20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зоряною системою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 і логічно, що у неї мають бути супутники. Серед них найвідоміші такі </a:t>
            </a:r>
            <a:r>
              <a:rPr b="0" lang="uk-UA" sz="20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карликові галактики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uk-UA" sz="20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зоряні потоки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та </a:t>
            </a:r>
            <a:r>
              <a:rPr b="0" lang="uk-UA" sz="20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кулясті скупчення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Велика Магелланова Хма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ff99"/>
                </a:solidFill>
                <a:uFillTx/>
                <a:latin typeface="Verdana"/>
                <a:hlinkClick r:id="rId9"/>
              </a:rPr>
              <a:t>Мала Магелланова Хма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ff99"/>
                </a:solidFill>
                <a:uFillTx/>
                <a:latin typeface="Verdana"/>
                <a:hlinkClick r:id="rId11"/>
              </a:rPr>
              <a:t>Карликова галактика Великий Пе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ff99"/>
                </a:solidFill>
                <a:uFillTx/>
                <a:latin typeface="Verdana"/>
                <a:hlinkClick r:id="rId13"/>
              </a:rPr>
              <a:t>Потік Стрільц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ff99"/>
                </a:solidFill>
                <a:uFillTx/>
                <a:latin typeface="Verdana"/>
                <a:hlinkClick r:id="rId15"/>
              </a:rPr>
              <a:t>Потік Хелмі</a:t>
            </a:r>
            <a:r>
              <a:rPr b="0" lang="uk-UA" sz="2000" spc="-1" strike="noStrike" u="sng">
                <a:solidFill>
                  <a:srgbClr val="ffff99"/>
                </a:solidFill>
                <a:uFillTx/>
                <a:latin typeface="Verdana"/>
                <a:hlinkClick r:id="rId16"/>
              </a:rPr>
              <a:t>[22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ff99"/>
                </a:solidFill>
                <a:uFillTx/>
                <a:latin typeface="Verdana"/>
                <a:hlinkClick r:id="rId18"/>
              </a:rPr>
              <a:t>кулясте скупчення NGC 5466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Велика Магелланова Хмара</a:t>
            </a:r>
            <a:br>
              <a:rPr sz="2800"/>
            </a:br>
            <a:r>
              <a:rPr b="0" lang="uk-UA" sz="2800" spc="-1" strike="noStrike">
                <a:solidFill>
                  <a:srgbClr val="ffff99"/>
                </a:solidFill>
                <a:latin typeface="Arial"/>
              </a:rPr>
              <a:t>і </a:t>
            </a:r>
            <a:r>
              <a:rPr b="0" lang="uk-UA" sz="2800" spc="-1" strike="noStrike" u="sng">
                <a:solidFill>
                  <a:srgbClr val="ffff99"/>
                </a:solidFill>
                <a:uFillTx/>
                <a:latin typeface="Arial"/>
              </a:rPr>
              <a:t>Мала Магелланова Хмара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5" descr="1347366456"/>
          <p:cNvPicPr/>
          <p:nvPr/>
        </p:nvPicPr>
        <p:blipFill>
          <a:blip r:embed="rId2"/>
          <a:stretch/>
        </p:blipFill>
        <p:spPr>
          <a:xfrm>
            <a:off x="689040" y="1251000"/>
            <a:ext cx="763272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99"/>
                </a:solidFill>
                <a:latin typeface="Arial"/>
              </a:rPr>
              <a:t>Карликова галактика Великий Пес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5" descr="canisgalaxy_2mass"/>
          <p:cNvPicPr/>
          <p:nvPr/>
        </p:nvPicPr>
        <p:blipFill>
          <a:blip r:embed="rId1"/>
          <a:stretch/>
        </p:blipFill>
        <p:spPr>
          <a:xfrm>
            <a:off x="1332000" y="1628640"/>
            <a:ext cx="65530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99"/>
                </a:solidFill>
                <a:latin typeface="Arial"/>
              </a:rPr>
              <a:t>Зоряні потоки</a:t>
            </a:r>
            <a:r>
              <a:rPr b="0" lang="uk-UA" sz="2000" spc="-1" strike="noStrike">
                <a:solidFill>
                  <a:srgbClr val="ffff99"/>
                </a:solidFill>
                <a:latin typeface="Arial"/>
              </a:rPr>
              <a:t> у Чумацькому Шляху, виявлені на 2007 рік</a:t>
            </a: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Файл:Sig07-008.jpg"/>
          <p:cNvPicPr/>
          <p:nvPr/>
        </p:nvPicPr>
        <p:blipFill>
          <a:blip r:embed="rId1"/>
          <a:stretch/>
        </p:blipFill>
        <p:spPr>
          <a:xfrm>
            <a:off x="1692360" y="773280"/>
            <a:ext cx="56163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6T14:32:12Z</dcterms:created>
  <dc:creator>Wndows</dc:creator>
  <dc:description/>
  <dc:language>en-US</dc:language>
  <cp:lastModifiedBy>Elena</cp:lastModifiedBy>
  <dcterms:modified xsi:type="dcterms:W3CDTF">2014-10-29T18:31:20Z</dcterms:modified>
  <cp:revision>5</cp:revision>
  <dc:subject/>
  <dc:title>Чумацький Шлях </dc:title>
</cp:coreProperties>
</file>