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986-49E4-4B85-8192-247E392A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A41-BF4F-436A-8D9A-8AAC6669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799-C263-45B5-9713-48F394B8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F78-1A08-42BE-BFE6-0D69B766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13F-4D24-4EF1-9287-9505FFD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5FE-A2CD-494C-810D-178981A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614-8269-4153-ADBB-8CC1941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744-EC5B-403B-93FD-16C1A910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457-8C4E-4705-9BB9-F8B06A7A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C30-5A35-4F45-9A3A-540C5D3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966-DBA0-4D7F-B3A3-C6539E9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024-E28E-41E9-B308-FB81863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61C-8C87-4EB8-BB2B-35E4850A8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Лекция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сновы физиологии продолговатого и среднего моз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бщие функции продолговатого моз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тор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од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ссоци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тегр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гуля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други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ефлексы продолговатого моз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изненно важные - дыхательные и сосудодви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щитные рефлексы: рвоты, чиханья, кашля, слезоотделения, смыкания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ы пищевые: сосания, жевания, гло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ы поддержания п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гетативные рефлек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Центры среднего мозг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гментар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локовой нерв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является двигательным нервом и иннервирует верхнюю косую мышцу глазного ябл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азодвигательный нерв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является смешанным, т.к. содержит двигательные и парасимпатические волокна. Двигательные волокна иннервируют мышцы глаза: верхнюю, нижнюю, медиальную, нижнюю косую мышцу глаза, мышцу, поднимающую верхнее веко. Парасимпатические волокна (выходят из добавочного ядра или ядра Якубовича) иннервируют ресничную мышцу и сфинктер зрачка (через ресничный узе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дсегментарны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ое ядро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us ru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ое вещество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 nig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охолм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тикулярная 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троение среднего мозга на поперечном разр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Рефлексы среднего мозг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. Ориентировочные зрительные и слуховые рефлек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. Тонические рефлексы: статические и статокинетические рефлекс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епторный аппарат тонических рефл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5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тонических рефлекс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49672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хема вестибуло-спиналь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хема медиальной (МВСТ) и латеральной (ЛВСТ) вестибуло-спиналь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36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86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Эволюция головного мозг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032360" cy="187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7454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Эволюция ствола головного мозга и его связи с другими отделами ЦН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продолговатого мозга (начал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одъязычны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II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нерв двигательный. Волокна иннервируют мышцы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бавочны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I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вигательный нерв. Волокна иннервируют трапециевидную и грудинно-ключиче-сосцевидную мыш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Блуждающи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мешанный нерв (содержит чувствительные двигательные и парасимпатические  волок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ительные волокна иннервируют сердце, органы дыхания и пищеварения (до сигмовидной кишки), часть твердой мозговой оболочки, наружный слуховой проход, ушную раков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гательные волокна иннервируют поперечнополосатые мышцы глотки, мягкого неба и горт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асимпатические волокна обеспечивают парасимпатическую иннервацию сердца, органов дыхания, органов пищеварения (до сигмовидной ободочной кишки) и их секреторных образований, печени, поджелудочной железы и п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продолговатого мозга (окончание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Языкоглоточный нерв (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X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акже является смешанным. Содержит двигательные волокна иннервирующие шилоглоточную мышцу, чувствительные волокна иннервируют слизистую оболочку глотки, заднюю треть языка (обеспечивая вкусовую чувствительность), а также область каротидного синуса, слизистую барабанной полости и слуховую трубу. Парасимпатические волокна обеспечивают секреторную иннервацию околоушных слюнных желез (переключаясь в ушном узл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еддверно-улитковы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II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аходится на уровне границы продолговатого мозга и моста. Является нервом чувствительным и состоит из двух отделов: вестибулярной (иннервирует вестибулярный аппарат внутреннего уха) и улитковой (слуховой), которая обеспечивает афферентную иннервацию органа Корти (внутреннего ух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моста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(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начал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ицево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является смешанным и содержит чувствительные, двигательные и парасимпатические вол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вствительные волокна иннервируют передние 2/3 языка и мягкое небо (обеспечивая вкусовую чувствительн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гательные волокна иннервируют мимические мышцы лица, подкожную мышцу шеи, заднее брюшко двубрюшной мышцы, шилоподъязычную мышцу и стременную мыш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симпатические волокна являются преимущественно секреторными и принимают участие в иннервации слезных желез, желез полости носа и рта (переключение в крылонебном уз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тводящи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вигательный. Иннервирует латеральную прямую мышцу глазного ябл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моста (оконча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ройничный нерв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ар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нерв смешанный (содержит чувствительные и двигательные волокна).  Чувствительные волокна иннервируют твердую мозговую оболочку, слезные железы, околушные слюнные железы, коньюктиву, кожу верхнего и нижнего века, кожу лба и височной области, носа, верхней и нижней губ, скуловую и щечную области, зубы верхней и нижней челюсти и десны, слизистую оболочек пазух решетчатой кости, глазное яблоко, а также передние 2/3 языка, слизистую оболочку полости рта и носа, кожу ушной раковины и наружного слухового прохода. Двигательные волокна иннервируют жевательные мышцы, челюстно-подъязычную, переднее брюшко двубрюшной мышцы, мышцы напрягающие небную занавеску и барабанную перепо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Надсегментарные центры продолговатого мозг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ыхательный центр (инспираторный и экспираторный отде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удодвигательный центр (прессорный и деперессорный отде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тибулярные ядра (Дейтерса, Бехтерева, Швальбе, Ролл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жние ол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тикулярная 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41:43Z</dcterms:created>
  <dc:creator>И.В. Филиппов</dc:creator>
  <dc:description/>
  <dc:language>en-US</dc:language>
  <cp:lastModifiedBy>SV</cp:lastModifiedBy>
  <dcterms:modified xsi:type="dcterms:W3CDTF">2014-01-10T08:21:31Z</dcterms:modified>
  <cp:revision>17</cp:revision>
  <dc:subject/>
  <dc:title>Лекция №8</dc:title>
</cp:coreProperties>
</file>