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1AAC-815C-4BC1-A1E8-613168F4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D650-9419-4A5C-AC2C-7FE013A0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023D-891A-4D49-819D-2F5DFAF8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AEFD-6471-41E1-8E5A-98AAB9CB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F581-D317-4E8B-B0D7-790943BE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B99-C8A0-40E0-BDD9-CE0B463A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0FDA-D762-4FA1-A63F-2A0AFD44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4EC-37DE-4CE1-BFA4-1EC8E517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B0F-C22A-4F23-A6FC-BD11043A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267D-6B2C-423D-AB96-7BD2AAC5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FF1-FF34-447D-BA3A-B4892D0D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DC4-0CD5-4B00-AD3A-DEFEF1F2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6826-F209-46E6-872F-E136CE06DA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Лекция №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Основы физиологии продолговатого и среднего мозг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Общие функции продолговатого мозг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ефлектор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оводник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Ассоциатив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нтегратив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егулят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 другие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Рефлексы продолговатого мозг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Жизненно важные - дыхательные и сосудодвигатель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Защитные рефлексы: рвоты, чиханья, кашля, слезоотделения, смыкания 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ефлексы пищевые: сосания, жевания, гло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ефлексы поддержания по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егетативные рефлек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Центры среднего мозг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981000"/>
            <a:ext cx="8218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егментар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Блоковой нерв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ара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является двигательным нервом и иннервирует верхнюю косую мышцу глазного ябло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лазодвигательный нерв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пара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является смешанным, т.к. содержит двигательные и парасимпатические волокна. Двигательные волокна иннервируют мышцы глаза: верхнюю, нижнюю, медиальную, нижнюю косую мышцу глаза, мышцу, поднимающую верхнее веко. Парасимпатические волокна (выходят из добавочного ядра или ядра Якубовича) иннервируют ресничную мышцу и сфинктер зрачка (через ресничный узел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Надсегментарные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ное ядро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cleus ru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рное вещество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antia nig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верохолми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тикулярная форм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Строение среднего мозга на поперечном разре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272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Рефлексы среднего мозг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. Ориентировочные зрительные и слуховые рефлек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2. Тонические рефлексы: статические и статокинетические рефлекс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цепторный аппарат тонических рефлек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753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333399"/>
                </a:solidFill>
                <a:uFillTx/>
                <a:latin typeface="Arial"/>
              </a:rPr>
              <a:t>Классификация тонических рефлексо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78544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496728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хема вестибуло-спиналь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хема медиальной (МВСТ) и латеральной (ЛВСТ) вестибуло-спинальных 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136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3399"/>
                </a:solidFill>
                <a:latin typeface="Arial"/>
              </a:rPr>
              <a:t>Схема головного мозга человек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686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3399"/>
                </a:solidFill>
                <a:latin typeface="Arial"/>
              </a:rPr>
              <a:t>Эволюция головного мозг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2124000" y="907920"/>
            <a:ext cx="4032360" cy="1873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684360" y="2997360"/>
            <a:ext cx="77454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3399"/>
                </a:solidFill>
                <a:latin typeface="Arial"/>
              </a:rPr>
              <a:t>Эволюция ствола головного мозга и его связи с другими отделами ЦН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Сегментарные центры продолговатого мозга (начало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Подъязычный нерв (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XII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пара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нерв двигательный. Волокна иннервируют мышцы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Добавочный нерв (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XI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пара)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двигательный нерв. Волокна иннервируют трапециевидную и грудинно-ключиче-сосцевидную мышц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Блуждающий нерв (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пара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смешанный нерв (содержит чувствительные двигательные и парасимпатические  волокн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увствительные волокна иннервируют сердце, органы дыхания и пищеварения (до сигмовидной кишки), часть твердой мозговой оболочки, наружный слуховой проход, ушную ракови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вигательные волокна иннервируют поперечнополосатые мышцы глотки, мягкого неба и горта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расимпатические волокна обеспечивают парасимпатическую иннервацию сердца, органов дыхания, органов пищеварения (до сигмовидной ободочной кишки) и их секреторных образований, печени, поджелудочной железы и поч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Сегментарные центры продолговатого мозга (окончание)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Языкоглоточный нерв (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X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ара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также является смешанным. Содержит двигательные волокна иннервирующие шилоглоточную мышцу, чувствительные волокна иннервируют слизистую оболочку глотки, заднюю треть языка (обеспечивая вкусовую чувствительность), а также область каротидного синуса, слизистую барабанной полости и слуховую трубу. Парасимпатические волокна обеспечивают секреторную иннервацию околоушных слюнных желез (переключаясь в ушном узл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реддверно-улитковый нерв (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XIII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пара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находится на уровне границы продолговатого мозга и моста. Является нервом чувствительным и состоит из двух отделов: вестибулярной (иннервирует вестибулярный аппарат внутреннего уха) и улитковой (слуховой), которая обеспечивает афферентную иннервацию органа Корти (внутреннего ух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Сегментарные центры моста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 (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начало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Лицевой нерв (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VII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пара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является смешанным и содержит чувствительные, двигательные и парасимпатические волок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увствительные волокна иннервируют передние 2/3 языка и мягкое небо (обеспечивая вкусовую чувствительность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игательные волокна иннервируют мимические мышцы лица, подкожную мышцу шеи, заднее брюшко двубрюшной мышцы, шилоподъязычную мышцу и стременную мыш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расимпатические волокна являются преимущественно секреторными и принимают участие в иннервации слезных желез, желез полости носа и рта (переключение в крылонебном узл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Отводящий нерв (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VI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пара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вигательный. Иннервирует латеральную прямую мышцу глазного ябло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Сегментарные центры моста (окончание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Тройничный нерв 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пара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нерв смешанный (содержит чувствительные и двигательные волокна).  Чувствительные волокна иннервируют твердую мозговую оболочку, слезные железы, околушные слюнные железы, коньюктиву, кожу верхнего и нижнего века, кожу лба и височной области, носа, верхней и нижней губ, скуловую и щечную области, зубы верхней и нижней челюсти и десны, слизистую оболочек пазух решетчатой кости, глазное яблоко, а также передние 2/3 языка, слизистую оболочку полости рта и носа, кожу ушной раковины и наружного слухового прохода. Двигательные волокна иннервируют жевательные мышцы, челюстно-подъязычную, переднее брюшко двубрюшной мышцы, мышцы напрягающие небную занавеску и барабанную перепон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Надсегментарные центры продолговатого мозг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ыхательный центр (инспираторный и экспираторный отдел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удодвигательный центр (прессорный и деперессорный отдел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стибулярные ядра (Дейтерса, Бехтерева, Швальбе, Ролле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жние ол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тикулярная форм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19:41:43Z</dcterms:created>
  <dc:creator>И.В. Филиппов</dc:creator>
  <dc:description/>
  <dc:language>en-US</dc:language>
  <cp:lastModifiedBy>SV</cp:lastModifiedBy>
  <dcterms:modified xsi:type="dcterms:W3CDTF">2014-01-10T08:21:31Z</dcterms:modified>
  <cp:revision>17</cp:revision>
  <dc:subject/>
  <dc:title>Лекция №8</dc:title>
</cp:coreProperties>
</file>