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A169-0C45-4061-A80F-938632CA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D8EA-A794-4AFF-B85E-364EF1C9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3D40-59E8-4C3A-B30B-7A775DFD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687C-A4FD-4C10-A6F8-E93DC46B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30D-B13E-4B44-8567-250D5C51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47B-5F45-48E7-9D42-77A7EB84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3CB9-954E-40A2-AE2A-8F789620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7F36-DAC2-49C2-948F-17FB5FBF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C6D6-0336-49A0-8CA7-B8B829D2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6D8C-E765-431F-8733-49064C9A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7BDC-AD83-4C54-8413-7039513C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3A0D-FC25-4553-B53C-1171AD1D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6384-D6BA-4BA6-BAF5-8287563715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714680"/>
            <a:ext cx="3456000" cy="24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Жестокое обращение</a:t>
            </a: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 с детьм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4581360"/>
            <a:ext cx="82090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ак социально-психологическо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явл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3" descr="N:\семинар по жестокости\фото\white__social_reklama_2.jpg"/>
          <p:cNvPicPr/>
          <p:nvPr/>
        </p:nvPicPr>
        <p:blipFill>
          <a:blip r:embed="rId1"/>
          <a:stretch/>
        </p:blipFill>
        <p:spPr>
          <a:xfrm>
            <a:off x="4211640" y="549360"/>
            <a:ext cx="42480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семинар по жестокости\фото\3330642_970194a0.jpg"/>
          <p:cNvPicPr/>
          <p:nvPr/>
        </p:nvPicPr>
        <p:blipFill>
          <a:blip r:embed="rId1"/>
          <a:srcRect l="0" t="15950" r="0" b="15950"/>
          <a:stretch/>
        </p:blipFill>
        <p:spPr>
          <a:xfrm>
            <a:off x="1857240" y="357120"/>
            <a:ext cx="5421600" cy="40654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 flipV="1" rot="10800000">
            <a:off x="610920" y="479628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a85ff"/>
                </a:solidFill>
                <a:latin typeface="Tahoma"/>
              </a:rPr>
              <a:t>Д</a:t>
            </a:r>
            <a:r>
              <a:rPr b="0" lang="ru-RU" sz="2400" spc="-1" strike="noStrike">
                <a:solidFill>
                  <a:srgbClr val="b5ffff"/>
                </a:solidFill>
                <a:latin typeface="Tahoma"/>
              </a:rPr>
              <a:t>ети, находящиеся в силовом поле семейного насилия, рассматриваются как пострадавшие независимо от их формального статуса — жертвы или просто свидетел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Опрос подростков</a:t>
            </a:r>
            <a:br>
              <a:rPr sz="2400"/>
            </a:b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 об их отношении к физическому наказанию</a:t>
            </a:r>
            <a:br>
              <a:rPr sz="2400"/>
            </a:b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 со стороны своих родителей</a:t>
            </a: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b5ffff"/>
                </a:solidFill>
                <a:latin typeface="Tahoma"/>
              </a:rPr>
              <a:t>апрель – май 2006г. Города – Ижевск, Казань, Саратов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2500200"/>
            <a:ext cx="8229600" cy="39290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30 %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детей, кого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бьют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родители, считают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такое наказание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справедливы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30 %  подростков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ответили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«когда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как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ffff"/>
                </a:solidFill>
                <a:latin typeface="Tahoma"/>
              </a:rPr>
              <a:t>56% </a:t>
            </a:r>
            <a:r>
              <a:rPr b="0" lang="en-US" sz="2400" spc="-1" strike="noStrike">
                <a:solidFill>
                  <a:srgbClr val="6c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cffff"/>
                </a:solidFill>
                <a:latin typeface="Tahoma"/>
              </a:rPr>
              <a:t>детей </a:t>
            </a:r>
            <a:r>
              <a:rPr b="0" lang="en-US" sz="2400" spc="-1" strike="noStrike">
                <a:solidFill>
                  <a:srgbClr val="6c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cffff"/>
                </a:solidFill>
                <a:latin typeface="Tahoma"/>
              </a:rPr>
              <a:t>страдают </a:t>
            </a:r>
            <a:r>
              <a:rPr b="0" lang="en-US" sz="2400" spc="-1" strike="noStrike">
                <a:solidFill>
                  <a:srgbClr val="6c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cffff"/>
                </a:solidFill>
                <a:latin typeface="Tahoma"/>
              </a:rPr>
              <a:t>от </a:t>
            </a:r>
            <a:r>
              <a:rPr b="0" lang="en-US" sz="2400" spc="-1" strike="noStrike">
                <a:solidFill>
                  <a:srgbClr val="6c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cffff"/>
                </a:solidFill>
                <a:latin typeface="Tahoma"/>
              </a:rPr>
              <a:t>чувства </a:t>
            </a:r>
            <a:r>
              <a:rPr b="0" lang="en-US" sz="2400" spc="-1" strike="noStrike">
                <a:solidFill>
                  <a:srgbClr val="6c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cffff"/>
                </a:solidFill>
                <a:latin typeface="Tahoma"/>
              </a:rPr>
              <a:t>вины</a:t>
            </a:r>
            <a:r>
              <a:rPr b="0" lang="en-US" sz="2400" spc="-1" strike="noStrike">
                <a:solidFill>
                  <a:srgbClr val="6c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cffff"/>
                </a:solidFill>
                <a:latin typeface="Tahoma"/>
              </a:rPr>
              <a:t> и </a:t>
            </a:r>
            <a:r>
              <a:rPr b="0" lang="en-US" sz="2400" spc="-1" strike="noStrike">
                <a:solidFill>
                  <a:srgbClr val="6c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cffff"/>
                </a:solidFill>
                <a:latin typeface="Tahoma"/>
              </a:rPr>
              <a:t>сты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ffff"/>
                </a:solidFill>
                <a:latin typeface="Tahoma"/>
              </a:rPr>
              <a:t>44%  подростков, </a:t>
            </a:r>
            <a:r>
              <a:rPr b="0" lang="en-US" sz="2400" spc="-1" strike="noStrike">
                <a:solidFill>
                  <a:srgbClr val="6c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cffff"/>
                </a:solidFill>
                <a:latin typeface="Tahoma"/>
              </a:rPr>
              <a:t>предпочитают</a:t>
            </a:r>
            <a:r>
              <a:rPr b="0" lang="en-US" sz="2400" spc="-1" strike="noStrike">
                <a:solidFill>
                  <a:srgbClr val="6c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cffff"/>
                </a:solidFill>
                <a:latin typeface="Tahoma"/>
              </a:rPr>
              <a:t> молча</a:t>
            </a:r>
            <a:r>
              <a:rPr b="0" lang="en-US" sz="2400" spc="-1" strike="noStrike">
                <a:solidFill>
                  <a:srgbClr val="6c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cffff"/>
                </a:solidFill>
                <a:latin typeface="Tahoma"/>
              </a:rPr>
              <a:t> сносить наказ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Сравнительная диаграмма по результатам исследования </a:t>
            </a:r>
            <a:br>
              <a:rPr sz="2000"/>
            </a:b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2002 и 2008 г.</a:t>
            </a:r>
            <a:br>
              <a:rPr sz="2400"/>
            </a:br>
            <a:r>
              <a:rPr b="0" lang="ru-RU" sz="2000" spc="-1" strike="noStrike">
                <a:solidFill>
                  <a:srgbClr val="6cffff"/>
                </a:solidFill>
                <a:latin typeface="Tahoma"/>
              </a:rPr>
              <a:t>«Наказания, применяемые к ребенку со стороны родителей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Содержимое 5" descr=""/>
          <p:cNvPicPr/>
          <p:nvPr/>
        </p:nvPicPr>
        <p:blipFill>
          <a:blip r:embed="rId1"/>
          <a:stretch/>
        </p:blipFill>
        <p:spPr>
          <a:xfrm>
            <a:off x="566640" y="1706400"/>
            <a:ext cx="812664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2960" y="571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Физические наказания могут пойти ребенку на пользу</a:t>
            </a:r>
            <a:br>
              <a:rPr sz="2400"/>
            </a:br>
            <a:r>
              <a:rPr b="0" lang="ru-RU" sz="1600" spc="-1" strike="noStrike">
                <a:solidFill>
                  <a:srgbClr val="203f61"/>
                </a:solidFill>
                <a:latin typeface="Tahoma"/>
              </a:rPr>
              <a:t>(17 % положительных ответов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00080" y="1999800"/>
            <a:ext cx="77868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Физические наказания оставляют в детях чувства страха и унижения и желание отомстить. Они усиливают состояние ярости и фрустрации, при этом прививаемые таким путем нравственные нормы и ценности не усваиваются и не становятся внутренними ценностями. Наказание заставляет ребенка скрывать внешние проявления нежелательного поведения, но не устраняет ег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одители, физически наказывающие детей, служат для них примером агрессив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71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Дети могут провоцировать взрослых на жестокое обращение</a:t>
            </a:r>
            <a:br>
              <a:rPr sz="2400"/>
            </a:br>
            <a:r>
              <a:rPr b="0" lang="ru-RU" sz="1600" spc="-1" strike="noStrike">
                <a:solidFill>
                  <a:srgbClr val="203f61"/>
                </a:solidFill>
                <a:latin typeface="Tahoma"/>
              </a:rPr>
              <a:t> (51 % положительных ответов) </a:t>
            </a:r>
            <a:br>
              <a:rPr sz="2400"/>
            </a:br>
            <a:br>
              <a:rPr sz="1600"/>
            </a:b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00080" y="1999800"/>
            <a:ext cx="77868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Дети, как и другие люди, могут заставлять взрослых испытывать недовольство, раздражение и даже сильный гне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Но только взрослые ответственны за то, какие способы - насильственные или ненасильственные - они выбирают для выражения своего гне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Приверженность взрослых к насильственным способам закрепляет, согласно теории социального научения, незрелые формы саморегуляции и деструктивные формы поведения у дет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Случаи сексуального насилия в отношении детей – редкость</a:t>
            </a:r>
            <a:br>
              <a:rPr sz="2400"/>
            </a:br>
            <a:r>
              <a:rPr b="0" lang="ru-RU" sz="2400" spc="-1" strike="noStrike">
                <a:solidFill>
                  <a:srgbClr val="203f61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203f61"/>
                </a:solidFill>
                <a:latin typeface="Tahoma"/>
              </a:rPr>
              <a:t>(30 % положительных ответов)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00080" y="1642680"/>
            <a:ext cx="77868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По оценкам Центра социальной и судебной психиатр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им. Сербского, органы внутренних дел России ежегодно регистрируют 7-8 тыс. случаев сексуального насилия над детьми, по которым возбуждаются уголовные де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Эти цифры не отражают реального положения дел, так как они регистрируют только те случаи насилия, когда преступники были арестованы и понесли заслуженное наказание. Случаев сексуального злоупотребления детьми в среднем в 3 раза больше, чем случаев изби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Около 25 % женщин в нашей стране подвергались сексуальному насилию в детств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Сексуальное насилие над детьми чаще всего совершается незнакомцами</a:t>
            </a:r>
            <a:br>
              <a:rPr sz="2400"/>
            </a:br>
            <a:r>
              <a:rPr b="0" lang="ru-RU" sz="1600" spc="-1" strike="noStrike">
                <a:solidFill>
                  <a:srgbClr val="203f61"/>
                </a:solidFill>
                <a:latin typeface="Tahoma"/>
              </a:rPr>
              <a:t> (62 % положительных ответов)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000080" y="1999800"/>
            <a:ext cx="77868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- В 75-80 % случаев насильники знакомы детя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из них 45 % - это родственники: родители и лица, их заменяющ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В среднем считается, что 9 из 10 пострадавших детей знакомы с насильниками или связаны с ними родственными отношени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0920" y="4437000"/>
            <a:ext cx="811836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a85ff"/>
                </a:solidFill>
                <a:latin typeface="Tahoma"/>
              </a:rPr>
              <a:t>в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ыявление и распознавание как физического, так и других форм насилия представляет непростую задачу, потому что ребенок может скрывать происходящее, не доверяя взрослым, боясь наказаний со стороны родителей, которые отрицают факт применения силы, опасаясь последствий и осуждения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3" descr="F:\Ольга\фото\фото работа\0724.jpg"/>
          <p:cNvPicPr/>
          <p:nvPr/>
        </p:nvPicPr>
        <p:blipFill>
          <a:blip r:embed="rId1"/>
          <a:stretch/>
        </p:blipFill>
        <p:spPr>
          <a:xfrm>
            <a:off x="2000160" y="357120"/>
            <a:ext cx="53676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4643280"/>
            <a:ext cx="827892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a85ff"/>
                </a:solidFill>
                <a:latin typeface="Tahoma"/>
              </a:rPr>
              <a:t>Ж</a:t>
            </a: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ЕСТОКОЕ  ОБРАЩЕНИЕ  С  ДЕТЬМИ,  ПРЕНЕБРЕЖЕНИЕ  ИХ ИНТЕРЕСАМИ, НЕ  ТОЛЬКО  НАНОСИТ  НЕПОПРАВИМЫЙ  ВРЕД ЗДОРОВЬЮ,  НО  И  ВЛЕЧЕТ  ЗА  СОБОЙ  ТЯЖЕЛЫЕ СОЦИАЛЬНЫЕ  ПОСЛЕДСТВИЯ. </a:t>
            </a:r>
            <a:br>
              <a:rPr sz="18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14680" y="428760"/>
            <a:ext cx="57862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0080" y="2357280"/>
            <a:ext cx="7429680" cy="20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Различают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4 основные формы 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жестокого 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бращения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с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детьми 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и пренебрежения их интересами:</a:t>
            </a:r>
            <a:br>
              <a:rPr sz="2400"/>
            </a:b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физическое,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ексуальное (развращение),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психическое (эмоциональное) насилие,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пренебрежение основными нуждами ребёнка (моральная жестокость).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Физическое насил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714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5cadff"/>
                </a:solidFill>
                <a:latin typeface="Tahoma"/>
              </a:rPr>
              <a:t>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шленное нанесение ребенку телесных повреждений, а также любое  использование физической силы (причинение боли, лишение свободы, понуждение к употреблению психоактивных веществ и др.), в результате чего причиняется вред его физическому или психическому здоровью, нарушается нормальное развитие или создается реальный риск для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изическое насилие может проявляться в форме бездействия, когда ребенок умышленно оставляется в опасной или неблагоприятной обстанов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Сексуальное насил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5cadff"/>
                </a:solidFill>
                <a:latin typeface="Tahoma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влечени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бенк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зрослы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ершение действи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ксуальног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рактер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ощью насилия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роз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те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лоупотребления доверие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с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ользование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спомощного состояния)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чинил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ред его физическому ил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сихическом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доровью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либ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ило психосексуально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ти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бенка.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Психическое  (эмоциональное) насили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5cadff"/>
                </a:solidFill>
                <a:latin typeface="Tahoma"/>
              </a:rPr>
              <a:t>П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риодические или постоянные оскорбления и унижения ребенка, высказывание в его адрес угроз, демонстрация негативного отношения к нему или отвержение, которые приводят к возникновению устойчивых эмоциональных или поведенческих наруше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сихическим насилием будет также однократное воздействие тяжелой психической травмы, приведшее к возникновению посттравматического стрессового расстройства; а также случаи повторного воздействия менее тяжелых психических травм, в результате чего возникает расстройство адапт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ahoma"/>
              </a:rPr>
              <a:t>Пренебрежение основными потребностями ребенк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93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5cadff"/>
                </a:solidFill>
                <a:latin typeface="Tahoma"/>
              </a:rPr>
              <a:t>П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оянно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ериодическое неисполнени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дителям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цами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х заменяющими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ои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язанносте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 удовлетворению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требност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бенк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азвити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боте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щ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е, медицинско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ощ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зопасности, приводяще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худшению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ояния здоровь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бенка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ению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го развития ил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чению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ав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60104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Физическое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насилие – одна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из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амых распространенных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форм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насилия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над детьми. 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Наиболее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часто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физическое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насилие осуществляется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под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видом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физических наказаний. 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Различие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между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физическим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насилием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и физическим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наказанием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уществует, скорее, в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общественном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ознании,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чем в реальной жизни.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428400"/>
            <a:ext cx="7818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В 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 России  насилие  в  семье приводит  к  тому,  что ежегодно  на  100  тысяч увеличивается  количество социальных  сирот  и  армия  беспризорных  и  безнадзорных детей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7120" y="1928520"/>
            <a:ext cx="8229600" cy="4357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2f2"/>
                </a:solidFill>
                <a:latin typeface="Tahoma"/>
              </a:rPr>
              <a:t>По данным российской статисти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оло  2  миллионов  детей  в  возрасте  до  14  лет  ежегодно избиваются  родител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ее  50  тысяч  детей  ежегодно  убегают  из  дома,  спасаясь от  жестокого  обращения  в  семь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5  тысяч  из  них  находятся  в  розыс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оло  2  тысяч  детей  ежегодно  сводят  счеты  с  жизнь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ее  50 %  преступлений  в  быту  совершается  в присутствии  детей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0 - 40 %  всех  тяжелых  насильственных  преступлений  в России  совершается  в  семь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3:08:01Z</dcterms:created>
  <dc:creator>Melhior</dc:creator>
  <dc:description/>
  <dc:language>en-US</dc:language>
  <cp:lastModifiedBy>Парандий Светлана Павловна</cp:lastModifiedBy>
  <dcterms:modified xsi:type="dcterms:W3CDTF">2017-01-31T10:42:05Z</dcterms:modified>
  <cp:revision>96</cp:revision>
  <dc:subject/>
  <dc:title>Слайд 1</dc:title>
</cp:coreProperties>
</file>