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573F-8260-45CA-A0D4-E053C077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9CFE-F3CE-41F6-B011-C60C9A2A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C8D-5B05-43D7-A7DE-6BE1B0852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1E58-06E4-4F38-99C9-F4A7C49F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187-AA7B-4DD3-B581-FE934480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4A4-5C32-442E-8D9C-9CE69D8C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A9C-A0AD-4164-8BB4-23CCB28C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DF6-B52E-4D93-88E9-227B2A66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EC9C-7681-4694-A8F6-A1066F60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EF9F-EF05-4211-8FD2-B863E99F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AEBE-D141-477A-B002-A126809F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560A-E2A2-4827-BD95-E5886742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C174-4B6E-4DBE-8DC2-3697924EB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ff00"/>
                </a:solidFill>
                <a:uFillTx/>
                <a:latin typeface="Times New Roman"/>
              </a:rPr>
              <a:t>Лекция № </a:t>
            </a: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Times New Roman"/>
              </a:rPr>
              <a:t>Основы физиологии вышей нервной деятельности. Рефлекторная деятельность мозга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Arial"/>
              </a:rPr>
              <a:t>Разновидности условных рефлексов (начало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871380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Схемы совпадающих, отставленных, запаздывающих и следовых условных рефлек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Последовательности рефлекторных реакц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Инстинкт – сложная последовательность цепных безусловных рефлексов, где окончание одной безусловнорефлекторной реакции служит стимулом для запуска следующей (БР1-БР2-БР3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Динамический стереотип - сложная последовательность цепных условных рефлексов, где окончание одной условнорефлекторной реакции служит стимулом для запуска следующе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(УР1-УР2-УР3…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ИМПРИНТИНГ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писан Карлом Лоуренцем при изучении поведения птенцов выводковых птиц (цыпля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-видимому, импринтинг представляет собой переходную форму элементарной поведенческой реакции между классическим безусловным и условным рефлекс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равила выработки условных рефлекс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о изоляции: во время выработки условного рефлекса посторонние раздражители должны отсутств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о работоспособности: в момент выработки условного рефлекса ЦНС (и головной мозг в частности) должны находится в нормальном («деятельном» по И.П. Павлову) функциональном состоя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о мотивационного подкрепления: наличие положительной мотивации (заинтересованности) облегчает выработку условных рефлек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о сочетания сигнального раздражителя с индифферентным: условнорефлекторный (сигнальный) стимул должен предшествовать безусловнорефлектор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о индифферентности сигнального раздражителя: условнорефлекторный стимул должен обладать меньшей биологической значимостью, чем безусловнорефлекто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силы: сигнальный стимул должен быть оптимальным по своей интенсивности (не слишком сильным, но и не слишком слабым), в этом случае пропорционально увеличению силы сигнального стимула ускоряется образование условного рефл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о подкрепления: любой условнорефлекторный процесс должен подкрепляться (возможно как положительное подкрепление, так и отрицательно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ffff00"/>
                </a:solidFill>
                <a:uFillTx/>
                <a:latin typeface="Arial"/>
              </a:rPr>
              <a:t>Схема экспериментальной камеры для выработки условных рефлексов (по И.П. Павлову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Торможение в коре больших полушарий (системный подход и его критерии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ff33"/>
                </a:solidFill>
                <a:latin typeface="Arial"/>
              </a:rPr>
              <a:t>1. Безусловное (внешнее) торм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постоянный торм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гаснущий торм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запредельное (охранительн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66ff33"/>
                </a:solidFill>
                <a:latin typeface="Arial"/>
              </a:rPr>
              <a:t>2. Условное (внутреннее) торм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угас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дифференцировоч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условный торм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- запаздыв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Функции торможения в нервной системе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- координационная (координирует как процессы возбуждения и торможения, так и протекание рефлекторных реакций оптимальным образом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хранительная (предотвращает перевозбуждение и гибель нейронов вследствие избыточной деполяризации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сстановительная (способствует сохранению гомеостаза ЦНС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Фазовые переходные явления в больших полушар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и переходе от возбуждения к торможению или наоборот (например, от бодрствования ко сну или от сна к бодрствованию) могут наблюдаться фазовые или переходные процессы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66ff33"/>
                </a:solidFill>
                <a:latin typeface="Arial"/>
              </a:rPr>
              <a:t>1)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66ff33"/>
                </a:solidFill>
                <a:latin typeface="Arial"/>
              </a:rPr>
              <a:t>Уравнительная фаз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явление когда на сильные и слабые стимулы возникают ответные реакции одинаковой выраженности (например, различные условные раздражения вызывают условные рефлексы одинаковой силы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66ff33"/>
                </a:solidFill>
                <a:latin typeface="Arial"/>
              </a:rPr>
              <a:t>2) Парадоксальная фаза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явление когда на сильный стимул ответная реакция отсутствует или снижена, а на слабый наоборот повышена (например, сильный условный раздражитель вызывает ослабленный условный рефлекс, а слабый раздражитель – усиленный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66ff33"/>
                </a:solidFill>
                <a:latin typeface="Arial"/>
              </a:rPr>
              <a:t>3) Ультрапарадоксальная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, явление когда отрицательный раздражитель вызывает положительный условный рефлекс, а положительный - отрицательный рефлекс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Высшей нервной деятельностью (ВНД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зывают совместную рефлекторную деятельность коры больших полушарий и подкорковых структур, обеспечивающей сложные отношения организма как единого целого с внешней сред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сновная задача,  стоящая перед учением о ВНД,  заключается в изучении закономерностей и механизмов работы головного мозга и прежде всего его высших отде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Движение и взаимоотношение нервных процессов в больших полушариях головного мозг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1. Индукц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явление когда один тип нервных процессов вызывает другой, прямо противоположн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центральная и перифе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положительная и отрицате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2. Иррадиац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распространение процесса возбуждения и/или торможения от одного нейрона к другому, от одной структуры к другой и от одного отдела ЦНС к другом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направленная и ненаправл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3. Концентрация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локализация процесса возбуждения и/или торм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Критерии нервной деятельности</a:t>
            </a:r>
            <a:br>
              <a:rPr sz="4000"/>
            </a:b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(классификация по И.П. Павлову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Тип нервной деятельности определяется по трем основным признака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) сила процессов возбуждения и тормож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) уравновешенность процессов возбуждения и тормож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) подвижность (т.е. скорость формирования или перестройки условных рефлексов и\или динамических стереотипов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Разновидности типов ВНД по И.П. Павлову (и темпераментов по Гиппократу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Возрастные аспекты больших полушарий головного мозг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В онтогенезе раньше формируются условные рефлексы на интероцептивные стимулы, с 6-7 дня возникают рефлексы на время корм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В конце 2 недели возникает условный рефлекс на положение тела при корм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С конца 3 месяца формируются условные рефлексы на раздражение сенсорных систем (внешний вид матери, тембр ее голо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Безусловное торможение формируется раньше, в возрасте 3-4 месяцев проявляется дифференцировочное торм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В возрасте от 1 года до 3 лет бурно формируется исследовательское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В возрасте 5-7 лет сила и подвижность нервных процессов возраст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днако в целом сила нервных процессов ослаблена (в особенности торможения) по сравнению со взросл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Следующий этап препубертатный и пубертатный период (11-13 и 13-15 лет у девочек и 13-15 и 15-17 лет у мальчиков). Возбуждение и торможение неуравновешенны, торможение ослаблено. Эмоциональность повышена, психика неуравновешенна, присутствует негативизм, обидчивость. Проявляются иерархические рефлексы и рефлексы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Исторические предпосыл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учения о ВН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нцип рефлексии Р. Дек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едставления о рефлексе Прохаз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зусловнорефлекторная теория И.М. Сече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ткрытие условных рефлексов и формулировка принципов рефлекторной теории И.П. Павлов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ы теории нервизма С.П. Ботк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временная синтетическая теория ВН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Учения о ВНД имеет важное значение для развития современно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и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едици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сих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едагог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Формы приспособительной деятельности животных и человек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лежащие в основе ВНД и поведе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Безусловный реф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словный рефлек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мпринтин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стин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инамический стереоти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сновные свойства безусловного рефлек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рожденный (генетически детерминирован), а следовательно не требует обуч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сутствует у всех особей данного вида (видоспецифичный), а во многих случаях надвидов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тойкий (не появляется без причины и не исчезает, в случае если в нем нет необходимости), в некоторых случаях возможно торможение рефлекторной дуг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ое назначение – адаптация вида к особенностям его морфологической и поведенческой организации, а также к условиям окружающей среды в которых обычно обитает данный ви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Разновидности безусловных рефлекс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640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Основные свойства условного рефлек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Формируется только на базе безусловного или другого условного рефлекса (т.е. не является автономны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 является врожденным (генетически недетерминирован), а следовательно требует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дивидуален (каждая особь обладает своим уникальным набором условных рефлек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стойкий (может появляться и исчезать или угасать, в случае если в нем нет необходимо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ое назначение – индивидуальная и притом гибкая адаптация особи к особенностям ее морфологической и поведенческой организации, а также к любым условиям окружающей среды в которых особь прожи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700" spc="-1" strike="noStrike" u="sng">
                <a:solidFill>
                  <a:srgbClr val="ffff00"/>
                </a:solidFill>
                <a:uFillTx/>
                <a:latin typeface="Arial"/>
              </a:rPr>
              <a:t>Разновидности условных рефлексов (начало)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78544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6:47:25Z</dcterms:created>
  <dc:creator>И.В. Филиппов</dc:creator>
  <dc:description/>
  <dc:language>en-US</dc:language>
  <cp:lastModifiedBy>И.В. Филиппов</cp:lastModifiedBy>
  <dcterms:modified xsi:type="dcterms:W3CDTF">2008-04-15T17:07:40Z</dcterms:modified>
  <cp:revision>12</cp:revision>
  <dc:subject>Основы физиологии ВНД. Рефлекторная деятельность мозга.</dc:subject>
  <dc:title>Лекция № 40</dc:title>
</cp:coreProperties>
</file>