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3BEF-23EC-4539-ADA9-14B49F292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7CC6-51EB-45C7-B77D-72D80266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2A97-BA31-45A4-968A-914D71294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56F2-4F67-4F0A-9C03-300277BF9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BA85-C254-4921-971A-AE1DED483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675F5-2A49-46B3-90FC-FE16D2F6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ED0A-8C4A-4994-B0E9-B5C6F7A6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33F0A-75F7-4CAB-97E8-12324603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2ABF3-2569-4F2A-AEFD-978A2E5A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88E99-EE31-4647-9D82-26C5FA88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CF59-55E4-4524-B27F-5E390C92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2D89-5FD2-4179-BF52-5D3B7428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0B71-1E36-48DD-977F-D2EC9637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18E74-AF9B-4617-8864-B4F1B897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E7166-B00D-4802-9FD3-81B4D292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2EA8-A387-4669-8951-7990297B2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D1FD-5A35-41D9-BB3A-8512908D6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233C-1E8A-4483-847D-ED003E59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7AA6-BC2D-4F57-ACF2-60D08E53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AD4D-26F1-44C8-A876-5FB786EB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A7BE-B608-4818-AC40-53AC5581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DFF2-9FBE-4CE0-B9ED-DBAD1B8E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DD9A-1ABD-438E-B728-D50C5658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DDCC-8980-4FD1-B09E-24688355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94EF-67AD-45F7-BEB5-20B0A52EF70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10B0-4FAE-4C18-92BE-2FD06FE1156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Загрязнение вод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68200" y="248760"/>
            <a:ext cx="794376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Основные источники загрязнения вод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жегодно в океан попадает огромное количество нефти и нефтепродуктов, отходов различных промышленных предприятий, сточные воды с полей и ферм, бытовые отходы, содержащие ядовитые вещества, твердый мусор. От нефтяных пятен гибнут птицы, рыба, нарушается газообм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4778280" y="1909800"/>
            <a:ext cx="370692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076720" y="1557000"/>
            <a:ext cx="36007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ластмассовые отходы - бутылки, банки, сети -тоже серьезная опасность. В 1972 году в Бразилии было обнаружено 30 мертвых китов. Причиной их смерти явилась полиэтиленовая пленка. Вместе с водой она попала в дыхательные пути ки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968400" y="1838160"/>
            <a:ext cx="4056120" cy="27799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7"/>
          <p:cNvSpPr/>
          <p:nvPr/>
        </p:nvSpPr>
        <p:spPr>
          <a:xfrm>
            <a:off x="1187280" y="4869000"/>
            <a:ext cx="35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ая грязная в мире река (Индонез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бытовые отходы</a:t>
            </a: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00360" y="1413000"/>
            <a:ext cx="41749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чительным источнико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грязнения является нефтяная промышлен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жегодно 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кеан попадает огромное количество нефти и нефтепродуктов. От нефтяных пятен гибнут птицы, нарушается газообмен, гибнет ры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1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3763800" cy="42498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нефтепродукты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ru-RU" sz="4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химические вещест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374472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маловажным источником загрязнения являются пестициды, которые попадают в водоемы с дождевыми и талыми водами с поверхности почвы. При обработке полей препараты сносятся потоками воздуха и осаждаются на поверхности водое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tretch/>
        </p:blipFill>
        <p:spPr>
          <a:xfrm>
            <a:off x="4067280" y="1771560"/>
            <a:ext cx="4460760" cy="31892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8"/>
          <p:cNvSpPr/>
          <p:nvPr/>
        </p:nvSpPr>
        <p:spPr>
          <a:xfrm>
            <a:off x="4140360" y="5157000"/>
            <a:ext cx="41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ыление пестицидов над пол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•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ядовитые отход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3710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 сожалению, Мировой океан постепенно становится главным заложником технических «побед». Не умея как следует использовать его ресурсы, мы уже успели основательно загадить когда-  то чистые воды. По данным всемирной организации «Объединенная программа защиты окружающей среды» человечество «производит» 20 миллиардов тонн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ходов, и 85% из них сбрасывается в водные бассейны. Почти вся эта грязь остается в прибрежных акваториях, становясь причиной больших и малых экологических бедств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7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3851280" y="1844640"/>
            <a:ext cx="4683240" cy="3252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0" y="77760"/>
          <a:ext cx="208080" cy="578664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578664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Rectangle 16"/>
          <p:cNvSpPr/>
          <p:nvPr/>
        </p:nvSpPr>
        <p:spPr>
          <a:xfrm>
            <a:off x="1800" y="58640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4572720" y="5229360"/>
            <a:ext cx="31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сфатный завод (Афри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4200" spc="-1" strike="noStrike">
                <a:solidFill>
                  <a:srgbClr val="ffffff"/>
                </a:solidFill>
                <a:latin typeface="Times New Roman"/>
              </a:rPr>
              <a:t>Зараженная  вода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640" y="1626840"/>
            <a:ext cx="402264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1983 г. Всемирная организация здравоохранения (ВОЗ) подсчитала, что 61% сельского и 26% городского населения развивающихся стран, т.е. 1,5 млрд. человек, используют грязную воду. Ежегодно от холеры, дизентерии и др. заболеваний, передающихся через воду, умирает около 5 млн. человек (в среднем 13700 чел. в ден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5032440" y="1557360"/>
            <a:ext cx="3060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13:30:08Z</dcterms:created>
  <dc:creator>USER</dc:creator>
  <dc:description/>
  <dc:language>en-US</dc:language>
  <cp:lastModifiedBy>Valerii</cp:lastModifiedBy>
  <dcterms:modified xsi:type="dcterms:W3CDTF">2016-05-15T19:26:31Z</dcterms:modified>
  <cp:revision>11</cp:revision>
  <dc:subject/>
  <dc:title>Загрязнение воды</dc:title>
</cp:coreProperties>
</file>