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307-D613-4228-9534-D72CA658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8216-A78C-468D-B2B0-4B57A95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2A0-1E82-41C3-97F3-59473D164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5718-1057-4A34-AEE6-5BBBE660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33E33-B774-4C86-91FA-466ED8F08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48DA-CB9D-449D-BA94-43734CEB1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1406-031D-4934-9582-539D1A6D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AB9EE-6072-47B6-B03D-43785E5F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D8E7-F8EB-4CD5-9104-564BF8E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3714-B374-4553-88D2-1F65AA92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18DC5-408F-4A56-9C9D-D4FF699A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CF28-71FB-481C-AE02-949DB126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9A3E-9125-4CAF-B766-6601B8CC1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571D-E2DC-4C3D-8DDB-C465BA37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73BF-DA13-426E-B218-B272A088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06DD-734C-4CF9-A9F5-CFAA97D38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1327A-E127-48A7-85DE-88C0854A3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0C28A-692B-419A-B262-05134D33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AC9E2-7B6A-4597-9405-A39D6F8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B1BF-9A70-4ADF-B66D-284B4FA7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0A9CF-E925-4142-A394-9F3B763B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143F6-4303-491D-83F6-C281B2A3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73A4-7AB7-47CE-9882-90499F13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63A3A-CF96-4536-B8E6-2E0D2299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98CDD8-FDAC-451A-B612-88BFD9F9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A0B65-8A87-4B3D-BCB2-97AD1B38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2BEB1-DECB-4DF8-B16C-D566C3C5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AFF9D2-BA35-4854-B3D3-59B5404C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9EE22-7363-4354-A125-8C0EDF59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7D89B-82E9-422D-B126-5E80BA44F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ABA-864B-43B8-B5DC-D8FEC78F3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C18D-5AC9-4066-9118-454CFA00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C777-5784-4654-B9D1-827A6359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811-BE49-487F-B243-E888A7C8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8245-F02F-4FF7-AC42-3BB32046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3E9-E051-4134-BD8B-11B74E23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355DF-D32D-404D-9608-6E77F6F9A5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FDDC-87A1-455C-991C-02E568BF09C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92F2-E7D3-4B02-8A27-DA5B7651C54F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286000" y="36180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ные 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61960" y="1181160"/>
            <a:ext cx="6962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560" y="963720"/>
            <a:ext cx="779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ирамидальная  поверх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линейчатая поверхность, образованная перемещением прямой линии, проходящей через фиксированную точ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ершину), по ломанной направляющей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60640" y="3048120"/>
            <a:ext cx="2352600" cy="479160"/>
          </a:xfrm>
          <a:custGeom>
            <a:avLst/>
            <a:gdLst/>
            <a:ahLst/>
            <a:rect l="l" t="t" r="r" b="b"/>
            <a:pathLst>
              <a:path w="1482" h="302">
                <a:moveTo>
                  <a:pt x="0" y="0"/>
                </a:moveTo>
                <a:lnTo>
                  <a:pt x="494" y="302"/>
                </a:lnTo>
                <a:lnTo>
                  <a:pt x="915" y="302"/>
                </a:lnTo>
                <a:lnTo>
                  <a:pt x="1482" y="15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914400" y="1974960"/>
            <a:ext cx="1890720" cy="12333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842840" y="1917720"/>
            <a:ext cx="857160" cy="18414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27280" y="1887480"/>
            <a:ext cx="0" cy="184320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13160" y="1930320"/>
            <a:ext cx="1085760" cy="14907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70040" y="2048040"/>
            <a:ext cx="114480" cy="1141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714760" y="189072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6440" y="375912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Arial"/>
              </a:rPr>
              <a:t>Призматическая поверхн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линейчатая поверхность, образованная перемещением прямой линии по ломанной направляющей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движущейся параллельно некоторому заданному направлению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62160" y="5778360"/>
            <a:ext cx="2352600" cy="479520"/>
          </a:xfrm>
          <a:custGeom>
            <a:avLst/>
            <a:gdLst/>
            <a:ahLst/>
            <a:rect l="l" t="t" r="r" b="b"/>
            <a:pathLst>
              <a:path w="1482" h="302">
                <a:moveTo>
                  <a:pt x="0" y="0"/>
                </a:moveTo>
                <a:lnTo>
                  <a:pt x="494" y="302"/>
                </a:lnTo>
                <a:lnTo>
                  <a:pt x="915" y="302"/>
                </a:lnTo>
                <a:lnTo>
                  <a:pt x="1482" y="155"/>
                </a:lnTo>
              </a:path>
            </a:pathLst>
          </a:custGeom>
          <a:noFill/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096920" y="5041800"/>
            <a:ext cx="617760" cy="10540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908000" y="5486400"/>
            <a:ext cx="581040" cy="99072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589120" y="5486400"/>
            <a:ext cx="573120" cy="9777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3280" y="5270040"/>
            <a:ext cx="565200" cy="96516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49160" y="5181480"/>
            <a:ext cx="495360" cy="792000"/>
            <a:chOff x="749160" y="5181480"/>
            <a:chExt cx="495360" cy="792000"/>
          </a:xfrm>
        </p:grpSpPr>
        <p:grpSp>
          <p:nvGrpSpPr>
            <p:cNvPr id="166" name=""/>
            <p:cNvGrpSpPr/>
            <p:nvPr/>
          </p:nvGrpSpPr>
          <p:grpSpPr>
            <a:xfrm>
              <a:off x="787320" y="5181480"/>
              <a:ext cx="457200" cy="792000"/>
              <a:chOff x="787320" y="5181480"/>
              <a:chExt cx="457200" cy="79200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787320" y="5181480"/>
                <a:ext cx="457200" cy="79200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044360" y="5184720"/>
                <a:ext cx="200160" cy="269640"/>
              </a:xfrm>
              <a:custGeom>
                <a:avLst/>
                <a:gdLst/>
                <a:ahLst/>
                <a:rect l="l" t="t" r="r" b="b"/>
                <a:pathLst>
                  <a:path w="126" h="170">
                    <a:moveTo>
                      <a:pt x="6" y="150"/>
                    </a:moveTo>
                    <a:lnTo>
                      <a:pt x="126" y="0"/>
                    </a:lnTo>
                    <a:lnTo>
                      <a:pt x="54" y="170"/>
                    </a:lnTo>
                    <a:cubicBezTo>
                      <a:pt x="45" y="109"/>
                      <a:pt x="14" y="153"/>
                      <a:pt x="0" y="148"/>
                    </a:cubicBezTo>
                  </a:path>
                </a:pathLst>
              </a:custGeom>
              <a:solidFill>
                <a:srgbClr val="cc3300"/>
              </a:solidFill>
              <a:ln w="28440">
                <a:solidFill>
                  <a:srgbClr val="cc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49160" y="52704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62240" y="328932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82880" y="608328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33676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22360" y="5295960"/>
            <a:ext cx="6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108160"/>
            <a:ext cx="325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,m)[ S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, l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216320" y="5054760"/>
            <a:ext cx="3251160" cy="368280"/>
            <a:chOff x="4216320" y="5054760"/>
            <a:chExt cx="3251160" cy="368280"/>
          </a:xfrm>
        </p:grpSpPr>
        <p:sp>
          <p:nvSpPr>
            <p:cNvPr id="176" name=""/>
            <p:cNvSpPr/>
            <p:nvPr/>
          </p:nvSpPr>
          <p:spPr>
            <a:xfrm>
              <a:off x="4216320" y="5054760"/>
              <a:ext cx="325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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l,m) [ l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|| s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, l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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]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97480" y="51436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"/>
          <p:cNvGrpSpPr/>
          <p:nvPr/>
        </p:nvGrpSpPr>
        <p:grpSpPr>
          <a:xfrm>
            <a:off x="0" y="3098880"/>
            <a:ext cx="3632040" cy="2768400"/>
            <a:chOff x="0" y="3098880"/>
            <a:chExt cx="3632040" cy="2768400"/>
          </a:xfrm>
        </p:grpSpPr>
        <p:grpSp>
          <p:nvGrpSpPr>
            <p:cNvPr id="431" name=""/>
            <p:cNvGrpSpPr/>
            <p:nvPr/>
          </p:nvGrpSpPr>
          <p:grpSpPr>
            <a:xfrm>
              <a:off x="139680" y="3200400"/>
              <a:ext cx="3492360" cy="2666880"/>
              <a:chOff x="139680" y="3200400"/>
              <a:chExt cx="3492360" cy="2666880"/>
            </a:xfrm>
          </p:grpSpPr>
          <p:sp>
            <p:nvSpPr>
              <p:cNvPr id="432" name=""/>
              <p:cNvSpPr/>
              <p:nvPr/>
            </p:nvSpPr>
            <p:spPr>
              <a:xfrm>
                <a:off x="355680" y="3200400"/>
                <a:ext cx="2793960" cy="26668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39680" y="4559040"/>
                <a:ext cx="3492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092240" y="3898800"/>
                <a:ext cx="1320840" cy="132084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11360" y="3517560"/>
                <a:ext cx="2082600" cy="20829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425680" y="4559040"/>
                <a:ext cx="6984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>
              <a:off x="0" y="3098880"/>
              <a:ext cx="3505320" cy="109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0880" y="4132440"/>
              <a:ext cx="774720" cy="88560"/>
            </a:xfrm>
            <a:custGeom>
              <a:avLst/>
              <a:gdLst/>
              <a:ahLst/>
              <a:rect l="l" t="t" r="r" b="b"/>
              <a:pathLst>
                <a:path w="488" h="56">
                  <a:moveTo>
                    <a:pt x="0" y="53"/>
                  </a:moveTo>
                  <a:cubicBezTo>
                    <a:pt x="46" y="31"/>
                    <a:pt x="92" y="10"/>
                    <a:pt x="128" y="5"/>
                  </a:cubicBezTo>
                  <a:cubicBezTo>
                    <a:pt x="164" y="0"/>
                    <a:pt x="187" y="13"/>
                    <a:pt x="216" y="21"/>
                  </a:cubicBezTo>
                  <a:cubicBezTo>
                    <a:pt x="245" y="29"/>
                    <a:pt x="269" y="50"/>
                    <a:pt x="304" y="53"/>
                  </a:cubicBezTo>
                  <a:cubicBezTo>
                    <a:pt x="339" y="56"/>
                    <a:pt x="393" y="40"/>
                    <a:pt x="424" y="37"/>
                  </a:cubicBezTo>
                  <a:cubicBezTo>
                    <a:pt x="455" y="34"/>
                    <a:pt x="472" y="34"/>
                    <a:pt x="488" y="3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298600" y="4125960"/>
              <a:ext cx="800280" cy="90360"/>
            </a:xfrm>
            <a:custGeom>
              <a:avLst/>
              <a:gdLst/>
              <a:ahLst/>
              <a:rect l="l" t="t" r="r" b="b"/>
              <a:pathLst>
                <a:path w="504" h="57">
                  <a:moveTo>
                    <a:pt x="0" y="57"/>
                  </a:moveTo>
                  <a:cubicBezTo>
                    <a:pt x="46" y="38"/>
                    <a:pt x="92" y="20"/>
                    <a:pt x="120" y="17"/>
                  </a:cubicBezTo>
                  <a:cubicBezTo>
                    <a:pt x="148" y="14"/>
                    <a:pt x="140" y="37"/>
                    <a:pt x="168" y="41"/>
                  </a:cubicBezTo>
                  <a:cubicBezTo>
                    <a:pt x="196" y="45"/>
                    <a:pt x="255" y="48"/>
                    <a:pt x="288" y="41"/>
                  </a:cubicBezTo>
                  <a:cubicBezTo>
                    <a:pt x="321" y="34"/>
                    <a:pt x="340" y="2"/>
                    <a:pt x="368" y="1"/>
                  </a:cubicBezTo>
                  <a:cubicBezTo>
                    <a:pt x="396" y="0"/>
                    <a:pt x="433" y="25"/>
                    <a:pt x="456" y="33"/>
                  </a:cubicBezTo>
                  <a:cubicBezTo>
                    <a:pt x="479" y="41"/>
                    <a:pt x="491" y="45"/>
                    <a:pt x="504" y="4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638360" y="2311560"/>
            <a:ext cx="2793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314880" y="1193760"/>
            <a:ext cx="44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392040" y="1236600"/>
            <a:ext cx="2727360" cy="1596960"/>
            <a:chOff x="392040" y="1236600"/>
            <a:chExt cx="2727360" cy="1596960"/>
          </a:xfrm>
        </p:grpSpPr>
        <p:sp>
          <p:nvSpPr>
            <p:cNvPr id="443" name=""/>
            <p:cNvSpPr/>
            <p:nvPr/>
          </p:nvSpPr>
          <p:spPr>
            <a:xfrm>
              <a:off x="392040" y="1236600"/>
              <a:ext cx="2727360" cy="1596960"/>
            </a:xfrm>
            <a:prstGeom prst="ellipse">
              <a:avLst/>
            </a:prstGeom>
            <a:gradFill rotWithShape="0">
              <a:gsLst>
                <a:gs pos="0">
                  <a:srgbClr val="153235"/>
                </a:gs>
                <a:gs pos="50000">
                  <a:srgbClr val="2f6e73"/>
                </a:gs>
                <a:gs pos="100000">
                  <a:srgbClr val="153235"/>
                </a:gs>
              </a:gsLst>
              <a:lin ang="10800000"/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101600" y="1715760"/>
              <a:ext cx="1308240" cy="60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23960" y="1454040"/>
              <a:ext cx="2031840" cy="11048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2405160" y="1673280"/>
            <a:ext cx="733320" cy="69516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332080" y="1546200"/>
            <a:ext cx="900000" cy="973080"/>
            <a:chOff x="2332080" y="1546200"/>
            <a:chExt cx="900000" cy="973080"/>
          </a:xfrm>
        </p:grpSpPr>
        <p:sp>
          <p:nvSpPr>
            <p:cNvPr id="448" name=""/>
            <p:cNvSpPr/>
            <p:nvPr/>
          </p:nvSpPr>
          <p:spPr>
            <a:xfrm>
              <a:off x="2781360" y="1546200"/>
              <a:ext cx="0" cy="973080"/>
            </a:xfrm>
            <a:prstGeom prst="line">
              <a:avLst/>
            </a:prstGeom>
            <a:ln w="936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32080" y="2030040"/>
              <a:ext cx="90000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 flipV="1">
            <a:off x="1757520" y="732960"/>
            <a:ext cx="0" cy="2205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552680" y="642960"/>
            <a:ext cx="523800" cy="333360"/>
          </a:xfrm>
          <a:custGeom>
            <a:avLst/>
            <a:gdLst>
              <a:gd name="textAreaLeft" fmla="*/ 70200 w 523800"/>
              <a:gd name="textAreaRight" fmla="*/ 453600 w 523800"/>
              <a:gd name="textAreaTop" fmla="*/ 58320 h 333360"/>
              <a:gd name="textAreaBottom" fmla="*/ 2419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1440" y="487440"/>
            <a:ext cx="3477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793960" y="926640"/>
            <a:ext cx="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752480" y="1066680"/>
            <a:ext cx="1028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146320" y="74916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2781360" y="1510920"/>
            <a:ext cx="888840" cy="495360"/>
            <a:chOff x="2781360" y="1510920"/>
            <a:chExt cx="888840" cy="495360"/>
          </a:xfrm>
        </p:grpSpPr>
        <p:sp>
          <p:nvSpPr>
            <p:cNvPr id="457" name=""/>
            <p:cNvSpPr/>
            <p:nvPr/>
          </p:nvSpPr>
          <p:spPr>
            <a:xfrm flipV="1">
              <a:off x="2781360" y="1752480"/>
              <a:ext cx="26676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3060720" y="1510920"/>
              <a:ext cx="21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276720" y="151128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1708200" y="194940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241200" y="2933640"/>
            <a:ext cx="3035520" cy="851040"/>
            <a:chOff x="241200" y="2933640"/>
            <a:chExt cx="3035520" cy="851040"/>
          </a:xfrm>
        </p:grpSpPr>
        <p:grpSp>
          <p:nvGrpSpPr>
            <p:cNvPr id="462" name=""/>
            <p:cNvGrpSpPr/>
            <p:nvPr/>
          </p:nvGrpSpPr>
          <p:grpSpPr>
            <a:xfrm>
              <a:off x="2336760" y="2933640"/>
              <a:ext cx="939960" cy="851040"/>
              <a:chOff x="2336760" y="2933640"/>
              <a:chExt cx="939960" cy="851040"/>
            </a:xfrm>
          </p:grpSpPr>
          <p:sp>
            <p:nvSpPr>
              <p:cNvPr id="463" name=""/>
              <p:cNvSpPr/>
              <p:nvPr/>
            </p:nvSpPr>
            <p:spPr>
              <a:xfrm>
                <a:off x="2336760" y="3352680"/>
                <a:ext cx="939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2806560" y="2933640"/>
                <a:ext cx="0" cy="85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241200" y="2933640"/>
              <a:ext cx="2922840" cy="851040"/>
              <a:chOff x="241200" y="2933640"/>
              <a:chExt cx="2922840" cy="851040"/>
            </a:xfrm>
          </p:grpSpPr>
          <p:sp>
            <p:nvSpPr>
              <p:cNvPr id="466" name=""/>
              <p:cNvSpPr/>
              <p:nvPr/>
            </p:nvSpPr>
            <p:spPr>
              <a:xfrm>
                <a:off x="360360" y="3006720"/>
                <a:ext cx="733320" cy="69516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241200" y="2933640"/>
                <a:ext cx="2922840" cy="851040"/>
                <a:chOff x="241200" y="2933640"/>
                <a:chExt cx="2922840" cy="8510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2430360" y="3006720"/>
                  <a:ext cx="733680" cy="69516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 flipH="1">
                  <a:off x="723960" y="2997360"/>
                  <a:ext cx="2070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98400" y="3708360"/>
                  <a:ext cx="2121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1" name=""/>
                <p:cNvGrpSpPr/>
                <p:nvPr/>
              </p:nvGrpSpPr>
              <p:grpSpPr>
                <a:xfrm>
                  <a:off x="241200" y="2933640"/>
                  <a:ext cx="939960" cy="851040"/>
                  <a:chOff x="241200" y="2933640"/>
                  <a:chExt cx="939960" cy="851040"/>
                </a:xfrm>
              </p:grpSpPr>
              <p:sp>
                <p:nvSpPr>
                  <p:cNvPr id="472" name=""/>
                  <p:cNvSpPr/>
                  <p:nvPr/>
                </p:nvSpPr>
                <p:spPr>
                  <a:xfrm>
                    <a:off x="241200" y="3352680"/>
                    <a:ext cx="9399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"/>
                  <p:cNvSpPr/>
                  <p:nvPr/>
                </p:nvSpPr>
                <p:spPr>
                  <a:xfrm>
                    <a:off x="711000" y="2933640"/>
                    <a:ext cx="0" cy="851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4" name=""/>
                <p:cNvSpPr/>
                <p:nvPr/>
              </p:nvSpPr>
              <p:spPr>
                <a:xfrm>
                  <a:off x="1054080" y="3352680"/>
                  <a:ext cx="1549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5" name=""/>
          <p:cNvSpPr/>
          <p:nvPr/>
        </p:nvSpPr>
        <p:spPr>
          <a:xfrm>
            <a:off x="1752480" y="2895480"/>
            <a:ext cx="0" cy="38736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181480" y="1536840"/>
            <a:ext cx="838440" cy="8380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5067360" y="1447920"/>
            <a:ext cx="1041120" cy="965160"/>
            <a:chOff x="5067360" y="1447920"/>
            <a:chExt cx="1041120" cy="965160"/>
          </a:xfrm>
        </p:grpSpPr>
        <p:sp>
          <p:nvSpPr>
            <p:cNvPr id="478" name=""/>
            <p:cNvSpPr/>
            <p:nvPr/>
          </p:nvSpPr>
          <p:spPr>
            <a:xfrm>
              <a:off x="5067360" y="1955880"/>
              <a:ext cx="1041120" cy="0"/>
            </a:xfrm>
            <a:prstGeom prst="line">
              <a:avLst/>
            </a:prstGeom>
            <a:ln w="936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587920" y="1447920"/>
              <a:ext cx="0" cy="965160"/>
            </a:xfrm>
            <a:prstGeom prst="line">
              <a:avLst/>
            </a:prstGeom>
            <a:ln w="9360">
              <a:solidFill>
                <a:srgbClr val="ff33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4568760" y="1523880"/>
            <a:ext cx="1460520" cy="860400"/>
          </a:xfrm>
          <a:custGeom>
            <a:avLst/>
            <a:gdLst/>
            <a:ahLst/>
            <a:rect l="l" t="t" r="r" b="b"/>
            <a:pathLst>
              <a:path w="920" h="542">
                <a:moveTo>
                  <a:pt x="696" y="4"/>
                </a:moveTo>
                <a:lnTo>
                  <a:pt x="748" y="22"/>
                </a:lnTo>
                <a:cubicBezTo>
                  <a:pt x="767" y="31"/>
                  <a:pt x="787" y="42"/>
                  <a:pt x="808" y="60"/>
                </a:cubicBezTo>
                <a:cubicBezTo>
                  <a:pt x="829" y="78"/>
                  <a:pt x="857" y="105"/>
                  <a:pt x="874" y="132"/>
                </a:cubicBezTo>
                <a:cubicBezTo>
                  <a:pt x="891" y="159"/>
                  <a:pt x="906" y="201"/>
                  <a:pt x="912" y="224"/>
                </a:cubicBezTo>
                <a:cubicBezTo>
                  <a:pt x="918" y="247"/>
                  <a:pt x="920" y="259"/>
                  <a:pt x="920" y="276"/>
                </a:cubicBezTo>
                <a:cubicBezTo>
                  <a:pt x="920" y="293"/>
                  <a:pt x="914" y="307"/>
                  <a:pt x="910" y="328"/>
                </a:cubicBezTo>
                <a:cubicBezTo>
                  <a:pt x="906" y="349"/>
                  <a:pt x="897" y="374"/>
                  <a:pt x="886" y="396"/>
                </a:cubicBezTo>
                <a:cubicBezTo>
                  <a:pt x="875" y="418"/>
                  <a:pt x="873" y="432"/>
                  <a:pt x="850" y="452"/>
                </a:cubicBezTo>
                <a:cubicBezTo>
                  <a:pt x="836" y="468"/>
                  <a:pt x="827" y="480"/>
                  <a:pt x="812" y="492"/>
                </a:cubicBezTo>
                <a:cubicBezTo>
                  <a:pt x="797" y="504"/>
                  <a:pt x="777" y="515"/>
                  <a:pt x="758" y="522"/>
                </a:cubicBezTo>
                <a:cubicBezTo>
                  <a:pt x="742" y="528"/>
                  <a:pt x="722" y="533"/>
                  <a:pt x="700" y="536"/>
                </a:cubicBezTo>
                <a:cubicBezTo>
                  <a:pt x="678" y="539"/>
                  <a:pt x="700" y="542"/>
                  <a:pt x="628" y="542"/>
                </a:cubicBezTo>
                <a:lnTo>
                  <a:pt x="268" y="538"/>
                </a:lnTo>
                <a:lnTo>
                  <a:pt x="192" y="524"/>
                </a:lnTo>
                <a:cubicBezTo>
                  <a:pt x="168" y="516"/>
                  <a:pt x="143" y="501"/>
                  <a:pt x="124" y="488"/>
                </a:cubicBezTo>
                <a:cubicBezTo>
                  <a:pt x="105" y="475"/>
                  <a:pt x="91" y="461"/>
                  <a:pt x="76" y="446"/>
                </a:cubicBezTo>
                <a:cubicBezTo>
                  <a:pt x="50" y="426"/>
                  <a:pt x="47" y="412"/>
                  <a:pt x="36" y="396"/>
                </a:cubicBezTo>
                <a:cubicBezTo>
                  <a:pt x="25" y="375"/>
                  <a:pt x="18" y="370"/>
                  <a:pt x="12" y="350"/>
                </a:cubicBezTo>
                <a:cubicBezTo>
                  <a:pt x="6" y="330"/>
                  <a:pt x="0" y="304"/>
                  <a:pt x="0" y="276"/>
                </a:cubicBezTo>
                <a:cubicBezTo>
                  <a:pt x="1" y="253"/>
                  <a:pt x="4" y="209"/>
                  <a:pt x="12" y="182"/>
                </a:cubicBezTo>
                <a:cubicBezTo>
                  <a:pt x="20" y="155"/>
                  <a:pt x="30" y="136"/>
                  <a:pt x="48" y="112"/>
                </a:cubicBezTo>
                <a:cubicBezTo>
                  <a:pt x="64" y="90"/>
                  <a:pt x="97" y="58"/>
                  <a:pt x="122" y="40"/>
                </a:cubicBezTo>
                <a:cubicBezTo>
                  <a:pt x="144" y="24"/>
                  <a:pt x="176" y="14"/>
                  <a:pt x="202" y="6"/>
                </a:cubicBezTo>
                <a:lnTo>
                  <a:pt x="270" y="0"/>
                </a:lnTo>
                <a:lnTo>
                  <a:pt x="624" y="0"/>
                </a:lnTo>
                <a:lnTo>
                  <a:pt x="696" y="4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2f6e73"/>
              </a:gs>
            </a:gsLst>
            <a:lin ang="10800000"/>
          </a:gra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14800" y="1521000"/>
            <a:ext cx="557280" cy="120600"/>
          </a:xfrm>
          <a:custGeom>
            <a:avLst/>
            <a:gdLst/>
            <a:ahLst/>
            <a:rect l="l" t="t" r="r" b="b"/>
            <a:pathLst>
              <a:path w="351" h="76">
                <a:moveTo>
                  <a:pt x="0" y="0"/>
                </a:moveTo>
                <a:cubicBezTo>
                  <a:pt x="9" y="2"/>
                  <a:pt x="36" y="5"/>
                  <a:pt x="57" y="12"/>
                </a:cubicBezTo>
                <a:cubicBezTo>
                  <a:pt x="78" y="19"/>
                  <a:pt x="106" y="31"/>
                  <a:pt x="126" y="42"/>
                </a:cubicBezTo>
                <a:cubicBezTo>
                  <a:pt x="146" y="53"/>
                  <a:pt x="161" y="75"/>
                  <a:pt x="177" y="75"/>
                </a:cubicBezTo>
                <a:cubicBezTo>
                  <a:pt x="194" y="76"/>
                  <a:pt x="205" y="52"/>
                  <a:pt x="222" y="42"/>
                </a:cubicBezTo>
                <a:cubicBezTo>
                  <a:pt x="239" y="32"/>
                  <a:pt x="258" y="22"/>
                  <a:pt x="279" y="15"/>
                </a:cubicBezTo>
                <a:cubicBezTo>
                  <a:pt x="300" y="8"/>
                  <a:pt x="336" y="3"/>
                  <a:pt x="35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5010120" y="2258280"/>
            <a:ext cx="557280" cy="120600"/>
          </a:xfrm>
          <a:custGeom>
            <a:avLst/>
            <a:gdLst/>
            <a:ahLst/>
            <a:rect l="l" t="t" r="r" b="b"/>
            <a:pathLst>
              <a:path w="351" h="76">
                <a:moveTo>
                  <a:pt x="0" y="0"/>
                </a:moveTo>
                <a:cubicBezTo>
                  <a:pt x="9" y="2"/>
                  <a:pt x="36" y="5"/>
                  <a:pt x="57" y="12"/>
                </a:cubicBezTo>
                <a:cubicBezTo>
                  <a:pt x="78" y="19"/>
                  <a:pt x="106" y="31"/>
                  <a:pt x="126" y="42"/>
                </a:cubicBezTo>
                <a:cubicBezTo>
                  <a:pt x="146" y="53"/>
                  <a:pt x="161" y="75"/>
                  <a:pt x="177" y="75"/>
                </a:cubicBezTo>
                <a:cubicBezTo>
                  <a:pt x="194" y="76"/>
                  <a:pt x="205" y="52"/>
                  <a:pt x="222" y="42"/>
                </a:cubicBezTo>
                <a:cubicBezTo>
                  <a:pt x="239" y="32"/>
                  <a:pt x="258" y="22"/>
                  <a:pt x="279" y="15"/>
                </a:cubicBezTo>
                <a:cubicBezTo>
                  <a:pt x="300" y="8"/>
                  <a:pt x="336" y="3"/>
                  <a:pt x="35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4483080" y="2870280"/>
            <a:ext cx="1625760" cy="1069920"/>
            <a:chOff x="4483080" y="2870280"/>
            <a:chExt cx="1625760" cy="1069920"/>
          </a:xfrm>
        </p:grpSpPr>
        <p:sp>
          <p:nvSpPr>
            <p:cNvPr id="484" name=""/>
            <p:cNvSpPr/>
            <p:nvPr/>
          </p:nvSpPr>
          <p:spPr>
            <a:xfrm>
              <a:off x="5003640" y="3787920"/>
              <a:ext cx="58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181480" y="2943360"/>
              <a:ext cx="838440" cy="83808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84600" y="2946240"/>
              <a:ext cx="838440" cy="8384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010120" y="2943360"/>
              <a:ext cx="57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997520" y="288288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581800" y="2870280"/>
              <a:ext cx="0" cy="9651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105520" y="3067200"/>
              <a:ext cx="396720" cy="577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302080" y="2882880"/>
              <a:ext cx="0" cy="1057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83080" y="3378240"/>
              <a:ext cx="79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283360" y="3378240"/>
              <a:ext cx="8254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991040" y="1962000"/>
            <a:ext cx="615960" cy="71640"/>
          </a:xfrm>
          <a:custGeom>
            <a:avLst/>
            <a:gdLst/>
            <a:ahLst/>
            <a:rect l="l" t="t" r="r" b="b"/>
            <a:pathLst>
              <a:path w="388" h="45">
                <a:moveTo>
                  <a:pt x="388" y="0"/>
                </a:moveTo>
                <a:cubicBezTo>
                  <a:pt x="375" y="5"/>
                  <a:pt x="340" y="21"/>
                  <a:pt x="308" y="28"/>
                </a:cubicBezTo>
                <a:cubicBezTo>
                  <a:pt x="277" y="33"/>
                  <a:pt x="234" y="43"/>
                  <a:pt x="196" y="44"/>
                </a:cubicBezTo>
                <a:cubicBezTo>
                  <a:pt x="158" y="45"/>
                  <a:pt x="112" y="38"/>
                  <a:pt x="80" y="32"/>
                </a:cubicBezTo>
                <a:cubicBezTo>
                  <a:pt x="46" y="27"/>
                  <a:pt x="13" y="5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4997520" y="1886040"/>
            <a:ext cx="615960" cy="71280"/>
          </a:xfrm>
          <a:custGeom>
            <a:avLst/>
            <a:gdLst/>
            <a:ahLst/>
            <a:rect l="l" t="t" r="r" b="b"/>
            <a:pathLst>
              <a:path w="388" h="45">
                <a:moveTo>
                  <a:pt x="388" y="0"/>
                </a:moveTo>
                <a:cubicBezTo>
                  <a:pt x="375" y="5"/>
                  <a:pt x="340" y="21"/>
                  <a:pt x="308" y="28"/>
                </a:cubicBezTo>
                <a:cubicBezTo>
                  <a:pt x="277" y="33"/>
                  <a:pt x="234" y="43"/>
                  <a:pt x="196" y="44"/>
                </a:cubicBezTo>
                <a:cubicBezTo>
                  <a:pt x="158" y="45"/>
                  <a:pt x="112" y="38"/>
                  <a:pt x="80" y="32"/>
                </a:cubicBezTo>
                <a:cubicBezTo>
                  <a:pt x="46" y="27"/>
                  <a:pt x="13" y="5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prstDash val="lg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295960" y="1069920"/>
            <a:ext cx="0" cy="16574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267160" y="1930320"/>
            <a:ext cx="604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267160" y="1606680"/>
            <a:ext cx="60480" cy="60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62480" y="2220840"/>
            <a:ext cx="60480" cy="60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" bIns="-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368960" y="3708360"/>
            <a:ext cx="1866600" cy="1778040"/>
            <a:chOff x="4368960" y="3708360"/>
            <a:chExt cx="1866600" cy="1778040"/>
          </a:xfrm>
        </p:grpSpPr>
        <p:sp>
          <p:nvSpPr>
            <p:cNvPr id="501" name=""/>
            <p:cNvSpPr/>
            <p:nvPr/>
          </p:nvSpPr>
          <p:spPr>
            <a:xfrm>
              <a:off x="5014800" y="4297320"/>
              <a:ext cx="561960" cy="5904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572000" y="3848040"/>
              <a:ext cx="1447920" cy="14475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368960" y="4572000"/>
              <a:ext cx="1866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295960" y="3708360"/>
              <a:ext cx="0" cy="17780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308560" y="4572000"/>
              <a:ext cx="69840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6146640" y="11304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5613480" y="1460160"/>
            <a:ext cx="888840" cy="495360"/>
            <a:chOff x="5613480" y="1460160"/>
            <a:chExt cx="888840" cy="495360"/>
          </a:xfrm>
        </p:grpSpPr>
        <p:sp>
          <p:nvSpPr>
            <p:cNvPr id="508" name=""/>
            <p:cNvSpPr/>
            <p:nvPr/>
          </p:nvSpPr>
          <p:spPr>
            <a:xfrm flipV="1">
              <a:off x="5613480" y="1701720"/>
              <a:ext cx="26676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892840" y="1460160"/>
              <a:ext cx="21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08840" y="146052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1" name=""/>
          <p:cNvSpPr/>
          <p:nvPr/>
        </p:nvSpPr>
        <p:spPr>
          <a:xfrm flipV="1">
            <a:off x="5587920" y="1069560"/>
            <a:ext cx="0" cy="84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308560" y="1187280"/>
            <a:ext cx="266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305320" y="82872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780320" y="987480"/>
            <a:ext cx="0" cy="15526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300800" y="1433520"/>
            <a:ext cx="959040" cy="95868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169040" y="1916280"/>
            <a:ext cx="126216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5045040" y="647640"/>
            <a:ext cx="523800" cy="333360"/>
          </a:xfrm>
          <a:custGeom>
            <a:avLst/>
            <a:gdLst>
              <a:gd name="textAreaLeft" fmla="*/ 70200 w 523800"/>
              <a:gd name="textAreaRight" fmla="*/ 453600 w 523800"/>
              <a:gd name="textAreaTop" fmla="*/ 58320 h 333360"/>
              <a:gd name="textAreaBottom" fmla="*/ 2419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933800" y="492120"/>
            <a:ext cx="347760" cy="262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292960" y="1130400"/>
            <a:ext cx="44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7759800" y="1447560"/>
            <a:ext cx="888840" cy="495360"/>
            <a:chOff x="7759800" y="1447560"/>
            <a:chExt cx="888840" cy="495360"/>
          </a:xfrm>
        </p:grpSpPr>
        <p:sp>
          <p:nvSpPr>
            <p:cNvPr id="521" name=""/>
            <p:cNvSpPr/>
            <p:nvPr/>
          </p:nvSpPr>
          <p:spPr>
            <a:xfrm flipV="1">
              <a:off x="7759800" y="1689120"/>
              <a:ext cx="26676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8039160" y="1447560"/>
              <a:ext cx="216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8255160" y="1447920"/>
              <a:ext cx="39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"/>
          <p:cNvSpPr/>
          <p:nvPr/>
        </p:nvSpPr>
        <p:spPr>
          <a:xfrm>
            <a:off x="7289640" y="1409760"/>
            <a:ext cx="990720" cy="1015920"/>
          </a:xfrm>
          <a:prstGeom prst="ellipse">
            <a:avLst/>
          </a:prstGeom>
          <a:gradFill rotWithShape="0">
            <a:gsLst>
              <a:gs pos="0">
                <a:srgbClr val="2f6e73"/>
              </a:gs>
              <a:gs pos="100000">
                <a:srgbClr val="15323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496280" y="673200"/>
            <a:ext cx="523800" cy="333360"/>
          </a:xfrm>
          <a:custGeom>
            <a:avLst/>
            <a:gdLst>
              <a:gd name="textAreaLeft" fmla="*/ 70200 w 523800"/>
              <a:gd name="textAreaRight" fmla="*/ 453600 w 523800"/>
              <a:gd name="textAreaTop" fmla="*/ 58320 h 333360"/>
              <a:gd name="textAreaBottom" fmla="*/ 241920 h 3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385040" y="517680"/>
            <a:ext cx="347760" cy="261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772400" y="2692440"/>
            <a:ext cx="0" cy="1346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277040" y="2819520"/>
            <a:ext cx="990720" cy="10159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086600" y="3327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772400" y="3949560"/>
            <a:ext cx="0" cy="13464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277040" y="4089240"/>
            <a:ext cx="990720" cy="1016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061040" y="4572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289640" y="4584600"/>
            <a:ext cx="9655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327480" y="0"/>
            <a:ext cx="1917720" cy="368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0760" y="36828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Открытый 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03440" y="343080"/>
            <a:ext cx="24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Закрытый то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58000" y="317520"/>
            <a:ext cx="24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Arial"/>
              </a:rPr>
              <a:t>Сфер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52400" y="3006720"/>
            <a:ext cx="336600" cy="696960"/>
          </a:xfrm>
          <a:custGeom>
            <a:avLst/>
            <a:gdLst/>
            <a:ahLst/>
            <a:rect l="l" t="t" r="r" b="b"/>
            <a:pathLst>
              <a:path w="212" h="439">
                <a:moveTo>
                  <a:pt x="2" y="0"/>
                </a:moveTo>
                <a:cubicBezTo>
                  <a:pt x="25" y="2"/>
                  <a:pt x="50" y="5"/>
                  <a:pt x="70" y="12"/>
                </a:cubicBezTo>
                <a:cubicBezTo>
                  <a:pt x="90" y="19"/>
                  <a:pt x="109" y="35"/>
                  <a:pt x="122" y="44"/>
                </a:cubicBezTo>
                <a:cubicBezTo>
                  <a:pt x="135" y="53"/>
                  <a:pt x="141" y="58"/>
                  <a:pt x="150" y="68"/>
                </a:cubicBezTo>
                <a:cubicBezTo>
                  <a:pt x="159" y="78"/>
                  <a:pt x="169" y="91"/>
                  <a:pt x="178" y="106"/>
                </a:cubicBezTo>
                <a:cubicBezTo>
                  <a:pt x="187" y="121"/>
                  <a:pt x="197" y="137"/>
                  <a:pt x="202" y="160"/>
                </a:cubicBezTo>
                <a:cubicBezTo>
                  <a:pt x="207" y="183"/>
                  <a:pt x="212" y="215"/>
                  <a:pt x="210" y="242"/>
                </a:cubicBezTo>
                <a:cubicBezTo>
                  <a:pt x="208" y="269"/>
                  <a:pt x="200" y="295"/>
                  <a:pt x="188" y="320"/>
                </a:cubicBezTo>
                <a:cubicBezTo>
                  <a:pt x="176" y="345"/>
                  <a:pt x="154" y="373"/>
                  <a:pt x="136" y="390"/>
                </a:cubicBezTo>
                <a:cubicBezTo>
                  <a:pt x="118" y="407"/>
                  <a:pt x="91" y="415"/>
                  <a:pt x="81" y="420"/>
                </a:cubicBezTo>
                <a:cubicBezTo>
                  <a:pt x="71" y="425"/>
                  <a:pt x="83" y="415"/>
                  <a:pt x="74" y="418"/>
                </a:cubicBezTo>
                <a:cubicBezTo>
                  <a:pt x="65" y="421"/>
                  <a:pt x="36" y="433"/>
                  <a:pt x="24" y="436"/>
                </a:cubicBezTo>
                <a:cubicBezTo>
                  <a:pt x="12" y="439"/>
                  <a:pt x="4" y="438"/>
                  <a:pt x="0" y="438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095800" y="2948040"/>
            <a:ext cx="457200" cy="115920"/>
          </a:xfrm>
          <a:custGeom>
            <a:avLst/>
            <a:gdLst/>
            <a:ahLst/>
            <a:rect l="l" t="t" r="r" b="b"/>
            <a:pathLst>
              <a:path w="288" h="73">
                <a:moveTo>
                  <a:pt x="0" y="6"/>
                </a:moveTo>
                <a:cubicBezTo>
                  <a:pt x="19" y="11"/>
                  <a:pt x="39" y="16"/>
                  <a:pt x="60" y="27"/>
                </a:cubicBezTo>
                <a:cubicBezTo>
                  <a:pt x="81" y="38"/>
                  <a:pt x="104" y="71"/>
                  <a:pt x="126" y="72"/>
                </a:cubicBezTo>
                <a:cubicBezTo>
                  <a:pt x="148" y="73"/>
                  <a:pt x="165" y="42"/>
                  <a:pt x="192" y="30"/>
                </a:cubicBezTo>
                <a:cubicBezTo>
                  <a:pt x="219" y="18"/>
                  <a:pt x="253" y="9"/>
                  <a:pt x="288" y="0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5052960" y="3649680"/>
            <a:ext cx="519120" cy="127080"/>
          </a:xfrm>
          <a:custGeom>
            <a:avLst/>
            <a:gdLst/>
            <a:ahLst/>
            <a:rect l="l" t="t" r="r" b="b"/>
            <a:pathLst>
              <a:path w="327" h="80">
                <a:moveTo>
                  <a:pt x="0" y="80"/>
                </a:moveTo>
                <a:cubicBezTo>
                  <a:pt x="44" y="70"/>
                  <a:pt x="88" y="60"/>
                  <a:pt x="114" y="47"/>
                </a:cubicBezTo>
                <a:cubicBezTo>
                  <a:pt x="140" y="34"/>
                  <a:pt x="145" y="4"/>
                  <a:pt x="159" y="2"/>
                </a:cubicBezTo>
                <a:cubicBezTo>
                  <a:pt x="173" y="0"/>
                  <a:pt x="180" y="25"/>
                  <a:pt x="198" y="35"/>
                </a:cubicBezTo>
                <a:cubicBezTo>
                  <a:pt x="216" y="45"/>
                  <a:pt x="246" y="55"/>
                  <a:pt x="267" y="62"/>
                </a:cubicBezTo>
                <a:cubicBezTo>
                  <a:pt x="288" y="69"/>
                  <a:pt x="307" y="73"/>
                  <a:pt x="327" y="77"/>
                </a:cubicBezTo>
              </a:path>
            </a:pathLst>
          </a:custGeom>
          <a:noFill/>
          <a:ln w="5724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rot="5400000">
            <a:off x="2039760" y="2970000"/>
            <a:ext cx="88920" cy="657360"/>
          </a:xfrm>
          <a:custGeom>
            <a:avLst/>
            <a:gdLst>
              <a:gd name="textAreaLeft" fmla="*/ 56880 w 88920"/>
              <a:gd name="textAreaRight" fmla="*/ 89280 w 8892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895400" y="2967120"/>
            <a:ext cx="4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9933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rot="5400000">
            <a:off x="2039760" y="4170240"/>
            <a:ext cx="88920" cy="657360"/>
          </a:xfrm>
          <a:custGeom>
            <a:avLst/>
            <a:gdLst>
              <a:gd name="textAreaLeft" fmla="*/ 56880 w 88920"/>
              <a:gd name="textAreaRight" fmla="*/ 89280 w 8892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879560" y="4121280"/>
            <a:ext cx="4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9933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V="1" rot="16200000">
            <a:off x="2383200" y="2734200"/>
            <a:ext cx="125280" cy="1390680"/>
          </a:xfrm>
          <a:custGeom>
            <a:avLst/>
            <a:gdLst>
              <a:gd name="textAreaLeft" fmla="*/ 79920 w 125280"/>
              <a:gd name="textAreaRight" fmla="*/ 125640 w 125280"/>
              <a:gd name="textAreaTop" fmla="*/ 36000 h 1390680"/>
              <a:gd name="textAreaBottom" fmla="*/ 13546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128680" y="3357720"/>
            <a:ext cx="4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 rot="16200000">
            <a:off x="2397600" y="3939120"/>
            <a:ext cx="125280" cy="1390680"/>
          </a:xfrm>
          <a:custGeom>
            <a:avLst/>
            <a:gdLst>
              <a:gd name="textAreaLeft" fmla="*/ 79920 w 125280"/>
              <a:gd name="textAreaRight" fmla="*/ 125640 w 125280"/>
              <a:gd name="textAreaTop" fmla="*/ 36000 h 1390680"/>
              <a:gd name="textAreaBottom" fmla="*/ 1354680 h 139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57280" y="4633920"/>
            <a:ext cx="47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1" i="1" lang="en-US" sz="1800" spc="-1" strike="noStrike" baseline="-25000">
                <a:solidFill>
                  <a:srgbClr val="0099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6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89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6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0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4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7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3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3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1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41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5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1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4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6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1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9" name=""/>
          <p:cNvGrpSpPr/>
          <p:nvPr/>
        </p:nvGrpSpPr>
        <p:grpSpPr>
          <a:xfrm>
            <a:off x="2711520" y="1865160"/>
            <a:ext cx="3492360" cy="2666880"/>
            <a:chOff x="2711520" y="1865160"/>
            <a:chExt cx="3492360" cy="2666880"/>
          </a:xfrm>
        </p:grpSpPr>
        <p:sp>
          <p:nvSpPr>
            <p:cNvPr id="550" name=""/>
            <p:cNvSpPr/>
            <p:nvPr/>
          </p:nvSpPr>
          <p:spPr>
            <a:xfrm>
              <a:off x="2927520" y="1865160"/>
              <a:ext cx="2793960" cy="26668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711520" y="3223800"/>
              <a:ext cx="3492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664080" y="2563560"/>
              <a:ext cx="1320840" cy="1320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3283200" y="2182320"/>
              <a:ext cx="2082600" cy="2082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97520" y="3223800"/>
              <a:ext cx="6984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5" name=""/>
          <p:cNvSpPr/>
          <p:nvPr/>
        </p:nvSpPr>
        <p:spPr>
          <a:xfrm rot="16200000">
            <a:off x="4901400" y="2640600"/>
            <a:ext cx="150480" cy="1320840"/>
          </a:xfrm>
          <a:custGeom>
            <a:avLst/>
            <a:gdLst>
              <a:gd name="textAreaLeft" fmla="*/ 96120 w 150480"/>
              <a:gd name="textAreaRight" fmla="*/ 150840 w 15048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043080" y="1941480"/>
            <a:ext cx="2594160" cy="2506680"/>
          </a:xfrm>
          <a:prstGeom prst="ellipse">
            <a:avLst/>
          </a:pr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618080" y="1943280"/>
            <a:ext cx="117360" cy="117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rot="16200000">
            <a:off x="4587840" y="2937960"/>
            <a:ext cx="183960" cy="736560"/>
          </a:xfrm>
          <a:custGeom>
            <a:avLst/>
            <a:gdLst>
              <a:gd name="textAreaLeft" fmla="*/ 117720 w 183960"/>
              <a:gd name="textAreaRight" fmla="*/ 184320 w 183960"/>
              <a:gd name="textAreaTop" fmla="*/ 19080 h 736560"/>
              <a:gd name="textAreaBottom" fmla="*/ 717480 h 73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1"/>
                </a:lnTo>
                <a:cubicBezTo>
                  <a:pt x="10800" y="10341"/>
                  <a:pt x="5400" y="11241"/>
                  <a:pt x="0" y="11241"/>
                </a:cubicBezTo>
                <a:cubicBezTo>
                  <a:pt x="5400" y="11241"/>
                  <a:pt x="10800" y="12141"/>
                  <a:pt x="10800" y="130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595680" y="2490840"/>
            <a:ext cx="1457280" cy="146376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614840" y="2511360"/>
            <a:ext cx="117360" cy="117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722840" y="4203720"/>
            <a:ext cx="69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570560" y="1612800"/>
            <a:ext cx="69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697280" y="3683160"/>
            <a:ext cx="698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710240" y="2324160"/>
            <a:ext cx="698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347920" y="1295280"/>
            <a:ext cx="3708360" cy="1752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913120" y="3014640"/>
            <a:ext cx="793800" cy="65160"/>
          </a:xfrm>
          <a:custGeom>
            <a:avLst/>
            <a:gdLst/>
            <a:ahLst/>
            <a:rect l="l" t="t" r="r" b="b"/>
            <a:pathLst>
              <a:path w="500" h="41">
                <a:moveTo>
                  <a:pt x="0" y="29"/>
                </a:moveTo>
                <a:cubicBezTo>
                  <a:pt x="15" y="30"/>
                  <a:pt x="59" y="41"/>
                  <a:pt x="92" y="37"/>
                </a:cubicBezTo>
                <a:cubicBezTo>
                  <a:pt x="125" y="33"/>
                  <a:pt x="164" y="10"/>
                  <a:pt x="196" y="5"/>
                </a:cubicBezTo>
                <a:cubicBezTo>
                  <a:pt x="228" y="0"/>
                  <a:pt x="260" y="3"/>
                  <a:pt x="284" y="5"/>
                </a:cubicBezTo>
                <a:cubicBezTo>
                  <a:pt x="308" y="7"/>
                  <a:pt x="324" y="15"/>
                  <a:pt x="342" y="19"/>
                </a:cubicBezTo>
                <a:cubicBezTo>
                  <a:pt x="360" y="23"/>
                  <a:pt x="368" y="27"/>
                  <a:pt x="394" y="29"/>
                </a:cubicBezTo>
                <a:cubicBezTo>
                  <a:pt x="420" y="31"/>
                  <a:pt x="478" y="31"/>
                  <a:pt x="500" y="3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9440" bIns="19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919760" y="3040200"/>
            <a:ext cx="793800" cy="33120"/>
          </a:xfrm>
          <a:custGeom>
            <a:avLst/>
            <a:gdLst/>
            <a:ahLst/>
            <a:rect l="l" t="t" r="r" b="b"/>
            <a:pathLst>
              <a:path w="500" h="21">
                <a:moveTo>
                  <a:pt x="0" y="17"/>
                </a:moveTo>
                <a:cubicBezTo>
                  <a:pt x="17" y="14"/>
                  <a:pt x="34" y="12"/>
                  <a:pt x="48" y="11"/>
                </a:cubicBezTo>
                <a:cubicBezTo>
                  <a:pt x="62" y="10"/>
                  <a:pt x="63" y="15"/>
                  <a:pt x="86" y="13"/>
                </a:cubicBezTo>
                <a:cubicBezTo>
                  <a:pt x="109" y="11"/>
                  <a:pt x="159" y="2"/>
                  <a:pt x="186" y="1"/>
                </a:cubicBezTo>
                <a:cubicBezTo>
                  <a:pt x="213" y="0"/>
                  <a:pt x="222" y="6"/>
                  <a:pt x="246" y="9"/>
                </a:cubicBezTo>
                <a:cubicBezTo>
                  <a:pt x="270" y="12"/>
                  <a:pt x="304" y="21"/>
                  <a:pt x="330" y="21"/>
                </a:cubicBezTo>
                <a:cubicBezTo>
                  <a:pt x="356" y="21"/>
                  <a:pt x="379" y="7"/>
                  <a:pt x="400" y="7"/>
                </a:cubicBezTo>
                <a:cubicBezTo>
                  <a:pt x="421" y="7"/>
                  <a:pt x="439" y="18"/>
                  <a:pt x="456" y="19"/>
                </a:cubicBezTo>
                <a:cubicBezTo>
                  <a:pt x="473" y="20"/>
                  <a:pt x="486" y="15"/>
                  <a:pt x="500" y="11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-12600" bIns="-126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2813040" y="1533600"/>
            <a:ext cx="3034800" cy="850680"/>
            <a:chOff x="2813040" y="1533600"/>
            <a:chExt cx="3034800" cy="850680"/>
          </a:xfrm>
        </p:grpSpPr>
        <p:grpSp>
          <p:nvGrpSpPr>
            <p:cNvPr id="569" name=""/>
            <p:cNvGrpSpPr/>
            <p:nvPr/>
          </p:nvGrpSpPr>
          <p:grpSpPr>
            <a:xfrm>
              <a:off x="4908240" y="1533600"/>
              <a:ext cx="939600" cy="850680"/>
              <a:chOff x="4908240" y="1533600"/>
              <a:chExt cx="939600" cy="850680"/>
            </a:xfrm>
          </p:grpSpPr>
          <p:sp>
            <p:nvSpPr>
              <p:cNvPr id="570" name=""/>
              <p:cNvSpPr/>
              <p:nvPr/>
            </p:nvSpPr>
            <p:spPr>
              <a:xfrm>
                <a:off x="4908240" y="1952280"/>
                <a:ext cx="93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377680" y="1533600"/>
                <a:ext cx="0" cy="85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2813040" y="1533600"/>
              <a:ext cx="2922120" cy="850680"/>
              <a:chOff x="2813040" y="1533600"/>
              <a:chExt cx="2922120" cy="850680"/>
            </a:xfrm>
          </p:grpSpPr>
          <p:sp>
            <p:nvSpPr>
              <p:cNvPr id="573" name=""/>
              <p:cNvSpPr/>
              <p:nvPr/>
            </p:nvSpPr>
            <p:spPr>
              <a:xfrm>
                <a:off x="2931840" y="1606320"/>
                <a:ext cx="732960" cy="69480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4" name=""/>
              <p:cNvGrpSpPr/>
              <p:nvPr/>
            </p:nvGrpSpPr>
            <p:grpSpPr>
              <a:xfrm>
                <a:off x="2813040" y="1533600"/>
                <a:ext cx="2922120" cy="850680"/>
                <a:chOff x="2813040" y="1533600"/>
                <a:chExt cx="2922120" cy="85068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5001840" y="1606320"/>
                  <a:ext cx="733320" cy="694800"/>
                </a:xfrm>
                <a:prstGeom prst="ellipse">
                  <a:avLst/>
                </a:prstGeom>
                <a:noFill/>
                <a:ln w="3816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 flipH="1">
                  <a:off x="3295080" y="1596960"/>
                  <a:ext cx="2069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3269880" y="2307960"/>
                  <a:ext cx="2120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8" name=""/>
                <p:cNvGrpSpPr/>
                <p:nvPr/>
              </p:nvGrpSpPr>
              <p:grpSpPr>
                <a:xfrm>
                  <a:off x="2813040" y="1533600"/>
                  <a:ext cx="939600" cy="850680"/>
                  <a:chOff x="2813040" y="1533600"/>
                  <a:chExt cx="939600" cy="850680"/>
                </a:xfrm>
              </p:grpSpPr>
              <p:sp>
                <p:nvSpPr>
                  <p:cNvPr id="579" name=""/>
                  <p:cNvSpPr/>
                  <p:nvPr/>
                </p:nvSpPr>
                <p:spPr>
                  <a:xfrm>
                    <a:off x="2813040" y="1952280"/>
                    <a:ext cx="9396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>
                    <a:off x="3282480" y="1533600"/>
                    <a:ext cx="0" cy="85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Dot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1" name=""/>
                <p:cNvSpPr/>
                <p:nvPr/>
              </p:nvSpPr>
              <p:spPr>
                <a:xfrm>
                  <a:off x="3625560" y="1952280"/>
                  <a:ext cx="1549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82" name=""/>
          <p:cNvSpPr/>
          <p:nvPr/>
        </p:nvSpPr>
        <p:spPr>
          <a:xfrm>
            <a:off x="3000240" y="1755720"/>
            <a:ext cx="26575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rot="16200000">
            <a:off x="4910760" y="1175040"/>
            <a:ext cx="150840" cy="1320840"/>
          </a:xfrm>
          <a:custGeom>
            <a:avLst/>
            <a:gdLst>
              <a:gd name="textAreaLeft" fmla="*/ 96480 w 150840"/>
              <a:gd name="textAreaRight" fmla="*/ 151200 w 1508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rot="16200000">
            <a:off x="4603680" y="1469520"/>
            <a:ext cx="181080" cy="736920"/>
          </a:xfrm>
          <a:custGeom>
            <a:avLst/>
            <a:gdLst>
              <a:gd name="textAreaLeft" fmla="*/ 115920 w 181080"/>
              <a:gd name="textAreaRight" fmla="*/ 181440 w 181080"/>
              <a:gd name="textAreaTop" fmla="*/ 19080 h 736920"/>
              <a:gd name="textAreaBottom" fmla="*/ 717840 h 73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441"/>
                </a:lnTo>
                <a:cubicBezTo>
                  <a:pt x="10800" y="10341"/>
                  <a:pt x="5400" y="11241"/>
                  <a:pt x="0" y="11241"/>
                </a:cubicBezTo>
                <a:cubicBezTo>
                  <a:pt x="5400" y="11241"/>
                  <a:pt x="10800" y="12141"/>
                  <a:pt x="10800" y="1304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605040" y="1752480"/>
            <a:ext cx="1457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400480" y="330120"/>
            <a:ext cx="4813200" cy="368280"/>
          </a:xfrm>
          <a:prstGeom prst="rect">
            <a:avLst/>
          </a:prstGeom>
          <a:solidFill>
            <a:srgbClr val="00cc99">
              <a:alpha val="21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а  на поверхности  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354560" y="1219320"/>
            <a:ext cx="1015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672080" y="173988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324320" y="1336680"/>
            <a:ext cx="0" cy="33544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18080" y="4330800"/>
            <a:ext cx="117360" cy="117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614840" y="3813120"/>
            <a:ext cx="117360" cy="117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4626000" y="1685880"/>
            <a:ext cx="117360" cy="117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370320" y="1625760"/>
            <a:ext cx="299880" cy="672840"/>
          </a:xfrm>
          <a:custGeom>
            <a:avLst/>
            <a:gdLst/>
            <a:ahLst/>
            <a:rect l="l" t="t" r="r" b="b"/>
            <a:pathLst>
              <a:path w="171" h="414">
                <a:moveTo>
                  <a:pt x="0" y="0"/>
                </a:moveTo>
                <a:cubicBezTo>
                  <a:pt x="26" y="6"/>
                  <a:pt x="53" y="13"/>
                  <a:pt x="72" y="24"/>
                </a:cubicBezTo>
                <a:cubicBezTo>
                  <a:pt x="91" y="35"/>
                  <a:pt x="102" y="51"/>
                  <a:pt x="114" y="68"/>
                </a:cubicBezTo>
                <a:cubicBezTo>
                  <a:pt x="126" y="85"/>
                  <a:pt x="137" y="105"/>
                  <a:pt x="146" y="124"/>
                </a:cubicBezTo>
                <a:cubicBezTo>
                  <a:pt x="155" y="143"/>
                  <a:pt x="165" y="160"/>
                  <a:pt x="168" y="180"/>
                </a:cubicBezTo>
                <a:cubicBezTo>
                  <a:pt x="171" y="200"/>
                  <a:pt x="167" y="222"/>
                  <a:pt x="162" y="246"/>
                </a:cubicBezTo>
                <a:cubicBezTo>
                  <a:pt x="157" y="270"/>
                  <a:pt x="151" y="302"/>
                  <a:pt x="138" y="324"/>
                </a:cubicBezTo>
                <a:cubicBezTo>
                  <a:pt x="125" y="346"/>
                  <a:pt x="104" y="361"/>
                  <a:pt x="82" y="376"/>
                </a:cubicBezTo>
                <a:cubicBezTo>
                  <a:pt x="60" y="391"/>
                  <a:pt x="33" y="402"/>
                  <a:pt x="6" y="414"/>
                </a:cubicBezTo>
              </a:path>
            </a:pathLst>
          </a:custGeom>
          <a:noFill/>
          <a:ln w="3816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07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8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7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8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9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5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578400" y="3825720"/>
            <a:ext cx="2178000" cy="217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4662360" y="10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365640" y="23749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581280" y="1293840"/>
            <a:ext cx="2162160" cy="2162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662360" y="360216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365640" y="489600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595680" y="3828960"/>
            <a:ext cx="2162160" cy="21621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81280" y="1295280"/>
            <a:ext cx="2162160" cy="2162160"/>
          </a:xfrm>
          <a:prstGeom prst="ellipse">
            <a:avLst/>
          </a:prstGeom>
          <a:noFill/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581120" y="942840"/>
            <a:ext cx="2282760" cy="544680"/>
          </a:xfrm>
          <a:prstGeom prst="wedgeRectCallout">
            <a:avLst>
              <a:gd name="adj1" fmla="val 43532"/>
              <a:gd name="adj2" fmla="val 11938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лавный меридиан, параллельный П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581280" y="4896000"/>
            <a:ext cx="2160720" cy="0"/>
          </a:xfrm>
          <a:prstGeom prst="line">
            <a:avLst/>
          </a:prstGeom>
          <a:ln w="381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95520" y="3549600"/>
            <a:ext cx="2117520" cy="389160"/>
          </a:xfrm>
          <a:prstGeom prst="wedgeRectCallout">
            <a:avLst>
              <a:gd name="adj1" fmla="val 46625"/>
              <a:gd name="adj2" fmla="val 20591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578400" y="2374920"/>
            <a:ext cx="2147760" cy="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108160" y="0"/>
            <a:ext cx="4813200" cy="368280"/>
          </a:xfrm>
          <a:prstGeom prst="rect">
            <a:avLst/>
          </a:prstGeom>
          <a:solidFill>
            <a:srgbClr val="00cc99">
              <a:alpha val="21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а на поверхности 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fill="hold">
                      <p:stCondLst>
                        <p:cond delay="indefinite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"/>
          <p:cNvGrpSpPr/>
          <p:nvPr/>
        </p:nvGrpSpPr>
        <p:grpSpPr>
          <a:xfrm>
            <a:off x="4233960" y="2066760"/>
            <a:ext cx="0" cy="3742920"/>
            <a:chOff x="4233960" y="2066760"/>
            <a:chExt cx="0" cy="3742920"/>
          </a:xfrm>
        </p:grpSpPr>
        <p:sp>
          <p:nvSpPr>
            <p:cNvPr id="608" name=""/>
            <p:cNvSpPr/>
            <p:nvPr/>
          </p:nvSpPr>
          <p:spPr>
            <a:xfrm>
              <a:off x="4233960" y="2066760"/>
              <a:ext cx="0" cy="37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33960" y="3740760"/>
              <a:ext cx="0" cy="65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4662360" y="10810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365640" y="237492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3581280" y="1293840"/>
            <a:ext cx="2162160" cy="2162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662360" y="360216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3365640" y="489600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581280" y="3814920"/>
            <a:ext cx="2162160" cy="2162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3871800" y="3705120"/>
                <a:ext cx="2858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А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617" name=""/>
          <p:cNvSpPr/>
          <p:nvPr/>
        </p:nvSpPr>
        <p:spPr>
          <a:xfrm>
            <a:off x="3843360" y="5743440"/>
            <a:ext cx="495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3681360" y="1581120"/>
            <a:ext cx="875880" cy="405720"/>
            <a:chOff x="3681360" y="1581120"/>
            <a:chExt cx="875880" cy="405720"/>
          </a:xfrm>
        </p:grpSpPr>
        <mc:AlternateContent>
          <mc:Choice xmlns:a14="http://schemas.microsoft.com/office/drawing/2010/main" Requires="a14">
            <p:sp>
              <p:nvSpPr>
                <p:cNvPr id="619" name=""/>
                <p:cNvSpPr txBox="1"/>
                <p:nvPr/>
              </p:nvSpPr>
              <p:spPr>
                <a:xfrm>
                  <a:off x="4271760" y="1609560"/>
                  <a:ext cx="285480" cy="34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1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620" name=""/>
            <p:cNvSpPr/>
            <p:nvPr/>
          </p:nvSpPr>
          <p:spPr>
            <a:xfrm>
              <a:off x="3681360" y="1581120"/>
              <a:ext cx="809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ru-RU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633840" y="2066760"/>
            <a:ext cx="2047680" cy="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165560" y="2003400"/>
            <a:ext cx="142920" cy="14292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843200" y="1200240"/>
            <a:ext cx="1733400" cy="428400"/>
          </a:xfrm>
          <a:prstGeom prst="wedgeRectCallout">
            <a:avLst>
              <a:gd name="adj1" fmla="val 52199"/>
              <a:gd name="adj2" fmla="val 157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аралл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 rot="5400000">
            <a:off x="5104800" y="1623960"/>
            <a:ext cx="162000" cy="1028520"/>
          </a:xfrm>
          <a:custGeom>
            <a:avLst/>
            <a:gdLst>
              <a:gd name="textAreaLeft" fmla="*/ 0 w 162000"/>
              <a:gd name="textAreaRight" fmla="*/ 58320 w 162000"/>
              <a:gd name="textAreaTop" fmla="*/ 26640 h 1028520"/>
              <a:gd name="textAreaBottom" fmla="*/ 1001880 h 1028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ff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3652920" y="3895560"/>
            <a:ext cx="2019240" cy="2019600"/>
          </a:xfrm>
          <a:prstGeom prst="ellipse">
            <a:avLst/>
          </a:pr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165560" y="3927600"/>
            <a:ext cx="142920" cy="14292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165560" y="5756400"/>
            <a:ext cx="142920" cy="142920"/>
          </a:xfrm>
          <a:prstGeom prst="ellipse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595760" y="2190600"/>
            <a:ext cx="12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диус паралл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108160" y="0"/>
            <a:ext cx="4813200" cy="368280"/>
          </a:xfrm>
          <a:prstGeom prst="rect">
            <a:avLst/>
          </a:prstGeom>
          <a:solidFill>
            <a:srgbClr val="00cc99">
              <a:alpha val="21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а на поверхности сф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7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2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2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1200240" y="2257560"/>
            <a:ext cx="58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Лекция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222200" y="2992320"/>
            <a:ext cx="541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образование комплексного черте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3" dur="indefinite" restart="never" nodeType="tmRoot">
          <p:childTnLst>
            <p:seq>
              <p:cTn id="1494" dur="indefinite" nodeType="mainSeq">
                <p:childTnLst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9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"/>
          <p:cNvSpPr/>
          <p:nvPr/>
        </p:nvSpPr>
        <p:spPr>
          <a:xfrm>
            <a:off x="860400" y="1087560"/>
            <a:ext cx="3600360" cy="230328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480" y="3368520"/>
            <a:ext cx="5029200" cy="1440000"/>
          </a:xfrm>
          <a:custGeom>
            <a:avLst/>
            <a:gdLst/>
            <a:ahLst/>
            <a:rect l="l" t="t" r="r" b="b"/>
            <a:pathLst>
              <a:path w="3168" h="907">
                <a:moveTo>
                  <a:pt x="0" y="0"/>
                </a:moveTo>
                <a:lnTo>
                  <a:pt x="2261" y="0"/>
                </a:lnTo>
                <a:lnTo>
                  <a:pt x="3168" y="907"/>
                </a:lnTo>
                <a:lnTo>
                  <a:pt x="809" y="90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108160" y="1060560"/>
            <a:ext cx="2752920" cy="2738160"/>
          </a:xfrm>
          <a:custGeom>
            <a:avLst/>
            <a:gdLst/>
            <a:ahLst/>
            <a:rect l="l" t="t" r="r" b="b"/>
            <a:pathLst>
              <a:path w="1734" h="1739">
                <a:moveTo>
                  <a:pt x="0" y="1451"/>
                </a:moveTo>
                <a:lnTo>
                  <a:pt x="1734" y="1739"/>
                </a:lnTo>
                <a:lnTo>
                  <a:pt x="1734" y="291"/>
                </a:lnTo>
                <a:lnTo>
                  <a:pt x="0" y="0"/>
                </a:lnTo>
                <a:lnTo>
                  <a:pt x="0" y="1451"/>
                </a:lnTo>
                <a:close/>
              </a:path>
            </a:pathLst>
          </a:custGeom>
          <a:solidFill>
            <a:srgbClr val="a3a3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1809720" y="1712880"/>
            <a:ext cx="520560" cy="318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324160" y="1725480"/>
            <a:ext cx="1832040" cy="1249560"/>
          </a:xfrm>
          <a:prstGeom prst="line">
            <a:avLst/>
          </a:prstGeom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651120" y="3301920"/>
            <a:ext cx="0" cy="77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797120" y="2057400"/>
            <a:ext cx="0" cy="1650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828800" y="3749760"/>
            <a:ext cx="1851120" cy="323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V="1">
            <a:off x="1828800" y="3400560"/>
            <a:ext cx="495360" cy="304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2324160" y="1712880"/>
            <a:ext cx="0" cy="169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2293920" y="168912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V="1">
            <a:off x="3648240" y="2960280"/>
            <a:ext cx="501480" cy="328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1766880" y="1992240"/>
            <a:ext cx="1930320" cy="1346040"/>
            <a:chOff x="1766880" y="1992240"/>
            <a:chExt cx="1930320" cy="1346040"/>
          </a:xfrm>
        </p:grpSpPr>
        <p:sp>
          <p:nvSpPr>
            <p:cNvPr id="645" name=""/>
            <p:cNvSpPr/>
            <p:nvPr/>
          </p:nvSpPr>
          <p:spPr>
            <a:xfrm>
              <a:off x="1784160" y="2019240"/>
              <a:ext cx="1879560" cy="1282680"/>
            </a:xfrm>
            <a:prstGeom prst="line">
              <a:avLst/>
            </a:prstGeom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66880" y="1992240"/>
              <a:ext cx="88920" cy="889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608280" y="3249720"/>
              <a:ext cx="88920" cy="885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 flipV="1">
            <a:off x="3666960" y="3714840"/>
            <a:ext cx="486000" cy="34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152960" y="2962440"/>
            <a:ext cx="0" cy="75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4094280" y="291636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486080" y="1751040"/>
            <a:ext cx="293400" cy="277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117960" y="2714760"/>
            <a:ext cx="549000" cy="54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81040" y="3379680"/>
            <a:ext cx="308160" cy="343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1757520" y="368784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3067200" y="3370320"/>
            <a:ext cx="608040" cy="676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1476360" y="1704960"/>
            <a:ext cx="0" cy="1666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76360" y="1714680"/>
            <a:ext cx="1601640" cy="981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1442880" y="1687680"/>
            <a:ext cx="88920" cy="885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3076560" y="2685600"/>
            <a:ext cx="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056040" y="265896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614760" y="401148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533600" y="20001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333600" y="320976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99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666800" y="37242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05320" y="4038480"/>
            <a:ext cx="46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4095720" y="2685960"/>
            <a:ext cx="46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57560" y="139068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85920" y="136224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048120" y="2390760"/>
            <a:ext cx="466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733400" y="26575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562200" y="3343320"/>
            <a:ext cx="466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2044800" y="443232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851040" y="10666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432320" y="153684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1612800" y="127080"/>
            <a:ext cx="5308560" cy="368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5270400" y="888840"/>
            <a:ext cx="34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cc3300"/>
                </a:solidFill>
                <a:uFillTx/>
                <a:latin typeface="Arial"/>
              </a:rPr>
              <a:t>Сущность метода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5067360" y="1244520"/>
            <a:ext cx="379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метрическая фигура  не меняет своего положения в простра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092560" y="2324160"/>
            <a:ext cx="40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каждом преобразовании меняется лишь одна плоскость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092560" y="3441600"/>
            <a:ext cx="405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вая плоскость проекций перпендикулярна старой оставшейся плоскости проекц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5092560" y="4838760"/>
            <a:ext cx="40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еометрическая фигура ортогонально проецируется в новой системе плоскостей проек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5" dur="indefinite" restart="never" nodeType="tmRoot">
          <p:childTnLst>
            <p:seq>
              <p:cTn id="1506" dur="indefinite" nodeType="mainSeq">
                <p:childTnLst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1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7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0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fill="hold">
                      <p:stCondLst>
                        <p:cond delay="indefinite"/>
                      </p:stCondLst>
                      <p:childTnLst>
                        <p:par>
                          <p:cTn id="1535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1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2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7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2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2" dur="2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5" dur="2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8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1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4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7" dur="2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6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9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2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5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4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1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8" fill="hold">
                      <p:stCondLst>
                        <p:cond delay="indefinite"/>
                      </p:stCondLst>
                      <p:childTnLst>
                        <p:par>
                          <p:cTn id="1709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11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2" fill="hold">
                      <p:stCondLst>
                        <p:cond delay="indefinite"/>
                      </p:stCondLst>
                      <p:childTnLst>
                        <p:par>
                          <p:cTn id="1713" fill="hold">
                            <p:stCondLst>
                              <p:cond delay="0"/>
                            </p:stCondLst>
                            <p:childTnLst>
                              <p:par>
                                <p:cTn id="1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1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2" fill="hold">
                      <p:stCondLst>
                        <p:cond delay="indefinite"/>
                      </p:stCondLst>
                      <p:childTnLst>
                        <p:par>
                          <p:cTn id="1733" fill="hold">
                            <p:stCondLst>
                              <p:cond delay="0"/>
                            </p:stCondLst>
                            <p:childTnLst>
                              <p:par>
                                <p:cTn id="1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"/>
          <p:cNvSpPr/>
          <p:nvPr/>
        </p:nvSpPr>
        <p:spPr>
          <a:xfrm>
            <a:off x="860400" y="668160"/>
            <a:ext cx="3600360" cy="2303640"/>
          </a:xfrm>
          <a:prstGeom prst="rect">
            <a:avLst/>
          </a:prstGeom>
          <a:solidFill>
            <a:srgbClr val="fff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52480" y="2949480"/>
            <a:ext cx="5029200" cy="1440000"/>
          </a:xfrm>
          <a:custGeom>
            <a:avLst/>
            <a:gdLst/>
            <a:ahLst/>
            <a:rect l="l" t="t" r="r" b="b"/>
            <a:pathLst>
              <a:path w="3168" h="907">
                <a:moveTo>
                  <a:pt x="0" y="0"/>
                </a:moveTo>
                <a:lnTo>
                  <a:pt x="2261" y="0"/>
                </a:lnTo>
                <a:lnTo>
                  <a:pt x="3168" y="907"/>
                </a:lnTo>
                <a:lnTo>
                  <a:pt x="809" y="907"/>
                </a:lnTo>
                <a:lnTo>
                  <a:pt x="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2120760" y="654120"/>
            <a:ext cx="2752920" cy="2738520"/>
          </a:xfrm>
          <a:custGeom>
            <a:avLst/>
            <a:gdLst/>
            <a:ahLst/>
            <a:rect l="l" t="t" r="r" b="b"/>
            <a:pathLst>
              <a:path w="1734" h="1739">
                <a:moveTo>
                  <a:pt x="0" y="1451"/>
                </a:moveTo>
                <a:lnTo>
                  <a:pt x="1734" y="1739"/>
                </a:lnTo>
                <a:lnTo>
                  <a:pt x="1734" y="291"/>
                </a:lnTo>
                <a:lnTo>
                  <a:pt x="0" y="0"/>
                </a:lnTo>
                <a:lnTo>
                  <a:pt x="0" y="1451"/>
                </a:lnTo>
                <a:close/>
              </a:path>
            </a:pathLst>
          </a:custGeom>
          <a:solidFill>
            <a:srgbClr val="a3a3f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2279520" y="1397160"/>
            <a:ext cx="1140120" cy="69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292480" y="2095560"/>
            <a:ext cx="0" cy="1714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2324160" y="3146400"/>
            <a:ext cx="1092240" cy="673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429000" y="14526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386160" y="135900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86080" y="1332000"/>
            <a:ext cx="815760" cy="771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481040" y="2960640"/>
            <a:ext cx="779400" cy="86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 flipV="1">
            <a:off x="1476360" y="1285920"/>
            <a:ext cx="0" cy="1666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2880" y="129384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117880" y="1682640"/>
            <a:ext cx="35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933560" y="37116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057480" y="9460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85920" y="82872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044800" y="40132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851040" y="64764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432320" y="111744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1378080" y="1976400"/>
            <a:ext cx="177840" cy="2034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86000" y="2046240"/>
            <a:ext cx="177840" cy="2034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H="1">
            <a:off x="3324240" y="2095560"/>
            <a:ext cx="177840" cy="203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3349440" y="2170080"/>
            <a:ext cx="177480" cy="2034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2201760" y="2671920"/>
            <a:ext cx="177840" cy="20304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>
            <a:off x="2219400" y="2724120"/>
            <a:ext cx="177840" cy="203400"/>
          </a:xfrm>
          <a:prstGeom prst="line">
            <a:avLst/>
          </a:prstGeom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236680" y="2036880"/>
            <a:ext cx="101880" cy="1015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243160" y="377028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0000" y="290052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76440" y="309708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057320" y="256860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362400" y="275256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168880" y="3073320"/>
            <a:ext cx="142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6159600" y="2031840"/>
            <a:ext cx="0" cy="1968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116760" y="201780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6730920" y="3073320"/>
            <a:ext cx="800280" cy="1168560"/>
          </a:xfrm>
          <a:prstGeom prst="line">
            <a:avLst/>
          </a:prstGeom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918040" y="2108160"/>
            <a:ext cx="228600" cy="939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4480 h 939960"/>
              <a:gd name="textAreaBottom" fmla="*/ 915480 h 939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rot="14367000">
            <a:off x="7390800" y="2869920"/>
            <a:ext cx="228600" cy="939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4480 h 939600"/>
              <a:gd name="textAreaBottom" fmla="*/ 915120 h 93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29360" y="392256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6210360" y="2959200"/>
            <a:ext cx="1685880" cy="977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H="1">
            <a:off x="7772400" y="2743200"/>
            <a:ext cx="533520" cy="1087560"/>
          </a:xfrm>
          <a:prstGeom prst="line">
            <a:avLst/>
          </a:prstGeom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835760" y="2971800"/>
            <a:ext cx="1194120" cy="53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rot="14388000">
            <a:off x="6539040" y="3340080"/>
            <a:ext cx="204480" cy="976320"/>
          </a:xfrm>
          <a:custGeom>
            <a:avLst/>
            <a:gdLst>
              <a:gd name="textAreaLeft" fmla="*/ 130680 w 204480"/>
              <a:gd name="textAreaRight" fmla="*/ 204840 w 204480"/>
              <a:gd name="textAreaTop" fmla="*/ 25200 h 976320"/>
              <a:gd name="textAreaBottom" fmla="*/ 951120 h 97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 rot="17677200">
            <a:off x="8426160" y="2907720"/>
            <a:ext cx="204840" cy="976320"/>
          </a:xfrm>
          <a:custGeom>
            <a:avLst/>
            <a:gdLst>
              <a:gd name="textAreaLeft" fmla="*/ 131040 w 204840"/>
              <a:gd name="textAreaRight" fmla="*/ 205200 w 204840"/>
              <a:gd name="textAreaTop" fmla="*/ 25200 h 976320"/>
              <a:gd name="textAreaBottom" fmla="*/ 951120 h 97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8955000" y="344952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7821720" y="2944800"/>
            <a:ext cx="88920" cy="889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886360" y="16192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5877000" y="389268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524720" y="25588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8734320" y="30733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809960" y="28954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353360" y="421956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667640" y="37339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5172120" y="272412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181480" y="299088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7105680" y="401004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7391520" y="399096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400880" y="346716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53320" y="3562200"/>
            <a:ext cx="54288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4695840" y="4819680"/>
            <a:ext cx="432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0" name=""/>
              <p:cNvSpPr txBox="1"/>
              <p:nvPr/>
            </p:nvSpPr>
            <p:spPr>
              <a:xfrm>
                <a:off x="3994200" y="5340240"/>
                <a:ext cx="907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1" name=""/>
          <p:cNvSpPr/>
          <p:nvPr/>
        </p:nvSpPr>
        <p:spPr>
          <a:xfrm>
            <a:off x="4248000" y="4562640"/>
            <a:ext cx="4705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меряем расстояние от заменяемой оси до заменяемой про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238640" y="4781520"/>
            <a:ext cx="4705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откладываем это расстояние от новой оси до новой про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24400" y="5410080"/>
            <a:ext cx="358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4" name=""/>
              <p:cNvSpPr txBox="1"/>
              <p:nvPr/>
            </p:nvSpPr>
            <p:spPr>
              <a:xfrm>
                <a:off x="3994200" y="6006960"/>
                <a:ext cx="907920" cy="57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5" name=""/>
          <p:cNvSpPr/>
          <p:nvPr/>
        </p:nvSpPr>
        <p:spPr>
          <a:xfrm>
            <a:off x="5334120" y="6039000"/>
            <a:ext cx="31431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7040" y="4581360"/>
            <a:ext cx="343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]  = [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= [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9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2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4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2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8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3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4" fill="hold">
                      <p:stCondLst>
                        <p:cond delay="indefinite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fill="hold">
                      <p:stCondLst>
                        <p:cond delay="indefinite"/>
                      </p:stCondLst>
                      <p:childTnLst>
                        <p:par>
                          <p:cTn id="1853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7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0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8" fill="hold">
                      <p:stCondLst>
                        <p:cond delay="indefinite"/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8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3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8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0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3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9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0" fill="hold">
                      <p:stCondLst>
                        <p:cond delay="indefinite"/>
                      </p:stCondLst>
                      <p:childTnLst>
                        <p:par>
                          <p:cTn id="1961" fill="hold">
                            <p:stCondLst>
                              <p:cond delay="0"/>
                            </p:stCondLst>
                            <p:childTnLst>
                              <p:par>
                                <p:cTn id="1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4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9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0" fill="hold">
                      <p:stCondLst>
                        <p:cond delay="indefinite"/>
                      </p:stCondLst>
                      <p:childTnLst>
                        <p:par>
                          <p:cTn id="1991" fill="hold">
                            <p:stCondLst>
                              <p:cond delay="0"/>
                            </p:stCondLst>
                            <p:childTnLst>
                              <p:par>
                                <p:cTn id="1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9" fill="hold">
                      <p:stCondLst>
                        <p:cond delay="indefinite"/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9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5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0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 flipV="1">
            <a:off x="3060720" y="5209920"/>
            <a:ext cx="1689120" cy="39348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241720" y="3552840"/>
            <a:ext cx="314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371760" y="2181240"/>
            <a:ext cx="1524240" cy="66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3371760" y="2168640"/>
            <a:ext cx="0" cy="174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390840" y="3933720"/>
            <a:ext cx="150516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896000" y="2828880"/>
            <a:ext cx="0" cy="13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38760" y="279072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3333600" y="2138400"/>
            <a:ext cx="9540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362320" y="4181400"/>
            <a:ext cx="3035160" cy="43200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714680" y="3330720"/>
            <a:ext cx="54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222640" y="319104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235240" y="352116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3082680" y="3914640"/>
            <a:ext cx="28260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4736880" y="4143240"/>
            <a:ext cx="15228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3137040" y="2212920"/>
            <a:ext cx="253800" cy="1320840"/>
          </a:xfrm>
          <a:custGeom>
            <a:avLst/>
            <a:gdLst>
              <a:gd name="textAreaLeft" fmla="*/ 162360 w 253800"/>
              <a:gd name="textAreaRight" fmla="*/ 254160 w 25380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rot="541800">
            <a:off x="2971800" y="4295880"/>
            <a:ext cx="177840" cy="1320840"/>
          </a:xfrm>
          <a:custGeom>
            <a:avLst/>
            <a:gdLst>
              <a:gd name="textAreaLeft" fmla="*/ 113760 w 177840"/>
              <a:gd name="textAreaRight" fmla="*/ 177840 w 1778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3025800" y="5549760"/>
            <a:ext cx="9540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711680" y="2860560"/>
            <a:ext cx="127080" cy="660600"/>
          </a:xfrm>
          <a:custGeom>
            <a:avLst/>
            <a:gdLst>
              <a:gd name="textAreaLeft" fmla="*/ 81360 w 127080"/>
              <a:gd name="textAreaRight" fmla="*/ 127440 w 12708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 rot="508800">
            <a:off x="4609800" y="4537080"/>
            <a:ext cx="127080" cy="660240"/>
          </a:xfrm>
          <a:custGeom>
            <a:avLst/>
            <a:gdLst>
              <a:gd name="textAreaLeft" fmla="*/ 81360 w 127080"/>
              <a:gd name="textAreaRight" fmla="*/ 127440 w 12708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4694400" y="516240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834080" y="409572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343320" y="388620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 rot="383400">
            <a:off x="2346840" y="38890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rot="383400">
            <a:off x="2296080" y="420660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rot="295200">
            <a:off x="1902960" y="396504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038400" y="175896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638600" y="24066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867200" y="394344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936880" y="36640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4815000" y="514188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670120" y="54673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380960" y="171360"/>
            <a:ext cx="744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 замены плоскостей проекций служит для решения четырех основных задач преобра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333440" y="80028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1 зад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прямую общего положения преобразуют в прямую уров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5600880" y="158112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6591240" y="189540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B]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6496200" y="2266920"/>
            <a:ext cx="142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377040" y="227808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B]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|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6051600" y="2901960"/>
                <a:ext cx="9079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6019920" y="363852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6019920" y="4143240"/>
            <a:ext cx="2895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| [A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5952960" y="4619520"/>
            <a:ext cx="289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[AB] ||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8" fill="hold">
                      <p:stCondLst>
                        <p:cond delay="indefinite"/>
                      </p:stCondLst>
                      <p:childTnLst>
                        <p:par>
                          <p:cTn id="2029" fill="hold">
                            <p:stCondLst>
                              <p:cond delay="0"/>
                            </p:stCondLst>
                            <p:childTnLst>
                              <p:par>
                                <p:cTn id="20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2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7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6" fill="hold">
                      <p:stCondLst>
                        <p:cond delay="indefinite"/>
                      </p:stCondLst>
                      <p:childTnLst>
                        <p:par>
                          <p:cTn id="2047" fill="hold">
                            <p:stCondLst>
                              <p:cond delay="0"/>
                            </p:stCondLst>
                            <p:childTnLst>
                              <p:par>
                                <p:cTn id="20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9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fill="hold">
                      <p:stCondLst>
                        <p:cond delay="indefinite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4" fill="hold">
                      <p:stCondLst>
                        <p:cond delay="indefinite"/>
                      </p:stCondLst>
                      <p:childTnLst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0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5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2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2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78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81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8" fill="hold">
                      <p:stCondLst>
                        <p:cond delay="indefinite"/>
                      </p:stCondLst>
                      <p:childTnLst>
                        <p:par>
                          <p:cTn id="2199" fill="hold">
                            <p:stCondLst>
                              <p:cond delay="0"/>
                            </p:stCondLst>
                            <p:childTnLst>
                              <p:par>
                                <p:cTn id="2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2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7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"/>
          <p:cNvSpPr/>
          <p:nvPr/>
        </p:nvSpPr>
        <p:spPr>
          <a:xfrm rot="508800">
            <a:off x="4700520" y="3529080"/>
            <a:ext cx="144360" cy="344520"/>
          </a:xfrm>
          <a:custGeom>
            <a:avLst/>
            <a:gdLst>
              <a:gd name="textAreaLeft" fmla="*/ 92160 w 144360"/>
              <a:gd name="textAreaRight" fmla="*/ 144360 w 144360"/>
              <a:gd name="textAreaTop" fmla="*/ 8640 h 344520"/>
              <a:gd name="textAreaBottom" fmla="*/ 335880 h 3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73520" y="4114440"/>
            <a:ext cx="1801800" cy="482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3060720" y="4572000"/>
            <a:ext cx="1689120" cy="393840"/>
          </a:xfrm>
          <a:prstGeom prst="line">
            <a:avLst/>
          </a:prstGeom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41720" y="2914560"/>
            <a:ext cx="314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371760" y="1542960"/>
            <a:ext cx="1524240" cy="66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371760" y="1530360"/>
            <a:ext cx="0" cy="174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3390840" y="3295800"/>
            <a:ext cx="1505160" cy="209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4896000" y="2190600"/>
            <a:ext cx="0" cy="131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838760" y="2152800"/>
            <a:ext cx="9504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333600" y="1500120"/>
            <a:ext cx="9540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362320" y="3543480"/>
            <a:ext cx="3035160" cy="4316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222640" y="255276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35240" y="28828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3082680" y="3276720"/>
            <a:ext cx="282600" cy="1726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4736880" y="3505320"/>
            <a:ext cx="152280" cy="1079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137040" y="1574640"/>
            <a:ext cx="253800" cy="1320840"/>
          </a:xfrm>
          <a:custGeom>
            <a:avLst/>
            <a:gdLst>
              <a:gd name="textAreaLeft" fmla="*/ 162360 w 253800"/>
              <a:gd name="textAreaRight" fmla="*/ 254160 w 25380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rot="541800">
            <a:off x="2971800" y="3657600"/>
            <a:ext cx="177840" cy="1320840"/>
          </a:xfrm>
          <a:custGeom>
            <a:avLst/>
            <a:gdLst>
              <a:gd name="textAreaLeft" fmla="*/ 113760 w 177840"/>
              <a:gd name="textAreaRight" fmla="*/ 177840 w 177840"/>
              <a:gd name="textAreaTop" fmla="*/ 34200 h 1320840"/>
              <a:gd name="textAreaBottom" fmla="*/ 1286640 h 13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3025800" y="4911840"/>
            <a:ext cx="9540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740120" y="2222640"/>
            <a:ext cx="127080" cy="660240"/>
          </a:xfrm>
          <a:custGeom>
            <a:avLst/>
            <a:gdLst>
              <a:gd name="textAreaLeft" fmla="*/ 81360 w 127080"/>
              <a:gd name="textAreaRight" fmla="*/ 127440 w 12708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 rot="508800">
            <a:off x="4638240" y="3898440"/>
            <a:ext cx="127080" cy="660600"/>
          </a:xfrm>
          <a:custGeom>
            <a:avLst/>
            <a:gdLst>
              <a:gd name="textAreaLeft" fmla="*/ 81360 w 127080"/>
              <a:gd name="textAreaRight" fmla="*/ 127440 w 12708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694400" y="4524480"/>
            <a:ext cx="9504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834080" y="345744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343320" y="324792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 rot="383400">
            <a:off x="2346840" y="325080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 rot="383400">
            <a:off x="2296080" y="356832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 rot="295200">
            <a:off x="1902960" y="332712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038400" y="11206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738680" y="18144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925880" y="33498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936880" y="31417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41920" y="454644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2670120" y="482904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5918040" y="3835440"/>
            <a:ext cx="406440" cy="126504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6189840" y="5124600"/>
            <a:ext cx="63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5163800">
            <a:off x="6195600" y="4079160"/>
            <a:ext cx="103320" cy="328680"/>
          </a:xfrm>
          <a:custGeom>
            <a:avLst/>
            <a:gdLst>
              <a:gd name="textAreaLeft" fmla="*/ 66240 w 103320"/>
              <a:gd name="textAreaRight" fmla="*/ 103680 w 103320"/>
              <a:gd name="textAreaTop" fmla="*/ 8280 h 328680"/>
              <a:gd name="textAreaBottom" fmla="*/ 320400 h 32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404040" y="4086360"/>
            <a:ext cx="9504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08760" y="3720960"/>
            <a:ext cx="107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5854680" y="480060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6299280" y="480060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1333440" y="55404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2 зад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прямую общего положения преобразуют в проецирующую прям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1627200" y="27208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5600880" y="99684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6591240" y="1311120"/>
            <a:ext cx="15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B] 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6377040" y="169380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AB]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2" name=""/>
              <p:cNvSpPr txBox="1"/>
              <p:nvPr/>
            </p:nvSpPr>
            <p:spPr>
              <a:xfrm>
                <a:off x="7346880" y="2063880"/>
                <a:ext cx="7812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3" name=""/>
          <p:cNvSpPr/>
          <p:nvPr/>
        </p:nvSpPr>
        <p:spPr>
          <a:xfrm>
            <a:off x="7213680" y="2533680"/>
            <a:ext cx="1511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213680" y="3178080"/>
            <a:ext cx="203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|| [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7213680" y="3527280"/>
            <a:ext cx="14349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AB] ||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464160" y="1689120"/>
            <a:ext cx="1473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7" name=""/>
              <p:cNvSpPr txBox="1"/>
              <p:nvPr/>
            </p:nvSpPr>
            <p:spPr>
              <a:xfrm>
                <a:off x="7245360" y="4083120"/>
                <a:ext cx="7812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8" name=""/>
          <p:cNvSpPr/>
          <p:nvPr/>
        </p:nvSpPr>
        <p:spPr>
          <a:xfrm>
            <a:off x="7124760" y="2095560"/>
            <a:ext cx="190512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7061040" y="4089240"/>
            <a:ext cx="190512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7137360" y="4603680"/>
            <a:ext cx="151128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AB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7112160" y="5222880"/>
            <a:ext cx="2031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[A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7238880" y="5508720"/>
            <a:ext cx="143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[AB]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8" dur="indefinite" restart="never" nodeType="tmRoot">
          <p:childTnLst>
            <p:seq>
              <p:cTn id="2209" dur="indefinite" nodeType="mainSeq">
                <p:childTnLst>
                  <p:par>
                    <p:cTn id="2210" fill="hold">
                      <p:stCondLst>
                        <p:cond delay="indefinite"/>
                      </p:stCondLst>
                      <p:childTnLst>
                        <p:par>
                          <p:cTn id="2211" fill="hold">
                            <p:stCondLst>
                              <p:cond delay="0"/>
                            </p:stCondLst>
                            <p:childTnLst>
                              <p:par>
                                <p:cTn id="2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4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9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8" fill="hold">
                      <p:stCondLst>
                        <p:cond delay="indefinite"/>
                      </p:stCondLst>
                      <p:childTnLst>
                        <p:par>
                          <p:cTn id="2229" fill="hold">
                            <p:stCondLst>
                              <p:cond delay="0"/>
                            </p:stCondLst>
                            <p:childTnLst>
                              <p:par>
                                <p:cTn id="2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2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5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8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1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2" fill="hold">
                      <p:stCondLst>
                        <p:cond delay="indefinite"/>
                      </p:stCondLst>
                      <p:childTnLst>
                        <p:par>
                          <p:cTn id="2243" fill="hold">
                            <p:stCondLst>
                              <p:cond delay="0"/>
                            </p:stCondLst>
                            <p:childTnLst>
                              <p:par>
                                <p:cTn id="2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2" fill="hold">
                      <p:stCondLst>
                        <p:cond delay="indefinite"/>
                      </p:stCondLst>
                      <p:childTnLst>
                        <p:par>
                          <p:cTn id="2253" fill="hold">
                            <p:stCondLst>
                              <p:cond delay="0"/>
                            </p:stCondLst>
                            <p:childTnLst>
                              <p:par>
                                <p:cTn id="2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0" fill="hold">
                      <p:stCondLst>
                        <p:cond delay="indefinite"/>
                      </p:stCondLst>
                      <p:childTnLst>
                        <p:par>
                          <p:cTn id="2261" fill="hold">
                            <p:stCondLst>
                              <p:cond delay="0"/>
                            </p:stCondLst>
                            <p:childTnLst>
                              <p:par>
                                <p:cTn id="2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2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5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6" fill="hold">
                      <p:stCondLst>
                        <p:cond delay="indefinite"/>
                      </p:stCondLst>
                      <p:childTnLst>
                        <p:par>
                          <p:cTn id="2287" fill="hold">
                            <p:stCondLst>
                              <p:cond delay="0"/>
                            </p:stCondLst>
                            <p:childTnLst>
                              <p:par>
                                <p:cTn id="2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0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5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5" fill="hold">
                      <p:stCondLst>
                        <p:cond delay="indefinite"/>
                      </p:stCondLst>
                      <p:childTnLst>
                        <p:par>
                          <p:cTn id="2306" fill="hold">
                            <p:stCondLst>
                              <p:cond delay="0"/>
                            </p:stCondLst>
                            <p:childTnLst>
                              <p:par>
                                <p:cTn id="2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3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8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0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3" dur="2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6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9" dur="2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1" fill="hold">
                      <p:stCondLst>
                        <p:cond delay="indefinite"/>
                      </p:stCondLst>
                      <p:childTnLst>
                        <p:par>
                          <p:cTn id="2342" fill="hold">
                            <p:stCondLst>
                              <p:cond delay="0"/>
                            </p:stCondLst>
                            <p:childTnLst>
                              <p:par>
                                <p:cTn id="2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5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0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6" fill="hold">
                      <p:stCondLst>
                        <p:cond delay="indefinite"/>
                      </p:stCondLst>
                      <p:childTnLst>
                        <p:par>
                          <p:cTn id="2357" fill="hold">
                            <p:stCondLst>
                              <p:cond delay="0"/>
                            </p:stCondLst>
                            <p:childTnLst>
                              <p:par>
                                <p:cTn id="2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0" fill="hold">
                      <p:stCondLst>
                        <p:cond delay="indefinite"/>
                      </p:stCondLst>
                      <p:childTnLst>
                        <p:par>
                          <p:cTn id="2361" fill="hold">
                            <p:stCondLst>
                              <p:cond delay="0"/>
                            </p:stCondLst>
                            <p:childTnLst>
                              <p:par>
                                <p:cTn id="2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fill="hold">
                      <p:stCondLst>
                        <p:cond delay="indefinite"/>
                      </p:stCondLst>
                      <p:childTnLst>
                        <p:par>
                          <p:cTn id="2374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7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8" fill="hold">
                      <p:stCondLst>
                        <p:cond delay="indefinite"/>
                      </p:stCondLst>
                      <p:childTnLst>
                        <p:par>
                          <p:cTn id="2379" fill="hold">
                            <p:stCondLst>
                              <p:cond delay="0"/>
                            </p:stCondLst>
                            <p:childTnLst>
                              <p:par>
                                <p:cTn id="2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2" fill="hold">
                      <p:stCondLst>
                        <p:cond delay="indefinite"/>
                      </p:stCondLst>
                      <p:childTnLst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5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8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4" fill="hold">
                      <p:stCondLst>
                        <p:cond delay="indefinite"/>
                      </p:stCondLst>
                      <p:childTnLst>
                        <p:par>
                          <p:cTn id="2395" fill="hold">
                            <p:stCondLst>
                              <p:cond delay="0"/>
                            </p:stCondLst>
                            <p:childTnLst>
                              <p:par>
                                <p:cTn id="2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8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8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3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8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3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4" fill="hold">
                      <p:stCondLst>
                        <p:cond delay="indefinite"/>
                      </p:stCondLst>
                      <p:childTnLst>
                        <p:par>
                          <p:cTn id="2425" fill="hold">
                            <p:stCondLst>
                              <p:cond delay="0"/>
                            </p:stCondLst>
                            <p:childTnLst>
                              <p:par>
                                <p:cTn id="2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8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9" fill="hold">
                      <p:stCondLst>
                        <p:cond delay="indefinite"/>
                      </p:stCondLst>
                      <p:childTnLst>
                        <p:par>
                          <p:cTn id="2430" fill="hold">
                            <p:stCondLst>
                              <p:cond delay="0"/>
                            </p:stCondLst>
                            <p:childTnLst>
                              <p:par>
                                <p:cTn id="24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3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4" fill="hold">
                      <p:stCondLst>
                        <p:cond delay="indefinite"/>
                      </p:stCondLst>
                      <p:childTnLst>
                        <p:par>
                          <p:cTn id="2435" fill="hold">
                            <p:stCondLst>
                              <p:cond delay="0"/>
                            </p:stCondLst>
                            <p:childTnLst>
                              <p:par>
                                <p:cTn id="2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8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3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4" fill="hold">
                      <p:stCondLst>
                        <p:cond delay="indefinite"/>
                      </p:stCondLst>
                      <p:childTnLst>
                        <p:par>
                          <p:cTn id="2445" fill="hold">
                            <p:stCondLst>
                              <p:cond delay="0"/>
                            </p:stCondLst>
                            <p:childTnLst>
                              <p:par>
                                <p:cTn id="2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4" fill="hold">
                      <p:stCondLst>
                        <p:cond delay="indefinite"/>
                      </p:stCondLst>
                      <p:childTnLst>
                        <p:par>
                          <p:cTn id="2455" fill="hold">
                            <p:stCondLst>
                              <p:cond delay="0"/>
                            </p:stCondLst>
                            <p:childTnLst>
                              <p:par>
                                <p:cTn id="2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 flipH="1">
            <a:off x="3562200" y="4000680"/>
            <a:ext cx="57168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4162320" y="4025880"/>
            <a:ext cx="82548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573120" y="2914560"/>
            <a:ext cx="3149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1374840" y="2063880"/>
            <a:ext cx="0" cy="125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330720" y="2432160"/>
            <a:ext cx="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554040" y="255276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566640" y="28828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159000" y="2463840"/>
            <a:ext cx="168480" cy="431640"/>
          </a:xfrm>
          <a:custGeom>
            <a:avLst/>
            <a:gdLst>
              <a:gd name="textAreaLeft" fmla="*/ 107640 w 168480"/>
              <a:gd name="textAreaRight" fmla="*/ 168840 w 1684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939960" y="178128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939960" y="302580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96840" y="26798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355760" y="1155600"/>
            <a:ext cx="1994040" cy="1308240"/>
          </a:xfrm>
          <a:custGeom>
            <a:avLst/>
            <a:gdLst/>
            <a:ahLst/>
            <a:rect l="l" t="t" r="r" b="b"/>
            <a:pathLst>
              <a:path w="936" h="712">
                <a:moveTo>
                  <a:pt x="0" y="496"/>
                </a:moveTo>
                <a:lnTo>
                  <a:pt x="584" y="0"/>
                </a:lnTo>
                <a:lnTo>
                  <a:pt x="936" y="712"/>
                </a:lnTo>
                <a:lnTo>
                  <a:pt x="0" y="49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1355760" y="3289320"/>
            <a:ext cx="1968480" cy="1295280"/>
          </a:xfrm>
          <a:custGeom>
            <a:avLst/>
            <a:gdLst/>
            <a:ahLst/>
            <a:rect l="l" t="t" r="r" b="b"/>
            <a:pathLst>
              <a:path w="1240" h="816">
                <a:moveTo>
                  <a:pt x="0" y="0"/>
                </a:moveTo>
                <a:lnTo>
                  <a:pt x="784" y="816"/>
                </a:lnTo>
                <a:lnTo>
                  <a:pt x="1240" y="28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1393920" y="2076480"/>
            <a:ext cx="172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110040" y="2044800"/>
            <a:ext cx="0" cy="19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380960" y="3314880"/>
            <a:ext cx="177012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2587680" y="1155600"/>
            <a:ext cx="0" cy="341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3121200" y="3949560"/>
            <a:ext cx="121896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 flipH="1">
            <a:off x="3057120" y="3390840"/>
            <a:ext cx="901800" cy="2171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3324240" y="3733920"/>
            <a:ext cx="8254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2600280" y="4584600"/>
            <a:ext cx="238752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2333520" y="1168560"/>
            <a:ext cx="266760" cy="1739880"/>
          </a:xfrm>
          <a:custGeom>
            <a:avLst/>
            <a:gdLst>
              <a:gd name="textAreaLeft" fmla="*/ 170640 w 266760"/>
              <a:gd name="textAreaRight" fmla="*/ 266760 w 266760"/>
              <a:gd name="textAreaTop" fmla="*/ 45360 h 1739880"/>
              <a:gd name="textAreaBottom" fmla="*/ 169452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 rot="17321400">
            <a:off x="3997440" y="4368600"/>
            <a:ext cx="266760" cy="1739880"/>
          </a:xfrm>
          <a:custGeom>
            <a:avLst/>
            <a:gdLst>
              <a:gd name="textAreaLeft" fmla="*/ 170640 w 266760"/>
              <a:gd name="textAreaRight" fmla="*/ 266760 w 266760"/>
              <a:gd name="textAreaTop" fmla="*/ 45360 h 1739880"/>
              <a:gd name="textAreaBottom" fmla="*/ 169452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4943520" y="533556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 rot="17338800">
            <a:off x="3848040" y="3806280"/>
            <a:ext cx="168120" cy="432000"/>
          </a:xfrm>
          <a:custGeom>
            <a:avLst/>
            <a:gdLst>
              <a:gd name="textAreaLeft" fmla="*/ 107640 w 168120"/>
              <a:gd name="textAreaRight" fmla="*/ 168480 w 1681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118040" y="397656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2519280" y="8539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2349360" y="44989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3289320" y="341964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3314880" y="226368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4191120" y="374976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4989600" y="530712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4368960" y="419400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2879640" y="55371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3133800" y="530856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2664000" y="5295960"/>
            <a:ext cx="54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193760" y="27468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3 зад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плоскость общего положения преобразуют в проецирующ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4308480" y="4319640"/>
            <a:ext cx="9540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4838760" y="99684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829480" y="131112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.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614920" y="1693800"/>
            <a:ext cx="14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"/>
              <p:cNvSpPr txBox="1"/>
              <p:nvPr/>
            </p:nvSpPr>
            <p:spPr>
              <a:xfrm>
                <a:off x="7232760" y="2190600"/>
                <a:ext cx="780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5" name=""/>
          <p:cNvSpPr/>
          <p:nvPr/>
        </p:nvSpPr>
        <p:spPr>
          <a:xfrm>
            <a:off x="7099200" y="2660760"/>
            <a:ext cx="2146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      h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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099200" y="3419640"/>
            <a:ext cx="203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7188120" y="3807000"/>
            <a:ext cx="143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702400" y="1689120"/>
            <a:ext cx="147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6953400" y="2108160"/>
            <a:ext cx="1904760" cy="22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63720" y="1676520"/>
            <a:ext cx="55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889280" y="3505320"/>
            <a:ext cx="55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3929040" y="4533840"/>
            <a:ext cx="528840" cy="101520"/>
          </a:xfrm>
          <a:custGeom>
            <a:avLst/>
            <a:gdLst/>
            <a:ahLst/>
            <a:rect l="l" t="t" r="r" b="b"/>
            <a:pathLst>
              <a:path w="333" h="64">
                <a:moveTo>
                  <a:pt x="0" y="0"/>
                </a:moveTo>
                <a:cubicBezTo>
                  <a:pt x="32" y="22"/>
                  <a:pt x="64" y="45"/>
                  <a:pt x="102" y="54"/>
                </a:cubicBezTo>
                <a:cubicBezTo>
                  <a:pt x="140" y="63"/>
                  <a:pt x="190" y="64"/>
                  <a:pt x="228" y="57"/>
                </a:cubicBezTo>
                <a:cubicBezTo>
                  <a:pt x="266" y="50"/>
                  <a:pt x="299" y="29"/>
                  <a:pt x="333" y="9"/>
                </a:cubicBezTo>
              </a:path>
            </a:pathLst>
          </a:custGeom>
          <a:noFill/>
          <a:ln w="28440">
            <a:solidFill>
              <a:srgbClr val="ff00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3862440" y="4500720"/>
            <a:ext cx="5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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4" dur="indefinite" restart="never" nodeType="tmRoot">
          <p:childTnLst>
            <p:seq>
              <p:cTn id="2465" dur="indefinite" nodeType="mainSeq">
                <p:childTnLst>
                  <p:par>
                    <p:cTn id="2466" fill="hold">
                      <p:stCondLst>
                        <p:cond delay="indefinite"/>
                      </p:stCondLst>
                      <p:childTnLst>
                        <p:par>
                          <p:cTn id="2467" fill="hold">
                            <p:stCondLst>
                              <p:cond delay="0"/>
                            </p:stCondLst>
                            <p:childTnLst>
                              <p:par>
                                <p:cTn id="24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0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6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1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4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8" fill="hold">
                      <p:stCondLst>
                        <p:cond delay="indefinite"/>
                      </p:stCondLst>
                      <p:childTnLst>
                        <p:par>
                          <p:cTn id="2499" fill="hold">
                            <p:stCondLst>
                              <p:cond delay="0"/>
                            </p:stCondLst>
                            <p:childTnLst>
                              <p:par>
                                <p:cTn id="2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2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7" fill="hold">
                      <p:stCondLst>
                        <p:cond delay="indefinite"/>
                      </p:stCondLst>
                      <p:childTnLst>
                        <p:par>
                          <p:cTn id="2518" fill="hold">
                            <p:stCondLst>
                              <p:cond delay="0"/>
                            </p:stCondLst>
                            <p:childTnLst>
                              <p:par>
                                <p:cTn id="2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1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2" fill="hold">
                      <p:stCondLst>
                        <p:cond delay="indefinite"/>
                      </p:stCondLst>
                      <p:childTnLst>
                        <p:par>
                          <p:cTn id="2523" fill="hold">
                            <p:stCondLst>
                              <p:cond delay="0"/>
                            </p:stCondLst>
                            <p:childTnLst>
                              <p:par>
                                <p:cTn id="2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6" fill="hold">
                      <p:stCondLst>
                        <p:cond delay="indefinite"/>
                      </p:stCondLst>
                      <p:childTnLst>
                        <p:par>
                          <p:cTn id="2527" fill="hold">
                            <p:stCondLst>
                              <p:cond delay="0"/>
                            </p:stCondLst>
                            <p:childTnLst>
                              <p:par>
                                <p:cTn id="25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0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6" fill="hold">
                      <p:stCondLst>
                        <p:cond delay="indefinite"/>
                      </p:stCondLst>
                      <p:childTnLst>
                        <p:par>
                          <p:cTn id="2537" fill="hold">
                            <p:stCondLst>
                              <p:cond delay="0"/>
                            </p:stCondLst>
                            <p:childTnLst>
                              <p:par>
                                <p:cTn id="2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fill="hold">
                      <p:stCondLst>
                        <p:cond delay="indefinite"/>
                      </p:stCondLst>
                      <p:childTnLst>
                        <p:par>
                          <p:cTn id="2541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7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0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6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6" fill="hold">
                      <p:stCondLst>
                        <p:cond delay="indefinite"/>
                      </p:stCondLst>
                      <p:childTnLst>
                        <p:par>
                          <p:cTn id="2577" fill="hold">
                            <p:stCondLst>
                              <p:cond delay="0"/>
                            </p:stCondLst>
                            <p:childTnLst>
                              <p:par>
                                <p:cTn id="2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0" fill="hold">
                      <p:stCondLst>
                        <p:cond delay="indefinite"/>
                      </p:stCondLst>
                      <p:childTnLst>
                        <p:par>
                          <p:cTn id="2581" fill="hold">
                            <p:stCondLst>
                              <p:cond delay="0"/>
                            </p:stCondLst>
                            <p:childTnLst>
                              <p:par>
                                <p:cTn id="25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4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fill="hold">
                      <p:stCondLst>
                        <p:cond delay="indefinite"/>
                      </p:stCondLst>
                      <p:childTnLst>
                        <p:par>
                          <p:cTn id="2591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fill="hold">
                      <p:stCondLst>
                        <p:cond delay="indefinite"/>
                      </p:stCondLst>
                      <p:childTnLst>
                        <p:par>
                          <p:cTn id="2599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2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fill="hold">
                      <p:stCondLst>
                        <p:cond delay="indefinite"/>
                      </p:stCondLst>
                      <p:childTnLst>
                        <p:par>
                          <p:cTn id="2617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fill="hold">
                      <p:stCondLst>
                        <p:cond delay="indefinite"/>
                      </p:stCondLst>
                      <p:childTnLst>
                        <p:par>
                          <p:cTn id="2622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5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fill="hold">
                      <p:stCondLst>
                        <p:cond delay="indefinite"/>
                      </p:stCondLst>
                      <p:childTnLst>
                        <p:par>
                          <p:cTn id="2627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0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0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527880" y="60958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315200" y="4851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729320" y="50306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87520" y="4438800"/>
            <a:ext cx="1054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879560" y="566424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92200" y="54738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36180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нные 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6120" y="952560"/>
            <a:ext cx="713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Многогранником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называют замкнутые пространственные фигуры, ограниченные плоскими многоуголь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2908440"/>
            <a:ext cx="2057400" cy="1898640"/>
          </a:xfrm>
          <a:custGeom>
            <a:avLst/>
            <a:gdLst/>
            <a:ahLst/>
            <a:rect l="l" t="t" r="r" b="b"/>
            <a:pathLst>
              <a:path w="1296" h="1196">
                <a:moveTo>
                  <a:pt x="0" y="1196"/>
                </a:moveTo>
                <a:lnTo>
                  <a:pt x="644" y="0"/>
                </a:lnTo>
                <a:lnTo>
                  <a:pt x="1296" y="1196"/>
                </a:lnTo>
                <a:lnTo>
                  <a:pt x="0" y="119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1542960" y="2908440"/>
            <a:ext cx="457200" cy="18856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65160" y="4788000"/>
            <a:ext cx="0" cy="24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36840" y="4788000"/>
            <a:ext cx="0" cy="157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21120" y="4788000"/>
            <a:ext cx="0" cy="660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7760" y="5067360"/>
            <a:ext cx="2041560" cy="1346040"/>
          </a:xfrm>
          <a:custGeom>
            <a:avLst/>
            <a:gdLst/>
            <a:ahLst/>
            <a:rect l="l" t="t" r="r" b="b"/>
            <a:pathLst>
              <a:path w="1286" h="848">
                <a:moveTo>
                  <a:pt x="0" y="0"/>
                </a:moveTo>
                <a:lnTo>
                  <a:pt x="1286" y="256"/>
                </a:lnTo>
                <a:lnTo>
                  <a:pt x="352" y="848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994040" y="2984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979560" y="5084640"/>
            <a:ext cx="1006560" cy="57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1531800" y="5651640"/>
            <a:ext cx="470160" cy="7556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996920" y="5486040"/>
            <a:ext cx="987480" cy="1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70400" y="2971800"/>
            <a:ext cx="2057400" cy="1879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918040" y="2971800"/>
            <a:ext cx="0" cy="1879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57800" y="486396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19840" y="4863960"/>
            <a:ext cx="0" cy="1562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5143680"/>
            <a:ext cx="2057400" cy="1307880"/>
          </a:xfrm>
          <a:custGeom>
            <a:avLst/>
            <a:gdLst/>
            <a:ahLst/>
            <a:rect l="l" t="t" r="r" b="b"/>
            <a:pathLst>
              <a:path w="1296" h="824">
                <a:moveTo>
                  <a:pt x="0" y="0"/>
                </a:moveTo>
                <a:lnTo>
                  <a:pt x="1296" y="400"/>
                </a:lnTo>
                <a:lnTo>
                  <a:pt x="408" y="824"/>
                </a:lnTo>
                <a:lnTo>
                  <a:pt x="0" y="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94040" y="2895480"/>
            <a:ext cx="495000" cy="19242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476440" y="4851360"/>
            <a:ext cx="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1981080" y="5663880"/>
            <a:ext cx="495360" cy="16524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3400" y="4051440"/>
            <a:ext cx="0" cy="16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22640" y="571500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25680" y="474984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43280" y="290844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425680" y="576576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14680" y="25020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79560" y="3676680"/>
            <a:ext cx="1047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cc3300"/>
                </a:solidFill>
                <a:latin typeface="Symbol"/>
                <a:ea typeface="Symbol"/>
              </a:rPr>
              <a:t>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r>
              <a:rPr b="1" lang="en-US" sz="1800" spc="-1" strike="noStrike" baseline="30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235240" y="402588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64160" y="34923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54960" y="3898800"/>
            <a:ext cx="0" cy="21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616800" y="3860640"/>
            <a:ext cx="101520" cy="10188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03840" y="6045120"/>
            <a:ext cx="10188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1549440"/>
            <a:ext cx="54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Грани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угольник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ногогран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1866960"/>
            <a:ext cx="54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ебр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нии пересечения гра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197080"/>
            <a:ext cx="542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ершины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чки пересечения реб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95360" y="44449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68560" y="44578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22560" y="4495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60720" y="52578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520" y="631332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20560" y="50166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11560" y="5892840"/>
            <a:ext cx="52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03760" y="45180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407200" y="453060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4760" y="4495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153200" y="57513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27520" y="6491160"/>
            <a:ext cx="5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87520" y="4978440"/>
            <a:ext cx="52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94040" y="5353200"/>
            <a:ext cx="495000" cy="30456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222640" y="542304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17720" y="49528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N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Arial"/>
              </a:rPr>
              <a:t>1</a:t>
            </a:r>
            <a:r>
              <a:rPr b="1" lang="ru-RU" sz="1800" spc="-1" strike="noStrike" baseline="30000">
                <a:solidFill>
                  <a:srgbClr val="cc33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25680" y="530856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943280" y="5626080"/>
            <a:ext cx="101520" cy="1015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4716360" y="3121200"/>
            <a:ext cx="2003400" cy="1755720"/>
          </a:xfrm>
          <a:custGeom>
            <a:avLst/>
            <a:gdLst/>
            <a:ahLst/>
            <a:rect l="l" t="t" r="r" b="b"/>
            <a:pathLst>
              <a:path w="1262" h="1106">
                <a:moveTo>
                  <a:pt x="0" y="320"/>
                </a:moveTo>
                <a:lnTo>
                  <a:pt x="1262" y="0"/>
                </a:lnTo>
                <a:lnTo>
                  <a:pt x="732" y="1106"/>
                </a:lnTo>
                <a:lnTo>
                  <a:pt x="0" y="32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3990960" y="4025880"/>
            <a:ext cx="825480" cy="1371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47560" y="2914560"/>
            <a:ext cx="2675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203480" y="2044800"/>
            <a:ext cx="0" cy="1251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3159000" y="2432160"/>
            <a:ext cx="0" cy="1314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61960" y="250812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44680" y="2867040"/>
            <a:ext cx="54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2987640" y="2463840"/>
            <a:ext cx="168480" cy="431640"/>
          </a:xfrm>
          <a:custGeom>
            <a:avLst/>
            <a:gdLst>
              <a:gd name="textAreaLeft" fmla="*/ 107640 w 168480"/>
              <a:gd name="textAreaRight" fmla="*/ 168840 w 16848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68240" y="17812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68240" y="30258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74520" y="27525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184400" y="1155600"/>
            <a:ext cx="1993680" cy="1308240"/>
          </a:xfrm>
          <a:custGeom>
            <a:avLst/>
            <a:gdLst/>
            <a:ahLst/>
            <a:rect l="l" t="t" r="r" b="b"/>
            <a:pathLst>
              <a:path w="936" h="712">
                <a:moveTo>
                  <a:pt x="0" y="496"/>
                </a:moveTo>
                <a:lnTo>
                  <a:pt x="584" y="0"/>
                </a:lnTo>
                <a:lnTo>
                  <a:pt x="936" y="712"/>
                </a:lnTo>
                <a:lnTo>
                  <a:pt x="0" y="496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184400" y="3289320"/>
            <a:ext cx="1968480" cy="1295280"/>
          </a:xfrm>
          <a:custGeom>
            <a:avLst/>
            <a:gdLst/>
            <a:ahLst/>
            <a:rect l="l" t="t" r="r" b="b"/>
            <a:pathLst>
              <a:path w="1240" h="816">
                <a:moveTo>
                  <a:pt x="0" y="0"/>
                </a:moveTo>
                <a:lnTo>
                  <a:pt x="784" y="816"/>
                </a:lnTo>
                <a:lnTo>
                  <a:pt x="1240" y="280"/>
                </a:lnTo>
                <a:lnTo>
                  <a:pt x="0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222200" y="2076480"/>
            <a:ext cx="1727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938320" y="2044800"/>
            <a:ext cx="0" cy="1917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209600" y="3314880"/>
            <a:ext cx="1770120" cy="64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416320" y="1155600"/>
            <a:ext cx="0" cy="3416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2949480" y="3949560"/>
            <a:ext cx="1219320" cy="4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2885760" y="3390840"/>
            <a:ext cx="901800" cy="2171880"/>
          </a:xfrm>
          <a:prstGeom prst="line">
            <a:avLst/>
          </a:prstGeom>
          <a:ln w="381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3152880" y="3733920"/>
            <a:ext cx="825480" cy="26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428920" y="4584600"/>
            <a:ext cx="2387520" cy="8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2162160" y="1168560"/>
            <a:ext cx="266760" cy="1739880"/>
          </a:xfrm>
          <a:custGeom>
            <a:avLst/>
            <a:gdLst>
              <a:gd name="textAreaLeft" fmla="*/ 170640 w 266760"/>
              <a:gd name="textAreaRight" fmla="*/ 266760 w 266760"/>
              <a:gd name="textAreaTop" fmla="*/ 45360 h 1739880"/>
              <a:gd name="textAreaBottom" fmla="*/ 169452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rot="17321400">
            <a:off x="3825720" y="4368600"/>
            <a:ext cx="266760" cy="1739880"/>
          </a:xfrm>
          <a:custGeom>
            <a:avLst/>
            <a:gdLst>
              <a:gd name="textAreaLeft" fmla="*/ 170640 w 266760"/>
              <a:gd name="textAreaRight" fmla="*/ 266760 w 266760"/>
              <a:gd name="textAreaTop" fmla="*/ 45360 h 1739880"/>
              <a:gd name="textAreaBottom" fmla="*/ 1694520 h 173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772160" y="533556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rot="17338800">
            <a:off x="3676680" y="3806640"/>
            <a:ext cx="168120" cy="431640"/>
          </a:xfrm>
          <a:custGeom>
            <a:avLst/>
            <a:gdLst>
              <a:gd name="textAreaLeft" fmla="*/ 107640 w 168120"/>
              <a:gd name="textAreaRight" fmla="*/ 168480 w 1681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3946680" y="3976560"/>
            <a:ext cx="9504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2190600" y="8539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2178000" y="44989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117960" y="341964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143160" y="22636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790800" y="35784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4826160" y="5291280"/>
            <a:ext cx="552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4197240" y="419400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2708280" y="553716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2962440" y="5308560"/>
            <a:ext cx="54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2492280" y="529596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193760" y="274680"/>
            <a:ext cx="747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4</a:t>
            </a: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 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ru-RU" sz="1800" spc="-1" strike="noStrike">
                <a:solidFill>
                  <a:srgbClr val="0033cc"/>
                </a:solidFill>
                <a:latin typeface="Arial"/>
              </a:rPr>
              <a:t>плоскость общего положения преобразуют в плоскость уров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137120" y="4319640"/>
            <a:ext cx="9504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4838760" y="99684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172120" y="1311120"/>
            <a:ext cx="182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ВС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.п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4957920" y="1693800"/>
            <a:ext cx="148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||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5" name=""/>
              <p:cNvSpPr txBox="1"/>
              <p:nvPr/>
            </p:nvSpPr>
            <p:spPr>
              <a:xfrm>
                <a:off x="7232760" y="2190600"/>
                <a:ext cx="78084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6" name=""/>
          <p:cNvSpPr/>
          <p:nvPr/>
        </p:nvSpPr>
        <p:spPr>
          <a:xfrm>
            <a:off x="7099200" y="3419640"/>
            <a:ext cx="203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2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7188120" y="3807000"/>
            <a:ext cx="143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045040" y="1689120"/>
            <a:ext cx="1473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904080" y="1998720"/>
            <a:ext cx="1905120" cy="220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1692360" y="1676520"/>
            <a:ext cx="558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1717560" y="3505320"/>
            <a:ext cx="559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099200" y="2660760"/>
            <a:ext cx="2146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       h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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952800" y="3638520"/>
            <a:ext cx="76032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4219560" y="3117600"/>
            <a:ext cx="2489040" cy="124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867200" y="4871520"/>
            <a:ext cx="962280" cy="48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17259600">
            <a:off x="3264480" y="3656520"/>
            <a:ext cx="165240" cy="44604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6040"/>
              <a:gd name="textAreaBottom" fmla="*/ 434520 h 44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200480" y="3610080"/>
            <a:ext cx="1285920" cy="222552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 rot="14727000">
            <a:off x="4493160" y="3575160"/>
            <a:ext cx="165240" cy="446400"/>
          </a:xfrm>
          <a:custGeom>
            <a:avLst/>
            <a:gdLst>
              <a:gd name="textAreaLeft" fmla="*/ 105480 w 165240"/>
              <a:gd name="textAreaRight" fmla="*/ 165600 w 165240"/>
              <a:gd name="textAreaTop" fmla="*/ 11520 h 446400"/>
              <a:gd name="textAreaBottom" fmla="*/ 434880 h 44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 rot="17394600">
            <a:off x="2686680" y="4393080"/>
            <a:ext cx="176040" cy="777960"/>
          </a:xfrm>
          <a:custGeom>
            <a:avLst/>
            <a:gdLst>
              <a:gd name="textAreaLeft" fmla="*/ 112680 w 176040"/>
              <a:gd name="textAreaRight" fmla="*/ 176400 w 176040"/>
              <a:gd name="textAreaTop" fmla="*/ 20160 h 777960"/>
              <a:gd name="textAreaBottom" fmla="*/ 757800 h 77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 rot="14679000">
            <a:off x="5463000" y="4730760"/>
            <a:ext cx="176040" cy="777960"/>
          </a:xfrm>
          <a:custGeom>
            <a:avLst/>
            <a:gdLst>
              <a:gd name="textAreaLeft" fmla="*/ 112680 w 176040"/>
              <a:gd name="textAreaRight" fmla="*/ 176400 w 176040"/>
              <a:gd name="textAreaTop" fmla="*/ 20160 h 777960"/>
              <a:gd name="textAreaBottom" fmla="*/ 757800 h 777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 rot="17428800">
            <a:off x="2185920" y="2587680"/>
            <a:ext cx="223920" cy="2408400"/>
          </a:xfrm>
          <a:custGeom>
            <a:avLst/>
            <a:gdLst>
              <a:gd name="textAreaLeft" fmla="*/ 143280 w 223920"/>
              <a:gd name="textAreaRight" fmla="*/ 224280 w 223920"/>
              <a:gd name="textAreaTop" fmla="*/ 62640 h 2408400"/>
              <a:gd name="textAreaBottom" fmla="*/ 2345760 h 240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 rot="14628000">
            <a:off x="5545080" y="2563920"/>
            <a:ext cx="270000" cy="2412720"/>
          </a:xfrm>
          <a:custGeom>
            <a:avLst/>
            <a:gdLst>
              <a:gd name="textAreaLeft" fmla="*/ 172440 w 270000"/>
              <a:gd name="textAreaRight" fmla="*/ 270360 w 270000"/>
              <a:gd name="textAreaTop" fmla="*/ 62640 h 2412720"/>
              <a:gd name="textAreaBottom" fmla="*/ 2350080 h 24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673520" y="3594240"/>
            <a:ext cx="9540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6647040" y="3086280"/>
            <a:ext cx="95040" cy="9504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803920" y="4827600"/>
            <a:ext cx="95400" cy="95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276880" y="5827680"/>
            <a:ext cx="59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5035680" y="558468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5457960" y="5568840"/>
            <a:ext cx="546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7216920" y="4498920"/>
                <a:ext cx="78084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den>
                    </m:f>
                    <m:r>
                      <m:t xml:space="preserve">→</m:t>
                    </m:r>
                    <m:f>
                      <m:num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П</m:t>
                            </m:r>
                          </m:e>
                          <m:sub>
                            <m:r>
                              <m:t xml:space="preserve">5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0" name=""/>
          <p:cNvSpPr/>
          <p:nvPr/>
        </p:nvSpPr>
        <p:spPr>
          <a:xfrm>
            <a:off x="7083360" y="5727600"/>
            <a:ext cx="203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||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172280" y="6114960"/>
            <a:ext cx="1435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||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6888240" y="4307040"/>
            <a:ext cx="1904760" cy="22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083360" y="4968720"/>
            <a:ext cx="21463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16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||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4476600" y="32353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6311880" y="270828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5873760" y="4767120"/>
            <a:ext cx="552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0" dur="indefinite" restart="never" nodeType="tmRoot">
          <p:childTnLst>
            <p:seq>
              <p:cTn id="2671" dur="indefinite" nodeType="mainSeq">
                <p:childTnLst>
                  <p:par>
                    <p:cTn id="2672" fill="hold">
                      <p:stCondLst>
                        <p:cond delay="indefinite"/>
                      </p:stCondLst>
                      <p:childTnLst>
                        <p:par>
                          <p:cTn id="2673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1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8" fill="hold">
                      <p:stCondLst>
                        <p:cond delay="indefinite"/>
                      </p:stCondLst>
                      <p:childTnLst>
                        <p:par>
                          <p:cTn id="2689" fill="hold">
                            <p:stCondLst>
                              <p:cond delay="0"/>
                            </p:stCondLst>
                            <p:childTnLst>
                              <p:par>
                                <p:cTn id="26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2" dur="2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7" dur="20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0" dur="2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3" dur="20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4" fill="hold">
                      <p:stCondLst>
                        <p:cond delay="indefinite"/>
                      </p:stCondLst>
                      <p:childTnLst>
                        <p:par>
                          <p:cTn id="2705" fill="hold">
                            <p:stCondLst>
                              <p:cond delay="0"/>
                            </p:stCondLst>
                            <p:childTnLst>
                              <p:par>
                                <p:cTn id="27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8" dur="2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8" fill="hold">
                      <p:stCondLst>
                        <p:cond delay="indefinite"/>
                      </p:stCondLst>
                      <p:childTnLst>
                        <p:par>
                          <p:cTn id="2729" fill="hold">
                            <p:stCondLst>
                              <p:cond delay="0"/>
                            </p:stCondLst>
                            <p:childTnLst>
                              <p:par>
                                <p:cTn id="2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2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8" fill="hold">
                      <p:stCondLst>
                        <p:cond delay="indefinite"/>
                      </p:stCondLst>
                      <p:childTnLst>
                        <p:par>
                          <p:cTn id="2739" fill="hold">
                            <p:stCondLst>
                              <p:cond delay="0"/>
                            </p:stCondLst>
                            <p:childTnLst>
                              <p:par>
                                <p:cTn id="27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2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8" fill="hold">
                      <p:stCondLst>
                        <p:cond delay="indefinite"/>
                      </p:stCondLst>
                      <p:childTnLst>
                        <p:par>
                          <p:cTn id="2749" fill="hold">
                            <p:stCondLst>
                              <p:cond delay="0"/>
                            </p:stCondLst>
                            <p:childTnLst>
                              <p:par>
                                <p:cTn id="2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6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2" fill="hold">
                      <p:stCondLst>
                        <p:cond delay="indefinite"/>
                      </p:stCondLst>
                      <p:childTnLst>
                        <p:par>
                          <p:cTn id="2763" fill="hold">
                            <p:stCondLst>
                              <p:cond delay="0"/>
                            </p:stCondLst>
                            <p:childTnLst>
                              <p:par>
                                <p:cTn id="2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1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8" fill="hold">
                      <p:stCondLst>
                        <p:cond delay="indefinite"/>
                      </p:stCondLst>
                      <p:childTnLst>
                        <p:par>
                          <p:cTn id="2789" fill="hold">
                            <p:stCondLst>
                              <p:cond delay="0"/>
                            </p:stCondLst>
                            <p:childTnLst>
                              <p:par>
                                <p:cTn id="2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8" fill="hold">
                      <p:stCondLst>
                        <p:cond delay="indefinite"/>
                      </p:stCondLst>
                      <p:childTnLst>
                        <p:par>
                          <p:cTn id="2799" fill="hold">
                            <p:stCondLst>
                              <p:cond delay="0"/>
                            </p:stCondLst>
                            <p:childTnLst>
                              <p:par>
                                <p:cTn id="2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2" fill="hold">
                      <p:stCondLst>
                        <p:cond delay="indefinite"/>
                      </p:stCondLst>
                      <p:childTnLst>
                        <p:par>
                          <p:cTn id="2803" fill="hold">
                            <p:stCondLst>
                              <p:cond delay="0"/>
                            </p:stCondLst>
                            <p:childTnLst>
                              <p:par>
                                <p:cTn id="2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0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0" fill="hold">
                      <p:stCondLst>
                        <p:cond delay="indefinite"/>
                      </p:stCondLst>
                      <p:childTnLst>
                        <p:par>
                          <p:cTn id="2821" fill="hold">
                            <p:stCondLst>
                              <p:cond delay="0"/>
                            </p:stCondLst>
                            <p:childTnLst>
                              <p:par>
                                <p:cTn id="2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fill="hold">
                      <p:stCondLst>
                        <p:cond delay="indefinite"/>
                      </p:stCondLst>
                      <p:childTnLst>
                        <p:par>
                          <p:cTn id="2825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0" dur="2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3" dur="20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6" dur="2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9" dur="2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6" fill="hold">
                      <p:stCondLst>
                        <p:cond delay="indefinite"/>
                      </p:stCondLst>
                      <p:childTnLst>
                        <p:par>
                          <p:cTn id="2857" fill="hold">
                            <p:stCondLst>
                              <p:cond delay="0"/>
                            </p:stCondLst>
                            <p:childTnLst>
                              <p:par>
                                <p:cTn id="28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6" fill="hold">
                      <p:stCondLst>
                        <p:cond delay="indefinite"/>
                      </p:stCondLst>
                      <p:childTnLst>
                        <p:par>
                          <p:cTn id="2867" fill="hold">
                            <p:stCondLst>
                              <p:cond delay="0"/>
                            </p:stCondLst>
                            <p:childTnLst>
                              <p:par>
                                <p:cTn id="28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1" fill="hold">
                      <p:stCondLst>
                        <p:cond delay="indefinite"/>
                      </p:stCondLst>
                      <p:childTnLst>
                        <p:par>
                          <p:cTn id="2872" fill="hold">
                            <p:stCondLst>
                              <p:cond delay="0"/>
                            </p:stCondLst>
                            <p:childTnLst>
                              <p:par>
                                <p:cTn id="28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6" fill="hold">
                      <p:stCondLst>
                        <p:cond delay="indefinite"/>
                      </p:stCondLst>
                      <p:childTnLst>
                        <p:par>
                          <p:cTn id="2877" fill="hold">
                            <p:stCondLst>
                              <p:cond delay="0"/>
                            </p:stCondLst>
                            <p:childTnLst>
                              <p:par>
                                <p:cTn id="28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0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1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4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7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8" fill="hold">
                      <p:stCondLst>
                        <p:cond delay="indefinite"/>
                      </p:stCondLst>
                      <p:childTnLst>
                        <p:par>
                          <p:cTn id="2899" fill="hold">
                            <p:stCondLst>
                              <p:cond delay="0"/>
                            </p:stCondLst>
                            <p:childTnLst>
                              <p:par>
                                <p:cTn id="29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2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7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8" fill="hold">
                      <p:stCondLst>
                        <p:cond delay="indefinite"/>
                      </p:stCondLst>
                      <p:childTnLst>
                        <p:par>
                          <p:cTn id="2909" fill="hold">
                            <p:stCondLst>
                              <p:cond delay="0"/>
                            </p:stCondLst>
                            <p:childTnLst>
                              <p:par>
                                <p:cTn id="2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6" fill="hold">
                      <p:stCondLst>
                        <p:cond delay="indefinite"/>
                      </p:stCondLst>
                      <p:childTnLst>
                        <p:par>
                          <p:cTn id="2917" fill="hold">
                            <p:stCondLst>
                              <p:cond delay="0"/>
                            </p:stCondLst>
                            <p:childTnLst>
                              <p:par>
                                <p:cTn id="29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2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6" fill="hold">
                      <p:stCondLst>
                        <p:cond delay="indefinite"/>
                      </p:stCondLst>
                      <p:childTnLst>
                        <p:par>
                          <p:cTn id="2927" fill="hold">
                            <p:stCondLst>
                              <p:cond delay="0"/>
                            </p:stCondLst>
                            <p:childTnLst>
                              <p:par>
                                <p:cTn id="2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0" fill="hold">
                      <p:stCondLst>
                        <p:cond delay="indefinite"/>
                      </p:stCondLst>
                      <p:childTnLst>
                        <p:par>
                          <p:cTn id="2931" fill="hold">
                            <p:stCondLst>
                              <p:cond delay="0"/>
                            </p:stCondLst>
                            <p:childTnLst>
                              <p:par>
                                <p:cTn id="2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4" fill="hold">
                      <p:stCondLst>
                        <p:cond delay="indefinite"/>
                      </p:stCondLst>
                      <p:childTnLst>
                        <p:par>
                          <p:cTn id="2935" fill="hold">
                            <p:stCondLst>
                              <p:cond delay="0"/>
                            </p:stCondLst>
                            <p:childTnLst>
                              <p:par>
                                <p:cTn id="293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38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4" fill="hold">
                      <p:stCondLst>
                        <p:cond delay="indefinite"/>
                      </p:stCondLst>
                      <p:childTnLst>
                        <p:par>
                          <p:cTn id="2945" fill="hold">
                            <p:stCondLst>
                              <p:cond delay="0"/>
                            </p:stCondLst>
                            <p:childTnLst>
                              <p:par>
                                <p:cTn id="2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8" fill="hold">
                      <p:stCondLst>
                        <p:cond delay="indefinite"/>
                      </p:stCondLst>
                      <p:childTnLst>
                        <p:par>
                          <p:cTn id="2949" fill="hold">
                            <p:stCondLst>
                              <p:cond delay="0"/>
                            </p:stCondLst>
                            <p:childTnLst>
                              <p:par>
                                <p:cTn id="2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fill="hold">
                      <p:stCondLst>
                        <p:cond delay="indefinite"/>
                      </p:stCondLst>
                      <p:childTnLst>
                        <p:par>
                          <p:cTn id="2953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0" fill="hold">
                      <p:stCondLst>
                        <p:cond delay="indefinite"/>
                      </p:stCondLst>
                      <p:childTnLst>
                        <p:par>
                          <p:cTn id="2961" fill="hold">
                            <p:stCondLst>
                              <p:cond delay="0"/>
                            </p:stCondLst>
                            <p:childTnLst>
                              <p:par>
                                <p:cTn id="29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6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9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2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5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8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0" fill="hold">
                      <p:stCondLst>
                        <p:cond delay="indefinite"/>
                      </p:stCondLst>
                      <p:childTnLst>
                        <p:par>
                          <p:cTn id="2981" fill="hold">
                            <p:stCondLst>
                              <p:cond delay="0"/>
                            </p:stCondLst>
                            <p:childTnLst>
                              <p:par>
                                <p:cTn id="29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3" dur="2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6" dur="2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89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2" dur="2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5" dur="2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8" dur="2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fill="hold">
                      <p:stCondLst>
                        <p:cond delay="indefinite"/>
                      </p:stCondLst>
                      <p:childTnLst>
                        <p:par>
                          <p:cTn id="3001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04" dur="2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9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0" fill="hold">
                      <p:stCondLst>
                        <p:cond delay="indefinite"/>
                      </p:stCondLst>
                      <p:childTnLst>
                        <p:par>
                          <p:cTn id="3011" fill="hold">
                            <p:stCondLst>
                              <p:cond delay="0"/>
                            </p:stCondLst>
                            <p:childTnLst>
                              <p:par>
                                <p:cTn id="30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0" fill="hold">
                      <p:stCondLst>
                        <p:cond delay="indefinite"/>
                      </p:stCondLst>
                      <p:childTnLst>
                        <p:par>
                          <p:cTn id="3021" fill="hold">
                            <p:stCondLst>
                              <p:cond delay="0"/>
                            </p:stCondLst>
                            <p:childTnLst>
                              <p:par>
                                <p:cTn id="30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4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5" fill="hold">
                      <p:stCondLst>
                        <p:cond delay="indefinite"/>
                      </p:stCondLst>
                      <p:childTnLst>
                        <p:par>
                          <p:cTn id="3026" fill="hold">
                            <p:stCondLst>
                              <p:cond delay="0"/>
                            </p:stCondLst>
                            <p:childTnLst>
                              <p:par>
                                <p:cTn id="3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9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663560" y="187200"/>
            <a:ext cx="6123240" cy="3988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нейчатые  поверхности    вр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80880" y="1574640"/>
            <a:ext cx="1841400" cy="2019240"/>
            <a:chOff x="380880" y="1574640"/>
            <a:chExt cx="1841400" cy="2019240"/>
          </a:xfrm>
        </p:grpSpPr>
        <p:sp>
          <p:nvSpPr>
            <p:cNvPr id="239" name=""/>
            <p:cNvSpPr/>
            <p:nvPr/>
          </p:nvSpPr>
          <p:spPr>
            <a:xfrm>
              <a:off x="380880" y="1593720"/>
              <a:ext cx="1841400" cy="2000160"/>
            </a:xfrm>
            <a:custGeom>
              <a:avLst/>
              <a:gdLst/>
              <a:ahLst/>
              <a:rect l="l" t="t" r="r" b="b"/>
              <a:pathLst>
                <a:path w="1160" h="1260">
                  <a:moveTo>
                    <a:pt x="0" y="1092"/>
                  </a:moveTo>
                  <a:lnTo>
                    <a:pt x="576" y="0"/>
                  </a:lnTo>
                  <a:lnTo>
                    <a:pt x="1160" y="1120"/>
                  </a:lnTo>
                  <a:lnTo>
                    <a:pt x="1144" y="1144"/>
                  </a:lnTo>
                  <a:lnTo>
                    <a:pt x="1116" y="1164"/>
                  </a:lnTo>
                  <a:lnTo>
                    <a:pt x="1092" y="1176"/>
                  </a:lnTo>
                  <a:lnTo>
                    <a:pt x="1060" y="1192"/>
                  </a:lnTo>
                  <a:lnTo>
                    <a:pt x="1024" y="1204"/>
                  </a:lnTo>
                  <a:lnTo>
                    <a:pt x="944" y="1232"/>
                  </a:lnTo>
                  <a:lnTo>
                    <a:pt x="860" y="1240"/>
                  </a:lnTo>
                  <a:lnTo>
                    <a:pt x="764" y="1252"/>
                  </a:lnTo>
                  <a:lnTo>
                    <a:pt x="688" y="1260"/>
                  </a:lnTo>
                  <a:lnTo>
                    <a:pt x="612" y="1260"/>
                  </a:lnTo>
                  <a:lnTo>
                    <a:pt x="580" y="1260"/>
                  </a:lnTo>
                  <a:lnTo>
                    <a:pt x="496" y="1260"/>
                  </a:lnTo>
                  <a:lnTo>
                    <a:pt x="420" y="1256"/>
                  </a:lnTo>
                  <a:lnTo>
                    <a:pt x="344" y="1252"/>
                  </a:lnTo>
                  <a:lnTo>
                    <a:pt x="292" y="1240"/>
                  </a:lnTo>
                  <a:lnTo>
                    <a:pt x="228" y="1232"/>
                  </a:lnTo>
                  <a:lnTo>
                    <a:pt x="168" y="1216"/>
                  </a:lnTo>
                  <a:lnTo>
                    <a:pt x="104" y="1192"/>
                  </a:lnTo>
                  <a:lnTo>
                    <a:pt x="44" y="1176"/>
                  </a:lnTo>
                  <a:lnTo>
                    <a:pt x="8" y="1140"/>
                  </a:lnTo>
                  <a:lnTo>
                    <a:pt x="0" y="109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80880" y="3111480"/>
              <a:ext cx="1828800" cy="482400"/>
            </a:xfrm>
            <a:prstGeom prst="ellipse">
              <a:avLst/>
            </a:prstGeom>
            <a:solidFill>
              <a:srgbClr val="2f6e73">
                <a:alpha val="78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1295280" y="161280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80880" y="1574640"/>
              <a:ext cx="1816200" cy="1752840"/>
            </a:xfrm>
            <a:custGeom>
              <a:avLst/>
              <a:gdLst/>
              <a:ahLst/>
              <a:rect l="l" t="t" r="r" b="b"/>
              <a:pathLst>
                <a:path w="1144" h="1104">
                  <a:moveTo>
                    <a:pt x="0" y="1104"/>
                  </a:moveTo>
                  <a:lnTo>
                    <a:pt x="576" y="0"/>
                  </a:lnTo>
                  <a:lnTo>
                    <a:pt x="1144" y="10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3480" y="3109680"/>
              <a:ext cx="1816200" cy="217800"/>
            </a:xfrm>
            <a:custGeom>
              <a:avLst/>
              <a:gdLst/>
              <a:ahLst/>
              <a:rect l="l" t="t" r="r" b="b"/>
              <a:pathLst>
                <a:path w="1144" h="137">
                  <a:moveTo>
                    <a:pt x="0" y="133"/>
                  </a:moveTo>
                  <a:cubicBezTo>
                    <a:pt x="14" y="122"/>
                    <a:pt x="33" y="88"/>
                    <a:pt x="84" y="69"/>
                  </a:cubicBezTo>
                  <a:cubicBezTo>
                    <a:pt x="135" y="50"/>
                    <a:pt x="227" y="28"/>
                    <a:pt x="308" y="17"/>
                  </a:cubicBezTo>
                  <a:cubicBezTo>
                    <a:pt x="389" y="6"/>
                    <a:pt x="474" y="0"/>
                    <a:pt x="568" y="1"/>
                  </a:cubicBezTo>
                  <a:cubicBezTo>
                    <a:pt x="662" y="2"/>
                    <a:pt x="789" y="12"/>
                    <a:pt x="872" y="25"/>
                  </a:cubicBezTo>
                  <a:cubicBezTo>
                    <a:pt x="955" y="38"/>
                    <a:pt x="1019" y="58"/>
                    <a:pt x="1064" y="77"/>
                  </a:cubicBezTo>
                  <a:cubicBezTo>
                    <a:pt x="1109" y="96"/>
                    <a:pt x="1127" y="125"/>
                    <a:pt x="1144" y="137"/>
                  </a:cubicBezTo>
                </a:path>
              </a:pathLst>
            </a:custGeom>
            <a:noFill/>
            <a:ln w="38160">
              <a:solidFill>
                <a:srgbClr val="2f6e7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633840" y="2016000"/>
            <a:ext cx="1892160" cy="1778040"/>
            <a:chOff x="3633840" y="2016000"/>
            <a:chExt cx="1892160" cy="1778040"/>
          </a:xfrm>
        </p:grpSpPr>
        <p:sp>
          <p:nvSpPr>
            <p:cNvPr id="245" name=""/>
            <p:cNvSpPr/>
            <p:nvPr/>
          </p:nvSpPr>
          <p:spPr>
            <a:xfrm>
              <a:off x="3633840" y="2016000"/>
              <a:ext cx="1890720" cy="1778040"/>
            </a:xfrm>
            <a:custGeom>
              <a:avLst/>
              <a:gdLst/>
              <a:ahLst/>
              <a:rect l="l" t="t" r="r" b="b"/>
              <a:pathLst>
                <a:path w="1191" h="1120">
                  <a:moveTo>
                    <a:pt x="0" y="1116"/>
                  </a:moveTo>
                  <a:lnTo>
                    <a:pt x="607" y="0"/>
                  </a:lnTo>
                  <a:lnTo>
                    <a:pt x="1191" y="112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4360" y="3784680"/>
              <a:ext cx="18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4595760" y="1954080"/>
            <a:ext cx="0" cy="1886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45000" y="4317840"/>
            <a:ext cx="1879560" cy="1879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467160" y="4191120"/>
            <a:ext cx="2260440" cy="2146320"/>
            <a:chOff x="3467160" y="4191120"/>
            <a:chExt cx="2260440" cy="2146320"/>
          </a:xfrm>
        </p:grpSpPr>
        <p:sp>
          <p:nvSpPr>
            <p:cNvPr id="250" name=""/>
            <p:cNvSpPr/>
            <p:nvPr/>
          </p:nvSpPr>
          <p:spPr>
            <a:xfrm>
              <a:off x="3467160" y="5257800"/>
              <a:ext cx="2260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97560" y="419112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79360" y="809640"/>
            <a:ext cx="886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Коническая поверхно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поверхность, образованная вращением прямолинейной образующей вокруг пересекающейся с ней о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3645000" y="2019240"/>
            <a:ext cx="952560" cy="1752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645000" y="5257800"/>
            <a:ext cx="952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52960" y="2844720"/>
            <a:ext cx="0" cy="24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089240" y="5207040"/>
            <a:ext cx="101880" cy="101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102200" y="2781360"/>
            <a:ext cx="101520" cy="101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56280" y="3759120"/>
            <a:ext cx="0" cy="222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82680" y="1574640"/>
            <a:ext cx="482760" cy="2006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08160" y="2387520"/>
            <a:ext cx="1549440" cy="355680"/>
          </a:xfrm>
          <a:prstGeom prst="wedgeRectCallout">
            <a:avLst>
              <a:gd name="adj1" fmla="val -74384"/>
              <a:gd name="adj2" fmla="val 236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30320" y="1549440"/>
            <a:ext cx="800280" cy="342720"/>
          </a:xfrm>
          <a:prstGeom prst="wedgeRectCallout">
            <a:avLst>
              <a:gd name="adj1" fmla="val -125791"/>
              <a:gd name="adj2" fmla="val 199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36760" y="1452600"/>
            <a:ext cx="43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l, i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 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ическая поверх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105520" y="3720960"/>
            <a:ext cx="101520" cy="10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05520" y="5943600"/>
            <a:ext cx="101520" cy="101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57760" y="241920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09880" y="4886280"/>
            <a:ext cx="40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943520" y="336240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81520" y="5715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3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2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443480" y="57625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00600" y="3397320"/>
            <a:ext cx="0" cy="255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80880" y="1574640"/>
            <a:ext cx="1841400" cy="2019240"/>
            <a:chOff x="380880" y="1574640"/>
            <a:chExt cx="1841400" cy="2019240"/>
          </a:xfrm>
        </p:grpSpPr>
        <p:sp>
          <p:nvSpPr>
            <p:cNvPr id="272" name=""/>
            <p:cNvSpPr/>
            <p:nvPr/>
          </p:nvSpPr>
          <p:spPr>
            <a:xfrm>
              <a:off x="380880" y="1593720"/>
              <a:ext cx="1841400" cy="2000160"/>
            </a:xfrm>
            <a:custGeom>
              <a:avLst/>
              <a:gdLst/>
              <a:ahLst/>
              <a:rect l="l" t="t" r="r" b="b"/>
              <a:pathLst>
                <a:path w="1160" h="1260">
                  <a:moveTo>
                    <a:pt x="0" y="1092"/>
                  </a:moveTo>
                  <a:lnTo>
                    <a:pt x="576" y="0"/>
                  </a:lnTo>
                  <a:lnTo>
                    <a:pt x="1160" y="1120"/>
                  </a:lnTo>
                  <a:lnTo>
                    <a:pt x="1144" y="1144"/>
                  </a:lnTo>
                  <a:lnTo>
                    <a:pt x="1116" y="1164"/>
                  </a:lnTo>
                  <a:lnTo>
                    <a:pt x="1092" y="1176"/>
                  </a:lnTo>
                  <a:lnTo>
                    <a:pt x="1060" y="1192"/>
                  </a:lnTo>
                  <a:lnTo>
                    <a:pt x="1024" y="1204"/>
                  </a:lnTo>
                  <a:lnTo>
                    <a:pt x="944" y="1232"/>
                  </a:lnTo>
                  <a:lnTo>
                    <a:pt x="860" y="1240"/>
                  </a:lnTo>
                  <a:lnTo>
                    <a:pt x="764" y="1252"/>
                  </a:lnTo>
                  <a:lnTo>
                    <a:pt x="688" y="1260"/>
                  </a:lnTo>
                  <a:lnTo>
                    <a:pt x="612" y="1260"/>
                  </a:lnTo>
                  <a:lnTo>
                    <a:pt x="580" y="1260"/>
                  </a:lnTo>
                  <a:lnTo>
                    <a:pt x="496" y="1260"/>
                  </a:lnTo>
                  <a:lnTo>
                    <a:pt x="420" y="1256"/>
                  </a:lnTo>
                  <a:lnTo>
                    <a:pt x="344" y="1252"/>
                  </a:lnTo>
                  <a:lnTo>
                    <a:pt x="292" y="1240"/>
                  </a:lnTo>
                  <a:lnTo>
                    <a:pt x="228" y="1232"/>
                  </a:lnTo>
                  <a:lnTo>
                    <a:pt x="168" y="1216"/>
                  </a:lnTo>
                  <a:lnTo>
                    <a:pt x="104" y="1192"/>
                  </a:lnTo>
                  <a:lnTo>
                    <a:pt x="44" y="1176"/>
                  </a:lnTo>
                  <a:lnTo>
                    <a:pt x="8" y="1140"/>
                  </a:lnTo>
                  <a:lnTo>
                    <a:pt x="0" y="109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80880" y="3111480"/>
              <a:ext cx="1828800" cy="482400"/>
            </a:xfrm>
            <a:prstGeom prst="ellipse">
              <a:avLst/>
            </a:prstGeom>
            <a:solidFill>
              <a:srgbClr val="2f6e73">
                <a:alpha val="78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295280" y="161280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80880" y="1574640"/>
              <a:ext cx="1816200" cy="1752840"/>
            </a:xfrm>
            <a:custGeom>
              <a:avLst/>
              <a:gdLst/>
              <a:ahLst/>
              <a:rect l="l" t="t" r="r" b="b"/>
              <a:pathLst>
                <a:path w="1144" h="1104">
                  <a:moveTo>
                    <a:pt x="0" y="1104"/>
                  </a:moveTo>
                  <a:lnTo>
                    <a:pt x="576" y="0"/>
                  </a:lnTo>
                  <a:lnTo>
                    <a:pt x="1144" y="10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480" y="3109680"/>
              <a:ext cx="1816200" cy="217800"/>
            </a:xfrm>
            <a:custGeom>
              <a:avLst/>
              <a:gdLst/>
              <a:ahLst/>
              <a:rect l="l" t="t" r="r" b="b"/>
              <a:pathLst>
                <a:path w="1144" h="137">
                  <a:moveTo>
                    <a:pt x="0" y="133"/>
                  </a:moveTo>
                  <a:cubicBezTo>
                    <a:pt x="14" y="122"/>
                    <a:pt x="33" y="88"/>
                    <a:pt x="84" y="69"/>
                  </a:cubicBezTo>
                  <a:cubicBezTo>
                    <a:pt x="135" y="50"/>
                    <a:pt x="227" y="28"/>
                    <a:pt x="308" y="17"/>
                  </a:cubicBezTo>
                  <a:cubicBezTo>
                    <a:pt x="389" y="6"/>
                    <a:pt x="474" y="0"/>
                    <a:pt x="568" y="1"/>
                  </a:cubicBezTo>
                  <a:cubicBezTo>
                    <a:pt x="662" y="2"/>
                    <a:pt x="789" y="12"/>
                    <a:pt x="872" y="25"/>
                  </a:cubicBezTo>
                  <a:cubicBezTo>
                    <a:pt x="955" y="38"/>
                    <a:pt x="1019" y="58"/>
                    <a:pt x="1064" y="77"/>
                  </a:cubicBezTo>
                  <a:cubicBezTo>
                    <a:pt x="1109" y="96"/>
                    <a:pt x="1127" y="125"/>
                    <a:pt x="1144" y="137"/>
                  </a:cubicBezTo>
                </a:path>
              </a:pathLst>
            </a:custGeom>
            <a:noFill/>
            <a:ln w="38160">
              <a:solidFill>
                <a:srgbClr val="2f6e7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3633840" y="2016000"/>
            <a:ext cx="1892160" cy="1778040"/>
            <a:chOff x="3633840" y="2016000"/>
            <a:chExt cx="1892160" cy="1778040"/>
          </a:xfrm>
        </p:grpSpPr>
        <p:sp>
          <p:nvSpPr>
            <p:cNvPr id="278" name=""/>
            <p:cNvSpPr/>
            <p:nvPr/>
          </p:nvSpPr>
          <p:spPr>
            <a:xfrm>
              <a:off x="3633840" y="2016000"/>
              <a:ext cx="1890720" cy="1778040"/>
            </a:xfrm>
            <a:custGeom>
              <a:avLst/>
              <a:gdLst/>
              <a:ahLst/>
              <a:rect l="l" t="t" r="r" b="b"/>
              <a:pathLst>
                <a:path w="1191" h="1120">
                  <a:moveTo>
                    <a:pt x="0" y="1116"/>
                  </a:moveTo>
                  <a:lnTo>
                    <a:pt x="607" y="0"/>
                  </a:lnTo>
                  <a:lnTo>
                    <a:pt x="1191" y="112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54360" y="3784680"/>
              <a:ext cx="18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95760" y="1954080"/>
            <a:ext cx="0" cy="1886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45000" y="4317840"/>
            <a:ext cx="1879560" cy="1879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467160" y="4191120"/>
            <a:ext cx="2260440" cy="2146320"/>
            <a:chOff x="3467160" y="4191120"/>
            <a:chExt cx="2260440" cy="2146320"/>
          </a:xfrm>
        </p:grpSpPr>
        <p:sp>
          <p:nvSpPr>
            <p:cNvPr id="283" name=""/>
            <p:cNvSpPr/>
            <p:nvPr/>
          </p:nvSpPr>
          <p:spPr>
            <a:xfrm>
              <a:off x="3467160" y="5257800"/>
              <a:ext cx="2260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97560" y="419112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flipH="1">
            <a:off x="3645000" y="2019240"/>
            <a:ext cx="952560" cy="1752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645000" y="5257800"/>
            <a:ext cx="952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82680" y="1574640"/>
            <a:ext cx="482760" cy="2006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108160" y="2387520"/>
            <a:ext cx="1549440" cy="355680"/>
          </a:xfrm>
          <a:prstGeom prst="wedgeRectCallout">
            <a:avLst>
              <a:gd name="adj1" fmla="val -74384"/>
              <a:gd name="adj2" fmla="val 236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30320" y="1549440"/>
            <a:ext cx="800280" cy="342720"/>
          </a:xfrm>
          <a:prstGeom prst="wedgeRectCallout">
            <a:avLst>
              <a:gd name="adj1" fmla="val -125791"/>
              <a:gd name="adj2" fmla="val 199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597560" y="2019240"/>
            <a:ext cx="253800" cy="17589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861080" y="37972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4590720" y="5257440"/>
            <a:ext cx="266760" cy="8888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737240" y="5873760"/>
            <a:ext cx="101520" cy="101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749840" y="3352680"/>
            <a:ext cx="101520" cy="101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734000" y="30193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236760" y="1452600"/>
            <a:ext cx="43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l, i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 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ическая поверх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663560" y="187200"/>
            <a:ext cx="6123240" cy="3988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нейчатые  поверхности    вр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9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7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119480" y="56498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451400" y="3035160"/>
            <a:ext cx="0" cy="273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380880" y="1574640"/>
            <a:ext cx="1841400" cy="2019240"/>
            <a:chOff x="380880" y="1574640"/>
            <a:chExt cx="1841400" cy="2019240"/>
          </a:xfrm>
        </p:grpSpPr>
        <p:sp>
          <p:nvSpPr>
            <p:cNvPr id="301" name=""/>
            <p:cNvSpPr/>
            <p:nvPr/>
          </p:nvSpPr>
          <p:spPr>
            <a:xfrm>
              <a:off x="380880" y="1593720"/>
              <a:ext cx="1841400" cy="2000160"/>
            </a:xfrm>
            <a:custGeom>
              <a:avLst/>
              <a:gdLst/>
              <a:ahLst/>
              <a:rect l="l" t="t" r="r" b="b"/>
              <a:pathLst>
                <a:path w="1160" h="1260">
                  <a:moveTo>
                    <a:pt x="0" y="1092"/>
                  </a:moveTo>
                  <a:lnTo>
                    <a:pt x="576" y="0"/>
                  </a:lnTo>
                  <a:lnTo>
                    <a:pt x="1160" y="1120"/>
                  </a:lnTo>
                  <a:lnTo>
                    <a:pt x="1144" y="1144"/>
                  </a:lnTo>
                  <a:lnTo>
                    <a:pt x="1116" y="1164"/>
                  </a:lnTo>
                  <a:lnTo>
                    <a:pt x="1092" y="1176"/>
                  </a:lnTo>
                  <a:lnTo>
                    <a:pt x="1060" y="1192"/>
                  </a:lnTo>
                  <a:lnTo>
                    <a:pt x="1024" y="1204"/>
                  </a:lnTo>
                  <a:lnTo>
                    <a:pt x="944" y="1232"/>
                  </a:lnTo>
                  <a:lnTo>
                    <a:pt x="860" y="1240"/>
                  </a:lnTo>
                  <a:lnTo>
                    <a:pt x="764" y="1252"/>
                  </a:lnTo>
                  <a:lnTo>
                    <a:pt x="688" y="1260"/>
                  </a:lnTo>
                  <a:lnTo>
                    <a:pt x="612" y="1260"/>
                  </a:lnTo>
                  <a:lnTo>
                    <a:pt x="580" y="1260"/>
                  </a:lnTo>
                  <a:lnTo>
                    <a:pt x="496" y="1260"/>
                  </a:lnTo>
                  <a:lnTo>
                    <a:pt x="420" y="1256"/>
                  </a:lnTo>
                  <a:lnTo>
                    <a:pt x="344" y="1252"/>
                  </a:lnTo>
                  <a:lnTo>
                    <a:pt x="292" y="1240"/>
                  </a:lnTo>
                  <a:lnTo>
                    <a:pt x="228" y="1232"/>
                  </a:lnTo>
                  <a:lnTo>
                    <a:pt x="168" y="1216"/>
                  </a:lnTo>
                  <a:lnTo>
                    <a:pt x="104" y="1192"/>
                  </a:lnTo>
                  <a:lnTo>
                    <a:pt x="44" y="1176"/>
                  </a:lnTo>
                  <a:lnTo>
                    <a:pt x="8" y="1140"/>
                  </a:lnTo>
                  <a:lnTo>
                    <a:pt x="0" y="1092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80880" y="3111480"/>
              <a:ext cx="1828800" cy="482400"/>
            </a:xfrm>
            <a:prstGeom prst="ellipse">
              <a:avLst/>
            </a:prstGeom>
            <a:solidFill>
              <a:srgbClr val="2f6e73">
                <a:alpha val="78000"/>
              </a:srgbClr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295280" y="1612800"/>
              <a:ext cx="0" cy="17272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0880" y="1574640"/>
              <a:ext cx="1816200" cy="1752840"/>
            </a:xfrm>
            <a:custGeom>
              <a:avLst/>
              <a:gdLst/>
              <a:ahLst/>
              <a:rect l="l" t="t" r="r" b="b"/>
              <a:pathLst>
                <a:path w="1144" h="1104">
                  <a:moveTo>
                    <a:pt x="0" y="1104"/>
                  </a:moveTo>
                  <a:lnTo>
                    <a:pt x="576" y="0"/>
                  </a:lnTo>
                  <a:lnTo>
                    <a:pt x="1144" y="109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93480" y="3109680"/>
              <a:ext cx="1816200" cy="217800"/>
            </a:xfrm>
            <a:custGeom>
              <a:avLst/>
              <a:gdLst/>
              <a:ahLst/>
              <a:rect l="l" t="t" r="r" b="b"/>
              <a:pathLst>
                <a:path w="1144" h="137">
                  <a:moveTo>
                    <a:pt x="0" y="133"/>
                  </a:moveTo>
                  <a:cubicBezTo>
                    <a:pt x="14" y="122"/>
                    <a:pt x="33" y="88"/>
                    <a:pt x="84" y="69"/>
                  </a:cubicBezTo>
                  <a:cubicBezTo>
                    <a:pt x="135" y="50"/>
                    <a:pt x="227" y="28"/>
                    <a:pt x="308" y="17"/>
                  </a:cubicBezTo>
                  <a:cubicBezTo>
                    <a:pt x="389" y="6"/>
                    <a:pt x="474" y="0"/>
                    <a:pt x="568" y="1"/>
                  </a:cubicBezTo>
                  <a:cubicBezTo>
                    <a:pt x="662" y="2"/>
                    <a:pt x="789" y="12"/>
                    <a:pt x="872" y="25"/>
                  </a:cubicBezTo>
                  <a:cubicBezTo>
                    <a:pt x="955" y="38"/>
                    <a:pt x="1019" y="58"/>
                    <a:pt x="1064" y="77"/>
                  </a:cubicBezTo>
                  <a:cubicBezTo>
                    <a:pt x="1109" y="96"/>
                    <a:pt x="1127" y="125"/>
                    <a:pt x="1144" y="137"/>
                  </a:cubicBezTo>
                </a:path>
              </a:pathLst>
            </a:custGeom>
            <a:noFill/>
            <a:ln w="38160">
              <a:solidFill>
                <a:srgbClr val="2f6e7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633840" y="2016000"/>
            <a:ext cx="1892160" cy="1778040"/>
            <a:chOff x="3633840" y="2016000"/>
            <a:chExt cx="1892160" cy="1778040"/>
          </a:xfrm>
        </p:grpSpPr>
        <p:sp>
          <p:nvSpPr>
            <p:cNvPr id="307" name=""/>
            <p:cNvSpPr/>
            <p:nvPr/>
          </p:nvSpPr>
          <p:spPr>
            <a:xfrm>
              <a:off x="3633840" y="2016000"/>
              <a:ext cx="1890720" cy="1778040"/>
            </a:xfrm>
            <a:custGeom>
              <a:avLst/>
              <a:gdLst/>
              <a:ahLst/>
              <a:rect l="l" t="t" r="r" b="b"/>
              <a:pathLst>
                <a:path w="1191" h="1120">
                  <a:moveTo>
                    <a:pt x="0" y="1116"/>
                  </a:moveTo>
                  <a:lnTo>
                    <a:pt x="607" y="0"/>
                  </a:lnTo>
                  <a:lnTo>
                    <a:pt x="1191" y="112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654360" y="3784680"/>
              <a:ext cx="1871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4595760" y="1954080"/>
            <a:ext cx="0" cy="1886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45000" y="4317840"/>
            <a:ext cx="1879560" cy="1879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467160" y="4191120"/>
            <a:ext cx="2260440" cy="2146320"/>
            <a:chOff x="3467160" y="4191120"/>
            <a:chExt cx="2260440" cy="2146320"/>
          </a:xfrm>
        </p:grpSpPr>
        <p:sp>
          <p:nvSpPr>
            <p:cNvPr id="312" name=""/>
            <p:cNvSpPr/>
            <p:nvPr/>
          </p:nvSpPr>
          <p:spPr>
            <a:xfrm>
              <a:off x="3467160" y="5257800"/>
              <a:ext cx="2260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97560" y="4191120"/>
              <a:ext cx="0" cy="21463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"/>
          <p:cNvSpPr/>
          <p:nvPr/>
        </p:nvSpPr>
        <p:spPr>
          <a:xfrm flipH="1">
            <a:off x="3645000" y="2019240"/>
            <a:ext cx="952560" cy="17528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645000" y="5257800"/>
            <a:ext cx="9525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282680" y="1574640"/>
            <a:ext cx="482760" cy="2006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108160" y="2387520"/>
            <a:ext cx="1549440" cy="355680"/>
          </a:xfrm>
          <a:prstGeom prst="wedgeRectCallout">
            <a:avLst>
              <a:gd name="adj1" fmla="val -74384"/>
              <a:gd name="adj2" fmla="val 236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930320" y="1549440"/>
            <a:ext cx="800280" cy="342720"/>
          </a:xfrm>
          <a:prstGeom prst="wedgeRectCallout">
            <a:avLst>
              <a:gd name="adj1" fmla="val -125791"/>
              <a:gd name="adj2" fmla="val 19907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334040" y="2682720"/>
            <a:ext cx="399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064040" y="3035160"/>
            <a:ext cx="10476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06760" y="2990880"/>
            <a:ext cx="101880" cy="101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rot="16200000">
            <a:off x="4809960" y="2822040"/>
            <a:ext cx="101880" cy="527040"/>
          </a:xfrm>
          <a:custGeom>
            <a:avLst/>
            <a:gdLst>
              <a:gd name="textAreaLeft" fmla="*/ 65160 w 101880"/>
              <a:gd name="textAreaRight" fmla="*/ 102240 w 101880"/>
              <a:gd name="textAreaTop" fmla="*/ 13680 h 527040"/>
              <a:gd name="textAreaBottom" fmla="*/ 513360 h 52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4829040" y="5057280"/>
            <a:ext cx="101880" cy="527400"/>
          </a:xfrm>
          <a:custGeom>
            <a:avLst/>
            <a:gdLst>
              <a:gd name="textAreaLeft" fmla="*/ 65160 w 101880"/>
              <a:gd name="textAreaRight" fmla="*/ 102240 w 101880"/>
              <a:gd name="textAreaTop" fmla="*/ 13680 h 527400"/>
              <a:gd name="textAreaBottom" fmla="*/ 513720 h 52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025880" y="4730760"/>
            <a:ext cx="1130400" cy="107964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94160" y="5740560"/>
            <a:ext cx="101520" cy="1015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36760" y="1452600"/>
            <a:ext cx="437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l, i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[ l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i]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коническая поверх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663560" y="187200"/>
            <a:ext cx="6123240" cy="3988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нейчатые  поверхности    вр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5143680" y="2368440"/>
            <a:ext cx="406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079960" y="570240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585720" y="1851120"/>
            <a:ext cx="1467000" cy="1560240"/>
            <a:chOff x="585720" y="1851120"/>
            <a:chExt cx="1467000" cy="1560240"/>
          </a:xfrm>
        </p:grpSpPr>
        <p:grpSp>
          <p:nvGrpSpPr>
            <p:cNvPr id="331" name=""/>
            <p:cNvGrpSpPr/>
            <p:nvPr/>
          </p:nvGrpSpPr>
          <p:grpSpPr>
            <a:xfrm>
              <a:off x="585720" y="1851120"/>
              <a:ext cx="1467000" cy="1560240"/>
              <a:chOff x="585720" y="1851120"/>
              <a:chExt cx="1467000" cy="1560240"/>
            </a:xfrm>
          </p:grpSpPr>
          <p:sp>
            <p:nvSpPr>
              <p:cNvPr id="332" name=""/>
              <p:cNvSpPr/>
              <p:nvPr/>
            </p:nvSpPr>
            <p:spPr>
              <a:xfrm>
                <a:off x="585720" y="1944720"/>
                <a:ext cx="1465200" cy="1466640"/>
              </a:xfrm>
              <a:custGeom>
                <a:avLst/>
                <a:gdLst/>
                <a:ahLst/>
                <a:rect l="l" t="t" r="r" b="b"/>
                <a:pathLst>
                  <a:path w="923" h="924">
                    <a:moveTo>
                      <a:pt x="0" y="850"/>
                    </a:moveTo>
                    <a:lnTo>
                      <a:pt x="0" y="0"/>
                    </a:lnTo>
                    <a:lnTo>
                      <a:pt x="91" y="28"/>
                    </a:lnTo>
                    <a:lnTo>
                      <a:pt x="183" y="55"/>
                    </a:lnTo>
                    <a:lnTo>
                      <a:pt x="320" y="55"/>
                    </a:lnTo>
                    <a:lnTo>
                      <a:pt x="475" y="55"/>
                    </a:lnTo>
                    <a:lnTo>
                      <a:pt x="585" y="64"/>
                    </a:lnTo>
                    <a:lnTo>
                      <a:pt x="722" y="64"/>
                    </a:lnTo>
                    <a:lnTo>
                      <a:pt x="859" y="37"/>
                    </a:lnTo>
                    <a:lnTo>
                      <a:pt x="923" y="9"/>
                    </a:lnTo>
                    <a:lnTo>
                      <a:pt x="923" y="860"/>
                    </a:lnTo>
                    <a:lnTo>
                      <a:pt x="855" y="893"/>
                    </a:lnTo>
                    <a:lnTo>
                      <a:pt x="714" y="914"/>
                    </a:lnTo>
                    <a:lnTo>
                      <a:pt x="576" y="920"/>
                    </a:lnTo>
                    <a:lnTo>
                      <a:pt x="439" y="924"/>
                    </a:lnTo>
                    <a:lnTo>
                      <a:pt x="338" y="924"/>
                    </a:lnTo>
                    <a:lnTo>
                      <a:pt x="189" y="911"/>
                    </a:lnTo>
                    <a:lnTo>
                      <a:pt x="57" y="881"/>
                    </a:lnTo>
                    <a:lnTo>
                      <a:pt x="0" y="8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>
                      <a:alpha val="83137"/>
                    </a:srgbClr>
                  </a:gs>
                  <a:gs pos="50000">
                    <a:srgbClr val="2f6e73">
                      <a:alpha val="49019"/>
                    </a:srgbClr>
                  </a:gs>
                  <a:gs pos="100000">
                    <a:srgbClr val="000000">
                      <a:alpha val="83137"/>
                    </a:srgbClr>
                  </a:gs>
                </a:gsLst>
                <a:lin ang="108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8320" y="3201840"/>
                <a:ext cx="1454400" cy="206640"/>
              </a:xfrm>
              <a:prstGeom prst="ellipse">
                <a:avLst/>
              </a:prstGeom>
              <a:solidFill>
                <a:srgbClr val="2f6e73">
                  <a:alpha val="25000"/>
                </a:srgbClr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8320" y="1851120"/>
                <a:ext cx="1454400" cy="206280"/>
              </a:xfrm>
              <a:prstGeom prst="ellipse">
                <a:avLst/>
              </a:prstGeom>
              <a:solidFill>
                <a:srgbClr val="2f6e7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2050920" y="1945800"/>
                <a:ext cx="0" cy="1373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V="1">
                <a:off x="593640" y="1936800"/>
                <a:ext cx="0" cy="1373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282680" y="1916280"/>
              <a:ext cx="44640" cy="4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282680" y="3282840"/>
              <a:ext cx="44640" cy="44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279360" y="838080"/>
            <a:ext cx="8166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Цилиндрическая поверхно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поверхность, образованная вращением прямолинейной образующей вокруг ос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289320" y="142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i)[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 ||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]–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цилиндрическая поверх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581040" y="1654200"/>
            <a:ext cx="1457280" cy="2046240"/>
            <a:chOff x="581040" y="1654200"/>
            <a:chExt cx="1457280" cy="2046240"/>
          </a:xfrm>
        </p:grpSpPr>
        <p:sp>
          <p:nvSpPr>
            <p:cNvPr id="342" name=""/>
            <p:cNvSpPr/>
            <p:nvPr/>
          </p:nvSpPr>
          <p:spPr>
            <a:xfrm>
              <a:off x="1306440" y="1654200"/>
              <a:ext cx="0" cy="20462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81040" y="3200400"/>
              <a:ext cx="1457280" cy="95400"/>
            </a:xfrm>
            <a:custGeom>
              <a:avLst/>
              <a:gdLst/>
              <a:ahLst/>
              <a:rect l="l" t="t" r="r" b="b"/>
              <a:pathLst>
                <a:path w="918" h="60">
                  <a:moveTo>
                    <a:pt x="0" y="60"/>
                  </a:moveTo>
                  <a:cubicBezTo>
                    <a:pt x="11" y="56"/>
                    <a:pt x="36" y="41"/>
                    <a:pt x="69" y="33"/>
                  </a:cubicBezTo>
                  <a:cubicBezTo>
                    <a:pt x="102" y="25"/>
                    <a:pt x="157" y="17"/>
                    <a:pt x="198" y="12"/>
                  </a:cubicBezTo>
                  <a:cubicBezTo>
                    <a:pt x="239" y="7"/>
                    <a:pt x="278" y="5"/>
                    <a:pt x="315" y="3"/>
                  </a:cubicBezTo>
                  <a:cubicBezTo>
                    <a:pt x="352" y="1"/>
                    <a:pt x="390" y="0"/>
                    <a:pt x="420" y="0"/>
                  </a:cubicBezTo>
                  <a:cubicBezTo>
                    <a:pt x="450" y="0"/>
                    <a:pt x="468" y="0"/>
                    <a:pt x="498" y="0"/>
                  </a:cubicBezTo>
                  <a:cubicBezTo>
                    <a:pt x="528" y="0"/>
                    <a:pt x="559" y="1"/>
                    <a:pt x="600" y="3"/>
                  </a:cubicBezTo>
                  <a:cubicBezTo>
                    <a:pt x="641" y="5"/>
                    <a:pt x="706" y="11"/>
                    <a:pt x="747" y="15"/>
                  </a:cubicBezTo>
                  <a:cubicBezTo>
                    <a:pt x="788" y="19"/>
                    <a:pt x="818" y="23"/>
                    <a:pt x="846" y="30"/>
                  </a:cubicBezTo>
                  <a:cubicBezTo>
                    <a:pt x="874" y="37"/>
                    <a:pt x="903" y="54"/>
                    <a:pt x="918" y="60"/>
                  </a:cubicBezTo>
                </a:path>
              </a:pathLst>
            </a:custGeom>
            <a:noFill/>
            <a:ln w="38160">
              <a:solidFill>
                <a:srgbClr val="2f6e7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1755720" y="2050560"/>
            <a:ext cx="0" cy="1349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08160" y="2387520"/>
            <a:ext cx="1549440" cy="355680"/>
          </a:xfrm>
          <a:prstGeom prst="wedgeRectCallout">
            <a:avLst>
              <a:gd name="adj1" fmla="val -72231"/>
              <a:gd name="adj2" fmla="val 131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482920" y="1738440"/>
            <a:ext cx="799920" cy="342720"/>
          </a:xfrm>
          <a:prstGeom prst="wedgeRectCallout">
            <a:avLst>
              <a:gd name="adj1" fmla="val -194842"/>
              <a:gd name="adj2" fmla="val 1439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95800" y="2298600"/>
            <a:ext cx="1467000" cy="13622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829480" y="2146320"/>
            <a:ext cx="0" cy="172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990680" y="4308480"/>
            <a:ext cx="1695240" cy="1590840"/>
            <a:chOff x="4990680" y="4308480"/>
            <a:chExt cx="1695240" cy="1590840"/>
          </a:xfrm>
        </p:grpSpPr>
        <p:sp>
          <p:nvSpPr>
            <p:cNvPr id="350" name=""/>
            <p:cNvSpPr/>
            <p:nvPr/>
          </p:nvSpPr>
          <p:spPr>
            <a:xfrm>
              <a:off x="5838840" y="4308480"/>
              <a:ext cx="0" cy="15908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4990680" y="5175360"/>
              <a:ext cx="1695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5105520" y="4432320"/>
            <a:ext cx="1466640" cy="1467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0686960" y="3314880"/>
            <a:ext cx="0" cy="2247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362560" y="2784600"/>
            <a:ext cx="0" cy="29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307120" y="2733840"/>
            <a:ext cx="110880" cy="110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97400" y="5657760"/>
            <a:ext cx="120600" cy="120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63560" y="187200"/>
            <a:ext cx="6123240" cy="398880"/>
          </a:xfrm>
          <a:prstGeom prst="rect">
            <a:avLst/>
          </a:prstGeom>
          <a:solidFill>
            <a:srgbClr val="bbe0e3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Линейчатые  поверхности    вра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59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6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9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346040" y="1098720"/>
            <a:ext cx="2019600" cy="1473120"/>
          </a:xfrm>
          <a:custGeom>
            <a:avLst/>
            <a:gdLst/>
            <a:ahLst/>
            <a:rect l="l" t="t" r="r" b="b"/>
            <a:pathLst>
              <a:path w="1272" h="928">
                <a:moveTo>
                  <a:pt x="224" y="0"/>
                </a:moveTo>
                <a:lnTo>
                  <a:pt x="292" y="36"/>
                </a:lnTo>
                <a:lnTo>
                  <a:pt x="412" y="56"/>
                </a:lnTo>
                <a:lnTo>
                  <a:pt x="624" y="64"/>
                </a:lnTo>
                <a:lnTo>
                  <a:pt x="808" y="56"/>
                </a:lnTo>
                <a:lnTo>
                  <a:pt x="964" y="40"/>
                </a:lnTo>
                <a:lnTo>
                  <a:pt x="1028" y="16"/>
                </a:lnTo>
                <a:lnTo>
                  <a:pt x="1020" y="72"/>
                </a:lnTo>
                <a:lnTo>
                  <a:pt x="1052" y="136"/>
                </a:lnTo>
                <a:lnTo>
                  <a:pt x="1180" y="280"/>
                </a:lnTo>
                <a:lnTo>
                  <a:pt x="1260" y="404"/>
                </a:lnTo>
                <a:lnTo>
                  <a:pt x="1272" y="464"/>
                </a:lnTo>
                <a:lnTo>
                  <a:pt x="1260" y="528"/>
                </a:lnTo>
                <a:lnTo>
                  <a:pt x="1196" y="636"/>
                </a:lnTo>
                <a:lnTo>
                  <a:pt x="1140" y="720"/>
                </a:lnTo>
                <a:lnTo>
                  <a:pt x="1116" y="780"/>
                </a:lnTo>
                <a:lnTo>
                  <a:pt x="1124" y="832"/>
                </a:lnTo>
                <a:lnTo>
                  <a:pt x="1072" y="872"/>
                </a:lnTo>
                <a:lnTo>
                  <a:pt x="964" y="900"/>
                </a:lnTo>
                <a:lnTo>
                  <a:pt x="744" y="924"/>
                </a:lnTo>
                <a:lnTo>
                  <a:pt x="624" y="928"/>
                </a:lnTo>
                <a:lnTo>
                  <a:pt x="404" y="916"/>
                </a:lnTo>
                <a:lnTo>
                  <a:pt x="244" y="892"/>
                </a:lnTo>
                <a:lnTo>
                  <a:pt x="164" y="852"/>
                </a:lnTo>
                <a:lnTo>
                  <a:pt x="132" y="824"/>
                </a:lnTo>
                <a:lnTo>
                  <a:pt x="156" y="768"/>
                </a:lnTo>
                <a:lnTo>
                  <a:pt x="128" y="708"/>
                </a:lnTo>
                <a:lnTo>
                  <a:pt x="68" y="624"/>
                </a:lnTo>
                <a:lnTo>
                  <a:pt x="24" y="560"/>
                </a:lnTo>
                <a:lnTo>
                  <a:pt x="0" y="488"/>
                </a:lnTo>
                <a:lnTo>
                  <a:pt x="0" y="400"/>
                </a:lnTo>
                <a:lnTo>
                  <a:pt x="52" y="312"/>
                </a:lnTo>
                <a:lnTo>
                  <a:pt x="104" y="252"/>
                </a:lnTo>
                <a:lnTo>
                  <a:pt x="172" y="172"/>
                </a:lnTo>
                <a:lnTo>
                  <a:pt x="228" y="108"/>
                </a:lnTo>
                <a:lnTo>
                  <a:pt x="248" y="40"/>
                </a:lnTo>
                <a:lnTo>
                  <a:pt x="224" y="0"/>
                </a:lnTo>
                <a:close/>
              </a:path>
            </a:pathLst>
          </a:custGeom>
          <a:solidFill>
            <a:srgbClr val="bbe0e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406520" y="1536840"/>
            <a:ext cx="1879560" cy="117360"/>
          </a:xfrm>
          <a:custGeom>
            <a:avLst/>
            <a:gdLst/>
            <a:ahLst/>
            <a:rect l="l" t="t" r="r" b="b"/>
            <a:pathLst>
              <a:path w="1184" h="74">
                <a:moveTo>
                  <a:pt x="0" y="72"/>
                </a:moveTo>
                <a:cubicBezTo>
                  <a:pt x="20" y="65"/>
                  <a:pt x="61" y="39"/>
                  <a:pt x="120" y="28"/>
                </a:cubicBezTo>
                <a:cubicBezTo>
                  <a:pt x="179" y="17"/>
                  <a:pt x="277" y="13"/>
                  <a:pt x="352" y="8"/>
                </a:cubicBezTo>
                <a:cubicBezTo>
                  <a:pt x="427" y="3"/>
                  <a:pt x="488" y="0"/>
                  <a:pt x="568" y="0"/>
                </a:cubicBezTo>
                <a:cubicBezTo>
                  <a:pt x="648" y="0"/>
                  <a:pt x="742" y="1"/>
                  <a:pt x="832" y="8"/>
                </a:cubicBezTo>
                <a:cubicBezTo>
                  <a:pt x="922" y="15"/>
                  <a:pt x="1049" y="29"/>
                  <a:pt x="1108" y="40"/>
                </a:cubicBezTo>
                <a:cubicBezTo>
                  <a:pt x="1167" y="51"/>
                  <a:pt x="1168" y="67"/>
                  <a:pt x="1184" y="74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322280" y="1112760"/>
            <a:ext cx="432000" cy="129564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242" y="0"/>
                </a:moveTo>
                <a:cubicBezTo>
                  <a:pt x="257" y="18"/>
                  <a:pt x="272" y="37"/>
                  <a:pt x="242" y="90"/>
                </a:cubicBezTo>
                <a:cubicBezTo>
                  <a:pt x="212" y="143"/>
                  <a:pt x="99" y="249"/>
                  <a:pt x="61" y="317"/>
                </a:cubicBezTo>
                <a:cubicBezTo>
                  <a:pt x="23" y="385"/>
                  <a:pt x="0" y="430"/>
                  <a:pt x="15" y="498"/>
                </a:cubicBezTo>
                <a:cubicBezTo>
                  <a:pt x="30" y="566"/>
                  <a:pt x="129" y="672"/>
                  <a:pt x="152" y="725"/>
                </a:cubicBezTo>
                <a:cubicBezTo>
                  <a:pt x="175" y="778"/>
                  <a:pt x="152" y="801"/>
                  <a:pt x="152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941560" y="1122480"/>
            <a:ext cx="432000" cy="130788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242" y="0"/>
                </a:moveTo>
                <a:cubicBezTo>
                  <a:pt x="257" y="18"/>
                  <a:pt x="272" y="37"/>
                  <a:pt x="242" y="90"/>
                </a:cubicBezTo>
                <a:cubicBezTo>
                  <a:pt x="212" y="143"/>
                  <a:pt x="99" y="249"/>
                  <a:pt x="61" y="317"/>
                </a:cubicBezTo>
                <a:cubicBezTo>
                  <a:pt x="23" y="385"/>
                  <a:pt x="0" y="430"/>
                  <a:pt x="15" y="498"/>
                </a:cubicBezTo>
                <a:cubicBezTo>
                  <a:pt x="30" y="566"/>
                  <a:pt x="129" y="672"/>
                  <a:pt x="152" y="725"/>
                </a:cubicBezTo>
                <a:cubicBezTo>
                  <a:pt x="175" y="778"/>
                  <a:pt x="152" y="801"/>
                  <a:pt x="152" y="816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5824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708200" y="1098720"/>
            <a:ext cx="1276200" cy="10764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695600" y="1022400"/>
            <a:ext cx="1276200" cy="104760"/>
          </a:xfrm>
          <a:custGeom>
            <a:avLst/>
            <a:gdLst/>
            <a:ahLst/>
            <a:rect l="l" t="t" r="r" b="b"/>
            <a:pathLst>
              <a:path w="804" h="66">
                <a:moveTo>
                  <a:pt x="804" y="58"/>
                </a:moveTo>
                <a:cubicBezTo>
                  <a:pt x="795" y="50"/>
                  <a:pt x="787" y="42"/>
                  <a:pt x="756" y="34"/>
                </a:cubicBezTo>
                <a:cubicBezTo>
                  <a:pt x="725" y="26"/>
                  <a:pt x="681" y="16"/>
                  <a:pt x="620" y="10"/>
                </a:cubicBezTo>
                <a:cubicBezTo>
                  <a:pt x="559" y="4"/>
                  <a:pt x="463" y="0"/>
                  <a:pt x="388" y="0"/>
                </a:cubicBezTo>
                <a:cubicBezTo>
                  <a:pt x="313" y="0"/>
                  <a:pt x="222" y="5"/>
                  <a:pt x="168" y="10"/>
                </a:cubicBezTo>
                <a:cubicBezTo>
                  <a:pt x="114" y="15"/>
                  <a:pt x="92" y="21"/>
                  <a:pt x="64" y="30"/>
                </a:cubicBezTo>
                <a:cubicBezTo>
                  <a:pt x="36" y="39"/>
                  <a:pt x="18" y="53"/>
                  <a:pt x="0" y="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49440" y="2406600"/>
            <a:ext cx="1587600" cy="17136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542960" y="2247840"/>
            <a:ext cx="1587600" cy="17136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313000" y="1104840"/>
            <a:ext cx="44280" cy="4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320920" y="2389320"/>
            <a:ext cx="44280" cy="44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53960" y="1817640"/>
            <a:ext cx="1992600" cy="157320"/>
          </a:xfrm>
          <a:custGeom>
            <a:avLst/>
            <a:gdLst/>
            <a:ahLst/>
            <a:rect l="l" t="t" r="r" b="b"/>
            <a:pathLst>
              <a:path w="1192" h="84">
                <a:moveTo>
                  <a:pt x="0" y="6"/>
                </a:moveTo>
                <a:cubicBezTo>
                  <a:pt x="17" y="12"/>
                  <a:pt x="58" y="33"/>
                  <a:pt x="104" y="44"/>
                </a:cubicBezTo>
                <a:cubicBezTo>
                  <a:pt x="150" y="55"/>
                  <a:pt x="212" y="64"/>
                  <a:pt x="274" y="70"/>
                </a:cubicBezTo>
                <a:cubicBezTo>
                  <a:pt x="333" y="75"/>
                  <a:pt x="408" y="78"/>
                  <a:pt x="476" y="80"/>
                </a:cubicBezTo>
                <a:cubicBezTo>
                  <a:pt x="544" y="82"/>
                  <a:pt x="604" y="84"/>
                  <a:pt x="672" y="82"/>
                </a:cubicBezTo>
                <a:cubicBezTo>
                  <a:pt x="740" y="80"/>
                  <a:pt x="827" y="77"/>
                  <a:pt x="892" y="72"/>
                </a:cubicBezTo>
                <a:cubicBezTo>
                  <a:pt x="957" y="67"/>
                  <a:pt x="1035" y="56"/>
                  <a:pt x="1084" y="46"/>
                </a:cubicBezTo>
                <a:cubicBezTo>
                  <a:pt x="1133" y="36"/>
                  <a:pt x="1170" y="10"/>
                  <a:pt x="119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374840" y="1641600"/>
            <a:ext cx="1892160" cy="133200"/>
          </a:xfrm>
          <a:custGeom>
            <a:avLst/>
            <a:gdLst/>
            <a:ahLst/>
            <a:rect l="l" t="t" r="r" b="b"/>
            <a:pathLst>
              <a:path w="1192" h="84">
                <a:moveTo>
                  <a:pt x="0" y="6"/>
                </a:moveTo>
                <a:cubicBezTo>
                  <a:pt x="17" y="12"/>
                  <a:pt x="58" y="33"/>
                  <a:pt x="104" y="44"/>
                </a:cubicBezTo>
                <a:cubicBezTo>
                  <a:pt x="150" y="55"/>
                  <a:pt x="212" y="64"/>
                  <a:pt x="274" y="70"/>
                </a:cubicBezTo>
                <a:cubicBezTo>
                  <a:pt x="333" y="75"/>
                  <a:pt x="408" y="78"/>
                  <a:pt x="476" y="80"/>
                </a:cubicBezTo>
                <a:cubicBezTo>
                  <a:pt x="544" y="82"/>
                  <a:pt x="604" y="84"/>
                  <a:pt x="672" y="82"/>
                </a:cubicBezTo>
                <a:cubicBezTo>
                  <a:pt x="740" y="80"/>
                  <a:pt x="827" y="77"/>
                  <a:pt x="892" y="72"/>
                </a:cubicBezTo>
                <a:cubicBezTo>
                  <a:pt x="957" y="67"/>
                  <a:pt x="1035" y="56"/>
                  <a:pt x="1084" y="46"/>
                </a:cubicBezTo>
                <a:cubicBezTo>
                  <a:pt x="1133" y="36"/>
                  <a:pt x="1170" y="10"/>
                  <a:pt x="1192" y="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352520" y="1689120"/>
            <a:ext cx="2003400" cy="131760"/>
          </a:xfrm>
          <a:custGeom>
            <a:avLst/>
            <a:gdLst/>
            <a:ahLst/>
            <a:rect l="l" t="t" r="r" b="b"/>
            <a:pathLst>
              <a:path w="1184" h="74">
                <a:moveTo>
                  <a:pt x="0" y="72"/>
                </a:moveTo>
                <a:cubicBezTo>
                  <a:pt x="20" y="65"/>
                  <a:pt x="61" y="39"/>
                  <a:pt x="120" y="28"/>
                </a:cubicBezTo>
                <a:cubicBezTo>
                  <a:pt x="179" y="17"/>
                  <a:pt x="277" y="13"/>
                  <a:pt x="352" y="8"/>
                </a:cubicBezTo>
                <a:cubicBezTo>
                  <a:pt x="427" y="3"/>
                  <a:pt x="488" y="0"/>
                  <a:pt x="568" y="0"/>
                </a:cubicBezTo>
                <a:cubicBezTo>
                  <a:pt x="648" y="0"/>
                  <a:pt x="742" y="1"/>
                  <a:pt x="832" y="8"/>
                </a:cubicBezTo>
                <a:cubicBezTo>
                  <a:pt x="922" y="15"/>
                  <a:pt x="1049" y="29"/>
                  <a:pt x="1108" y="40"/>
                </a:cubicBezTo>
                <a:cubicBezTo>
                  <a:pt x="1167" y="51"/>
                  <a:pt x="1168" y="67"/>
                  <a:pt x="1184" y="74"/>
                </a:cubicBezTo>
              </a:path>
            </a:pathLst>
          </a:custGeom>
          <a:noFill/>
          <a:ln w="28440">
            <a:solidFill>
              <a:srgbClr val="3333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17920" y="1047600"/>
            <a:ext cx="1339920" cy="266760"/>
          </a:xfrm>
          <a:prstGeom prst="wedgeRectCallout">
            <a:avLst>
              <a:gd name="adj1" fmla="val -79620"/>
              <a:gd name="adj2" fmla="val 113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разующ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19440" y="1467000"/>
            <a:ext cx="1212840" cy="266400"/>
          </a:xfrm>
          <a:prstGeom prst="wedgeRectCallout">
            <a:avLst>
              <a:gd name="adj1" fmla="val -96856"/>
              <a:gd name="adj2" fmla="val 4643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аралл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57200" y="3390840"/>
            <a:ext cx="81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Параллель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ужность, с центром на оси вращения, которую описывает каждая точка образующей при вращении вокруг ос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8120" y="4653000"/>
            <a:ext cx="73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ь наименьшего диаметра назыв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ор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3309840" y="177156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7040" y="5133960"/>
            <a:ext cx="79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аллель наибольшего диаметра назыв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экватор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98840" y="523800"/>
            <a:ext cx="1152360" cy="325440"/>
          </a:xfrm>
          <a:prstGeom prst="wedgeRectCallout">
            <a:avLst>
              <a:gd name="adj1" fmla="val -99449"/>
              <a:gd name="adj2" fmla="val 165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орл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603600" y="2060640"/>
            <a:ext cx="1152720" cy="325440"/>
          </a:xfrm>
          <a:prstGeom prst="wedgeRectCallout">
            <a:avLst>
              <a:gd name="adj1" fmla="val -112120"/>
              <a:gd name="adj2" fmla="val -856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экв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0" y="4752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рхности 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314440" y="1820880"/>
            <a:ext cx="44640" cy="44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480" bIns="-15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2520" y="4130640"/>
            <a:ext cx="732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диус параллели равен расстоянию от оси до очер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336760" y="1625760"/>
            <a:ext cx="959040" cy="0"/>
          </a:xfrm>
          <a:prstGeom prst="line">
            <a:avLst/>
          </a:prstGeom>
          <a:ln w="3816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17680" y="1608120"/>
            <a:ext cx="44640" cy="4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3254400" y="1600200"/>
            <a:ext cx="76320" cy="76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14600" y="1308240"/>
            <a:ext cx="4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30520" y="1193760"/>
            <a:ext cx="1231920" cy="9864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14680" y="1104840"/>
            <a:ext cx="1250640" cy="108000"/>
          </a:xfrm>
          <a:custGeom>
            <a:avLst/>
            <a:gdLst/>
            <a:ahLst/>
            <a:rect l="l" t="t" r="r" b="b"/>
            <a:pathLst>
              <a:path w="804" h="66">
                <a:moveTo>
                  <a:pt x="804" y="58"/>
                </a:moveTo>
                <a:cubicBezTo>
                  <a:pt x="795" y="50"/>
                  <a:pt x="787" y="42"/>
                  <a:pt x="756" y="34"/>
                </a:cubicBezTo>
                <a:cubicBezTo>
                  <a:pt x="725" y="26"/>
                  <a:pt x="681" y="16"/>
                  <a:pt x="620" y="10"/>
                </a:cubicBezTo>
                <a:cubicBezTo>
                  <a:pt x="559" y="4"/>
                  <a:pt x="463" y="0"/>
                  <a:pt x="388" y="0"/>
                </a:cubicBezTo>
                <a:cubicBezTo>
                  <a:pt x="313" y="0"/>
                  <a:pt x="222" y="5"/>
                  <a:pt x="168" y="10"/>
                </a:cubicBezTo>
                <a:cubicBezTo>
                  <a:pt x="114" y="15"/>
                  <a:pt x="92" y="21"/>
                  <a:pt x="64" y="30"/>
                </a:cubicBezTo>
                <a:cubicBezTo>
                  <a:pt x="36" y="39"/>
                  <a:pt x="18" y="53"/>
                  <a:pt x="0" y="66"/>
                </a:cubicBez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9 0.00185 C 0.00087 0.00602 -0.01302 0.01111 -0.025 0.01412 C -0.03698 0.01713 -0.05573 0.01944 -0.07361 0.02037 C -0.0915 0.0213 -0.11493 0.02037 -0.13264 0.01944 C -0.15035 0.01852 -0.16754 0.01782 -0.17986 0.01505 C -0.19219 0.01227 -0.20764 0.00694 -0.20695 0.00278 C -0.20625 -0.00139 -0.18698 -0.00695 -0.1757 -0.00972 C -0.16441 -0.01227 -0.15278 -0.0125 -0.13889 -0.0132 C -0.125 -0.01389 -0.10834 -0.01412 -0.09236 -0.01412 C -0.07639 -0.01389 -0.05816 -0.01389 -0.04306 -0.01134 C -0.02795 -0.00903 -0.00504 -0.00232 -0.00209 0.00185 Z">
                                      <p:cBhvr>
                                        <p:cTn id="750" dur="6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11111E-006 C 0.00329 0.00509 -0.01164 0.01111 -0.02431 0.01458 C -0.03698 0.01829 -0.05695 0.02083 -0.07587 0.02199 C -0.09462 0.02315 -0.11927 0.02199 -0.13802 0.02083 C -0.15677 0.01991 -0.175 0.01921 -0.1882 0.01574 C -0.20105 0.01227 -0.21719 0.00602 -0.21667 0.00116 C -0.21598 -0.00394 -0.19566 -0.01042 -0.18368 -0.01366 C -0.17171 -0.01667 -0.15955 -0.0169 -0.1448 -0.01783 C -0.13021 -0.01852 -0.1125 -0.01898 -0.09566 -0.01875 C -0.07865 -0.01852 -0.05938 -0.01852 -0.04341 -0.01574 C -0.02743 -0.01273 -0.0033 -0.00486 4.16667E-006 1.11111E-006 Z">
                                      <p:cBhvr>
                                        <p:cTn id="760" dur="6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  <p:set>
                                      <p:cBhvr>
                                        <p:cTn id="805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6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37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8" nodeType="with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9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40" dur="2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49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850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1346040" y="1098720"/>
            <a:ext cx="2019600" cy="1473120"/>
          </a:xfrm>
          <a:custGeom>
            <a:avLst/>
            <a:gdLst/>
            <a:ahLst/>
            <a:rect l="l" t="t" r="r" b="b"/>
            <a:pathLst>
              <a:path w="1272" h="928">
                <a:moveTo>
                  <a:pt x="224" y="0"/>
                </a:moveTo>
                <a:lnTo>
                  <a:pt x="292" y="36"/>
                </a:lnTo>
                <a:lnTo>
                  <a:pt x="412" y="56"/>
                </a:lnTo>
                <a:lnTo>
                  <a:pt x="624" y="64"/>
                </a:lnTo>
                <a:lnTo>
                  <a:pt x="808" y="56"/>
                </a:lnTo>
                <a:lnTo>
                  <a:pt x="964" y="40"/>
                </a:lnTo>
                <a:lnTo>
                  <a:pt x="1028" y="16"/>
                </a:lnTo>
                <a:lnTo>
                  <a:pt x="1020" y="72"/>
                </a:lnTo>
                <a:lnTo>
                  <a:pt x="1052" y="136"/>
                </a:lnTo>
                <a:lnTo>
                  <a:pt x="1180" y="280"/>
                </a:lnTo>
                <a:lnTo>
                  <a:pt x="1260" y="404"/>
                </a:lnTo>
                <a:lnTo>
                  <a:pt x="1272" y="464"/>
                </a:lnTo>
                <a:lnTo>
                  <a:pt x="1260" y="528"/>
                </a:lnTo>
                <a:lnTo>
                  <a:pt x="1196" y="636"/>
                </a:lnTo>
                <a:lnTo>
                  <a:pt x="1140" y="720"/>
                </a:lnTo>
                <a:lnTo>
                  <a:pt x="1116" y="780"/>
                </a:lnTo>
                <a:lnTo>
                  <a:pt x="1124" y="832"/>
                </a:lnTo>
                <a:lnTo>
                  <a:pt x="1072" y="872"/>
                </a:lnTo>
                <a:lnTo>
                  <a:pt x="964" y="900"/>
                </a:lnTo>
                <a:lnTo>
                  <a:pt x="744" y="924"/>
                </a:lnTo>
                <a:lnTo>
                  <a:pt x="624" y="928"/>
                </a:lnTo>
                <a:lnTo>
                  <a:pt x="404" y="916"/>
                </a:lnTo>
                <a:lnTo>
                  <a:pt x="244" y="892"/>
                </a:lnTo>
                <a:lnTo>
                  <a:pt x="164" y="852"/>
                </a:lnTo>
                <a:lnTo>
                  <a:pt x="132" y="824"/>
                </a:lnTo>
                <a:lnTo>
                  <a:pt x="156" y="768"/>
                </a:lnTo>
                <a:lnTo>
                  <a:pt x="128" y="708"/>
                </a:lnTo>
                <a:lnTo>
                  <a:pt x="68" y="624"/>
                </a:lnTo>
                <a:lnTo>
                  <a:pt x="24" y="560"/>
                </a:lnTo>
                <a:lnTo>
                  <a:pt x="0" y="488"/>
                </a:lnTo>
                <a:lnTo>
                  <a:pt x="0" y="400"/>
                </a:lnTo>
                <a:lnTo>
                  <a:pt x="52" y="312"/>
                </a:lnTo>
                <a:lnTo>
                  <a:pt x="104" y="252"/>
                </a:lnTo>
                <a:lnTo>
                  <a:pt x="172" y="172"/>
                </a:lnTo>
                <a:lnTo>
                  <a:pt x="228" y="108"/>
                </a:lnTo>
                <a:lnTo>
                  <a:pt x="248" y="40"/>
                </a:lnTo>
                <a:lnTo>
                  <a:pt x="224" y="0"/>
                </a:lnTo>
                <a:close/>
              </a:path>
            </a:pathLst>
          </a:custGeom>
          <a:solidFill>
            <a:srgbClr val="bbe0e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08200" y="-870120"/>
            <a:ext cx="1263600" cy="1892520"/>
          </a:xfrm>
          <a:custGeom>
            <a:avLst/>
            <a:gdLst/>
            <a:ahLst/>
            <a:rect l="l" t="t" r="r" b="b"/>
            <a:pathLst>
              <a:path w="796" h="1192">
                <a:moveTo>
                  <a:pt x="8" y="0"/>
                </a:moveTo>
                <a:lnTo>
                  <a:pt x="796" y="328"/>
                </a:lnTo>
                <a:lnTo>
                  <a:pt x="796" y="1192"/>
                </a:lnTo>
                <a:lnTo>
                  <a:pt x="0" y="788"/>
                </a:lnTo>
                <a:lnTo>
                  <a:pt x="8" y="0"/>
                </a:lnTo>
                <a:close/>
              </a:path>
            </a:pathLst>
          </a:custGeom>
          <a:solidFill>
            <a:srgbClr val="3399ff">
              <a:alpha val="32000"/>
            </a:srgbClr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22280" y="1112760"/>
            <a:ext cx="432000" cy="129564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242" y="0"/>
                </a:moveTo>
                <a:cubicBezTo>
                  <a:pt x="257" y="18"/>
                  <a:pt x="272" y="37"/>
                  <a:pt x="242" y="90"/>
                </a:cubicBezTo>
                <a:cubicBezTo>
                  <a:pt x="212" y="143"/>
                  <a:pt x="99" y="249"/>
                  <a:pt x="61" y="317"/>
                </a:cubicBezTo>
                <a:cubicBezTo>
                  <a:pt x="23" y="385"/>
                  <a:pt x="0" y="430"/>
                  <a:pt x="15" y="498"/>
                </a:cubicBezTo>
                <a:cubicBezTo>
                  <a:pt x="30" y="566"/>
                  <a:pt x="129" y="672"/>
                  <a:pt x="152" y="725"/>
                </a:cubicBezTo>
                <a:cubicBezTo>
                  <a:pt x="175" y="778"/>
                  <a:pt x="152" y="801"/>
                  <a:pt x="152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2941560" y="1122480"/>
            <a:ext cx="432000" cy="130788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242" y="0"/>
                </a:moveTo>
                <a:cubicBezTo>
                  <a:pt x="257" y="18"/>
                  <a:pt x="272" y="37"/>
                  <a:pt x="242" y="90"/>
                </a:cubicBezTo>
                <a:cubicBezTo>
                  <a:pt x="212" y="143"/>
                  <a:pt x="99" y="249"/>
                  <a:pt x="61" y="317"/>
                </a:cubicBezTo>
                <a:cubicBezTo>
                  <a:pt x="23" y="385"/>
                  <a:pt x="0" y="430"/>
                  <a:pt x="15" y="498"/>
                </a:cubicBezTo>
                <a:cubicBezTo>
                  <a:pt x="30" y="566"/>
                  <a:pt x="129" y="672"/>
                  <a:pt x="152" y="725"/>
                </a:cubicBezTo>
                <a:cubicBezTo>
                  <a:pt x="175" y="778"/>
                  <a:pt x="152" y="801"/>
                  <a:pt x="152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340000" y="5824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08200" y="1098720"/>
            <a:ext cx="1276200" cy="10764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695600" y="1022400"/>
            <a:ext cx="1276200" cy="104760"/>
          </a:xfrm>
          <a:custGeom>
            <a:avLst/>
            <a:gdLst/>
            <a:ahLst/>
            <a:rect l="l" t="t" r="r" b="b"/>
            <a:pathLst>
              <a:path w="804" h="66">
                <a:moveTo>
                  <a:pt x="804" y="58"/>
                </a:moveTo>
                <a:cubicBezTo>
                  <a:pt x="795" y="50"/>
                  <a:pt x="787" y="42"/>
                  <a:pt x="756" y="34"/>
                </a:cubicBezTo>
                <a:cubicBezTo>
                  <a:pt x="725" y="26"/>
                  <a:pt x="681" y="16"/>
                  <a:pt x="620" y="10"/>
                </a:cubicBezTo>
                <a:cubicBezTo>
                  <a:pt x="559" y="4"/>
                  <a:pt x="463" y="0"/>
                  <a:pt x="388" y="0"/>
                </a:cubicBezTo>
                <a:cubicBezTo>
                  <a:pt x="313" y="0"/>
                  <a:pt x="222" y="5"/>
                  <a:pt x="168" y="10"/>
                </a:cubicBezTo>
                <a:cubicBezTo>
                  <a:pt x="114" y="15"/>
                  <a:pt x="92" y="21"/>
                  <a:pt x="64" y="30"/>
                </a:cubicBezTo>
                <a:cubicBezTo>
                  <a:pt x="36" y="39"/>
                  <a:pt x="18" y="53"/>
                  <a:pt x="0" y="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549440" y="2406600"/>
            <a:ext cx="1587600" cy="17136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542960" y="2247840"/>
            <a:ext cx="1587600" cy="17136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808280" y="1038240"/>
            <a:ext cx="1003320" cy="1533240"/>
            <a:chOff x="1808280" y="1038240"/>
            <a:chExt cx="1003320" cy="1533240"/>
          </a:xfrm>
        </p:grpSpPr>
        <p:sp>
          <p:nvSpPr>
            <p:cNvPr id="399" name=""/>
            <p:cNvSpPr/>
            <p:nvPr/>
          </p:nvSpPr>
          <p:spPr>
            <a:xfrm>
              <a:off x="1819440" y="1041480"/>
              <a:ext cx="976320" cy="1519200"/>
            </a:xfrm>
            <a:custGeom>
              <a:avLst/>
              <a:gdLst/>
              <a:ahLst/>
              <a:rect l="l" t="t" r="r" b="b"/>
              <a:pathLst>
                <a:path w="615" h="957">
                  <a:moveTo>
                    <a:pt x="198" y="0"/>
                  </a:moveTo>
                  <a:lnTo>
                    <a:pt x="432" y="114"/>
                  </a:lnTo>
                  <a:lnTo>
                    <a:pt x="423" y="156"/>
                  </a:lnTo>
                  <a:lnTo>
                    <a:pt x="432" y="201"/>
                  </a:lnTo>
                  <a:lnTo>
                    <a:pt x="471" y="279"/>
                  </a:lnTo>
                  <a:lnTo>
                    <a:pt x="525" y="345"/>
                  </a:lnTo>
                  <a:lnTo>
                    <a:pt x="582" y="447"/>
                  </a:lnTo>
                  <a:lnTo>
                    <a:pt x="609" y="531"/>
                  </a:lnTo>
                  <a:lnTo>
                    <a:pt x="615" y="606"/>
                  </a:lnTo>
                  <a:lnTo>
                    <a:pt x="594" y="672"/>
                  </a:lnTo>
                  <a:lnTo>
                    <a:pt x="555" y="765"/>
                  </a:lnTo>
                  <a:lnTo>
                    <a:pt x="513" y="864"/>
                  </a:lnTo>
                  <a:lnTo>
                    <a:pt x="498" y="918"/>
                  </a:lnTo>
                  <a:lnTo>
                    <a:pt x="501" y="957"/>
                  </a:lnTo>
                  <a:lnTo>
                    <a:pt x="108" y="780"/>
                  </a:lnTo>
                  <a:lnTo>
                    <a:pt x="117" y="738"/>
                  </a:lnTo>
                  <a:lnTo>
                    <a:pt x="99" y="666"/>
                  </a:lnTo>
                  <a:lnTo>
                    <a:pt x="54" y="600"/>
                  </a:lnTo>
                  <a:lnTo>
                    <a:pt x="15" y="519"/>
                  </a:lnTo>
                  <a:lnTo>
                    <a:pt x="0" y="396"/>
                  </a:lnTo>
                  <a:lnTo>
                    <a:pt x="30" y="327"/>
                  </a:lnTo>
                  <a:lnTo>
                    <a:pt x="117" y="195"/>
                  </a:lnTo>
                  <a:lnTo>
                    <a:pt x="201" y="63"/>
                  </a:lnTo>
                  <a:lnTo>
                    <a:pt x="198" y="0"/>
                  </a:lnTo>
                  <a:close/>
                </a:path>
              </a:pathLst>
            </a:custGeom>
            <a:solidFill>
              <a:srgbClr val="3399ff">
                <a:alpha val="63000"/>
              </a:srgbClr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2465280" y="1225440"/>
              <a:ext cx="346320" cy="1346040"/>
            </a:xfrm>
            <a:custGeom>
              <a:avLst/>
              <a:gdLst/>
              <a:ahLst/>
              <a:rect l="l" t="t" r="r" b="b"/>
              <a:pathLst>
                <a:path w="272" h="816">
                  <a:moveTo>
                    <a:pt x="242" y="0"/>
                  </a:moveTo>
                  <a:cubicBezTo>
                    <a:pt x="257" y="18"/>
                    <a:pt x="272" y="37"/>
                    <a:pt x="242" y="90"/>
                  </a:cubicBezTo>
                  <a:cubicBezTo>
                    <a:pt x="212" y="143"/>
                    <a:pt x="99" y="249"/>
                    <a:pt x="61" y="317"/>
                  </a:cubicBezTo>
                  <a:cubicBezTo>
                    <a:pt x="23" y="385"/>
                    <a:pt x="0" y="430"/>
                    <a:pt x="15" y="498"/>
                  </a:cubicBezTo>
                  <a:cubicBezTo>
                    <a:pt x="30" y="566"/>
                    <a:pt x="129" y="672"/>
                    <a:pt x="152" y="725"/>
                  </a:cubicBezTo>
                  <a:cubicBezTo>
                    <a:pt x="175" y="778"/>
                    <a:pt x="152" y="801"/>
                    <a:pt x="152" y="816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2115720" y="1041480"/>
              <a:ext cx="390600" cy="1713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808280" y="1038240"/>
              <a:ext cx="345960" cy="1242720"/>
            </a:xfrm>
            <a:custGeom>
              <a:avLst/>
              <a:gdLst/>
              <a:ahLst/>
              <a:rect l="l" t="t" r="r" b="b"/>
              <a:pathLst>
                <a:path w="272" h="816">
                  <a:moveTo>
                    <a:pt x="242" y="0"/>
                  </a:moveTo>
                  <a:cubicBezTo>
                    <a:pt x="257" y="18"/>
                    <a:pt x="272" y="37"/>
                    <a:pt x="242" y="90"/>
                  </a:cubicBezTo>
                  <a:cubicBezTo>
                    <a:pt x="212" y="143"/>
                    <a:pt x="99" y="249"/>
                    <a:pt x="61" y="317"/>
                  </a:cubicBezTo>
                  <a:cubicBezTo>
                    <a:pt x="23" y="385"/>
                    <a:pt x="0" y="430"/>
                    <a:pt x="15" y="498"/>
                  </a:cubicBezTo>
                  <a:cubicBezTo>
                    <a:pt x="30" y="566"/>
                    <a:pt x="129" y="672"/>
                    <a:pt x="152" y="725"/>
                  </a:cubicBezTo>
                  <a:cubicBezTo>
                    <a:pt x="175" y="778"/>
                    <a:pt x="152" y="801"/>
                    <a:pt x="152" y="816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004840" y="2270160"/>
              <a:ext cx="613080" cy="295200"/>
            </a:xfrm>
            <a:prstGeom prst="line">
              <a:avLst/>
            </a:prstGeom>
            <a:ln w="38160">
              <a:solidFill>
                <a:srgbClr val="0099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2313000" y="1104840"/>
            <a:ext cx="44280" cy="4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311560" y="2392200"/>
            <a:ext cx="44280" cy="4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481120" y="1200240"/>
            <a:ext cx="322560" cy="1377720"/>
          </a:xfrm>
          <a:custGeom>
            <a:avLst/>
            <a:gdLst/>
            <a:ahLst/>
            <a:rect l="l" t="t" r="r" b="b"/>
            <a:pathLst>
              <a:path w="203" h="868">
                <a:moveTo>
                  <a:pt x="13" y="0"/>
                </a:moveTo>
                <a:cubicBezTo>
                  <a:pt x="6" y="15"/>
                  <a:pt x="0" y="31"/>
                  <a:pt x="1" y="48"/>
                </a:cubicBezTo>
                <a:cubicBezTo>
                  <a:pt x="2" y="65"/>
                  <a:pt x="9" y="81"/>
                  <a:pt x="17" y="100"/>
                </a:cubicBezTo>
                <a:cubicBezTo>
                  <a:pt x="25" y="119"/>
                  <a:pt x="34" y="136"/>
                  <a:pt x="49" y="160"/>
                </a:cubicBezTo>
                <a:cubicBezTo>
                  <a:pt x="64" y="184"/>
                  <a:pt x="90" y="216"/>
                  <a:pt x="109" y="244"/>
                </a:cubicBezTo>
                <a:cubicBezTo>
                  <a:pt x="128" y="272"/>
                  <a:pt x="148" y="301"/>
                  <a:pt x="161" y="328"/>
                </a:cubicBezTo>
                <a:cubicBezTo>
                  <a:pt x="174" y="355"/>
                  <a:pt x="182" y="382"/>
                  <a:pt x="189" y="408"/>
                </a:cubicBezTo>
                <a:cubicBezTo>
                  <a:pt x="196" y="434"/>
                  <a:pt x="203" y="453"/>
                  <a:pt x="201" y="484"/>
                </a:cubicBezTo>
                <a:cubicBezTo>
                  <a:pt x="199" y="515"/>
                  <a:pt x="194" y="557"/>
                  <a:pt x="177" y="596"/>
                </a:cubicBezTo>
                <a:cubicBezTo>
                  <a:pt x="160" y="635"/>
                  <a:pt x="118" y="683"/>
                  <a:pt x="101" y="716"/>
                </a:cubicBezTo>
                <a:cubicBezTo>
                  <a:pt x="84" y="749"/>
                  <a:pt x="75" y="771"/>
                  <a:pt x="73" y="796"/>
                </a:cubicBezTo>
                <a:cubicBezTo>
                  <a:pt x="71" y="821"/>
                  <a:pt x="80" y="844"/>
                  <a:pt x="89" y="868"/>
                </a:cubicBezTo>
              </a:path>
            </a:pathLst>
          </a:custGeom>
          <a:noFill/>
          <a:ln w="38160">
            <a:solidFill>
              <a:srgbClr val="00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263760" y="743040"/>
            <a:ext cx="3308400" cy="558720"/>
          </a:xfrm>
          <a:prstGeom prst="wedgeRectCallout">
            <a:avLst>
              <a:gd name="adj1" fmla="val -67180"/>
              <a:gd name="adj2" fmla="val 7102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ридиональная плос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94240" y="2190600"/>
            <a:ext cx="1212840" cy="266760"/>
          </a:xfrm>
          <a:prstGeom prst="wedgeRectCallout">
            <a:avLst>
              <a:gd name="adj1" fmla="val -115314"/>
              <a:gd name="adj2" fmla="val -10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риди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82760" y="3594240"/>
            <a:ext cx="817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лоскость, проходящая через ось поверхности вращения назыв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еридиональной плос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440676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ния пересечения меридиональной плоскости с поверхностью вращения называетс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ериди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286000" y="47520"/>
            <a:ext cx="4572000" cy="4597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ерхности  в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11111E-006 L -2.77778E-006 0.25463 E">
                                      <p:cBhvr>
                                        <p:cTn id="864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2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1143000" y="-1143000"/>
            <a:ext cx="2400480" cy="1282680"/>
          </a:xfrm>
          <a:prstGeom prst="rect">
            <a:avLst/>
          </a:prstGeom>
          <a:solidFill>
            <a:srgbClr val="3399ff">
              <a:alpha val="39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46040" y="1098720"/>
            <a:ext cx="2019600" cy="1473120"/>
          </a:xfrm>
          <a:custGeom>
            <a:avLst/>
            <a:gdLst/>
            <a:ahLst/>
            <a:rect l="l" t="t" r="r" b="b"/>
            <a:pathLst>
              <a:path w="1272" h="928">
                <a:moveTo>
                  <a:pt x="224" y="0"/>
                </a:moveTo>
                <a:lnTo>
                  <a:pt x="292" y="36"/>
                </a:lnTo>
                <a:lnTo>
                  <a:pt x="412" y="56"/>
                </a:lnTo>
                <a:lnTo>
                  <a:pt x="624" y="64"/>
                </a:lnTo>
                <a:lnTo>
                  <a:pt x="808" y="56"/>
                </a:lnTo>
                <a:lnTo>
                  <a:pt x="964" y="40"/>
                </a:lnTo>
                <a:lnTo>
                  <a:pt x="1028" y="16"/>
                </a:lnTo>
                <a:lnTo>
                  <a:pt x="1020" y="72"/>
                </a:lnTo>
                <a:lnTo>
                  <a:pt x="1052" y="136"/>
                </a:lnTo>
                <a:lnTo>
                  <a:pt x="1180" y="280"/>
                </a:lnTo>
                <a:lnTo>
                  <a:pt x="1260" y="404"/>
                </a:lnTo>
                <a:lnTo>
                  <a:pt x="1272" y="464"/>
                </a:lnTo>
                <a:lnTo>
                  <a:pt x="1260" y="528"/>
                </a:lnTo>
                <a:lnTo>
                  <a:pt x="1196" y="636"/>
                </a:lnTo>
                <a:lnTo>
                  <a:pt x="1140" y="720"/>
                </a:lnTo>
                <a:lnTo>
                  <a:pt x="1116" y="780"/>
                </a:lnTo>
                <a:lnTo>
                  <a:pt x="1124" y="832"/>
                </a:lnTo>
                <a:lnTo>
                  <a:pt x="1072" y="872"/>
                </a:lnTo>
                <a:lnTo>
                  <a:pt x="964" y="900"/>
                </a:lnTo>
                <a:lnTo>
                  <a:pt x="744" y="924"/>
                </a:lnTo>
                <a:lnTo>
                  <a:pt x="624" y="928"/>
                </a:lnTo>
                <a:lnTo>
                  <a:pt x="404" y="916"/>
                </a:lnTo>
                <a:lnTo>
                  <a:pt x="244" y="892"/>
                </a:lnTo>
                <a:lnTo>
                  <a:pt x="164" y="852"/>
                </a:lnTo>
                <a:lnTo>
                  <a:pt x="132" y="824"/>
                </a:lnTo>
                <a:lnTo>
                  <a:pt x="156" y="768"/>
                </a:lnTo>
                <a:lnTo>
                  <a:pt x="128" y="708"/>
                </a:lnTo>
                <a:lnTo>
                  <a:pt x="68" y="624"/>
                </a:lnTo>
                <a:lnTo>
                  <a:pt x="24" y="560"/>
                </a:lnTo>
                <a:lnTo>
                  <a:pt x="0" y="488"/>
                </a:lnTo>
                <a:lnTo>
                  <a:pt x="0" y="400"/>
                </a:lnTo>
                <a:lnTo>
                  <a:pt x="52" y="312"/>
                </a:lnTo>
                <a:lnTo>
                  <a:pt x="104" y="252"/>
                </a:lnTo>
                <a:lnTo>
                  <a:pt x="172" y="172"/>
                </a:lnTo>
                <a:lnTo>
                  <a:pt x="228" y="108"/>
                </a:lnTo>
                <a:lnTo>
                  <a:pt x="248" y="40"/>
                </a:lnTo>
                <a:lnTo>
                  <a:pt x="224" y="0"/>
                </a:lnTo>
                <a:close/>
              </a:path>
            </a:pathLst>
          </a:custGeom>
          <a:solidFill>
            <a:srgbClr val="bbe0e3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322280" y="1112760"/>
            <a:ext cx="432000" cy="129564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242" y="0"/>
                </a:moveTo>
                <a:cubicBezTo>
                  <a:pt x="257" y="18"/>
                  <a:pt x="272" y="37"/>
                  <a:pt x="242" y="90"/>
                </a:cubicBezTo>
                <a:cubicBezTo>
                  <a:pt x="212" y="143"/>
                  <a:pt x="99" y="249"/>
                  <a:pt x="61" y="317"/>
                </a:cubicBezTo>
                <a:cubicBezTo>
                  <a:pt x="23" y="385"/>
                  <a:pt x="0" y="430"/>
                  <a:pt x="15" y="498"/>
                </a:cubicBezTo>
                <a:cubicBezTo>
                  <a:pt x="30" y="566"/>
                  <a:pt x="129" y="672"/>
                  <a:pt x="152" y="725"/>
                </a:cubicBezTo>
                <a:cubicBezTo>
                  <a:pt x="175" y="778"/>
                  <a:pt x="152" y="801"/>
                  <a:pt x="152" y="81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H="1">
            <a:off x="2941560" y="1122480"/>
            <a:ext cx="432000" cy="1307880"/>
          </a:xfrm>
          <a:custGeom>
            <a:avLst/>
            <a:gdLst/>
            <a:ahLst/>
            <a:rect l="l" t="t" r="r" b="b"/>
            <a:pathLst>
              <a:path w="272" h="816">
                <a:moveTo>
                  <a:pt x="242" y="0"/>
                </a:moveTo>
                <a:cubicBezTo>
                  <a:pt x="257" y="18"/>
                  <a:pt x="272" y="37"/>
                  <a:pt x="242" y="90"/>
                </a:cubicBezTo>
                <a:cubicBezTo>
                  <a:pt x="212" y="143"/>
                  <a:pt x="99" y="249"/>
                  <a:pt x="61" y="317"/>
                </a:cubicBezTo>
                <a:cubicBezTo>
                  <a:pt x="23" y="385"/>
                  <a:pt x="0" y="430"/>
                  <a:pt x="15" y="498"/>
                </a:cubicBezTo>
                <a:cubicBezTo>
                  <a:pt x="30" y="566"/>
                  <a:pt x="129" y="672"/>
                  <a:pt x="152" y="725"/>
                </a:cubicBezTo>
                <a:cubicBezTo>
                  <a:pt x="175" y="778"/>
                  <a:pt x="152" y="801"/>
                  <a:pt x="152" y="81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340000" y="582480"/>
            <a:ext cx="0" cy="266400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08200" y="1098720"/>
            <a:ext cx="1276200" cy="10764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695600" y="1022400"/>
            <a:ext cx="1276200" cy="104760"/>
          </a:xfrm>
          <a:custGeom>
            <a:avLst/>
            <a:gdLst/>
            <a:ahLst/>
            <a:rect l="l" t="t" r="r" b="b"/>
            <a:pathLst>
              <a:path w="804" h="66">
                <a:moveTo>
                  <a:pt x="804" y="58"/>
                </a:moveTo>
                <a:cubicBezTo>
                  <a:pt x="795" y="50"/>
                  <a:pt x="787" y="42"/>
                  <a:pt x="756" y="34"/>
                </a:cubicBezTo>
                <a:cubicBezTo>
                  <a:pt x="725" y="26"/>
                  <a:pt x="681" y="16"/>
                  <a:pt x="620" y="10"/>
                </a:cubicBezTo>
                <a:cubicBezTo>
                  <a:pt x="559" y="4"/>
                  <a:pt x="463" y="0"/>
                  <a:pt x="388" y="0"/>
                </a:cubicBezTo>
                <a:cubicBezTo>
                  <a:pt x="313" y="0"/>
                  <a:pt x="222" y="5"/>
                  <a:pt x="168" y="10"/>
                </a:cubicBezTo>
                <a:cubicBezTo>
                  <a:pt x="114" y="15"/>
                  <a:pt x="92" y="21"/>
                  <a:pt x="64" y="30"/>
                </a:cubicBezTo>
                <a:cubicBezTo>
                  <a:pt x="36" y="39"/>
                  <a:pt x="18" y="53"/>
                  <a:pt x="0" y="6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549440" y="2406600"/>
            <a:ext cx="1587600" cy="17136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1542960" y="2247840"/>
            <a:ext cx="1587600" cy="171360"/>
          </a:xfrm>
          <a:custGeom>
            <a:avLst/>
            <a:gdLst/>
            <a:ahLst/>
            <a:rect l="l" t="t" r="r" b="b"/>
            <a:pathLst>
              <a:path w="804" h="68">
                <a:moveTo>
                  <a:pt x="804" y="8"/>
                </a:moveTo>
                <a:cubicBezTo>
                  <a:pt x="795" y="16"/>
                  <a:pt x="787" y="24"/>
                  <a:pt x="756" y="32"/>
                </a:cubicBezTo>
                <a:cubicBezTo>
                  <a:pt x="725" y="40"/>
                  <a:pt x="682" y="50"/>
                  <a:pt x="620" y="56"/>
                </a:cubicBezTo>
                <a:cubicBezTo>
                  <a:pt x="558" y="62"/>
                  <a:pt x="459" y="68"/>
                  <a:pt x="384" y="68"/>
                </a:cubicBezTo>
                <a:cubicBezTo>
                  <a:pt x="309" y="68"/>
                  <a:pt x="221" y="61"/>
                  <a:pt x="168" y="56"/>
                </a:cubicBezTo>
                <a:cubicBezTo>
                  <a:pt x="115" y="51"/>
                  <a:pt x="92" y="45"/>
                  <a:pt x="64" y="36"/>
                </a:cubicBezTo>
                <a:cubicBezTo>
                  <a:pt x="36" y="27"/>
                  <a:pt x="18" y="13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313000" y="1104840"/>
            <a:ext cx="44280" cy="4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311560" y="2392200"/>
            <a:ext cx="44280" cy="4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3860640"/>
            <a:ext cx="941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ридиональная плоскость, параллельная плоскости проекций назыв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лавной меридиональной плос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4800600"/>
            <a:ext cx="89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ния пересечения главной меридиональной плоскости  с поверхностью вращения называется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главным меридиа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38560" y="431640"/>
            <a:ext cx="2628720" cy="673200"/>
          </a:xfrm>
          <a:prstGeom prst="wedgeRectCallout">
            <a:avLst>
              <a:gd name="adj1" fmla="val -44504"/>
              <a:gd name="adj2" fmla="val 9198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вная меридиональная плоск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84680" y="2666880"/>
            <a:ext cx="2400120" cy="393840"/>
          </a:xfrm>
          <a:prstGeom prst="wedgeRectCallout">
            <a:avLst>
              <a:gd name="adj1" fmla="val -70634"/>
              <a:gd name="adj2" fmla="val -195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Главный мериди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320840" y="1119240"/>
            <a:ext cx="2046240" cy="1282680"/>
            <a:chOff x="1320840" y="1119240"/>
            <a:chExt cx="2046240" cy="1282680"/>
          </a:xfrm>
        </p:grpSpPr>
        <p:sp>
          <p:nvSpPr>
            <p:cNvPr id="428" name=""/>
            <p:cNvSpPr/>
            <p:nvPr/>
          </p:nvSpPr>
          <p:spPr>
            <a:xfrm>
              <a:off x="2957400" y="1125360"/>
              <a:ext cx="409680" cy="1270080"/>
            </a:xfrm>
            <a:custGeom>
              <a:avLst/>
              <a:gdLst/>
              <a:ahLst/>
              <a:rect l="l" t="t" r="r" b="b"/>
              <a:pathLst>
                <a:path w="258" h="800">
                  <a:moveTo>
                    <a:pt x="15" y="0"/>
                  </a:moveTo>
                  <a:cubicBezTo>
                    <a:pt x="7" y="12"/>
                    <a:pt x="0" y="25"/>
                    <a:pt x="1" y="40"/>
                  </a:cubicBezTo>
                  <a:cubicBezTo>
                    <a:pt x="2" y="55"/>
                    <a:pt x="4" y="67"/>
                    <a:pt x="21" y="92"/>
                  </a:cubicBezTo>
                  <a:cubicBezTo>
                    <a:pt x="38" y="117"/>
                    <a:pt x="71" y="151"/>
                    <a:pt x="103" y="190"/>
                  </a:cubicBezTo>
                  <a:cubicBezTo>
                    <a:pt x="135" y="229"/>
                    <a:pt x="189" y="284"/>
                    <a:pt x="215" y="328"/>
                  </a:cubicBezTo>
                  <a:cubicBezTo>
                    <a:pt x="241" y="372"/>
                    <a:pt x="258" y="411"/>
                    <a:pt x="257" y="452"/>
                  </a:cubicBezTo>
                  <a:cubicBezTo>
                    <a:pt x="256" y="493"/>
                    <a:pt x="227" y="538"/>
                    <a:pt x="207" y="576"/>
                  </a:cubicBezTo>
                  <a:cubicBezTo>
                    <a:pt x="187" y="614"/>
                    <a:pt x="154" y="649"/>
                    <a:pt x="137" y="678"/>
                  </a:cubicBezTo>
                  <a:cubicBezTo>
                    <a:pt x="120" y="707"/>
                    <a:pt x="108" y="728"/>
                    <a:pt x="105" y="748"/>
                  </a:cubicBezTo>
                  <a:cubicBezTo>
                    <a:pt x="102" y="768"/>
                    <a:pt x="109" y="784"/>
                    <a:pt x="117" y="800"/>
                  </a:cubicBezTo>
                </a:path>
              </a:pathLst>
            </a:custGeom>
            <a:noFill/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320840" y="1119240"/>
              <a:ext cx="431640" cy="1282680"/>
            </a:xfrm>
            <a:custGeom>
              <a:avLst/>
              <a:gdLst/>
              <a:ahLst/>
              <a:rect l="l" t="t" r="r" b="b"/>
              <a:pathLst>
                <a:path w="272" h="808">
                  <a:moveTo>
                    <a:pt x="243" y="0"/>
                  </a:moveTo>
                  <a:cubicBezTo>
                    <a:pt x="257" y="14"/>
                    <a:pt x="272" y="29"/>
                    <a:pt x="261" y="58"/>
                  </a:cubicBezTo>
                  <a:cubicBezTo>
                    <a:pt x="250" y="87"/>
                    <a:pt x="207" y="136"/>
                    <a:pt x="179" y="172"/>
                  </a:cubicBezTo>
                  <a:cubicBezTo>
                    <a:pt x="151" y="208"/>
                    <a:pt x="121" y="235"/>
                    <a:pt x="93" y="276"/>
                  </a:cubicBezTo>
                  <a:cubicBezTo>
                    <a:pt x="65" y="317"/>
                    <a:pt x="18" y="376"/>
                    <a:pt x="9" y="420"/>
                  </a:cubicBezTo>
                  <a:cubicBezTo>
                    <a:pt x="0" y="464"/>
                    <a:pt x="20" y="500"/>
                    <a:pt x="37" y="538"/>
                  </a:cubicBezTo>
                  <a:cubicBezTo>
                    <a:pt x="54" y="576"/>
                    <a:pt x="93" y="618"/>
                    <a:pt x="113" y="650"/>
                  </a:cubicBezTo>
                  <a:cubicBezTo>
                    <a:pt x="133" y="682"/>
                    <a:pt x="152" y="704"/>
                    <a:pt x="157" y="730"/>
                  </a:cubicBezTo>
                  <a:cubicBezTo>
                    <a:pt x="162" y="756"/>
                    <a:pt x="146" y="792"/>
                    <a:pt x="143" y="808"/>
                  </a:cubicBezTo>
                </a:path>
              </a:pathLst>
            </a:custGeom>
            <a:noFill/>
            <a:ln w="5724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7" dur="indefinite" restart="never" nodeType="tmRoot">
          <p:childTnLst>
            <p:seq>
              <p:cTn id="908" dur="indefinite" nodeType="mainSeq">
                <p:childTnLst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919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8T13:40:18Z</dcterms:created>
  <dc:creator>C</dc:creator>
  <dc:description/>
  <dc:language>en-US</dc:language>
  <cp:lastModifiedBy>C</cp:lastModifiedBy>
  <dcterms:modified xsi:type="dcterms:W3CDTF">2006-11-09T19:28:34Z</dcterms:modified>
  <cp:revision>32</cp:revision>
  <dc:subject/>
  <dc:title>Слайд 1</dc:title>
</cp:coreProperties>
</file>