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B485-EEF0-44E3-85ED-0AF6CD9DAD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BF45-E94C-4CA8-9B63-0CE42ACF34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1723-1453-4455-86FF-217D68B88F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8653-1B89-4673-85AD-96BF055F7C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0 о том, что внешние наружные коммуникации обеспечивают нормальную эксплуатацию объек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1 подписанной подрядчиком и заказчик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2 объектов и оборудования, подконтрольных соответствующим органам государственного надзора, представители которых вошли в состав коми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5A9B-8051-42BA-93FA-29D431BFFF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FB71-7F77-4BD6-B19D-04AB79DAAA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C390-B5C3-4AD7-BC84-0998FA296F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 включает в себя строительно-монтажные организации, осуществляющие процесс строительства, т.е. создания конечного продукта строительного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AEB8-E51A-4C88-91FD-E4C5D1F064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 включает в себя строительно-монтажные организации, осуществляющие процесс строительства, т.е. создания конечного продукта строительного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раслевая – машиностроительная, электростроительная отрас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ческая – выполнение электромонтажных, санитарно-технических, отделочных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ая – однородная продукция (жилые здания, промышленные и 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х объекты, объекты культурно-бытового назнач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E779-4A78-427E-A64C-4EFECD3768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 это промышленно-производственные предприятия, которые обеспечивают строительство материалами, полуфабрикатами, строительными конструкц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зкоспециализированные – по производству отдельных видов строитель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зированные – организованные на базе предприятий других отраслей и перерабатывающие отходы предприятий других отрас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133F-C2E9-418B-82B0-A34A6FF915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 это промышленно-производственные предприятия, которые обеспечивают строительство материалами, полуфабрикатами, строительными конструкц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зкоспециализированные – по производству отдельных видов строитель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зированные – организованные на базе предприятий других отраслей и перерабатывающие отходы предприятий других отрас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23CC-251D-4045-8B3D-48E71BD699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 цехи и участки по переработке исходных строительных материалов и издел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 автомобильный, 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 транспортный участки, участок мех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 осуществляет координацию – контроль выполнения граф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2ACB-4AFE-402C-A4D1-94330F5E56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 цехи и участки по переработке исходных строительных материалов и издел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 автомобильный, 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 транспортный участки, участок мех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 осуществляет координацию – контроль выполнения граф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2349-00A4-43DE-97AF-5EFCBCE532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 оперативное управление, но отсутствие полноценного технического обслуживания и ремон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 необходимость создания собственной ремонтной ба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,4 – наиболее эффективное исполь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E645-9597-4F70-807E-7243239928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 традиционные бортовые автомобили и самосвалы, специализированные ТС – автобетоновозы, автобетононасосы, панелевозы, контейнеровозы, трубовозы, сантехкабиновозы. Наиболее эффективный радиус действия – около 300 км и мене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 менее маневренный и менее гибкий, чем 1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 применяется в условиях относительного бездорожья и на небольшие расстояния до 10 к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 достаточно экономичный, но подвержен сезонности, требует оборудованных портовым хозяйством водных коммуник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 самый дорогостоящий вод транспорта, применяется только в исключительных ситуац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EC8F-1978-447B-B6A6-039A2E3FB1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ACEF-CBB7-4F10-9671-FFFC9E3D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FD7A-F024-4D3C-AF45-0FB69130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5F02-AB97-4D34-9F77-DBE45916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B055-CCC5-4308-8A29-F01978B7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DA40-DE81-4859-A9D2-91DE81FD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0F69-6609-4738-BDD7-232B2E7E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0C23-4CF2-4DFA-A7C5-407714E5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C7B0-C35F-4302-B0BB-17E8D9BE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2592-605C-4639-AE78-72DD5F10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D611-C4F8-49C3-B99E-4FE111BC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B8AA-00BD-4BF5-8974-07A4EA64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2119-4BCD-472F-8EA4-641422F9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07B0-37A4-4A51-8AB2-C0F3F35B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34D8-F973-47D1-B405-136EC669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2EF1-767B-4EB6-93B2-5C2AB258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B257-20AF-462C-896E-2D3AAAB7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2788-4DB2-44A8-82AF-89132DE3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2A42-814F-4E73-A31C-D6F3AF32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D918-4F37-4401-88D7-C60C7985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31AD-5DFF-4159-B3F8-F23C2643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8747-0370-4285-8FB9-BA46F4D4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FDC-FEAF-431F-A4D0-0652617E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DB48-64B1-4340-81E5-44DFB43D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BFEC-E334-4A82-9C52-2D525035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C726-5034-4E37-83D1-2983EAA72C8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CAA6-9578-489C-9E12-72DC6098F46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Заголовок 1"/>
          <p:cNvSpPr/>
          <p:nvPr/>
        </p:nvSpPr>
        <p:spPr>
          <a:xfrm>
            <a:off x="457200" y="2205000"/>
            <a:ext cx="822960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Обеспечение реализа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троительного производ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691920"/>
            <a:ext cx="8362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иды учета в строительстве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оперативно-техническ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бухгалтерск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статистическ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Характеристики строительного производства, подлежащие оперативно-техническому учету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 учет выполненных работ осуществляется с помощью ведения как общего журнала работ, так и специальных журналов по выполнению работ субподрядчикам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 учет труда и заработной платы осуществляется либо по нарядной, либо по тарифной схем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 учет материально-технических ресурсов осуществляется с помощью соответствующей документ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 учет работы автотранспорта осуществляется как по товарно-транспортным накладным, так и по путевым листа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 учет работы строительных машин и механизмов осуществляется посредством заполнения сменного рапорта машинис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чет, отчетность и контроль качества в строительстве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691920"/>
            <a:ext cx="8362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иды учета в строительстве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ухгалтерский учет является сплошным и непрерывным учетом всех показателей, связанных с движением денежных средств, основных фондов и оборотных средст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Статистический учет строится в основном на данных бухгалтерского учета и используется для отслеживания массовых экономических тенденц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троль качества строительно-монтажных работ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 входной – контроль строительных конструкций, изделий, материалов, инженерного оборудования, поступающих на стройк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 операционный – осуществляется после завершения производственных операций или строительных процессов и обеспечивает своевременное выявление дефектов и причин их возникновения, а также своевременное принятие мер по их устранению и предупреждению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чет, отчетность и контроль качества в строительстве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691920"/>
            <a:ext cx="8362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троль качества строительно-монтажных работ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 приемочный – проводится в целях проверки и оценки качества законченных строительством предприятий, зданий и сооружений или их частей, а также скрытых работ и отдельных ответственных конструкц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емка законченных объектов в эксплуатацию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 предъявления объектов государственным приемочным комиссиям заказчиком-застройщиком назначаются рабочие комиссии, которые проверяют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соответствие объектов и установленного в них оборудования проекта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результаты испытаний и комплексного опробования оборудова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подготовленность объектов к эксплуат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качество строительно-монтажных рабо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чет, отчетность и контроль качества в строительстве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691920"/>
            <a:ext cx="8362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троль качества строительно-монтажных работ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ом опробования оборудования на рабочих режимах является начало выпуска продукции (оказания услуг) в объемах, соответствующих нормам освоения проектных мощностей в начальный период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ле окончания строительства весь комплекс строительной документации прикладывается вместе к заявлению застройщика в Государственный архитектурно-строительный надзор (ГАСН) о назначении Государственной приемочной комиссии для приемки объекта в эксплуатаци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чет, отчетность и контроль качества в строительстве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691920"/>
            <a:ext cx="8362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70520" indent="-470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функции комиссии входит проверк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соответствия выполненных строительно-монтажных работ проектно-сметной документации и стандарта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эксплуатационной готовности объект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документов об отводе земельных участк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документов на специальное водопользовани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документов на геодезическую разбивочную основу для строитель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документов на геологию и гидрологию строительной площадк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наличия паспортов на оборудование и механизм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актов по выполненным работам, проведенным испытаниям и замера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справок об обеспеченности объекта эксплуатационными кадрами и материально-техническими ресурсам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справок городских эксплуатационных организац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справок о соответствии вводимых в действие мощностей мощностям, предусмотренным проекто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справок о фактической стоимости строитель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документов о разрешении на эксплуатаци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чет, отчетность и контроль качества в строительстве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691920"/>
            <a:ext cx="8362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став приемочной комиссии - представител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заказчика (застройщика) – председатель комисс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генерального подрядчи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субподрядных организац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технической инспекции труд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профсоюзной организации заказчи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органа государственного санитарного надзор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органа государственного противопожарного надзор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по решению заказчика – производители других заинтересованных организац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тапы работы приемочной комисси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 проверка документов, предъявленных застройщико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 осмотр объект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 подведение итогов и составление основных вывод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чет, отчетность и контроль качества в строительстве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691920"/>
            <a:ext cx="8362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язанности рабочей комисси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проверка соответствия выполненных работ проектно-сметной документ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проверка и оценка качества выполненных работ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проверка данных об индивидуальных опробованиях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заключение по результатам комплексного опробова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проверка отдельных конструкций для предъявления приемочной комисс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проверка подготовленности к эксплуатации предъявляемых приемочной комиссии предприят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подготовка сводного заключения о готовности объект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проверка наличия оформленных в установленном порядке документ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чет, отчетность и контроль качества в строительстве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691920"/>
            <a:ext cx="8362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териально-техническая база строительства (МТБС) – это система предприятий и хозяйств строительных организаций, предприятий промышленности строительных материалов, а также некоторых отраслей, обслуживающих строительств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став МТБС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 строительно-монтажное звено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ственная мощность предприятия – это расчетный максимально возможный объем выпуска продукции в единицу времени по прогрессивным нормам, передовой технологии и организации производства при наиболее полном использовании оборудования и производственных площад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щность строительно-монтажной организации определяется по объему строительного производств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Материально-техническая база строительства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691920"/>
            <a:ext cx="8362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степени специализации строительно-монтажные организации подразделяются н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специализированная – строительно-монтажная организация выпускает однородную по конструктивно-технологическим признакам строительную продукцию и выполняет однородные виды СМР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универсальная – общестроительная организация выпускает разнообразную по конструктивно-технологическим признакам строительную продукцию и выполняет разнообразные по технологии виды рабо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виду специализации строительно-монтажные организации подразделяются на категори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отраслевая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технологическа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предметна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Материально-техническая база строительства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691920"/>
            <a:ext cx="8362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став МТБС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 промышленно-производственное звен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мышленно-производственные предприятия по своей организационной структуре, специализации и кооперированию делятся на категори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узкоспециализированны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специализированны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строительных материалов, изделий и конструкций ограниченного регионального потребления продук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ходящие в состав строительно-монтажных организац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 инфраструктурное звено - это предприятия, которые обеспечивают взаимодействие строительно-монтажных организаций и промышленно-производственных предприятий и обеспечивают транспортные связ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Материально-техническая база строительства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500040" y="360360"/>
            <a:ext cx="7851960" cy="498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71320" y="999720"/>
            <a:ext cx="78548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Производственная структура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— это часть общей структуры, в частности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став производственных подразделений предприятия (производств,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цехов, хозяйств), их взаимосвязь, порядок и формы кооперирования,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отношение по численности занятых работников, стоимости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орудования, занимаемой площади и территориальному размещению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ис. 1 – Общая структура предприят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1000080" y="2973240"/>
            <a:ext cx="71438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691920"/>
            <a:ext cx="8362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ункции инфраструктурного звена включают в себ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транспортирование материалов, изделий и конструкц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складирование и хранение материалов, изделий и конструкц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профессионально-технологическую комплектацию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обслуживание и ремонт машин, механизмов и оборудова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профессиональную подготовку и переподготовку кадр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создание социально-бытовых услов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ственно-технологическая комплектация строительства – это форма организации и управления материально-техническим обеспечением  строительства, создаваемая но основе производственной переработки исходных строительных материалов с учетом технологии возведения конкретного строительного объек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Материально-техническая база строительства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691920"/>
            <a:ext cx="8362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став управления ПТК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 аппарат управления, отделы, групп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 промышленно-производственные подразделе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 линейно-транспортные подразделе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 диспетчерская служб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функции служб ПТК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составление комплектац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составление спецификаций изделий и конструкц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составление и согласование графиков поставок комплектов изделий и конструкций на стройплощадк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е ПТК включает в себя следующие элементы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органы управле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производственно-комплектовочная баз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участки комплектации и диспетчериза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Материально-техническая база строительства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691920"/>
            <a:ext cx="8362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ческие комплекты (ТК) – это набор конструкций, деталей и материалов, необходимых для строительства объекта, здания, сооружения или выполнения этапов рабо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авочный комплект – это часть технологического комплекта материально-технических ресурсов, поставляемых на объект с одного завода-изготовителя или другого поставщика в соответствии с технологией и сроками выполнения работ по график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нтажный комплект – это часть технологического комплекта, состоящая из сборных строительных конструкций, изделий и сопутствующих материалов, обеспечивающих сборку монтажного узла, конструктивного элемента здания (сооружения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йсовый комплект – часть поставочного или монтажного комплектов, доставляемая на одном транспортном средств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Материально-техническая база строительства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691920"/>
            <a:ext cx="8362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иды организационных форм эксплуатации строительных машин и механизмов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на балансе небольших строительных организаций или их подразделен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на балансе специализированных подразделений механизации, входящих в состав крупных строительных организаци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на балансе и в составе специализированных предприятий строймеханиз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на балансе лизинговых компан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счет потребности в строительных машинах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 по укрупненным нормативным расчетным показателя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 на основе объемов работ, принятых в проект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 по нормам затрат машинного времени на единицу выполненного объема работ в физическом измерен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рганизация работы транспорта и строительных машин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691920"/>
            <a:ext cx="8362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иды используемых в строительстве транспортных средств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 автомобильный транспорт – самое массовое транспортное средство, т.к. обладает достаточной оперативностью и маневренностью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 железнодорожный транспорт – предназначен для перевозки массовых грузов на большие расстояния и при обязательном наличии железнодорожных и подъездных путе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 тракторный транспорт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 водный транспорт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 воздушный транспорт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6 трубопроводный транспорт – основан на законах движения сплошных сред в ограниченном трубами пространств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рганизация работы транспорта и строительных машин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акторы, влияющие на производственную структуру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 производственного процесс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 выпускаемой продукции и методы ее изготовления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сштабы производств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 и степень специализации и кооперировани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Степень охвата стадий жизненного цикла изделий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1 – Классификация производственных процессов в зависимости от состава потребляемого сырья и характера готовой продукции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аналитические; б) синтетические; в) прямые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971640" y="3270240"/>
            <a:ext cx="1608120" cy="8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3708360" y="3213000"/>
            <a:ext cx="1492200" cy="84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6076800" y="3414600"/>
            <a:ext cx="1519560" cy="3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Основные элементы производственной структуры</a:t>
            </a: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00040" y="1643040"/>
            <a:ext cx="822960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Рабочее место -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асть производственной площади, оснащенной необходимым оборудованием и инструментами, при помощи которых рабочий или группа рабочих (бригада) выполняет отдельные операции по изготовлению продукции или обслуживанию процесса производств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оизводственный участок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совокупность рабочих мест, на которых выполняется технологически однородная работа или различные операции по изготовлению однородной продук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Цех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— это производственное и административно обособленное подразделение предприятия, в котором выполняется определенный комплекс работ в соответствии с внутризаводской специализаци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5516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ис 2 – Виды производственных структур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) цеховая; б) бесцеховая; в) корпусная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258920" y="1655640"/>
            <a:ext cx="662472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551664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ис. 3 – Схема размещения оборудова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технологической структуре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28488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Заголовок 1"/>
          <p:cNvSpPr/>
          <p:nvPr/>
        </p:nvSpPr>
        <p:spPr>
          <a:xfrm>
            <a:off x="250920" y="4405320"/>
            <a:ext cx="822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ис. 3 – Схема размещения оборудова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предметной струк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1185840" y="2492280"/>
            <a:ext cx="65548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блица 1 – Сравнительный анализ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ологической и предметной структуры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4360" y="907920"/>
          <a:ext cx="7488000" cy="4848480"/>
        </p:xfrm>
        <a:graphic>
          <a:graphicData uri="http://schemas.openxmlformats.org/drawingml/2006/table">
            <a:tbl>
              <a:tblPr/>
              <a:tblGrid>
                <a:gridCol w="1726920"/>
                <a:gridCol w="2376720"/>
                <a:gridCol w="3384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ип струк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стоин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доста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ехнологи-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сокая квалификация рабочи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легчается руководство людь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величение времени на переналадку оборуд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стречное движение полуфабрика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сутствие ответственности за качество изделия в цел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едме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лагоприятные условия для механизации и автоматизации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лная ответственность за качество продук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сложнение структу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меньшение загрузки оборуд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обходимость наличия большего ассортимента обору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70520" indent="-47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казатели, характеризующие производственную структуру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меры производственных звенье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епень централизации отдельных производст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отношение между основными, вспомогательными и обслуживающими производств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порциональность входящих в состав предприятия звенье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ровень специализации отдельных производственных звенье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Эффективность пространственного размещения предприят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Характер взаимосвязи между подразделения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ути совершенствования производственной структуры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пределение оптимальных размеров предприят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глубление специализации основного производств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сширение кооперации по обслуживанию производств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0520" indent="-470520"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едолужко Ольга</dc:creator>
  <dc:description/>
  <dc:language>en-US</dc:language>
  <cp:lastModifiedBy>Недолужко Ольга</cp:lastModifiedBy>
  <dcterms:modified xsi:type="dcterms:W3CDTF">2015-03-25T09:30:59Z</dcterms:modified>
  <cp:revision>122</cp:revision>
  <dc:subject/>
  <dc:title>Этапы становления науки организации</dc:title>
</cp:coreProperties>
</file>