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59F-9FA4-44BE-BB7A-EA79BA4E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ABA-106A-42BA-9F2C-D8972CAF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781-8DD4-4405-8B78-B604576C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5D5-CFC9-45F0-8F16-E4C19F2D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867E-C2E2-44C4-B4E8-709BA610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3FAB-E250-4030-A639-CF7D584A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2E1B-5A7B-459E-B18F-EA4FFCBB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4383-4F80-490C-B07E-ECEFCC6E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DCD4-69E5-4566-B063-04AE83D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8F0C-34DF-4DA2-BF6B-FD09A0E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7592-FDB7-4F63-8D1E-BAD831E3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E26-E33E-4063-AA5C-601C9FD1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0469-049C-434C-B9C0-6CE331FE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2001-DE54-480C-A02B-0DD8AB43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9A4C-0ABA-4794-8144-8070AFF2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B665-A4FE-41F9-A20E-75223156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F881-6EC2-4D88-AEC5-8A50539B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AEF-0320-43F7-8E9A-063367C9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727-2FC5-4536-AE0E-1677D78A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886-5694-46FB-A55E-3EE9C2B6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E05-1530-471B-B1EC-FCCD31F8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C5A-B1AD-4741-83EB-321EC31E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FF1-0B52-4379-84E5-52B74CA6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B4E-282E-4D20-93F3-7370B506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D77D-2475-455D-AC8C-EA1188776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4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2692-D3BD-4225-B93D-DECCD9F6DCD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684360" y="1125360"/>
            <a:ext cx="76485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ы  селекц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ений, животных, микроорганиз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Picture 5" descr="j0299125"/>
          <p:cNvPicPr/>
          <p:nvPr/>
        </p:nvPicPr>
        <p:blipFill>
          <a:blip r:embed="rId1"/>
          <a:stretch/>
        </p:blipFill>
        <p:spPr>
          <a:xfrm>
            <a:off x="6329520" y="2565360"/>
            <a:ext cx="241272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Средиземноморский центр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16000" y="2852640"/>
            <a:ext cx="4038840" cy="15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ина маслин, клевера, капусты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655880" cy="367668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Times New Roman"/>
              </a:rPr>
              <a:t>Абиссинский центр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2541600"/>
            <a:ext cx="38401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ина бананов, сорго, твёрдых сортов пшеницы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4449600" y="2017800"/>
            <a:ext cx="4051440" cy="386244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Times New Roman"/>
              </a:rPr>
              <a:t>Центральноамериканский центр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32000" y="2852640"/>
            <a:ext cx="3894120" cy="27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ина кукурузы, какао, фасоли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сного перца.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674640" y="2214720"/>
            <a:ext cx="4051440" cy="3600360"/>
          </a:xfrm>
          <a:prstGeom prst="rect">
            <a:avLst/>
          </a:prstGeom>
          <a:ln w="0">
            <a:noFill/>
          </a:ln>
        </p:spPr>
      </p:pic>
    </p:spTree>
  </p:cSld>
  <p:transition advTm="5000">
    <p:plus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Times New Roman"/>
              </a:rPr>
              <a:t>Андийский центр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2279520"/>
            <a:ext cx="3840120" cy="27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ина ананаса,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ртофеля, хинного дерева, томатов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174920" cy="504036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5040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Селекция растений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84000" y="206064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изко родственное скрещивание и самоопыление используется для выведения «чистых линий»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терозис – гибридная сила. Потомки от скрещивания чистых линий превосходят по качествам родительские формы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. В. Мичурин разработал метод отдаленной гибридизации для получения новых сортов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1" name="Picture 5" descr="j0305493"/>
          <p:cNvPicPr/>
          <p:nvPr/>
        </p:nvPicPr>
        <p:blipFill>
          <a:blip r:embed="rId1"/>
          <a:stretch/>
        </p:blipFill>
        <p:spPr>
          <a:xfrm>
            <a:off x="324000" y="1557360"/>
            <a:ext cx="21222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400"/>
                            </p:stCondLst>
                            <p:childTnLst>
                              <p:par>
                                <p:cTn id="1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4200"/>
                            </p:stCondLst>
                            <p:childTnLst>
                              <p:par>
                                <p:cTn id="1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Селекция животных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356000" y="1412640"/>
            <a:ext cx="412776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льскохозяйственные животные размножаются только половым путе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омство, полученное от одной пары производителей невелик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ка селекционная ценность каждой особи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труднитель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едение чистых линий, так как животные не способны к самооплодотворению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4" name="Picture 4" descr="j0149627"/>
          <p:cNvPicPr/>
          <p:nvPr/>
        </p:nvPicPr>
        <p:blipFill>
          <a:blip r:embed="rId1"/>
          <a:stretch/>
        </p:blipFill>
        <p:spPr>
          <a:xfrm>
            <a:off x="250920" y="2266920"/>
            <a:ext cx="4176720" cy="29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imes New Roman"/>
              </a:rPr>
              <a:t>Методы селекции животных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39640" y="1844640"/>
            <a:ext cx="2160720" cy="71928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Инбридинг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564000" y="1844640"/>
            <a:ext cx="2160360" cy="71928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Аутбридинг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659640" y="1844640"/>
            <a:ext cx="2160360" cy="71928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Гетерози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63480" y="3500280"/>
            <a:ext cx="21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24000" y="3068640"/>
            <a:ext cx="2665440" cy="173988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крещивание внутри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дной  породы между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лизкими родственниками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 сохранения важны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знаков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154764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203640" y="3068640"/>
            <a:ext cx="2736720" cy="146556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крещивание различных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род  животных, отличающихся по ряду признаков для  получения  межвидовых  гибридов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457200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 flipH="1">
            <a:off x="2050920" y="1197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6012000" y="1125360"/>
            <a:ext cx="93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4572000" y="1197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233040" y="3068640"/>
            <a:ext cx="2684520" cy="91692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учение межпородны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сокопродуктивны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ибридов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7667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imes New Roman"/>
              </a:rPr>
              <a:t>Селекция микроорганизмов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кусственный мутагенез – метод селекционной работы с микроорганизмами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утагены: рентгеновские лучи, яды, радиация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91" name="Organization Chart 4"/>
          <p:cNvGrpSpPr/>
          <p:nvPr/>
        </p:nvGrpSpPr>
        <p:grpSpPr>
          <a:xfrm>
            <a:off x="2484360" y="3141720"/>
            <a:ext cx="6295680" cy="2682000"/>
            <a:chOff x="2484360" y="3141720"/>
            <a:chExt cx="6295680" cy="268200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588360" y="3258720"/>
              <a:ext cx="536760" cy="2448000"/>
            </a:xfrm>
            <a:prstGeom prst="bentConnector3">
              <a:avLst>
                <a:gd name="adj1" fmla="val 26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V="1" rot="16200000">
              <a:off x="5773680" y="4073400"/>
              <a:ext cx="536760" cy="818640"/>
            </a:xfrm>
            <a:prstGeom prst="bentConnector3">
              <a:avLst>
                <a:gd name="adj1" fmla="val 26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2054"/>
            <p:cNvCxnSpPr>
              <a:stCxn id="198" idx="0"/>
              <a:endCxn id="194" idx="2"/>
            </p:cNvCxnSpPr>
            <p:nvPr/>
          </p:nvCxnSpPr>
          <p:spPr>
            <a:xfrm flipH="1" flipV="1" rot="5400000">
              <a:off x="4956480" y="4074480"/>
              <a:ext cx="536760" cy="817200"/>
            </a:xfrm>
            <a:prstGeom prst="bentConnector3">
              <a:avLst>
                <a:gd name="adj1" fmla="val 26375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99" name="_s2055"/>
            <p:cNvCxnSpPr>
              <a:stCxn id="200" idx="0"/>
              <a:endCxn id="194" idx="2"/>
            </p:cNvCxnSpPr>
            <p:nvPr/>
          </p:nvCxnSpPr>
          <p:spPr>
            <a:xfrm flipH="1" flipV="1" rot="5400000">
              <a:off x="4141080" y="3259080"/>
              <a:ext cx="536760" cy="2448000"/>
            </a:xfrm>
            <a:prstGeom prst="bentConnector3">
              <a:avLst>
                <a:gd name="adj1" fmla="val 26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6"/>
            <p:cNvSpPr/>
            <p:nvPr/>
          </p:nvSpPr>
          <p:spPr>
            <a:xfrm>
              <a:off x="4931640" y="3141720"/>
              <a:ext cx="1399320" cy="107280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спользование микро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рганизмов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0" name="_s2057"/>
            <p:cNvSpPr/>
            <p:nvPr/>
          </p:nvSpPr>
          <p:spPr>
            <a:xfrm>
              <a:off x="2484360" y="4750920"/>
              <a:ext cx="1399320" cy="107280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интез пищевых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бавок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4116960" y="4750920"/>
              <a:ext cx="1399320" cy="107280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интез БАВ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6" name="_s2059"/>
            <p:cNvSpPr/>
            <p:nvPr/>
          </p:nvSpPr>
          <p:spPr>
            <a:xfrm>
              <a:off x="5749560" y="4750920"/>
              <a:ext cx="1399320" cy="107280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изводство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карств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3" name="_s2060"/>
            <p:cNvSpPr/>
            <p:nvPr/>
          </p:nvSpPr>
          <p:spPr>
            <a:xfrm>
              <a:off x="7382160" y="4750920"/>
              <a:ext cx="1397880" cy="107280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изводство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рмов для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животных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201" name="Picture 15" descr="j0305257"/>
          <p:cNvPicPr/>
          <p:nvPr/>
        </p:nvPicPr>
        <p:blipFill>
          <a:blip r:embed="rId1"/>
          <a:stretch/>
        </p:blipFill>
        <p:spPr>
          <a:xfrm>
            <a:off x="468360" y="2924280"/>
            <a:ext cx="166212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Times New Roman"/>
              </a:rPr>
              <a:t>Основные направления  селекции микроорганизмов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116000" y="2565360"/>
            <a:ext cx="3024360" cy="1079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Генная инженер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19640" y="2565360"/>
            <a:ext cx="2808360" cy="1079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Клеточна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инженер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 flipH="1">
            <a:off x="2556000" y="148428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796000" y="1484280"/>
            <a:ext cx="1081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68360" y="4653000"/>
            <a:ext cx="5040360" cy="647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Биотехнолог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334800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644364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00"/>
                </a:solidFill>
                <a:latin typeface="Arial"/>
              </a:rPr>
              <a:t>Виконав учень 11 класу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8f8f8"/>
                </a:solidFill>
                <a:latin typeface="Arial"/>
              </a:rPr>
              <a:t>Чемерис Павло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Методы селекци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диционны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ор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ридизация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тагенез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ы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чная инженерия     осно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нная инженерия         </a:t>
            </a: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1" action="ppaction://hlinksldjump"/>
              </a:rPr>
              <a:t>биотехнологии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292720" y="508464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3 0.13966 L -0.02223 -0.19329 E">
                                      <p:cBhvr>
                                        <p:cTn id="2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-0.07769 L -0.03386 -0.41064 E">
                                      <p:cBhvr>
                                        <p:cTn id="2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3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1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5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9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Times New Roman"/>
              </a:rPr>
              <a:t>Понятие  селекци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4640" y="1794960"/>
            <a:ext cx="782640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широком  смысле слова селекция как процесс изменения домашних животных и культурных растений, по выражению Н.И. Вавилова, «представляет собой  эволюцию, направленную волей человека»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лекция означает отбор для улучшения уже существующих сортов растений, пород животных, штаммо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кроорганизмов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Times New Roman"/>
              </a:rPr>
              <a:t>Задачи селекци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новых пород домашних животных и сортов культурных растени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учшение ранее известных пород и сорто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Times New Roman"/>
              </a:rPr>
              <a:t>Основные методы селекционной работ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26" name="Organization Chart 3"/>
          <p:cNvGrpSpPr/>
          <p:nvPr/>
        </p:nvGrpSpPr>
        <p:grpSpPr>
          <a:xfrm>
            <a:off x="431640" y="1571760"/>
            <a:ext cx="8208720" cy="4463280"/>
            <a:chOff x="431640" y="1571760"/>
            <a:chExt cx="8208720" cy="4463280"/>
          </a:xfrm>
        </p:grpSpPr>
        <p:cxnSp>
          <p:nvCxnSpPr>
            <p:cNvPr id="127" name="_s1028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993720" y="3272040"/>
              <a:ext cx="406440" cy="106236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29"/>
            <p:cNvCxnSpPr>
              <a:stCxn id="131" idx="0"/>
              <a:endCxn id="129" idx="2"/>
            </p:cNvCxnSpPr>
            <p:nvPr/>
          </p:nvCxnSpPr>
          <p:spPr>
            <a:xfrm flipH="1" flipV="1" rot="5400000">
              <a:off x="5929920" y="3269880"/>
              <a:ext cx="406440" cy="106668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0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4333680" y="3957120"/>
              <a:ext cx="406440" cy="212652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1"/>
            <p:cNvCxnSpPr>
              <a:stCxn id="136" idx="0"/>
              <a:endCxn id="134" idx="2"/>
            </p:cNvCxnSpPr>
            <p:nvPr/>
          </p:nvCxnSpPr>
          <p:spPr>
            <a:xfrm flipV="1">
              <a:off x="3474000" y="4817160"/>
              <a:ext cx="2520" cy="40644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37" name="_s1032"/>
            <p:cNvCxnSpPr>
              <a:stCxn id="138" idx="0"/>
              <a:endCxn id="134" idx="2"/>
            </p:cNvCxnSpPr>
            <p:nvPr/>
          </p:nvCxnSpPr>
          <p:spPr>
            <a:xfrm flipH="1" flipV="1" rot="5400000">
              <a:off x="2205720" y="3954960"/>
              <a:ext cx="406440" cy="213120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033"/>
            <p:cNvCxnSpPr>
              <a:stCxn id="134" idx="0"/>
              <a:endCxn id="140" idx="2"/>
            </p:cNvCxnSpPr>
            <p:nvPr/>
          </p:nvCxnSpPr>
          <p:spPr>
            <a:xfrm flipV="1" rot="16200000">
              <a:off x="2737440" y="3269880"/>
              <a:ext cx="406440" cy="106668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34"/>
            <p:cNvCxnSpPr>
              <a:stCxn id="142" idx="0"/>
              <a:endCxn id="140" idx="2"/>
            </p:cNvCxnSpPr>
            <p:nvPr/>
          </p:nvCxnSpPr>
          <p:spPr>
            <a:xfrm flipH="1" flipV="1" rot="5400000">
              <a:off x="1672560" y="3270960"/>
              <a:ext cx="406440" cy="106488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5"/>
            <p:cNvCxnSpPr>
              <a:stCxn id="129" idx="0"/>
              <a:endCxn id="144" idx="2"/>
            </p:cNvCxnSpPr>
            <p:nvPr/>
          </p:nvCxnSpPr>
          <p:spPr>
            <a:xfrm flipV="1" rot="16200000">
              <a:off x="5397840" y="1520280"/>
              <a:ext cx="406440" cy="213084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6"/>
            <p:cNvCxnSpPr>
              <a:stCxn id="140" idx="0"/>
              <a:endCxn id="144" idx="2"/>
            </p:cNvCxnSpPr>
            <p:nvPr/>
          </p:nvCxnSpPr>
          <p:spPr>
            <a:xfrm flipH="1" flipV="1" rot="5400000">
              <a:off x="3268800" y="1521360"/>
              <a:ext cx="406440" cy="212868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1037"/>
            <p:cNvSpPr/>
            <p:nvPr/>
          </p:nvSpPr>
          <p:spPr>
            <a:xfrm>
              <a:off x="3624120" y="157176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лекционной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боты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0" name="_s1038"/>
            <p:cNvSpPr/>
            <p:nvPr/>
          </p:nvSpPr>
          <p:spPr>
            <a:xfrm>
              <a:off x="1495800" y="278892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крещивание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9" name="_s1039"/>
            <p:cNvSpPr/>
            <p:nvPr/>
          </p:nvSpPr>
          <p:spPr>
            <a:xfrm>
              <a:off x="5752440" y="278892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скусственный 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бор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2" name="_s1040"/>
            <p:cNvSpPr/>
            <p:nvPr/>
          </p:nvSpPr>
          <p:spPr>
            <a:xfrm>
              <a:off x="431640" y="400644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одственное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2559600" y="400644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родственное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8" name="_s1042"/>
            <p:cNvSpPr/>
            <p:nvPr/>
          </p:nvSpPr>
          <p:spPr>
            <a:xfrm>
              <a:off x="431640" y="522360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нутрипородное 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внутрисортовое)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2559600" y="522360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жпородное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межсортовое)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4687920" y="5223600"/>
              <a:ext cx="1824120" cy="80820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даленная 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ибридизация</a:t>
              </a:r>
              <a:endParaRPr b="0" lang="en-US" sz="1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1" name="_s1045"/>
            <p:cNvSpPr/>
            <p:nvPr/>
          </p:nvSpPr>
          <p:spPr>
            <a:xfrm>
              <a:off x="4687920" y="4006440"/>
              <a:ext cx="1824120" cy="80820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ассовый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8" name="_s1046"/>
            <p:cNvSpPr/>
            <p:nvPr/>
          </p:nvSpPr>
          <p:spPr>
            <a:xfrm>
              <a:off x="6816240" y="4006440"/>
              <a:ext cx="1824120" cy="80820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ндивидуальный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747000" y="0"/>
            <a:ext cx="73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Главные центры  происхождения культурных растений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02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Times New Roman"/>
              </a:rPr>
              <a:t>Южноазиатский центр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4280" y="1795320"/>
            <a:ext cx="384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ина риса, сахарного тростника, многи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овы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овощных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186080" cy="386388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Times New Roman"/>
              </a:rPr>
              <a:t>Восточноазиатский центр</a:t>
            </a: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16000" y="2331720"/>
            <a:ext cx="4038840" cy="30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ина сои проса и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ножество плодовых и овощных культурно -около 20% мирового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нообрази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4038480" cy="446544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ff"/>
                </a:solidFill>
                <a:latin typeface="Times New Roman"/>
              </a:rPr>
              <a:t>Юго-Западноазиатский центр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38480" cy="24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ина нескольких форм пшеницы, ржи,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бовых, винограда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383000" y="1795320"/>
            <a:ext cx="4106880" cy="408492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9:23:19Z</dcterms:created>
  <dc:creator>Слюсарь Т.Д.</dc:creator>
  <dc:description/>
  <dc:language>en-US</dc:language>
  <cp:lastModifiedBy>1</cp:lastModifiedBy>
  <dcterms:modified xsi:type="dcterms:W3CDTF">2013-01-28T19:32:43Z</dcterms:modified>
  <cp:revision>7</cp:revision>
  <dc:subject>Селекция</dc:subject>
  <dc:title>Основы селекции растений, животных и микроорганизмов</dc:title>
</cp:coreProperties>
</file>