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144-D177-457F-B3D5-5B049B5A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4596-145C-401E-A8F8-CFC0319C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B55-BEA5-4869-A7E3-B782BF06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982-5EDC-4E7D-9C3F-AB05DB12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0AF-A7A9-41A9-8C9E-D0D64F0C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929-0B02-4C30-BC38-9D52282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BC2-9458-4F0F-AA95-E11CBC76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3465-7B45-48F5-B092-95B15C7D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F7D-A035-4BCC-BA27-B617CA45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4D9-4918-40CB-8660-C7DB09AF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BDB-F61D-4CBA-A2E1-88CEC8CF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D54-3F30-495D-AB1C-22E8C60D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C9BC-A8C9-4607-8504-306767033D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frm=1&amp;source=images&amp;cd=&amp;cad=rja&amp;docid=OFZyYLSavm5BwM&amp;tbnid=_5mtaWglMlQJgM:&amp;ved=0CAUQjRw&amp;url=http://www.plaintest.com/respiratory/palpation/lines&amp;ei=v8JnUt7ZKOXQ4QSshYHYBA&amp;psig=AFQjCNGgtIvGzujcW7M2CTDQhGKliBq7IQ&amp;ust=138261780945250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8076960" cy="16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щий осмотр больных с патологией органов дых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11280" y="4076280"/>
            <a:ext cx="4753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alibri"/>
              </a:rPr>
              <a:t>Выполнила:Жагыпар А.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alibri"/>
              </a:rPr>
              <a:t>Омф, 335 г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1002600" y="245520"/>
            <a:ext cx="704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ый медицинский университет г. Се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фед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пропедевтика внутренни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сципли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пропедевтики внутренних болез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498480" y="588888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 201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мотр 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80718_original.jpg"/>
          <p:cNvPicPr/>
          <p:nvPr/>
        </p:nvPicPr>
        <p:blipFill>
          <a:blip r:embed="rId1"/>
          <a:stretch/>
        </p:blipFill>
        <p:spPr>
          <a:xfrm>
            <a:off x="611280" y="1413000"/>
            <a:ext cx="2952720" cy="3744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755640" y="981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ылающее» ли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324000" y="537372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сное лицо свидетельствует о лихорадке при острых инфекционных заболеваниях легких (бронхит, пневмония, абсцесс легких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4427640" y="5157720"/>
            <a:ext cx="45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едность лица, а также других участков кожи характерна для большинства бронхолегочных заболеваний в период развернутого течения и в период выздоро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8" descr="6a75e35bb80e.jpg"/>
          <p:cNvPicPr/>
          <p:nvPr/>
        </p:nvPicPr>
        <p:blipFill>
          <a:blip r:embed="rId2"/>
          <a:srcRect l="15748" t="23138" r="5504" b="0"/>
          <a:stretch/>
        </p:blipFill>
        <p:spPr>
          <a:xfrm>
            <a:off x="5003640" y="1413000"/>
            <a:ext cx="2953080" cy="36716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5003640" y="90792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ледное ли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PR20120313122514.jpg"/>
          <p:cNvPicPr/>
          <p:nvPr/>
        </p:nvPicPr>
        <p:blipFill>
          <a:blip r:embed="rId1"/>
          <a:srcRect l="9449" t="0" r="16528" b="0"/>
          <a:stretch/>
        </p:blipFill>
        <p:spPr>
          <a:xfrm>
            <a:off x="611280" y="404640"/>
            <a:ext cx="3529080" cy="35751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503280" y="4076640"/>
            <a:ext cx="86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мянец на щеках на фоне бледного лица может быть признаком туберкулеза легких . Односторонний румянец бывает при воспалительных процессах в легких и он указывает на сторону по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6" descr="117ef0f60717.gif"/>
          <p:cNvPicPr/>
          <p:nvPr/>
        </p:nvPicPr>
        <p:blipFill>
          <a:blip r:embed="rId2"/>
          <a:stretch/>
        </p:blipFill>
        <p:spPr>
          <a:xfrm>
            <a:off x="5364000" y="333360"/>
            <a:ext cx="244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иано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08000" y="162864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Центральный цианоз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условлен недостаточной артериализацией крови в легких из-за вентиляционных, диффузионных и перфузионных нарушений, при этом цианоз распространяется на шею, грудь, конеч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Особенно выраженный цианоз отмечается при нарушении проходимости ствола и ветвей легочной артерии, при обширных пневмониях, больших плевральных выпотах, пневмотораксе, эмфиземе легких, фиброзирующем альвеоли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290.jpg"/>
          <p:cNvPicPr/>
          <p:nvPr/>
        </p:nvPicPr>
        <p:blipFill>
          <a:blip r:embed="rId1"/>
          <a:srcRect l="11116" t="0" r="12649" b="0"/>
          <a:stretch/>
        </p:blipFill>
        <p:spPr>
          <a:xfrm>
            <a:off x="468360" y="1700280"/>
            <a:ext cx="3456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00720" y="134136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ериферический цианоз 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 цианоз губ и слизистых, кончиков ушей и носа, ногтей отражает нарушение периферической гемодинамик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Он наблюдается в период выраженной интоксикации при острых и хронических заболеваниях легки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3" descr="PR20101222163026.jpg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емлистый оттенок лица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характерен для острых и хронических болезней легких, протекающих с особой тяжестью и интоксикацией: гангрена легких, туберкулез, рак легко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324000" y="1916280"/>
            <a:ext cx="381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лтушность склер,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изистой под языком бывает при крупозной пневмонии в период разрешения, накопления в крови непрямого билирубина, а также при токсическом поражении печени и накопления прямого билируб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1330600888_44.jpg"/>
          <p:cNvPicPr/>
          <p:nvPr/>
        </p:nvPicPr>
        <p:blipFill>
          <a:blip r:embed="rId1"/>
          <a:stretch/>
        </p:blipFill>
        <p:spPr>
          <a:xfrm>
            <a:off x="4211640" y="2133720"/>
            <a:ext cx="45626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95280" y="981000"/>
            <a:ext cx="484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дутловатость лица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ют больные с хронической легочно-сердечной недостаточностью при бронхиальной астме, обструктивном бронхите, эмфиземе легких, раке легк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corvizar.jpg"/>
          <p:cNvPicPr/>
          <p:nvPr/>
        </p:nvPicPr>
        <p:blipFill>
          <a:blip r:embed="rId1"/>
          <a:stretch/>
        </p:blipFill>
        <p:spPr>
          <a:xfrm>
            <a:off x="611280" y="1268280"/>
            <a:ext cx="32400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лажность кожи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значительно возрастает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 высоте лихорадки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всех бронхолегочных заболеваниях.Высокая влажность кожи отражает степень интоксикации. Ночные поты, проливные поты во второй половине ночи характерны для туберкулеза легк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ургор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жи снижается при длительных истощающих заболеваниях легких  нагноительные заболевания, туберкулез, рак). Наряду с этим отмечается и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рушение трофики мышц,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х тонуса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33336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огти и конечные фаланги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альцев рук и ног изменяют форму при хронических нагноительных заболеваниях, при туберкулезе. Пальцы напоминают барабанные палочки, а ногти часовые стекла, ногти становятся цианотичн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11632.jpg"/>
          <p:cNvPicPr/>
          <p:nvPr/>
        </p:nvPicPr>
        <p:blipFill>
          <a:blip r:embed="rId1"/>
          <a:stretch/>
        </p:blipFill>
        <p:spPr>
          <a:xfrm>
            <a:off x="1619280" y="2652840"/>
            <a:ext cx="57610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1042920" y="1268280"/>
            <a:ext cx="2449440" cy="100836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короч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5219640" y="1197000"/>
            <a:ext cx="2448000" cy="10080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толще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 flipV="1">
            <a:off x="2268360" y="981000"/>
            <a:ext cx="1151280" cy="287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1"/>
          <p:cNvSpPr/>
          <p:nvPr/>
        </p:nvSpPr>
        <p:spPr>
          <a:xfrm flipH="1" flipV="1">
            <a:off x="5364000" y="981000"/>
            <a:ext cx="93672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с одним скругленным углом 10"/>
          <p:cNvSpPr/>
          <p:nvPr/>
        </p:nvSpPr>
        <p:spPr>
          <a:xfrm>
            <a:off x="539640" y="2421000"/>
            <a:ext cx="3384720" cy="1295280"/>
          </a:xfrm>
          <a:prstGeom prst="pie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резко выраженной эмфиземе легких за счет высокого стояния ребер и приподнятости пле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6"/>
          <p:cNvSpPr/>
          <p:nvPr/>
        </p:nvSpPr>
        <p:spPr>
          <a:xfrm>
            <a:off x="4572000" y="2349360"/>
            <a:ext cx="4176720" cy="2808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кожной эмфиземе в случаях разрыва легкого при травме и попадании воздуха под кожу, а также при сдавливании верхней полой вены и лимфатических сосудов опухолью средостения, приводящему к нарушению оттока крови с периферии к цент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9" descr="58.jpg"/>
          <p:cNvPicPr/>
          <p:nvPr/>
        </p:nvPicPr>
        <p:blipFill>
          <a:blip r:embed="rId1"/>
          <a:srcRect l="15118" t="0" r="5919" b="55251"/>
          <a:stretch/>
        </p:blipFill>
        <p:spPr>
          <a:xfrm>
            <a:off x="468360" y="2781360"/>
            <a:ext cx="4019400" cy="3645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20" descr="0272610785.jpg"/>
          <p:cNvPicPr/>
          <p:nvPr/>
        </p:nvPicPr>
        <p:blipFill>
          <a:blip r:embed="rId2"/>
          <a:stretch/>
        </p:blipFill>
        <p:spPr>
          <a:xfrm>
            <a:off x="4067280" y="2565360"/>
            <a:ext cx="47815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общего осмотра и осмотра отдельных областей и частей тела проводится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мотр верхних дыхательных путей и грудной клетки,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орый включ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у носового дыхания, осмотр преддверия носа и носовых ход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ружный осмотр гортани и трахе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мотр грудной кле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зическое исследование органов дыхания начинается с общего осмотра пациен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ее тщательного осмотра некоторых областей и отдельных частей и участков тела (лицо, шея, кисти, кожа, слизистые, нижние конечности), со стороны которых могут быть выявлены четкие симптомы, указывающие на патологию системы дыхания. И лишь после этого начинается исследование горт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осовое дыхание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ценивается по способности человека свободно дышать через нос при закрытом рте в покое и при форсированном дыхан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знаками патологии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вляются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краснение кожи у носовых ход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зырьковые герпетические высыпания или короч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изистая носовых ходов может быть красной, с изъязвления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изистые, гнойные или кровянистые выделения из носа без запаха или с неприятным запахо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окраснение и изъязвление свидетельствуют о воспалительном процессе слизистой, кровянистые выделения - признак язвенного процесса слизистой, травмы, разрыва сосуда. Слизистые и гнойные выделения бывают при воспалении слизистой носа (рините) или синусите (гайморите, этмоидите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3" descr="05_01_11-med.jpg"/>
          <p:cNvPicPr/>
          <p:nvPr/>
        </p:nvPicPr>
        <p:blipFill>
          <a:blip r:embed="rId1"/>
          <a:stretch/>
        </p:blipFill>
        <p:spPr>
          <a:xfrm>
            <a:off x="468360" y="981000"/>
            <a:ext cx="4591080" cy="35528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gerpes-na-nosu.jpg"/>
          <p:cNvPicPr/>
          <p:nvPr/>
        </p:nvPicPr>
        <p:blipFill>
          <a:blip r:embed="rId2"/>
          <a:stretch/>
        </p:blipFill>
        <p:spPr>
          <a:xfrm>
            <a:off x="2340000" y="1989000"/>
            <a:ext cx="3672000" cy="3672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image.gif"/>
          <p:cNvPicPr/>
          <p:nvPr/>
        </p:nvPicPr>
        <p:blipFill>
          <a:blip r:embed="rId3"/>
          <a:stretch/>
        </p:blipFill>
        <p:spPr>
          <a:xfrm>
            <a:off x="5021280" y="3284640"/>
            <a:ext cx="412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24360" y="1125000"/>
            <a:ext cx="4788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ахея и гортань.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орме они располагаются посредине шеи. При глотании способны смещаться вверх на 1-3 см. У мужчин это движение хорошо видно на глаз, у женщин и полных людей оно менее заме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Illu_conducting_passages_rus_svg.png"/>
          <p:cNvPicPr/>
          <p:nvPr/>
        </p:nvPicPr>
        <p:blipFill>
          <a:blip r:embed="rId1"/>
          <a:stretch/>
        </p:blipFill>
        <p:spPr>
          <a:xfrm>
            <a:off x="250920" y="1268280"/>
            <a:ext cx="38955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клонение трахеи в сторону (симптом Рубинштейна) возникает при уменьшении объема легкого с одной стороны и подтягивании трахеи в сторону локализации патологического процесса. Такое наблюдается при сморщивании легкого после перенесенного туберкулеза, абсцесса, гангрены легкого, при обтурации или сдавлении долевых бронхов с развитием ателектаза, а также после удаления легкого или его ча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мотр грудной клет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32000" y="14130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 проводится по следующей схем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еличина и форма грудной клет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мметричность обеих полов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астие в акте дыхания обеих половин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ределение типа дыха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астота дыха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итм дыха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лубина дыха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одолжительность вдоха и выдоха, их соотношени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астие в акте дыхания вспомогательной мускулатур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4" descr="93.jpg"/>
          <p:cNvPicPr/>
          <p:nvPr/>
        </p:nvPicPr>
        <p:blipFill>
          <a:blip r:embed="rId1"/>
          <a:stretch/>
        </p:blipFill>
        <p:spPr>
          <a:xfrm>
            <a:off x="324000" y="0"/>
            <a:ext cx="845820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мметричное увеличение объема грудной клетки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связано со вздутием легких, что наблюдается во время тяжелого приступа бронхиальной астмы и при хронической эмфиземе легких. Увеличение объема грудной клетки может быть при двустороннем плевральном выпоте, что бывает относительно редко, а также при распространенной подкожной эмфиземе из-за трав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мметричное уменьшение объема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дной клетки наблюдается при двустороннем патологическом процессе в легких с развитием соединительной ткани и сморщиванием их, а также при двустороннем адгезивном плеврите после перенесенного экссудативного и особенно гнойного плеври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тологические варианты грудной кле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очкообразная грудная клетка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наиболее часто встречающийся вариант патологически измененной грудной клетки. Внешне она напоминает грудную клетку в состоянии глубокого вдоха. Ее размеры увеличены, особенно сагитальный, он приближается к фронтальному, их соотношение - 1:1. Ребра приобретают горизонтальное положение, межреберья и надключичные ямки сглаживаются и даже выбухают. Дыхательные экскурсии грудной клетки ограничены. Эпигастральный угол тупой. Эмфизематозная грудная клетка формируется у больных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 бронхиальной астмой, хроническим обструктивным бронхитом, при остром вздутии легких во время тяжелого приступа удушья, у больных с первичной эмфиземой легки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3" descr="emphysema_2_0.jpg"/>
          <p:cNvPicPr/>
          <p:nvPr/>
        </p:nvPicPr>
        <p:blipFill>
          <a:blip r:embed="rId1"/>
          <a:stretch/>
        </p:blipFill>
        <p:spPr>
          <a:xfrm>
            <a:off x="2268360" y="1628640"/>
            <a:ext cx="43196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ралитическая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лоская, доскообразная)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рудная клетка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шне напоминает астеническую, но с усиленными чертами: сагитальный размер может быть в 2 раза меньше фронтального, мышцы плечевого пояса, межреберье субатрофичны, ребра имеют косое направление с четкими запавшими межреберьями, надключичные и подключичные ямки выражены резко, ключицы четко выступают вперед, лопатки отстоят («крыловидные лопатки»), эпигастральный угол меньше 45°, грудная клетка напоминает состояние глубокого выдох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акая грудная клетка формируется у лиц со слабым конституциональным развитием, при общей астении, при тяжелых хронических заболеваниях, при туберкулезе легких, сопровождающемся сморщиванием легких, пневмосклерозом, при фиброзирующем процессе в плевральных полостях, уменьшении объема легких после оперативного леч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10920" y="1052280"/>
            <a:ext cx="771516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ахитическая грудная клетка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илевидная, куриная) - это деформированная грудная клетка в результате перенесенного в детстве рахита, или сформировавшаяся у лиц с врожденной слабостью соединительной ткани. Грудная клетка имеет увеличенный передне-задний размер за счет выступания вперед грудины в виде киля (напоминает грудь птицы). Передне-боковые поверхности грудной клетки уплощены, теряют радиарный контур. Нередко определяются (лучше пальпаторно) в местах перехода реберных хрящей в кость «рахитические четки» - утолщения. Особенно хорошо это выявляется у детей и подростк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9011.jpg"/>
          <p:cNvPicPr/>
          <p:nvPr/>
        </p:nvPicPr>
        <p:blipFill>
          <a:blip r:embed="rId1"/>
          <a:stretch/>
        </p:blipFill>
        <p:spPr>
          <a:xfrm>
            <a:off x="755640" y="0"/>
            <a:ext cx="799308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284360" y="69228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оронкообразная грудная клетка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врожденная патология, аномалия развития. Характеризуется наличием в нижней трети грудины углубления, напоминающего воронк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3" descr="10_1%20deform.jpg"/>
          <p:cNvPicPr/>
          <p:nvPr/>
        </p:nvPicPr>
        <p:blipFill>
          <a:blip r:embed="rId1"/>
          <a:stretch/>
        </p:blipFill>
        <p:spPr>
          <a:xfrm>
            <a:off x="611280" y="692280"/>
            <a:ext cx="36003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plaintest.com/i/2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197000"/>
            <a:ext cx="8265960" cy="4464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4572000" y="765000"/>
            <a:ext cx="4067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фотическая грудная клетка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формируется при искривлении позвоночника с образованием горба. Причинами этому чаще бывают туберкулез позвоночника, спондилез, болезнь Бехтерева. Разновидностью кифотической грудной клетки является кифосколиотическая грудная клетка, когда наряду с кифозом имеется искривление позвоночника в сторону - сколиоз. При обоих видах возникают значительные вентиляционные и гемодинамические нарушения в системе малого к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vfha(1).jpg"/>
          <p:cNvPicPr/>
          <p:nvPr/>
        </p:nvPicPr>
        <p:blipFill>
          <a:blip r:embed="rId1"/>
          <a:stretch/>
        </p:blipFill>
        <p:spPr>
          <a:xfrm>
            <a:off x="179280" y="189000"/>
            <a:ext cx="40766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68000" y="6206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рдотическая грудная клетка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формируется при тех же видах патологии позвоночника, что и кифотическая. Грудной отдел теряет физиологический кифоз, позвоночник становится плоским или даже возникает его лордоз. Иногда такие изменения сочетаются с килевидной формой грудной кле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chois.jpg"/>
          <p:cNvPicPr/>
          <p:nvPr/>
        </p:nvPicPr>
        <p:blipFill>
          <a:blip r:embed="rId1"/>
          <a:stretch/>
        </p:blipFill>
        <p:spPr>
          <a:xfrm>
            <a:off x="468360" y="1197000"/>
            <a:ext cx="8147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олиотическая грудная клетка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асимметричная грудная клетка с прогибом позвоночника в одну из сторон. Формированию ее способствует патология позвоночника - травма, туберкулез, а также неудобная рабочая поза в школе и на производстве, врожденная слабость соединительной тк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4" descr="15778_html_m4ef58a4c.jpg"/>
          <p:cNvPicPr/>
          <p:nvPr/>
        </p:nvPicPr>
        <p:blipFill>
          <a:blip r:embed="rId1"/>
          <a:stretch/>
        </p:blipFill>
        <p:spPr>
          <a:xfrm>
            <a:off x="785880" y="214200"/>
            <a:ext cx="984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рушения со стороны дых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ахипно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онхит, пневмония, туберкулез, нагноительные заболевания, плеврит, паранеопластическая реакция при раке легког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нарушении вентиляции легких из-за сужения просвета мелких бронхов при бронхиолите или их спазме (бронхиальная астм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уменьшении дыхательной поверхности легких (пневмония, обтурационный и компресионный ателектаз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потере эластичности легочной ткани (эмфизем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ограничении глубины дыхания из-за боли, обусловленной травмой грудной клетки, воспалением кожи (герпес) и подкожной клетчатки (фурункул, флегмона), из-за воспаления или пареза мышц грудной стенки и диафрагмы, перелома ребер, а также из-за воспаления плев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зкое учащение дыхания, достигающее порой 60 в минуту («дыхание загнанной собаки»), бывает при исте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режение дыхания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брадипноэ) может быть связано с нарушением проходимости начальных отделов дыхательных путей: с сужением ротоглотки резко опухшими миндалинами, с сужением голосовой щели из-за отека или опухоли со сдавливанием трахеи опухолью или аневризмой аорты.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 этом наиболее продолжительным будет вдох.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ко наиболее частой причиной редкого дыхания является токсическое воздействие на дыхательный центр с угнетением его функци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яжело протекающие инфек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ченочная и почечная недостаточност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яжелые отравления, в том числе и морфие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стояние аго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vmede.org/sait/content/Terapija_vrach_met_isled_2006/4_files/mb4_018.png"/>
          <p:cNvPicPr/>
          <p:nvPr/>
        </p:nvPicPr>
        <p:blipFill>
          <a:blip r:embed="rId1"/>
          <a:stretch/>
        </p:blipFill>
        <p:spPr>
          <a:xfrm>
            <a:off x="642960" y="1285920"/>
            <a:ext cx="714384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тм дых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ыхание Чейн-Стокса.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рерывистое дыхание. После 10- 12 дыхательных циклов наступает пауза длительностью 10-60 с (апноэ). После паузы вначале появляется редкое, поверхностное, бесшумное дыхание, которое с каждым дыхательным циклом становится глубже и чаще, но через 5-7 дышаший оно вновь урежается, становится поверхностным, а вскоре и прекращается. Снова наступает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пноэ.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ое дыхание может продолжаться днями и месяцами, больной при этом чаще сохраняет сознание, но в период апноэ возможно его помрачение в виде сопора. Дыхание ЧейнСтокса возникает у больных с тяжелыми расстройствами мозгового кровообращения (атеросклероз, опухоль мозга, кровоизлияние мозга), в том числе и в области дыхательного центра. Бывает оно у больных с глубокими расстройствами общего кровообращения, с тяжелыми отравлениями, в том числе и морфием. Иногда его можно наблюдать у пожилых людей, особенно во время с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ыхание Биота.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периодическое дыхание, как и дыхание Чейн-Стокса, но отличается от него равномерностью дыхательных движений, которые через равные или неравные промежутки прерываются периодами апноэ от нескольких секунд до минуты. Причины появления такого дыхания те же, что и вызывающие дыхание Чейн-Стокса. Дыхание Биота возникает у больных с менингитом и другими поражениями головного мозга, больных в бессознательном состоянии и в период агонии. Прогностически оно неблагоприятно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ыхание Грокка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разновидность периодического дыхания, его называют волнообразным. Оно напоминает дыхание ЧейнСтокса, однако периодов полного апноэ не наступает. Его рассматривают как раннюю стадию дыхания Чейн-Сток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тологически обусловленное глубокое дыхание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зникает при многих заболеваниях, сопровождающихся токсическим воздействием на ЦНС, и, в частности, раздражающим действием на дыхательный центр, что наблюдается при тяжелом течении инфекций, при лихорадочных состояниях, при печеночной и почечной коме, болезнях обмена веществ (диабетическая кома), а также при заболеваниях головного мозга и оболочек, при анем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еляют особый вид глубокого шумного дыхания - 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дыхание Куссмауля 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(рис. 276),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торое возникает у пациентов с глубокой комой. Примером такого «большого дыхания» может быть дыхание при диабетической коме, обусловленное сильным раздражением дыхательного центра кислыми продуктами обмена. Подобное бывает и при уремической и печеночной коме в фазу резко выраженного ацидоз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ерхностное дыхание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никает по многим причинам. В большинстве случаев оно бывает учащенным. Очень поверхностное и редкое дыхание можно наблюдать даже у здорового человека во время глубокого с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рхностное дыхание может быть пр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лаблении функции дыхательного центра (тяжелые интоксикации, агональное состояни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рушении иннервации дыхательной мускулату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лаблении дыхательной мускулату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ении экскурсии грудной клетки из-за поражения грудной стенки (боль при травме, воспалении), из-за боли при воспалении плев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ении экскурсии грудной клетки при скоплении жидкости или воздуха в плевральных полос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ключении части легкого из процесса газообмена (пневмония, обтурационный ателектаз, опухоль и др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ере эластичности альвеол (эмфизем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щее состоя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179280" y="1484280"/>
            <a:ext cx="2448000" cy="1008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3132000" y="1484280"/>
            <a:ext cx="2448000" cy="1008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й тяж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6156360" y="1484280"/>
            <a:ext cx="2448000" cy="1008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яж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с двумя скругленными противолежащими углами 7"/>
          <p:cNvSpPr/>
          <p:nvPr/>
        </p:nvSpPr>
        <p:spPr>
          <a:xfrm>
            <a:off x="2916360" y="2924280"/>
            <a:ext cx="5184720" cy="360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трую фазу пневмон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беркуле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гноительных заболеваний (абсцесс, гангрена легкого, эмпиема плевр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еври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невмоторак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мбоза легочной артер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обострения хронических заболеваний легких (бронхиальная астма, туберкулез, легочно-сердечная недостаточность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ключительной фазе течения хронических легочных заболе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9"/>
          <p:cNvSpPr/>
          <p:nvPr/>
        </p:nvSpPr>
        <p:spPr>
          <a:xfrm flipV="1">
            <a:off x="1403280" y="1052280"/>
            <a:ext cx="1081080" cy="4316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1"/>
          <p:cNvSpPr/>
          <p:nvPr/>
        </p:nvSpPr>
        <p:spPr>
          <a:xfrm flipV="1">
            <a:off x="4572000" y="1125360"/>
            <a:ext cx="0" cy="292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3"/>
          <p:cNvSpPr/>
          <p:nvPr/>
        </p:nvSpPr>
        <p:spPr>
          <a:xfrm flipH="1" flipV="1">
            <a:off x="6300360" y="1052280"/>
            <a:ext cx="1079640" cy="431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верхностное, но редкое дыхание 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мечается при нарушении проходимости верхних дыхательных путей (стеноз гортани, отек голосовых связок, инородное тело, опухоль, сдавливание трахеи),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 этом вдох будет продолжительным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верхностное и редкое дыхание, но с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длиненным выдохом возникает при сужении мелких бронхов 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бронхиальная астма, обструктивный бронхит, бронхиолит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верхностное, частое дыхание бывает у больных разлитым перитонитом. Ограничение глубины дыхания происходит из-за боли, возникающей при трении воспаленных листков брюшин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мрачение созн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 при заболеваниях системы дыхания, протекающих с тяжелой интоксикацией (инфекционнотоксический шок при пневмонии, нагноительных заболеваниях легких, туберкулезе), а также сопровождающихся выраженной дыхательной недостаточностью при острых и хронических заболеваниях легк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созн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95280" y="1268280"/>
            <a:ext cx="813744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торможенность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больной вялый, безучастный к окружающему, на вопросы врача отвечает правильно, но односл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395280" y="2205000"/>
            <a:ext cx="8209080" cy="863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упор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цепенение, оглушение) - более глубокая степень помрачения, пациент периодически впадает в сон, при пробуждении, под воздействием окружающих на вопросы чаще отвечает правильно, по сущест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395280" y="3284640"/>
            <a:ext cx="8209080" cy="936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пор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спячка), больной находится в состоянии сна, при громком окрике или тормошении открывает глаза, но на вопросы отвечает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по существу,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манипуляции медперсонала реагирует, рефлексы сохране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395280" y="4437000"/>
            <a:ext cx="8209080" cy="936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ма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оматозное состояние) - отсутствие сознания, отсутствие волевых движений, мышцы расслаблены, чувствительность потеряна, рефлексы не вызываются, сохранены лишь функция дыхания и кровообра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324000" y="5661000"/>
            <a:ext cx="8280360" cy="792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омоторным возбуждением.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ывает при тяжелом течении острой пневмонии или в период астматического стату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179280" y="1484280"/>
            <a:ext cx="244800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ив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Прямоугольник 4"/>
          <p:cNvGrpSpPr/>
          <p:nvPr/>
        </p:nvGrpSpPr>
        <p:grpSpPr>
          <a:xfrm>
            <a:off x="3071880" y="1450800"/>
            <a:ext cx="2560680" cy="1116360"/>
            <a:chOff x="3071880" y="1450800"/>
            <a:chExt cx="2560680" cy="1116360"/>
          </a:xfrm>
        </p:grpSpPr>
        <p:pic>
          <p:nvPicPr>
            <p:cNvPr id="67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3071880" y="1450800"/>
              <a:ext cx="256068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132000" y="1484280"/>
              <a:ext cx="244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Пассив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Прямоугольник 5"/>
          <p:cNvGrpSpPr/>
          <p:nvPr/>
        </p:nvGrpSpPr>
        <p:grpSpPr>
          <a:xfrm>
            <a:off x="6095880" y="1450800"/>
            <a:ext cx="2560680" cy="1116360"/>
            <a:chOff x="6095880" y="1450800"/>
            <a:chExt cx="2560680" cy="1116360"/>
          </a:xfrm>
        </p:grpSpPr>
        <p:pic>
          <p:nvPicPr>
            <p:cNvPr id="70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6095880" y="1450800"/>
              <a:ext cx="256068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156360" y="1484280"/>
              <a:ext cx="244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Вынужден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Прямоугольник с двумя скругленными противолежащими углами 7"/>
          <p:cNvSpPr/>
          <p:nvPr/>
        </p:nvSpPr>
        <p:spPr>
          <a:xfrm>
            <a:off x="3492360" y="2852640"/>
            <a:ext cx="5183280" cy="3600720"/>
          </a:xfrm>
          <a:prstGeom prst="pi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легчает состояние пациента - исчезает боль, уменьшается одышка, кашель. Так больные с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невмонией, экссудативным плевритом предпочитают лежать на больной стороне,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уменьшает экскурсию заинтересованного легкого, улучшает экскурсию здорового легкого, уменьшает боль. Такое же положение занимают больные с абсцессом легкого, это ограничивает отделение гноя и уменьшает досаждающий кашель.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льные с сухим плевритом, травмой грудной стенки для уменьшения боли лежат на здоровом б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9"/>
          <p:cNvSpPr/>
          <p:nvPr/>
        </p:nvSpPr>
        <p:spPr>
          <a:xfrm flipV="1">
            <a:off x="1403280" y="1052280"/>
            <a:ext cx="1081080" cy="4316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1"/>
          <p:cNvSpPr/>
          <p:nvPr/>
        </p:nvSpPr>
        <p:spPr>
          <a:xfrm flipV="1">
            <a:off x="4572000" y="1125360"/>
            <a:ext cx="0" cy="2923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3"/>
          <p:cNvSpPr/>
          <p:nvPr/>
        </p:nvSpPr>
        <p:spPr>
          <a:xfrm flipH="1" flipV="1">
            <a:off x="6300360" y="1052280"/>
            <a:ext cx="1079640" cy="431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с одним скругленным углом 10"/>
          <p:cNvSpPr/>
          <p:nvPr/>
        </p:nvSpPr>
        <p:spPr>
          <a:xfrm>
            <a:off x="395280" y="2781360"/>
            <a:ext cx="2736720" cy="388764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острая пневмония, нагноительные заболевания легких, туберкулез, эмфизема легких, рак легких, а также в фазу крайней степени дыхательной недостаточности, в бессознательном состоянии, при очень высокой лихорадке, выраженной слабости и беспомощ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са 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684360" y="1413000"/>
            <a:ext cx="3095640" cy="100800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ху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Прямоугольник 5"/>
          <p:cNvGrpSpPr/>
          <p:nvPr/>
        </p:nvGrpSpPr>
        <p:grpSpPr>
          <a:xfrm>
            <a:off x="5230800" y="1378080"/>
            <a:ext cx="3284640" cy="1189080"/>
            <a:chOff x="5230800" y="1378080"/>
            <a:chExt cx="3284640" cy="1189080"/>
          </a:xfrm>
        </p:grpSpPr>
        <p:pic>
          <p:nvPicPr>
            <p:cNvPr id="80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230800" y="1378080"/>
              <a:ext cx="32846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292720" y="1413000"/>
              <a:ext cx="316692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Увеличение массы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Прямая соединительная линия 9"/>
          <p:cNvSpPr/>
          <p:nvPr/>
        </p:nvSpPr>
        <p:spPr>
          <a:xfrm flipV="1">
            <a:off x="2232000" y="981000"/>
            <a:ext cx="755640" cy="4320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13"/>
          <p:cNvSpPr/>
          <p:nvPr/>
        </p:nvSpPr>
        <p:spPr>
          <a:xfrm flipH="1" flipV="1">
            <a:off x="6156360" y="1052280"/>
            <a:ext cx="719280" cy="360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5"/>
          <p:cNvSpPr/>
          <p:nvPr/>
        </p:nvSpPr>
        <p:spPr>
          <a:xfrm>
            <a:off x="324000" y="2565360"/>
            <a:ext cx="3095640" cy="33116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бсцесс и гангрена легкого, бронхо-эктатическая болез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мпиема плевры, при тяжелом течении туберкулез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еври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раке лег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6"/>
          <p:cNvSpPr/>
          <p:nvPr/>
        </p:nvSpPr>
        <p:spPr>
          <a:xfrm>
            <a:off x="3887640" y="2754360"/>
            <a:ext cx="5256360" cy="4103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нарастающей сердечной недостаточности - острой или хронической правожелудочковой недостаточности, увеличивается давление в системе малого круга кровообращения (легочная гипертензия)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ключение значительной части легкого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крупозная пневмония с поражением нескольких долей, выраженные экссудативный плеврит и пневмоторакс, резекция легкого, эмфизема легких, диффузный пневмосклероз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рушение гемодинамики в системе легочной артерии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а также сдавление легочной артерии, спазм сосудов, врожденное и приобретенное сужение ствола легочной артерии, тромбоэмболия ветвей легочной ар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соответствие медицинского возраста метрическо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48392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гда пациент выглядит старше своих лет, отмечается при всех тяжело протекающих бронхолегочных заболеваниях, особенно при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гноительных заболеваниях, туберкулезе, раке легких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20130110192803.jpg"/>
          <p:cNvPicPr/>
          <p:nvPr/>
        </p:nvPicPr>
        <p:blipFill>
          <a:blip r:embed="rId1"/>
          <a:stretch/>
        </p:blipFill>
        <p:spPr>
          <a:xfrm>
            <a:off x="1332000" y="2852640"/>
            <a:ext cx="59767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2:24:14Z</dcterms:created>
  <dc:creator>Айзат</dc:creator>
  <dc:description/>
  <dc:language>en-US</dc:language>
  <cp:lastModifiedBy>SV</cp:lastModifiedBy>
  <dcterms:modified xsi:type="dcterms:W3CDTF">2013-10-28T08:39:14Z</dcterms:modified>
  <cp:revision>31</cp:revision>
  <dc:subject/>
  <dc:title>Общий осмотр больных с патологией органов дыхания.</dc:title>
</cp:coreProperties>
</file>