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1ACA-24C0-4FC8-8D3A-CAD71BC7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9322-86D8-4779-BC9F-2D2AC240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28A77-E2DC-4D1B-9342-8BE60A9D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7AE0C-2DC4-4FD7-AE8B-55194F40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9A12A-23DA-4775-8C30-CC612ABF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01A4D-33B7-4117-9A3A-BEF0D13F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08180-5FBA-4B04-8922-370071C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D02F0-AEAD-40D5-B41D-6CFD2992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B84A0-1C96-4D5B-BCA8-0B48ADF5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C2D2C-20CE-4F8F-83B3-44CB87E6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DD36C-89B1-4AEF-8908-1B3B2D67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9415C-F13B-4E68-8CD3-4BBA8812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8433-6FEE-41F1-9FC1-69D5745E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DE202-4A42-493F-9446-5C5C50DD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F5368-03B8-4AF7-8740-F685F5DB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C6093-6E47-494B-BEEB-E586FF87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CA268-D2C3-4C7C-9787-18AB88F7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E6616-1564-453A-8FF1-7B527576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22D34-8AA7-4317-A6CA-792E6C0B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E80E5-F2D3-48C3-B087-93044B0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A092F-A9D4-4225-8565-9F3E7785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A8895-7D66-4049-AA3C-143D5F0A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4447C-E197-4EA2-A605-2A509651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5790-C5A2-4373-9D51-17345A85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254B0-88A1-43C9-9B9C-09027D98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A727E-F992-414B-8201-1F1FFE35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8E245-BB86-4E75-AD35-0B1B72CC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D814E-D4E9-44A5-B5B6-EDA8706C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7919D-B4C2-4B44-A460-236B49A7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03D3B-953D-476C-ABCA-B74A19E9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CD6FB-FD62-480A-863D-C5B7B6B2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C06F6-D04C-404B-80DA-BC1A3F62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9FA8E-B8B5-4CE0-B953-0B99A081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E3491-C3D8-4BFC-AE31-CEB390EA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305A-1849-42FC-BC22-8CC55AFE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2757C-B571-4646-9F03-324B0133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A603B-3AFB-4537-BA4A-5AD82DB1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44B65-0DE7-4AC6-8F0C-12129032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9D869-7C62-4DA7-8BB6-2A957A91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6E5A9-30F0-4D01-B286-603E2280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8F029-EC62-4336-B96D-B0F63145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102FB-2750-4F4E-A252-DCC475BA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4211F-CE64-4DB8-8213-36E3AD19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16DEE-F23F-43BC-87FD-E90D17BA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9A4DE-5D3D-4EFA-8FFD-634BCD92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AF70-6C9B-4EAE-B94D-36D70B75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E81BD-530F-4FE1-81F9-19597BE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3712A-071E-4D3B-A867-DE47F28C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C7818-D433-47CC-82A2-190B3857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4B04F-0BC4-47E8-AB9F-6C717649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ED2E2-D6EC-473A-858A-FDE7A93A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B8880-87EF-4228-B314-C3567452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82788-A4EB-416B-A128-57C9536D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8E8B1-BF52-47E3-AD45-F9E0E5EA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856F1-F212-46D7-8371-38155FA9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A3021-2326-40EB-9537-0882FDCE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64D4-F018-4212-8891-F0B4F55C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D8C53-29E3-4C5C-83AC-99303639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9BAA5-2ED9-40BD-907E-A5E2F7EE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E92FD-888F-4AC7-B7D6-C0E9EC1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6FAD1-0FB9-4B43-BD51-763D8296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9A020-50E9-4342-93D4-19F5392D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D99DE-1B17-4E79-B896-D0D6A55A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856AC-904F-4712-AEC7-02DCD8B5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08A7E-26A0-45C1-A74C-1361A73B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C1A87-2C19-4C18-86C4-56A87303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901742-ACD3-4D80-9D3C-0B5B973A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0380-E266-4227-9022-EF9001DA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12416-8D72-4B25-B27A-130760F7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9489A-DA09-41C8-9090-590CF287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48F87-63D7-4BEB-A9C2-EFE170FE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9D2AF-2179-470A-A80D-761650B0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BC4F6-1D56-471F-90B8-760F9B62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BFDF8-D556-480F-BFED-4B25110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58831-1833-4F25-BAF6-7C4DDBD3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3BF8D-134A-4127-82D2-671F4DCB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3CBFE-AC13-4AA8-B62C-3388E540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219CF8-79F0-423F-9DE1-44AE75E1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D713-2799-4536-BA88-485F2CA4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6E9F3-604E-42F2-8794-0F19CC91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B242B-D295-47B2-B0F1-63D25555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9A762-F96B-4002-8A40-63319C82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9BD92-A0B7-45AF-BC52-39416761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80A4D-D5CF-410F-9351-5FA65493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31F40-908A-494C-9777-F65AAF57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634E0-7BCE-42A6-A2D5-F0A13DD9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8D8D5-FA14-4F59-83A1-366B469D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9DBD4-A5B4-44C4-A77F-DC6B988C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FBF7F4-EE38-407C-8978-1C20DA67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A779-73E4-4EF1-8B2B-E7485B15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9B47A3-322D-45F7-A84C-C787FF61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265A-710E-4678-AB4E-317FE5B5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2F30-4595-435F-9BE7-9F3B7FC9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EAE5-B676-4298-9154-2E4E54A9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B9F7-CA30-45E3-AA29-7989B8B5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D0E1-BFF8-4C29-8CD5-927D3D35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B6DD-580A-457D-B4DC-068E83BF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FD93-D06F-4511-8975-37B5724E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3612-B8C2-4160-8EE3-65B7D6D5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96634-B550-4B90-98EE-39D63FAA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BA07B-05A7-4B80-807A-0D4D33EB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800A-DB4B-4C35-8057-E1A85B7D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45DE-0ECC-4050-92E2-0C78D2B1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DA64-CA40-4F0A-B04E-F04B3B8C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B522-2F2F-4510-84AC-4E05AA93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53F09-1E0F-4578-B6FD-4EFD46AB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84A5-DF96-4870-AFAA-8C2DC6A5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E0B0-87DC-420B-906D-BA3112F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7BC7-7117-4564-9CEE-4C37C70A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AA8A-9596-412B-A479-69D749DE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2EB5D-D4B9-4846-A63D-D898FE09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1E60B-0269-48A2-AD2D-FAC65393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8DBB4-DD62-4339-9EFE-B87EE2F8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A6BE-AF7E-42F7-95D2-C33A9E93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C40A-F1A9-4D6D-A6A4-F7E52112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B7403-132D-46F8-877B-D8F62101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266F-8F5E-4C25-8A0D-26D47927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6E980-B7B5-4259-9E61-C80D707E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DB56D-2996-4218-B19A-345F2596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FD769-3D76-4F44-9872-19BAD1DE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2A1C-776F-4AC9-A298-A079C572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8B6A-DD7E-4549-B79E-6C0481A1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EA25B-4DDC-4989-8F9C-ECB9BDDF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60351-6C0B-4637-8348-A5F9F56D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04239-10C7-477D-80A7-916C66AE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90C7-C9F0-41AB-96BF-41950233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C2BA6-F948-4CCE-AA6D-F382E3A4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9C1B5-C9E6-48E3-8191-F14EDEEC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DAEB0-8B62-48F2-87D1-C0116B1D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97E92-C1A0-40C9-AB36-065387A9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D211-C0A3-4AAE-BAEA-5FA5B4C9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5D6D4-EF8B-4365-A01F-DEDD7553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C486A-BB76-4935-B93C-14958357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3F329-CDCA-422A-9FC6-90F0AC81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D8D64-AAB8-40E4-A178-19A98668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B675-1747-4CC1-B053-65B7D02A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5E3D-0EEA-4F5F-B092-E78824E5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EAC3D-0BA9-4DF5-81F9-AA25014D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9FC3B-EAB7-40A0-966C-5D0950C9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38990-B05A-46F5-9962-180D34E5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D7BCF-BB55-4F01-AF7A-7397D3CA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D52F3-B47E-4600-A430-A1E267F4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05E4E-70DD-4218-AD25-E3FB590C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151B-46DD-408F-932C-D98F9BED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5F2FD-A47B-45C0-A24B-25F664CE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59EBC-365B-45C6-9165-8263379F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EB258-035E-4A68-8692-1796FCA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FDFA-49DF-4C1F-B669-D700690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302C2-CB3C-465B-ACCB-ED5DA43F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8E84F-0EDB-4EA0-B32B-890BB6EC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C0C59-98BA-4A66-A15F-96929BB9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34DB0-0FBF-4452-AD7B-152C24E2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33EA8-F36F-4371-ADC3-2C6A6D47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AAD32-1E53-4BCC-BCDE-29BA3909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4F79-D8D3-4CC9-9FF8-609385AD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F47E9-B0E1-4AD7-9550-CBDE84D2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D805E-58EC-41CE-8DE1-C7C2F9BE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5AE58-AE4C-4EAA-A040-A00F8130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145E-F46D-4C2B-917A-BA2143C9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9C289-E3C9-4E60-BC4D-10EB287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88B1A-375F-4AD7-BFD2-7BB2037E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4BFC4-E80F-4CC7-99EB-DD2887A8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E81C4-F037-4501-B2F4-452E7E24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99C98-48D1-4219-BA26-2E76C807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B5910-6CA2-4BC9-8C41-2FF4F504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CF914-81C2-496D-B300-4AD18CEE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3945E-2019-4DC1-8126-E508B8C6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B9832-97FD-4110-A220-94E50BD3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B4D9C-717C-4509-A0B4-8A84CC80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8332-ACA6-463A-89FD-68D6850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B91B7-920D-45AB-9098-1AC8E2D5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C5B34-09D5-4BCE-AE6D-13574D3C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6EB98-811D-44B7-8828-B6BD6E03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D02F7-5FEA-495A-8658-41B9DA9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454E3-2E4A-4C13-8DA5-15973F45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2FD16-B4A7-491D-A8E9-A56DCAE9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9CAD0-6FBA-4CC8-B6D3-DA2337BF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A2911-480D-441E-964C-E6C8EB4C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03062-BAE7-4B36-8F71-1C29A5D2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9C314-D078-47F4-9913-ACB16C0A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35C1-9036-4EAD-A8E6-6B5B75744A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4ED6-EA6A-4451-BF7D-D72EE97DD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D344-8E91-4210-AE05-875257DE5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CCAC-3FC3-4CDF-AA8D-F4AD4CC3456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>
              <a:spcBef>
                <a:spcPts val="224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224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224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224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5D6D-2196-4D4A-965A-15DF74AEBFE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2472-4975-441C-8D58-17A7AFE1A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58D9-28FC-4D9F-AC0E-B0537E6FE1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C332-9A99-403C-AEF3-41CF27F4A0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23F2-583F-422A-9306-98711DF4E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026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6" name="Group 1027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7" name="Freeform 1028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1029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1030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1031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1" name="Freeform 1032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2" name="Freeform 1033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Freeform 1034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DE11-3013-4C1F-966E-AEB33E66D0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ctr"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AEA1-E457-4BF4-802E-90D1E1D5352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02D5-D80A-4B0D-9917-C34C76990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>
              <a:spcBef>
                <a:spcPts val="24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24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B394-2D2F-45D0-AE0B-0C62E01039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E21F-450C-4FC5-8909-253633B45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AE14-D51B-4BB2-B635-F2E92BB31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C:\Documents and Settings\Ira\Рабочий стол\DSC_1407.JPG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357960"/>
          </a:xfrm>
          <a:prstGeom prst="rect">
            <a:avLst/>
          </a:prstGeom>
          <a:ln w="0">
            <a:noFill/>
          </a:ln>
        </p:spPr>
      </p:pic>
      <p:pic>
        <p:nvPicPr>
          <p:cNvPr id="663" name="Прямоугольник 2" descr=""/>
          <p:cNvPicPr/>
          <p:nvPr/>
        </p:nvPicPr>
        <p:blipFill>
          <a:blip r:embed="rId2"/>
          <a:stretch/>
        </p:blipFill>
        <p:spPr>
          <a:xfrm>
            <a:off x="281160" y="993600"/>
            <a:ext cx="8551800" cy="5437440"/>
          </a:xfrm>
          <a:prstGeom prst="rect">
            <a:avLst/>
          </a:prstGeom>
          <a:ln w="0">
            <a:noFill/>
          </a:ln>
        </p:spPr>
      </p:pic>
      <p:pic>
        <p:nvPicPr>
          <p:cNvPr id="664" name="Прямоугольник 3" descr=""/>
          <p:cNvPicPr/>
          <p:nvPr/>
        </p:nvPicPr>
        <p:blipFill>
          <a:blip r:embed="rId3"/>
          <a:stretch/>
        </p:blipFill>
        <p:spPr>
          <a:xfrm>
            <a:off x="633240" y="371520"/>
            <a:ext cx="80172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ДУБИЛЬНЫЕ ВЕЩЕСТВА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215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едставляют собой безазотистые органические соединения разного химического состава; способны в соединении с белком образовывать биологическую пленку, которая обладает антимикробным и противовоспалительным действи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 большом количестве дубильные вещества содержатся в коре дуба, траве зверобоя, черемухе, шишках хмеля, щавеле, реве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Дубильные вещества оказывают вяжущее, противовоспалительное, антигеморрагическое, противомикробное действие. С белками крови образуют сгустки, в результате чего приостанавливается кровотеч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929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ИТОНЦИДЫ</a:t>
            </a: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215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едставляют собой бактерицидные вещества, стимулируют защитные свойства организма, благотворно влияют на самочувствие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итонциды широко используют для лечения и профилактики гриппа, вирусных инфекций, ангины, заболеваний полости рта и пищеварительного тра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Богаты фитонцидами лук, чеснок, хрен, белая бер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929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ИТАМИНЫ</a:t>
            </a: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357120" y="121392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Группа разнообразных по химическому составу веществ, которые либо не образуются в организме человека, либо образуются в небольшом количестве и поступают в организм с продуктами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итамины представляют собой биологически активные вещества, регулирующие обмен веществ. Особенностью витаминов является то, что они активны в очень малом количе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итамины делят на 2 груп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4442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одорастворимые</a:t>
            </a:r>
            <a:r>
              <a:rPr b="0" lang="en-US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– аскорбиновая кислота (С), тиамин (В1),     рибофлавин (В2), пиридоксин (В6), никотиновая кислота (РР), цианкобаламин (В12), фолиев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4442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Жирорастворимые</a:t>
            </a:r>
            <a:r>
              <a:rPr b="0" lang="en-US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– ретинол (А), токоферол (Е), филохинон (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720" y="220320"/>
            <a:ext cx="69292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57120" y="1500120"/>
            <a:ext cx="85010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Наиболее богаты витаминам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4442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лоды</a:t>
            </a: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– шиповник, рябина, облепиха, черная смородина, тык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4442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Цветки</a:t>
            </a: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– календу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4442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Листья и трава </a:t>
            </a: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– крапива, пастушья сумка, первоц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4442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Некоторые растения накапливают витамины в </a:t>
            </a:r>
            <a:r>
              <a:rPr b="1" i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корнях</a:t>
            </a: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- морк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929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ЭФИРНЫЕ МАСЛА</a:t>
            </a: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357120" y="121392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Летучие, пахнущие вещества, выделяемые растениями. Накапливаются в цветах, листьях, семенах, плодах, надземных частях растений и не принимают участие в обмене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Эфирные масла хорошо растворяются в органических растворителях, не растворяются в воде, а на воздухе превращаются в смо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 большом количестве эфирные масла содержатся в цветах розы и ромашки, листьях мяты, траве душицы и полыни, плодах фенхеля, корне валерианы, семенах петруш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Эфирные масла повышают аппетит, улучшают функцию желудочно-кишечного тракта, обладают отхаркивающим, успокаивающим, антимикробным, сосудорасширяющим действ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аготовка лекарственного сырья</a:t>
            </a:r>
            <a:endParaRPr b="1" lang="en-US" sz="3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357120" y="142848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аготавливают лекарственное сырье в период, когда оно содержит наибольшее количество активнодействующих компон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Листья и цветы 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растений собирают в солнечную сухую погоду, поскольку влажные они долго сохнут и могут поражаться грибком. Цветы собирают в начале цветения растения, а листья – когда они еще молод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очки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собирают в марте-апреле, когда они еще не распусти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лоды и семена 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обирают в период, когда в них наибольшее количество лекарственных компон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Корневища и корни 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ыкапывают в конце вегетативного периода, когда в них накапливаются действующие ве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ушка лекарственного сырья</a:t>
            </a:r>
            <a:endParaRPr b="1" lang="en-US" sz="3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357120" y="121392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ушку лекарственного сырья начинают сразу после его сб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Растения, содержащие</a:t>
            </a:r>
            <a:r>
              <a:rPr b="1" i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эфирные масла </a:t>
            </a: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ушат при температуре воздуха до 30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Растения богатые </a:t>
            </a:r>
            <a:r>
              <a:rPr b="1" i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алкалоидами и гликозидами </a:t>
            </a: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– при температуре 50-60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Для сушки </a:t>
            </a:r>
            <a:r>
              <a:rPr b="1" i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лодов</a:t>
            </a: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допускается температура 80-90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Корни и корневища </a:t>
            </a: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ысушивают при температуре 40-60 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Листья, цветы и надземные части, </a:t>
            </a: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одержащие эфирные масла и гликозиды  сушат, защищая их от солнечных луч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Корни, корневища, плоды и семена </a:t>
            </a:r>
            <a:r>
              <a:rPr b="0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допустимо сушить на солн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Хранение лекарственного сырья</a:t>
            </a:r>
            <a:endParaRPr b="1" lang="en-US" sz="3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57120" y="121392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берегают лекарственное сырье в бумажных мешках в сухом, хорошо проветриваемом помещении. Сроки хранения отдельных частей растений неодинако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Листья и цветы </a:t>
            </a: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рекомендуется хранить в течение 1-2 лет, но не больше 1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Кора, корни и корневища </a:t>
            </a: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не теряют своих лечебных свойств 3-4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очки </a:t>
            </a: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можно хранить в течение 2 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пособы приготовления лекарственных препаратов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714240" y="200016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ОРО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Наиболее простая лекарственная форма. Для приготовления порошков высушенные части растений измельчают и принимают в таком виде внутрь или используют как присы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НАСТОИ</a:t>
            </a:r>
            <a:endParaRPr b="1" lang="en-US" sz="3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357120" y="121392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Для приготовления настоев растения необходимо измельчи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4442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листья </a:t>
            </a: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измельчают до размера не более 3 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4442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цветки и траву </a:t>
            </a: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– не более 5 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4442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лоды и семена </a:t>
            </a: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– не более 0,5 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Настои – </a:t>
            </a: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одные извлечения из частей растений, не имеющих плотных оболо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Готовят ежедневно и сберегают 2-3 су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Настои готовят </a:t>
            </a:r>
            <a:r>
              <a:rPr b="1" i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холодным или горячим способ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929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ИТОТЕРАПИЯ</a:t>
            </a: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56760" y="1928520"/>
            <a:ext cx="82155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едставляет собой раздел клинической медицины, в основе которой лежит применение врачом-специалистом фитосредств с целью лечения и реабилитации больного, а так же профилактики заболева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и </a:t>
            </a:r>
            <a:r>
              <a:rPr b="1" i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холодном способе </a:t>
            </a: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измельченное сырье заливают холодной кипяченой водой и настаивают 4-6 часов в закрытом сосуде, после чего раствор либо кипятят, либо фильтруют через марл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и </a:t>
            </a:r>
            <a:r>
              <a:rPr b="1" i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горячем способе </a:t>
            </a: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лекарственное сырье заливают водой комнатной температуры и нагревают на водяной бане (не кипятят!) 15-20 минут, охлаждают в течение часа и добавляют испарившуюся воду до первоначального объ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Arial"/>
              </a:rPr>
              <a:t>ОТВАРЫ</a:t>
            </a:r>
            <a:endParaRPr b="1" lang="en-US" sz="3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357120" y="121392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Для приготовления отваров используют кору, корни, толстые листья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Растительное сырье заливают холодной кипяченой водой и кипятят на слабом огне или водяной бане, помешивая, 30 мин. Кипятить сырье нужно под закрытой крышкой 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(действующие вещества не испаряются и не разлагают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твары охлаждают 10-15 минут, фильтруют, добавляют испарившуюся воду до первоначального объ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Arial"/>
              </a:rPr>
              <a:t>НАСТОЙКИ</a:t>
            </a:r>
            <a:endParaRPr b="1" lang="en-US" sz="3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57120" y="121392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Настойки – </a:t>
            </a: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жидкие спиртовые или спиртово-водные вытяжки из лекарственных раст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Готовят из расчета 1:5 или 1:10 на 40-70% спирте. Измельченное сырье высыпают в банку, заливают спиртом, герметично закрывают и выдерживают в темном месте при комнатной температуре 7-10 дней, после чего фильтру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4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инимают небольшими дозами </a:t>
            </a:r>
            <a:r>
              <a:rPr b="0" lang="en-US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(по 10-40 капель на прие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Arial"/>
              </a:rPr>
              <a:t>ЭКСТРАКТЫ</a:t>
            </a:r>
            <a:endParaRPr b="1" lang="en-US" sz="3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357120" y="121392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олучают путем выпаривания в закрытой посуде отваров или настоев до половины начального объ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Экстракты удобнее тем, что могут храниться дольше, чем настои и отва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рок хранения зависит от химического состава сырья, но экстракты чаще хранят в холодильн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Arial"/>
              </a:rPr>
              <a:t>МАЗИ</a:t>
            </a:r>
            <a:endParaRPr b="1" lang="en-US" sz="3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286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олучают из водных вытяжек лекарственных растений, чаще используют подземные части раст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пособ приготовления: 50 г измельченного сырья заливают 100 мл воды и готовят настой или отвар, охлаждают, процеживают и добавляют 50 г мазевой основы 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(вазелин, воск, растительное масл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Мази хранят в холодильн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D:\Рисунки\Wallpapers\0229.jpg"/>
          <p:cNvPicPr/>
          <p:nvPr/>
        </p:nvPicPr>
        <p:blipFill>
          <a:blip r:embed="rId1"/>
          <a:stretch/>
        </p:blipFill>
        <p:spPr>
          <a:xfrm>
            <a:off x="285840" y="214200"/>
            <a:ext cx="8485200" cy="6411960"/>
          </a:xfrm>
          <a:prstGeom prst="rect">
            <a:avLst/>
          </a:prstGeom>
          <a:ln w="0">
            <a:noFill/>
          </a:ln>
        </p:spPr>
      </p:pic>
      <p:pic>
        <p:nvPicPr>
          <p:cNvPr id="712" name="Прямоугольник 2" descr=""/>
          <p:cNvPicPr/>
          <p:nvPr/>
        </p:nvPicPr>
        <p:blipFill>
          <a:blip r:embed="rId2"/>
          <a:stretch/>
        </p:blipFill>
        <p:spPr>
          <a:xfrm>
            <a:off x="4591080" y="450720"/>
            <a:ext cx="4168800" cy="14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собенности фитопрепаратов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56760" y="1643040"/>
            <a:ext cx="835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Чаще используются при хроническом проце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Используются для профилактики заболе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бладают незначительной токсич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Редко возникает привык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Можно использовать дл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 одном растении находится много разных   биологически активных веществ, поэтому у фитопрепаратов широкий спектр фармакологической а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бщая характеристика биологически активных веществ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356760" y="1428480"/>
            <a:ext cx="8358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Лечебные свойства лекарственных растений зависят от наличия в них разных химических веществ. Наиболее важными среди них являются биологически активны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Классификация биологически активных веществ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Биологически активные вещества </a:t>
            </a:r>
            <a:r>
              <a:rPr b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ервичного синтеза</a:t>
            </a: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белк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углевод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липид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ермент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рганические кислот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68360" y="124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Биологически активные вещества 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торичного синтеза</a:t>
            </a:r>
            <a:r>
              <a:rPr b="0" lang="en-U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алкалоиды</a:t>
            </a: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гликози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лавонои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ектин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дубильные вещест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итонци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итамин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эфирные масл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929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АЛКАЛОИДЫ</a:t>
            </a: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356760" y="1428480"/>
            <a:ext cx="82155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едставляют собой азотсодержащие органические соеди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Алкалоиды, в которых присутствует кислород – твердые вещества, без кислорода – жид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Алкалоиды есть во всех частях раст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 растениях находятся в виде яблочной, оксалатной, лимонной, щавелевой и др. кисл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 медицине нашли применение такие лекарственные растения, как барбарис обычный, чистотел обычный, листья китайского ч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929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ГЛИКОЗИДЫ</a:t>
            </a: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215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едставляют собой соединение глюкозы с различными веществами (альдегиды, алкалоиды, спирты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Большой интерес представляют </a:t>
            </a:r>
            <a:r>
              <a:rPr b="1" i="1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тиогликозиды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(соединения, в состав которых входит сера) – острые на вкус – в небольшом количестве повышают аппетит, усиливают кровообращение, имеют антимикробные свойства. Содержатся в горчице, редьке капусте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Антрагликозиды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обладают слабительным эффектом – содержаться в крушине, шалфее, ал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Арбутин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(кристаллический гликозид) – содержится  в бруснике, полыни, одуванчике, хмеле, цикории – всасывается в кишечнике, обладает антимикробным, противовоспалительным действием – используют при лечении гастрита, заболеваниях печени и п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929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ЛАВОНОИДЫ</a:t>
            </a: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215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Накапливаются в различных частях растений, встречаются почти во всех растениях </a:t>
            </a:r>
            <a:r>
              <a:rPr b="0" lang="en-US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(наибольшее их содержание в корне солодки, траве пустырника и спорыша, цветах бессмертника, плодах боярышни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лавониды уменьшают действие токсических веществ </a:t>
            </a:r>
            <a:r>
              <a:rPr b="0" lang="en-US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(ягоды крушины, шишки хмеля, плоды шипшины, виноград, смороди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 соединении с аскорбиновой кислотой обладают противовоспалительным действием, уменьшают проницаемость и ломкость капилля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казывают спазмолитическое, ранозаживляющее, бактерицидное, мочегонное, радиозащитное и противоопухолевое дей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лавониды усиливают действие других лекарствен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929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ЕКТИНЫ</a:t>
            </a: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215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едставляют собой полимерные соединения, похожие на слизи. В воде пектины разбухают и образуют коллоидные раств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 большом количестве пектины содержаться в яблоках, лимонах, мандаринах, свекле, смородине, калине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ектины адсорбируют в кишечнике токсины, а так же уменьшают содержание холестерина в крови, усиливают пищева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460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Используют при лечении энтероколита, гастрита, заболеваний печени, мочевыделительной системы, атеросклер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09:15:14Z</dcterms:created>
  <dc:creator>Александр</dc:creator>
  <dc:description/>
  <dc:language>en-US</dc:language>
  <cp:lastModifiedBy>Ирина</cp:lastModifiedBy>
  <dcterms:modified xsi:type="dcterms:W3CDTF">2009-11-23T10:40:34Z</dcterms:modified>
  <cp:revision>982</cp:revision>
  <dc:subject/>
  <dc:title>Презентация PowerPoint</dc:title>
</cp:coreProperties>
</file>