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975-929F-402F-B98A-06874414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A92-F18E-4B01-B000-22E28A64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B60-8858-40EB-8398-776A7FFB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0D3-15E3-40C2-9FAF-F3A8C515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D88-D086-41D1-85E9-C7A1F37C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851F-6A63-4BB2-80E9-EC842F0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88E6-3061-4D5E-904E-BA2192BD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0744-DA39-4D37-BDCF-E5E9591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884-35CA-420E-B753-8FC9AB5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6FD4-495F-4E1B-BBBE-51AA3F12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8A7-4483-4C78-8698-991956CC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A93-E9E1-40A8-9119-2F120722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DF87-08F9-4137-B666-93ED955F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BD4-8B30-4DBF-853E-32DD592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338B-D5C0-45EB-A597-40EE1BA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14D2-0EF6-4880-B114-5F495D64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D455-23FD-4BB1-B5FD-6716D0D5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44C-0DDB-4162-8773-FCC9C2B4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44D-D772-4125-A7FE-77451E2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A24-CA3D-40E0-9CCA-6789C64C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AF5-E417-420A-9D92-1C66E0F0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F9E-82E3-4720-A20D-74A1E855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7D6-ECD8-46B4-BD4B-070FB02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2E9-CD35-45D5-A067-24F52BF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CA75-4FB3-4A3D-A5FF-7CE1B21C4B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7E03-E963-4EBB-848D-2B0AADE8C1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8f8f8"/>
                </a:solidFill>
                <a:latin typeface="AriaX"/>
              </a:rPr>
              <a:t>Жидкое, а не вода,</a:t>
            </a:r>
            <a:br>
              <a:rPr sz="9600"/>
            </a:br>
            <a:r>
              <a:rPr b="1" i="1" lang="ru-RU" sz="9600" spc="-1" strike="noStrike">
                <a:solidFill>
                  <a:srgbClr val="f8f8f8"/>
                </a:solidFill>
                <a:latin typeface="AriaX"/>
              </a:rPr>
              <a:t>Белое, а не снег</a:t>
            </a:r>
            <a:endParaRPr b="1" lang="en-US" sz="9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41964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Выполнила</a:t>
            </a:r>
            <a:r>
              <a:rPr b="0" i="1" lang="en-US" sz="2400" spc="-1" strike="noStrike">
                <a:solidFill>
                  <a:srgbClr val="ffffff"/>
                </a:solidFill>
                <a:latin typeface="AriaX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Никулина Гали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X"/>
              </a:rPr>
              <a:t>МОУ «СОШ №4» г.Энгель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Редкие виды молок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3348000" y="620640"/>
            <a:ext cx="3384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зье молоко.</a:t>
            </a:r>
            <a:endParaRPr b="0" lang="en-US" sz="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17" descr="коза"/>
          <p:cNvPicPr/>
          <p:nvPr/>
        </p:nvPicPr>
        <p:blipFill>
          <a:blip r:embed="rId3"/>
          <a:stretch/>
        </p:blipFill>
        <p:spPr>
          <a:xfrm>
            <a:off x="468360" y="1916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дойка козы"/>
          <p:cNvPicPr/>
          <p:nvPr/>
        </p:nvPicPr>
        <p:blipFill>
          <a:blip r:embed="rId4"/>
          <a:stretch/>
        </p:blipFill>
        <p:spPr>
          <a:xfrm>
            <a:off x="5316480" y="2781360"/>
            <a:ext cx="2565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2411280" y="692280"/>
            <a:ext cx="46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былье молоко.</a:t>
            </a:r>
            <a:endParaRPr b="0" lang="en-US" sz="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8" name="Picture 5" descr="дойка кобылиц"/>
          <p:cNvPicPr/>
          <p:nvPr/>
        </p:nvPicPr>
        <p:blipFill>
          <a:blip r:embed="rId3"/>
          <a:stretch/>
        </p:blipFill>
        <p:spPr>
          <a:xfrm>
            <a:off x="5148360" y="2060640"/>
            <a:ext cx="2736720" cy="2131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кобылица"/>
          <p:cNvPicPr/>
          <p:nvPr/>
        </p:nvPicPr>
        <p:blipFill>
          <a:blip r:embed="rId4"/>
          <a:stretch/>
        </p:blipFill>
        <p:spPr>
          <a:xfrm>
            <a:off x="900000" y="2781360"/>
            <a:ext cx="3743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2268360" y="620640"/>
            <a:ext cx="4751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синое молоко.</a:t>
            </a:r>
            <a:endParaRPr b="0" lang="en-US" sz="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Picture 5" descr="лосиха"/>
          <p:cNvPicPr/>
          <p:nvPr/>
        </p:nvPicPr>
        <p:blipFill>
          <a:blip r:embed="rId3"/>
          <a:stretch/>
        </p:blipFill>
        <p:spPr>
          <a:xfrm>
            <a:off x="2556000" y="1700280"/>
            <a:ext cx="33192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2627280" y="83664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вечье молоко.</a:t>
            </a:r>
            <a:endParaRPr b="0" lang="en-US" sz="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Picture 5" descr="дойка овец 2"/>
          <p:cNvPicPr/>
          <p:nvPr/>
        </p:nvPicPr>
        <p:blipFill>
          <a:blip r:embed="rId3"/>
          <a:stretch/>
        </p:blipFill>
        <p:spPr>
          <a:xfrm>
            <a:off x="324000" y="2421000"/>
            <a:ext cx="3456000" cy="252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дойка овец"/>
          <p:cNvPicPr/>
          <p:nvPr/>
        </p:nvPicPr>
        <p:blipFill>
          <a:blip r:embed="rId4"/>
          <a:stretch/>
        </p:blipFill>
        <p:spPr>
          <a:xfrm>
            <a:off x="4140360" y="2924280"/>
            <a:ext cx="39924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2556000" y="836640"/>
            <a:ext cx="4402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йволиное молоко.</a:t>
            </a:r>
            <a:endParaRPr b="0" lang="en-US" sz="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Picture 5" descr="буйволица"/>
          <p:cNvPicPr/>
          <p:nvPr/>
        </p:nvPicPr>
        <p:blipFill>
          <a:blip r:embed="rId3"/>
          <a:stretch/>
        </p:blipFill>
        <p:spPr>
          <a:xfrm>
            <a:off x="1116000" y="2708280"/>
            <a:ext cx="2808360" cy="2414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ыр моцарелла из молока буйволицы"/>
          <p:cNvPicPr/>
          <p:nvPr/>
        </p:nvPicPr>
        <p:blipFill>
          <a:blip r:embed="rId4"/>
          <a:stretch/>
        </p:blipFill>
        <p:spPr>
          <a:xfrm>
            <a:off x="5319720" y="2924280"/>
            <a:ext cx="2565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Молочные продукты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ные продукты получают при помощ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епарат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7" descr="сепаратор"/>
          <p:cNvPicPr/>
          <p:nvPr/>
        </p:nvPicPr>
        <p:blipFill>
          <a:blip r:embed="rId1"/>
          <a:stretch/>
        </p:blipFill>
        <p:spPr>
          <a:xfrm>
            <a:off x="6084720" y="1268280"/>
            <a:ext cx="2160720" cy="2478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сепаратор 3"/>
          <p:cNvPicPr/>
          <p:nvPr/>
        </p:nvPicPr>
        <p:blipFill>
          <a:blip r:embed="rId2"/>
          <a:stretch/>
        </p:blipFill>
        <p:spPr>
          <a:xfrm>
            <a:off x="1116000" y="1197000"/>
            <a:ext cx="18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Загадки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, густ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лась........   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т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сметана"/>
          <p:cNvPicPr/>
          <p:nvPr/>
        </p:nvPicPr>
        <p:blipFill>
          <a:blip r:embed="rId1"/>
          <a:stretch/>
        </p:blipFill>
        <p:spPr>
          <a:xfrm>
            <a:off x="4788000" y="1557360"/>
            <a:ext cx="392724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468360" y="458136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тана так названа потому, что её сметают – в отличие от сливок, которые слив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исконно русский национальный продукт, знакомый долгое время только жителям нашей страны. За границу она проникла лишь после второй мировой войны. В некоторых странах сметану так и называют  «русскими сливкам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               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475308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ит он на весь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ный, кисленький…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кефир6"/>
          <p:cNvPicPr/>
          <p:nvPr/>
        </p:nvPicPr>
        <p:blipFill>
          <a:blip r:embed="rId1"/>
          <a:stretch/>
        </p:blipFill>
        <p:spPr>
          <a:xfrm>
            <a:off x="5751360" y="404640"/>
            <a:ext cx="3392640" cy="41054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611280" y="2193840"/>
            <a:ext cx="504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но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фи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читается северный склон Кавказского хребта, где у разных племен он существует под различными назва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и кавказских народов существует много легенд о кефире, его происхождении и распространении. Кефирные грибки раньше назывались кефирными зернами. Горцы называли эти зерна «пшеном пророка» и приписывали им божественное происхожд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ачала кефир распространился по всему Кавказу и Крыму, а затем проник в Россию и даже Западную Европ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392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не сливки, не сыр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лый, вкусный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ож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творог"/>
          <p:cNvPicPr/>
          <p:nvPr/>
        </p:nvPicPr>
        <p:blipFill>
          <a:blip r:embed="rId1"/>
          <a:stretch/>
        </p:blipFill>
        <p:spPr>
          <a:xfrm>
            <a:off x="5003640" y="260280"/>
            <a:ext cx="4140360" cy="4249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324000" y="2349360"/>
            <a:ext cx="864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оссии творог появился оч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вно. Уже в IX-X вв. творог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славян продуктом чуть ли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седневного пит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юда из творога долгое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ывались в России сырны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 и сейчас мы говорим, наприм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рники, а не творож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ом производства творог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оссии издавна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товский уезд Ярославской губернии, откуда этот продукт направляли в Москву. В продаже в России был главным образом так называемый сборный творог. Его копили в течение всего великого поста, когда потребление молока в деревне почти прекращалось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Молоко и молочные продукт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280" y="333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жевой наряже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кефир, а 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ж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хний слой моло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имое лакомство к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репка жёл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 всех сторо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больше ды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 лучше 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виды сыра"/>
          <p:cNvPicPr/>
          <p:nvPr/>
        </p:nvPicPr>
        <p:blipFill>
          <a:blip r:embed="rId1"/>
          <a:stretch/>
        </p:blipFill>
        <p:spPr>
          <a:xfrm>
            <a:off x="4284720" y="333360"/>
            <a:ext cx="4500360" cy="4319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826920" y="508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лько лет насчитывает родословна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ы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три столетия, пять, а может, десять? Не будем гадать, а лучше обратимся к одной из многочисленных легенд, рассказывающих о появлении этого замечательного проду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800748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11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уть сметанки в молок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заквасилось он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ят Саш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юбят Даш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Есть на ужи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стокваш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56144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ди каких профессий работают на ферме и что они делают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98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404640"/>
            <a:ext cx="747864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лечит живот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теринар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8" descr="Ветеринар"/>
          <p:cNvPicPr/>
          <p:nvPr/>
        </p:nvPicPr>
        <p:blipFill>
          <a:blip r:embed="rId1"/>
          <a:stretch/>
        </p:blipFill>
        <p:spPr>
          <a:xfrm>
            <a:off x="1547640" y="2060640"/>
            <a:ext cx="6048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3059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доит и ухаживает за ни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я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1" descr="dojarka"/>
          <p:cNvPicPr/>
          <p:nvPr/>
        </p:nvPicPr>
        <p:blipFill>
          <a:blip r:embed="rId1"/>
          <a:stretch/>
        </p:blipFill>
        <p:spPr>
          <a:xfrm>
            <a:off x="2268360" y="2565360"/>
            <a:ext cx="388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49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ухаживает за животны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т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Скотник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разводит животных и ухаживает за ни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оотех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Зоотехник"/>
          <p:cNvPicPr/>
          <p:nvPr/>
        </p:nvPicPr>
        <p:blipFill>
          <a:blip r:embed="rId1"/>
          <a:stretch/>
        </p:blipFill>
        <p:spPr>
          <a:xfrm>
            <a:off x="2556000" y="314172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333360"/>
            <a:ext cx="6767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ейте, дети, молок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удете здоров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девочка с м"/>
          <p:cNvPicPr/>
          <p:nvPr/>
        </p:nvPicPr>
        <p:blipFill>
          <a:blip r:embed="rId1"/>
          <a:stretch/>
        </p:blipFill>
        <p:spPr>
          <a:xfrm>
            <a:off x="5076720" y="3068640"/>
            <a:ext cx="367668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6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Более10 тысяч лет назад первобытные мужчины иногда приносили с охоты детёнышей убитых животных. Их можно было выкормить и приручить. Первым домашним животным стала собака. Потом люди одомашнили свиней, коз, овец и коров. Так люди стали получать молоко.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3" name="Picture 11" descr="для презентации каша молоко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4105080" cy="64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редние века люди употребляли в основном козье и коровье моло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вскоре понял, что доить одну корову выгоднее и быстрее, чем 10 коз. С 1500 года в основном  употребляли коровье моло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m_542i"/>
          <p:cNvPicPr/>
          <p:nvPr/>
        </p:nvPicPr>
        <p:blipFill>
          <a:blip r:embed="rId1"/>
          <a:stretch/>
        </p:blipFill>
        <p:spPr>
          <a:xfrm>
            <a:off x="4788000" y="404640"/>
            <a:ext cx="435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7" name="Picture 4" descr="корова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Как получают молоко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3" descr="доильный аппарат"/>
          <p:cNvPicPr/>
          <p:nvPr/>
        </p:nvPicPr>
        <p:blipFill>
          <a:blip r:embed="rId1"/>
          <a:stretch/>
        </p:blipFill>
        <p:spPr>
          <a:xfrm>
            <a:off x="2771640" y="1484280"/>
            <a:ext cx="338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Из чего состоит молоко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2788920" y="4940280"/>
            <a:ext cx="136692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6245280" y="1844640"/>
            <a:ext cx="1727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6316560" y="5013360"/>
            <a:ext cx="144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204920" y="141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563840" y="6093000"/>
            <a:ext cx="208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5300280"/>
            <a:ext cx="80074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1" descr="j0149627"/>
          <p:cNvPicPr/>
          <p:nvPr/>
        </p:nvPicPr>
        <p:blipFill>
          <a:blip r:embed="rId1"/>
          <a:stretch/>
        </p:blipFill>
        <p:spPr>
          <a:xfrm>
            <a:off x="3348000" y="2852640"/>
            <a:ext cx="2533680" cy="1979640"/>
          </a:xfrm>
          <a:prstGeom prst="rect">
            <a:avLst/>
          </a:prstGeom>
          <a:ln w="0">
            <a:noFill/>
          </a:ln>
        </p:spPr>
      </p:pic>
      <p:sp>
        <p:nvSpPr>
          <p:cNvPr id="119" name="Line 22"/>
          <p:cNvSpPr/>
          <p:nvPr/>
        </p:nvSpPr>
        <p:spPr>
          <a:xfrm flipH="1">
            <a:off x="5884920" y="32846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2356920" y="4940280"/>
            <a:ext cx="136692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V="1">
            <a:off x="5813280" y="1844640"/>
            <a:ext cx="1727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5884920" y="5013360"/>
            <a:ext cx="143964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773280" y="141300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ле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,5-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6605640" y="13399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ры 2,7-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131840" y="6093000"/>
            <a:ext cx="208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1492200" y="623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ки 3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6245280" y="609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там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3797280" y="400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3724200" y="126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 – элемен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фосфор, кальц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732200" y="227664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H="1">
            <a:off x="1996560" y="400536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628560" y="3787920"/>
            <a:ext cx="11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3-89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2284560" y="2276640"/>
            <a:ext cx="122364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8f8f8"/>
                </a:solidFill>
                <a:latin typeface="Arial Black"/>
              </a:rPr>
              <a:t>Определи состав мол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ВКУСНЫЕ И ПОЛЕЗНЫЕ, ОТВЕЧАЮ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 СОСТОЯНИЕ КОЖИ, ЗРЕНИЯ, ИММУНИТ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716360" y="1600200"/>
            <a:ext cx="39704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796000" y="1773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877080" y="1792440"/>
            <a:ext cx="45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6948360" y="2276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804000" y="177336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579600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796000" y="2781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79600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5796000" y="3789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5796000" y="4292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5796000" y="4797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79600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869080" y="1844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5868360" y="234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5868720" y="2852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867280" y="33577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5869080" y="386064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5941440" y="4365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5867280" y="4869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5869080" y="537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611280" y="2421000"/>
            <a:ext cx="35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МАЛЕНЬКИЕ КРУГЛЫЕ ЧАСТИЧКИ, ПРИ ИЗБЫТКЕ ОТКЛАДЫВАЮТСЯ НА ТАЛ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529272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630072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6804000" y="2276640"/>
            <a:ext cx="504720" cy="5029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5365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4454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687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3"/>
          <p:cNvSpPr/>
          <p:nvPr/>
        </p:nvSpPr>
        <p:spPr>
          <a:xfrm>
            <a:off x="611280" y="33577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ЭЛЕМЕНТ, ОТВЕЧАЮЩИЙ ЗА КРЕПОСТЬ КОС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4"/>
          <p:cNvSpPr/>
          <p:nvPr/>
        </p:nvSpPr>
        <p:spPr>
          <a:xfrm>
            <a:off x="529272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5"/>
          <p:cNvSpPr/>
          <p:nvPr/>
        </p:nvSpPr>
        <p:spPr>
          <a:xfrm>
            <a:off x="630072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80400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7308720" y="3284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8"/>
          <p:cNvSpPr/>
          <p:nvPr/>
        </p:nvSpPr>
        <p:spPr>
          <a:xfrm>
            <a:off x="7812000" y="3284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9"/>
          <p:cNvSpPr/>
          <p:nvPr/>
        </p:nvSpPr>
        <p:spPr>
          <a:xfrm>
            <a:off x="8317080" y="3284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5489280" y="337644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6425640" y="3376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6929640" y="3376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7433640" y="337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8010000" y="3376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8441640" y="3376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395280" y="40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ТРОИТЕЛЬНЫЙ МАТЕРИАЛ ОРГАНИЗМ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7"/>
          <p:cNvSpPr/>
          <p:nvPr/>
        </p:nvSpPr>
        <p:spPr>
          <a:xfrm>
            <a:off x="4788000" y="3789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4788000" y="4292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9"/>
          <p:cNvSpPr/>
          <p:nvPr/>
        </p:nvSpPr>
        <p:spPr>
          <a:xfrm>
            <a:off x="4788000" y="4797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0"/>
          <p:cNvSpPr/>
          <p:nvPr/>
        </p:nvSpPr>
        <p:spPr>
          <a:xfrm>
            <a:off x="478800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1"/>
          <p:cNvSpPr/>
          <p:nvPr/>
        </p:nvSpPr>
        <p:spPr>
          <a:xfrm>
            <a:off x="4788000" y="580536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2"/>
          <p:cNvSpPr/>
          <p:nvPr/>
        </p:nvSpPr>
        <p:spPr>
          <a:xfrm>
            <a:off x="4912920" y="3881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3"/>
          <p:cNvSpPr/>
          <p:nvPr/>
        </p:nvSpPr>
        <p:spPr>
          <a:xfrm>
            <a:off x="4932360" y="429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4"/>
          <p:cNvSpPr/>
          <p:nvPr/>
        </p:nvSpPr>
        <p:spPr>
          <a:xfrm>
            <a:off x="4912920" y="4889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5"/>
          <p:cNvSpPr/>
          <p:nvPr/>
        </p:nvSpPr>
        <p:spPr>
          <a:xfrm>
            <a:off x="4913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6"/>
          <p:cNvSpPr/>
          <p:nvPr/>
        </p:nvSpPr>
        <p:spPr>
          <a:xfrm>
            <a:off x="4913280" y="58975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57"/>
          <p:cNvSpPr/>
          <p:nvPr/>
        </p:nvSpPr>
        <p:spPr>
          <a:xfrm>
            <a:off x="395280" y="4581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СЛАДКИЙ И ВКУСНЫЙ – ИСТОЧНИК ЭНЕРГ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8"/>
          <p:cNvSpPr/>
          <p:nvPr/>
        </p:nvSpPr>
        <p:spPr>
          <a:xfrm>
            <a:off x="529272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9"/>
          <p:cNvSpPr/>
          <p:nvPr/>
        </p:nvSpPr>
        <p:spPr>
          <a:xfrm>
            <a:off x="428472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378000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61"/>
          <p:cNvSpPr/>
          <p:nvPr/>
        </p:nvSpPr>
        <p:spPr>
          <a:xfrm>
            <a:off x="3276720" y="5300640"/>
            <a:ext cx="50472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2"/>
          <p:cNvSpPr/>
          <p:nvPr/>
        </p:nvSpPr>
        <p:spPr>
          <a:xfrm>
            <a:off x="2771640" y="5300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3"/>
          <p:cNvSpPr/>
          <p:nvPr/>
        </p:nvSpPr>
        <p:spPr>
          <a:xfrm>
            <a:off x="2268360" y="5300640"/>
            <a:ext cx="50508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4"/>
          <p:cNvSpPr/>
          <p:nvPr/>
        </p:nvSpPr>
        <p:spPr>
          <a:xfrm>
            <a:off x="2393640" y="539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5"/>
          <p:cNvSpPr/>
          <p:nvPr/>
        </p:nvSpPr>
        <p:spPr>
          <a:xfrm>
            <a:off x="2897280" y="539280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3401640" y="5392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7"/>
          <p:cNvSpPr/>
          <p:nvPr/>
        </p:nvSpPr>
        <p:spPr>
          <a:xfrm>
            <a:off x="3905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8"/>
          <p:cNvSpPr/>
          <p:nvPr/>
        </p:nvSpPr>
        <p:spPr>
          <a:xfrm>
            <a:off x="4410360" y="53928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9"/>
          <p:cNvSpPr/>
          <p:nvPr/>
        </p:nvSpPr>
        <p:spPr>
          <a:xfrm>
            <a:off x="5417640" y="5392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0"/>
          <p:cNvSpPr/>
          <p:nvPr/>
        </p:nvSpPr>
        <p:spPr>
          <a:xfrm>
            <a:off x="5849640" y="174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1"/>
          <p:cNvSpPr/>
          <p:nvPr/>
        </p:nvSpPr>
        <p:spPr>
          <a:xfrm>
            <a:off x="5273640" y="2322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2"/>
          <p:cNvSpPr/>
          <p:nvPr/>
        </p:nvSpPr>
        <p:spPr>
          <a:xfrm>
            <a:off x="5344920" y="325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3"/>
          <p:cNvSpPr/>
          <p:nvPr/>
        </p:nvSpPr>
        <p:spPr>
          <a:xfrm>
            <a:off x="4768560" y="3835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4"/>
          <p:cNvSpPr/>
          <p:nvPr/>
        </p:nvSpPr>
        <p:spPr>
          <a:xfrm>
            <a:off x="2249280" y="5346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Свойства молок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им из 113 замечательных свойств молока является его способность к сквашиванию. Вроде бы испорченный продукт через некоторое время вдруг приобретает совершенно новый вкус и приятный аромат. Люди давно заметили это свойство молока и употребили его себе во благо. Русские издавна готовят простоквашу и варенец, грузины — мацони, казахи — кумыс, украинцы — ряженку, болгары — йогурт — все это кисло-молочные продукты. Их ассортимент у разных народов настолько широк, что и не перечисл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20:02:00Z</dcterms:created>
  <dc:creator>Иван</dc:creator>
  <dc:description/>
  <dc:language>en-US</dc:language>
  <cp:lastModifiedBy>Пользователь</cp:lastModifiedBy>
  <dcterms:modified xsi:type="dcterms:W3CDTF">2015-12-16T10:52:05Z</dcterms:modified>
  <cp:revision>14</cp:revision>
  <dc:subject/>
  <dc:title>Молоко и молочные продукты</dc:title>
</cp:coreProperties>
</file>