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camera.wav" ContentType="audio/x-wav"/>
  <Override PartName="/ppt/media/image2.png" ContentType="image/png"/>
  <Override PartName="/ppt/media/image10.wmf" ContentType="image/x-wmf"/>
  <Override PartName="/ppt/media/image12.jpeg" ContentType="image/jpeg"/>
  <Override PartName="/ppt/media/cashreg.wav" ContentType="audio/x-wav"/>
  <Override PartName="/ppt/media/image8.wmf" ContentType="image/x-wmf"/>
  <Override PartName="/ppt/media/image11.wmf" ContentType="image/x-wmf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05E5-3AA3-4952-BA36-ABD9684AD1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D51B-A04B-4064-8B28-F24EA90DE3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B62D-4835-41BA-B92C-E012ADBBCC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E7A-01EC-4655-90F3-F5DEF06C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AB5-B547-4669-9488-62825442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9E10B-F4EA-4564-8487-E953D9AF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04377-AD85-4C23-ACDF-596AE791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686C6-6C7F-4C5E-A114-E08F10FF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31FCA-5B3D-4FD4-8F41-1D4BB421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D60B6-D02E-48CF-87BE-1A42EF4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28857-2B7A-4E28-9701-7BC6B8B4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4636E-B69A-4548-A4EC-A63B3A7D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E5F42-7126-46E7-84CC-A6573C3F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5707A-A7B1-4053-9BEF-8E2B25C0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27A68-4696-4F3A-8A6E-4A9CE634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3E4-6674-454B-B288-13A33AD4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3EEE1-3780-4448-B96F-7901F3A3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C0AE8-DA60-493E-89B3-1734CA00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388B7-7C11-4E07-9D10-3FD1D45B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0B8D1-8350-4626-91E5-24C6B2D5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56332-F190-499C-AB6B-BD878F72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FDA9A-3DC0-40EF-B313-FB3B5FD3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72F9A-4BA7-41B8-B4A6-A316B124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2FFDD-B24B-4E86-A54E-B346202C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21546-A2D9-4A6B-BF30-B532F29C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E5B78-E45D-4EF3-9C17-B42E782B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130-406B-46BE-9D20-AFECB952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BC136-00E0-46A7-B48F-F1131CCF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2CC94-CC2F-40FC-A185-853D0E81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871C7-EB22-4699-99CE-0146B6AD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71D00-B06E-47C5-9A6E-53A35117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B1435-2F73-4BDE-9DD8-F27F15AB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7801F-813F-4CAB-8344-3A315EE7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0CC21-4A5B-433D-BA6C-30C66FE3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8F177-6257-470B-B865-48270D81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39CBF-CDDC-4010-8D1E-6829DCD5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E98B8-82AA-4725-BF3A-6906A427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362D-D378-4321-995F-F69ED241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5A8BE-D564-4951-99A4-94292E9D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14D74-3999-4E21-8088-FC832532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B646A-F031-47C4-94C9-96089290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6455D-FFBB-48F5-A851-138D8227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46F60-F13F-440B-B6D2-DE295E7E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F02E7-315D-46D5-ADE6-4876FDA8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55F70-A006-46FA-A78C-983389B2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E40B5-F067-4AD2-8420-27FF9233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202B2-FA72-469A-820A-307936ED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DA9AC-73BF-48A4-9143-C3C73EDE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5CEE-6F15-4B72-8F1A-BDA619E8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83AB4-845A-4AC3-A94D-378562B6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9A33D-5CF8-433A-AAD0-E55C40D6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1A866-B8F5-41BC-95F4-4AC2EABC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10EC5-F32C-4A95-9EAC-6A13E9F2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EC61B-9438-4DBE-BC83-45DDC4FD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9C9F-383E-425C-9C4F-B653D309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FBA9-DC88-46CF-8682-63DA8A5B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4939-10B5-4789-86E9-3697B78F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0874-09B7-4C5C-869E-C2DEB44E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1ABF-D484-429E-AA73-F0C40607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38E-D471-4990-83F2-5C731894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3158-6FAA-4F0D-AF94-45FCE017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C078-C5CE-4542-AA16-ABDC715D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47F4-F487-4B2B-89F3-7E0C9ECD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AFDA-863E-48EE-A22B-3CBE7FD6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F43C-1D81-44A7-8251-114BC78E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0F6F8-57FA-40B0-99A5-7B8B2C5B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9CF43-7233-488C-8343-D1EC56E4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0DCE-B2C6-4CDA-A7FD-A03734FB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46C3A-3233-40E7-A8B4-12F4F533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4A4C6-2D69-490C-9A96-CD21EF85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22B-BADE-4F5B-A87F-91719C1A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E7D2-ED99-4FF8-BD80-59E11CA3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ED1C-CCD7-4912-B013-86387816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E8AE6-4B0D-485E-8DB4-2DDBC979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586D6-F335-4F3B-B04F-F6E60EE0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A870B-69B8-4E7D-B186-16F71144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08F9-129D-4BB1-BDDC-3456077E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0F79-684E-45DE-A3E3-E71AABB1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986D8-DD1F-4EAB-9D5F-6E64E49E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F5AA6-48DF-4256-8E78-BD740E3E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5E46F-6953-4B3C-A127-F4C3236D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143-77A1-4877-A45D-70C5E118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AB59-F55F-447E-812B-9C4331F8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E8A7-ED5C-46B4-A695-8D618E5D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7AA22-6115-4E5F-A634-EC3F044F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015AC-1F9C-4382-A153-256E13F6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E75ED-CE5A-4473-8B0B-3A359FE7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E755-4501-4888-A3B3-85A838DE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B57B1-6C38-4913-BE51-3EB79C74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78D5-1F6B-4D2F-A757-68AD87E4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5C1A6-DB7D-4C2E-9A6A-B426A024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7B01E-A24E-4FD8-B0DB-749F453A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0DD-9D63-4825-A54C-D66D70AE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1E2B3-564D-42D3-9341-31B5F0A5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DEAE5-6689-4814-99B7-32726460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4211D-8C07-4C07-81DE-44741A92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A774C-AB88-4339-BEB4-5302EE96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87CEB-E7E3-47C9-94F9-1BB8DFAC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952E5-770F-4749-9EC1-9FF6D4D3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D3327-E2B8-4D23-B23B-EF93B4E1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AADC5-65E4-41F5-8C6E-059AF2C2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5FB96-48C2-4265-930D-5584B7D1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5047C-3A9F-4A95-81CA-EB2281B9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6C1-ECA5-419A-AD38-3C80B62B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18230-0DEA-431D-9F6D-4A5F7DBD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78442-8B33-473F-88D5-ED629CCB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9B4A5-0326-4FC2-8AB7-FD1FB256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C9B3C-2366-408C-B871-C7A1C08B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FD79D-E5FF-444B-BB89-F7FD08D7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990D0-7A55-41B3-8AAD-BD8DFC9D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0300-3A9B-4739-9D6A-CBDB8BA6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BEEF2-8098-409D-9583-E27F677E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FFE2A-02DA-4198-8476-1DBB75A8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1EEA3-ADC7-4D38-9804-AD76C481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880-DB09-4991-B452-0444A715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C3771-B0B0-4B4C-8D5B-ACAB1704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DD322-C30C-4497-9E71-0A05FDEC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73EB6-94C0-4BE6-B639-6C9FE6E8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CF47A-8056-4663-9555-C7598EF3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961F8-60AC-4F08-A860-E987CE8F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661A2-9F77-4B5E-B23B-AAD2915B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7627B-DBE1-4364-BB28-97E4E96D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7BB2F-B254-45A2-B75C-7E4F65A6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DCB2A-0156-4AA5-9DB7-C63EA3EA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EE254-6E9D-420A-B3D8-A6657D55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D99-1998-4CA2-982D-E6919BDC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684FA-9D2F-4FF1-849E-FD660E1C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C74DF-AE3A-44B2-A496-F2C37D2F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E1635-9733-4C68-B542-8CBF17B7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7BFBB-5CA0-4DC5-A2A3-A792809A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D513E-D04B-496E-9E2D-FCB85F34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FFF21-CD77-4618-B6C7-147A6E51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11EDC-CF4F-4509-90B2-B30FCC39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BC5A1-88C6-4790-A5B5-FB573FD7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1C1CF-208F-4319-9A92-698586C1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B4E62-DFFA-453C-A59C-80C20203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5EC-77CB-4477-854F-9C348FFB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BAE76-88E2-4B94-8F27-B4CC5127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6A50A-E9CC-4590-805B-5701ABCD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A1CF6-4FB4-4C62-8B02-95F058DC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1BC3B-8432-4231-BFDE-428C92B3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3F842-E6B3-4DDE-B7DF-22F15320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D40E6-AC1E-44D9-9FDA-D1E0A532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0964B-FC81-470E-A3B0-D6594E41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8EF23-10EA-4B46-BF58-6E4CD73A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FAB2B-701D-4D6C-8446-B4E5B1A3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8F13E-5420-4416-8953-E8E554D6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4948-47E3-4CA2-A23B-D8023E77973A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21E6-454C-4732-BBEE-C33D30C862D8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67B3-77D5-4333-90B5-780CFD768BB7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4A7F-4233-4BB0-AA6D-3E46E2DD23CB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4F89-0658-4600-A002-2B4C318ED5BE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C7BD-9749-4857-99F4-98E12A89E838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256C-D5B4-4C30-A13B-2DA74C078B07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C671-D5FD-4C93-B6E6-7DB1CB830760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BFF4-D78B-45B7-8B77-39A60A14EE64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5371-F4DC-444B-8FB4-308685FFA96C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07E7-C2E5-484F-9F1C-3062FEAD0AD0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F579-A7BB-43BD-8B3B-2E6C5D1CC806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828440" y="159984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82400"/>
                </a:solidFill>
                <a:latin typeface="Trebuchet MS"/>
              </a:rPr>
              <a:t>     </a:t>
            </a:r>
            <a:r>
              <a:rPr b="1" lang="ru-RU" sz="6000" spc="-1" strike="noStrike">
                <a:solidFill>
                  <a:srgbClr val="ff0000"/>
                </a:solidFill>
                <a:latin typeface="Century Gothic"/>
              </a:rPr>
              <a:t>СПИД –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entury Gothic"/>
              </a:rPr>
              <a:t>чума </a:t>
            </a:r>
            <a:r>
              <a:rPr b="1" lang="en-US" sz="6000" spc="-1" strike="noStrike">
                <a:solidFill>
                  <a:srgbClr val="ff0000"/>
                </a:solidFill>
                <a:latin typeface="Century Gothic"/>
              </a:rPr>
              <a:t>XXI</a:t>
            </a:r>
            <a:r>
              <a:rPr b="1" lang="ru-RU" sz="6000" spc="-1" strike="noStrike">
                <a:solidFill>
                  <a:srgbClr val="ff0000"/>
                </a:solidFill>
                <a:latin typeface="Century Gothic"/>
              </a:rPr>
              <a:t> века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75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ВИЧ инфекция не передаются</a:t>
            </a: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оцелу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использовании одной посудой с инфицирован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чиха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рез туа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рез укус насеком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бассей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Группы риска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мосексуалис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ком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ди, часто меняющие половых партне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ди, занимающиеся проституц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4" descr="Untitled-1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Гарантия безопасности от СПИДа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оровый образ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пость брачных уз и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4" descr="PE02622_"/>
          <p:cNvPicPr/>
          <p:nvPr/>
        </p:nvPicPr>
        <p:blipFill>
          <a:blip r:embed="rId1"/>
          <a:stretch/>
        </p:blipFill>
        <p:spPr>
          <a:xfrm>
            <a:off x="5791320" y="4743360"/>
            <a:ext cx="3047760" cy="2114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BD06529_"/>
          <p:cNvPicPr/>
          <p:nvPr/>
        </p:nvPicPr>
        <p:blipFill>
          <a:blip r:embed="rId2"/>
          <a:stretch/>
        </p:blipFill>
        <p:spPr>
          <a:xfrm>
            <a:off x="762120" y="2206800"/>
            <a:ext cx="243828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3"/>
          <p:cNvSpPr/>
          <p:nvPr/>
        </p:nvSpPr>
        <p:spPr>
          <a:xfrm>
            <a:off x="1295280" y="1600200"/>
            <a:ext cx="6248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ица, склонные к гомосексуальным связям , наркомании, должны понять, что такого рода привычки становятся пагубными уже не только для их здоровья, но я для жизни окружающ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ПИД-синдром приобретенного иммунодефицита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демическое заболевание человека, поражающее преимущественно его иммунную систему, защищающую организм от различных болезнетворных аг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ействие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оявляется этот синдром в развитии злокачественных образований и инфекционных болезней, причем организм становится беззащитным по отношению к микробам, которые в обычных условиях болезней не вызываю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990720" y="16002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первые СПИД был официально зарегистрирован в США в 1981 году,а уже через 15 лет количество инфицированных составило 29,4 млн. человек, при этом 6,4 млн. уже умерл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татистика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Возбудитель болезни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 иммунодефицита человека (ВИЧ), который обладает уникальной способностью к изменчивости, которая в 5 раз превышает вирус гриппа и в 100 раз больше, вирус гепатита 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Untitled-2"/>
          <p:cNvPicPr/>
          <p:nvPr/>
        </p:nvPicPr>
        <p:blipFill>
          <a:blip r:embed="rId1"/>
          <a:srcRect l="7498" t="7270" r="45001" b="5559"/>
          <a:stretch/>
        </p:blipFill>
        <p:spPr>
          <a:xfrm>
            <a:off x="0" y="2438280"/>
            <a:ext cx="4197240" cy="44197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"/>
          <p:cNvSpPr/>
          <p:nvPr/>
        </p:nvSpPr>
        <p:spPr>
          <a:xfrm>
            <a:off x="60948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рус иммунодефицита человека (ВИЧ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419720" y="914400"/>
            <a:ext cx="472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Ядро капсулы вируса содержит генетический материал РНК и три фермента, которые способствуют дублированию РНК при проникновении в соседнюю клет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7"/>
          <p:cNvSpPr/>
          <p:nvPr/>
        </p:nvSpPr>
        <p:spPr>
          <a:xfrm flipH="1">
            <a:off x="2514600" y="1676520"/>
            <a:ext cx="1905120" cy="213336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4952880" y="29718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Капсулы , выполняющие роль «связных» между клет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11"/>
          <p:cNvSpPr/>
          <p:nvPr/>
        </p:nvSpPr>
        <p:spPr>
          <a:xfrm flipH="1">
            <a:off x="3885840" y="3505320"/>
            <a:ext cx="1066680" cy="53316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5486400" y="434340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ротеиновая капсула вируса. В наружную мембрану встроены рецепторные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3"/>
          <p:cNvSpPr/>
          <p:nvPr/>
        </p:nvSpPr>
        <p:spPr>
          <a:xfrm flipV="1">
            <a:off x="3429000" y="4800240"/>
            <a:ext cx="2133720" cy="15228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60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оражающий фактор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 СПИДа поражает самое важное звено иммунного ответа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-лимфоци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 котором может жить, не обнаруживая себя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 5-7 л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инкубационный период), но иногда проявляется в виде увеличения лимфатических уз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3"/>
          <p:cNvSpPr/>
          <p:nvPr/>
        </p:nvSpPr>
        <p:spPr>
          <a:xfrm>
            <a:off x="685800" y="457200"/>
            <a:ext cx="2057400" cy="1373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падание какой-либо инф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5410080" y="457200"/>
            <a:ext cx="2743200" cy="94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изация вируса СП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990720" y="2514600"/>
            <a:ext cx="2895480" cy="1373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ительное размножение вируса СП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5486400" y="2438280"/>
            <a:ext cx="27432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ничтож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-лимфоц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1295280" y="4724280"/>
            <a:ext cx="6629400" cy="180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ажение нервной системы, которое выражается в различных заболеваниях(менингит, энцефалит и слабоум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2743200" y="106668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2"/>
          <p:cNvSpPr/>
          <p:nvPr/>
        </p:nvSpPr>
        <p:spPr>
          <a:xfrm flipH="1">
            <a:off x="3047760" y="1447920"/>
            <a:ext cx="281916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3"/>
          <p:cNvSpPr/>
          <p:nvPr/>
        </p:nvSpPr>
        <p:spPr>
          <a:xfrm>
            <a:off x="3886200" y="32004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4"/>
          <p:cNvSpPr/>
          <p:nvPr/>
        </p:nvSpPr>
        <p:spPr>
          <a:xfrm flipH="1">
            <a:off x="4952520" y="3657600"/>
            <a:ext cx="17528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Пути инфицирования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ловым пут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 совместном  использовании медицинского инструментария (шприцов, игл) лицами , потребляющими наркотики внутривен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 ВИЧ-инфицированной женщины к ее ребенку во время беременности, при рождении или во время грудного вскармли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 пересадке органов и тка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донорской спермы и кров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6"/>
          <a:stretch/>
        </p:blipFill>
        <p:spPr>
          <a:xfrm>
            <a:off x="762120" y="412920"/>
            <a:ext cx="1600200" cy="113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4:02:21Z</dcterms:created>
  <dc:creator>Маргарита</dc:creator>
  <dc:description/>
  <dc:language>en-US</dc:language>
  <cp:lastModifiedBy>Жаркова Юлия Анатольевна</cp:lastModifiedBy>
  <dcterms:modified xsi:type="dcterms:W3CDTF">2015-03-17T11:20:52Z</dcterms:modified>
  <cp:revision>18</cp:revision>
  <dc:subject/>
  <dc:title>СПИД –  чума XX века</dc:title>
</cp:coreProperties>
</file>