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camera.wav" ContentType="audio/x-wav"/>
  <Override PartName="/ppt/media/image2.png" ContentType="image/png"/>
  <Override PartName="/ppt/media/image10.wmf" ContentType="image/x-wmf"/>
  <Override PartName="/ppt/media/image12.jpeg" ContentType="image/jpeg"/>
  <Override PartName="/ppt/media/cashreg.wav" ContentType="audio/x-wav"/>
  <Override PartName="/ppt/media/image8.wmf" ContentType="image/x-wmf"/>
  <Override PartName="/ppt/media/image11.wmf" ContentType="image/x-wmf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B68F-EC83-4AB6-A2C7-3625A3CAF8C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E53B-2E6F-4EC5-8A41-811281A806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BCBDB-E2BA-4F3D-8DCA-A92E36F3A4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79CD-6BE8-4ACF-A175-F9D214B63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E265-A6FA-4BCE-AFBC-B695B263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43E27B-BCBA-4F75-A105-A13E6EE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B40B8-48D0-4EA5-992B-17FD0D0E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85EF8-D671-4667-9B32-D9640847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75D41F-010A-46D4-80F0-7CC70D76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B51164-672E-4045-877B-2C66D12D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BCC7F-9FD8-4E2F-848F-FEA1B94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28D6F-465E-4FD2-AC80-190F6404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34B53-5563-41B5-87AF-68E6122B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C4C23-116C-4CF5-AA1F-6A133C50F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367B2-DF44-436E-853C-E9EB70F2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5FD7-DEC7-47C1-80C9-6332374D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1DFD6-5F6B-46E0-B0BA-ECC9BFB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1AE5-F4D9-4758-A1E7-92EB0882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0B2C2-9489-42C3-94D5-85288A6C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9F255E-5359-462B-AC9D-337F1D3F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0F118-0609-49EA-9923-776AF9F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87458-94EA-4E7D-963B-6C2D3022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669D26-04AE-4982-B953-73E409A5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AA97A-55E6-4CD9-B4AC-03A87C0F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86F250-512D-463E-B395-219C852D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E6E5E-237F-4C9C-9CC8-C5D57DEB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DD0-5D53-432A-A007-C99BC7AF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7D9B73-EEAD-458F-99B8-99FEE829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7CF7F-F624-4741-93FB-BD40667D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A0B560-A123-47C1-80A2-0486417E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5A23A-EB04-4037-AE69-6D0729D5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3DC03-1366-4F58-9F65-83C5A03C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626FC-9DC2-4A81-91C4-C68A6F76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EDF62-0F65-4ED8-BB0C-5CA0A528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B344-BE23-49C1-8CE1-232E66C9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F60139-BB34-4C9D-868C-91167EDE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FC8D-EA13-4D01-ACCE-798AE65F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02A1B-C0DA-4425-A636-678FA364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C64FB2-724A-4A00-905B-DC03BC01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DE610-9097-4220-8E0B-87FB69D5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2DF3A-C83D-4839-8A96-D376211B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8A6ACD-572E-456C-9CDB-C38DA613C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C8A7C-4D20-40E4-93DD-4D06F8C09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1F910-065A-4F43-8FD1-9D7EB94C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58901-66CD-4478-8317-7D8FAC8B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FED71C-CD98-486D-9DBB-43925E6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8EF14-4B30-4E8B-ABA5-E9BF2CD6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C88B2-4113-4D12-8F2A-DFC592A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2A698-C449-4054-8D95-8C962A21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3ACF7-3E23-4C8B-99D4-D8DD005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5CC5D2-DBAB-4325-A3BB-CA365D2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E7BFA5-C008-48D5-94BB-DFAF31DB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1B05EC-7D2D-41F0-A988-EB21A148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C40AC-DA2F-48C9-8F7E-A3FB25F8F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2FE0-925F-4C04-81AB-99D63BC2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C027-3763-4391-9212-CC5B9A78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1934-1BE7-420D-B839-1C3D010E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25FB-9CC6-4F63-891F-89A97366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0AA4-1CE4-4FBF-B7ED-B8C7EA0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593-6F7E-4607-A6BB-EEE30A6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46B-D803-4C08-A8FE-CE0AD90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E655-F20F-4F6D-A4D0-94072276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428E-518E-4E3F-B57F-43D0A340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0EF8-E74C-402C-BD23-74850920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1AF9-A1AF-4670-BA38-A78F44EF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A6A3-0211-4B30-97AC-0685F11A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2007-CB54-44C9-9B58-B57EE65E1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84072-EEB2-40E7-B973-A8427CD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A7906-53B6-4CCB-9E37-F603361F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8BA72-8D7D-48DF-AEA1-53BF2E51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1BA-932F-4D6F-B4B7-A9DF9B80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C1BEF-B813-46F1-B395-C319CA6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1F87-497B-4A0C-A61F-D95B80CC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7789D-33AA-43FE-AB3F-A151A2B0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425EC-07E8-4D00-870F-610F64211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E55A-2694-4B12-9AD3-655A9350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2B0E2-7AE0-4F0D-9FFB-1F42D4AD4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DBD5-08F2-43E7-85D9-42C72F606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624A-3F74-4E30-8A3B-12522D6ED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F1AFB6-62CE-4A42-AF56-C1D5ED66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FF788-9157-4FAE-9CDE-F133C64F6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1C37-5B14-44F2-843A-DA516051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D3BF1-F5DF-4FFC-BEB9-41BB1A93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A46B17-9250-450B-8BC5-062E3DCB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4F6A-544A-4417-B53C-FC0FD70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1CBFB-ACC6-43DB-B1BD-89E49F4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46068-07FE-4B0A-96BD-07B318DF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FB545-248E-410C-A9E4-FF699807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8FAE7-CEB7-4DBF-B542-C3BDA4C7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915C9-1E5A-400B-B60B-B3BC1727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97359-5E1F-4DEA-BF2E-DB1AFFED6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72465-65FE-431D-AF0A-D48EA141B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E2D2-FCC3-435A-A8B1-BD1B8156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B7983-3662-49B8-BED1-5AF91D9F3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9F7285-B96C-4491-8BEE-1B5BDD0E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F6155-94CA-4855-963B-94F6B75B6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2A32B-46B2-4CD9-9452-068C5D5C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6C307-2A95-4239-B024-800E88E1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10F4-C92D-47D5-B30B-216397DA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072A2-5415-408D-AA6D-9C1FF6C2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85775-3802-4439-990B-77D6372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F8E5F-31FF-4EB6-B2FA-C3314D10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72C2-9EEA-4746-AB51-5356E8B0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1A70-DDD9-47AD-AF57-C28B9891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298AF-833B-4329-81E3-53CFF9139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34FBA-F76E-4B3E-BE61-3CFCB98D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6C9D7-D197-46F6-9841-80C4F29D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8EC7A0-4D1F-436C-BCB8-D3A5466A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8EBA-3647-4E8D-BFE3-D9B21592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DA5C0-9B87-44FD-B2AE-29A02D41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4557A-FB65-412B-8F24-2F4F9AF7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33493C-9F0A-48E1-9091-1DE61311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B065E-66A6-4B11-BD07-5E0140C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5BD33-0651-4EDF-B633-2E44196A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818A-0788-47C0-9A48-FBADF575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6398A-8AEE-44DB-8365-AE5AC2A5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CBB98-E4D0-4087-96FA-2917DB638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B926A-7074-4232-B888-B1CA8FD3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7E124-2601-4D4B-BAA9-C9806E57A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66D6F-F909-4FDF-AE7A-C095ACBD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DB3B4-77EE-4021-B297-BF48A37D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E1AA-61F0-4C38-9867-CFB58104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1778F-68A2-4F5C-8634-38F86D1DC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7B1FE8-3486-4F53-97F5-28F8630F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610FE-92F5-48A4-A228-8B925CBA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32B0-8EA3-4C42-917D-33A4A711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DF5B0-9B60-47E1-9CE8-60924C76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743EC-B693-4467-8EE2-3E426F36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3523C-1B13-4690-B067-F382F7F9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003AB-A007-45E6-BDC7-3E64FDA4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D51B1-A8A2-4460-8A1E-C787F1B62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9C7DE-0A0F-4C8E-91F6-1AF8F79A5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D6835-9A97-450C-B685-BAABED57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C79B-BCC4-4F53-818E-5CD269D0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837E-6820-4768-95A8-377682CD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79932-7B30-4272-8FA7-6589E6FF7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3759-A2C8-4207-98F4-681A2CA1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E8219-A993-47C2-B66C-3E9A15DF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49FD74-D685-4A90-A321-47931EEF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73993-2F66-4EFF-A934-BEECC76A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D67E5-8C2F-43D6-B2DE-16C1DDBE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64DEA-5CF9-4D37-B427-B3267A2F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479FC-8DCE-4EB4-AF81-40DF9726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5A992-9477-4E2F-843B-18197052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0D17D-99AC-4862-AB7F-10B84E7D7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CE16A-578F-464D-9CFA-76B3EC14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B82DD-A5A4-4820-8410-0314288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4F12-F546-481A-B03A-8AFD2A86279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AC4E-E58F-4140-98A0-DC56F54F4F87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721-00BD-42E8-98A7-4E0FA82BDE75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4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5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4C0A-B65B-4217-A71C-CE3B83CCF12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07CA-25A6-4BD8-A033-DC631353D6C4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A4E1-02C1-40E6-860A-DAD347CA2F7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18B2-CB52-49BB-9894-A29D85A852DE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50559-898A-44D9-AB00-E2BEB2E39C14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CE2A-40C2-4AB9-B1D2-FA3D63F14EFC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132E-0B1A-4F83-8D6F-E670B4AD2FDF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D7C30-B0F7-425E-9AB8-B8A0E549D4B9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1EB0-5C45-4C49-8304-5A4C88BE1DF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828440" y="1599840"/>
            <a:ext cx="5715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82400"/>
                </a:solidFill>
                <a:latin typeface="Trebuchet MS"/>
              </a:rPr>
              <a:t>     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СПИД –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чума </a:t>
            </a:r>
            <a:r>
              <a:rPr b="1" lang="en-US" sz="6000" spc="-1" strike="noStrike">
                <a:solidFill>
                  <a:srgbClr val="ff0000"/>
                </a:solidFill>
                <a:latin typeface="Century Gothic"/>
              </a:rPr>
              <a:t>XXI</a:t>
            </a:r>
            <a:r>
              <a:rPr b="1" lang="ru-RU" sz="6000" spc="-1" strike="noStrike">
                <a:solidFill>
                  <a:srgbClr val="ff0000"/>
                </a:solidFill>
                <a:latin typeface="Century Gothic"/>
              </a:rPr>
              <a:t> века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75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ИЧ инфекция не передаются</a:t>
            </a:r>
            <a:r>
              <a:rPr b="0" lang="ru-RU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оцелу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использовании одной посудой с инфицированны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чихан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туа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рез укус насеком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ассей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руппы риска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мосексуалис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ркоман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, часто меняющие половых партне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ди, занимающиеся проституци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5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5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2" name="Picture 4" descr="Untitled-1"/>
          <p:cNvPicPr/>
          <p:nvPr/>
        </p:nvPicPr>
        <p:blipFill>
          <a:blip r:embed="rId1"/>
          <a:stretch/>
        </p:blipFill>
        <p:spPr>
          <a:xfrm>
            <a:off x="1066680" y="380880"/>
            <a:ext cx="73152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Гарантия безопасности от СПИД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доровый образ жи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репость брачных уз и семь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4" descr="PE02622_"/>
          <p:cNvPicPr/>
          <p:nvPr/>
        </p:nvPicPr>
        <p:blipFill>
          <a:blip r:embed="rId1"/>
          <a:stretch/>
        </p:blipFill>
        <p:spPr>
          <a:xfrm>
            <a:off x="5791320" y="4743360"/>
            <a:ext cx="3047760" cy="2114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5" descr="BD06529_"/>
          <p:cNvPicPr/>
          <p:nvPr/>
        </p:nvPicPr>
        <p:blipFill>
          <a:blip r:embed="rId2"/>
          <a:stretch/>
        </p:blipFill>
        <p:spPr>
          <a:xfrm>
            <a:off x="762120" y="2206800"/>
            <a:ext cx="2438280" cy="193356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3"/>
          <p:cNvSpPr/>
          <p:nvPr/>
        </p:nvSpPr>
        <p:spPr>
          <a:xfrm>
            <a:off x="1295280" y="1600200"/>
            <a:ext cx="62485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ица, склонные к гомосексуальным связям , наркомании, должны понять, что такого рода привычки становятся пагубными уже не только для их здоровья, но я для жизни окружающи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609120" y="1904760"/>
            <a:ext cx="853452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Д-синдром приобретенного иммунодефицита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пидемическое заболевание человека, поражающее преимущественно его иммунную систему, защищающую организм от различных болезнетворных аген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Действие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Проявляется этот синдром в развитии злокачественных образований и инфекционных болезней, причем организм становится беззащитным по отношению к микробам, которые в обычных условиях болезней не вызываю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4"/>
          <p:cNvSpPr/>
          <p:nvPr/>
        </p:nvSpPr>
        <p:spPr>
          <a:xfrm>
            <a:off x="990720" y="1600200"/>
            <a:ext cx="784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первые СПИД был официально зарегистрирован в США в 1981 году,а уже через 15 лет количество инфицированных составило 29,4 млн. человек, при этом 6,4 млн. уже умерли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Статистика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Возбудитель болезни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, который обладает уникальной способностью к изменчивости, которая в 5 раз превышает вирус гриппа и в 100 раз больше, вирус гепатита 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3" descr="Untitled-2"/>
          <p:cNvPicPr/>
          <p:nvPr/>
        </p:nvPicPr>
        <p:blipFill>
          <a:blip r:embed="rId1"/>
          <a:srcRect l="7498" t="7270" r="45001" b="5559"/>
          <a:stretch/>
        </p:blipFill>
        <p:spPr>
          <a:xfrm>
            <a:off x="0" y="2438280"/>
            <a:ext cx="4197240" cy="44197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4"/>
          <p:cNvSpPr/>
          <p:nvPr/>
        </p:nvSpPr>
        <p:spPr>
          <a:xfrm>
            <a:off x="609480" y="3049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ирус иммунодефицита человека (ВИЧ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419720" y="914400"/>
            <a:ext cx="4724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Ядро капсулы вируса содержит генетический материал РНК и три фермента, которые способствуют дублированию РНК при проникновении в соседнюю клетк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7"/>
          <p:cNvSpPr/>
          <p:nvPr/>
        </p:nvSpPr>
        <p:spPr>
          <a:xfrm flipH="1">
            <a:off x="2514600" y="1676520"/>
            <a:ext cx="1905120" cy="21333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4952880" y="29718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Капсулы , выполняющие роль «связных» между клетк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Line 11"/>
          <p:cNvSpPr/>
          <p:nvPr/>
        </p:nvSpPr>
        <p:spPr>
          <a:xfrm flipH="1">
            <a:off x="3885840" y="3505320"/>
            <a:ext cx="1066680" cy="53316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5486400" y="434340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Times New Roman"/>
              </a:rPr>
              <a:t>Протеиновая капсула вируса. В наружную мембрану встроены рецепторные образ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13"/>
          <p:cNvSpPr/>
          <p:nvPr/>
        </p:nvSpPr>
        <p:spPr>
          <a:xfrm flipV="1">
            <a:off x="3429000" y="4800240"/>
            <a:ext cx="2133720" cy="152280"/>
          </a:xfrm>
          <a:prstGeom prst="line">
            <a:avLst/>
          </a:prstGeom>
          <a:ln w="414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60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75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75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7900"/>
                            </p:stCondLst>
                            <p:childTnLst>
                              <p:par>
                                <p:cTn id="8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Поражающий фактор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рус СПИДа поражает самое важное звено иммунного ответа –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Т-лимфоци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в котором может жить, не обнаруживая себя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о 5-7 л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инкубационный период), но иногда проявляется в виде увеличения лимфатических уз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0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3"/>
          <p:cNvSpPr/>
          <p:nvPr/>
        </p:nvSpPr>
        <p:spPr>
          <a:xfrm>
            <a:off x="685800" y="457200"/>
            <a:ext cx="205740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падание какой-либо инфе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7"/>
          <p:cNvSpPr/>
          <p:nvPr/>
        </p:nvSpPr>
        <p:spPr>
          <a:xfrm>
            <a:off x="5410080" y="457200"/>
            <a:ext cx="274320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ивизация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8"/>
          <p:cNvSpPr/>
          <p:nvPr/>
        </p:nvSpPr>
        <p:spPr>
          <a:xfrm>
            <a:off x="990720" y="2514600"/>
            <a:ext cx="2895480" cy="1373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ительное размножение вируса СП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9"/>
          <p:cNvSpPr/>
          <p:nvPr/>
        </p:nvSpPr>
        <p:spPr>
          <a:xfrm>
            <a:off x="5486400" y="2438280"/>
            <a:ext cx="2743200" cy="1169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ничтоже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-лимфоци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1295280" y="4724280"/>
            <a:ext cx="6629400" cy="1800360"/>
          </a:xfrm>
          <a:prstGeom prst="rect">
            <a:avLst/>
          </a:prstGeom>
          <a:noFill/>
          <a:ln w="44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ражение нервной системы, которое выражается в различных заболеваниях(менингит, энцефалит и слабоумие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2743200" y="1066680"/>
            <a:ext cx="26668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12"/>
          <p:cNvSpPr/>
          <p:nvPr/>
        </p:nvSpPr>
        <p:spPr>
          <a:xfrm flipH="1">
            <a:off x="3047760" y="1447920"/>
            <a:ext cx="281916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3"/>
          <p:cNvSpPr/>
          <p:nvPr/>
        </p:nvSpPr>
        <p:spPr>
          <a:xfrm>
            <a:off x="3886200" y="3200400"/>
            <a:ext cx="16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4"/>
          <p:cNvSpPr/>
          <p:nvPr/>
        </p:nvSpPr>
        <p:spPr>
          <a:xfrm flipH="1">
            <a:off x="4952520" y="3657600"/>
            <a:ext cx="175284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imes New Roman"/>
              </a:rPr>
              <a:t>Пути инфицирования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ловым путе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совместном  использовании медицинского инструментария (шприцов, игл) лицами , потребляющими наркотики внутривен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т ВИЧ-инфицированной женщины к ее ребенку во время беременности, при рождении или во время грудного вскармли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и пересадке органов и тка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донорской спермы и кро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4" descr=""/>
          <p:cNvPicPr/>
          <p:nvPr/>
        </p:nvPicPr>
        <p:blipFill>
          <a:blip r:embed="rId6"/>
          <a:stretch/>
        </p:blipFill>
        <p:spPr>
          <a:xfrm>
            <a:off x="762120" y="412920"/>
            <a:ext cx="1600200" cy="11300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5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5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4:02:21Z</dcterms:created>
  <dc:creator>Маргарита</dc:creator>
  <dc:description/>
  <dc:language>en-US</dc:language>
  <cp:lastModifiedBy>Жаркова Юлия Анатольевна</cp:lastModifiedBy>
  <dcterms:modified xsi:type="dcterms:W3CDTF">2015-03-17T11:20:52Z</dcterms:modified>
  <cp:revision>18</cp:revision>
  <dc:subject/>
  <dc:title>СПИД –  чума XX века</dc:title>
</cp:coreProperties>
</file>