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AE93-5AF2-4033-8A2D-3815EBC7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BB65-740B-4A7A-AC44-C39E69B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6D57-5C7F-4F27-8BD6-349854A9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A3AB-09FC-41CD-9AE7-FEA5B899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9C5D-0B2B-4545-AB63-D100968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282E-2F16-42F7-89EF-590B8679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E027-2898-4EDA-9F07-E0EC9E2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8C7F-C7A5-44F5-B6D0-E6C29C4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44AD-60CD-44C2-AA36-D118B4F1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583-237E-4483-B32F-11DF4EE7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7D6B-C3FE-4ECD-B4D1-8493B59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1597-9EB1-4C7B-ADAC-6711DB0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9CE-0526-4CC7-A8A0-C96C124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C23-4B8D-404E-8336-3D41653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95DB-2ABA-4679-BD0F-526660D0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E48-D963-4BB9-9E80-1987563E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935C-A468-44B0-82A4-6C04A100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F62A-4BCE-4ED9-8897-533BD09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6568-51F2-430B-969D-27C29DF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6320-3F3C-4C3C-94BB-C7274C9C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8B5D-981F-4D70-8CC2-8439255E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0396-AEE7-437B-ABB2-D95954B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B519-D1BD-42B9-A618-71DB04C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38B7-16A6-44B5-86AC-D90A414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2F9-5831-4E27-B06E-9C592662B3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6697-09D6-4323-8B4E-FABF58C88F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52640" y="1773000"/>
            <a:ext cx="8091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обенности адаптации молодого специалиста в производственном коллектив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Интегрированным субъективным показателем успешной трудовой адаптации можно считать общую удовлетворенность работника трудом, морально-психологическим климатом в коллективе. В процессе производственной адаптации не последнее место занимает личностный потенциал работника. Необходимо по-настоящему использовать свой опыт и делать выводы на будущее. В частности, по всем этим критериям можно судить и об уровне адап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Первые дни в новом коллекти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Любой коллектив имеет свои законы, которые уже сложились до прихода молодого человека и работают по своей определенной схеме. Чем быстрее молодой сотрудник поймет законы своего нового коллектива, отношения внутри него, тем быстрее произойдет его профессиональная адаптация. Кроме того, проявляя интерес к работе коллег, молодой специалист сможет завоевать определенное доверие к себе и приобретет профессиональный опы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В условиях вхождения в новый коллектив, на перв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Проявление интереса к делам коллег, вступление в обсуждение проблем коллектива, и не только профессиональных, вежливость и доброжелательность - все это создаст благоприятное впечатление о молодом работнике, покажет, что он заинтересован в общем деле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4360" y="1989000"/>
            <a:ext cx="287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оит противопоставлять себя коллектив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овать в контакте с коллег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готовым оказать и принять помощь от сотру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43280" y="2133720"/>
            <a:ext cx="40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необходимо молодому сотруднику постараться не ставить себя на ступеньку ниже остальных работников, а попробовать решать профессиональные проблемы вместе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5400000">
            <a:off x="4318200" y="513360"/>
            <a:ext cx="433440" cy="8280360"/>
          </a:xfrm>
          <a:custGeom>
            <a:avLst/>
            <a:gdLst>
              <a:gd name="textAreaLeft" fmla="*/ 0 w 433440"/>
              <a:gd name="textAreaRight" fmla="*/ 156600 w 433440"/>
              <a:gd name="textAreaTop" fmla="*/ 215640 h 8280360"/>
              <a:gd name="textAreaBottom" fmla="*/ 8064720 h 828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Освоение новой работ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Адаптация проходит быстрее и успешнее, если правильно выбрана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entury Gothic"/>
              </a:rPr>
              <a:t>Определенной формой такой работы является профессиональный отбо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2852640"/>
            <a:ext cx="7078680" cy="21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Выбор профессии поддается управлению путем целенаправленного формирования личных намерений и интересов у молодежи с учетом социально-экономических потребностей общества и приведением в соответствие стремлений, личных планов молодежи с возможностями их реал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entury Gothic"/>
              </a:rPr>
              <a:t>Продолжительность периода адаптации зависит от ряда причи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 характера новичка и особенностей лич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ости нович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а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а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й и особенностей коллект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сихологического климата коллекти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и и стратегии развития компа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й модели принятой в компа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и непосредственного начальн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ей ваших подчин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entury Gothic"/>
              </a:rPr>
              <a:t>Новичку можно составить личный план адаптации, который условно может содержать самые общие действия и принцип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накомиться с историей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конечные продукты компании: ассортимент, товары или услу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омство с руководством компании, подчиненными, ключевыми работниками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планы и перспективы развития компании в целом и отдельного подразде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омство с географической «зоной ответственности», где находится рабочее место нович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тить особое внимание на социально-психологические особенности личностей соседей по офис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систему опла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щательно изучить должностную инструк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ально организовать свое рабочее место и рабочее врем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ить до необходимого уровня особенности технологий применяемых в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аться не противопоставлять себя корпоративному уровню и привычкам, принятым в компа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ать личные установки на доброжелательные, длительные отношения с коллег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ривыкание человека к новой трудовой среде проявляется в его реальном поведении, в эффективности труда, росте профессиональной активности, удовлетворенности различными сторонами труд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5400000">
            <a:off x="4212360" y="45000"/>
            <a:ext cx="431640" cy="7920000"/>
          </a:xfrm>
          <a:custGeom>
            <a:avLst/>
            <a:gdLst>
              <a:gd name="textAreaLeft" fmla="*/ 0 w 431640"/>
              <a:gd name="textAreaRight" fmla="*/ 155880 w 431640"/>
              <a:gd name="textAreaTop" fmla="*/ 206280 h 7920000"/>
              <a:gd name="textAreaBottom" fmla="*/ 7713720 h 79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ущность и структура трудовой адапт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3036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ая на работу, человек активно включается в систему профессиональных отношений конкретной трудовой организации, усваивает новые для него социальные роли и нормы, согласовывает свою индивидуальную позицию с целями и задачами организации, тем самым, подчиняя свое поведение служебным предписаниям данного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32000" y="1916280"/>
            <a:ext cx="6624720" cy="1923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удовая адаптация - это социальный процесс освоения личностью новой трудовой ситуации, в котором личность и трудовая среда оказывают активное воздействие друг на друга и являются адаптивно-адаптирующими сист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и поступлении на работу человек уже имеет определенные цели и ценностные ориентации поведения, в соответствии с которыми формирует свои требования к предприятию, а оно исходя из своих целей и задач предъявляет свои требования к работнику, к его трудовому пове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уя свои требования, работник и предприятие взаимодействуют, приспосабливаются друг к другу, в результате чего осуществляется процесс трудовой адапт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Таким образом, трудовая адаптация - двусторонний процесс между личностью и новой для нее социально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Адаптированность человека к конкретной трудовой среде проявляется в его реальном поведении, в конкретных показателях трудовой деятельност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и тру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воении социальной информации и ее практической реализ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е всех видов актив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и различными сторонам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21077400">
            <a:off x="608436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рудовая 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ет быть перви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и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55640" y="4797360"/>
            <a:ext cx="7777080" cy="126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имеет сложную структуру и представляет собой единство профессиональной, социально-психологической, общественно-организационной, культурно-бытовой и психофизической адапт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635280" y="1628640"/>
            <a:ext cx="4870440" cy="7038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ервоначальном вхождении работника в производственную с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564000" y="3068640"/>
            <a:ext cx="5040360" cy="100872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мене рабочего места без смены и со сменой профессии или при существенных изменениях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843280" y="170028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2771640" y="328464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процессе адаптации работник проходит 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ознаком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которой работник получает информацию о новой ситуации в целом, о критериях оценки различных действий, об эталонах, нормах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приспособ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этом этапе работник переориентируется, признавая главные элементы новой системы ценностей, но пока продолжает сохранять многие свои у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тадия ассимиля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существляется полное приспособление к среде, идентификация с новой груп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50920" y="1989000"/>
            <a:ext cx="504720" cy="1441440"/>
          </a:xfrm>
          <a:custGeom>
            <a:avLst/>
            <a:gdLst>
              <a:gd name="textAreaLeft" fmla="*/ 67320 w 504720"/>
              <a:gd name="textAreaRight" fmla="*/ 437400 w 50472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280" y="3860640"/>
            <a:ext cx="576360" cy="1513080"/>
          </a:xfrm>
          <a:custGeom>
            <a:avLst/>
            <a:gdLst>
              <a:gd name="textAreaLeft" fmla="*/ 77040 w 576360"/>
              <a:gd name="textAreaRight" fmla="*/ 499320 w 57636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идентификации различают три категории работ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различ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 идентифицирован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идентифициров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Ядро любой трудовой организации составляют п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Comic Sans MS"/>
              </a:rPr>
              <a:t>олностью идентифицированные работники.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 конечные результаты такой трудовой организации всегда высоки. Скорость адаптации зависит от многих факто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pipls"/>
          <p:cNvPicPr/>
          <p:nvPr/>
        </p:nvPicPr>
        <p:blipFill>
          <a:blip r:embed="rId1"/>
          <a:stretch/>
        </p:blipFill>
        <p:spPr>
          <a:xfrm>
            <a:off x="5076720" y="2997360"/>
            <a:ext cx="3289320" cy="11937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мальный срок адаптации для разных категорий работников составляет от 1 года до 3 лет.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Самым важным этапом адаптации можно назвать период от одного до трех месяце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 правило, он совпадает с испытательным сроком в компании. В это время новичок осваивает новую деятельность, знакомится с коллективом. У него появляется психологическая готовность овладеть необходимыми навыками, быть на уровне предъявляемых профессиональных требова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_59_5914_1191303421"/>
          <p:cNvPicPr/>
          <p:nvPr/>
        </p:nvPicPr>
        <p:blipFill>
          <a:blip r:embed="rId1"/>
          <a:stretch/>
        </p:blipFill>
        <p:spPr>
          <a:xfrm>
            <a:off x="6084720" y="3933720"/>
            <a:ext cx="2603520" cy="2648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1332000" y="3933720"/>
            <a:ext cx="4174920" cy="243252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 войти в трудовую организацию (коллектив), адаптироваться в ней вызывает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явление производственной и социальной дез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Факторы трудовой адапт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Объектив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в меньшей степени зависят от работника (уровень организации труда, автоматизации производственных процессов, размер коллектив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К </a:t>
            </a:r>
            <a:r>
              <a:rPr b="0" i="1" lang="ru-RU" sz="2000" spc="-1" strike="noStrike">
                <a:solidFill>
                  <a:srgbClr val="660033"/>
                </a:solidFill>
                <a:latin typeface="Arial"/>
              </a:rPr>
              <a:t>субъективны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ально-демографические характеристики работника (пол, возраст, образование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ально-психологические (уровень притязаний, готовность трудиться, практичность, способности самоконтроля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социологические (степень профессионального интерес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116000" y="1341360"/>
            <a:ext cx="6732720" cy="1165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кторы трудовой адаптации - это условия, влияющие на течение, сроки, темны и результаты этого процесса. Среди них можно выделить как объективные, так и субъективны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4:17:37Z</dcterms:created>
  <dc:creator>Заплатникова М.В.</dc:creator>
  <dc:description/>
  <dc:language>en-US</dc:language>
  <cp:lastModifiedBy>Admin</cp:lastModifiedBy>
  <dcterms:modified xsi:type="dcterms:W3CDTF">2010-10-12T15:57:51Z</dcterms:modified>
  <cp:revision>4</cp:revision>
  <dc:subject/>
  <dc:title>Особенности адаптации молодого специалиста в производственном коллективе.</dc:title>
</cp:coreProperties>
</file>