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C95A-2FCA-456F-8FFE-B9C70FBB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62BA-3BCE-4290-8EB7-8999555D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947E-3FD3-4B40-8304-EB801260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198E-413A-4C3F-9D99-5A487717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E76F-764E-4402-96DB-C67506A0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7E3A-CEF4-47F7-B5BB-D6C014C8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65B8-5687-4262-8109-F902FF1F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3705-29FA-4687-B353-0F0AF118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EEE4-D5CD-4A83-B420-CE828B6C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82C4-90B3-43B3-B940-BDDE2E76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5712-2A69-4A90-A14A-179BE32D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DB78D-FEED-4B6A-9254-FDC613D9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45C1-A424-4CBC-86B7-339D019B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D80D-3BEF-448A-96F0-061B6F23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E095-C9C8-4D7A-979E-9FCF55A7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5092-5549-4C5A-BD1F-5DFA213C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AAA2-6E31-45E5-84B9-7C8146CE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538D-1214-489B-926E-FC78831B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9FB7-E482-4C15-923C-A0D04EA4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8652-8571-42BD-A08C-D02D3D61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DECD-449B-460E-A743-60D3F987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883F-617A-4198-A7BF-DD2733D6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E6224-01D3-43F5-8ECD-E0A47338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836A-4972-4F03-A3BE-CC4B1863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EE65-9A1A-4340-821A-4F7EBCF553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58DB-6BAB-42B0-B93E-54C741FC5B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52640" y="1773000"/>
            <a:ext cx="8091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5256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обенности адаптации молодого специалиста в производственном коллективе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Интегрированным субъективным показателем успешной трудовой адаптации можно считать общую удовлетворенность работника трудом, морально-психологическим климатом в коллективе. В процессе производственной адаптации не последнее место занимает личностный потенциал работника. Необходимо по-настоящему использовать свой опыт и делать выводы на будущее. В частности, по всем этим критериям можно судить и об уровне адап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Первые дни в новом коллектив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64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Любой коллектив имеет свои законы, которые уже сложились до прихода молодого человека и работают по своей определенной схеме. Чем быстрее молодой сотрудник поймет законы своего нового коллектива, отношения внутри него, тем быстрее произойдет его профессиональная адаптация. Кроме того, проявляя интерес к работе коллег, молодой специалист сможет завоевать определенное доверие к себе и приобретет профессиональный опы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В условиях вхождения в новый коллектив, на первом эта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501336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Проявление интереса к делам коллег, вступление в обсуждение проблем коллектива, и не только профессиональных, вежливость и доброжелательность - все это создаст благоприятное впечатление о молодом работнике, покажет, что он заинтересован в общем деле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4360" y="1989000"/>
            <a:ext cx="2879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оит противопоставлять себя коллектив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овать в контакте с коллег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 готовым оказать и принять помощь от сотруд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43280" y="2133720"/>
            <a:ext cx="403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необходимо молодому сотруднику постараться не ставить себя на ступеньку ниже остальных работников, а попробовать решать профессиональные проблемы вместе с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 rot="5400000">
            <a:off x="4318200" y="513360"/>
            <a:ext cx="433440" cy="8280360"/>
          </a:xfrm>
          <a:custGeom>
            <a:avLst/>
            <a:gdLst>
              <a:gd name="textAreaLeft" fmla="*/ 0 w 433440"/>
              <a:gd name="textAreaRight" fmla="*/ 156600 w 433440"/>
              <a:gd name="textAreaTop" fmla="*/ 215640 h 8280360"/>
              <a:gd name="textAreaBottom" fmla="*/ 8064720 h 828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Освоение новой работ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Gothic"/>
              </a:rPr>
              <a:t>Адаптация проходит быстрее и успешнее, если правильно выбрана професс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Gothic"/>
              </a:rPr>
              <a:t>Определенной формой такой работы является профессиональный отбор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187280" y="2852640"/>
            <a:ext cx="7078680" cy="21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Выбор профессии поддается управлению путем целенаправленного формирования личных намерений и интересов у молодежи с учетом социально-экономических потребностей общества и приведением в соответствие стремлений, личных планов молодежи с возможностями их реал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entury Gothic"/>
              </a:rPr>
              <a:t>Продолжительность периода адаптации зависит от ряда причин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 характера новичка и особенностей лич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ности нович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а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лифик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а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й и особенностей коллекти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сихологического климата коллекти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ссии и стратегии развития компан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ческой модели принятой в компа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и непосредственного начальн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ей ваших подчине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entury Gothic"/>
              </a:rPr>
              <a:t>Новичку можно составить личный план адаптации, который условно может содержать самые общие действия и принцип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знакомиться с историей компа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ить конечные продукты компании: ассортимент, товары или услуг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омство с руководством компании, подчиненными, ключевыми работниками компа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ить планы и перспективы развития компании в целом и отдельного подраздел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омство с географической «зоной ответственности», где находится рабочее место нович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ратить особое внимание на социально-психологические особенности личностей соседей по офис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0" y="1916280"/>
            <a:ext cx="9144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ить систему опла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щательно изучить должностную инструкц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имально организовать свое рабочее место и рабочее врем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ить до необходимого уровня особенности технологий применяемых в компа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раться не противопоставлять себя корпоративному уровню и привычкам, принятым в компа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ботать личные установки на доброжелательные, длительные отношения с коллег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ривыкание человека к новой трудовой среде проявляется в его реальном поведении, в эффективности труда, росте профессиональной активности, удовлетворенности различными сторонами трудо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rot="5400000">
            <a:off x="4212360" y="45000"/>
            <a:ext cx="431640" cy="7920000"/>
          </a:xfrm>
          <a:custGeom>
            <a:avLst/>
            <a:gdLst>
              <a:gd name="textAreaLeft" fmla="*/ 0 w 431640"/>
              <a:gd name="textAreaRight" fmla="*/ 155880 w 431640"/>
              <a:gd name="textAreaTop" fmla="*/ 206280 h 7920000"/>
              <a:gd name="textAreaBottom" fmla="*/ 7713720 h 79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Сущность и структура трудовой адапт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23036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упая на работу, человек активно включается в систему профессиональных отношений конкретной трудовой организации, усваивает новые для него социальные роли и нормы, согласовывает свою индивидуальную позицию с целями и задачами организации, тем самым, подчиняя свое поведение служебным предписаниям данного пред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32000" y="1916280"/>
            <a:ext cx="6624720" cy="1923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удовая адаптация - это социальный процесс освоения личностью новой трудовой ситуации, в котором личность и трудовая среда оказывают активное воздействие друг на друга и являются адаптивно-адаптирующими систе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при поступлении на работу человек уже имеет определенные цели и ценностные ориентации поведения, в соответствии с которыми формирует свои требования к предприятию, а оно исходя из своих целей и задач предъявляет свои требования к работнику, к его трудовому повед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я свои требования, работник и предприятие взаимодействуют, приспосабливаются друг к другу, в результате чего осуществляется процесс трудовой адапт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Таким образом, трудовая адаптация - двусторонний процесс между личностью и новой для нее социальной ср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Адаптированность человека к конкретной трудовой среде проявляется в его реальном поведении, в конкретных показателях трудовой деятельност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и тру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воении социальной информации и ее практической реализ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е всех видов актив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и различными сторонами трудов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 rot="21077400">
            <a:off x="608436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рудовая адапт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ет быть первич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и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55640" y="4797360"/>
            <a:ext cx="7777080" cy="1263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имеет сложную структуру и представляет собой единство профессиональной, социально-психологической, общественно-организационной, культурно-бытовой и психофизической адапт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635280" y="1628640"/>
            <a:ext cx="4870440" cy="7038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ервоначальном вхождении работника в производственную сре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564000" y="3068640"/>
            <a:ext cx="5040360" cy="100872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мене рабочего места без смены и со сменой профессии или при существенных изменениях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2843280" y="1700280"/>
            <a:ext cx="576360" cy="360360"/>
          </a:xfrm>
          <a:custGeom>
            <a:avLst/>
            <a:gdLst>
              <a:gd name="textAreaLeft" fmla="*/ 90000 w 576360"/>
              <a:gd name="textAreaRight" fmla="*/ 504360 w 57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2771640" y="3284640"/>
            <a:ext cx="576360" cy="360360"/>
          </a:xfrm>
          <a:custGeom>
            <a:avLst/>
            <a:gdLst>
              <a:gd name="textAreaLeft" fmla="*/ 90000 w 576360"/>
              <a:gd name="textAreaRight" fmla="*/ 504360 w 57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процессе адаптации работник проходит 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тадия ознаком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которой работник получает информацию о новой ситуации в целом, о критериях оценки различных действий, об эталонах, нормах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тадия приспособ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этом этапе работник переориентируется, признавая главные элементы новой системы ценностей, но пока продолжает сохранять многие свои устан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тадия ассимиля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существляется полное приспособление к среде, идентификация с новой групп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50920" y="1989000"/>
            <a:ext cx="504720" cy="1441440"/>
          </a:xfrm>
          <a:custGeom>
            <a:avLst/>
            <a:gdLst>
              <a:gd name="textAreaLeft" fmla="*/ 67320 w 504720"/>
              <a:gd name="textAreaRight" fmla="*/ 437400 w 504720"/>
              <a:gd name="textAreaTop" fmla="*/ 252000 h 1441440"/>
              <a:gd name="textAreaBottom" fmla="*/ 104508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9280" y="3860640"/>
            <a:ext cx="576360" cy="1513080"/>
          </a:xfrm>
          <a:custGeom>
            <a:avLst/>
            <a:gdLst>
              <a:gd name="textAreaLeft" fmla="*/ 77040 w 576360"/>
              <a:gd name="textAreaRight" fmla="*/ 499320 w 57636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характеру идентификации различают три категории работник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различ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чно идентифицированны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стью идентифициров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Ядро любой трудовой организации составляют п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Comic Sans MS"/>
              </a:rPr>
              <a:t>олностью идентифицированные работники.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И конечные результаты такой трудовой организации всегда высоки. Скорость адаптации зависит от многих фактор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pipls"/>
          <p:cNvPicPr/>
          <p:nvPr/>
        </p:nvPicPr>
        <p:blipFill>
          <a:blip r:embed="rId1"/>
          <a:stretch/>
        </p:blipFill>
        <p:spPr>
          <a:xfrm>
            <a:off x="5076720" y="2997360"/>
            <a:ext cx="3289320" cy="11937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рмальный срок адаптации для разных категорий работников составляет от 1 года до 3 лет.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Самым важным этапом адаптации можно назвать период от одного до трех месяцев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к правило, он совпадает с испытательным сроком в компании. В это время новичок осваивает новую деятельность, знакомится с коллективом. У него появляется психологическая готовность овладеть необходимыми навыками, быть на уровне предъявляемых профессиональных требова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0_59_5914_1191303421"/>
          <p:cNvPicPr/>
          <p:nvPr/>
        </p:nvPicPr>
        <p:blipFill>
          <a:blip r:embed="rId1"/>
          <a:stretch/>
        </p:blipFill>
        <p:spPr>
          <a:xfrm>
            <a:off x="6084720" y="3933720"/>
            <a:ext cx="2603520" cy="26481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1332000" y="3933720"/>
            <a:ext cx="4174920" cy="243252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мение войти в трудовую организацию (коллектив), адаптироваться в ней вызывает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явление производственной и социальной дез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Факторы трудовой адапт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Объектив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акторы, которые в меньшей степени зависят от работника (уровень организации труда, автоматизации производственных процессов, размер коллектива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К 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субъективны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оциально-демографические характеристики работника (пол, возраст, образование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оциально-психологические (уровень притязаний, готовность трудиться, практичность, способности самоконтроля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оциологические (степень профессионального интереса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116000" y="1341360"/>
            <a:ext cx="6732720" cy="1165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кторы трудовой адаптации - это условия, влияющие на течение, сроки, темны и результаты этого процесса. Среди них можно выделить как объективные, так и субъективны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4:17:37Z</dcterms:created>
  <dc:creator>Заплатникова М.В.</dc:creator>
  <dc:description/>
  <dc:language>en-US</dc:language>
  <cp:lastModifiedBy>Admin</cp:lastModifiedBy>
  <dcterms:modified xsi:type="dcterms:W3CDTF">2010-10-12T15:57:51Z</dcterms:modified>
  <cp:revision>4</cp:revision>
  <dc:subject/>
  <dc:title>Особенности адаптации молодого специалиста в производственном коллективе.</dc:title>
</cp:coreProperties>
</file>