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587-0239-4C60-BD1C-290BE6BE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B4B-3C8C-427D-96B1-E733BFD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55-214A-49D0-BE81-524275C7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690-5F69-4DB4-B870-AE02591E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5BC-7603-4303-B5AA-2C327EA5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8BA-C95A-4920-9E5D-66182A7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5BCE-EB78-4F53-A570-68E0B94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480-A446-4DCE-AF38-744427F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8EED-B2A0-415F-9ACE-0E9153A8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338-3F2D-4327-AC5A-D3104DA5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1FF-82B7-422B-A504-70970D9E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496-76E6-46DC-B7A1-A31C74F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A0B5-E383-42E8-A3A8-7695112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9A3-7F1E-4F25-BA90-F26DB7C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F2F-CD1C-4F45-8018-01128F8E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FDC-7781-4783-8DEF-9AB13CA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C74-DC2F-4B92-BFDC-94AE4105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995-BD26-4DB5-809A-29F90916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AFB-2DEF-47C5-B60D-DC466AE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534-9169-41C0-A7FC-748B761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719-004C-4BEA-A4FF-A92BFA8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4B3-3E5F-4083-ACAB-2F2770D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797-48F6-4739-9F66-E4AF745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976-496A-445C-9497-9931C5A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0CD-E9E5-48A1-8082-4DD4F4EBBF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CE0-3840-4D1A-A96A-FDE8649D693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drey-rublev.ru/andrey-rublev-5.php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Андрей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Рубле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638680" y="3635280"/>
            <a:ext cx="312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2065320" cy="3124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3505320" y="4494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хангел Михаил из деисусного чина, 141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266920" cy="6705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2"/>
          <p:cNvSpPr/>
          <p:nvPr/>
        </p:nvSpPr>
        <p:spPr>
          <a:xfrm>
            <a:off x="2209680" y="567000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матерь, 1408, Цикл икон деисусного чина иконостаса Успенского собора во Владимир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1"/>
          <p:cNvSpPr/>
          <p:nvPr/>
        </p:nvSpPr>
        <p:spPr>
          <a:xfrm>
            <a:off x="5181480" y="548712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ригорий Богослов, 1408. Цикл икон деисусного чина иконостаса Успенского собора во Владимир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130480" cy="6477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720" y="64904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оанн Предтеча, 140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2743200" y="0"/>
            <a:ext cx="209880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666880" y="6155640"/>
            <a:ext cx="228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Андрей Первозванный, 1408. Цикл икон деисусного чина иконостаса Успенского собора во Владимир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4876920" y="0"/>
            <a:ext cx="216684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4953960" y="297108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лаговещение, 1405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4"/>
          <a:stretch/>
        </p:blipFill>
        <p:spPr>
          <a:xfrm>
            <a:off x="7215120" y="0"/>
            <a:ext cx="1928880" cy="3048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7499520" y="3123360"/>
            <a:ext cx="164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еображение, первая четверть XV века. ГТГ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5"/>
          <a:stretch/>
        </p:blipFill>
        <p:spPr>
          <a:xfrm>
            <a:off x="5562720" y="3581280"/>
            <a:ext cx="2333520" cy="2895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5716800" y="649044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вятая Троица, 1410-е. ГТ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ремя жизни Андрея Рублева совпадает с переломным моментом в освободительной борьбе русского народа против татаро-монгольского ига. Творчество прославленного иконописца знаменует важную веху в истории русского искусства. С его именем связано возникновение художественного направления, на многие десятилетия определившего развитие русской живопис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шедшие до нас исторические свидетельства о жизни и творчестве Андрея Рублева крайне бедны хронологическими данными и во многом противоречат друг другу. Бесспорным лишь два сообщения, фигурирующие в летописях под 1405 и 1408 года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895480" y="0"/>
            <a:ext cx="22291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5105520" y="5122800"/>
            <a:ext cx="1371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оанн Златоуст, 1408. Цикл икон деисусного чина иконостаса Успенского собора во Владими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4" descr=""/>
          <p:cNvPicPr/>
          <p:nvPr/>
        </p:nvPicPr>
        <p:blipFill>
          <a:blip r:embed="rId2"/>
          <a:stretch/>
        </p:blipFill>
        <p:spPr>
          <a:xfrm>
            <a:off x="7086600" y="0"/>
            <a:ext cx="1709640" cy="518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5"/>
          <p:cNvSpPr/>
          <p:nvPr/>
        </p:nvSpPr>
        <p:spPr>
          <a:xfrm>
            <a:off x="7086600" y="518076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оанн Богослов, 1408. Цикл икон деисусного чина иконостаса Успенского собора во Владимир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аговещенский собор Московского Кремля перестраивался в 15 веке, и роспись его не сохранилось. Уцелели только деисусный и праздничный ряды иконостаса, перенесенного в существующий ныне храм. Во владимирском Успенском соборе сохранилась лишь небольшая часть росписей. Дошли до нас также иконы из иконостаса этого собора, экспонирующиеся ныне в Третьяковской галерее и Русском муз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273060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259960" y="4647600"/>
            <a:ext cx="33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есение Господне, 140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 предшествующем периоде жизни Андрея Рублева известно мало. Составленное в17 веке "Сказания о святых иконописцах" утверждает, что он жил сначала в Троицком монастыре в послушании у Никона, ученика основателя монастыря Сергия Радонежского (Никон был троицким игуменом с 1390 года, умер в 1427). По словам "Сказания", Никон "повелел" Рублеву написать икону Троицы "в похвалу отцу своему, святому Сергию чудотворцу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б остальных крупных работах Рублева мы знаем из житий Сергия и Никона. Между 1425-1427 годами он вместе с другом и "спостником" Даниилом Черным участвовал в создании ныне несохранившихся росписей Троицкого собора Сергиева монастыря, а затем расписывал Спасский собор московского Андроникова монастыря, старцем которого он был. Там Рублев и скончался в 1430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2651040" cy="4038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4495680" y="4723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стол Павел из деисусного чина, 1410-е. ГТ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ff"/>
                </a:solidFill>
                <a:latin typeface="Arial"/>
              </a:rPr>
              <a:t>Разумеется, список произведений Рублева этим не исчерпывается. "Преподобный отец Андрей Радонежский, иконописец, прозванием Рублев, многие святые иконы написал, все чудотворные". Помимо названных работ, целый ряд несохранившихся ныне икон упоминается в различных источниках. Несколько дошедших до нас памятников связывает с именем Рублева устное предание. Наконец, в ряде произведений авторство Рублева устанавливается по стилистическим аналогиям. Но даже в тех случаях, когда причастность Рублева к работе над памятникам документально подтверждена - так обстоит дело с иконами из владимирского Успенского собора, - выделить принадлежащие его руке произведения чрезвычайно трудно, поскольку создавались они совместно большой группой мастеров под руководством Андрея Рублева и Даниила Черного, который, по словам автора "Сказания о святых иконописцах", "многие с ним иконы чудные написал"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04164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566320" y="533340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ас в силах, 140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"/>
              </a:rPr>
              <a:t>Если дошедшие до нас биографические сведения о Рублеве изобилуют противоречиями и анахронизмами, то в характеристике личности мастера и в оценке его искусства источники обнаруживают редкое единодушие. Андрей и Даниил предстают в их изображении как "чудные добродетельные старцы и живописцы", "всех превосходящие в добродетелях". В Рублеве особенно подчеркивается то, что он "намного всех превосходил в мудрости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2873160" cy="4343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946120" y="51807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ас, 1410-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358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Arial"/>
              </a:rPr>
              <a:t>Для воссоздания творческого облика Рублева очень важны сведения, сообщенные в1478 году Иосифу Волоцкому бывшим игуменом Троицкого Сергиева монастыря старцем Спиридоном. По словам Спиридона, удивительные и прославленные иконописцы Даниил и ученик его Андрей, иноки Андроникова монастыря, отличались такими добродетелями, что удостоились необычных дарований и настолько преуспели в совершенствовании, что не находили времени для мирских д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340320" y="0"/>
            <a:ext cx="280368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324480" y="40539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шествие во ад, 1408-1410. ГТ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3505320" y="0"/>
            <a:ext cx="2763720" cy="3657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429000" y="3809520"/>
            <a:ext cx="30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ждество Христово. Благовещенский собор Московского крем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-4630680" y="-3259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-4632480" y="-2343240"/>
          <a:ext cx="2210040" cy="5778720"/>
        </p:xfrm>
        <a:graphic>
          <a:graphicData uri="http://schemas.openxmlformats.org/drawingml/2006/table">
            <a:tbl>
              <a:tblPr/>
              <a:tblGrid>
                <a:gridCol w="311400"/>
                <a:gridCol w="1898640"/>
              </a:tblGrid>
              <a:tr h="541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ru-RU" sz="3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21"/>
          <p:cNvSpPr/>
          <p:nvPr/>
        </p:nvSpPr>
        <p:spPr>
          <a:xfrm>
            <a:off x="0" y="0"/>
            <a:ext cx="5257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коло 1360 - Андрей Рублев родился, вероятно, в средней полосе России. По другим данным - родился в 1365 году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1390-х годов - Создание миниатюр для книги "Евангелие Хитрово"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 1405 - Принял монашество с именем Андрей в Троице-Сергиевом монастыре. По другим данным - в Андрониковом монастыре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405 - Работал совместно с Феофаном Греком и Прохором, «старцем с Городца», над украшением иконами и фресками Благовещенского собора Московского Кремля, домового храма московских князей. "Преображение"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408 - Вместе с Даниилом Черным работал над росписью и иконостасом Успенского собора во Владимире. "Богоматерь", "Иоанн Богослов", "Апостол Андрей", "Спас в силах"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ду 1408-1422 - Создание Поясного Звенигородского чина. "Спас", "Архангел Михаил", "Апостол Павел"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коло 1411 (по другим данным 1427) - Икона "Троица"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ду 1422-1427 - Совместно с Даниилом Черным руководил работами по росписи и созданию иконостаса Троицкого собора Троице-Сергиева монастыря. Написан храмовый образ Троицы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427-1430 - Создание росписи Спасского собора Спасо-Андроникова монастыря в Москве. Росписи не сохранились. Сейчас здесь находится музей древне-русского искусства, носящий имя Рублева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9 января 1430 - Скончался и погребен в Спасо-Андрониковом монастыр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0" y="6620040"/>
            <a:ext cx="5638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Созданы "Троица" и "Звенигородский чин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9" descr=""/>
          <p:cNvPicPr/>
          <p:nvPr/>
        </p:nvPicPr>
        <p:blipFill>
          <a:blip r:embed="rId2"/>
          <a:stretch/>
        </p:blipFill>
        <p:spPr>
          <a:xfrm>
            <a:off x="5105520" y="0"/>
            <a:ext cx="1619280" cy="4067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0"/>
          <p:cNvSpPr/>
          <p:nvPr/>
        </p:nvSpPr>
        <p:spPr>
          <a:xfrm>
            <a:off x="5029200" y="429444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ангел Михаил, 1408. Цикл икон деисусного чина иконостаса Успенского собора во Влади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4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4019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5"/>
          <p:cNvSpPr/>
          <p:nvPr/>
        </p:nvSpPr>
        <p:spPr>
          <a:xfrm>
            <a:off x="7467480" y="3991680"/>
            <a:ext cx="167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ангел Гавриил, 1408. Цикл икон деисусного чина иконостаса Успенского собора во Влади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3-11-06T03:2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