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626-19D5-4F8C-9340-CAFFC7F25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2BF7-903E-41B0-97F8-A496ACA27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53B0-62B9-4A1E-A9C2-F8850188B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EA53-D9AC-4901-8B8B-BA2AFD41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5357-5EE5-47B6-A23E-ADE310C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D1C5-5F6A-4AC7-97BF-F1BF2747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79E7-EBB7-4D85-8A10-BEBA2382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06E-E48C-417C-A4E9-6672E27F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53F-06B8-4169-A265-E1D0366F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9CB-34B6-4FC1-B7CB-EB4534E6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4CD-5218-4644-83A6-82C50BEF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54C-7337-49BD-AA5C-3987E17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FEC-AFD2-47A4-A353-68A327E7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2A4-5BA0-4F7A-BB15-3E01FA3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3265-887F-4AEF-8AA2-BC4FE16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818B-C7F5-4B92-B93D-6E1F55D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3470-7B86-4EB1-A244-0A98406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7BA0-74E9-447F-9613-4BB10A60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B97-D603-498A-82DC-A8BBC23D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F62-5092-4B5B-A292-08CDA389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710F-FB0C-455E-B473-703951DF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E0EA-FE12-46CF-85B7-E97A572F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056A-5CDD-49C6-855D-EC461316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04D5-BA61-4926-8EF2-CA365C51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B37A-9FF5-4CE9-B70A-EE8CFAD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D2F4-9FFF-4848-897C-ED5ABD68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9EAE-3ADB-4F5C-B5FB-7FE8D5B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FE25-1732-42F9-BAB7-983FC31811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B03B-1AAB-4358-B89C-604EA90A67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048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новы теории государства и прав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часть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равовое государство и гражданское 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6"/>
          <p:cNvSpPr/>
          <p:nvPr/>
        </p:nvSpPr>
        <p:spPr>
          <a:xfrm>
            <a:off x="142920" y="1143000"/>
            <a:ext cx="8858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стоятельно подготовить конспект по учеб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85880" y="2214720"/>
            <a:ext cx="7643880" cy="4147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определение понятию правового государства, перечислить и раскрыть основные призна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определение гражданского общества, пере-числить и раскрыть основные призна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ь структуру гражданского общества на примере Республики Ко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Форма государст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понятия и элемен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57120" y="1071720"/>
            <a:ext cx="842976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рма государст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внешних признаков государства, показывающее какова организация власти в данном государстве, как осуществляется власть, какими органами, какими мет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57120" y="2000160"/>
            <a:ext cx="271476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рма 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214800" y="2000160"/>
            <a:ext cx="271440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рма территориально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72120" y="2000160"/>
            <a:ext cx="271476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итический реж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7120" y="2857680"/>
            <a:ext cx="2714760" cy="155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ы организации верховной государствен-ной власти, порядок ее образования, ее органов, их взаимодействие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214800" y="2857680"/>
            <a:ext cx="271440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ы организации верховной государствен-ной власти с учетом внутреннего деления государства на части, взаимоотношений органов государства и его частей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072120" y="3286080"/>
            <a:ext cx="271476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ы и методы осуще-ствления 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1500120" y="2428920"/>
            <a:ext cx="428760" cy="35712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4429080" y="2643120"/>
            <a:ext cx="428760" cy="14292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7286760" y="2428920"/>
            <a:ext cx="428400" cy="785880"/>
          </a:xfrm>
          <a:prstGeom prst="downArrow">
            <a:avLst>
              <a:gd name="adj1" fmla="val 50000"/>
              <a:gd name="adj2" fmla="val 25003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57120" y="4857840"/>
            <a:ext cx="150012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928880" y="4857840"/>
            <a:ext cx="114300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6072120" y="4572000"/>
            <a:ext cx="207180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кра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572160" y="5000760"/>
            <a:ext cx="221472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емокра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6929280" y="4214880"/>
            <a:ext cx="428760" cy="28584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2214720" y="4500720"/>
            <a:ext cx="428400" cy="28548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857160" y="4500720"/>
            <a:ext cx="428760" cy="28548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8286840" y="4214880"/>
            <a:ext cx="428400" cy="714240"/>
          </a:xfrm>
          <a:prstGeom prst="downArrow">
            <a:avLst>
              <a:gd name="adj1" fmla="val 50000"/>
              <a:gd name="adj2" fmla="val 2500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4429080" y="5000760"/>
            <a:ext cx="428760" cy="35712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57120" y="5286240"/>
            <a:ext cx="1500120" cy="832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идент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ламент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1928880" y="5286240"/>
            <a:ext cx="1357200" cy="55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гранич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786120" y="5429160"/>
            <a:ext cx="1714680" cy="55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572160" y="5429160"/>
            <a:ext cx="2214720" cy="55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талитар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итар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57120" y="6215040"/>
            <a:ext cx="84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остоятельно по учебнику раскрыть понятия и виды форм правления, форм территориального устройства и форм политического реж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048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новы теории государства и прав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часть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I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859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ценность и функции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ивное и субъективное пр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и виды источников (форм)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 нормативно-правовых актов в РФ. Законы и подзаконные а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, признаки, структура, виды норм права (самостоятельно подготовить конспект по учебни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 структура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чное и частное право, материальное и процессуальное пр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ое пр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системы сов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нарушение, юридическая ответственность (самостоятельно подготовить конспект по учебни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480" y="500040"/>
            <a:ext cx="8496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оциальная ценность и функции права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7120" y="857160"/>
          <a:ext cx="8358120" cy="55659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2643120"/>
              </a:tblGrid>
              <a:tr h="730440">
                <a:tc gridSpan="3"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оциальная ценность (полезность) пра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остоит в его способности упорядочи-вать общественные отношения, удовлетворять определенные потребности и интере-сы людей, разрешать возникающие между ними спо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3"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ая ценность права проявляется в его функц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gridSpan="3"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Функция прав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основные направления правового воздействия на общественные отношения. поведение и деятельность субъектов пра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 gridSpan="3"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ные функции 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 gridSpan="3"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3">
                  <a:txBody>
                    <a:bodyPr lIns="65880" rIns="65880" tIns="0" bIns="0" anchor="t">
                      <a:noAutofit/>
                    </a:bodyPr>
                    <a:p>
                      <a:pPr marL="287280" indent="-287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ив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состоит в упорядочивании поведения и деятельност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юдей и их организаций в различных сферах жизни путем предоставления субъективных прав и возложенных юридических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 gridSpan="3"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 gridSpan="3">
                  <a:txBody>
                    <a:bodyPr lIns="65880" rIns="65880" tIns="0" bIns="0" anchor="t">
                      <a:noAutofit/>
                    </a:bodyPr>
                    <a:p>
                      <a:pPr marL="287280" indent="-287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хранитель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состоит в том, что право нацелено на охрану прав и свобод граждан, защиту наиболее важных интересов общества и вытеснение вредных для человека и общества отношений посредством применения мер государственного прину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 gridSpan="3">
                  <a:txBody>
                    <a:bodyPr lIns="65880" rIns="65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gridSpan="3">
                  <a:txBody>
                    <a:bodyPr lIns="65880" rIns="65880" tIns="0" bIns="0" anchor="t">
                      <a:noAutofit/>
                    </a:bodyPr>
                    <a:p>
                      <a:pPr marL="250920" indent="-250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итатель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состоит в том, что  право, воздействуя на мысли и чувства людей, дает представление о должном и возможном поведении, формирует стимулы правомер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бъективное и субъективн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28760" y="928800"/>
            <a:ext cx="82864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ъективное прав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это система общеобязательных юридических норм, установленных и охраняемых государ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28760" y="3214800"/>
            <a:ext cx="82864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убъективное прав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это принадлежащие конкретному субъекту, индивиду права. Например: право на образование. Право собственности, право на тр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28760" y="1571760"/>
            <a:ext cx="82864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е право состоит из юридических норм, которые объективированы (выражены) во вне, источниках права – законных, подзаконных ак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28760" y="2214720"/>
            <a:ext cx="82864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ивное право называется объективным потому, что никому не принадлежит, обращено ко всем, кто подпадает под его действие, не зависит от их усмотр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28760" y="3857760"/>
            <a:ext cx="828648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убъективное право называется субъективным потому, что принадлежит конкретному субъекту, юридически обеспечивает его свободу, возможность выбора того или иного поведения. Использование субъективного права зависит от волеизъявления того, кому оно принадлеж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28760" y="5000760"/>
            <a:ext cx="8286480" cy="778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убъективное пра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ера возможного поведения участника правоотношения для достижения конкретного материального или нематериального блага, обеспеченная юридическими обязанностями других участников данного правоотноше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28760" y="5929200"/>
            <a:ext cx="828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Юридическая обязаннос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это предусмотренная правовыми нормами вид и мера должного поведения обязанной стороны в целях удовлетворения интересов управомоченной стороны правоот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нятие и виды источников (форм)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0040" y="1714680"/>
            <a:ext cx="82072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вой обыча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анкционированное государством исторически создавшиеся правила поведения. Наибольшее распространение имеет в обычно-традиционной правовой системе стран Азии и Центральной Аф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00040" y="785880"/>
            <a:ext cx="82072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сточник (форма)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внешняя форма выражения правовой нормы; правовые акты, устанавливающие норму права как результат правотворческой деятельности государственных и негосударственных органов, должност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00040" y="2643120"/>
            <a:ext cx="8207280" cy="155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ормативный догово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двухстороннее или многостороннее соглашение между субъектами правотворчества, содержащие нормы права. Различные международные договоры и внутригосударственные договоры (например, Федеративный договор о разграничении предметов ведения  и полномочий между федеральными органами государственной власти и органами государственной власти субъектов РФ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00040" y="4286160"/>
            <a:ext cx="8207280" cy="1310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вой прецеден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удебный или административный) – судебное или административное решение по конкретному юридическому делу, являющееся правилом для разрешения аналогичных дел возникающих в будущем. Судебный прецедент наибольшее распространение имеет в англосаксонской правовой системе, в Великобрит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00040" y="5715000"/>
            <a:ext cx="820728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-правовой ак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правовой акт, принятый компетентным государственным или негосударственным органом, должностным лицом, 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ливающий, изменяющий или отменяющий правовую норму. Это основной источник права в романо-германской правовой системе, в том числе 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715240" cy="28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иды нормативно-правовых актов в РФ. Законы и подзаконны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643040" y="857160"/>
            <a:ext cx="592920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14200" y="1571760"/>
            <a:ext cx="5357880" cy="1310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к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ринимаются высшим представителем законодательных органов государства (парламентом), регулируют важнейшие общественные отношения и обладают высшей юридической сил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715000" y="1571760"/>
            <a:ext cx="321480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дзаконные ак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издаются на основе, во исполнение зако-нов и недолжны им противо-реч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643040" y="128592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7215120" y="128592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14200" y="3571920"/>
            <a:ext cx="450072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е зак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ые принима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ся Федеральным собранием РФ или на 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рендуме РФ (всенародном голосован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14200" y="4643280"/>
            <a:ext cx="4500720" cy="2205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федеральных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, принятая на референдуме  12.12.1993 г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законы, принятие которых специально предусмотрено в Конституции РФ (например, Федеральный конституционный закон РФ “О Конститу-ционном суде Российской Федерации от 21 июля 1994г. 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федеральные законы  (например, Федеральный закон о информатизации и защите информации от 20.02.200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5"/>
          <p:cNvSpPr/>
          <p:nvPr/>
        </p:nvSpPr>
        <p:spPr>
          <a:xfrm>
            <a:off x="2214720" y="1214280"/>
            <a:ext cx="48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юридической силе подразделяютс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643040" y="2857680"/>
            <a:ext cx="600084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ы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857840" y="3571920"/>
            <a:ext cx="4071960" cy="155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коны субъектов Р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ые прини-маются законодательными органами субъектов РФ (например, в Республике Коми Государственным советом РФ). Они не должны противоречить Кон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уции РФ, федеральным зако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857840" y="5288040"/>
            <a:ext cx="4071960" cy="156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законов субъект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(например, Конституция РК), уставы (например, Устав Иркутской области)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РФ (например, Закон РК “О структуре органов исполнительной власти РК от 29 октября 2004г.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286760" y="328608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643040" y="328608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715240" cy="28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иды нормативно-правовых актов в РФ. Законы и подзаконны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643040" y="857160"/>
            <a:ext cx="592920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подзаконных нормативно - правовых актов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1571760" y="128592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7000920" y="128592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42920" y="1571760"/>
            <a:ext cx="271476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законные нормати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-правовые акты ф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альных органов го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42920" y="2786040"/>
            <a:ext cx="2714760" cy="3735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я Государ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енной Думы и Совета Федерации ФС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ные указы През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нта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я Правител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в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ные приказы, инс-трукции, правила, поло-жения и другие нормативно-правовые акты  министе-рств и ведомств феде-ральных органов исполни-тельной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000240" y="1571760"/>
            <a:ext cx="271476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законные нормати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-правовые акты орг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 го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ласти субъе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857920" y="1571760"/>
            <a:ext cx="271476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законные нормати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-правовые акты орг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 местного самоупра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4357800" y="1285920"/>
            <a:ext cx="35712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000240" y="2786040"/>
            <a:ext cx="2714760" cy="352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я законода-тельного органа субъект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ные указы глав с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ъект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ления правитель-ства субъект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ные приказы, ин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кции, правила и другие нормативно-правовые акты  министерств и ведомств о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нов исполнительной вла-сти субъектов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857920" y="2786040"/>
            <a:ext cx="2714760" cy="1808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ные акты предс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тельных органов местного само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рмативные акты главы административного местного самоу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Развернутая стрелка 20"/>
          <p:cNvSpPr/>
          <p:nvPr/>
        </p:nvSpPr>
        <p:spPr>
          <a:xfrm rot="5400000">
            <a:off x="5750640" y="2821680"/>
            <a:ext cx="5143320" cy="1357200"/>
          </a:xfrm>
          <a:prstGeom prst="pie">
            <a:avLst/>
          </a:prstGeom>
          <a:solidFill>
            <a:srgbClr val="ccccff"/>
          </a:solidFill>
          <a:ln w="1584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000840" y="5357880"/>
            <a:ext cx="242892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кальные норма-тивно-правовые акты администрации пред-приятий,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Понятие, признаки, структура, виды норм пр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428760" y="3214800"/>
            <a:ext cx="828648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амостоятельно подготов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онспект по учеб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2143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я государства и права. Их роль в жизни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я и признак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я и признаки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ношение права 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ность государ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функци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государство и гражданское общество (самостоятельно подготовить конспект по учебни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государства: понятия и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Система и структура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428760" y="928800"/>
            <a:ext cx="82864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истема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тесно взаимосвязанных, согласованных правовых норм, подразделенных на отрасли, подотрали и институ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28760" y="1714680"/>
            <a:ext cx="828648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труктура системы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элементов, из которых она состо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28760" y="2214720"/>
            <a:ext cx="82864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расль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правовых норм, составляющих часть системы права и регулирующих определенный вид общественных отношений (например, конституционное право, административное право, гражданское прав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28760" y="4500720"/>
            <a:ext cx="828648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ститут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правовых норм, составляющих часть отрасли права и регулирующих определенную сторону общественных отношений (например, институт конституционного права – гражданство РФ, права и свободы человека и гражданина; институт права – право собствен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428760" y="5786280"/>
            <a:ext cx="82864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орма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общеобязательное санкционированное или установленное государством и обеспеченное его принудительной силой правило поведения, регулирующее общественные 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28760" y="3214800"/>
            <a:ext cx="828648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дотрасль пра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правовых норм, составляющих часть крупной отрасли права, регулирующих особую сферу общественных отношений внутри отрасли права (например в конституционном праве подотрасль – избирательное право, в гражданском праве – наследственное прав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убличное и частное прав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ьное и процессуальн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85840" y="1571760"/>
            <a:ext cx="5000400" cy="2562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блич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норм, регулирующих поря-док организации и деятельности госу-дарственных органов, отношения между государством и гражданами. Это отношения власти-подч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убличном праве выражаются интересы госу-дарства, обществ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500800" y="1571760"/>
            <a:ext cx="3286080" cy="2562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аст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норм, регу-лирующих отношения част-ных лиц на основе их равно-пра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ном праве выражают-ся частные интересы отель-ны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85840" y="4500720"/>
            <a:ext cx="5000400" cy="1620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 публичного пр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ое                  - Уголо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ое               - 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о-процессуально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5500800" y="4500720"/>
            <a:ext cx="3286080" cy="1620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 частного пра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рческ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убличное и частное прав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ьное и процессуальное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14200" y="1571760"/>
            <a:ext cx="3673440" cy="1882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ь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окупность норм, которые непосредственно регулируют различные общественные отношения, формируя позитив-ное поведение их уча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14200" y="3929040"/>
            <a:ext cx="3673440" cy="245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расли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жданско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000680" y="4071960"/>
            <a:ext cx="4897080" cy="2296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Отрасли пра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жданское процессу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битражное процессуальное (подот-расль гражданского процессуаль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ое процессу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ое процессу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4000680" y="1571760"/>
            <a:ext cx="4897080" cy="2157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цессуаль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окупность правовых норм, регламен-тирующих порядок, форму правопримени-тельной деятельности компетентных орга-нов и должностных лиц, направленной на реализацию норм материального права при разрешении конфликт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Международное право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нятия и источн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285840" y="928800"/>
            <a:ext cx="8572320" cy="91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е 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а правовых принципов и норм, выражающих волю участников международных отношений и регулирующих их взаимное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285840" y="1928880"/>
            <a:ext cx="8572320" cy="91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способ создания норм международного права – соглашение субъектов международ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(формы) международного права – обычай и догово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85840" y="2928960"/>
            <a:ext cx="8572320" cy="64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е пра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днациональная система права, не относящаяся ни к одной из национальной правовы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285840" y="3643200"/>
            <a:ext cx="8572320" cy="28371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право влияет на внутригосударственное право, националь-ную правовую систе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ьшинстве современных государств общепризнанные принципы и нор-мы международного права включаются в их национальные правовые систе-мы, в том числе в национальную правовую систему РФ – ч.4 ст.15 Конституции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ется приоритет норм международного права над внутренним законодательством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1"/>
          <p:cNvSpPr/>
          <p:nvPr/>
        </p:nvSpPr>
        <p:spPr>
          <a:xfrm>
            <a:off x="285840" y="1357200"/>
            <a:ext cx="8496360" cy="119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овая систе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совокупность взаимосвязанных, согласованных, правовых средств (явлений – правосознание, право, правовые отношения и др.), регулирующих общественные отношения, а так же элементов, характеризующих уровень правового развития той или ино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равовые системы современно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нятие и ви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285840" y="2714760"/>
            <a:ext cx="8496360" cy="64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 система конкретного государства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циональной правовой систе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285840" y="3500280"/>
            <a:ext cx="8496360" cy="64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национальных правовых систем, обладающих общими чертами образуе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овую сем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85840" y="47862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овременном мире выделяют следующие основные правовые семь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285840" y="5500800"/>
            <a:ext cx="2714400" cy="64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ано-германская правов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072120" y="5500800"/>
            <a:ext cx="2714760" cy="64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3214800" y="5500800"/>
            <a:ext cx="2643120" cy="642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о-саксо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1"/>
          <p:cNvSpPr/>
          <p:nvPr/>
        </p:nvSpPr>
        <p:spPr>
          <a:xfrm>
            <a:off x="357120" y="1143000"/>
            <a:ext cx="8496360" cy="1465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омано-германская (континентальная) правов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основе рецепции римского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 источником является нормативно-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права подразделяется на частное и публи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ую семью входят страны континенталь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равовые системы современно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черты правовых сем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357120" y="2714760"/>
            <a:ext cx="8496360" cy="1739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нгло-саксонская (общая) правов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в результате деятельности английских королевских судов по разрешению конкретных д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 источником является судебный прецед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права не знает деления на частное и публи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ую семью входят: Великобритания, США, Канада, Австрал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357120" y="4572000"/>
            <a:ext cx="8496360" cy="20142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лигиозная правов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апример Мусульманское пра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о на основе распространения определенной религии (исла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 источником являются священные книги (кор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права не знает деления на частное и публи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ую семью входят мусульманские страны: Афганистан, Ирак, Иран, Саудовская Аравия, ОАЭ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Правонарушение, юридическая 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142920" y="1143000"/>
            <a:ext cx="8858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стоятельно подготовить конспект по учеб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785880" y="2214720"/>
            <a:ext cx="7643880" cy="394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определение понятию правонарушения, перечислить и раскрыть основные признаки, раскрыть понятия и элементы состава право-нарушения, привести примеры на конкретном составе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ь определение юридической ответственности, перечислить и раскрыть основные признаки, основания возникновения юридической ответс-твенности, дать характеристику видам юриди-ческой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714240"/>
            <a:ext cx="8496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онятия государства и права. Их роль в жизни обществ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нятие общества, государства, права и их взаимосвязь)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57120" y="1357200"/>
            <a:ext cx="842976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ществ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родукт взаимодействия людей (К.Маркс), совокупность исторически сложившихся форм совместной деятельности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7120" y="5572080"/>
            <a:ext cx="414360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политическая организация, обладающая специальным аппаратом и осуществляющая управле-ние обще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643280" y="5572080"/>
            <a:ext cx="4143600" cy="1067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совокупность общеобя-зательных правил поведения, исходящих от государства и регулирующих обще-ственные отно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4000680" y="2000160"/>
            <a:ext cx="428400" cy="3500640"/>
          </a:xfrm>
          <a:prstGeom prst="downArrow">
            <a:avLst>
              <a:gd name="adj1" fmla="val 50000"/>
              <a:gd name="adj2" fmla="val 25006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4714920" y="2000160"/>
            <a:ext cx="428760" cy="3500640"/>
          </a:xfrm>
          <a:prstGeom prst="downArrow">
            <a:avLst>
              <a:gd name="adj1" fmla="val 50000"/>
              <a:gd name="adj2" fmla="val 24985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 rot="10800000">
            <a:off x="1714680" y="3785760"/>
            <a:ext cx="428400" cy="171468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 rot="10800000">
            <a:off x="7071840" y="3785760"/>
            <a:ext cx="428760" cy="1714680"/>
          </a:xfrm>
          <a:prstGeom prst="downArrow">
            <a:avLst>
              <a:gd name="adj1" fmla="val 50000"/>
              <a:gd name="adj2" fmla="val 24995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57120" y="2143080"/>
            <a:ext cx="3571920" cy="155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управ-лять, руководить обществом, обес-печивать его нормальное функци-онирование с помощью государ-ственного механизма, аппарата принуждения и пра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214960" y="2214720"/>
            <a:ext cx="3571920" cy="14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 прав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– регулировать общественные отношения, удовле-творять разнообразные потребности людей с помощью правовых норм, прав и обязанностей и с опорой на государственное принужде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14720" y="4214880"/>
            <a:ext cx="478620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о и право – это естественно истори-ческий продукт развития общества. Они возникают в силу одних и тех же при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856800"/>
            <a:ext cx="8496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Понятия государства и права. Их роль в жизни общества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57120" y="1500120"/>
            <a:ext cx="8429760" cy="4753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ts val="1698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еолитическая революция, т.е. переход от собирательства к производственной экономи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бщественное разделение труда: отделение скотоводства от земледелия, отделение ремесла и появление купц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рост производительности труда, появление излишков, обмен продуктами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появление разнообразных форм собственности, в том числе част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698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рост численности насе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разложение рода, возникновение семь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появление социального неравенства – богатых и бедных, свободных и несвобод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повышение роли отдельной личности в системе социальных свя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6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противоречивость интересов личности, социальных групп (классов) общества в це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57120" y="1285920"/>
            <a:ext cx="849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чины возникновения государства и права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онятия и признаки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0040" y="2000160"/>
            <a:ext cx="8207280" cy="1290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Наличие публичной в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аппарата управления, состоящего из системы государственных органов и особого слоя людей, выполняющих властные и управленческие функ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аппарата принуждения, состоящего из армии, полиции, разведки, принудительных учреждений (тюрем и др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00040" y="857160"/>
            <a:ext cx="8207280" cy="73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это особая суверенная территориальная организация политической власти, обладающая специальным аппаратом и регулирующая общественные отношения с помощью правовых нор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00040" y="1571760"/>
            <a:ext cx="8229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ые признак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00040" y="3429000"/>
            <a:ext cx="8207280" cy="791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Территориальная организация населения и публичной вла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государственная власть осуществляется в рамках определенной территории и распространяется на население, находящееся на данной территор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00040" y="4357800"/>
            <a:ext cx="8207280" cy="791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й суверенит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верховенство государственной власти внутри страны и независимость в отношениях с другими государства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00040" y="5286240"/>
            <a:ext cx="8207280" cy="59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Налоги, сборы, зай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необходимые для содержания гос. аппарата и выполнения функций государств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00040" y="6000840"/>
            <a:ext cx="8207280" cy="291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Связь государства с правом, правотворчеств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00040" y="6357960"/>
            <a:ext cx="8207280" cy="291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Наличие символов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Arial"/>
              </a:rPr>
              <a:t>– герб, гимн, фл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нятия и признаки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00040" y="2071800"/>
            <a:ext cx="8207280" cy="95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бщеобязательность п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ормы права обязательны для исполнения всеми на кого они распространяют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857160"/>
            <a:ext cx="82072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система общеобязательных правил поведения (норм), исходящих от государства, охраняемых его принудительной силой и регулирующих общественные отно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00040" y="164304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ые признаки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00040" y="3071880"/>
            <a:ext cx="8207280" cy="119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 исходит от госуд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осударство санкционирует или признает, устанавливает нормы права в определенных источниках права: законах, подзаконных нормативных актах, судебных прецеден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00040" y="4357800"/>
            <a:ext cx="8207280" cy="95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 охраняет нормы п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е нормы права должно влечь применение мер государственного принуж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0040" y="5357880"/>
            <a:ext cx="82072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 выступает государственным регулятором обществен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00040" y="6000840"/>
            <a:ext cx="8207280" cy="58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аво регулирует общественные отношения путем предоставления прав и возложения юридических обязанностей на их учас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Соотношение права и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4200" y="785880"/>
          <a:ext cx="8786880" cy="5886360"/>
        </p:xfrm>
        <a:graphic>
          <a:graphicData uri="http://schemas.openxmlformats.org/drawingml/2006/table">
            <a:tbl>
              <a:tblPr/>
              <a:tblGrid>
                <a:gridCol w="3214800"/>
                <a:gridCol w="214200"/>
                <a:gridCol w="595440"/>
                <a:gridCol w="743040"/>
                <a:gridCol w="733320"/>
                <a:gridCol w="285840"/>
                <a:gridCol w="3000240"/>
              </a:tblGrid>
              <a:tr h="274680">
                <a:tc gridSpan="7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шение права и 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7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960">
                <a:tc gridSpan="3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в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истема общеобязательных, исхо-дящих от государства и охраняемых им норм, регулирующих общественные отно-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осударств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особая суверенная политико-территориальная организация общества осуществляющая управление и руководство обществом с помощью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7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динство права и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лияние государства на пра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лияние права на государ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 gridSpan="7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5520"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е их возникновения лежат одни и те же прич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аво в форме закона, подзаконных актах, судебных пре-цед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о закрепляет стру-ктуру государства, его механизм, систему государственных орга-нов, их компетен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 gridSpan="7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о и другое объективно необходи-мые социальные я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антирует реализа-цию права, реализует в форме правопримен-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средством осуществле-ния задач и функций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 gridSpan="7"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них общая цель: упорядочить общественные отношения, внести стабильность в жизнь 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яет право от 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ет и регулирует право-вой статус личности в государ-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9" name="AutoShape 11"/>
          <p:cNvSpPr/>
          <p:nvPr/>
        </p:nvSpPr>
        <p:spPr>
          <a:xfrm>
            <a:off x="1643040" y="3071880"/>
            <a:ext cx="42876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4429080" y="3071880"/>
            <a:ext cx="42876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7358040" y="3071880"/>
            <a:ext cx="428760" cy="214200"/>
          </a:xfrm>
          <a:prstGeom prst="downArrow">
            <a:avLst>
              <a:gd name="adj1" fmla="val 50000"/>
              <a:gd name="adj2" fmla="val 2499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ущность государ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функции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00040" y="1357200"/>
            <a:ext cx="82072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е, что определяет содержание (природу), назначение и функционирование государства в обществе; чьим интересам служит государство, какие приоритеты устанавливает в своей поли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00040" y="85716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щность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00040" y="3214800"/>
            <a:ext cx="400068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ссовый под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714920" y="3214800"/>
            <a:ext cx="400032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человеческий под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2214720" y="2286000"/>
            <a:ext cx="428400" cy="857160"/>
          </a:xfrm>
          <a:prstGeom prst="downArrow">
            <a:avLst>
              <a:gd name="adj1" fmla="val 50000"/>
              <a:gd name="adj2" fmla="val 2500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6500880" y="2286000"/>
            <a:ext cx="428400" cy="857160"/>
          </a:xfrm>
          <a:prstGeom prst="downArrow">
            <a:avLst>
              <a:gd name="adj1" fmla="val 50000"/>
              <a:gd name="adj2" fmla="val 2500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500040" y="242892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ли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00040" y="3786120"/>
            <a:ext cx="4000680" cy="2538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а в руках экономически господ-ствующего класса для подавления со-противления своих классовых против-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ая власть носит неогра-ниченный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 (закон) используется в той ме-ре, в какой это отражает интересы господствующего 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714920" y="3786120"/>
            <a:ext cx="4000320" cy="2538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вая форма организации и функционирования публичной полити-ческой вл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общих дел, достижение социального согласия, поиск компро-миссов стабильности и порядка в обще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ое принуждение носит правовой харак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ущность государ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функции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00040" y="1357200"/>
            <a:ext cx="8207280" cy="824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государства по решению стоящих перед ним целей и задач. В функциях проявляется сущность и социальное назначение конкрет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500040" y="85716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ункци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00040" y="3214800"/>
            <a:ext cx="400068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е (основ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714920" y="3214800"/>
            <a:ext cx="4000320" cy="337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е (основ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214720" y="2286000"/>
            <a:ext cx="428400" cy="857160"/>
          </a:xfrm>
          <a:prstGeom prst="downArrow">
            <a:avLst>
              <a:gd name="adj1" fmla="val 50000"/>
              <a:gd name="adj2" fmla="val 2500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6500880" y="2286000"/>
            <a:ext cx="428400" cy="857160"/>
          </a:xfrm>
          <a:prstGeom prst="downArrow">
            <a:avLst>
              <a:gd name="adj1" fmla="val 50000"/>
              <a:gd name="adj2" fmla="val 25001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42892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сфер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лич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00040" y="3786120"/>
            <a:ext cx="4000680" cy="2432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рана прав и свобод человека и граждан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ческая функ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я налогооб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я социальной защ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функ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льтурная фун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714920" y="3786120"/>
            <a:ext cx="4000320" cy="2422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я обороны стр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я поддержания мирового поряд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я сотрудничества с другими государствами в таких сферах как: политическая, экономическая, куль-турна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террористическая фун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6:09:24Z</dcterms:created>
  <dc:creator>Sivkov</dc:creator>
  <dc:description/>
  <dc:language>en-US</dc:language>
  <cp:lastModifiedBy>Сивков В.Н.</cp:lastModifiedBy>
  <dcterms:modified xsi:type="dcterms:W3CDTF">2009-02-15T10:18:08Z</dcterms:modified>
  <cp:revision>155</cp:revision>
  <dc:subject/>
  <dc:title>Система права</dc:title>
</cp:coreProperties>
</file>