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09C-A214-42BF-BC77-3F822795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73E-130E-4CC8-B123-0552C7FD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BCE-9237-4B40-B250-4AC5A436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D43-FE0C-40D3-8AF0-C4BDFF14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2C9C-453F-4AF6-96D2-8456402A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F4F1-D09F-4951-BA27-D211508E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7D14-3AC3-4ED7-B909-FB86A84F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BD7B-12C6-4D86-84F6-8B17B519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4391-534F-4CCA-8157-A3A6B234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3E54-0CD6-484F-93ED-1365237E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2ACA-1545-4D98-A111-616CACEF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CC5-4B02-43CC-910F-C3FC967F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E0ED-380E-4C69-A449-986BB0F1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27DF-DA45-4E6E-9565-0F12005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8E9F-41F6-4324-A279-24DACCCE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CC2C-FC24-4677-B329-881837A9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C6D6-11B7-4372-A94B-C31B2140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566-6270-46CA-B322-DA221CDC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D06-DEB9-4623-80DD-36B58FA7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A85-BEEE-4004-AA7A-FE9EF83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BF9-C93E-4984-82C6-6C19DCF2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F4C-CAAB-4A82-A7AC-0FFC6212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613-8B14-4C77-B58D-E925160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AB3-A828-4937-A3A6-AAC4CE1E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9CD5-45A1-4976-BA6E-38CB02546A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EC92-E7BC-4A7A-A472-C3DACB9F49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Уголовное право Республики Казахстан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онятие, предмет, задачи и принципы уголовного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онятие, признаки и состав преступ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головная ответственность и её осн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онятие соучастия в преступлении. Виды соучастни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Борьба с коррупцией в Казахста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Принцип гуманизма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оит в том, что уголовное законодательство обеспечивает безопасность человека. Этот принцип позволяет освободить некоторые категории лиц от ответственности, либо предусматривает условное осуждение, отсрочку отбывания наказания беременным женщинам и женщинам имеющим малолетних детей, несовершеннолетним лицам, за совершение преступлений небольшой тяж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Преступлени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овершенное виновно общественно опасное деяние (действие или бездействие), запрещенное УК под угрозой наказ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данного определения видно, что преступление характеризуется рядом обязательных призна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- общественная опасность деяния, его противоправность, виновность и наказуемость. Только при наличии всех указанных признаков в совокупности деяние может быть признано преступл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Общественная опасность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объективное свойство деяния (действия или бездействия) реально причинять существенный вред охраняемым уголовным законом общественным отношениям или создавать угрозу причинения такого вре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является преступлением действие или бездействие, хотя формально и содержащее признаки какого-либо деяния, предусмотренного Особенной частью УК РК, но в силу малозначительности не представляющее общественной опасности, то есть не причинившее вреда и не создавшее угрозы причинения вреда личности, обществу или государ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Признаком преступления является уголовная противоправность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рещенность деяния уголовным закон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оправность - формальный признак преступления. О преступлении может идти речь только в том случае, если запрет установлен именно уголовным законом. Противоречие деяния нормам других отраслей права не дает оснований для признания его преступн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Виновность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головная ответственность за невиновное причинение вреда, не допускается. Виновным же в преступлении признается лишь лицо, совершившее деяние умышленно или по неосторожности. Поскольку виновность является одним из обязательных условий противоправности (уголовным законом запрещены исключительно виновные действия или бездействие), то отсутствие в действиях субъекта вины означает отсутствие в его деянии и признака уголовной противоправ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Уголовная наказуемость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запрета, не подкрепленного угрозой применения наказания, не дает оснований утверждать, что запрещаемое деяние является преступ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едует иметь в виду, что признаком преступления является именно наказуемость, то есть наличие в законе угрозы применения наказания, а не реальная наказуемость деяния. Лицо, виновное в совершении конкретного общественно опасного, запрещенного уголовным законом под угрозой наказания деяния может и не подвергнуться наказанию (вследствие истечения срока давности привлечения к уголовной ответственности, амнистии и пр.), но от этого совершенное деяние не перестает быть преступ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ступлени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это конкретное действие или бездействие, совершаемое конкретным лицом в объективной действительности и характеризующееся многими сугубо индивидуальными призна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Состав преступления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нормативная категория, закрепляющая только типичные признаки какого-либо преступного деяния. Отсюда становится понятным значение состава преступ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преступление является фактическим основанием уголовной ответственности, то состав преступления - ее юридическим основан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В составе преступления имеется четыре его обязательных элемента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кт, объективная сторона, субъект и субъективная сторо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в содеянном отсутствует хотя бы один из них, то это значит, что нет и состава преступления в целом, и следовательно отсутствует основание уголовной ответствен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Объект преступл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 благо, которое защищено уголовным законом и которому преступление причиняет вред. В качестве такого блага признаются общественные отношения, охраняемые уголовным закон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7931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Уголовное 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отрасль права, которая представляет собой совокупность юридических норм, установленных высшими органами государства, определяющих преступность и наказуемость дея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ания уголовной ответственности, цели наказания и систему наказан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ие начала и условия их назначения, и также освобождение от уголовной ответственности и наказ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Совокупность признаков, характеризующих внешнюю сторону поведения человека, составляет объективную сторону преступления.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 этим признакам относятся общественно опасные действия (активное поведение) или бездействие (пассивное поведение) лиц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пример, кража - тайное похищение чужого имущества или бездействие по служб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ъективная сторона многих составов преступлений включает в себя помимо действия или бездействия преступные последствия, причинную связь между ними и деянием лица. Помимо названных признаков к объективной стороне относятся обстановка, время, место, способ, орудия и средства совершения преступ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Субъектом преступл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знается физическое лицо, совершившее преступление и наделенное признаками, предусмотренными уголовным законом. К таковым относятся вменяемость, достижение лицом определенного возраста, а в ряде случаев и специальные признаки. По общему правилу за совершение преступления уголовная ответственность наступает по достижении 16 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шь за некоторые преступления уголовная ответственность наступает с 14 лет. Например, убийство, умышленное причинение тяжкого вреда здоровью, изнасилование, похищение человека, кража, грабеж, разбой, вымогательство, терроризм, заведомо ложное сообщение об акте терроризм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Субъективную сторону преступления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ставляют признаки, характеризующие внутреннюю психическую сторону поведения человека: вина (умысел прямой и косвенный) и неосторожность (небрежность и самонадеянность)), мотив и цель преступ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основу классификации составов преступлений кладутся обычно такие критерии, ка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пень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ственной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асност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яния, способ описания в законе состава преступления и конструкция объективной стороны преступ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зависимости от степени общественной опасности деяния составы преступлений подразделяются на основные, квалифицированные (с отягчающими, квалифицирующими признаками) и привилегированные (со смягчающими признакам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сновной состав преступ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это состав, который содержит совокупность основных, постоянных признаков деяния определенного вида и не предусматривает дополнительных признаков, повышающих или понижающих степень общественной опасности содеянног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Если в составе преступ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имо основных признаков деяния данного вида указываются еще и отягчающие ответственность и наказание обстоятельства, то такой состав преступления называется квалифицированн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остав преступления,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тором наряду с основными признаками имеются смягчающие ответственность и наказание обстоятельства, называется привилегированным состав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Уголовная ответственность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является одним из видов юридической ответственности, которая устанавливается государством в уголовном законе и возлагается на лиц, виновных в совершении преступлений. Содержание уголовной ответственности включает в себ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порицание государством совершенного общественно опасного деяния и лица, виновного в его совершен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применение судом мер уголовного наказания, предусмотренных закон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рицание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 стороны государства может осуществляться органами предварительного расследования, затем судом и выражается в юридической оценке совершенного деяния как преступного и в признании лица, его совершившего - преступник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ако порицание со стороны государства не всегда завершается назначением виновному наказания, поскольку уголовный закон предусматривает и иные меры уголовно-правового воздействия на лицо, совершившее преступл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пример, принудительные меры медицинского характера, воспитательного воздейств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Уголовная ответственность по своему содержанию шире, чем наказание, которое является одной из форм выражения уголовной ответственности, мерой государственного принуждения.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вобождение лица от уголовной ответственности в случаях влечет за собой и освобождение от наказания. Но освобождение от наказания не всегда означает освобождение от уголовной ответственности. Возникновение, реализация и прекращение уголовной ответственности происходит в рамках уголовно-правовых отношен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головная ответственность и уголовные правоотношения возникают с момента совершения преступления. С этого момента субъекты правоотношения наделяются правами и обязанностями действовать определенным образом. Процесс реализации уголовной ответственности начинается с момента привлечения лица к уголовной ответственности и продолжается в период рассмотрения дела судом, отбывания наказания. Прекращается уголовная ответственность после отбытия наказания с момента погашения либо снятия судимости или безусловного освобождения от уголовной ответственности либо после истечения срока давности привлечения к уголовной ответствен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анием уголовной ответственности является совершение преступления, то есть деяния, содержащего все признаки состава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280" y="277920"/>
            <a:ext cx="7931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Соучастие в преступлени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793116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яется как умышленное совместное участие двух или более лиц в совершении умышленного преступ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 соучастникам преступления в зависимости от характера деятельности лица и степени его участия в преступлении относятся наряду с исполнителем организаторы, подстрекатели и пособ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ие преступления в соучастии несколькими лицами представляет, как правило, большую общественную опасность, чем совершение преступления одним лиц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Уголовное право обуславливается рядом специфических черт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только уголовное право является законодательной базой для определения преступности и наказуемости деяний, основания уголовной ответственности, применение наказания и освобождение от не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уголовное право имеет собственный предмет регулир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уголовному праву свойственен особый метод регулирования общественных отношений, он заключается в установлении преступности деяния, уголовных запретов их совершения и их наказуе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47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Уголовное законодательство различает четыре вида соучастников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сполнитель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тор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дстрекатель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собник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Исполнителем преступления признается лицо,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посредственно совершившее преступление, а также лицо, совершившее преступление посредством использования других лиц, не подлежащих уголовной ответственности в силу возраста, невменяемости или других обстоятельств, предусмотренных уголовным законодательством, а равно посредством использования лиц, совершивших деяние по неосторож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ким лицом является обычно тот, кто непосредственно лично сам достигает преступного результата. Вместе с тем исполнение преступления будет и в том случае, если лицо достигает преступного результата не само, а путем использования другого человека, который в силу малолетнего возраста, психической болезни или иных обстоятельств не мог понимать характера и значения совершаемых им действий, либо использует для этой цели животных. Хотя в таких случаях между действиями исполнителя и наступившим результатом имела место посторонняя сила, способствовавшая такому результату, однако эта сила была вызвана или направлена действием или бездействием самого исполнител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Организатором преступл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изнается лицо, организовавшее совершение преступления или руководившее его исполнением, а равно лицо, создавшее организованную преступную группу или преступное сообщество, либо руководившее и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онятие «организатор преступления» охватывает следующие формы деятельности: 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организация конкретного преступлен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руководство исполнением конкретного преступлен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создание организованной преступной групп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преступного сооб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ководство организованной группо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ководство преступным сообщество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7560"/>
            <a:ext cx="7570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Подстрекателем признается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ицо, склонившее другое лицо к совершению преступления путем уговора, подкупа, угрозы или другим способом. Деятельность этого соучастника характеризуется тем, что он вызывает у другого лица решимость или укрепляет в нем уже возникшее намерение совершить определенное преступл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стрекательство к совершению преступления возможно путем уговоров, обещаний, угроз, подкупа или другими способами. Результатом подстрекательства должно явиться совершение подстрекаемым того преступления, к которому склонял подстрекатель. Причиной совершения подстрекаемым преступления должно явиться поведение подстрекателя. Способы, которыми воспользовался подстрекатель, когда склонял подстрекаемого к совершению преступления, значения не имею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субъективной стороны деяние подстрекателя характеризуется прямым умыслом. Подстрекая кого-либо к совершению определенного преступления, виновный сознает общественно опасный характер своего действия, предвидит возможность или неизбежность общественно опасных последствий и желает их наступ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Пособник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907560"/>
            <a:ext cx="7859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ицо, содействовавшее совершению преступления советами, указаниями, предоставлением информации, орудий или средств совершения преступления либо устранением препятствий к совершению преступления, а также лицо, заранее обещавшее скрыть преступника, орудия или иные средства совершения преступления, следы преступления либо предметы, добытые преступным путе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действие совершению преступления может быть оказано дачей советов, указаний, предоставлением информации, средств или орудий для совершения преступления, устранением препятствий к его совершению. Пособник не принимает непосредственного участия в совершении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обничество может выражаться в моральной или материальной поддержке, активных действиях, а также в бездействии, когда лицо умышленно не выполняет своих служебных обязанностей по предотвращению преступления. Соучастие в виде пособничества предполагает, что пособник осведомлен о преступных намерениях исполнителя и помогает ему в их осуществл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оррупция означае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совращение, подкуп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порядок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извращенность, превратность (мнений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) расстройство, расшатанность, плохое состояние здоров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ррупция - это подкуп взятками, продажность должностных лиц, политических дея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 коррупцией понимаетс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предусмотренное законом принятие лично или через посредников имущественных благ и преимуществ лицами, выполняющими государственные функции, а также лицами приравненными к ним, с использованием своих должностных полномочий и связанных с ними возможностей, а равно подкуп данных лиц путем противоправного предоставления им физическими и юридическими лицами указанных благ и преимущест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рупционными преступлениями признаются должностные преступления, отвечающие всем основным признакам коррупционного правонару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Предметом уголов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002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вляются общественные отношения, которые возникают в связи с совершением преступ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бъектами правоотношения, с одной стороны выступают лица, совершившие преступные деяния, а с другой – государство в лице правоприменительных орг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Задачами уголовного права являются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прав и свобод человека и граждан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собствен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общественного порядка и безопас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окружающей сре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конституционного строя РК от преступных посяга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еспечение мира и безопасности человеч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упреждение преступ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Установлены следующие принципы уголовного права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ринцип законности – определяет, что преступность деяния, а так же и его наказуемость определяются только Уголовным кодекс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лько уголовный закон определяет, какие деяния признаются преступны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Принцип равенства граждан перед законом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оит в том, что лица совершившие преступления, равны перед законом и подлежат уголовной ответственности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инцип вин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ит в том, что лицо подлежит уголовной ответственности только за те общественно опасные действия (бездействия) и наступившие общественно опасные последствия, в отношении которых установлена его ви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ринцип закрепляет важное положение о том, что никто не может нести уголовную ответственность, если не установлена его личная персональная вина в отношении общественно опасного деяния и его последств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инцип справедливости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14716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лючается в том, что наказание и иные меры уголовно-правового характера, применяемые к лицу должны быть справедливыми, то есть соответствовать характеру и степени общественной опасности преступления, обстоятельствам его совершения и личности виновног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3:30:19Z</dcterms:created>
  <dc:creator>Михаил</dc:creator>
  <dc:description/>
  <dc:language>en-US</dc:language>
  <cp:lastModifiedBy>Михаил</cp:lastModifiedBy>
  <dcterms:modified xsi:type="dcterms:W3CDTF">2007-11-06T23:48:01Z</dcterms:modified>
  <cp:revision>7</cp:revision>
  <dc:subject/>
  <dc:title>    </dc:title>
</cp:coreProperties>
</file>