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  <p:sldId id="416" r:id="rId17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slide" Target="slides/slide161.xml"/><Relationship Id="rId1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05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67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dt" idx="34"/>
          </p:nvPr>
        </p:nvSpPr>
        <p:spPr>
          <a:xfrm>
            <a:off x="4277880" y="0"/>
            <a:ext cx="3267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35"/>
          </p:nvPr>
        </p:nvSpPr>
        <p:spPr>
          <a:xfrm>
            <a:off x="-36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36"/>
          </p:nvPr>
        </p:nvSpPr>
        <p:spPr>
          <a:xfrm>
            <a:off x="427788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59F8C-7C5E-42EA-A384-48A0B8FA84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854DF-40BC-4079-B072-2EE90D287E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2DFB5-3945-4DF2-B503-D5C0D4D5C0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2A714-AB46-467F-BCDD-DCED750FCD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0256-2301-4602-8E18-01B1630176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BCE86-4B7A-4F48-A01E-267F30DF43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3A168-821B-4A23-B0DB-4B56EB7B05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CA6E4-B23D-4401-A193-A2FB4EE132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67F54-C9AD-450D-95AC-528AB26C40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1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B3E07-D15F-4BF4-B542-A14D26F1D0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BC276-C693-4F1C-AAE3-FE19E92F8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7C291-68DC-49CC-BB24-C01F89E400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7644B-523B-410D-902D-0B41019D4A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78C1F-CE25-45AC-BCC5-8B4DB62B62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314C4-E8D6-41E2-89B7-99D202B785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FC5C5-F9C3-4412-BC9A-6B56BE0802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917B5-5CC7-46CE-9E2C-40C4AC7BAD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25522-1D1E-4C7A-B06A-B1DFFA88F0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DC207-560A-4033-9A46-0226E75707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74715-E085-498A-B4A4-B8C73FFA73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57D4D-2FE0-409A-95F4-D8C18A4457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3B509-73AF-43C7-9779-9D910F0A40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AE302-A53F-4CDA-98BF-63B3DAB654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B4EA7-D23C-45FC-BA30-6942706E96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5BD27-9B07-4C74-8EA5-AE3A7FCB45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49ACA-98C1-4A52-83F8-538B412873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3C288-77BF-4D26-90D3-FBEBCAA31F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8FC6E-AE1E-4205-ACC2-7BAE0CEDD1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2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AE5A3-6559-48B8-94EA-03F511191A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E4C55-FE97-4029-A465-4B4CC3F5F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8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D1B99-5AC6-4C2C-83F5-5B248AA85E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D3741-2925-4A52-A22A-7A0E0A7BE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B5DF9-560D-47E3-BE0E-D3D2917E22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FFB9F-F645-4881-9F54-33FA3EE50F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D5D50-AE07-4DAF-BE7C-7A961A398F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9120D-088F-4738-8155-0DB688A100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05339-6E5A-47F3-AFB2-FA5A812F40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AB651-F3E0-4BFB-9807-C01FE677A3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B056F-D3F4-43A0-8DB4-F1FD099ABD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AB89E-C5BB-4281-820B-AAC7B714E1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2E0E7-0C35-4B7C-8B0F-5E63FE6BCC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9F051-BE46-4A2B-87E9-E3C1812580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Text Box 1"/>
          <p:cNvSpPr/>
          <p:nvPr/>
        </p:nvSpPr>
        <p:spPr>
          <a:xfrm>
            <a:off x="888840" y="809640"/>
            <a:ext cx="49658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C0650-95CA-46C9-8306-F53CD198C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F56A9-7548-4087-A67D-85004A7537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79B4A-01E5-47B0-9107-FD31E3D02D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7FE4E-776A-4F82-8347-C650DB7E2E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3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F23C9-31E6-437F-8D28-5F0826EDD8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7AC53-FFFD-44A2-9F55-93C5E1C102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42C35-675A-41E7-9B3D-E64BDC005F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D7F43-1824-467B-9A0E-6A04A664CA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26DE2-8E51-493D-BBA4-0C42DCE4D7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5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9BE62-92BD-429A-BE9D-DDE72CCFE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38B61-DA25-4E04-8069-6A896A5A9E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E99CD-A972-4673-AD0D-1F168E7B65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FB442-E51B-4E0F-9228-56013478E1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EFCFE-BDAE-402C-A719-E81EAC6E57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5BE0A-8C5A-4911-A251-539253621D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7654-C952-4C57-99E6-E5042A65E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98B0C-FA71-4F0E-8F24-3889FDE37F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21217-B643-40EA-A9D7-471DF52242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7E2A4-0526-4650-AA3C-C23C6C455F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A0AC2-A545-4FCB-9097-255E8DAFED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EB25C-2395-4AC4-9663-D97E2A1CD1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09769-1765-449B-9823-BE7822551B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4C045-A1CE-4648-AD0A-1559BA1A34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1B34C-DA46-4BD0-8784-61C68C4A38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20760-6213-4D33-A035-A472A51440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2D8B2-E3D7-492B-AE54-D0F2F1B6E4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4DFAB-8AE6-415D-B493-563EDD4640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59FB8-FFDB-40F6-99F4-0AEE0979A5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9088C-FC41-44D0-8AD0-AD9EB427EE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C5C3F-D7BD-4CF9-BFEB-43BAEF37F5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3AD22-0AF9-4BFE-A8CB-CE9C1B305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828C0-4025-4140-9432-13EF27D30E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22712-3847-48F0-86D4-C8B3A33EB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AutoShape 3"/>
          <p:cNvSpPr/>
          <p:nvPr/>
        </p:nvSpPr>
        <p:spPr>
          <a:xfrm>
            <a:off x="900000" y="5580000"/>
            <a:ext cx="1800360" cy="180036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F008D-1D50-4DEA-92C9-ADDABE1362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8A3FB-CBC0-4946-BDEB-97EE4893DF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68D03-6B55-4A1C-B1B1-6EA66ED0E5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3AF85-19BB-4BFC-94D8-DE1B961FE6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731AF-476F-4733-AF16-27CD3052BC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92006-787A-4D5D-9F50-DB644854BF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01854-0A2A-4285-B6CB-678007D921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6211A-8AC2-4BED-A889-28BB141CDC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9C0F5-86D4-4481-92D7-A9750D1DBF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572A-1289-4EAA-8C1A-A1FDA2C0DD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E7FF3-4426-4A22-8800-11BFCAA6A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6C5F7-5291-440F-82D8-F805B75A7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4B28E-0B7F-4BA5-9106-967F7D2287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F7B27-12FA-4595-9F31-F0A04E2D01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20A65-281F-463E-AC17-D02450428C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D8A34-CDFF-4A70-9D70-2E0376FAE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5872A-D613-4BD6-B001-1EE2E00E34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1B7AB-F027-427D-A105-398155AD2F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E0D6D-8C4E-4984-B2BE-70D1DAE2E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2AB10-A77F-4B9E-A73B-BD2C9D278A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C468E-3F19-4821-8524-B7DF189850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D35E7-A996-4474-9339-F303E474E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E5B51-6E3F-44B6-80D3-0B48A3294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F7F5A-F3D8-4A26-8389-70C555BF0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5FB6B-8D1B-4A66-9834-92818D797D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0DA65-66BA-4A16-AD1E-D0BC674FAA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DDAD3-8880-483C-B018-42A86AB36A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0A872-2C3D-4242-BAEF-02A3E0BBA9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99D77-3162-4252-BB9E-8D58B0DBC6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EF7BD-E556-4055-BDC1-0A913DA44F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D7C27-7D04-432D-860F-33D051918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C50F4-50A5-43EC-923E-8E7CC4DDE9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893EB-1773-4FCE-9B64-01A731E7CC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0FA2E-E78A-47BF-8C15-B570D20131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512B6-9409-4DFD-8298-EA2A8C5162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1EEC0-4910-48E0-B029-ACBC29318A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6DA3D-6521-4C20-A0DA-61E8DD6EDB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AE621-1556-4039-9391-8661DD9BE6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09ADF-86ED-4F54-AB20-365E98016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E81B0-914E-412E-A9DE-D061C69B4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DAB4A-A985-4D9F-AAFE-2176339329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07150-FC95-4B99-9DDE-C4ECE22D41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38757-3E0D-462E-BB9B-77434862FB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171B4-0A0D-4C59-8BAB-284DD7227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B646D-5D7F-4D14-AE2A-36EA7DBD7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4EAA9-FA31-4349-82CE-B9463F172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E9CCD-2417-4A83-9E33-8F2691B5F1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E9315-CD9C-4F23-9436-370FA2EB3E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EA3EF-7FD7-49C9-8D04-ADA1D62D60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499F6-A4BB-4946-BCF1-7C85638AFC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898DD-5E71-4E58-98EC-ABC5D7CB48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87326-D67B-4CA4-888C-80F77DDD88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85601-A5B8-4A21-A2EF-450A3C33F5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7296B-B7E4-4F0F-9E76-FA0A639915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1BCD6-AFEF-4FA3-A086-64BF29757C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11D6C-A6B4-47F9-97E3-3CAF682BD6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2C631-33AB-45CD-B60B-A8BB14B54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581B9-55E7-4718-AE30-91A504DADB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7B43C-E821-4554-8055-A9E3F7A424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FE7D7-FA2A-4DEB-94C7-40CAB47987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DA614-DF53-4688-9D08-BAFFFC121B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3097C-35BD-4622-8CA7-D3606E0B28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354C8-1F87-4FF4-9098-ADF5792CE4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0031F-6252-444B-A29B-A581CD90B6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5BE95-DF9D-4FF1-9270-7348C57397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80282-AFE2-41DE-B222-520DC07855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5C26E-4026-4788-9BBC-77576E8381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09BEB-60E3-4C0B-AC34-189DA1E3EE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B7F23-4966-4542-BB97-DCCADC9B14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6EF88-997C-400D-A73E-2E9EA4DEDA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43EEB-90ED-4CD6-B5EB-32F6C506FD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D93F9-363A-40B8-BDB0-897A87EBAB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2BD38-EFB0-48C9-A78E-1CE389294D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096DF-3D54-47AA-9E7A-F0E2574610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E26AE-40F0-4097-B011-76B8F2B30B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B0FDA-0C75-417F-BA66-968164E463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4E286-3932-4A1D-A247-25FB226E9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6D593-4A41-4455-A599-3A2E2FCE0C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FD05B-565F-465B-B590-5D80090C46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EA34B-7795-49BD-92D4-5055AE0EBC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5DF9D-3025-4826-8F75-42D4137A75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E8130-518C-460E-949E-D38C49E951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EEE5A-0FDC-410D-927F-94147B9968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0D4F5-3FDD-4FC5-B57F-274BB05D4F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9D99B-82B0-47BC-99BE-A2289A3AA1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89ADC-08EA-4FAE-A77C-5E2F3018D4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Rectangle 14"/>
          <p:cNvSpPr/>
          <p:nvPr/>
        </p:nvSpPr>
        <p:spPr>
          <a:xfrm>
            <a:off x="4278240" y="10156680"/>
            <a:ext cx="32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25879-5FCB-4EEA-ACC3-30B3C955A3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Text Box 1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182-6FE5-4A66-912F-D8B16004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436-05AE-46F0-AD72-8D82ED5F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8383D-53EB-4053-8674-24FC380F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EFEBF-7049-4AFB-AA27-BB0E40B6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01112-B4A5-4C0A-9274-ACEAC55C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B898B-F80B-41D0-9B5D-95099EB1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58334-14FA-4D34-B201-692E66C5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8BC7E-D6FF-4576-8578-FD9952A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8FE5B-94E0-4160-BD26-4DF170AD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07F34-F646-4922-9275-9FAB8D0A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8ADA5-89BC-41EB-A45D-71FA54BF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EBECE-3637-4317-8356-55DB1D82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AE2-14AE-4D82-9ABE-CAE94030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53CB0-97C6-450A-9588-9307E491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5184C-D768-495B-9274-55A88CC9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1DBFA-0CBC-4108-A1BC-E203B61B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7799-7994-453F-9A01-8F62E307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31647-4453-4E11-8B04-5E205CEF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1E63E-F8B1-48E2-9BF0-65475650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7F9A6-0320-475B-96B0-7153B1D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A8979-860A-41B9-9AFF-33B2306E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6117A-306A-441F-B1CB-F87214C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67DAE-4D97-47D3-A202-7F359C76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626-4E3A-4993-9E72-27ECC1FE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394F0-04C9-48C2-AEB7-EA427EC1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C5B3A-2BDE-4BFC-AB1A-05647FD8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641F4-F7DA-4EB7-92D4-D4FED282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21564-1C59-4783-8ADC-C44B8205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3814A-F705-47C5-A245-7B5DF4CB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A1A78-ACB0-44EA-BCC6-383F500F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852B3-B727-43AE-A59A-E8E7193E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E01A6-824E-4644-96EC-0E5A7D52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DDE7C-B087-45BD-AA04-050E2B0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AC5DE-66D1-4DDB-8543-049092A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FA4B-32EF-49D9-81E0-BA379BFF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5E3DE-0ADA-497D-86A1-46008DEB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58D83-B481-4D67-9565-38E5ED48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891F0-BE71-414B-9C1A-40889607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8FD0-C763-4549-813E-B87C82AF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1079-B4CE-4423-BAAB-8E24BECE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A717-472E-4273-B5FA-7081A27D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4938-F6B4-4E3A-8BA8-16D6273E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590B-E1ED-4ADA-979D-19387223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AB4C-7E2C-4369-A70E-1B3CB12B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66B-FCD3-416A-89B4-A42B06CC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EE03-BB29-439D-BBDE-90410D13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E99C-41A6-492D-B187-7E6CE50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CFDB-F8B3-4E03-B021-44301DE9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4E49-BB00-465D-B450-7F89018F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CAE5-D647-4E7A-A65D-362A553E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7100-9BA5-4939-A59A-694F13F6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200C-B7DF-4BB6-AD8C-CEB443B5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E6C3-FA04-48FB-94A4-CBF98254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FC47-CC9A-44B0-B638-2DE8C64A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C13E-2257-4CBF-85FA-5BAB5F98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CFD-8136-411D-9FD6-44CD5C2D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3FB2-E004-4D93-AE6E-2C99DAC7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D812-D925-4DDF-8C06-6EBC025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07FA-62DC-4589-BE21-2A6A7FB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5842-375A-4C2A-8FDD-1192AD9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F9A8-F5F8-4588-A625-7A3D0223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D3674-9010-4D69-9EE0-E3935E64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86B9-5D14-487C-8E0B-BA4042AA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4E2E-C4B2-40F5-99C0-9FEB5C46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9D4F5-F6BD-43C6-9A98-519EC884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60D3-A59F-4151-AB03-E35CDC6E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2B8-BE27-4D19-BB13-CBD27645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BFB3E-162C-4A28-BD10-AB3915B6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19ECB-118A-4B59-B0F4-4C25730E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55C3A-0A43-4108-9959-75058579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2D2C6-C851-4F54-A77C-13AA3492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6101-9A02-4DC8-A4F9-64E7158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F3369-452D-4738-ADE9-18560492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901C-2322-468C-B30B-6851DFD2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8C4C1-95F2-4167-A680-4D7CC293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76B85-D877-4AC4-AB8B-35E3BE3B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A3C00-4B4E-4E12-BA78-DEF0BFD9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D20-CBC2-4011-978F-9618AC6B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1697-582E-4047-AEDA-B70F890A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5FAC9-0DC5-4F21-8CE4-14AF6E68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33DB0-BE34-4D91-B81E-2AC80226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E4421-FF39-4123-92BE-C5706AE1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956A-51B8-4B0D-A36F-93B21D64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BAD0E-8AC4-4311-AEF3-3CDFBFE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AE9C-F4C2-4800-BADD-B8E087FA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C26E4-5621-405B-9FD3-ED878EB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692D7-010E-4C6E-BDB6-54DE2BDC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18DA8-06EA-4C60-A2F9-D515A3C9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9EF-4282-479B-B60F-F6272FAE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2C350-2DB2-4D8C-AF3B-2FB4739C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93ED1-D21E-4D1B-8588-AAB5F4B9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F4D05-EBD3-46E4-AC9F-2E245BC1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7C95-0D20-4905-A3DF-2210A034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08FA2-D384-497F-97EC-2EF2F66A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AA0DB-F927-45C8-B3B5-26B94688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BB532-11DE-496F-BC7B-54EB5BE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A821-CC39-4864-A23C-6BBC53A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A0BA0-5AEB-48AB-AE70-5944901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DE1C-28FB-4AA0-AD60-0242FE06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261-B2F0-4BD5-9731-4480B178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8AAC0-903E-427A-BC50-3168108D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B78A-F602-4297-BBE8-3F48DF9B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F3EC4-CD46-40B4-98A2-EEB40E71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19AD9-2F53-473C-B766-C1BC2A35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D3C15-F2E4-40F4-BBA7-88608EF2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620F8-3016-4C95-B838-74656BAB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E63EB-0D95-45F4-8156-B57F0E54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7F6DD-E962-4F5A-93C9-DF8C477B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3EAC6-18A9-4DBC-B13D-A9FC4183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DC180-27CF-47C0-B5A3-791B6826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250-58B6-4DAE-BAB1-2CE07B93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E9C6A-4C39-4C24-8171-AF092A45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439DB-74B0-4E63-8FBC-E79CDB3D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9823A-211F-4532-BEB2-4EF637E1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394E2-FB2F-46B9-BB57-5ED78D16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F8FCD-E190-47DE-9F79-2812F23C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C1E3F-2E96-4983-A593-319E31DF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119DA-687D-41F3-A8EE-D29C4E33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6BBD0-9EA1-47D9-9CAC-D8E50D8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8A454-11FC-4496-8205-F8B25A7A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F1EED-1FDC-4589-872E-7B226040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8A7-F366-4078-BD55-67646BF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174240"/>
            <a:ext cx="905832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4BC77-A660-4AA3-BBBF-FEBD144F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E5E1D-2293-4A0F-9AF7-CA198B33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87BF1-CBAD-449D-8268-002A1180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066C7-1244-4BFB-932E-7CFAD6EB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8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B900F-1429-4821-B1D7-759B19E0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5120" y="4374000"/>
            <a:ext cx="4420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AD632-1C9D-47FB-9B59-068E715F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580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28320" y="4374000"/>
            <a:ext cx="29163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F41B9-F099-49D7-AB12-E1F1CDDE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0A08B-A29E-4699-9A08-A36554CD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40C3E-3CBE-42FB-A14D-9CF7C995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F0458-3256-4878-A8E4-14928522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166320"/>
            <a:ext cx="90518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1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3120" indent="-2811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4760" indent="-2127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6400" indent="-1951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8400" indent="-1969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4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A5EC7-5EAC-4825-BB8F-4A3D20F1DA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d5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82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4560" indent="-282600">
              <a:lnSpc>
                <a:spcPct val="82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6200" indent="-212400">
              <a:lnSpc>
                <a:spcPct val="82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8200" indent="-196920">
              <a:lnSpc>
                <a:spcPct val="82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9840" indent="-198360">
              <a:lnSpc>
                <a:spcPct val="82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9840" indent="-198360">
              <a:lnSpc>
                <a:spcPct val="8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9840" indent="-198360">
              <a:lnSpc>
                <a:spcPct val="8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3280" y="6886080"/>
            <a:ext cx="23335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7720" y="6886080"/>
            <a:ext cx="31813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360" y="6886080"/>
            <a:ext cx="23338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7E415-D467-4CE2-B0F0-A6283909C2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bd5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174240"/>
            <a:ext cx="9058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8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82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4560" indent="-282600">
              <a:lnSpc>
                <a:spcPct val="82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6200" indent="-212400">
              <a:lnSpc>
                <a:spcPct val="82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8200" indent="-196920">
              <a:lnSpc>
                <a:spcPct val="82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9840" indent="-198360">
              <a:lnSpc>
                <a:spcPct val="82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9840" indent="-198360">
              <a:lnSpc>
                <a:spcPct val="8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9840" indent="-198360">
              <a:lnSpc>
                <a:spcPct val="8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3280" y="6886080"/>
            <a:ext cx="23335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7720" y="6886080"/>
            <a:ext cx="31813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360" y="6886080"/>
            <a:ext cx="23338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FA771-6A92-4209-943B-E2C8F3B02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166320"/>
            <a:ext cx="90518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1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3120" indent="-2811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4760" indent="-2127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6400" indent="-1951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8400" indent="-1969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74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BF909-B955-44C4-A673-C203E55891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166320"/>
            <a:ext cx="90518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1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3120" indent="-2811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4760" indent="-2127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6400" indent="-1951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8400" indent="-1969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74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A45F0-A47E-4A8B-9CAA-93AB1F7F9C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166320"/>
            <a:ext cx="90518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1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3120" indent="-2811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4760" indent="-2127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6400" indent="-1951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8400" indent="-1969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74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593F8-DF5B-43A5-9E85-39ECAA04E6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166320"/>
            <a:ext cx="90518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1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3120" indent="-2811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4760" indent="-2127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6400" indent="-1951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8400" indent="-1969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7720" y="6886080"/>
            <a:ext cx="3174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36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C934B-BC7F-4A81-9907-303B83B1AC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166320"/>
            <a:ext cx="90518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1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3120" indent="-2811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4760" indent="-2127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6400" indent="-1951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8400" indent="-1969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7720" y="6886080"/>
            <a:ext cx="3174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36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A7D4B-BC32-4F48-BD4C-53E58CAB88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166320"/>
            <a:ext cx="90518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1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3120" indent="-2811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4760" indent="-2127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6400" indent="-1951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8400" indent="-1969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7720" y="6886080"/>
            <a:ext cx="3174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36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68155-A1C7-45D8-9BCD-765014548E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166320"/>
            <a:ext cx="90518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1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3120" indent="-2811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4760" indent="-2127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6400" indent="-1951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8400" indent="-1969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7720" y="6886080"/>
            <a:ext cx="3174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36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8A5B4-B638-429A-979F-7ACF5BE546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66320"/>
            <a:ext cx="90518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1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43120" indent="-2811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4760" indent="-21276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6400" indent="-1951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8400" indent="-196920">
              <a:lnSpc>
                <a:spcPct val="81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8400" indent="-19692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7720" y="6886080"/>
            <a:ext cx="3174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360" y="6886080"/>
            <a:ext cx="2327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74179-683F-46D1-9817-C4D0C868DB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" Target="slide157.xml"/><Relationship Id="rId4" Type="http://schemas.openxmlformats.org/officeDocument/2006/relationships/image" Target="../media/image1.png"/><Relationship Id="rId5" Type="http://schemas.openxmlformats.org/officeDocument/2006/relationships/slide" Target="slide151.xml"/><Relationship Id="rId6" Type="http://schemas.openxmlformats.org/officeDocument/2006/relationships/image" Target="../media/image1.png"/><Relationship Id="rId7" Type="http://schemas.openxmlformats.org/officeDocument/2006/relationships/slide" Target="slide149.xml"/><Relationship Id="rId8" Type="http://schemas.openxmlformats.org/officeDocument/2006/relationships/image" Target="../media/image1.png"/><Relationship Id="rId9" Type="http://schemas.openxmlformats.org/officeDocument/2006/relationships/slide" Target="slide143.xml"/><Relationship Id="rId10" Type="http://schemas.openxmlformats.org/officeDocument/2006/relationships/image" Target="../media/image1.png"/><Relationship Id="rId11" Type="http://schemas.openxmlformats.org/officeDocument/2006/relationships/slide" Target="slide136.xml"/><Relationship Id="rId12" Type="http://schemas.openxmlformats.org/officeDocument/2006/relationships/image" Target="../media/image1.png"/><Relationship Id="rId13" Type="http://schemas.openxmlformats.org/officeDocument/2006/relationships/slide" Target="slide127.xml"/><Relationship Id="rId14" Type="http://schemas.openxmlformats.org/officeDocument/2006/relationships/image" Target="../media/image1.png"/><Relationship Id="rId15" Type="http://schemas.openxmlformats.org/officeDocument/2006/relationships/slide" Target="slide111.xml"/><Relationship Id="rId16" Type="http://schemas.openxmlformats.org/officeDocument/2006/relationships/image" Target="../media/image1.png"/><Relationship Id="rId17" Type="http://schemas.openxmlformats.org/officeDocument/2006/relationships/slide" Target="slide80.xml"/><Relationship Id="rId18" Type="http://schemas.openxmlformats.org/officeDocument/2006/relationships/image" Target="../media/image1.png"/><Relationship Id="rId19" Type="http://schemas.openxmlformats.org/officeDocument/2006/relationships/slide" Target="slide68.xml"/><Relationship Id="rId20" Type="http://schemas.openxmlformats.org/officeDocument/2006/relationships/image" Target="../media/image1.png"/><Relationship Id="rId21" Type="http://schemas.openxmlformats.org/officeDocument/2006/relationships/slide" Target="slide57.xml"/><Relationship Id="rId22" Type="http://schemas.openxmlformats.org/officeDocument/2006/relationships/image" Target="../media/image1.png"/><Relationship Id="rId23" Type="http://schemas.openxmlformats.org/officeDocument/2006/relationships/slide" Target="slide48.xml"/><Relationship Id="rId24" Type="http://schemas.openxmlformats.org/officeDocument/2006/relationships/image" Target="../media/image1.png"/><Relationship Id="rId25" Type="http://schemas.openxmlformats.org/officeDocument/2006/relationships/slide" Target="slide35.xml"/><Relationship Id="rId26" Type="http://schemas.openxmlformats.org/officeDocument/2006/relationships/image" Target="../media/image1.png"/><Relationship Id="rId27" Type="http://schemas.openxmlformats.org/officeDocument/2006/relationships/slide" Target="slide28.xml"/><Relationship Id="rId28" Type="http://schemas.openxmlformats.org/officeDocument/2006/relationships/image" Target="../media/image1.png"/><Relationship Id="rId29" Type="http://schemas.openxmlformats.org/officeDocument/2006/relationships/slide" Target="slide19.xm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09.xml"/><Relationship Id="rId3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179280" y="179280"/>
            <a:ext cx="9541080" cy="73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ФИЛОСО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Учебное пособие для студ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2"/>
          <p:cNvSpPr/>
          <p:nvPr/>
        </p:nvSpPr>
        <p:spPr>
          <a:xfrm>
            <a:off x="503280" y="1258920"/>
            <a:ext cx="1260360" cy="25210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ГП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Group 2"/>
          <p:cNvGrpSpPr/>
          <p:nvPr/>
        </p:nvGrpSpPr>
        <p:grpSpPr>
          <a:xfrm>
            <a:off x="539640" y="360360"/>
            <a:ext cx="9178920" cy="6657480"/>
            <a:chOff x="539640" y="360360"/>
            <a:chExt cx="9178920" cy="6657480"/>
          </a:xfrm>
        </p:grpSpPr>
        <p:grpSp>
          <p:nvGrpSpPr>
            <p:cNvPr id="603" name="Group 3"/>
            <p:cNvGrpSpPr/>
            <p:nvPr/>
          </p:nvGrpSpPr>
          <p:grpSpPr>
            <a:xfrm>
              <a:off x="539640" y="1260360"/>
              <a:ext cx="9176760" cy="5757480"/>
              <a:chOff x="539640" y="1260360"/>
              <a:chExt cx="9176760" cy="5757480"/>
            </a:xfrm>
          </p:grpSpPr>
          <p:grpSp>
            <p:nvGrpSpPr>
              <p:cNvPr id="604" name="Group 4"/>
              <p:cNvGrpSpPr/>
              <p:nvPr/>
            </p:nvGrpSpPr>
            <p:grpSpPr>
              <a:xfrm>
                <a:off x="539640" y="1260360"/>
                <a:ext cx="9176760" cy="5757480"/>
                <a:chOff x="539640" y="1260360"/>
                <a:chExt cx="9176760" cy="5757480"/>
              </a:xfrm>
            </p:grpSpPr>
            <p:sp>
              <p:nvSpPr>
                <p:cNvPr id="605" name="Text Box 5"/>
                <p:cNvSpPr/>
                <p:nvPr/>
              </p:nvSpPr>
              <p:spPr>
                <a:xfrm>
                  <a:off x="539640" y="1260360"/>
                  <a:ext cx="4095720" cy="11520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GB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ировоззренческая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Text Box 6"/>
                <p:cNvSpPr/>
                <p:nvPr/>
              </p:nvSpPr>
              <p:spPr>
                <a:xfrm>
                  <a:off x="4589280" y="1260360"/>
                  <a:ext cx="5127120" cy="11520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вязана с формированем индивидуального или коллективного мировоззрения – системы общих представлений о мире и человеке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Text Box 7"/>
                <p:cNvSpPr/>
                <p:nvPr/>
              </p:nvSpPr>
              <p:spPr>
                <a:xfrm>
                  <a:off x="539640" y="5865840"/>
                  <a:ext cx="4095720" cy="11520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GB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енностная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Text Box 8"/>
                <p:cNvSpPr/>
                <p:nvPr/>
              </p:nvSpPr>
              <p:spPr>
                <a:xfrm>
                  <a:off x="4589280" y="5865840"/>
                  <a:ext cx="5127120" cy="11520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вязана с осмыслением и обоснованием значимости духовных ценностей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Text Box 9"/>
                <p:cNvSpPr/>
                <p:nvPr/>
              </p:nvSpPr>
              <p:spPr>
                <a:xfrm>
                  <a:off x="539640" y="4715280"/>
                  <a:ext cx="4095720" cy="11520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GB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огическая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10"/>
                <p:cNvSpPr/>
                <p:nvPr/>
              </p:nvSpPr>
              <p:spPr>
                <a:xfrm>
                  <a:off x="4589280" y="4715280"/>
                  <a:ext cx="5127120" cy="11520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вязана с осмыслением и формулированием общих законов рационального мышления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Text Box 11"/>
                <p:cNvSpPr/>
                <p:nvPr/>
              </p:nvSpPr>
              <p:spPr>
                <a:xfrm>
                  <a:off x="539640" y="3563280"/>
                  <a:ext cx="4095720" cy="1151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GB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етодологическая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Text Box 12"/>
                <p:cNvSpPr/>
                <p:nvPr/>
              </p:nvSpPr>
              <p:spPr>
                <a:xfrm>
                  <a:off x="4589280" y="3563280"/>
                  <a:ext cx="5127120" cy="1151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вязана с разработкой общих принципов и методов познавательной и практической деятельности человека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Text Box 13"/>
                <p:cNvSpPr/>
                <p:nvPr/>
              </p:nvSpPr>
              <p:spPr>
                <a:xfrm>
                  <a:off x="539640" y="2410920"/>
                  <a:ext cx="4095720" cy="11520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GB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знавательная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Text Box 14"/>
                <p:cNvSpPr/>
                <p:nvPr/>
              </p:nvSpPr>
              <p:spPr>
                <a:xfrm>
                  <a:off x="4589280" y="2410920"/>
                  <a:ext cx="5127120" cy="11520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вязана с познованием  мира и человека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5" name="Text Box 15"/>
            <p:cNvSpPr/>
            <p:nvPr/>
          </p:nvSpPr>
          <p:spPr>
            <a:xfrm>
              <a:off x="539640" y="360360"/>
              <a:ext cx="9178920" cy="720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 функции философи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1"/>
          <p:cNvSpPr/>
          <p:nvPr/>
        </p:nvSpPr>
        <p:spPr>
          <a:xfrm>
            <a:off x="0" y="46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7" name="Group 2"/>
          <p:cNvGrpSpPr/>
          <p:nvPr/>
        </p:nvGrpSpPr>
        <p:grpSpPr>
          <a:xfrm>
            <a:off x="539640" y="179280"/>
            <a:ext cx="9180720" cy="7018200"/>
            <a:chOff x="539640" y="179280"/>
            <a:chExt cx="9180720" cy="7018200"/>
          </a:xfrm>
        </p:grpSpPr>
        <p:sp>
          <p:nvSpPr>
            <p:cNvPr id="1758" name="AutoShape 3"/>
            <p:cNvSpPr/>
            <p:nvPr/>
          </p:nvSpPr>
          <p:spPr>
            <a:xfrm>
              <a:off x="3096360" y="1139400"/>
              <a:ext cx="4284000" cy="5340600"/>
            </a:xfrm>
            <a:custGeom>
              <a:avLst/>
              <a:gdLst>
                <a:gd name="textAreaLeft" fmla="*/ 360 w 4284000"/>
                <a:gd name="textAreaRight" fmla="*/ 4283640 w 4284000"/>
                <a:gd name="textAreaTop" fmla="*/ 360 h 5340600"/>
                <a:gd name="textAreaBottom" fmla="*/ 5340240 h 5340600"/>
              </a:gdLst>
              <a:ahLst/>
              <a:rect l="textAreaLeft" t="textAreaTop" r="textAreaRight" b="textAreaBottom"/>
              <a:pathLst>
                <a:path w="21600" h="26927">
                  <a:moveTo>
                    <a:pt x="8" y="0"/>
                  </a:moveTo>
                  <a:arcTo wR="8" hR="8" stAng="16200000" swAng="-5400000"/>
                  <a:lnTo>
                    <a:pt x="0" y="26919"/>
                  </a:lnTo>
                  <a:arcTo wR="8" hR="8" stAng="10800000" swAng="-5400000"/>
                  <a:lnTo>
                    <a:pt x="21592" y="26927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9" name="Group 4"/>
            <p:cNvGrpSpPr/>
            <p:nvPr/>
          </p:nvGrpSpPr>
          <p:grpSpPr>
            <a:xfrm>
              <a:off x="3599640" y="179280"/>
              <a:ext cx="3418920" cy="598320"/>
              <a:chOff x="3599640" y="179280"/>
              <a:chExt cx="3418920" cy="598320"/>
            </a:xfrm>
          </p:grpSpPr>
          <p:sp>
            <p:nvSpPr>
              <p:cNvPr id="1760" name="Text Box 5"/>
              <p:cNvSpPr/>
              <p:nvPr/>
            </p:nvSpPr>
            <p:spPr>
              <a:xfrm>
                <a:off x="3599640" y="179280"/>
                <a:ext cx="3418920" cy="59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1" name="Text Box 6"/>
            <p:cNvSpPr/>
            <p:nvPr/>
          </p:nvSpPr>
          <p:spPr>
            <a:xfrm>
              <a:off x="539640" y="1079280"/>
              <a:ext cx="9180720" cy="30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вергал идею первотолчка, считал поиски первопричины всего сущего бессмысленным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нул мысль о том, что центральным понятием философии является понятие опыта, вокруг изучения которого надо построить все философские исследовани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 опытом понимал все то, что имеется в человеческом сознании, как врожденное, так и приобретенное в процессе человеческой жизн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ую роль отводил человеческому сознанию как носителю опыт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лил опыт на чувственный, сверхестественный (спиритический, духовный), религиозный, моральный, а также художественный, социальный, культурный и другой, что в совокупности охватывает все сферы жизн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Text Box 7"/>
            <p:cNvSpPr/>
            <p:nvPr/>
          </p:nvSpPr>
          <p:spPr>
            <a:xfrm>
              <a:off x="539640" y="5757840"/>
              <a:ext cx="9180720" cy="14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читали, что философия в тесной связи с опытом помогает найти истину, которая ведет к новому опыту и в дальнейшем к достижению поставленных целей (т.е. является связующим звеном внутри цепочки опыта и между опытом и поставленной целью);Дьюи новаторски развил данную идею и уточнил задачи философи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3" name="Group 8"/>
            <p:cNvGrpSpPr/>
            <p:nvPr/>
          </p:nvGrpSpPr>
          <p:grpSpPr>
            <a:xfrm>
              <a:off x="3958560" y="4318560"/>
              <a:ext cx="5577480" cy="1258560"/>
              <a:chOff x="3958560" y="4318560"/>
              <a:chExt cx="5577480" cy="1258560"/>
            </a:xfrm>
          </p:grpSpPr>
          <p:sp>
            <p:nvSpPr>
              <p:cNvPr id="1764" name="Oval 9"/>
              <p:cNvSpPr/>
              <p:nvPr/>
            </p:nvSpPr>
            <p:spPr>
              <a:xfrm>
                <a:off x="3958560" y="4318560"/>
                <a:ext cx="5577480" cy="12585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Text Box 10"/>
              <p:cNvSpPr/>
              <p:nvPr/>
            </p:nvSpPr>
            <p:spPr>
              <a:xfrm>
                <a:off x="4784760" y="4503960"/>
                <a:ext cx="3927240" cy="8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мочь человеку в потоке опыта двигаться по направлению к поставленной цели и достигать её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11"/>
            <p:cNvGrpSpPr/>
            <p:nvPr/>
          </p:nvGrpSpPr>
          <p:grpSpPr>
            <a:xfrm>
              <a:off x="539640" y="4318560"/>
              <a:ext cx="3239640" cy="1258560"/>
              <a:chOff x="539640" y="4318560"/>
              <a:chExt cx="3239640" cy="1258560"/>
            </a:xfrm>
          </p:grpSpPr>
          <p:sp>
            <p:nvSpPr>
              <p:cNvPr id="1767" name="AutoShape 12"/>
              <p:cNvSpPr/>
              <p:nvPr/>
            </p:nvSpPr>
            <p:spPr>
              <a:xfrm>
                <a:off x="539640" y="4318560"/>
                <a:ext cx="3239640" cy="1255320"/>
              </a:xfrm>
              <a:prstGeom prst="rightArrowCallout">
                <a:avLst>
                  <a:gd name="adj1" fmla="val 25002"/>
                  <a:gd name="adj2" fmla="val 25000"/>
                  <a:gd name="adj3" fmla="val 43012"/>
                  <a:gd name="adj4" fmla="val 6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Text Box 13"/>
              <p:cNvSpPr/>
              <p:nvPr/>
            </p:nvSpPr>
            <p:spPr>
              <a:xfrm>
                <a:off x="539640" y="4318560"/>
                <a:ext cx="2159280" cy="12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Цель философии (по Дьюи, Джемсу и др.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9" name="Text Box 14"/>
            <p:cNvSpPr/>
            <p:nvPr/>
          </p:nvSpPr>
          <p:spPr>
            <a:xfrm>
              <a:off x="539640" y="179280"/>
              <a:ext cx="9180720" cy="720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мериканский прагматизм. Эмпиризм Д. Дью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0" name="Group 1"/>
          <p:cNvGrpSpPr/>
          <p:nvPr/>
        </p:nvGrpSpPr>
        <p:grpSpPr>
          <a:xfrm>
            <a:off x="720720" y="360360"/>
            <a:ext cx="8818560" cy="6838560"/>
            <a:chOff x="720720" y="360360"/>
            <a:chExt cx="8818560" cy="6838560"/>
          </a:xfrm>
        </p:grpSpPr>
        <p:sp>
          <p:nvSpPr>
            <p:cNvPr id="1771" name="AutoShape 2"/>
            <p:cNvSpPr/>
            <p:nvPr/>
          </p:nvSpPr>
          <p:spPr>
            <a:xfrm>
              <a:off x="3255120" y="925200"/>
              <a:ext cx="4168080" cy="5408640"/>
            </a:xfrm>
            <a:custGeom>
              <a:avLst/>
              <a:gdLst>
                <a:gd name="textAreaLeft" fmla="*/ 360 w 4168080"/>
                <a:gd name="textAreaRight" fmla="*/ 4167720 w 4168080"/>
                <a:gd name="textAreaTop" fmla="*/ 360 h 5408640"/>
                <a:gd name="textAreaBottom" fmla="*/ 5408280 h 5408640"/>
              </a:gdLst>
              <a:ahLst/>
              <a:rect l="textAreaLeft" t="textAreaTop" r="textAreaRight" b="textAreaBottom"/>
              <a:pathLst>
                <a:path w="21600" h="28028">
                  <a:moveTo>
                    <a:pt x="8" y="0"/>
                  </a:moveTo>
                  <a:arcTo wR="8" hR="8" stAng="16200000" swAng="-5400000"/>
                  <a:lnTo>
                    <a:pt x="0" y="28020"/>
                  </a:lnTo>
                  <a:arcTo wR="8" hR="8" stAng="10800000" swAng="-5400000"/>
                  <a:lnTo>
                    <a:pt x="21592" y="28028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Text Box 3"/>
            <p:cNvSpPr/>
            <p:nvPr/>
          </p:nvSpPr>
          <p:spPr>
            <a:xfrm>
              <a:off x="1631520" y="360360"/>
              <a:ext cx="7172640" cy="7030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и пути совершенствования опыта Д. Дью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4"/>
            <p:cNvSpPr/>
            <p:nvPr/>
          </p:nvSpPr>
          <p:spPr>
            <a:xfrm>
              <a:off x="5834520" y="3418560"/>
              <a:ext cx="3704400" cy="34236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Text Box 5"/>
            <p:cNvSpPr/>
            <p:nvPr/>
          </p:nvSpPr>
          <p:spPr>
            <a:xfrm>
              <a:off x="720720" y="1292040"/>
              <a:ext cx="4869360" cy="2307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ая реконструкция – совершенствование самого общества – является важнейшим условием совершенствования опыта, поскольку значительная доля опыта накапливается при взаимодействии индивида с обществом и внутри общества.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Text Box 6"/>
            <p:cNvSpPr/>
            <p:nvPr/>
          </p:nvSpPr>
          <p:spPr>
            <a:xfrm>
              <a:off x="6555240" y="1292040"/>
              <a:ext cx="2983680" cy="1948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вершенствование мышления (также на основе научных методов) – третий важнейший путь реконструкц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AutoShape 7"/>
            <p:cNvSpPr/>
            <p:nvPr/>
          </p:nvSpPr>
          <p:spPr>
            <a:xfrm>
              <a:off x="5799600" y="1063440"/>
              <a:ext cx="603000" cy="2177280"/>
            </a:xfrm>
            <a:prstGeom prst="downArrow">
              <a:avLst>
                <a:gd name="adj1" fmla="val 50000"/>
                <a:gd name="adj2" fmla="val 90269"/>
              </a:avLst>
            </a:prstGeom>
            <a:solidFill>
              <a:srgbClr val="94bd5e">
                <a:alpha val="4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"/>
            <p:cNvSpPr/>
            <p:nvPr/>
          </p:nvSpPr>
          <p:spPr>
            <a:xfrm flipH="1">
              <a:off x="3383640" y="1063440"/>
              <a:ext cx="114876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9"/>
            <p:cNvSpPr/>
            <p:nvPr/>
          </p:nvSpPr>
          <p:spPr>
            <a:xfrm>
              <a:off x="7113960" y="1063440"/>
              <a:ext cx="83952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AutoShape 10"/>
            <p:cNvSpPr/>
            <p:nvPr/>
          </p:nvSpPr>
          <p:spPr>
            <a:xfrm>
              <a:off x="7721640" y="3761280"/>
              <a:ext cx="631440" cy="266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Text Box 11"/>
            <p:cNvSpPr/>
            <p:nvPr/>
          </p:nvSpPr>
          <p:spPr>
            <a:xfrm>
              <a:off x="720720" y="4139280"/>
              <a:ext cx="8818560" cy="305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ьюи обращает внимание на то, что человечество достигло высочайших результатов во всех сферах жизни (особенно в науке и технике) благодаря разработке и внедрению в производство новейших научных методов, «высоких технологий»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 же время ни научные методы, ни высокие технологии абсолютно не применяются к управлению обществом, морали, опыту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едовательно, опыт можно преобразовать, используя совершенные научные методы и высокие технологии, причем внедрять данные методы и технологии необходимо прежде всего в образование и через образование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Group 1"/>
          <p:cNvGrpSpPr/>
          <p:nvPr/>
        </p:nvGrpSpPr>
        <p:grpSpPr>
          <a:xfrm>
            <a:off x="712800" y="360360"/>
            <a:ext cx="9005400" cy="6838560"/>
            <a:chOff x="712800" y="360360"/>
            <a:chExt cx="9005400" cy="6838560"/>
          </a:xfrm>
        </p:grpSpPr>
        <p:sp>
          <p:nvSpPr>
            <p:cNvPr id="1782" name="AutoShape 2"/>
            <p:cNvSpPr/>
            <p:nvPr/>
          </p:nvSpPr>
          <p:spPr>
            <a:xfrm>
              <a:off x="7910640" y="3418560"/>
              <a:ext cx="479160" cy="393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AutoShape 3"/>
            <p:cNvSpPr/>
            <p:nvPr/>
          </p:nvSpPr>
          <p:spPr>
            <a:xfrm>
              <a:off x="3448800" y="541080"/>
              <a:ext cx="4462920" cy="6068520"/>
            </a:xfrm>
            <a:custGeom>
              <a:avLst/>
              <a:gdLst>
                <a:gd name="textAreaLeft" fmla="*/ 360 w 4462920"/>
                <a:gd name="textAreaRight" fmla="*/ 4462560 w 4462920"/>
                <a:gd name="textAreaTop" fmla="*/ 360 h 6068520"/>
                <a:gd name="textAreaBottom" fmla="*/ 6068160 h 6068520"/>
              </a:gdLst>
              <a:ahLst/>
              <a:rect l="textAreaLeft" t="textAreaTop" r="textAreaRight" b="textAreaBottom"/>
              <a:pathLst>
                <a:path w="21600" h="29370">
                  <a:moveTo>
                    <a:pt x="7" y="0"/>
                  </a:moveTo>
                  <a:arcTo wR="7" hR="7" stAng="16200000" swAng="-5400000"/>
                  <a:lnTo>
                    <a:pt x="0" y="29363"/>
                  </a:lnTo>
                  <a:arcTo wR="7" hR="7" stAng="10800000" swAng="-5400000"/>
                  <a:lnTo>
                    <a:pt x="21593" y="29370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Text Box 4"/>
            <p:cNvSpPr/>
            <p:nvPr/>
          </p:nvSpPr>
          <p:spPr>
            <a:xfrm>
              <a:off x="1431720" y="1198080"/>
              <a:ext cx="3583800" cy="39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Text Box 5"/>
            <p:cNvSpPr/>
            <p:nvPr/>
          </p:nvSpPr>
          <p:spPr>
            <a:xfrm>
              <a:off x="3418920" y="360360"/>
              <a:ext cx="5399280" cy="5155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чный метод Д. Дью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Text Box 6"/>
            <p:cNvSpPr/>
            <p:nvPr/>
          </p:nvSpPr>
          <p:spPr>
            <a:xfrm>
              <a:off x="5571000" y="1198080"/>
              <a:ext cx="4139280" cy="96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ход к методу как средству достижения цели, называемый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ментализмом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Text Box 7"/>
            <p:cNvSpPr/>
            <p:nvPr/>
          </p:nvSpPr>
          <p:spPr>
            <a:xfrm>
              <a:off x="5571000" y="2518560"/>
              <a:ext cx="4147200" cy="920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ы, сделанные Дьюи из идей инструментализма и диалек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"/>
            <p:cNvSpPr/>
            <p:nvPr/>
          </p:nvSpPr>
          <p:spPr>
            <a:xfrm flipH="1">
              <a:off x="3264480" y="879120"/>
              <a:ext cx="1994760" cy="30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9"/>
            <p:cNvSpPr/>
            <p:nvPr/>
          </p:nvSpPr>
          <p:spPr>
            <a:xfrm>
              <a:off x="7004160" y="869760"/>
              <a:ext cx="1099800" cy="32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AutoShape 10"/>
            <p:cNvSpPr/>
            <p:nvPr/>
          </p:nvSpPr>
          <p:spPr>
            <a:xfrm>
              <a:off x="7850160" y="2160000"/>
              <a:ext cx="420480" cy="3600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Text Box 11"/>
            <p:cNvSpPr/>
            <p:nvPr/>
          </p:nvSpPr>
          <p:spPr>
            <a:xfrm>
              <a:off x="5571000" y="3897720"/>
              <a:ext cx="4139280" cy="3301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может быть  «метода вообще»  (методы, не направленные на практический результат, не заслуживают внимания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ществуют конкретные методы для достижения конкретных целей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едовательно, необходимо выявить конкретный механизм действия метода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Text Box 12"/>
            <p:cNvSpPr/>
            <p:nvPr/>
          </p:nvSpPr>
          <p:spPr>
            <a:xfrm>
              <a:off x="712800" y="1799640"/>
              <a:ext cx="4678920" cy="53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 – порядок приобретения знания и дальнейшего функционирования приобретенного знания в ходе человеческого опыта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ая задача науки и научного метода – оптимальное достижение человеком своих целей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того, насколько способствует научный метод достижению целей зависит его истинность; то есть метод, при использовании которого цель достигнута, - истинный, а тот метод, который не ведет к цели и усложняет ее достижение, - ложный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едовательно, научный метод является инструментом успешной человеческой деятельности, достижения целей.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AutoShape 1"/>
          <p:cNvSpPr/>
          <p:nvPr/>
        </p:nvSpPr>
        <p:spPr>
          <a:xfrm>
            <a:off x="3097080" y="720720"/>
            <a:ext cx="6443640" cy="6659640"/>
          </a:xfrm>
          <a:custGeom>
            <a:avLst/>
            <a:gdLst>
              <a:gd name="textAreaLeft" fmla="*/ 360 w 6443640"/>
              <a:gd name="textAreaRight" fmla="*/ 6443280 w 6443640"/>
              <a:gd name="textAreaTop" fmla="*/ 360 h 6659640"/>
              <a:gd name="textAreaBottom" fmla="*/ 6659280 h 6659640"/>
            </a:gdLst>
            <a:ahLst/>
            <a:rect l="textAreaLeft" t="textAreaTop" r="textAreaRight" b="textAreaBottom"/>
            <a:pathLst>
              <a:path w="21600" h="22324">
                <a:moveTo>
                  <a:pt x="7" y="0"/>
                </a:moveTo>
                <a:arcTo wR="7" hR="7" stAng="16200000" swAng="-5400000"/>
                <a:lnTo>
                  <a:pt x="0" y="22317"/>
                </a:lnTo>
                <a:arcTo wR="7" hR="7" stAng="10800000" swAng="-5400000"/>
                <a:lnTo>
                  <a:pt x="21593" y="22324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4" name="Group 2"/>
          <p:cNvGrpSpPr/>
          <p:nvPr/>
        </p:nvGrpSpPr>
        <p:grpSpPr>
          <a:xfrm>
            <a:off x="1174680" y="360360"/>
            <a:ext cx="8184960" cy="6837120"/>
            <a:chOff x="1174680" y="360360"/>
            <a:chExt cx="8184960" cy="6837120"/>
          </a:xfrm>
        </p:grpSpPr>
        <p:sp>
          <p:nvSpPr>
            <p:cNvPr id="1795" name="Text Box 3"/>
            <p:cNvSpPr/>
            <p:nvPr/>
          </p:nvSpPr>
          <p:spPr>
            <a:xfrm>
              <a:off x="1260000" y="360360"/>
              <a:ext cx="8099640" cy="790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Зигмунда Фрейд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Text Box 4"/>
            <p:cNvSpPr/>
            <p:nvPr/>
          </p:nvSpPr>
          <p:spPr>
            <a:xfrm>
              <a:off x="5620320" y="1618920"/>
              <a:ext cx="3737880" cy="777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ы, сделанные З.Фрейдо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Text Box 5"/>
            <p:cNvSpPr/>
            <p:nvPr/>
          </p:nvSpPr>
          <p:spPr>
            <a:xfrm>
              <a:off x="1260000" y="1498320"/>
              <a:ext cx="3145680" cy="52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AutoShape 6"/>
            <p:cNvSpPr/>
            <p:nvPr/>
          </p:nvSpPr>
          <p:spPr>
            <a:xfrm>
              <a:off x="7558200" y="1260000"/>
              <a:ext cx="472680" cy="295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AutoShape 7"/>
            <p:cNvSpPr/>
            <p:nvPr/>
          </p:nvSpPr>
          <p:spPr>
            <a:xfrm>
              <a:off x="7626600" y="2421720"/>
              <a:ext cx="472680" cy="456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AutoShape 8"/>
            <p:cNvSpPr/>
            <p:nvPr/>
          </p:nvSpPr>
          <p:spPr>
            <a:xfrm>
              <a:off x="2490480" y="2034720"/>
              <a:ext cx="507600" cy="485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Text Box 9"/>
            <p:cNvSpPr/>
            <p:nvPr/>
          </p:nvSpPr>
          <p:spPr>
            <a:xfrm>
              <a:off x="5939280" y="3060000"/>
              <a:ext cx="3420360" cy="342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мере развития цивилизации человеческие страсти подавляются все больше и больше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о приводит к массовым психозам, всенародной депресси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также к необходимости конструирования более сложных, изощренных ритуалов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Text Box 10"/>
            <p:cNvSpPr/>
            <p:nvPr/>
          </p:nvSpPr>
          <p:spPr>
            <a:xfrm>
              <a:off x="1174680" y="2537640"/>
              <a:ext cx="4585320" cy="4659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гласно Фрейду человеческое общество может существовать только при условии взаимного подавления бессознательных привычек, влечений, страстей, в противном случае общество будет разрушено изнутр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сходят массовая сублимация подавленной энергии и преобразование ее в культур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щество создает заменитель подавленной энергии – ритуалы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итуал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коллективное бессознательное – форма реализации вытесненных желаний. Ритуалов множество – религия, мораль, искусство, поэзия, музыка, зрелища, массовые мероприят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AutoShape 1"/>
          <p:cNvSpPr/>
          <p:nvPr/>
        </p:nvSpPr>
        <p:spPr>
          <a:xfrm>
            <a:off x="3154320" y="900000"/>
            <a:ext cx="4227480" cy="5538960"/>
          </a:xfrm>
          <a:custGeom>
            <a:avLst/>
            <a:gdLst>
              <a:gd name="textAreaLeft" fmla="*/ 360 w 4227480"/>
              <a:gd name="textAreaRight" fmla="*/ 4227120 w 4227480"/>
              <a:gd name="textAreaTop" fmla="*/ 360 h 5538960"/>
              <a:gd name="textAreaBottom" fmla="*/ 5538600 h 5538960"/>
            </a:gdLst>
            <a:ahLst/>
            <a:rect l="textAreaLeft" t="textAreaTop" r="textAreaRight" b="textAreaBottom"/>
            <a:pathLst>
              <a:path w="21600" h="28300">
                <a:moveTo>
                  <a:pt x="8" y="0"/>
                </a:moveTo>
                <a:arcTo wR="8" hR="8" stAng="16200000" swAng="-5400000"/>
                <a:lnTo>
                  <a:pt x="0" y="28292"/>
                </a:lnTo>
                <a:arcTo wR="8" hR="8" stAng="10800000" swAng="-5400000"/>
                <a:lnTo>
                  <a:pt x="21592" y="28300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4" name="Group 2"/>
          <p:cNvGrpSpPr/>
          <p:nvPr/>
        </p:nvGrpSpPr>
        <p:grpSpPr>
          <a:xfrm>
            <a:off x="1440000" y="720720"/>
            <a:ext cx="7640280" cy="5398560"/>
            <a:chOff x="1440000" y="720720"/>
            <a:chExt cx="7640280" cy="5398560"/>
          </a:xfrm>
        </p:grpSpPr>
        <p:sp>
          <p:nvSpPr>
            <p:cNvPr id="1805" name="Text Box 3"/>
            <p:cNvSpPr/>
            <p:nvPr/>
          </p:nvSpPr>
          <p:spPr>
            <a:xfrm>
              <a:off x="1440000" y="1951920"/>
              <a:ext cx="3045600" cy="74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матриваем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прос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Text Box 4"/>
            <p:cNvSpPr/>
            <p:nvPr/>
          </p:nvSpPr>
          <p:spPr>
            <a:xfrm>
              <a:off x="4958640" y="1951920"/>
              <a:ext cx="4040640" cy="60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Text Box 5"/>
            <p:cNvSpPr/>
            <p:nvPr/>
          </p:nvSpPr>
          <p:spPr>
            <a:xfrm>
              <a:off x="1477440" y="720720"/>
              <a:ext cx="7498080" cy="632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временная теологическая философ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AutoShape 6"/>
            <p:cNvSpPr/>
            <p:nvPr/>
          </p:nvSpPr>
          <p:spPr>
            <a:xfrm>
              <a:off x="2741400" y="2699640"/>
              <a:ext cx="677520" cy="755280"/>
            </a:xfrm>
            <a:prstGeom prst="downArrow">
              <a:avLst>
                <a:gd name="adj1" fmla="val 50000"/>
                <a:gd name="adj2" fmla="val 27869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AutoShape 7"/>
            <p:cNvSpPr/>
            <p:nvPr/>
          </p:nvSpPr>
          <p:spPr>
            <a:xfrm>
              <a:off x="6869520" y="2553480"/>
              <a:ext cx="676080" cy="753840"/>
            </a:xfrm>
            <a:prstGeom prst="downArrow">
              <a:avLst>
                <a:gd name="adj1" fmla="val 50000"/>
                <a:gd name="adj2" fmla="val 27875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AutoShape 8"/>
            <p:cNvSpPr/>
            <p:nvPr/>
          </p:nvSpPr>
          <p:spPr>
            <a:xfrm>
              <a:off x="2800080" y="1350720"/>
              <a:ext cx="453600" cy="602640"/>
            </a:xfrm>
            <a:prstGeom prst="upDownArrow">
              <a:avLst>
                <a:gd name="adj1" fmla="val 50000"/>
                <a:gd name="adj2" fmla="val 26448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9"/>
            <p:cNvSpPr/>
            <p:nvPr/>
          </p:nvSpPr>
          <p:spPr>
            <a:xfrm>
              <a:off x="7189920" y="1350720"/>
              <a:ext cx="1080" cy="60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Text Box 10"/>
            <p:cNvSpPr/>
            <p:nvPr/>
          </p:nvSpPr>
          <p:spPr>
            <a:xfrm>
              <a:off x="1440000" y="3599280"/>
              <a:ext cx="3045600" cy="969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 Бога как творца всего сущего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Text Box 11"/>
            <p:cNvSpPr/>
            <p:nvPr/>
          </p:nvSpPr>
          <p:spPr>
            <a:xfrm>
              <a:off x="1440000" y="4538880"/>
              <a:ext cx="3060000" cy="157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 человека как его высшего творения, человеческая жизн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Text Box 12"/>
            <p:cNvSpPr/>
            <p:nvPr/>
          </p:nvSpPr>
          <p:spPr>
            <a:xfrm>
              <a:off x="5039640" y="3599280"/>
              <a:ext cx="4040640" cy="252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логическая философия стала ближе к человеку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вободилась от ряда догм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ла большое внимание уделять социальной гармонии, нравственности, миру между народами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5" name="Group 1"/>
          <p:cNvGrpSpPr/>
          <p:nvPr/>
        </p:nvGrpSpPr>
        <p:grpSpPr>
          <a:xfrm>
            <a:off x="306360" y="360360"/>
            <a:ext cx="9051480" cy="6838560"/>
            <a:chOff x="306360" y="360360"/>
            <a:chExt cx="9051480" cy="6838560"/>
          </a:xfrm>
        </p:grpSpPr>
        <p:sp>
          <p:nvSpPr>
            <p:cNvPr id="1816" name="AutoShape 2"/>
            <p:cNvSpPr/>
            <p:nvPr/>
          </p:nvSpPr>
          <p:spPr>
            <a:xfrm>
              <a:off x="1079280" y="360360"/>
              <a:ext cx="8278560" cy="66592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7" name="Group 3"/>
            <p:cNvGrpSpPr/>
            <p:nvPr/>
          </p:nvGrpSpPr>
          <p:grpSpPr>
            <a:xfrm>
              <a:off x="1079280" y="510840"/>
              <a:ext cx="3650040" cy="1211040"/>
              <a:chOff x="1079280" y="510840"/>
              <a:chExt cx="3650040" cy="1211040"/>
            </a:xfrm>
          </p:grpSpPr>
          <p:sp>
            <p:nvSpPr>
              <p:cNvPr id="1818" name="Oval 4"/>
              <p:cNvSpPr/>
              <p:nvPr/>
            </p:nvSpPr>
            <p:spPr>
              <a:xfrm>
                <a:off x="1079280" y="510840"/>
                <a:ext cx="3650040" cy="121104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Text Box 5"/>
              <p:cNvSpPr/>
              <p:nvPr/>
            </p:nvSpPr>
            <p:spPr>
              <a:xfrm>
                <a:off x="1619640" y="688320"/>
                <a:ext cx="2571480" cy="852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 количеству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0" name="Group 6"/>
            <p:cNvGrpSpPr/>
            <p:nvPr/>
          </p:nvGrpSpPr>
          <p:grpSpPr>
            <a:xfrm>
              <a:off x="4972680" y="2780640"/>
              <a:ext cx="3894480" cy="1210680"/>
              <a:chOff x="4972680" y="2780640"/>
              <a:chExt cx="3894480" cy="1210680"/>
            </a:xfrm>
          </p:grpSpPr>
          <p:sp>
            <p:nvSpPr>
              <p:cNvPr id="1821" name="Oval 7"/>
              <p:cNvSpPr/>
              <p:nvPr/>
            </p:nvSpPr>
            <p:spPr>
              <a:xfrm>
                <a:off x="4972680" y="2780640"/>
                <a:ext cx="3894480" cy="121068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Text Box 8"/>
              <p:cNvSpPr/>
              <p:nvPr/>
            </p:nvSpPr>
            <p:spPr>
              <a:xfrm>
                <a:off x="5547960" y="2959560"/>
                <a:ext cx="2741040" cy="852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 качеству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3" name="Text Box 9"/>
            <p:cNvSpPr/>
            <p:nvPr/>
          </p:nvSpPr>
          <p:spPr>
            <a:xfrm>
              <a:off x="5702760" y="360360"/>
              <a:ext cx="3653280" cy="75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отеизм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единобожие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Text Box 10"/>
            <p:cNvSpPr/>
            <p:nvPr/>
          </p:nvSpPr>
          <p:spPr>
            <a:xfrm>
              <a:off x="5702760" y="1420560"/>
              <a:ext cx="3653280" cy="758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теизм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многообразие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Text Box 11"/>
            <p:cNvSpPr/>
            <p:nvPr/>
          </p:nvSpPr>
          <p:spPr>
            <a:xfrm>
              <a:off x="6678720" y="6411600"/>
              <a:ext cx="2436120" cy="45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те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Text Box 12"/>
            <p:cNvSpPr/>
            <p:nvPr/>
          </p:nvSpPr>
          <p:spPr>
            <a:xfrm>
              <a:off x="4972680" y="5808960"/>
              <a:ext cx="2436120" cy="45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ооморф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Text Box 13"/>
            <p:cNvSpPr/>
            <p:nvPr/>
          </p:nvSpPr>
          <p:spPr>
            <a:xfrm>
              <a:off x="3269520" y="5051520"/>
              <a:ext cx="3166200" cy="606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ропоморф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Text Box 14"/>
            <p:cNvSpPr/>
            <p:nvPr/>
          </p:nvSpPr>
          <p:spPr>
            <a:xfrm>
              <a:off x="2539440" y="4294800"/>
              <a:ext cx="2680560" cy="60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нлог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Text Box 15"/>
            <p:cNvSpPr/>
            <p:nvPr/>
          </p:nvSpPr>
          <p:spPr>
            <a:xfrm>
              <a:off x="1809360" y="3537360"/>
              <a:ext cx="2191680" cy="606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нте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Text Box 16"/>
            <p:cNvSpPr/>
            <p:nvPr/>
          </p:nvSpPr>
          <p:spPr>
            <a:xfrm>
              <a:off x="1323720" y="2328120"/>
              <a:ext cx="146160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Text Box 17"/>
            <p:cNvSpPr/>
            <p:nvPr/>
          </p:nvSpPr>
          <p:spPr>
            <a:xfrm>
              <a:off x="1323720" y="2931480"/>
              <a:ext cx="1948680" cy="45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Line 18"/>
            <p:cNvSpPr/>
            <p:nvPr/>
          </p:nvSpPr>
          <p:spPr>
            <a:xfrm flipH="1" flipV="1">
              <a:off x="2730960" y="2496240"/>
              <a:ext cx="2752200" cy="54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Line 19"/>
            <p:cNvSpPr/>
            <p:nvPr/>
          </p:nvSpPr>
          <p:spPr>
            <a:xfrm flipH="1" flipV="1">
              <a:off x="3213720" y="3105720"/>
              <a:ext cx="1904040" cy="17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20"/>
            <p:cNvSpPr/>
            <p:nvPr/>
          </p:nvSpPr>
          <p:spPr>
            <a:xfrm flipH="1">
              <a:off x="3950280" y="3526200"/>
              <a:ext cx="1110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21"/>
            <p:cNvSpPr/>
            <p:nvPr/>
          </p:nvSpPr>
          <p:spPr>
            <a:xfrm flipH="1">
              <a:off x="4437720" y="3819960"/>
              <a:ext cx="1159920" cy="47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22"/>
            <p:cNvSpPr/>
            <p:nvPr/>
          </p:nvSpPr>
          <p:spPr>
            <a:xfrm flipH="1">
              <a:off x="5411880" y="3991320"/>
              <a:ext cx="1069560" cy="10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23"/>
            <p:cNvSpPr/>
            <p:nvPr/>
          </p:nvSpPr>
          <p:spPr>
            <a:xfrm>
              <a:off x="6978960" y="3981960"/>
              <a:ext cx="1080" cy="181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24"/>
            <p:cNvSpPr/>
            <p:nvPr/>
          </p:nvSpPr>
          <p:spPr>
            <a:xfrm>
              <a:off x="7405920" y="3991320"/>
              <a:ext cx="972720" cy="242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25"/>
            <p:cNvSpPr/>
            <p:nvPr/>
          </p:nvSpPr>
          <p:spPr>
            <a:xfrm flipV="1">
              <a:off x="4496400" y="686520"/>
              <a:ext cx="1201320" cy="19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26"/>
            <p:cNvSpPr/>
            <p:nvPr/>
          </p:nvSpPr>
          <p:spPr>
            <a:xfrm>
              <a:off x="4259880" y="1518840"/>
              <a:ext cx="1428120" cy="28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Text Box 27"/>
            <p:cNvSpPr/>
            <p:nvPr/>
          </p:nvSpPr>
          <p:spPr>
            <a:xfrm>
              <a:off x="306360" y="5757840"/>
              <a:ext cx="3653280" cy="14410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религиозные и философские представления о Бог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2" name="Group 1"/>
          <p:cNvGrpSpPr/>
          <p:nvPr/>
        </p:nvGrpSpPr>
        <p:grpSpPr>
          <a:xfrm>
            <a:off x="1798560" y="360000"/>
            <a:ext cx="7019640" cy="6737400"/>
            <a:chOff x="1798560" y="360000"/>
            <a:chExt cx="7019640" cy="6737400"/>
          </a:xfrm>
        </p:grpSpPr>
        <p:grpSp>
          <p:nvGrpSpPr>
            <p:cNvPr id="1843" name="Group 2"/>
            <p:cNvGrpSpPr/>
            <p:nvPr/>
          </p:nvGrpSpPr>
          <p:grpSpPr>
            <a:xfrm>
              <a:off x="1798560" y="360000"/>
              <a:ext cx="7019640" cy="6737400"/>
              <a:chOff x="1798560" y="360000"/>
              <a:chExt cx="7019640" cy="6737400"/>
            </a:xfrm>
          </p:grpSpPr>
          <p:sp>
            <p:nvSpPr>
              <p:cNvPr id="1844" name="AutoShape 3"/>
              <p:cNvSpPr/>
              <p:nvPr/>
            </p:nvSpPr>
            <p:spPr>
              <a:xfrm>
                <a:off x="1847520" y="601200"/>
                <a:ext cx="5349960" cy="6492960"/>
              </a:xfrm>
              <a:custGeom>
                <a:avLst/>
                <a:gdLst>
                  <a:gd name="textAreaLeft" fmla="*/ 360 w 5349960"/>
                  <a:gd name="textAreaRight" fmla="*/ 5349600 w 5349960"/>
                  <a:gd name="textAreaTop" fmla="*/ 360 h 6492960"/>
                  <a:gd name="textAreaBottom" fmla="*/ 6492600 h 6492960"/>
                </a:gdLst>
                <a:ahLst/>
                <a:rect l="textAreaLeft" t="textAreaTop" r="textAreaRight" b="textAreaBottom"/>
                <a:pathLst>
                  <a:path w="21600" h="26214">
                    <a:moveTo>
                      <a:pt x="7" y="0"/>
                    </a:moveTo>
                    <a:arcTo wR="7" hR="7" stAng="16200000" swAng="-5400000"/>
                    <a:lnTo>
                      <a:pt x="0" y="26207"/>
                    </a:lnTo>
                    <a:arcTo wR="7" hR="7" stAng="10800000" swAng="-5400000"/>
                    <a:lnTo>
                      <a:pt x="21593" y="26214"/>
                    </a:lnTo>
                    <a:arcTo wR="7" hR="7" stAng="5400000" swAng="-5400000"/>
                    <a:lnTo>
                      <a:pt x="21600" y="7"/>
                    </a:lnTo>
                    <a:arcTo wR="7" hR="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Text Box 4"/>
              <p:cNvSpPr/>
              <p:nvPr/>
            </p:nvSpPr>
            <p:spPr>
              <a:xfrm rot="16200000">
                <a:off x="-1261080" y="3420000"/>
                <a:ext cx="6659640" cy="5396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ы философской антропологии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Text Box 5"/>
              <p:cNvSpPr/>
              <p:nvPr/>
            </p:nvSpPr>
            <p:spPr>
              <a:xfrm>
                <a:off x="2928600" y="1036440"/>
                <a:ext cx="5888160" cy="432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тропогенез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Text Box 6"/>
              <p:cNvSpPr/>
              <p:nvPr/>
            </p:nvSpPr>
            <p:spPr>
              <a:xfrm>
                <a:off x="2928600" y="1612440"/>
                <a:ext cx="5888160" cy="579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исхождение и сущность сознания (разума)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Text Box 7"/>
              <p:cNvSpPr/>
              <p:nvPr/>
            </p:nvSpPr>
            <p:spPr>
              <a:xfrm>
                <a:off x="2928600" y="2334600"/>
                <a:ext cx="5888160" cy="433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сихический мир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Text Box 8"/>
              <p:cNvSpPr/>
              <p:nvPr/>
            </p:nvSpPr>
            <p:spPr>
              <a:xfrm>
                <a:off x="2928600" y="2910600"/>
                <a:ext cx="5888160" cy="433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крытые духовные силы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Text Box 9"/>
              <p:cNvSpPr/>
              <p:nvPr/>
            </p:nvSpPr>
            <p:spPr>
              <a:xfrm>
                <a:off x="2928600" y="3488760"/>
                <a:ext cx="588816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существования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Text Box 10"/>
              <p:cNvSpPr/>
              <p:nvPr/>
            </p:nvSpPr>
            <p:spPr>
              <a:xfrm>
                <a:off x="2928600" y="4064400"/>
                <a:ext cx="588816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жизни после смерт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Text Box 11"/>
              <p:cNvSpPr/>
              <p:nvPr/>
            </p:nvSpPr>
            <p:spPr>
              <a:xfrm>
                <a:off x="2928600" y="4640760"/>
                <a:ext cx="588816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уховное развитие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Text Box 12"/>
              <p:cNvSpPr/>
              <p:nvPr/>
            </p:nvSpPr>
            <p:spPr>
              <a:xfrm>
                <a:off x="2895120" y="5220360"/>
                <a:ext cx="592308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ерспективы эволюции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Text Box 13"/>
              <p:cNvSpPr/>
              <p:nvPr/>
            </p:nvSpPr>
            <p:spPr>
              <a:xfrm>
                <a:off x="2928600" y="5796000"/>
                <a:ext cx="588816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мысл жизни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Text Box 14"/>
              <p:cNvSpPr/>
              <p:nvPr/>
            </p:nvSpPr>
            <p:spPr>
              <a:xfrm>
                <a:off x="2928600" y="6373800"/>
                <a:ext cx="5888160" cy="723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свободы и ответственности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Text Box 15"/>
              <p:cNvSpPr/>
              <p:nvPr/>
            </p:nvSpPr>
            <p:spPr>
              <a:xfrm>
                <a:off x="2877840" y="390240"/>
                <a:ext cx="5938920" cy="433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ущность и природа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16"/>
              <p:cNvSpPr/>
              <p:nvPr/>
            </p:nvSpPr>
            <p:spPr>
              <a:xfrm flipV="1">
                <a:off x="2338200" y="680400"/>
                <a:ext cx="539280" cy="62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17"/>
              <p:cNvSpPr/>
              <p:nvPr/>
            </p:nvSpPr>
            <p:spPr>
              <a:xfrm flipV="1">
                <a:off x="2338200" y="1218600"/>
                <a:ext cx="539280" cy="44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18"/>
              <p:cNvSpPr/>
              <p:nvPr/>
            </p:nvSpPr>
            <p:spPr>
              <a:xfrm>
                <a:off x="2338200" y="1980720"/>
                <a:ext cx="53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Line 19"/>
              <p:cNvSpPr/>
              <p:nvPr/>
            </p:nvSpPr>
            <p:spPr>
              <a:xfrm>
                <a:off x="2338200" y="2520360"/>
                <a:ext cx="539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0"/>
              <p:cNvSpPr/>
              <p:nvPr/>
            </p:nvSpPr>
            <p:spPr>
              <a:xfrm>
                <a:off x="2338200" y="3061440"/>
                <a:ext cx="53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1"/>
              <p:cNvSpPr/>
              <p:nvPr/>
            </p:nvSpPr>
            <p:spPr>
              <a:xfrm>
                <a:off x="2338200" y="3780360"/>
                <a:ext cx="539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"/>
              <p:cNvSpPr/>
              <p:nvPr/>
            </p:nvSpPr>
            <p:spPr>
              <a:xfrm>
                <a:off x="2338200" y="4320000"/>
                <a:ext cx="53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Line 23"/>
              <p:cNvSpPr/>
              <p:nvPr/>
            </p:nvSpPr>
            <p:spPr>
              <a:xfrm>
                <a:off x="2338200" y="4860000"/>
                <a:ext cx="539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4"/>
              <p:cNvSpPr/>
              <p:nvPr/>
            </p:nvSpPr>
            <p:spPr>
              <a:xfrm>
                <a:off x="2338200" y="5401080"/>
                <a:ext cx="53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5"/>
              <p:cNvSpPr/>
              <p:nvPr/>
            </p:nvSpPr>
            <p:spPr>
              <a:xfrm>
                <a:off x="2338200" y="6120000"/>
                <a:ext cx="539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Line 26"/>
              <p:cNvSpPr/>
              <p:nvPr/>
            </p:nvSpPr>
            <p:spPr>
              <a:xfrm>
                <a:off x="2338200" y="6480360"/>
                <a:ext cx="53928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8" name="Group 1"/>
          <p:cNvGrpSpPr/>
          <p:nvPr/>
        </p:nvGrpSpPr>
        <p:grpSpPr>
          <a:xfrm>
            <a:off x="360360" y="178920"/>
            <a:ext cx="9537480" cy="7201080"/>
            <a:chOff x="360360" y="178920"/>
            <a:chExt cx="9537480" cy="7201080"/>
          </a:xfrm>
        </p:grpSpPr>
        <p:sp>
          <p:nvSpPr>
            <p:cNvPr id="1869" name="AutoShape 2"/>
            <p:cNvSpPr/>
            <p:nvPr/>
          </p:nvSpPr>
          <p:spPr>
            <a:xfrm>
              <a:off x="2878920" y="507600"/>
              <a:ext cx="4860000" cy="6108840"/>
            </a:xfrm>
            <a:custGeom>
              <a:avLst/>
              <a:gdLst>
                <a:gd name="textAreaLeft" fmla="*/ 360 w 4860000"/>
                <a:gd name="textAreaRight" fmla="*/ 4859640 w 4860000"/>
                <a:gd name="textAreaTop" fmla="*/ 360 h 6108840"/>
                <a:gd name="textAreaBottom" fmla="*/ 6108480 h 6108840"/>
              </a:gdLst>
              <a:ahLst/>
              <a:rect l="textAreaLeft" t="textAreaTop" r="textAreaRight" b="textAreaBottom"/>
              <a:pathLst>
                <a:path w="21600" h="27150">
                  <a:moveTo>
                    <a:pt x="7" y="0"/>
                  </a:moveTo>
                  <a:arcTo wR="7" hR="7" stAng="16200000" swAng="-5400000"/>
                  <a:lnTo>
                    <a:pt x="0" y="27143"/>
                  </a:lnTo>
                  <a:arcTo wR="7" hR="7" stAng="10800000" swAng="-5400000"/>
                  <a:lnTo>
                    <a:pt x="21593" y="27150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Text Box 3"/>
            <p:cNvSpPr/>
            <p:nvPr/>
          </p:nvSpPr>
          <p:spPr>
            <a:xfrm>
              <a:off x="7198200" y="1618920"/>
              <a:ext cx="269964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сональная сфера высшего бессознательног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Text Box 4"/>
            <p:cNvSpPr/>
            <p:nvPr/>
          </p:nvSpPr>
          <p:spPr>
            <a:xfrm>
              <a:off x="7198200" y="2699640"/>
              <a:ext cx="269964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сихический мир лич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Text Box 5"/>
            <p:cNvSpPr/>
            <p:nvPr/>
          </p:nvSpPr>
          <p:spPr>
            <a:xfrm>
              <a:off x="7198200" y="6299280"/>
              <a:ext cx="269964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ансперсональная сфера низшего бессознательног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Text Box 6"/>
            <p:cNvSpPr/>
            <p:nvPr/>
          </p:nvSpPr>
          <p:spPr>
            <a:xfrm>
              <a:off x="7198200" y="5218560"/>
              <a:ext cx="269964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сональная сфера низшего бессознательног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Text Box 7"/>
            <p:cNvSpPr/>
            <p:nvPr/>
          </p:nvSpPr>
          <p:spPr>
            <a:xfrm>
              <a:off x="7198200" y="360000"/>
              <a:ext cx="269964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ансперсональная сфера высшего бессознательног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Text Box 8"/>
            <p:cNvSpPr/>
            <p:nvPr/>
          </p:nvSpPr>
          <p:spPr>
            <a:xfrm>
              <a:off x="7198200" y="3599640"/>
              <a:ext cx="2699640" cy="14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намическое взаимодействие сознания, высшего и низшего бессознательног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"/>
            <p:cNvSpPr/>
            <p:nvPr/>
          </p:nvSpPr>
          <p:spPr>
            <a:xfrm flipH="1">
              <a:off x="6077160" y="539280"/>
              <a:ext cx="1161720" cy="14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"/>
            <p:cNvSpPr/>
            <p:nvPr/>
          </p:nvSpPr>
          <p:spPr>
            <a:xfrm flipH="1" flipV="1">
              <a:off x="5356440" y="1398240"/>
              <a:ext cx="1882440" cy="6220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1"/>
            <p:cNvSpPr/>
            <p:nvPr/>
          </p:nvSpPr>
          <p:spPr>
            <a:xfrm flipH="1" flipV="1">
              <a:off x="4096440" y="1937880"/>
              <a:ext cx="3142800" cy="18820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2"/>
            <p:cNvSpPr/>
            <p:nvPr/>
          </p:nvSpPr>
          <p:spPr>
            <a:xfrm flipH="1" flipV="1">
              <a:off x="4277160" y="3737520"/>
              <a:ext cx="2961720" cy="2617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13"/>
            <p:cNvSpPr/>
            <p:nvPr/>
          </p:nvSpPr>
          <p:spPr>
            <a:xfrm flipH="1">
              <a:off x="5537880" y="5757840"/>
              <a:ext cx="1701360" cy="14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1" name="Group 14"/>
            <p:cNvGrpSpPr/>
            <p:nvPr/>
          </p:nvGrpSpPr>
          <p:grpSpPr>
            <a:xfrm>
              <a:off x="1221840" y="179280"/>
              <a:ext cx="4894560" cy="7199280"/>
              <a:chOff x="1221840" y="179280"/>
              <a:chExt cx="4894560" cy="7199280"/>
            </a:xfrm>
          </p:grpSpPr>
          <p:grpSp>
            <p:nvGrpSpPr>
              <p:cNvPr id="1882" name="Group 15"/>
              <p:cNvGrpSpPr/>
              <p:nvPr/>
            </p:nvGrpSpPr>
            <p:grpSpPr>
              <a:xfrm>
                <a:off x="1221840" y="899640"/>
                <a:ext cx="4893480" cy="898200"/>
                <a:chOff x="1221840" y="899640"/>
                <a:chExt cx="4893480" cy="898200"/>
              </a:xfrm>
            </p:grpSpPr>
            <p:sp>
              <p:nvSpPr>
                <p:cNvPr id="1883" name="AutoShape 16"/>
                <p:cNvSpPr/>
                <p:nvPr/>
              </p:nvSpPr>
              <p:spPr>
                <a:xfrm>
                  <a:off x="1221840" y="899640"/>
                  <a:ext cx="4893480" cy="898200"/>
                </a:xfrm>
                <a:custGeom>
                  <a:avLst/>
                  <a:gdLst>
                    <a:gd name="textAreaLeft" fmla="*/ 1019880 w 4893480"/>
                    <a:gd name="textAreaRight" fmla="*/ 3873600 w 4893480"/>
                    <a:gd name="textAreaTop" fmla="*/ 186840 h 898200"/>
                    <a:gd name="textAreaBottom" fmla="*/ 711360 h 89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4" name="Text Box 17"/>
                <p:cNvSpPr/>
                <p:nvPr/>
              </p:nvSpPr>
              <p:spPr>
                <a:xfrm>
                  <a:off x="2295720" y="1095840"/>
                  <a:ext cx="274212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духовное сверхсознательное)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5" name="Text Box 18"/>
              <p:cNvSpPr/>
              <p:nvPr/>
            </p:nvSpPr>
            <p:spPr>
              <a:xfrm>
                <a:off x="2697480" y="2397600"/>
                <a:ext cx="1927440" cy="89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знание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Text Box 19"/>
              <p:cNvSpPr/>
              <p:nvPr/>
            </p:nvSpPr>
            <p:spPr>
              <a:xfrm>
                <a:off x="1221840" y="179280"/>
                <a:ext cx="4858560" cy="72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ысшая сфер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ессознательног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AutoShape 20"/>
              <p:cNvSpPr/>
              <p:nvPr/>
            </p:nvSpPr>
            <p:spPr>
              <a:xfrm>
                <a:off x="3006720" y="1805760"/>
                <a:ext cx="287280" cy="564840"/>
              </a:xfrm>
              <a:prstGeom prst="upDownArrow">
                <a:avLst>
                  <a:gd name="adj1" fmla="val 50000"/>
                  <a:gd name="adj2" fmla="val 39141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AutoShape 21"/>
              <p:cNvSpPr/>
              <p:nvPr/>
            </p:nvSpPr>
            <p:spPr>
              <a:xfrm>
                <a:off x="3490560" y="1801080"/>
                <a:ext cx="287280" cy="598320"/>
              </a:xfrm>
              <a:prstGeom prst="upDownArrow">
                <a:avLst>
                  <a:gd name="adj1" fmla="val 50000"/>
                  <a:gd name="adj2" fmla="val 41461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AutoShape 22"/>
              <p:cNvSpPr/>
              <p:nvPr/>
            </p:nvSpPr>
            <p:spPr>
              <a:xfrm>
                <a:off x="3979800" y="1801080"/>
                <a:ext cx="286920" cy="598320"/>
              </a:xfrm>
              <a:prstGeom prst="upDownArrow">
                <a:avLst>
                  <a:gd name="adj1" fmla="val 50000"/>
                  <a:gd name="adj2" fmla="val 41513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AutoShape 23"/>
              <p:cNvSpPr/>
              <p:nvPr/>
            </p:nvSpPr>
            <p:spPr>
              <a:xfrm>
                <a:off x="3006720" y="3451320"/>
                <a:ext cx="287280" cy="564840"/>
              </a:xfrm>
              <a:prstGeom prst="upDownArrow">
                <a:avLst>
                  <a:gd name="adj1" fmla="val 50000"/>
                  <a:gd name="adj2" fmla="val 39141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AutoShape 24"/>
              <p:cNvSpPr/>
              <p:nvPr/>
            </p:nvSpPr>
            <p:spPr>
              <a:xfrm>
                <a:off x="3546360" y="3451320"/>
                <a:ext cx="286920" cy="564840"/>
              </a:xfrm>
              <a:prstGeom prst="upDownArrow">
                <a:avLst>
                  <a:gd name="adj1" fmla="val 50000"/>
                  <a:gd name="adj2" fmla="val 3919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AutoShape 25"/>
              <p:cNvSpPr/>
              <p:nvPr/>
            </p:nvSpPr>
            <p:spPr>
              <a:xfrm>
                <a:off x="4087080" y="3478320"/>
                <a:ext cx="287280" cy="564840"/>
              </a:xfrm>
              <a:prstGeom prst="upDownArrow">
                <a:avLst>
                  <a:gd name="adj1" fmla="val 50000"/>
                  <a:gd name="adj2" fmla="val 39141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93" name="Group 26"/>
              <p:cNvGrpSpPr/>
              <p:nvPr/>
            </p:nvGrpSpPr>
            <p:grpSpPr>
              <a:xfrm>
                <a:off x="1258200" y="4140000"/>
                <a:ext cx="4856760" cy="2518200"/>
                <a:chOff x="1258200" y="4140000"/>
                <a:chExt cx="4856760" cy="2518200"/>
              </a:xfrm>
            </p:grpSpPr>
            <p:sp>
              <p:nvSpPr>
                <p:cNvPr id="1894" name="Freeform 27"/>
                <p:cNvSpPr/>
                <p:nvPr/>
              </p:nvSpPr>
              <p:spPr>
                <a:xfrm>
                  <a:off x="1258200" y="4140000"/>
                  <a:ext cx="4856760" cy="2518200"/>
                </a:xfrm>
                <a:custGeom>
                  <a:avLst/>
                  <a:gdLst/>
                  <a:ahLst/>
                  <a:rect l="l" t="t" r="r" b="b"/>
                  <a:pathLst>
                    <a:path w="13501" h="7001">
                      <a:moveTo>
                        <a:pt x="3500" y="0"/>
                      </a:moveTo>
                      <a:lnTo>
                        <a:pt x="10000" y="0"/>
                      </a:lnTo>
                      <a:lnTo>
                        <a:pt x="13500" y="7000"/>
                      </a:lnTo>
                      <a:lnTo>
                        <a:pt x="0" y="7000"/>
                      </a:lnTo>
                      <a:lnTo>
                        <a:pt x="3500" y="0"/>
                      </a:lnTo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5" name="Text Box 28"/>
                <p:cNvSpPr/>
                <p:nvPr/>
              </p:nvSpPr>
              <p:spPr>
                <a:xfrm>
                  <a:off x="1258200" y="4140000"/>
                  <a:ext cx="4856760" cy="251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Autofit/>
                </a:bodyPr>
                <a:p>
                  <a:pPr algn="ctr">
                    <a:lnSpc>
                      <a:spcPct val="7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Низшая сфера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7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бессознательного 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7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(инстинкты, природные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7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и животные импульсы)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6" name="Text Box 29"/>
              <p:cNvSpPr/>
              <p:nvPr/>
            </p:nvSpPr>
            <p:spPr>
              <a:xfrm>
                <a:off x="1258200" y="6658200"/>
                <a:ext cx="4858200" cy="72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иродные и животные импульс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7" name="Line 30"/>
            <p:cNvSpPr/>
            <p:nvPr/>
          </p:nvSpPr>
          <p:spPr>
            <a:xfrm flipH="1">
              <a:off x="6077160" y="6838920"/>
              <a:ext cx="1161720" cy="14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Text Box 31"/>
            <p:cNvSpPr/>
            <p:nvPr/>
          </p:nvSpPr>
          <p:spPr>
            <a:xfrm rot="16200000">
              <a:off x="-2878920" y="3418560"/>
              <a:ext cx="7199640" cy="720360"/>
            </a:xfrm>
            <a:prstGeom prst="rect">
              <a:avLst/>
            </a:prstGeom>
            <a:solidFill>
              <a:srgbClr val="94bd5e">
                <a:alpha val="4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уктура психического мира 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9" name="Group 1"/>
          <p:cNvGrpSpPr/>
          <p:nvPr/>
        </p:nvGrpSpPr>
        <p:grpSpPr>
          <a:xfrm>
            <a:off x="539640" y="357120"/>
            <a:ext cx="9178920" cy="6840360"/>
            <a:chOff x="539640" y="357120"/>
            <a:chExt cx="9178920" cy="6840360"/>
          </a:xfrm>
        </p:grpSpPr>
        <p:sp>
          <p:nvSpPr>
            <p:cNvPr id="1900" name="AutoShape 2"/>
            <p:cNvSpPr/>
            <p:nvPr/>
          </p:nvSpPr>
          <p:spPr>
            <a:xfrm>
              <a:off x="1082160" y="537840"/>
              <a:ext cx="7916760" cy="665964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Text Box 3"/>
            <p:cNvSpPr/>
            <p:nvPr/>
          </p:nvSpPr>
          <p:spPr>
            <a:xfrm>
              <a:off x="539640" y="357120"/>
              <a:ext cx="9178920" cy="539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акторы, влияющие на формирование сознания 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Text Box 4"/>
            <p:cNvSpPr/>
            <p:nvPr/>
          </p:nvSpPr>
          <p:spPr>
            <a:xfrm>
              <a:off x="4020480" y="1294920"/>
              <a:ext cx="4824720" cy="75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гласно теософии и философи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вой Э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Text Box 5"/>
            <p:cNvSpPr/>
            <p:nvPr/>
          </p:nvSpPr>
          <p:spPr>
            <a:xfrm>
              <a:off x="1079280" y="1294920"/>
              <a:ext cx="2715480" cy="121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гласно позитивистской научной парадигме X)X-XX  вв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Text Box 6"/>
            <p:cNvSpPr/>
            <p:nvPr/>
          </p:nvSpPr>
          <p:spPr>
            <a:xfrm>
              <a:off x="1533240" y="2807640"/>
              <a:ext cx="2261520" cy="106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ологическа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следственнос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Text Box 7"/>
            <p:cNvSpPr/>
            <p:nvPr/>
          </p:nvSpPr>
          <p:spPr>
            <a:xfrm>
              <a:off x="1533240" y="4016880"/>
              <a:ext cx="2261520" cy="106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ологическая изменчивость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мутации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Text Box 8"/>
            <p:cNvSpPr/>
            <p:nvPr/>
          </p:nvSpPr>
          <p:spPr>
            <a:xfrm>
              <a:off x="1533240" y="5229720"/>
              <a:ext cx="2261520" cy="758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ная сре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Text Box 9"/>
            <p:cNvSpPr/>
            <p:nvPr/>
          </p:nvSpPr>
          <p:spPr>
            <a:xfrm>
              <a:off x="1533240" y="6135840"/>
              <a:ext cx="2261520" cy="91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о-культурная сре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Text Box 10"/>
            <p:cNvSpPr/>
            <p:nvPr/>
          </p:nvSpPr>
          <p:spPr>
            <a:xfrm>
              <a:off x="4283640" y="2351880"/>
              <a:ext cx="4523400" cy="91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шлые накопления (опыт) трансперсонального духовного яд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Text Box 11"/>
            <p:cNvSpPr/>
            <p:nvPr/>
          </p:nvSpPr>
          <p:spPr>
            <a:xfrm>
              <a:off x="4283640" y="3425040"/>
              <a:ext cx="4523400" cy="758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сихо-физическое влияние космических тел и процесс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Text Box 12"/>
            <p:cNvSpPr/>
            <p:nvPr/>
          </p:nvSpPr>
          <p:spPr>
            <a:xfrm>
              <a:off x="4269240" y="4320000"/>
              <a:ext cx="4523400" cy="60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ологическая наследственнос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Text Box 13"/>
            <p:cNvSpPr/>
            <p:nvPr/>
          </p:nvSpPr>
          <p:spPr>
            <a:xfrm>
              <a:off x="4283640" y="5078880"/>
              <a:ext cx="4523400" cy="75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сихо-физическая и биологическая изменчивость (мутации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Text Box 14"/>
            <p:cNvSpPr/>
            <p:nvPr/>
          </p:nvSpPr>
          <p:spPr>
            <a:xfrm>
              <a:off x="4291560" y="5985000"/>
              <a:ext cx="452340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ная сре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Text Box 15"/>
            <p:cNvSpPr/>
            <p:nvPr/>
          </p:nvSpPr>
          <p:spPr>
            <a:xfrm>
              <a:off x="4269240" y="6566040"/>
              <a:ext cx="4523400" cy="60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о-культурная сре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6"/>
            <p:cNvSpPr/>
            <p:nvPr/>
          </p:nvSpPr>
          <p:spPr>
            <a:xfrm flipH="1">
              <a:off x="3196080" y="898200"/>
              <a:ext cx="8031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7"/>
            <p:cNvSpPr/>
            <p:nvPr/>
          </p:nvSpPr>
          <p:spPr>
            <a:xfrm>
              <a:off x="5578920" y="898200"/>
              <a:ext cx="899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6" name="Group 1"/>
          <p:cNvGrpSpPr/>
          <p:nvPr/>
        </p:nvGrpSpPr>
        <p:grpSpPr>
          <a:xfrm>
            <a:off x="1079640" y="179280"/>
            <a:ext cx="8099280" cy="7198920"/>
            <a:chOff x="1079640" y="179280"/>
            <a:chExt cx="8099280" cy="7198920"/>
          </a:xfrm>
        </p:grpSpPr>
        <p:grpSp>
          <p:nvGrpSpPr>
            <p:cNvPr id="1917" name="Group 2"/>
            <p:cNvGrpSpPr/>
            <p:nvPr/>
          </p:nvGrpSpPr>
          <p:grpSpPr>
            <a:xfrm>
              <a:off x="1079640" y="179280"/>
              <a:ext cx="8099280" cy="7198920"/>
              <a:chOff x="1079640" y="179280"/>
              <a:chExt cx="8099280" cy="7198920"/>
            </a:xfrm>
          </p:grpSpPr>
          <p:sp>
            <p:nvSpPr>
              <p:cNvPr id="1918" name="Line 3"/>
              <p:cNvSpPr/>
              <p:nvPr/>
            </p:nvSpPr>
            <p:spPr>
              <a:xfrm>
                <a:off x="8097840" y="720360"/>
                <a:ext cx="1440" cy="5038920"/>
              </a:xfrm>
              <a:prstGeom prst="line">
                <a:avLst/>
              </a:prstGeom>
              <a:ln w="360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Line 4"/>
              <p:cNvSpPr/>
              <p:nvPr/>
            </p:nvSpPr>
            <p:spPr>
              <a:xfrm>
                <a:off x="5218560" y="720360"/>
                <a:ext cx="1440" cy="5038920"/>
              </a:xfrm>
              <a:prstGeom prst="line">
                <a:avLst/>
              </a:prstGeom>
              <a:ln w="360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Line 5"/>
              <p:cNvSpPr/>
              <p:nvPr/>
            </p:nvSpPr>
            <p:spPr>
              <a:xfrm>
                <a:off x="2160360" y="720360"/>
                <a:ext cx="1080" cy="5038920"/>
              </a:xfrm>
              <a:prstGeom prst="line">
                <a:avLst/>
              </a:prstGeom>
              <a:ln w="360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Text Box 6"/>
              <p:cNvSpPr/>
              <p:nvPr/>
            </p:nvSpPr>
            <p:spPr>
              <a:xfrm>
                <a:off x="1079640" y="179280"/>
                <a:ext cx="8099280" cy="53964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вобода воли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Text Box 7"/>
              <p:cNvSpPr/>
              <p:nvPr/>
            </p:nvSpPr>
            <p:spPr>
              <a:xfrm>
                <a:off x="1079640" y="1618920"/>
                <a:ext cx="2159640" cy="1080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уществует абсолютно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Text Box 8"/>
              <p:cNvSpPr/>
              <p:nvPr/>
            </p:nvSpPr>
            <p:spPr>
              <a:xfrm>
                <a:off x="7018920" y="1618920"/>
                <a:ext cx="2159640" cy="1080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е существует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Text Box 9"/>
              <p:cNvSpPr/>
              <p:nvPr/>
            </p:nvSpPr>
            <p:spPr>
              <a:xfrm>
                <a:off x="4139640" y="1618920"/>
                <a:ext cx="2159640" cy="1080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уществует относительно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Text Box 10"/>
              <p:cNvSpPr/>
              <p:nvPr/>
            </p:nvSpPr>
            <p:spPr>
              <a:xfrm>
                <a:off x="1079640" y="3599280"/>
                <a:ext cx="2159640" cy="1261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ндетерминизм свободы воли человек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Text Box 11"/>
              <p:cNvSpPr/>
              <p:nvPr/>
            </p:nvSpPr>
            <p:spPr>
              <a:xfrm>
                <a:off x="7018920" y="3599280"/>
                <a:ext cx="2159640" cy="1261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атал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Text Box 12"/>
              <p:cNvSpPr/>
              <p:nvPr/>
            </p:nvSpPr>
            <p:spPr>
              <a:xfrm>
                <a:off x="4139640" y="3599280"/>
                <a:ext cx="2159640" cy="1261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иалектические концепции свободы воли человек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Text Box 13"/>
              <p:cNvSpPr/>
              <p:nvPr/>
            </p:nvSpPr>
            <p:spPr>
              <a:xfrm>
                <a:off x="7018920" y="5757840"/>
                <a:ext cx="2159640" cy="1620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атомизм, исламская теология, европейский механиц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Text Box 14"/>
              <p:cNvSpPr/>
              <p:nvPr/>
            </p:nvSpPr>
            <p:spPr>
              <a:xfrm>
                <a:off x="4139640" y="5757840"/>
                <a:ext cx="2159640" cy="1441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уддизм, И. Кант, Гегель, марксизм, Живая Этик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Text Box 15"/>
              <p:cNvSpPr/>
              <p:nvPr/>
            </p:nvSpPr>
            <p:spPr>
              <a:xfrm>
                <a:off x="1079640" y="5757840"/>
                <a:ext cx="2159640" cy="1080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. Фихте; М. Мен де Биран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2"/>
          <p:cNvGrpSpPr/>
          <p:nvPr/>
        </p:nvGrpSpPr>
        <p:grpSpPr>
          <a:xfrm>
            <a:off x="539640" y="900000"/>
            <a:ext cx="9178560" cy="5759640"/>
            <a:chOff x="539640" y="900000"/>
            <a:chExt cx="9178560" cy="5759640"/>
          </a:xfrm>
        </p:grpSpPr>
        <p:grpSp>
          <p:nvGrpSpPr>
            <p:cNvPr id="618" name="Group 3"/>
            <p:cNvGrpSpPr/>
            <p:nvPr/>
          </p:nvGrpSpPr>
          <p:grpSpPr>
            <a:xfrm>
              <a:off x="539640" y="5508720"/>
              <a:ext cx="9178560" cy="1150920"/>
              <a:chOff x="539640" y="5508720"/>
              <a:chExt cx="9178560" cy="1150920"/>
            </a:xfrm>
          </p:grpSpPr>
          <p:sp>
            <p:nvSpPr>
              <p:cNvPr id="619" name="Text Box 4"/>
              <p:cNvSpPr/>
              <p:nvPr/>
            </p:nvSpPr>
            <p:spPr>
              <a:xfrm>
                <a:off x="539640" y="5508720"/>
                <a:ext cx="4096440" cy="1149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льтуротранслирующа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Text Box 5"/>
              <p:cNvSpPr/>
              <p:nvPr/>
            </p:nvSpPr>
            <p:spPr>
              <a:xfrm>
                <a:off x="4590000" y="5508720"/>
                <a:ext cx="5128200" cy="1150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вязана с обобщением и передачей важнейших достижений культур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6"/>
            <p:cNvGrpSpPr/>
            <p:nvPr/>
          </p:nvGrpSpPr>
          <p:grpSpPr>
            <a:xfrm>
              <a:off x="539640" y="4356000"/>
              <a:ext cx="9178560" cy="1150920"/>
              <a:chOff x="539640" y="4356000"/>
              <a:chExt cx="9178560" cy="1150920"/>
            </a:xfrm>
          </p:grpSpPr>
          <p:sp>
            <p:nvSpPr>
              <p:cNvPr id="622" name="Text Box 7"/>
              <p:cNvSpPr/>
              <p:nvPr/>
            </p:nvSpPr>
            <p:spPr>
              <a:xfrm>
                <a:off x="539640" y="4356000"/>
                <a:ext cx="4096440" cy="114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актическа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Text Box 8"/>
              <p:cNvSpPr/>
              <p:nvPr/>
            </p:nvSpPr>
            <p:spPr>
              <a:xfrm>
                <a:off x="4590000" y="4356000"/>
                <a:ext cx="5128200" cy="1150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вязана с выработкой смысла, ценностей, правил, принципов и механизмов практической жизни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9"/>
            <p:cNvGrpSpPr/>
            <p:nvPr/>
          </p:nvGrpSpPr>
          <p:grpSpPr>
            <a:xfrm>
              <a:off x="539640" y="3203640"/>
              <a:ext cx="9178560" cy="1150920"/>
              <a:chOff x="539640" y="3203640"/>
              <a:chExt cx="9178560" cy="1150920"/>
            </a:xfrm>
          </p:grpSpPr>
          <p:sp>
            <p:nvSpPr>
              <p:cNvPr id="625" name="Text Box 10"/>
              <p:cNvSpPr/>
              <p:nvPr/>
            </p:nvSpPr>
            <p:spPr>
              <a:xfrm>
                <a:off x="539640" y="3203640"/>
                <a:ext cx="4096440" cy="1149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стетическа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1"/>
              <p:cNvSpPr/>
              <p:nvPr/>
            </p:nvSpPr>
            <p:spPr>
              <a:xfrm>
                <a:off x="4590000" y="3203640"/>
                <a:ext cx="5128200" cy="1150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вязана с изучением законов красоты и ее восприятием человеческим сознанием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12"/>
            <p:cNvGrpSpPr/>
            <p:nvPr/>
          </p:nvGrpSpPr>
          <p:grpSpPr>
            <a:xfrm>
              <a:off x="539640" y="900000"/>
              <a:ext cx="9178560" cy="1150920"/>
              <a:chOff x="539640" y="900000"/>
              <a:chExt cx="9178560" cy="1150920"/>
            </a:xfrm>
          </p:grpSpPr>
          <p:sp>
            <p:nvSpPr>
              <p:cNvPr id="628" name="Text Box 13"/>
              <p:cNvSpPr/>
              <p:nvPr/>
            </p:nvSpPr>
            <p:spPr>
              <a:xfrm>
                <a:off x="539640" y="900000"/>
                <a:ext cx="4096440" cy="114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уманистическа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Text Box 14"/>
              <p:cNvSpPr/>
              <p:nvPr/>
            </p:nvSpPr>
            <p:spPr>
              <a:xfrm>
                <a:off x="4590000" y="900000"/>
                <a:ext cx="5128200" cy="1150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вязана с обоснованием ценности человеческой личности, ее достоинств, прав и свобод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15"/>
            <p:cNvGrpSpPr/>
            <p:nvPr/>
          </p:nvGrpSpPr>
          <p:grpSpPr>
            <a:xfrm>
              <a:off x="539640" y="2052720"/>
              <a:ext cx="9178560" cy="1150920"/>
              <a:chOff x="539640" y="2052720"/>
              <a:chExt cx="9178560" cy="1150920"/>
            </a:xfrm>
          </p:grpSpPr>
          <p:sp>
            <p:nvSpPr>
              <p:cNvPr id="631" name="Text Box 16"/>
              <p:cNvSpPr/>
              <p:nvPr/>
            </p:nvSpPr>
            <p:spPr>
              <a:xfrm>
                <a:off x="539640" y="2052720"/>
                <a:ext cx="4096440" cy="1149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вристическа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Text Box 17"/>
              <p:cNvSpPr/>
              <p:nvPr/>
            </p:nvSpPr>
            <p:spPr>
              <a:xfrm>
                <a:off x="4590000" y="2052720"/>
                <a:ext cx="5128200" cy="1150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вязана с проникновением интеллектуальной интуиции в область неведомого и направлением научного познан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Rectangle 1"/>
          <p:cNvSpPr/>
          <p:nvPr/>
        </p:nvSpPr>
        <p:spPr>
          <a:xfrm>
            <a:off x="0" y="46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2" name="Group 2"/>
          <p:cNvGrpSpPr/>
          <p:nvPr/>
        </p:nvGrpSpPr>
        <p:grpSpPr>
          <a:xfrm>
            <a:off x="539640" y="179280"/>
            <a:ext cx="11698200" cy="7018200"/>
            <a:chOff x="539640" y="179280"/>
            <a:chExt cx="11698200" cy="7018200"/>
          </a:xfrm>
        </p:grpSpPr>
        <p:grpSp>
          <p:nvGrpSpPr>
            <p:cNvPr id="1933" name="Group 3"/>
            <p:cNvGrpSpPr/>
            <p:nvPr/>
          </p:nvGrpSpPr>
          <p:grpSpPr>
            <a:xfrm>
              <a:off x="539640" y="179280"/>
              <a:ext cx="9357120" cy="7017120"/>
              <a:chOff x="539640" y="179280"/>
              <a:chExt cx="9357120" cy="7017120"/>
            </a:xfrm>
          </p:grpSpPr>
          <p:grpSp>
            <p:nvGrpSpPr>
              <p:cNvPr id="1934" name="Group 4"/>
              <p:cNvGrpSpPr/>
              <p:nvPr/>
            </p:nvGrpSpPr>
            <p:grpSpPr>
              <a:xfrm>
                <a:off x="539640" y="179280"/>
                <a:ext cx="9357120" cy="7017120"/>
                <a:chOff x="539640" y="179280"/>
                <a:chExt cx="9357120" cy="7017120"/>
              </a:xfrm>
            </p:grpSpPr>
            <p:sp>
              <p:nvSpPr>
                <p:cNvPr id="1935" name="AutoShape 5"/>
                <p:cNvSpPr/>
                <p:nvPr/>
              </p:nvSpPr>
              <p:spPr>
                <a:xfrm>
                  <a:off x="539640" y="179280"/>
                  <a:ext cx="9357120" cy="701712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6" name="Text Box 6"/>
                <p:cNvSpPr/>
                <p:nvPr/>
              </p:nvSpPr>
              <p:spPr>
                <a:xfrm>
                  <a:off x="1265040" y="1055160"/>
                  <a:ext cx="7909560" cy="52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флекс</a:t>
                  </a:r>
                  <a:r>
                    <a:rPr b="0" i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Text Box 7"/>
              <p:cNvSpPr/>
              <p:nvPr/>
            </p:nvSpPr>
            <p:spPr>
              <a:xfrm>
                <a:off x="1439640" y="3677400"/>
                <a:ext cx="8174160" cy="21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8" name="Text Box 8"/>
            <p:cNvSpPr/>
            <p:nvPr/>
          </p:nvSpPr>
          <p:spPr>
            <a:xfrm>
              <a:off x="1455480" y="2075760"/>
              <a:ext cx="10782360" cy="51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9" name="Group 9"/>
            <p:cNvGrpSpPr/>
            <p:nvPr/>
          </p:nvGrpSpPr>
          <p:grpSpPr>
            <a:xfrm>
              <a:off x="718920" y="2645640"/>
              <a:ext cx="8816760" cy="3450600"/>
              <a:chOff x="718920" y="2645640"/>
              <a:chExt cx="8816760" cy="3450600"/>
            </a:xfrm>
          </p:grpSpPr>
          <p:sp>
            <p:nvSpPr>
              <p:cNvPr id="1940" name="AutoShape 10"/>
              <p:cNvSpPr/>
              <p:nvPr/>
            </p:nvSpPr>
            <p:spPr>
              <a:xfrm>
                <a:off x="718920" y="2645640"/>
                <a:ext cx="8815680" cy="34506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423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Text Box 11"/>
              <p:cNvSpPr/>
              <p:nvPr/>
            </p:nvSpPr>
            <p:spPr>
              <a:xfrm>
                <a:off x="1258200" y="3252960"/>
                <a:ext cx="8277480" cy="21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ные вопрос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чем состоит суть материалистического понимания истории – важнейшего открытия марксизма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то общего и каковы разлачия между позитивизмом и материализмом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чему художественная литература явилась более адекватной формой выражения философии экзистенциалистов, чем их философские трактаты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942" name="Picture 1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Text Box 1"/>
          <p:cNvSpPr/>
          <p:nvPr/>
        </p:nvSpPr>
        <p:spPr>
          <a:xfrm>
            <a:off x="903240" y="3419640"/>
            <a:ext cx="8461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РУССКАЯ ФИЛОСОФ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Group 1"/>
          <p:cNvGrpSpPr/>
          <p:nvPr/>
        </p:nvGrpSpPr>
        <p:grpSpPr>
          <a:xfrm>
            <a:off x="360360" y="179280"/>
            <a:ext cx="9539280" cy="7198920"/>
            <a:chOff x="360360" y="179280"/>
            <a:chExt cx="9539280" cy="7198920"/>
          </a:xfrm>
        </p:grpSpPr>
        <p:sp>
          <p:nvSpPr>
            <p:cNvPr id="1945" name="AutoShape 2"/>
            <p:cNvSpPr/>
            <p:nvPr/>
          </p:nvSpPr>
          <p:spPr>
            <a:xfrm>
              <a:off x="1439640" y="441000"/>
              <a:ext cx="7378560" cy="588924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3"/>
            <p:cNvSpPr/>
            <p:nvPr/>
          </p:nvSpPr>
          <p:spPr>
            <a:xfrm>
              <a:off x="360360" y="179280"/>
              <a:ext cx="9539280" cy="6537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щая характеристика русской философи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Text Box 4"/>
            <p:cNvSpPr/>
            <p:nvPr/>
          </p:nvSpPr>
          <p:spPr>
            <a:xfrm rot="16200000">
              <a:off x="4277520" y="2201040"/>
              <a:ext cx="2878920" cy="634680"/>
            </a:xfrm>
            <a:prstGeom prst="rect">
              <a:avLst/>
            </a:prstGeom>
            <a:solidFill>
              <a:srgbClr val="94bd5e">
                <a:alpha val="4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1440" bIns="9144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6447240" y="1082160"/>
              <a:ext cx="3450600" cy="2877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 же время русскую философию отличают глубина, всесторонность, достаточно специфический круг исследуемых проблем, порой непонятных для Запад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AutoShape 6"/>
            <p:cNvSpPr/>
            <p:nvPr/>
          </p:nvSpPr>
          <p:spPr>
            <a:xfrm>
              <a:off x="4645800" y="4074120"/>
              <a:ext cx="2193480" cy="425160"/>
            </a:xfrm>
            <a:prstGeom prst="downArrow">
              <a:avLst>
                <a:gd name="adj1" fmla="val 53120"/>
                <a:gd name="adj2" fmla="val 58333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Text Box 7"/>
            <p:cNvSpPr/>
            <p:nvPr/>
          </p:nvSpPr>
          <p:spPr>
            <a:xfrm>
              <a:off x="360360" y="1079280"/>
              <a:ext cx="4709520" cy="285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еноменальность русской философии заключается  в том, что она развивается исключительно автономно, независимо от европейской и мировой философии, не находилась под влиянием многочисленных философских направлений Запада – эмпиризма, рационализма, идеализма и др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Text Box 8"/>
            <p:cNvSpPr/>
            <p:nvPr/>
          </p:nvSpPr>
          <p:spPr>
            <a:xfrm rot="16200000">
              <a:off x="-710280" y="5588280"/>
              <a:ext cx="2878920" cy="6998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1440" bIns="9144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арактерные чер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Text Box 9"/>
            <p:cNvSpPr/>
            <p:nvPr/>
          </p:nvSpPr>
          <p:spPr>
            <a:xfrm>
              <a:off x="1260000" y="4499280"/>
              <a:ext cx="8639280" cy="287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льная подверженность религиозному влиянию, особенно православию и язычеств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ецифическая форма выражения философских мыслей – художественное творчество, литературная критика, публицистика, искусство, «эзопов язык»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остность, стремление почти всех философов заниматься не отдельной проблематикой, а всем комплексом актуальных пробле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ая роль проблем морали и нравственност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кретность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ирокое распространение в массах, понятность простому народу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3" name="Group 1"/>
          <p:cNvGrpSpPr/>
          <p:nvPr/>
        </p:nvGrpSpPr>
        <p:grpSpPr>
          <a:xfrm>
            <a:off x="539640" y="85680"/>
            <a:ext cx="9358200" cy="7378920"/>
            <a:chOff x="539640" y="85680"/>
            <a:chExt cx="9358200" cy="7378920"/>
          </a:xfrm>
        </p:grpSpPr>
        <p:sp>
          <p:nvSpPr>
            <p:cNvPr id="1954" name="AutoShape 2"/>
            <p:cNvSpPr/>
            <p:nvPr/>
          </p:nvSpPr>
          <p:spPr>
            <a:xfrm>
              <a:off x="539640" y="85680"/>
              <a:ext cx="9179280" cy="7378920"/>
            </a:xfrm>
            <a:prstGeom prst="roundRect">
              <a:avLst>
                <a:gd name="adj" fmla="val 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Text Box 3"/>
            <p:cNvSpPr/>
            <p:nvPr/>
          </p:nvSpPr>
          <p:spPr>
            <a:xfrm>
              <a:off x="7072920" y="1899720"/>
              <a:ext cx="2518560" cy="80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власт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Text Box 4"/>
            <p:cNvSpPr/>
            <p:nvPr/>
          </p:nvSpPr>
          <p:spPr>
            <a:xfrm>
              <a:off x="539640" y="261720"/>
              <a:ext cx="3155400" cy="105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человек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Text Box 5"/>
            <p:cNvSpPr/>
            <p:nvPr/>
          </p:nvSpPr>
          <p:spPr>
            <a:xfrm>
              <a:off x="6849000" y="261720"/>
              <a:ext cx="3048840" cy="135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мизм (восприятие космоса как целостного организма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Text Box 6"/>
            <p:cNvSpPr/>
            <p:nvPr/>
          </p:nvSpPr>
          <p:spPr>
            <a:xfrm>
              <a:off x="539640" y="2017080"/>
              <a:ext cx="2582280" cy="87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ы морали и нравственност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Text Box 7"/>
            <p:cNvSpPr/>
            <p:nvPr/>
          </p:nvSpPr>
          <p:spPr>
            <a:xfrm>
              <a:off x="3982320" y="261720"/>
              <a:ext cx="2582280" cy="1406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идеального обще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Text Box 8"/>
            <p:cNvSpPr/>
            <p:nvPr/>
          </p:nvSpPr>
          <p:spPr>
            <a:xfrm>
              <a:off x="539640" y="4477320"/>
              <a:ext cx="2008080" cy="87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государ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Text Box 9"/>
            <p:cNvSpPr/>
            <p:nvPr/>
          </p:nvSpPr>
          <p:spPr>
            <a:xfrm>
              <a:off x="7379280" y="4499640"/>
              <a:ext cx="216792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будущег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Text Box 10"/>
            <p:cNvSpPr/>
            <p:nvPr/>
          </p:nvSpPr>
          <p:spPr>
            <a:xfrm>
              <a:off x="826560" y="5705640"/>
              <a:ext cx="4212720" cy="167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социальной справедливости (данной проблемой «пропитан» значительный пласт русской философии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Text Box 11"/>
            <p:cNvSpPr/>
            <p:nvPr/>
          </p:nvSpPr>
          <p:spPr>
            <a:xfrm>
              <a:off x="5399640" y="5531400"/>
              <a:ext cx="4318920" cy="184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выбора исторического пути развития России – между Востоком и Западом (сугубо специфическая проблема русской философии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2"/>
            <p:cNvSpPr/>
            <p:nvPr/>
          </p:nvSpPr>
          <p:spPr>
            <a:xfrm flipV="1">
              <a:off x="5355000" y="1650600"/>
              <a:ext cx="1440" cy="14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3"/>
            <p:cNvSpPr/>
            <p:nvPr/>
          </p:nvSpPr>
          <p:spPr>
            <a:xfrm flipH="1" flipV="1">
              <a:off x="2807640" y="1286640"/>
              <a:ext cx="1774440" cy="18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4"/>
            <p:cNvSpPr/>
            <p:nvPr/>
          </p:nvSpPr>
          <p:spPr>
            <a:xfrm flipV="1">
              <a:off x="6721920" y="2693160"/>
              <a:ext cx="79668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5"/>
            <p:cNvSpPr/>
            <p:nvPr/>
          </p:nvSpPr>
          <p:spPr>
            <a:xfrm flipH="1" flipV="1">
              <a:off x="1947240" y="2867760"/>
              <a:ext cx="1488600" cy="40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6"/>
            <p:cNvSpPr/>
            <p:nvPr/>
          </p:nvSpPr>
          <p:spPr>
            <a:xfrm flipH="1">
              <a:off x="2058120" y="3959640"/>
              <a:ext cx="1487160" cy="52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7"/>
            <p:cNvSpPr/>
            <p:nvPr/>
          </p:nvSpPr>
          <p:spPr>
            <a:xfrm flipH="1">
              <a:off x="2521800" y="4124880"/>
              <a:ext cx="2061720" cy="15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8"/>
            <p:cNvSpPr/>
            <p:nvPr/>
          </p:nvSpPr>
          <p:spPr>
            <a:xfrm>
              <a:off x="7837560" y="3870720"/>
              <a:ext cx="731520" cy="60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19"/>
            <p:cNvSpPr/>
            <p:nvPr/>
          </p:nvSpPr>
          <p:spPr>
            <a:xfrm>
              <a:off x="6275880" y="4124880"/>
              <a:ext cx="1147320" cy="140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0"/>
            <p:cNvSpPr/>
            <p:nvPr/>
          </p:nvSpPr>
          <p:spPr>
            <a:xfrm flipV="1">
              <a:off x="5782320" y="1591920"/>
              <a:ext cx="1236240" cy="149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3" name="Group 21"/>
            <p:cNvGrpSpPr/>
            <p:nvPr/>
          </p:nvGrpSpPr>
          <p:grpSpPr>
            <a:xfrm>
              <a:off x="2700000" y="3071160"/>
              <a:ext cx="5583600" cy="1245600"/>
              <a:chOff x="2700000" y="3071160"/>
              <a:chExt cx="5583600" cy="1245600"/>
            </a:xfrm>
          </p:grpSpPr>
          <p:sp>
            <p:nvSpPr>
              <p:cNvPr id="1974" name="Oval 22"/>
              <p:cNvSpPr/>
              <p:nvPr/>
            </p:nvSpPr>
            <p:spPr>
              <a:xfrm>
                <a:off x="2700000" y="3071160"/>
                <a:ext cx="5583600" cy="1245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5" name="Text Box 23"/>
              <p:cNvSpPr/>
              <p:nvPr/>
            </p:nvSpPr>
            <p:spPr>
              <a:xfrm>
                <a:off x="3524760" y="3254760"/>
                <a:ext cx="3931560" cy="8762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едмет русской философии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Rectangle 1"/>
          <p:cNvSpPr/>
          <p:nvPr/>
        </p:nvSpPr>
        <p:spPr>
          <a:xfrm>
            <a:off x="0" y="46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7" name="Group 2"/>
          <p:cNvGrpSpPr/>
          <p:nvPr/>
        </p:nvGrpSpPr>
        <p:grpSpPr>
          <a:xfrm>
            <a:off x="1079640" y="298440"/>
            <a:ext cx="8458200" cy="6900480"/>
            <a:chOff x="1079640" y="298440"/>
            <a:chExt cx="8458200" cy="6900480"/>
          </a:xfrm>
        </p:grpSpPr>
        <p:sp>
          <p:nvSpPr>
            <p:cNvPr id="1978" name="Text Box 3"/>
            <p:cNvSpPr/>
            <p:nvPr/>
          </p:nvSpPr>
          <p:spPr>
            <a:xfrm>
              <a:off x="1079640" y="1439640"/>
              <a:ext cx="3778920" cy="1429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евняя и средневековая русская 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Text Box 4"/>
            <p:cNvSpPr/>
            <p:nvPr/>
          </p:nvSpPr>
          <p:spPr>
            <a:xfrm>
              <a:off x="4858560" y="1439640"/>
              <a:ext cx="4678920" cy="1429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I-XVII вв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Text Box 5"/>
            <p:cNvSpPr/>
            <p:nvPr/>
          </p:nvSpPr>
          <p:spPr>
            <a:xfrm>
              <a:off x="1079640" y="2867760"/>
              <a:ext cx="3778920" cy="111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сское просвеще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Text Box 6"/>
            <p:cNvSpPr/>
            <p:nvPr/>
          </p:nvSpPr>
          <p:spPr>
            <a:xfrm>
              <a:off x="4858560" y="2867760"/>
              <a:ext cx="4678920" cy="111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VIII - первая четверть XIX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Text Box 7"/>
            <p:cNvSpPr/>
            <p:nvPr/>
          </p:nvSpPr>
          <p:spPr>
            <a:xfrm>
              <a:off x="1079640" y="3978720"/>
              <a:ext cx="3778920" cy="103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ий духовный ренессан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Text Box 8"/>
            <p:cNvSpPr/>
            <p:nvPr/>
          </p:nvSpPr>
          <p:spPr>
            <a:xfrm>
              <a:off x="4858560" y="3978720"/>
              <a:ext cx="4678920" cy="103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торая четверть XIX в. - 1917 г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Text Box 9"/>
            <p:cNvSpPr/>
            <p:nvPr/>
          </p:nvSpPr>
          <p:spPr>
            <a:xfrm>
              <a:off x="1079640" y="5011920"/>
              <a:ext cx="3778920" cy="95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ветский период русской философ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Text Box 10"/>
            <p:cNvSpPr/>
            <p:nvPr/>
          </p:nvSpPr>
          <p:spPr>
            <a:xfrm>
              <a:off x="4858560" y="5011920"/>
              <a:ext cx="4678920" cy="95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17-1991 гг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Text Box 11"/>
            <p:cNvSpPr/>
            <p:nvPr/>
          </p:nvSpPr>
          <p:spPr>
            <a:xfrm>
              <a:off x="1079640" y="5964120"/>
              <a:ext cx="3778920" cy="12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советский период русской философ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Text Box 12"/>
            <p:cNvSpPr/>
            <p:nvPr/>
          </p:nvSpPr>
          <p:spPr>
            <a:xfrm>
              <a:off x="4858560" y="5964120"/>
              <a:ext cx="4678920" cy="12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1991г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Text Box 13"/>
            <p:cNvSpPr/>
            <p:nvPr/>
          </p:nvSpPr>
          <p:spPr>
            <a:xfrm>
              <a:off x="1079640" y="298440"/>
              <a:ext cx="8458200" cy="782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Ы РАЗВИТИЯ РУССКОЙ ФИЛОСОФИ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9" name="Group 1"/>
          <p:cNvGrpSpPr/>
          <p:nvPr/>
        </p:nvGrpSpPr>
        <p:grpSpPr>
          <a:xfrm>
            <a:off x="0" y="4680"/>
            <a:ext cx="10078920" cy="7558200"/>
            <a:chOff x="0" y="4680"/>
            <a:chExt cx="10078920" cy="7558200"/>
          </a:xfrm>
        </p:grpSpPr>
        <p:sp>
          <p:nvSpPr>
            <p:cNvPr id="1990" name="Rectangle 2"/>
            <p:cNvSpPr/>
            <p:nvPr/>
          </p:nvSpPr>
          <p:spPr>
            <a:xfrm>
              <a:off x="0" y="4680"/>
              <a:ext cx="10078920" cy="7558200"/>
            </a:xfrm>
            <a:prstGeom prst="rect">
              <a:avLst/>
            </a:prstGeom>
            <a:solidFill>
              <a:srgbClr val="94bd5e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3"/>
            <p:cNvSpPr/>
            <p:nvPr/>
          </p:nvSpPr>
          <p:spPr>
            <a:xfrm>
              <a:off x="2267640" y="1525320"/>
              <a:ext cx="144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AutoShape 4"/>
            <p:cNvSpPr/>
            <p:nvPr/>
          </p:nvSpPr>
          <p:spPr>
            <a:xfrm>
              <a:off x="1260000" y="178920"/>
              <a:ext cx="8458200" cy="665964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Text Box 5"/>
            <p:cNvSpPr/>
            <p:nvPr/>
          </p:nvSpPr>
          <p:spPr>
            <a:xfrm>
              <a:off x="720360" y="178920"/>
              <a:ext cx="2912400" cy="1363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сточное христианское богословие и 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Text Box 6"/>
            <p:cNvSpPr/>
            <p:nvPr/>
          </p:nvSpPr>
          <p:spPr>
            <a:xfrm>
              <a:off x="3894840" y="178920"/>
              <a:ext cx="2647440" cy="1363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авянские просветител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Text Box 7"/>
            <p:cNvSpPr/>
            <p:nvPr/>
          </p:nvSpPr>
          <p:spPr>
            <a:xfrm>
              <a:off x="6805800" y="178920"/>
              <a:ext cx="2912400" cy="1363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етская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тератур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8"/>
            <p:cNvSpPr/>
            <p:nvPr/>
          </p:nvSpPr>
          <p:spPr>
            <a:xfrm>
              <a:off x="5218560" y="1542600"/>
              <a:ext cx="144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Line 9"/>
            <p:cNvSpPr/>
            <p:nvPr/>
          </p:nvSpPr>
          <p:spPr>
            <a:xfrm>
              <a:off x="8358120" y="1542600"/>
              <a:ext cx="252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Text Box 10"/>
            <p:cNvSpPr/>
            <p:nvPr/>
          </p:nvSpPr>
          <p:spPr>
            <a:xfrm>
              <a:off x="1260000" y="2699640"/>
              <a:ext cx="2699640" cy="103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нняя религиозная 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Text Box 11"/>
            <p:cNvSpPr/>
            <p:nvPr/>
          </p:nvSpPr>
          <p:spPr>
            <a:xfrm>
              <a:off x="3958560" y="2699640"/>
              <a:ext cx="5760000" cy="103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лларион, Никифор, Грек, Вл. Мономах, Климент Смолятич, Кирилл Туровск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Text Box 12"/>
            <p:cNvSpPr/>
            <p:nvPr/>
          </p:nvSpPr>
          <p:spPr>
            <a:xfrm>
              <a:off x="1260000" y="3737880"/>
              <a:ext cx="2699640" cy="103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христианских ересе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Text Box 13"/>
            <p:cNvSpPr/>
            <p:nvPr/>
          </p:nvSpPr>
          <p:spPr>
            <a:xfrm>
              <a:off x="3958560" y="3737880"/>
              <a:ext cx="5760000" cy="103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рианство, богомильство, московские антитринитарии, Феодосий Косой, Карп, Дм. Тверитинов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4"/>
            <p:cNvSpPr/>
            <p:nvPr/>
          </p:nvSpPr>
          <p:spPr>
            <a:xfrm>
              <a:off x="1260000" y="4775760"/>
              <a:ext cx="2699640" cy="51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ихаз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Text Box 15"/>
            <p:cNvSpPr/>
            <p:nvPr/>
          </p:nvSpPr>
          <p:spPr>
            <a:xfrm>
              <a:off x="3958560" y="4775760"/>
              <a:ext cx="5760000" cy="51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еогност, Сергий Радонежск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Text Box 16"/>
            <p:cNvSpPr/>
            <p:nvPr/>
          </p:nvSpPr>
          <p:spPr>
            <a:xfrm>
              <a:off x="1260000" y="5294880"/>
              <a:ext cx="2699640" cy="691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стяжател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Text Box 17"/>
            <p:cNvSpPr/>
            <p:nvPr/>
          </p:nvSpPr>
          <p:spPr>
            <a:xfrm>
              <a:off x="3958560" y="5294880"/>
              <a:ext cx="5760000" cy="691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ил Сорский, Вассиан Патрикеев, Максим Грек, Иван Пересветов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8"/>
            <p:cNvSpPr/>
            <p:nvPr/>
          </p:nvSpPr>
          <p:spPr>
            <a:xfrm>
              <a:off x="1260000" y="5986440"/>
              <a:ext cx="2699640" cy="51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осифлянств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Text Box 19"/>
            <p:cNvSpPr/>
            <p:nvPr/>
          </p:nvSpPr>
          <p:spPr>
            <a:xfrm>
              <a:off x="3958560" y="5986440"/>
              <a:ext cx="5760000" cy="51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осиф Волоцкий, Иван Гроз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Text Box 20"/>
            <p:cNvSpPr/>
            <p:nvPr/>
          </p:nvSpPr>
          <p:spPr>
            <a:xfrm>
              <a:off x="1260000" y="6505560"/>
              <a:ext cx="2699640" cy="69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рия «Москва – третий Рим»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Text Box 21"/>
            <p:cNvSpPr/>
            <p:nvPr/>
          </p:nvSpPr>
          <p:spPr>
            <a:xfrm>
              <a:off x="3958560" y="6505560"/>
              <a:ext cx="5760000" cy="69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осима, Филофе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0" name="AutoShape 22"/>
            <p:cNvCxnSpPr>
              <a:stCxn id="2011" idx="1"/>
              <a:endCxn id="2008" idx="1"/>
            </p:cNvCxnSpPr>
            <p:nvPr/>
          </p:nvCxnSpPr>
          <p:spPr>
            <a:xfrm>
              <a:off x="720360" y="2091600"/>
              <a:ext cx="540000" cy="47606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012" name="AutoShape 23"/>
            <p:cNvCxnSpPr>
              <a:stCxn id="2008" idx="1"/>
              <a:endCxn id="2006" idx="1"/>
            </p:cNvCxnSpPr>
            <p:nvPr/>
          </p:nvCxnSpPr>
          <p:spPr>
            <a:xfrm flipV="1">
              <a:off x="1260000" y="6244560"/>
              <a:ext cx="2160" cy="60516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013" name="AutoShape 24"/>
            <p:cNvCxnSpPr>
              <a:stCxn id="2006" idx="1"/>
              <a:endCxn id="2004" idx="1"/>
            </p:cNvCxnSpPr>
            <p:nvPr/>
          </p:nvCxnSpPr>
          <p:spPr>
            <a:xfrm flipV="1">
              <a:off x="1260000" y="5640120"/>
              <a:ext cx="2160" cy="60516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014" name="AutoShape 25"/>
            <p:cNvCxnSpPr>
              <a:stCxn id="2004" idx="1"/>
              <a:endCxn id="2002" idx="1"/>
            </p:cNvCxnSpPr>
            <p:nvPr/>
          </p:nvCxnSpPr>
          <p:spPr>
            <a:xfrm flipV="1">
              <a:off x="1260000" y="5035320"/>
              <a:ext cx="2160" cy="60516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015" name="AutoShape 26"/>
            <p:cNvCxnSpPr>
              <a:stCxn id="2002" idx="1"/>
              <a:endCxn id="2000" idx="1"/>
            </p:cNvCxnSpPr>
            <p:nvPr/>
          </p:nvCxnSpPr>
          <p:spPr>
            <a:xfrm flipV="1">
              <a:off x="1260000" y="4256280"/>
              <a:ext cx="2160" cy="77832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016" name="AutoShape 27"/>
            <p:cNvCxnSpPr>
              <a:stCxn id="2000" idx="1"/>
              <a:endCxn id="1998" idx="1"/>
            </p:cNvCxnSpPr>
            <p:nvPr/>
          </p:nvCxnSpPr>
          <p:spPr>
            <a:xfrm flipV="1">
              <a:off x="1260000" y="3218040"/>
              <a:ext cx="2160" cy="103860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011" name="Text Box 28"/>
            <p:cNvSpPr/>
            <p:nvPr/>
          </p:nvSpPr>
          <p:spPr>
            <a:xfrm>
              <a:off x="720360" y="1665000"/>
              <a:ext cx="8999280" cy="855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е и развитие русской философии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XI-XVII вв.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1"/>
          <p:cNvSpPr/>
          <p:nvPr/>
        </p:nvSpPr>
        <p:spPr>
          <a:xfrm>
            <a:off x="0" y="46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8" name="Group 2"/>
          <p:cNvGrpSpPr/>
          <p:nvPr/>
        </p:nvGrpSpPr>
        <p:grpSpPr>
          <a:xfrm>
            <a:off x="477720" y="541440"/>
            <a:ext cx="9240480" cy="6297120"/>
            <a:chOff x="477720" y="541440"/>
            <a:chExt cx="9240480" cy="6297120"/>
          </a:xfrm>
        </p:grpSpPr>
        <p:sp>
          <p:nvSpPr>
            <p:cNvPr id="2019" name="Text Box 3"/>
            <p:cNvSpPr/>
            <p:nvPr/>
          </p:nvSpPr>
          <p:spPr>
            <a:xfrm>
              <a:off x="477720" y="541440"/>
              <a:ext cx="9240480" cy="5439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сская философия (XVIII в.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Text Box 4"/>
            <p:cNvSpPr/>
            <p:nvPr/>
          </p:nvSpPr>
          <p:spPr>
            <a:xfrm>
              <a:off x="1031400" y="1479240"/>
              <a:ext cx="3880080" cy="114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сские просветител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Text Box 5"/>
            <p:cNvSpPr/>
            <p:nvPr/>
          </p:nvSpPr>
          <p:spPr>
            <a:xfrm>
              <a:off x="4911840" y="1479240"/>
              <a:ext cx="4804560" cy="114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тищев, Кантемир, Прокопович, Ломоносов, Десницк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Text Box 6"/>
            <p:cNvSpPr/>
            <p:nvPr/>
          </p:nvSpPr>
          <p:spPr>
            <a:xfrm>
              <a:off x="1031400" y="2621880"/>
              <a:ext cx="3880080" cy="887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истическая натур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Text Box 7"/>
            <p:cNvSpPr/>
            <p:nvPr/>
          </p:nvSpPr>
          <p:spPr>
            <a:xfrm>
              <a:off x="4911840" y="2621880"/>
              <a:ext cx="4804560" cy="887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моносов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Text Box 8"/>
            <p:cNvSpPr/>
            <p:nvPr/>
          </p:nvSpPr>
          <p:spPr>
            <a:xfrm>
              <a:off x="1031400" y="3507480"/>
              <a:ext cx="3880080" cy="82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ристиансий платониз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Text Box 9"/>
            <p:cNvSpPr/>
            <p:nvPr/>
          </p:nvSpPr>
          <p:spPr>
            <a:xfrm>
              <a:off x="4911840" y="3507480"/>
              <a:ext cx="4804560" cy="82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вород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Text Box 10"/>
            <p:cNvSpPr/>
            <p:nvPr/>
          </p:nvSpPr>
          <p:spPr>
            <a:xfrm>
              <a:off x="1031400" y="4332960"/>
              <a:ext cx="3880080" cy="76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ледователи Христиана Вольф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Text Box 11"/>
            <p:cNvSpPr/>
            <p:nvPr/>
          </p:nvSpPr>
          <p:spPr>
            <a:xfrm>
              <a:off x="4911840" y="4332960"/>
              <a:ext cx="4804560" cy="76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плов, Щербатов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Text Box 12"/>
            <p:cNvSpPr/>
            <p:nvPr/>
          </p:nvSpPr>
          <p:spPr>
            <a:xfrm>
              <a:off x="1031400" y="5093280"/>
              <a:ext cx="3880080" cy="98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ая и политическая 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Text Box 13"/>
            <p:cNvSpPr/>
            <p:nvPr/>
          </p:nvSpPr>
          <p:spPr>
            <a:xfrm>
              <a:off x="4911840" y="5093280"/>
              <a:ext cx="4804560" cy="98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дищев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Text Box 14"/>
            <p:cNvSpPr/>
            <p:nvPr/>
          </p:nvSpPr>
          <p:spPr>
            <a:xfrm>
              <a:off x="1031400" y="6078600"/>
              <a:ext cx="3880080" cy="75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сское масонств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Text Box 15"/>
            <p:cNvSpPr/>
            <p:nvPr/>
          </p:nvSpPr>
          <p:spPr>
            <a:xfrm>
              <a:off x="4911840" y="6078600"/>
              <a:ext cx="4804560" cy="75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агин, Шварц, Лопухин, Лабзин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32" name="AutoShape 16"/>
            <p:cNvCxnSpPr>
              <a:stCxn id="2019" idx="1"/>
              <a:endCxn id="2030" idx="1"/>
            </p:cNvCxnSpPr>
            <p:nvPr/>
          </p:nvCxnSpPr>
          <p:spPr>
            <a:xfrm>
              <a:off x="477720" y="813960"/>
              <a:ext cx="554040" cy="5646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033" name="AutoShape 17"/>
            <p:cNvCxnSpPr>
              <a:stCxn id="2030" idx="1"/>
              <a:endCxn id="2028" idx="1"/>
            </p:cNvCxnSpPr>
            <p:nvPr/>
          </p:nvCxnSpPr>
          <p:spPr>
            <a:xfrm flipV="1">
              <a:off x="1031400" y="5584680"/>
              <a:ext cx="2160" cy="87336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034" name="AutoShape 18"/>
            <p:cNvCxnSpPr>
              <a:stCxn id="2028" idx="1"/>
              <a:endCxn id="2026" idx="1"/>
            </p:cNvCxnSpPr>
            <p:nvPr/>
          </p:nvCxnSpPr>
          <p:spPr>
            <a:xfrm flipV="1">
              <a:off x="1031400" y="4713480"/>
              <a:ext cx="2160" cy="87192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035" name="AutoShape 19"/>
            <p:cNvCxnSpPr>
              <a:stCxn id="2026" idx="1"/>
              <a:endCxn id="2024" idx="1"/>
            </p:cNvCxnSpPr>
            <p:nvPr/>
          </p:nvCxnSpPr>
          <p:spPr>
            <a:xfrm flipV="1">
              <a:off x="1031400" y="3919680"/>
              <a:ext cx="2160" cy="79416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036" name="AutoShape 20"/>
            <p:cNvCxnSpPr>
              <a:stCxn id="2024" idx="1"/>
              <a:endCxn id="2022" idx="1"/>
            </p:cNvCxnSpPr>
            <p:nvPr/>
          </p:nvCxnSpPr>
          <p:spPr>
            <a:xfrm flipV="1">
              <a:off x="1031400" y="3064320"/>
              <a:ext cx="2160" cy="85464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037" name="AutoShape 21"/>
            <p:cNvCxnSpPr>
              <a:stCxn id="2022" idx="1"/>
              <a:endCxn id="2020" idx="1"/>
            </p:cNvCxnSpPr>
            <p:nvPr/>
          </p:nvCxnSpPr>
          <p:spPr>
            <a:xfrm flipV="1">
              <a:off x="1031400" y="2048400"/>
              <a:ext cx="2160" cy="101628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round/>
            </a:ln>
          </p:spPr>
        </p:cxnSp>
      </p:grpSp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1"/>
          <p:cNvSpPr/>
          <p:nvPr/>
        </p:nvSpPr>
        <p:spPr>
          <a:xfrm>
            <a:off x="0" y="64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9" name="Group 2"/>
          <p:cNvGrpSpPr/>
          <p:nvPr/>
        </p:nvGrpSpPr>
        <p:grpSpPr>
          <a:xfrm>
            <a:off x="360360" y="423720"/>
            <a:ext cx="9539280" cy="6478200"/>
            <a:chOff x="360360" y="423720"/>
            <a:chExt cx="9539280" cy="6478200"/>
          </a:xfrm>
        </p:grpSpPr>
        <p:grpSp>
          <p:nvGrpSpPr>
            <p:cNvPr id="2040" name="Group 3"/>
            <p:cNvGrpSpPr/>
            <p:nvPr/>
          </p:nvGrpSpPr>
          <p:grpSpPr>
            <a:xfrm>
              <a:off x="360360" y="423720"/>
              <a:ext cx="9539280" cy="6478200"/>
              <a:chOff x="360360" y="423720"/>
              <a:chExt cx="9539280" cy="6478200"/>
            </a:xfrm>
          </p:grpSpPr>
          <p:sp>
            <p:nvSpPr>
              <p:cNvPr id="2041" name="AutoShape 4"/>
              <p:cNvSpPr/>
              <p:nvPr/>
            </p:nvSpPr>
            <p:spPr>
              <a:xfrm>
                <a:off x="2435040" y="425160"/>
                <a:ext cx="5399280" cy="5733720"/>
              </a:xfrm>
              <a:custGeom>
                <a:avLst/>
                <a:gdLst>
                  <a:gd name="textAreaLeft" fmla="*/ 360 w 5399280"/>
                  <a:gd name="textAreaRight" fmla="*/ 5398920 w 5399280"/>
                  <a:gd name="textAreaTop" fmla="*/ 360 h 5733720"/>
                  <a:gd name="textAreaBottom" fmla="*/ 5733360 h 5733720"/>
                </a:gdLst>
                <a:ahLst/>
                <a:rect l="textAreaLeft" t="textAreaTop" r="textAreaRight" b="textAreaBottom"/>
                <a:pathLst>
                  <a:path w="21600" h="22938">
                    <a:moveTo>
                      <a:pt x="6" y="0"/>
                    </a:moveTo>
                    <a:arcTo wR="6" hR="6" stAng="16200000" swAng="-5400000"/>
                    <a:lnTo>
                      <a:pt x="0" y="22932"/>
                    </a:lnTo>
                    <a:arcTo wR="6" hR="6" stAng="10800000" swAng="-5400000"/>
                    <a:lnTo>
                      <a:pt x="21594" y="22938"/>
                    </a:lnTo>
                    <a:arcTo wR="6" hR="6" stAng="5400000" swAng="-5400000"/>
                    <a:lnTo>
                      <a:pt x="21600" y="6"/>
                    </a:lnTo>
                    <a:arcTo wR="6" hR="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Text Box 5"/>
              <p:cNvSpPr/>
              <p:nvPr/>
            </p:nvSpPr>
            <p:spPr>
              <a:xfrm>
                <a:off x="360360" y="1144080"/>
                <a:ext cx="5039280" cy="634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 М. В. Ломоносо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Text Box 6"/>
              <p:cNvSpPr/>
              <p:nvPr/>
            </p:nvSpPr>
            <p:spPr>
              <a:xfrm>
                <a:off x="5578920" y="1144080"/>
                <a:ext cx="4318920" cy="6253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 А. Н. Радищев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Text Box 7"/>
              <p:cNvSpPr/>
              <p:nvPr/>
            </p:nvSpPr>
            <p:spPr>
              <a:xfrm>
                <a:off x="5578920" y="1928160"/>
                <a:ext cx="4318920" cy="4075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.Н.Радищев стоял на последовательно материалистических позициях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мимо обоснования материалистических начал бытия большое внимание Радищев уделил социально-политической философии. Ее кредо-борьба против самодержавия, за народовластие, правовую и духовную свободу, торжество права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Text Box 8"/>
              <p:cNvSpPr/>
              <p:nvPr/>
            </p:nvSpPr>
            <p:spPr>
              <a:xfrm>
                <a:off x="360360" y="1928160"/>
                <a:ext cx="5039280" cy="4973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. В. Ломоносов был сторонником механистического материализма. Им была заложена материалистическая традиция в русской философии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. В. Ломоносовым была выдвинута теория строения вещества, по которой все предметы и материя в целом состоят из мальчайших частиц – материальных монад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тношение М. В. Ломоносова к Богу -  деистическое. С одной стороны, он допускал наличие Бога – Творца, но, с другой стороны, не наделял его сверхъестественной силой и возможностями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философии Ломоносова также уделялась большая роль этике, морали, нравственности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Text Box 9"/>
              <p:cNvSpPr/>
              <p:nvPr/>
            </p:nvSpPr>
            <p:spPr>
              <a:xfrm>
                <a:off x="360360" y="423720"/>
                <a:ext cx="9539280" cy="63468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териалистическая философия XVIII в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Text Box 1"/>
          <p:cNvSpPr/>
          <p:nvPr/>
        </p:nvSpPr>
        <p:spPr>
          <a:xfrm>
            <a:off x="903240" y="2700360"/>
            <a:ext cx="8461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ШКОЛЫ И ТЕЧЕНИЯ РУССКОЙ ФИЛОСОФ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VIII-XX вв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1"/>
          <p:cNvSpPr/>
          <p:nvPr/>
        </p:nvSpPr>
        <p:spPr>
          <a:xfrm>
            <a:off x="0" y="64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9" name="Group 2"/>
          <p:cNvGrpSpPr/>
          <p:nvPr/>
        </p:nvGrpSpPr>
        <p:grpSpPr>
          <a:xfrm>
            <a:off x="179280" y="179280"/>
            <a:ext cx="9718560" cy="7018200"/>
            <a:chOff x="179280" y="179280"/>
            <a:chExt cx="9718560" cy="7018200"/>
          </a:xfrm>
        </p:grpSpPr>
        <p:sp>
          <p:nvSpPr>
            <p:cNvPr id="2050" name="Text Box 3"/>
            <p:cNvSpPr/>
            <p:nvPr/>
          </p:nvSpPr>
          <p:spPr>
            <a:xfrm>
              <a:off x="2339640" y="179280"/>
              <a:ext cx="7558200" cy="956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моносов, Радищев, Ленин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Text Box 4"/>
            <p:cNvSpPr/>
            <p:nvPr/>
          </p:nvSpPr>
          <p:spPr>
            <a:xfrm>
              <a:off x="2339640" y="1136160"/>
              <a:ext cx="7558200" cy="969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агин, Шварц, Лопухин, Лабзин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Text Box 5"/>
            <p:cNvSpPr/>
            <p:nvPr/>
          </p:nvSpPr>
          <p:spPr>
            <a:xfrm>
              <a:off x="2339640" y="2093040"/>
              <a:ext cx="7558200" cy="956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новский, Бакунин, Герцен, Огарев, Белинск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Text Box 6"/>
            <p:cNvSpPr/>
            <p:nvPr/>
          </p:nvSpPr>
          <p:spPr>
            <a:xfrm>
              <a:off x="2339640" y="3050280"/>
              <a:ext cx="7558200" cy="957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реевский, Хомяков, Самарин, братья Аксаков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Text Box 7"/>
            <p:cNvSpPr/>
            <p:nvPr/>
          </p:nvSpPr>
          <p:spPr>
            <a:xfrm>
              <a:off x="2339640" y="4007520"/>
              <a:ext cx="7558200" cy="956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игорьев, Страхов, Данилевский, Леонтьев, Достоевск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Text Box 8"/>
            <p:cNvSpPr/>
            <p:nvPr/>
          </p:nvSpPr>
          <p:spPr>
            <a:xfrm>
              <a:off x="2339640" y="4964760"/>
              <a:ext cx="7558200" cy="127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рнышевский, Добролюбов, Писарев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Text Box 9"/>
            <p:cNvSpPr/>
            <p:nvPr/>
          </p:nvSpPr>
          <p:spPr>
            <a:xfrm>
              <a:off x="179280" y="179280"/>
              <a:ext cx="2160360" cy="956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ализ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Text Box 10"/>
            <p:cNvSpPr/>
            <p:nvPr/>
          </p:nvSpPr>
          <p:spPr>
            <a:xfrm>
              <a:off x="179280" y="1136160"/>
              <a:ext cx="2160360" cy="9698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онств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Text Box 11"/>
            <p:cNvSpPr/>
            <p:nvPr/>
          </p:nvSpPr>
          <p:spPr>
            <a:xfrm>
              <a:off x="179280" y="2093040"/>
              <a:ext cx="2160360" cy="956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падники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Text Box 12"/>
            <p:cNvSpPr/>
            <p:nvPr/>
          </p:nvSpPr>
          <p:spPr>
            <a:xfrm>
              <a:off x="179280" y="3050280"/>
              <a:ext cx="2160360" cy="957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авянофилы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Text Box 13"/>
            <p:cNvSpPr/>
            <p:nvPr/>
          </p:nvSpPr>
          <p:spPr>
            <a:xfrm>
              <a:off x="179280" y="4007520"/>
              <a:ext cx="2160360" cy="956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чвеник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Text Box 14"/>
            <p:cNvSpPr/>
            <p:nvPr/>
          </p:nvSpPr>
          <p:spPr>
            <a:xfrm>
              <a:off x="179280" y="4964760"/>
              <a:ext cx="2160360" cy="12758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волюционные демократы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Text Box 15"/>
            <p:cNvSpPr/>
            <p:nvPr/>
          </p:nvSpPr>
          <p:spPr>
            <a:xfrm>
              <a:off x="2339640" y="6240600"/>
              <a:ext cx="7558200" cy="956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качев, Лавров, Троцкий, Бухарин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Text Box 16"/>
            <p:cNvSpPr/>
            <p:nvPr/>
          </p:nvSpPr>
          <p:spPr>
            <a:xfrm>
              <a:off x="179280" y="6240600"/>
              <a:ext cx="2160360" cy="956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одник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Group 2"/>
          <p:cNvGrpSpPr/>
          <p:nvPr/>
        </p:nvGrpSpPr>
        <p:grpSpPr>
          <a:xfrm>
            <a:off x="539640" y="360360"/>
            <a:ext cx="9178920" cy="6657840"/>
            <a:chOff x="539640" y="360360"/>
            <a:chExt cx="9178920" cy="6657840"/>
          </a:xfrm>
        </p:grpSpPr>
        <p:grpSp>
          <p:nvGrpSpPr>
            <p:cNvPr id="635" name="Group 3"/>
            <p:cNvGrpSpPr/>
            <p:nvPr/>
          </p:nvGrpSpPr>
          <p:grpSpPr>
            <a:xfrm>
              <a:off x="539640" y="1260360"/>
              <a:ext cx="9176760" cy="5757840"/>
              <a:chOff x="539640" y="1260360"/>
              <a:chExt cx="9176760" cy="5757840"/>
            </a:xfrm>
          </p:grpSpPr>
          <p:grpSp>
            <p:nvGrpSpPr>
              <p:cNvPr id="636" name="Group 4"/>
              <p:cNvGrpSpPr/>
              <p:nvPr/>
            </p:nvGrpSpPr>
            <p:grpSpPr>
              <a:xfrm>
                <a:off x="539640" y="1260360"/>
                <a:ext cx="9176760" cy="5757840"/>
                <a:chOff x="539640" y="1260360"/>
                <a:chExt cx="9176760" cy="5757840"/>
              </a:xfrm>
            </p:grpSpPr>
            <p:grpSp>
              <p:nvGrpSpPr>
                <p:cNvPr id="637" name="Group 5"/>
                <p:cNvGrpSpPr/>
                <p:nvPr/>
              </p:nvGrpSpPr>
              <p:grpSpPr>
                <a:xfrm>
                  <a:off x="539640" y="1260360"/>
                  <a:ext cx="9176760" cy="719280"/>
                  <a:chOff x="539640" y="1260360"/>
                  <a:chExt cx="9176760" cy="719280"/>
                </a:xfrm>
              </p:grpSpPr>
              <p:sp>
                <p:nvSpPr>
                  <p:cNvPr id="638" name="Text Box 6"/>
                  <p:cNvSpPr/>
                  <p:nvPr/>
                </p:nvSpPr>
                <p:spPr>
                  <a:xfrm>
                    <a:off x="539640" y="1260360"/>
                    <a:ext cx="4588920" cy="71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Тип философского познания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Text Box 7"/>
                  <p:cNvSpPr/>
                  <p:nvPr/>
                </p:nvSpPr>
                <p:spPr>
                  <a:xfrm>
                    <a:off x="5128560" y="1260360"/>
                    <a:ext cx="4587840" cy="71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ознание опирается на...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Group 8"/>
                <p:cNvGrpSpPr/>
                <p:nvPr/>
              </p:nvGrpSpPr>
              <p:grpSpPr>
                <a:xfrm>
                  <a:off x="539640" y="1979640"/>
                  <a:ext cx="9176760" cy="1619280"/>
                  <a:chOff x="539640" y="1979640"/>
                  <a:chExt cx="9176760" cy="1619280"/>
                </a:xfrm>
              </p:grpSpPr>
              <p:sp>
                <p:nvSpPr>
                  <p:cNvPr id="641" name="Text Box 9"/>
                  <p:cNvSpPr/>
                  <p:nvPr/>
                </p:nvSpPr>
                <p:spPr>
                  <a:xfrm>
                    <a:off x="539640" y="1979640"/>
                    <a:ext cx="4588920" cy="161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Обыденная философия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Text Box 10"/>
                  <p:cNvSpPr/>
                  <p:nvPr/>
                </p:nvSpPr>
                <p:spPr>
                  <a:xfrm>
                    <a:off x="5128560" y="1979640"/>
                    <a:ext cx="4587840" cy="161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Чувственное восприятие действительности, произвольные умозрения, связанные или несвязанные с объективным опытом и реальностью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11"/>
                <p:cNvGrpSpPr/>
                <p:nvPr/>
              </p:nvGrpSpPr>
              <p:grpSpPr>
                <a:xfrm>
                  <a:off x="539640" y="3600360"/>
                  <a:ext cx="9176760" cy="1619280"/>
                  <a:chOff x="539640" y="3600360"/>
                  <a:chExt cx="9176760" cy="1619280"/>
                </a:xfrm>
              </p:grpSpPr>
              <p:sp>
                <p:nvSpPr>
                  <p:cNvPr id="644" name="Text Box 12"/>
                  <p:cNvSpPr/>
                  <p:nvPr/>
                </p:nvSpPr>
                <p:spPr>
                  <a:xfrm>
                    <a:off x="539640" y="3600360"/>
                    <a:ext cx="4588920" cy="161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Религиозно-догматическая философия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Text Box 13"/>
                  <p:cNvSpPr/>
                  <p:nvPr/>
                </p:nvSpPr>
                <p:spPr>
                  <a:xfrm>
                    <a:off x="5128560" y="3600360"/>
                    <a:ext cx="4587840" cy="161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оложения Священного Писания и догматы церкви. Исходит из приоритета веры над знанием. Использует разум для толкования и доказательства предметов веры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Group 14"/>
                <p:cNvGrpSpPr/>
                <p:nvPr/>
              </p:nvGrpSpPr>
              <p:grpSpPr>
                <a:xfrm>
                  <a:off x="539640" y="5219640"/>
                  <a:ext cx="9176760" cy="1798560"/>
                  <a:chOff x="539640" y="5219640"/>
                  <a:chExt cx="9176760" cy="1798560"/>
                </a:xfrm>
              </p:grpSpPr>
              <p:sp>
                <p:nvSpPr>
                  <p:cNvPr id="647" name="Text Box 15"/>
                  <p:cNvSpPr/>
                  <p:nvPr/>
                </p:nvSpPr>
                <p:spPr>
                  <a:xfrm>
                    <a:off x="539640" y="5219640"/>
                    <a:ext cx="4588920" cy="17985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истическая философия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Text Box 16"/>
                  <p:cNvSpPr/>
                  <p:nvPr/>
                </p:nvSpPr>
                <p:spPr>
                  <a:xfrm>
                    <a:off x="5128560" y="5219640"/>
                    <a:ext cx="4587840" cy="17985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Личный или исторический мистический (духовный опыт), эмпирическое, рациональное и иррациональное познание, которые осмысливаются и истолковываются средствами разума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7"/>
            <p:cNvSpPr/>
            <p:nvPr/>
          </p:nvSpPr>
          <p:spPr>
            <a:xfrm>
              <a:off x="539640" y="360360"/>
              <a:ext cx="9178920" cy="720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ипы философского познания и их специфи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1"/>
          <p:cNvSpPr/>
          <p:nvPr/>
        </p:nvSpPr>
        <p:spPr>
          <a:xfrm>
            <a:off x="0" y="64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5" name="Group 2"/>
          <p:cNvGrpSpPr/>
          <p:nvPr/>
        </p:nvGrpSpPr>
        <p:grpSpPr>
          <a:xfrm>
            <a:off x="360360" y="360360"/>
            <a:ext cx="9357840" cy="6838560"/>
            <a:chOff x="360360" y="360360"/>
            <a:chExt cx="9357840" cy="6838560"/>
          </a:xfrm>
        </p:grpSpPr>
        <p:grpSp>
          <p:nvGrpSpPr>
            <p:cNvPr id="2066" name="Group 3"/>
            <p:cNvGrpSpPr/>
            <p:nvPr/>
          </p:nvGrpSpPr>
          <p:grpSpPr>
            <a:xfrm>
              <a:off x="360360" y="360360"/>
              <a:ext cx="9357840" cy="6838560"/>
              <a:chOff x="360360" y="360360"/>
              <a:chExt cx="9357840" cy="6838560"/>
            </a:xfrm>
          </p:grpSpPr>
          <p:sp>
            <p:nvSpPr>
              <p:cNvPr id="2067" name="Text Box 4"/>
              <p:cNvSpPr/>
              <p:nvPr/>
            </p:nvSpPr>
            <p:spPr>
              <a:xfrm>
                <a:off x="2439360" y="1185480"/>
                <a:ext cx="7278840" cy="890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леханов, Ленин, Троцкий, Бухарин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Text Box 5"/>
              <p:cNvSpPr/>
              <p:nvPr/>
            </p:nvSpPr>
            <p:spPr>
              <a:xfrm>
                <a:off x="2439360" y="2075760"/>
                <a:ext cx="7278840" cy="1141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овгородцев, Ильин, Вышеславцев, Алексеев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Text Box 6"/>
              <p:cNvSpPr/>
              <p:nvPr/>
            </p:nvSpPr>
            <p:spPr>
              <a:xfrm>
                <a:off x="2439360" y="3215160"/>
                <a:ext cx="7278840" cy="153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доевский, Сухово-Кобылин, Федоров, Бугаев, Соловьев, Блаватская, Умов, Циолковский, Флоренский, Чижевский, Рерих, Манеев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Text Box 7"/>
              <p:cNvSpPr/>
              <p:nvPr/>
            </p:nvSpPr>
            <p:spPr>
              <a:xfrm>
                <a:off x="2439360" y="4748400"/>
                <a:ext cx="7278840" cy="1336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лаватская, Рерихи, Абрамов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Text Box 8"/>
              <p:cNvSpPr/>
              <p:nvPr/>
            </p:nvSpPr>
            <p:spPr>
              <a:xfrm>
                <a:off x="2439360" y="6084720"/>
                <a:ext cx="7278840" cy="111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ксельрод, Деборин, Митин, Ильенков, Мамчур, Степин, Келле, Барулин и др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Text Box 9"/>
              <p:cNvSpPr/>
              <p:nvPr/>
            </p:nvSpPr>
            <p:spPr>
              <a:xfrm>
                <a:off x="360360" y="1185480"/>
                <a:ext cx="2079000" cy="890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усский маркс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Text Box 10"/>
              <p:cNvSpPr/>
              <p:nvPr/>
            </p:nvSpPr>
            <p:spPr>
              <a:xfrm>
                <a:off x="360360" y="2075760"/>
                <a:ext cx="2079000" cy="11412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прав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Text Box 11"/>
              <p:cNvSpPr/>
              <p:nvPr/>
            </p:nvSpPr>
            <p:spPr>
              <a:xfrm>
                <a:off x="360360" y="3215160"/>
                <a:ext cx="2079000" cy="15328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усский косм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Text Box 12"/>
              <p:cNvSpPr/>
              <p:nvPr/>
            </p:nvSpPr>
            <p:spPr>
              <a:xfrm>
                <a:off x="360360" y="4748400"/>
                <a:ext cx="2079000" cy="133632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еософия и учение Живая Этик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Text Box 13"/>
              <p:cNvSpPr/>
              <p:nvPr/>
            </p:nvSpPr>
            <p:spPr>
              <a:xfrm>
                <a:off x="360360" y="6084720"/>
                <a:ext cx="2079000" cy="11142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рксизм-ленин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Text Box 14"/>
              <p:cNvSpPr/>
              <p:nvPr/>
            </p:nvSpPr>
            <p:spPr>
              <a:xfrm>
                <a:off x="2439360" y="360360"/>
                <a:ext cx="7278840" cy="825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коворода, Толстой, Федоров, Соловьев, Бердяев, Булгаков, Франк, Лосский, Шестов, Флоренский, Андреев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Text Box 15"/>
              <p:cNvSpPr/>
              <p:nvPr/>
            </p:nvSpPr>
            <p:spPr>
              <a:xfrm>
                <a:off x="360360" y="360360"/>
                <a:ext cx="2080440" cy="82512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лигиозная философ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9" name="Group 1"/>
          <p:cNvGrpSpPr/>
          <p:nvPr/>
        </p:nvGrpSpPr>
        <p:grpSpPr>
          <a:xfrm>
            <a:off x="360360" y="290520"/>
            <a:ext cx="9539280" cy="7087680"/>
            <a:chOff x="360360" y="290520"/>
            <a:chExt cx="9539280" cy="7087680"/>
          </a:xfrm>
        </p:grpSpPr>
        <p:sp>
          <p:nvSpPr>
            <p:cNvPr id="2080" name="AutoShape 2"/>
            <p:cNvSpPr/>
            <p:nvPr/>
          </p:nvSpPr>
          <p:spPr>
            <a:xfrm>
              <a:off x="7379280" y="2218680"/>
              <a:ext cx="509040" cy="480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AutoShape 3"/>
            <p:cNvSpPr/>
            <p:nvPr/>
          </p:nvSpPr>
          <p:spPr>
            <a:xfrm>
              <a:off x="1979280" y="720360"/>
              <a:ext cx="6299640" cy="584172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Text Box 4"/>
            <p:cNvSpPr/>
            <p:nvPr/>
          </p:nvSpPr>
          <p:spPr>
            <a:xfrm>
              <a:off x="360360" y="290520"/>
              <a:ext cx="9539280" cy="5457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Ф. М. Достоевского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Text Box 5"/>
            <p:cNvSpPr/>
            <p:nvPr/>
          </p:nvSpPr>
          <p:spPr>
            <a:xfrm>
              <a:off x="360360" y="958320"/>
              <a:ext cx="4585680" cy="41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Text Box 6"/>
            <p:cNvSpPr/>
            <p:nvPr/>
          </p:nvSpPr>
          <p:spPr>
            <a:xfrm>
              <a:off x="5248800" y="958320"/>
              <a:ext cx="4649040" cy="131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а варианта пут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а, выделенные Ф.М.Достоевски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7"/>
            <p:cNvSpPr/>
            <p:nvPr/>
          </p:nvSpPr>
          <p:spPr>
            <a:xfrm flipH="1">
              <a:off x="3437280" y="836280"/>
              <a:ext cx="307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8"/>
            <p:cNvSpPr/>
            <p:nvPr/>
          </p:nvSpPr>
          <p:spPr>
            <a:xfrm>
              <a:off x="7314120" y="836280"/>
              <a:ext cx="2538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AutoShape 9"/>
            <p:cNvSpPr/>
            <p:nvPr/>
          </p:nvSpPr>
          <p:spPr>
            <a:xfrm>
              <a:off x="2599920" y="1371240"/>
              <a:ext cx="558360" cy="539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Text Box 10"/>
            <p:cNvSpPr/>
            <p:nvPr/>
          </p:nvSpPr>
          <p:spPr>
            <a:xfrm>
              <a:off x="360360" y="1978920"/>
              <a:ext cx="4599720" cy="53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.М.Достоевский будущее России видел не в капитализме и не в социализме, а в опоре на русскую «национальную почву» - обычаи, традици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ючевую роль как в судьбе государства, так и в судьбе отдельного человека должна сыграть религия. Именно на религии держится человеческая духовность, она есть «панцирь», оберегающий человека от грехов и зл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ую роль в философских взглядах Достоевского занимает проблема человека. Им было выделено два варианта жизненного пути, по которому может идти человек: путь человекобожества и путь богочеловек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Text Box 11"/>
            <p:cNvSpPr/>
            <p:nvPr/>
          </p:nvSpPr>
          <p:spPr>
            <a:xfrm>
              <a:off x="5218560" y="2699640"/>
              <a:ext cx="4679280" cy="467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ть человекобожества – путь абсолютной свободы человека. Человек отвергает всякие авторитеты, в том числе Бога, считает свои возможности безграничными, а себя – вправе делать все, он сам пытается стать Богом. Данный путь губителен как для окружающих, так и для самого человека. Идущий по нему потерпит крах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ть богочеловека – путь следования Богу, стремление к нему во всех своих привычках и поступках. Такой путь Достоевский считал наиболее верным, праведным и спасительным для человек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AutoShape 1"/>
          <p:cNvSpPr/>
          <p:nvPr/>
        </p:nvSpPr>
        <p:spPr>
          <a:xfrm>
            <a:off x="720720" y="360360"/>
            <a:ext cx="8818560" cy="6840720"/>
          </a:xfrm>
          <a:prstGeom prst="roundRect">
            <a:avLst>
              <a:gd name="adj" fmla="val 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1" name="Group 2"/>
          <p:cNvGrpSpPr/>
          <p:nvPr/>
        </p:nvGrpSpPr>
        <p:grpSpPr>
          <a:xfrm>
            <a:off x="720720" y="539640"/>
            <a:ext cx="8997480" cy="6027480"/>
            <a:chOff x="720720" y="539640"/>
            <a:chExt cx="8997480" cy="6027480"/>
          </a:xfrm>
        </p:grpSpPr>
        <p:sp>
          <p:nvSpPr>
            <p:cNvPr id="2092" name="Text Box 3"/>
            <p:cNvSpPr/>
            <p:nvPr/>
          </p:nvSpPr>
          <p:spPr>
            <a:xfrm>
              <a:off x="720720" y="597960"/>
              <a:ext cx="3886560" cy="1190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ссмертие духовной сущности человек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3" name="Group 4"/>
            <p:cNvGrpSpPr/>
            <p:nvPr/>
          </p:nvGrpSpPr>
          <p:grpSpPr>
            <a:xfrm>
              <a:off x="3571200" y="3629520"/>
              <a:ext cx="3366360" cy="1039320"/>
              <a:chOff x="3571200" y="3629520"/>
              <a:chExt cx="3366360" cy="1039320"/>
            </a:xfrm>
          </p:grpSpPr>
          <p:sp>
            <p:nvSpPr>
              <p:cNvPr id="2094" name="Oval 5"/>
              <p:cNvSpPr/>
              <p:nvPr/>
            </p:nvSpPr>
            <p:spPr>
              <a:xfrm>
                <a:off x="3571200" y="3629520"/>
                <a:ext cx="3366360" cy="10393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Text Box 6"/>
              <p:cNvSpPr/>
              <p:nvPr/>
            </p:nvSpPr>
            <p:spPr>
              <a:xfrm>
                <a:off x="4069440" y="3783240"/>
                <a:ext cx="2371320" cy="732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усски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см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6" name="Text Box 7"/>
            <p:cNvSpPr/>
            <p:nvPr/>
          </p:nvSpPr>
          <p:spPr>
            <a:xfrm>
              <a:off x="720720" y="2310840"/>
              <a:ext cx="2858400" cy="89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оянная эволюция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зн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Text Box 8"/>
            <p:cNvSpPr/>
            <p:nvPr/>
          </p:nvSpPr>
          <p:spPr>
            <a:xfrm>
              <a:off x="747360" y="5208840"/>
              <a:ext cx="3367800" cy="1337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 в его настоящем виде не является вершиной развития жизни и разум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Text Box 9"/>
            <p:cNvSpPr/>
            <p:nvPr/>
          </p:nvSpPr>
          <p:spPr>
            <a:xfrm>
              <a:off x="5885280" y="5229360"/>
              <a:ext cx="3636000" cy="1337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избежность входа человека в космос и его разумное преображе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Line 10"/>
            <p:cNvSpPr/>
            <p:nvPr/>
          </p:nvSpPr>
          <p:spPr>
            <a:xfrm flipV="1">
              <a:off x="6386760" y="3391560"/>
              <a:ext cx="1352160" cy="39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11"/>
            <p:cNvSpPr/>
            <p:nvPr/>
          </p:nvSpPr>
          <p:spPr>
            <a:xfrm flipH="1" flipV="1">
              <a:off x="1945440" y="3192840"/>
              <a:ext cx="1875960" cy="71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12"/>
            <p:cNvSpPr/>
            <p:nvPr/>
          </p:nvSpPr>
          <p:spPr>
            <a:xfrm flipV="1">
              <a:off x="5644080" y="1765080"/>
              <a:ext cx="1045800" cy="189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13"/>
            <p:cNvSpPr/>
            <p:nvPr/>
          </p:nvSpPr>
          <p:spPr>
            <a:xfrm flipH="1" flipV="1">
              <a:off x="3466080" y="1765080"/>
              <a:ext cx="1426680" cy="189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Line 14"/>
            <p:cNvSpPr/>
            <p:nvPr/>
          </p:nvSpPr>
          <p:spPr>
            <a:xfrm flipH="1">
              <a:off x="2239560" y="4561560"/>
              <a:ext cx="1953360" cy="65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15"/>
            <p:cNvSpPr/>
            <p:nvPr/>
          </p:nvSpPr>
          <p:spPr>
            <a:xfrm>
              <a:off x="6153120" y="4582080"/>
              <a:ext cx="1711080" cy="63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Text Box 16"/>
            <p:cNvSpPr/>
            <p:nvPr/>
          </p:nvSpPr>
          <p:spPr>
            <a:xfrm>
              <a:off x="5652000" y="539640"/>
              <a:ext cx="3886560" cy="1190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мическая природа человека и наличие в нем скрытых духовных сил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Text Box 17"/>
            <p:cNvSpPr/>
            <p:nvPr/>
          </p:nvSpPr>
          <p:spPr>
            <a:xfrm>
              <a:off x="7197840" y="2160000"/>
              <a:ext cx="2520360" cy="1190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сная связь человека и космос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Rectangle 1"/>
          <p:cNvSpPr/>
          <p:nvPr/>
        </p:nvSpPr>
        <p:spPr>
          <a:xfrm>
            <a:off x="0" y="64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8" name="Group 2"/>
          <p:cNvGrpSpPr/>
          <p:nvPr/>
        </p:nvGrpSpPr>
        <p:grpSpPr>
          <a:xfrm>
            <a:off x="720720" y="179280"/>
            <a:ext cx="8997480" cy="7198920"/>
            <a:chOff x="720720" y="179280"/>
            <a:chExt cx="8997480" cy="7198920"/>
          </a:xfrm>
        </p:grpSpPr>
        <p:grpSp>
          <p:nvGrpSpPr>
            <p:cNvPr id="2109" name="Group 3"/>
            <p:cNvGrpSpPr/>
            <p:nvPr/>
          </p:nvGrpSpPr>
          <p:grpSpPr>
            <a:xfrm>
              <a:off x="720720" y="1271520"/>
              <a:ext cx="8995680" cy="6106680"/>
              <a:chOff x="720720" y="1271520"/>
              <a:chExt cx="8995680" cy="6106680"/>
            </a:xfrm>
          </p:grpSpPr>
          <p:sp>
            <p:nvSpPr>
              <p:cNvPr id="2110" name="Text Box 4"/>
              <p:cNvSpPr/>
              <p:nvPr/>
            </p:nvSpPr>
            <p:spPr>
              <a:xfrm>
                <a:off x="4678200" y="1271520"/>
                <a:ext cx="5038200" cy="1091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трансформированном виде распространен в различных научных концепциях и теориях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Text Box 5"/>
              <p:cNvSpPr/>
              <p:nvPr/>
            </p:nvSpPr>
            <p:spPr>
              <a:xfrm>
                <a:off x="4678200" y="2361960"/>
                <a:ext cx="5038200" cy="87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ристианская философия, исламская философ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Text Box 6"/>
              <p:cNvSpPr/>
              <p:nvPr/>
            </p:nvSpPr>
            <p:spPr>
              <a:xfrm>
                <a:off x="4678200" y="3234600"/>
                <a:ext cx="5038200" cy="1091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сихоанализ, философия науки и техники, синергетика, неопозитивизм и др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Text Box 7"/>
              <p:cNvSpPr/>
              <p:nvPr/>
            </p:nvSpPr>
            <p:spPr>
              <a:xfrm>
                <a:off x="4678200" y="4324680"/>
                <a:ext cx="5038200" cy="874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уддизм, йога, неоиндуизм, (неоведанта), даос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Text Box 8"/>
              <p:cNvSpPr/>
              <p:nvPr/>
            </p:nvSpPr>
            <p:spPr>
              <a:xfrm>
                <a:off x="4678200" y="5195880"/>
                <a:ext cx="5038200" cy="873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гни-Йога (Живая Этика), теософия, Учение Храма, суф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Text Box 9"/>
              <p:cNvSpPr/>
              <p:nvPr/>
            </p:nvSpPr>
            <p:spPr>
              <a:xfrm>
                <a:off x="4678200" y="6069240"/>
                <a:ext cx="5038200" cy="1308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Философия нью-эйдж», восточные неорелигиозные учения, “окультная” философия и т. д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Text Box 10"/>
              <p:cNvSpPr/>
              <p:nvPr/>
            </p:nvSpPr>
            <p:spPr>
              <a:xfrm>
                <a:off x="720720" y="1271520"/>
                <a:ext cx="3958920" cy="1091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иалектический материал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Text Box 11"/>
              <p:cNvSpPr/>
              <p:nvPr/>
            </p:nvSpPr>
            <p:spPr>
              <a:xfrm>
                <a:off x="720720" y="2361960"/>
                <a:ext cx="3958920" cy="87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лигиозная философ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Text Box 12"/>
              <p:cNvSpPr/>
              <p:nvPr/>
            </p:nvSpPr>
            <p:spPr>
              <a:xfrm>
                <a:off x="720720" y="3234600"/>
                <a:ext cx="3958920" cy="1091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тдельные направления западной постклассической философи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Text Box 13"/>
              <p:cNvSpPr/>
              <p:nvPr/>
            </p:nvSpPr>
            <p:spPr>
              <a:xfrm>
                <a:off x="720720" y="4324680"/>
                <a:ext cx="3958920" cy="874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осточная философ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Text Box 14"/>
              <p:cNvSpPr/>
              <p:nvPr/>
            </p:nvSpPr>
            <p:spPr>
              <a:xfrm>
                <a:off x="720720" y="5195880"/>
                <a:ext cx="3958920" cy="873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ечения, идейно близкие эзотерической традици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Text Box 15"/>
              <p:cNvSpPr/>
              <p:nvPr/>
            </p:nvSpPr>
            <p:spPr>
              <a:xfrm>
                <a:off x="720720" y="6069240"/>
                <a:ext cx="3958920" cy="1308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осточный и западный религиозно-мистический синкрет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2" name="Text Box 16"/>
            <p:cNvSpPr/>
            <p:nvPr/>
          </p:nvSpPr>
          <p:spPr>
            <a:xfrm>
              <a:off x="4678920" y="179280"/>
              <a:ext cx="503928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новидности и распростронени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Text Box 17"/>
            <p:cNvSpPr/>
            <p:nvPr/>
          </p:nvSpPr>
          <p:spPr>
            <a:xfrm>
              <a:off x="720720" y="179280"/>
              <a:ext cx="3959640" cy="1092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ские теч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XX-XXI вв.)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4" name="Group 1"/>
          <p:cNvGrpSpPr/>
          <p:nvPr/>
        </p:nvGrpSpPr>
        <p:grpSpPr>
          <a:xfrm>
            <a:off x="900000" y="179280"/>
            <a:ext cx="8459640" cy="7145280"/>
            <a:chOff x="900000" y="179280"/>
            <a:chExt cx="8459640" cy="7145280"/>
          </a:xfrm>
        </p:grpSpPr>
        <p:sp>
          <p:nvSpPr>
            <p:cNvPr id="2125" name="Line 2"/>
            <p:cNvSpPr/>
            <p:nvPr/>
          </p:nvSpPr>
          <p:spPr>
            <a:xfrm>
              <a:off x="7559640" y="1800360"/>
              <a:ext cx="1800" cy="39589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Line 3"/>
            <p:cNvSpPr/>
            <p:nvPr/>
          </p:nvSpPr>
          <p:spPr>
            <a:xfrm>
              <a:off x="2519280" y="1079640"/>
              <a:ext cx="1800" cy="46796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7" name="Group 4"/>
            <p:cNvGrpSpPr/>
            <p:nvPr/>
          </p:nvGrpSpPr>
          <p:grpSpPr>
            <a:xfrm>
              <a:off x="900000" y="179280"/>
              <a:ext cx="8459640" cy="7145280"/>
              <a:chOff x="900000" y="179280"/>
              <a:chExt cx="8459640" cy="7145280"/>
            </a:xfrm>
          </p:grpSpPr>
          <p:sp>
            <p:nvSpPr>
              <p:cNvPr id="2128" name="AutoShape 5"/>
              <p:cNvSpPr/>
              <p:nvPr/>
            </p:nvSpPr>
            <p:spPr>
              <a:xfrm>
                <a:off x="3110760" y="179280"/>
                <a:ext cx="4807440" cy="6458040"/>
              </a:xfrm>
              <a:custGeom>
                <a:avLst/>
                <a:gdLst>
                  <a:gd name="textAreaLeft" fmla="*/ 360 w 4807440"/>
                  <a:gd name="textAreaRight" fmla="*/ 4807080 w 4807440"/>
                  <a:gd name="textAreaTop" fmla="*/ 360 h 6458040"/>
                  <a:gd name="textAreaBottom" fmla="*/ 6457680 h 6458040"/>
                </a:gdLst>
                <a:ahLst/>
                <a:rect l="textAreaLeft" t="textAreaTop" r="textAreaRight" b="textAreaBottom"/>
                <a:pathLst>
                  <a:path w="21600" h="29016">
                    <a:moveTo>
                      <a:pt x="7" y="0"/>
                    </a:moveTo>
                    <a:arcTo wR="7" hR="7" stAng="16200000" swAng="-5400000"/>
                    <a:lnTo>
                      <a:pt x="0" y="29009"/>
                    </a:lnTo>
                    <a:arcTo wR="7" hR="7" stAng="10800000" swAng="-5400000"/>
                    <a:lnTo>
                      <a:pt x="21593" y="29016"/>
                    </a:lnTo>
                    <a:arcTo wR="7" hR="7" stAng="5400000" swAng="-5400000"/>
                    <a:lnTo>
                      <a:pt x="21600" y="7"/>
                    </a:lnTo>
                    <a:arcTo wR="7" hR="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Text Box 6"/>
              <p:cNvSpPr/>
              <p:nvPr/>
            </p:nvSpPr>
            <p:spPr>
              <a:xfrm>
                <a:off x="900000" y="1058760"/>
                <a:ext cx="3528360" cy="72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тафизический проект наук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Text Box 7"/>
              <p:cNvSpPr/>
              <p:nvPr/>
            </p:nvSpPr>
            <p:spPr>
              <a:xfrm>
                <a:off x="5694840" y="1071720"/>
                <a:ext cx="3664800" cy="72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иалектический проект наук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Text Box 8"/>
              <p:cNvSpPr/>
              <p:nvPr/>
            </p:nvSpPr>
            <p:spPr>
              <a:xfrm>
                <a:off x="900000" y="3780000"/>
                <a:ext cx="8458560" cy="582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альная философ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Text Box 9"/>
              <p:cNvSpPr/>
              <p:nvPr/>
            </p:nvSpPr>
            <p:spPr>
              <a:xfrm>
                <a:off x="900000" y="4683240"/>
                <a:ext cx="3577680" cy="725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ндивидуалистическое общество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Text Box 10"/>
              <p:cNvSpPr/>
              <p:nvPr/>
            </p:nvSpPr>
            <p:spPr>
              <a:xfrm>
                <a:off x="900000" y="2881440"/>
                <a:ext cx="3898440" cy="582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образ-репрезентация»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Text Box 11"/>
              <p:cNvSpPr/>
              <p:nvPr/>
            </p:nvSpPr>
            <p:spPr>
              <a:xfrm>
                <a:off x="5523480" y="2879640"/>
                <a:ext cx="3834720" cy="582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образ-прообраз»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5" name="Group 12"/>
              <p:cNvGrpSpPr/>
              <p:nvPr/>
            </p:nvGrpSpPr>
            <p:grpSpPr>
              <a:xfrm>
                <a:off x="5939280" y="5705640"/>
                <a:ext cx="3418920" cy="1618920"/>
                <a:chOff x="5939280" y="5705640"/>
                <a:chExt cx="3418920" cy="1618920"/>
              </a:xfrm>
            </p:grpSpPr>
            <p:sp>
              <p:nvSpPr>
                <p:cNvPr id="2136" name="Oval 13"/>
                <p:cNvSpPr/>
                <p:nvPr/>
              </p:nvSpPr>
              <p:spPr>
                <a:xfrm>
                  <a:off x="5939280" y="5705640"/>
                  <a:ext cx="3418920" cy="161892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Text Box 14"/>
                <p:cNvSpPr/>
                <p:nvPr/>
              </p:nvSpPr>
              <p:spPr>
                <a:xfrm>
                  <a:off x="6443640" y="5944680"/>
                  <a:ext cx="2406600" cy="114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оосферная</a:t>
                  </a:r>
                  <a:endParaRPr b="0" lang="en-US" sz="2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онцепция</a:t>
                  </a:r>
                  <a:endParaRPr b="0" lang="en-US" sz="2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8" name="Group 15"/>
              <p:cNvGrpSpPr/>
              <p:nvPr/>
            </p:nvGrpSpPr>
            <p:grpSpPr>
              <a:xfrm>
                <a:off x="1260000" y="5705640"/>
                <a:ext cx="3237840" cy="1618920"/>
                <a:chOff x="1260000" y="5705640"/>
                <a:chExt cx="3237840" cy="1618920"/>
              </a:xfrm>
            </p:grpSpPr>
            <p:sp>
              <p:nvSpPr>
                <p:cNvPr id="2139" name="Freeform 16"/>
                <p:cNvSpPr/>
                <p:nvPr/>
              </p:nvSpPr>
              <p:spPr>
                <a:xfrm>
                  <a:off x="1260000" y="5705640"/>
                  <a:ext cx="3237840" cy="1618920"/>
                </a:xfrm>
                <a:custGeom>
                  <a:avLst/>
                  <a:gdLst/>
                  <a:ahLst/>
                  <a:rect l="l" t="t" r="r" b="b"/>
                  <a:pathLst>
                    <a:path w="9001" h="4501">
                      <a:moveTo>
                        <a:pt x="2118" y="0"/>
                      </a:moveTo>
                      <a:lnTo>
                        <a:pt x="6882" y="0"/>
                      </a:lnTo>
                      <a:lnTo>
                        <a:pt x="9000" y="4500"/>
                      </a:lnTo>
                      <a:lnTo>
                        <a:pt x="0" y="4500"/>
                      </a:lnTo>
                      <a:lnTo>
                        <a:pt x="2118" y="0"/>
                      </a:lnTo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Text Box 17"/>
                <p:cNvSpPr/>
                <p:nvPr/>
              </p:nvSpPr>
              <p:spPr>
                <a:xfrm>
                  <a:off x="1260000" y="5705640"/>
                  <a:ext cx="3237840" cy="16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Глобальные 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проблемы современности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1" name="Text Box 18"/>
              <p:cNvSpPr/>
              <p:nvPr/>
            </p:nvSpPr>
            <p:spPr>
              <a:xfrm>
                <a:off x="900000" y="1979640"/>
                <a:ext cx="8458560" cy="66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еория познан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Text Box 19"/>
              <p:cNvSpPr/>
              <p:nvPr/>
            </p:nvSpPr>
            <p:spPr>
              <a:xfrm>
                <a:off x="5450400" y="4680000"/>
                <a:ext cx="3907800" cy="727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ллективистское общество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Text Box 20"/>
              <p:cNvSpPr/>
              <p:nvPr/>
            </p:nvSpPr>
            <p:spPr>
              <a:xfrm>
                <a:off x="900000" y="179280"/>
                <a:ext cx="8458560" cy="66528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ва типа общества ( концепции Н. М. Чуринова)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4" name="Group 1"/>
          <p:cNvGrpSpPr/>
          <p:nvPr/>
        </p:nvGrpSpPr>
        <p:grpSpPr>
          <a:xfrm>
            <a:off x="5040360" y="179280"/>
            <a:ext cx="4859280" cy="7198920"/>
            <a:chOff x="5040360" y="179280"/>
            <a:chExt cx="4859280" cy="7198920"/>
          </a:xfrm>
        </p:grpSpPr>
        <p:sp>
          <p:nvSpPr>
            <p:cNvPr id="2145" name="Text Box 2"/>
            <p:cNvSpPr/>
            <p:nvPr/>
          </p:nvSpPr>
          <p:spPr>
            <a:xfrm>
              <a:off x="5040360" y="179280"/>
              <a:ext cx="485928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афизи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Text Box 3"/>
            <p:cNvSpPr/>
            <p:nvPr/>
          </p:nvSpPr>
          <p:spPr>
            <a:xfrm>
              <a:off x="5040360" y="569520"/>
              <a:ext cx="485928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природ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Text Box 4"/>
            <p:cNvSpPr/>
            <p:nvPr/>
          </p:nvSpPr>
          <p:spPr>
            <a:xfrm>
              <a:off x="5040360" y="991800"/>
              <a:ext cx="485928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Text Box 5"/>
            <p:cNvSpPr/>
            <p:nvPr/>
          </p:nvSpPr>
          <p:spPr>
            <a:xfrm>
              <a:off x="5040360" y="1444320"/>
              <a:ext cx="4859280" cy="45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познан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Text Box 6"/>
            <p:cNvSpPr/>
            <p:nvPr/>
          </p:nvSpPr>
          <p:spPr>
            <a:xfrm>
              <a:off x="5040360" y="1859760"/>
              <a:ext cx="4859280" cy="45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ическая философ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Text Box 7"/>
            <p:cNvSpPr/>
            <p:nvPr/>
          </p:nvSpPr>
          <p:spPr>
            <a:xfrm>
              <a:off x="5040360" y="2253600"/>
              <a:ext cx="4859280" cy="45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ая философ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Text Box 8"/>
            <p:cNvSpPr/>
            <p:nvPr/>
          </p:nvSpPr>
          <p:spPr>
            <a:xfrm>
              <a:off x="5040360" y="2677320"/>
              <a:ext cx="485928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истори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Text Box 9"/>
            <p:cNvSpPr/>
            <p:nvPr/>
          </p:nvSpPr>
          <p:spPr>
            <a:xfrm>
              <a:off x="5040360" y="3099240"/>
              <a:ext cx="4859280" cy="45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культуры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Text Box 10"/>
            <p:cNvSpPr/>
            <p:nvPr/>
          </p:nvSpPr>
          <p:spPr>
            <a:xfrm>
              <a:off x="5040360" y="3551760"/>
              <a:ext cx="485928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политик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Text Box 11"/>
            <p:cNvSpPr/>
            <p:nvPr/>
          </p:nvSpPr>
          <p:spPr>
            <a:xfrm>
              <a:off x="5040360" y="3940560"/>
              <a:ext cx="485928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образован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Text Box 12"/>
            <p:cNvSpPr/>
            <p:nvPr/>
          </p:nvSpPr>
          <p:spPr>
            <a:xfrm>
              <a:off x="5040360" y="4361400"/>
              <a:ext cx="485928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техник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Text Box 13"/>
            <p:cNvSpPr/>
            <p:nvPr/>
          </p:nvSpPr>
          <p:spPr>
            <a:xfrm>
              <a:off x="5040360" y="4783320"/>
              <a:ext cx="4859280" cy="45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религии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Text Box 14"/>
            <p:cNvSpPr/>
            <p:nvPr/>
          </p:nvSpPr>
          <p:spPr>
            <a:xfrm>
              <a:off x="5040360" y="5205600"/>
              <a:ext cx="4859280" cy="45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язы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Text Box 15"/>
            <p:cNvSpPr/>
            <p:nvPr/>
          </p:nvSpPr>
          <p:spPr>
            <a:xfrm>
              <a:off x="5040360" y="5659560"/>
              <a:ext cx="4859280" cy="45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искусств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Text Box 16"/>
            <p:cNvSpPr/>
            <p:nvPr/>
          </p:nvSpPr>
          <p:spPr>
            <a:xfrm>
              <a:off x="5040360" y="6081480"/>
              <a:ext cx="4859280" cy="45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ги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Text Box 17"/>
            <p:cNvSpPr/>
            <p:nvPr/>
          </p:nvSpPr>
          <p:spPr>
            <a:xfrm>
              <a:off x="5040360" y="6503760"/>
              <a:ext cx="485928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тория философи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Text Box 18"/>
            <p:cNvSpPr/>
            <p:nvPr/>
          </p:nvSpPr>
          <p:spPr>
            <a:xfrm>
              <a:off x="5040360" y="6922800"/>
              <a:ext cx="485928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утуристическая философ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2" name="Text Box 19"/>
          <p:cNvSpPr/>
          <p:nvPr/>
        </p:nvSpPr>
        <p:spPr>
          <a:xfrm>
            <a:off x="587520" y="2879640"/>
            <a:ext cx="4093920" cy="1621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ы современной философ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63" name="AutoShape 20"/>
          <p:cNvCxnSpPr>
            <a:stCxn id="2162" idx="3"/>
          </p:cNvCxnSpPr>
          <p:nvPr/>
        </p:nvCxnSpPr>
        <p:spPr>
          <a:xfrm>
            <a:off x="4681080" y="3689280"/>
            <a:ext cx="359640" cy="91440"/>
          </a:xfrm>
          <a:prstGeom prst="straightConnector1">
            <a:avLst/>
          </a:prstGeom>
          <a:ln w="3600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Rectangle 1"/>
          <p:cNvSpPr/>
          <p:nvPr/>
        </p:nvSpPr>
        <p:spPr>
          <a:xfrm>
            <a:off x="0" y="64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 Box 2"/>
          <p:cNvSpPr/>
          <p:nvPr/>
        </p:nvSpPr>
        <p:spPr>
          <a:xfrm>
            <a:off x="0" y="2076480"/>
            <a:ext cx="107838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6" name="Group 3"/>
          <p:cNvGrpSpPr/>
          <p:nvPr/>
        </p:nvGrpSpPr>
        <p:grpSpPr>
          <a:xfrm>
            <a:off x="360360" y="179280"/>
            <a:ext cx="9358200" cy="7018560"/>
            <a:chOff x="360360" y="179280"/>
            <a:chExt cx="9358200" cy="7018560"/>
          </a:xfrm>
        </p:grpSpPr>
        <p:grpSp>
          <p:nvGrpSpPr>
            <p:cNvPr id="2167" name="Group 4"/>
            <p:cNvGrpSpPr/>
            <p:nvPr/>
          </p:nvGrpSpPr>
          <p:grpSpPr>
            <a:xfrm>
              <a:off x="360360" y="179280"/>
              <a:ext cx="9358200" cy="7018560"/>
              <a:chOff x="360360" y="179280"/>
              <a:chExt cx="9358200" cy="7018560"/>
            </a:xfrm>
          </p:grpSpPr>
          <p:grpSp>
            <p:nvGrpSpPr>
              <p:cNvPr id="2168" name="Group 5"/>
              <p:cNvGrpSpPr/>
              <p:nvPr/>
            </p:nvGrpSpPr>
            <p:grpSpPr>
              <a:xfrm>
                <a:off x="360360" y="179280"/>
                <a:ext cx="9358200" cy="7018560"/>
                <a:chOff x="360360" y="179280"/>
                <a:chExt cx="9358200" cy="7018560"/>
              </a:xfrm>
            </p:grpSpPr>
            <p:sp>
              <p:nvSpPr>
                <p:cNvPr id="2169" name="AutoShape 6"/>
                <p:cNvSpPr/>
                <p:nvPr/>
              </p:nvSpPr>
              <p:spPr>
                <a:xfrm>
                  <a:off x="360360" y="179280"/>
                  <a:ext cx="9358200" cy="701856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Text Box 7"/>
                <p:cNvSpPr/>
                <p:nvPr/>
              </p:nvSpPr>
              <p:spPr>
                <a:xfrm>
                  <a:off x="1085400" y="1055160"/>
                  <a:ext cx="7910280" cy="52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флекс</a:t>
                  </a:r>
                  <a:r>
                    <a:rPr b="0" i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1" name="Text Box 8"/>
              <p:cNvSpPr/>
              <p:nvPr/>
            </p:nvSpPr>
            <p:spPr>
              <a:xfrm>
                <a:off x="1260360" y="3678120"/>
                <a:ext cx="8175600" cy="21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72" name="Group 9"/>
            <p:cNvGrpSpPr/>
            <p:nvPr/>
          </p:nvGrpSpPr>
          <p:grpSpPr>
            <a:xfrm>
              <a:off x="539640" y="2646360"/>
              <a:ext cx="8818200" cy="3651120"/>
              <a:chOff x="539640" y="2646360"/>
              <a:chExt cx="8818200" cy="3651120"/>
            </a:xfrm>
          </p:grpSpPr>
          <p:sp>
            <p:nvSpPr>
              <p:cNvPr id="2173" name="AutoShape 10"/>
              <p:cNvSpPr/>
              <p:nvPr/>
            </p:nvSpPr>
            <p:spPr>
              <a:xfrm>
                <a:off x="539640" y="2646360"/>
                <a:ext cx="8816760" cy="3651120"/>
              </a:xfrm>
              <a:prstGeom prst="horizontalScroll">
                <a:avLst>
                  <a:gd name="adj" fmla="val 12500"/>
                </a:avLst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423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4" name="Text Box 11"/>
              <p:cNvSpPr/>
              <p:nvPr/>
            </p:nvSpPr>
            <p:spPr>
              <a:xfrm>
                <a:off x="1079280" y="3288960"/>
                <a:ext cx="8278560" cy="22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ные вопрос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чем состоят особенности русской философской мысли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чем принципиальные отличия философских воззрений славянофилов и западников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ем различаются между собой естественно-научное и религиозно-философское направление русского космизма?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чем заключается специфика материалистических и позитивистских идей в русской философии?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175" name="Picture 1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Text Box 1"/>
          <p:cNvSpPr/>
          <p:nvPr/>
        </p:nvSpPr>
        <p:spPr>
          <a:xfrm>
            <a:off x="900000" y="3240000"/>
            <a:ext cx="8461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ОНТОЛОГ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7" name="Group 1"/>
          <p:cNvGrpSpPr/>
          <p:nvPr/>
        </p:nvGrpSpPr>
        <p:grpSpPr>
          <a:xfrm>
            <a:off x="539640" y="85680"/>
            <a:ext cx="9178920" cy="7378920"/>
            <a:chOff x="539640" y="85680"/>
            <a:chExt cx="9178920" cy="7378920"/>
          </a:xfrm>
        </p:grpSpPr>
        <p:sp>
          <p:nvSpPr>
            <p:cNvPr id="2178" name="AutoShape 2"/>
            <p:cNvSpPr/>
            <p:nvPr/>
          </p:nvSpPr>
          <p:spPr>
            <a:xfrm>
              <a:off x="539640" y="85680"/>
              <a:ext cx="9178920" cy="7378920"/>
            </a:xfrm>
            <a:prstGeom prst="roundRect">
              <a:avLst>
                <a:gd name="adj" fmla="val 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Text Box 3"/>
            <p:cNvSpPr/>
            <p:nvPr/>
          </p:nvSpPr>
          <p:spPr>
            <a:xfrm>
              <a:off x="7072560" y="1899720"/>
              <a:ext cx="2518560" cy="80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уктуру быт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Text Box 4"/>
            <p:cNvSpPr/>
            <p:nvPr/>
          </p:nvSpPr>
          <p:spPr>
            <a:xfrm>
              <a:off x="539640" y="261720"/>
              <a:ext cx="3155400" cy="105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схождение и длительность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Text Box 5"/>
            <p:cNvSpPr/>
            <p:nvPr/>
          </p:nvSpPr>
          <p:spPr>
            <a:xfrm>
              <a:off x="6848640" y="261720"/>
              <a:ext cx="2582280" cy="105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ижение и развития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Text Box 6"/>
            <p:cNvSpPr/>
            <p:nvPr/>
          </p:nvSpPr>
          <p:spPr>
            <a:xfrm>
              <a:off x="539640" y="2017080"/>
              <a:ext cx="2582280" cy="87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бстанцию быт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Text Box 7"/>
            <p:cNvSpPr/>
            <p:nvPr/>
          </p:nvSpPr>
          <p:spPr>
            <a:xfrm>
              <a:off x="3982320" y="261720"/>
              <a:ext cx="2582280" cy="1406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ундаментальны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оны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Text Box 8"/>
            <p:cNvSpPr/>
            <p:nvPr/>
          </p:nvSpPr>
          <p:spPr>
            <a:xfrm>
              <a:off x="539640" y="4477320"/>
              <a:ext cx="2007720" cy="87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то есть дух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Text Box 9"/>
            <p:cNvSpPr/>
            <p:nvPr/>
          </p:nvSpPr>
          <p:spPr>
            <a:xfrm>
              <a:off x="7423200" y="4477320"/>
              <a:ext cx="2167920" cy="702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то есть материя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Text Box 10"/>
            <p:cNvSpPr/>
            <p:nvPr/>
          </p:nvSpPr>
          <p:spPr>
            <a:xfrm>
              <a:off x="826560" y="5705640"/>
              <a:ext cx="2868120" cy="702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то есть жизнь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Text Box 11"/>
            <p:cNvSpPr/>
            <p:nvPr/>
          </p:nvSpPr>
          <p:spPr>
            <a:xfrm>
              <a:off x="6275520" y="5531400"/>
              <a:ext cx="2869560" cy="105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то есть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нание и разум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Text Box 12"/>
            <p:cNvSpPr/>
            <p:nvPr/>
          </p:nvSpPr>
          <p:spPr>
            <a:xfrm>
              <a:off x="3121920" y="6759720"/>
              <a:ext cx="4300920" cy="52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чем смысл бытия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89" name="Group 13"/>
            <p:cNvGrpSpPr/>
            <p:nvPr/>
          </p:nvGrpSpPr>
          <p:grpSpPr>
            <a:xfrm>
              <a:off x="2834640" y="3071160"/>
              <a:ext cx="5448600" cy="1053720"/>
              <a:chOff x="2834640" y="3071160"/>
              <a:chExt cx="5448600" cy="1053720"/>
            </a:xfrm>
          </p:grpSpPr>
          <p:sp>
            <p:nvSpPr>
              <p:cNvPr id="2190" name="Oval 14"/>
              <p:cNvSpPr/>
              <p:nvPr/>
            </p:nvSpPr>
            <p:spPr>
              <a:xfrm>
                <a:off x="2834640" y="3071160"/>
                <a:ext cx="5448600" cy="105372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Text Box 15"/>
              <p:cNvSpPr/>
              <p:nvPr/>
            </p:nvSpPr>
            <p:spPr>
              <a:xfrm>
                <a:off x="3640320" y="3226320"/>
                <a:ext cx="3836520" cy="73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нтология изучает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2" name="Line 16"/>
            <p:cNvSpPr/>
            <p:nvPr/>
          </p:nvSpPr>
          <p:spPr>
            <a:xfrm flipV="1">
              <a:off x="5355000" y="1650600"/>
              <a:ext cx="1440" cy="14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17"/>
            <p:cNvSpPr/>
            <p:nvPr/>
          </p:nvSpPr>
          <p:spPr>
            <a:xfrm flipH="1" flipV="1">
              <a:off x="2807280" y="1286640"/>
              <a:ext cx="1774440" cy="18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Line 18"/>
            <p:cNvSpPr/>
            <p:nvPr/>
          </p:nvSpPr>
          <p:spPr>
            <a:xfrm flipV="1">
              <a:off x="6721560" y="2693160"/>
              <a:ext cx="79668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Line 19"/>
            <p:cNvSpPr/>
            <p:nvPr/>
          </p:nvSpPr>
          <p:spPr>
            <a:xfrm flipH="1" flipV="1">
              <a:off x="1947240" y="2867760"/>
              <a:ext cx="1488600" cy="40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20"/>
            <p:cNvSpPr/>
            <p:nvPr/>
          </p:nvSpPr>
          <p:spPr>
            <a:xfrm flipH="1">
              <a:off x="5356440" y="4124880"/>
              <a:ext cx="85320" cy="263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21"/>
            <p:cNvSpPr/>
            <p:nvPr/>
          </p:nvSpPr>
          <p:spPr>
            <a:xfrm flipH="1">
              <a:off x="2058120" y="3959640"/>
              <a:ext cx="1487160" cy="52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22"/>
            <p:cNvSpPr/>
            <p:nvPr/>
          </p:nvSpPr>
          <p:spPr>
            <a:xfrm flipH="1">
              <a:off x="2521800" y="4124880"/>
              <a:ext cx="2061360" cy="15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23"/>
            <p:cNvSpPr/>
            <p:nvPr/>
          </p:nvSpPr>
          <p:spPr>
            <a:xfrm>
              <a:off x="7837560" y="3870720"/>
              <a:ext cx="731520" cy="60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24"/>
            <p:cNvSpPr/>
            <p:nvPr/>
          </p:nvSpPr>
          <p:spPr>
            <a:xfrm>
              <a:off x="6275520" y="4124880"/>
              <a:ext cx="1147320" cy="140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25"/>
            <p:cNvSpPr/>
            <p:nvPr/>
          </p:nvSpPr>
          <p:spPr>
            <a:xfrm flipV="1">
              <a:off x="5782320" y="1278720"/>
              <a:ext cx="1591920" cy="18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2" name="Group 1"/>
          <p:cNvGrpSpPr/>
          <p:nvPr/>
        </p:nvGrpSpPr>
        <p:grpSpPr>
          <a:xfrm>
            <a:off x="179280" y="179280"/>
            <a:ext cx="9180360" cy="7018560"/>
            <a:chOff x="179280" y="179280"/>
            <a:chExt cx="9180360" cy="7018560"/>
          </a:xfrm>
        </p:grpSpPr>
        <p:sp>
          <p:nvSpPr>
            <p:cNvPr id="2203" name="AutoShape 2"/>
            <p:cNvSpPr/>
            <p:nvPr/>
          </p:nvSpPr>
          <p:spPr>
            <a:xfrm>
              <a:off x="179280" y="179280"/>
              <a:ext cx="9179280" cy="7018560"/>
            </a:xfrm>
            <a:prstGeom prst="roundRect">
              <a:avLst>
                <a:gd name="adj" fmla="val 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Text Box 3"/>
            <p:cNvSpPr/>
            <p:nvPr/>
          </p:nvSpPr>
          <p:spPr>
            <a:xfrm>
              <a:off x="1363320" y="179280"/>
              <a:ext cx="7402680" cy="7333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Text Box 4"/>
            <p:cNvSpPr/>
            <p:nvPr/>
          </p:nvSpPr>
          <p:spPr>
            <a:xfrm>
              <a:off x="1363320" y="1496520"/>
              <a:ext cx="3258360" cy="877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Text Box 5"/>
            <p:cNvSpPr/>
            <p:nvPr/>
          </p:nvSpPr>
          <p:spPr>
            <a:xfrm>
              <a:off x="1363320" y="2666160"/>
              <a:ext cx="3258360" cy="877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Text Box 6"/>
            <p:cNvSpPr/>
            <p:nvPr/>
          </p:nvSpPr>
          <p:spPr>
            <a:xfrm>
              <a:off x="1363320" y="3834360"/>
              <a:ext cx="3258360" cy="1317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ухов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Text Box 7"/>
            <p:cNvSpPr/>
            <p:nvPr/>
          </p:nvSpPr>
          <p:spPr>
            <a:xfrm>
              <a:off x="1363320" y="5443560"/>
              <a:ext cx="3258360" cy="146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мпьютерно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Text Box 8"/>
            <p:cNvSpPr/>
            <p:nvPr/>
          </p:nvSpPr>
          <p:spPr>
            <a:xfrm>
              <a:off x="5213880" y="1496520"/>
              <a:ext cx="4145760" cy="877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 естественных природных вещей и процессов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Text Box 9"/>
            <p:cNvSpPr/>
            <p:nvPr/>
          </p:nvSpPr>
          <p:spPr>
            <a:xfrm>
              <a:off x="5213880" y="2666160"/>
              <a:ext cx="4145760" cy="877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 общества как объединения разумных существ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Text Box 10"/>
            <p:cNvSpPr/>
            <p:nvPr/>
          </p:nvSpPr>
          <p:spPr>
            <a:xfrm>
              <a:off x="5213880" y="3599640"/>
              <a:ext cx="4144320" cy="17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 в сфер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бъективно-психологической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альности –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нутреннем мир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умного суще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Text Box 11"/>
            <p:cNvSpPr/>
            <p:nvPr/>
          </p:nvSpPr>
          <p:spPr>
            <a:xfrm>
              <a:off x="5213880" y="5443560"/>
              <a:ext cx="4145760" cy="146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е в сфере искусственной компьютерной реальности – электронном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берпространств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12"/>
            <p:cNvSpPr/>
            <p:nvPr/>
          </p:nvSpPr>
          <p:spPr>
            <a:xfrm>
              <a:off x="4622040" y="1934280"/>
              <a:ext cx="591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13"/>
            <p:cNvSpPr/>
            <p:nvPr/>
          </p:nvSpPr>
          <p:spPr>
            <a:xfrm>
              <a:off x="4622040" y="3104280"/>
              <a:ext cx="591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14"/>
            <p:cNvSpPr/>
            <p:nvPr/>
          </p:nvSpPr>
          <p:spPr>
            <a:xfrm>
              <a:off x="4622040" y="4420080"/>
              <a:ext cx="5918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15"/>
            <p:cNvSpPr/>
            <p:nvPr/>
          </p:nvSpPr>
          <p:spPr>
            <a:xfrm>
              <a:off x="4622040" y="6174000"/>
              <a:ext cx="5918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Line 16"/>
            <p:cNvSpPr/>
            <p:nvPr/>
          </p:nvSpPr>
          <p:spPr>
            <a:xfrm>
              <a:off x="475920" y="1204560"/>
              <a:ext cx="1080" cy="49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Line 17"/>
            <p:cNvSpPr/>
            <p:nvPr/>
          </p:nvSpPr>
          <p:spPr>
            <a:xfrm>
              <a:off x="475920" y="1204560"/>
              <a:ext cx="4440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Line 18"/>
            <p:cNvSpPr/>
            <p:nvPr/>
          </p:nvSpPr>
          <p:spPr>
            <a:xfrm>
              <a:off x="4915440" y="910800"/>
              <a:ext cx="10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Line 19"/>
            <p:cNvSpPr/>
            <p:nvPr/>
          </p:nvSpPr>
          <p:spPr>
            <a:xfrm>
              <a:off x="475920" y="1934280"/>
              <a:ext cx="88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20"/>
            <p:cNvSpPr/>
            <p:nvPr/>
          </p:nvSpPr>
          <p:spPr>
            <a:xfrm>
              <a:off x="475920" y="3104280"/>
              <a:ext cx="88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21"/>
            <p:cNvSpPr/>
            <p:nvPr/>
          </p:nvSpPr>
          <p:spPr>
            <a:xfrm>
              <a:off x="475920" y="4420080"/>
              <a:ext cx="888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22"/>
            <p:cNvSpPr/>
            <p:nvPr/>
          </p:nvSpPr>
          <p:spPr>
            <a:xfrm>
              <a:off x="475920" y="6174000"/>
              <a:ext cx="888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1" name="Group 2"/>
          <p:cNvGrpSpPr/>
          <p:nvPr/>
        </p:nvGrpSpPr>
        <p:grpSpPr>
          <a:xfrm>
            <a:off x="539640" y="360360"/>
            <a:ext cx="8818200" cy="6846120"/>
            <a:chOff x="539640" y="360360"/>
            <a:chExt cx="8818200" cy="6846120"/>
          </a:xfrm>
        </p:grpSpPr>
        <p:sp>
          <p:nvSpPr>
            <p:cNvPr id="652" name="Text Box 3"/>
            <p:cNvSpPr/>
            <p:nvPr/>
          </p:nvSpPr>
          <p:spPr>
            <a:xfrm rot="16200000">
              <a:off x="-2036880" y="3847320"/>
              <a:ext cx="5936040" cy="782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чная философ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Text Box 4"/>
            <p:cNvSpPr/>
            <p:nvPr/>
          </p:nvSpPr>
          <p:spPr>
            <a:xfrm>
              <a:off x="1260000" y="1258200"/>
              <a:ext cx="4296240" cy="1980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мпирическая 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Text Box 5"/>
            <p:cNvSpPr/>
            <p:nvPr/>
          </p:nvSpPr>
          <p:spPr>
            <a:xfrm>
              <a:off x="1260000" y="3238560"/>
              <a:ext cx="4296240" cy="1978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ционалистическа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6"/>
            <p:cNvSpPr/>
            <p:nvPr/>
          </p:nvSpPr>
          <p:spPr>
            <a:xfrm>
              <a:off x="1260000" y="5217120"/>
              <a:ext cx="4296240" cy="198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ционально-эмпирическая 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7"/>
            <p:cNvSpPr/>
            <p:nvPr/>
          </p:nvSpPr>
          <p:spPr>
            <a:xfrm>
              <a:off x="5218560" y="1258200"/>
              <a:ext cx="4139280" cy="1980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ъективный опыт, который осмысливается и истолковывается средствами разум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8"/>
            <p:cNvSpPr/>
            <p:nvPr/>
          </p:nvSpPr>
          <p:spPr>
            <a:xfrm>
              <a:off x="5218560" y="3238560"/>
              <a:ext cx="4139280" cy="1978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воды разума, исходящие из интеллектуальной интуиц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9"/>
            <p:cNvSpPr/>
            <p:nvPr/>
          </p:nvSpPr>
          <p:spPr>
            <a:xfrm>
              <a:off x="5218560" y="5217120"/>
              <a:ext cx="4139280" cy="198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ъективный опыт, доводы разума и действие интуиции, а также другие виды иррационального познан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Text Box 10"/>
            <p:cNvSpPr/>
            <p:nvPr/>
          </p:nvSpPr>
          <p:spPr>
            <a:xfrm>
              <a:off x="539640" y="360360"/>
              <a:ext cx="4678920" cy="72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ип философского позн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Text Box 11"/>
            <p:cNvSpPr/>
            <p:nvPr/>
          </p:nvSpPr>
          <p:spPr>
            <a:xfrm>
              <a:off x="5218560" y="360360"/>
              <a:ext cx="4139280" cy="72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нание опирается на.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4" name="Group 1"/>
          <p:cNvGrpSpPr/>
          <p:nvPr/>
        </p:nvGrpSpPr>
        <p:grpSpPr>
          <a:xfrm>
            <a:off x="720720" y="179280"/>
            <a:ext cx="8639280" cy="7199280"/>
            <a:chOff x="720720" y="179280"/>
            <a:chExt cx="8639280" cy="7199280"/>
          </a:xfrm>
        </p:grpSpPr>
        <p:sp>
          <p:nvSpPr>
            <p:cNvPr id="2225" name="AutoShape 2"/>
            <p:cNvSpPr/>
            <p:nvPr/>
          </p:nvSpPr>
          <p:spPr>
            <a:xfrm>
              <a:off x="720720" y="179280"/>
              <a:ext cx="8639280" cy="7199280"/>
            </a:xfrm>
            <a:prstGeom prst="roundRect">
              <a:avLst>
                <a:gd name="adj" fmla="val 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Text Box 3"/>
            <p:cNvSpPr/>
            <p:nvPr/>
          </p:nvSpPr>
          <p:spPr>
            <a:xfrm>
              <a:off x="3141000" y="179280"/>
              <a:ext cx="3766320" cy="48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убстанц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Text Box 4"/>
            <p:cNvSpPr/>
            <p:nvPr/>
          </p:nvSpPr>
          <p:spPr>
            <a:xfrm>
              <a:off x="6906240" y="1939320"/>
              <a:ext cx="2421720" cy="48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Движе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Text Box 5"/>
            <p:cNvSpPr/>
            <p:nvPr/>
          </p:nvSpPr>
          <p:spPr>
            <a:xfrm>
              <a:off x="720720" y="1939320"/>
              <a:ext cx="2152440" cy="48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Развит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Text Box 6"/>
            <p:cNvSpPr/>
            <p:nvPr/>
          </p:nvSpPr>
          <p:spPr>
            <a:xfrm>
              <a:off x="6098040" y="980640"/>
              <a:ext cx="3229920" cy="48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Детерминиз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0" name="Group 7"/>
            <p:cNvGrpSpPr/>
            <p:nvPr/>
          </p:nvGrpSpPr>
          <p:grpSpPr>
            <a:xfrm>
              <a:off x="2871360" y="2579040"/>
              <a:ext cx="4570920" cy="1437840"/>
              <a:chOff x="2871360" y="2579040"/>
              <a:chExt cx="4570920" cy="1437840"/>
            </a:xfrm>
          </p:grpSpPr>
          <p:sp>
            <p:nvSpPr>
              <p:cNvPr id="2231" name="Oval 8"/>
              <p:cNvSpPr/>
              <p:nvPr/>
            </p:nvSpPr>
            <p:spPr>
              <a:xfrm>
                <a:off x="2871360" y="2579040"/>
                <a:ext cx="4570920" cy="143784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Text Box 9"/>
              <p:cNvSpPr/>
              <p:nvPr/>
            </p:nvSpPr>
            <p:spPr>
              <a:xfrm>
                <a:off x="3548520" y="2791440"/>
                <a:ext cx="3217320" cy="10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</a:rPr>
                  <a:t>Атрибуты 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</a:rPr>
                  <a:t>природного быт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3" name="Text Box 10"/>
            <p:cNvSpPr/>
            <p:nvPr/>
          </p:nvSpPr>
          <p:spPr>
            <a:xfrm>
              <a:off x="6098040" y="5459400"/>
              <a:ext cx="3229920" cy="63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Многомерн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Text Box 11"/>
            <p:cNvSpPr/>
            <p:nvPr/>
          </p:nvSpPr>
          <p:spPr>
            <a:xfrm>
              <a:off x="720720" y="4339080"/>
              <a:ext cx="2420280" cy="63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вяз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Text Box 12"/>
            <p:cNvSpPr/>
            <p:nvPr/>
          </p:nvSpPr>
          <p:spPr>
            <a:xfrm>
              <a:off x="2871360" y="6576840"/>
              <a:ext cx="4572720" cy="64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Дифференцированн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Text Box 13"/>
            <p:cNvSpPr/>
            <p:nvPr/>
          </p:nvSpPr>
          <p:spPr>
            <a:xfrm>
              <a:off x="6636240" y="3059640"/>
              <a:ext cx="2691720" cy="48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озна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Text Box 14"/>
            <p:cNvSpPr/>
            <p:nvPr/>
          </p:nvSpPr>
          <p:spPr>
            <a:xfrm>
              <a:off x="720720" y="3059640"/>
              <a:ext cx="2959920" cy="48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Жизн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Text Box 15"/>
            <p:cNvSpPr/>
            <p:nvPr/>
          </p:nvSpPr>
          <p:spPr>
            <a:xfrm>
              <a:off x="720720" y="5437440"/>
              <a:ext cx="3498120" cy="64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рганизованн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Text Box 16"/>
            <p:cNvSpPr/>
            <p:nvPr/>
          </p:nvSpPr>
          <p:spPr>
            <a:xfrm>
              <a:off x="6329880" y="4331160"/>
              <a:ext cx="2958480" cy="48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труктурн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17"/>
            <p:cNvSpPr/>
            <p:nvPr/>
          </p:nvSpPr>
          <p:spPr>
            <a:xfrm flipV="1">
              <a:off x="5023800" y="631440"/>
              <a:ext cx="1080" cy="197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18"/>
            <p:cNvSpPr/>
            <p:nvPr/>
          </p:nvSpPr>
          <p:spPr>
            <a:xfrm flipV="1">
              <a:off x="5291640" y="1431720"/>
              <a:ext cx="1882440" cy="117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19"/>
            <p:cNvSpPr/>
            <p:nvPr/>
          </p:nvSpPr>
          <p:spPr>
            <a:xfrm flipH="1" flipV="1">
              <a:off x="2934720" y="1503000"/>
              <a:ext cx="1577520" cy="11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20"/>
            <p:cNvSpPr/>
            <p:nvPr/>
          </p:nvSpPr>
          <p:spPr>
            <a:xfrm flipH="1" flipV="1">
              <a:off x="2844360" y="2232720"/>
              <a:ext cx="101088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21"/>
            <p:cNvSpPr/>
            <p:nvPr/>
          </p:nvSpPr>
          <p:spPr>
            <a:xfrm flipV="1">
              <a:off x="5829840" y="2231280"/>
              <a:ext cx="1076040" cy="37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22"/>
            <p:cNvSpPr/>
            <p:nvPr/>
          </p:nvSpPr>
          <p:spPr>
            <a:xfrm>
              <a:off x="5023800" y="4018320"/>
              <a:ext cx="1080" cy="255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Line 23"/>
            <p:cNvSpPr/>
            <p:nvPr/>
          </p:nvSpPr>
          <p:spPr>
            <a:xfrm flipH="1">
              <a:off x="3113640" y="3966120"/>
              <a:ext cx="1309320" cy="69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24"/>
            <p:cNvSpPr/>
            <p:nvPr/>
          </p:nvSpPr>
          <p:spPr>
            <a:xfrm>
              <a:off x="5561640" y="4018320"/>
              <a:ext cx="807480" cy="47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25"/>
            <p:cNvSpPr/>
            <p:nvPr/>
          </p:nvSpPr>
          <p:spPr>
            <a:xfrm flipH="1">
              <a:off x="3112200" y="4018320"/>
              <a:ext cx="166824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Line 26"/>
            <p:cNvSpPr/>
            <p:nvPr/>
          </p:nvSpPr>
          <p:spPr>
            <a:xfrm>
              <a:off x="5291640" y="4018320"/>
              <a:ext cx="134424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Text Box 27"/>
            <p:cNvSpPr/>
            <p:nvPr/>
          </p:nvSpPr>
          <p:spPr>
            <a:xfrm>
              <a:off x="720720" y="1025280"/>
              <a:ext cx="3496680" cy="48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Закономерн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1" name="Group 1"/>
          <p:cNvGrpSpPr/>
          <p:nvPr/>
        </p:nvGrpSpPr>
        <p:grpSpPr>
          <a:xfrm>
            <a:off x="3419640" y="179280"/>
            <a:ext cx="6478560" cy="7199280"/>
            <a:chOff x="3419640" y="179280"/>
            <a:chExt cx="6478560" cy="7199280"/>
          </a:xfrm>
        </p:grpSpPr>
        <p:sp>
          <p:nvSpPr>
            <p:cNvPr id="2252" name="AutoShape 2"/>
            <p:cNvSpPr/>
            <p:nvPr/>
          </p:nvSpPr>
          <p:spPr>
            <a:xfrm>
              <a:off x="3419640" y="179280"/>
              <a:ext cx="5040000" cy="27003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МИР ИДЕ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подлинное бытие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Line 3"/>
            <p:cNvSpPr/>
            <p:nvPr/>
          </p:nvSpPr>
          <p:spPr>
            <a:xfrm>
              <a:off x="4680000" y="1440000"/>
              <a:ext cx="2519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Line 4"/>
            <p:cNvSpPr/>
            <p:nvPr/>
          </p:nvSpPr>
          <p:spPr>
            <a:xfrm>
              <a:off x="5219640" y="900000"/>
              <a:ext cx="1440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5" name="Group 5"/>
            <p:cNvGrpSpPr/>
            <p:nvPr/>
          </p:nvGrpSpPr>
          <p:grpSpPr>
            <a:xfrm>
              <a:off x="5938920" y="179280"/>
              <a:ext cx="3959280" cy="2698920"/>
              <a:chOff x="5938920" y="179280"/>
              <a:chExt cx="3959280" cy="2698920"/>
            </a:xfrm>
          </p:grpSpPr>
          <p:sp>
            <p:nvSpPr>
              <p:cNvPr id="2256" name="Freeform 6"/>
              <p:cNvSpPr/>
              <p:nvPr/>
            </p:nvSpPr>
            <p:spPr>
              <a:xfrm>
                <a:off x="5938920" y="179280"/>
                <a:ext cx="3959280" cy="2698920"/>
              </a:xfrm>
              <a:custGeom>
                <a:avLst/>
                <a:gdLst/>
                <a:ahLst/>
                <a:rect l="l" t="t" r="r" b="b"/>
                <a:pathLst>
                  <a:path w="11001" h="7501">
                    <a:moveTo>
                      <a:pt x="500" y="0"/>
                    </a:moveTo>
                    <a:lnTo>
                      <a:pt x="11000" y="0"/>
                    </a:lnTo>
                    <a:lnTo>
                      <a:pt x="11000" y="7500"/>
                    </a:lnTo>
                    <a:lnTo>
                      <a:pt x="7000" y="7500"/>
                    </a:lnTo>
                    <a:lnTo>
                      <a:pt x="0" y="0"/>
                    </a:lnTo>
                    <a:lnTo>
                      <a:pt x="50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Text Box 7"/>
              <p:cNvSpPr/>
              <p:nvPr/>
            </p:nvSpPr>
            <p:spPr>
              <a:xfrm>
                <a:off x="5938920" y="179280"/>
                <a:ext cx="3959280" cy="269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Высшая Иде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(Благо=Единое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                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Диад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                   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(двойственность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Иерархически                                    соподчиненные                                     различные                                                  иде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8" name="Group 8"/>
            <p:cNvGrpSpPr/>
            <p:nvPr/>
          </p:nvGrpSpPr>
          <p:grpSpPr>
            <a:xfrm>
              <a:off x="3419640" y="4680000"/>
              <a:ext cx="5038560" cy="2698560"/>
              <a:chOff x="3419640" y="4680000"/>
              <a:chExt cx="5038560" cy="2698560"/>
            </a:xfrm>
          </p:grpSpPr>
          <p:sp>
            <p:nvSpPr>
              <p:cNvPr id="2259" name="Freeform 9"/>
              <p:cNvSpPr/>
              <p:nvPr/>
            </p:nvSpPr>
            <p:spPr>
              <a:xfrm>
                <a:off x="3419640" y="4680000"/>
                <a:ext cx="5038560" cy="2698560"/>
              </a:xfrm>
              <a:custGeom>
                <a:avLst/>
                <a:gdLst/>
                <a:ahLst/>
                <a:rect l="l" t="t" r="r" b="b"/>
                <a:pathLst>
                  <a:path w="14001" h="7501">
                    <a:moveTo>
                      <a:pt x="0" y="0"/>
                    </a:moveTo>
                    <a:lnTo>
                      <a:pt x="14000" y="0"/>
                    </a:lnTo>
                    <a:lnTo>
                      <a:pt x="7000" y="75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Text Box 10"/>
              <p:cNvSpPr/>
              <p:nvPr/>
            </p:nvSpPr>
            <p:spPr>
              <a:xfrm>
                <a:off x="3419640" y="4680000"/>
                <a:ext cx="5038560" cy="26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5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МИР МАТЕРИИ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(небытие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1" name="Rectangle 11"/>
            <p:cNvSpPr/>
            <p:nvPr/>
          </p:nvSpPr>
          <p:spPr>
            <a:xfrm>
              <a:off x="3419640" y="3240000"/>
              <a:ext cx="52196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5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МИР СТАНОВЛЕН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физический мир чувственно воспринимаемых вещей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2"/>
            <p:cNvSpPr/>
            <p:nvPr/>
          </p:nvSpPr>
          <p:spPr>
            <a:xfrm>
              <a:off x="4140360" y="2879640"/>
              <a:ext cx="1440" cy="360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3"/>
            <p:cNvSpPr/>
            <p:nvPr/>
          </p:nvSpPr>
          <p:spPr>
            <a:xfrm>
              <a:off x="6119640" y="2879640"/>
              <a:ext cx="1800" cy="360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14"/>
            <p:cNvSpPr/>
            <p:nvPr/>
          </p:nvSpPr>
          <p:spPr>
            <a:xfrm>
              <a:off x="7920000" y="2879640"/>
              <a:ext cx="1800" cy="360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5"/>
            <p:cNvSpPr/>
            <p:nvPr/>
          </p:nvSpPr>
          <p:spPr>
            <a:xfrm flipV="1">
              <a:off x="4140360" y="4292280"/>
              <a:ext cx="1440" cy="414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6"/>
            <p:cNvSpPr/>
            <p:nvPr/>
          </p:nvSpPr>
          <p:spPr>
            <a:xfrm flipV="1">
              <a:off x="6119640" y="4292280"/>
              <a:ext cx="1800" cy="414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7"/>
            <p:cNvSpPr/>
            <p:nvPr/>
          </p:nvSpPr>
          <p:spPr>
            <a:xfrm flipV="1">
              <a:off x="7920000" y="4292280"/>
              <a:ext cx="1800" cy="414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8" name="Rectangle 18"/>
          <p:cNvSpPr/>
          <p:nvPr/>
        </p:nvSpPr>
        <p:spPr>
          <a:xfrm>
            <a:off x="539640" y="358920"/>
            <a:ext cx="3060720" cy="126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Структура бытия Плато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Rectangle 1"/>
          <p:cNvSpPr/>
          <p:nvPr/>
        </p:nvSpPr>
        <p:spPr>
          <a:xfrm>
            <a:off x="0" y="792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Group 2"/>
          <p:cNvGrpSpPr/>
          <p:nvPr/>
        </p:nvGrpSpPr>
        <p:grpSpPr>
          <a:xfrm>
            <a:off x="720720" y="360360"/>
            <a:ext cx="8818560" cy="6659280"/>
            <a:chOff x="720720" y="360360"/>
            <a:chExt cx="8818560" cy="6659280"/>
          </a:xfrm>
        </p:grpSpPr>
        <p:sp>
          <p:nvSpPr>
            <p:cNvPr id="2271" name="Text Box 3"/>
            <p:cNvSpPr/>
            <p:nvPr/>
          </p:nvSpPr>
          <p:spPr>
            <a:xfrm>
              <a:off x="720720" y="1260000"/>
              <a:ext cx="4409280" cy="1920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БСОЛЮТНАЯ ИДЕЯ САМА ПО СЕБ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МИРОВОЙ РАЗУМ=БОГ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Text Box 4"/>
            <p:cNvSpPr/>
            <p:nvPr/>
          </p:nvSpPr>
          <p:spPr>
            <a:xfrm>
              <a:off x="720720" y="3179160"/>
              <a:ext cx="4409280" cy="1921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А КАК ИНОБЫТИЕ АБСОЛЮТНОЙ ИДЕ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Text Box 5"/>
            <p:cNvSpPr/>
            <p:nvPr/>
          </p:nvSpPr>
          <p:spPr>
            <a:xfrm>
              <a:off x="720720" y="5099400"/>
              <a:ext cx="4409280" cy="1920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ЧЕСКИЙ ДУХ КАК ВОПЛОЩЕНИЕ АБСОЛЮТНОЙ ИДЕ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Text Box 6"/>
            <p:cNvSpPr/>
            <p:nvPr/>
          </p:nvSpPr>
          <p:spPr>
            <a:xfrm>
              <a:off x="5128560" y="1260000"/>
              <a:ext cx="4409280" cy="1920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гическая ступень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я Абсолютной Иде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Text Box 7"/>
            <p:cNvSpPr/>
            <p:nvPr/>
          </p:nvSpPr>
          <p:spPr>
            <a:xfrm>
              <a:off x="5128560" y="3179160"/>
              <a:ext cx="4409280" cy="1921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ная ступ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я Абсолютной Идеи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Text Box 8"/>
            <p:cNvSpPr/>
            <p:nvPr/>
          </p:nvSpPr>
          <p:spPr>
            <a:xfrm>
              <a:off x="5128560" y="5099400"/>
              <a:ext cx="4409280" cy="1920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ческая ступ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я Абсолютной Идеи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Text Box 9"/>
            <p:cNvSpPr/>
            <p:nvPr/>
          </p:nvSpPr>
          <p:spPr>
            <a:xfrm>
              <a:off x="720720" y="360360"/>
              <a:ext cx="8818560" cy="72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уктура бытия Г. Гегел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1"/>
          <p:cNvSpPr/>
          <p:nvPr/>
        </p:nvSpPr>
        <p:spPr>
          <a:xfrm>
            <a:off x="0" y="792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9" name="Group 2"/>
          <p:cNvGrpSpPr/>
          <p:nvPr/>
        </p:nvGrpSpPr>
        <p:grpSpPr>
          <a:xfrm>
            <a:off x="539640" y="34920"/>
            <a:ext cx="9178920" cy="7356240"/>
            <a:chOff x="539640" y="34920"/>
            <a:chExt cx="9178920" cy="7356240"/>
          </a:xfrm>
        </p:grpSpPr>
        <p:grpSp>
          <p:nvGrpSpPr>
            <p:cNvPr id="2280" name="Group 3"/>
            <p:cNvGrpSpPr/>
            <p:nvPr/>
          </p:nvGrpSpPr>
          <p:grpSpPr>
            <a:xfrm>
              <a:off x="539640" y="34920"/>
              <a:ext cx="9178920" cy="7356240"/>
              <a:chOff x="539640" y="34920"/>
              <a:chExt cx="9178920" cy="7356240"/>
            </a:xfrm>
          </p:grpSpPr>
          <p:grpSp>
            <p:nvGrpSpPr>
              <p:cNvPr id="2281" name="Group 4"/>
              <p:cNvGrpSpPr/>
              <p:nvPr/>
            </p:nvGrpSpPr>
            <p:grpSpPr>
              <a:xfrm>
                <a:off x="539640" y="219240"/>
                <a:ext cx="9178920" cy="7171920"/>
                <a:chOff x="539640" y="219240"/>
                <a:chExt cx="9178920" cy="7171920"/>
              </a:xfrm>
            </p:grpSpPr>
            <p:grpSp>
              <p:nvGrpSpPr>
                <p:cNvPr id="2282" name="Group 5"/>
                <p:cNvGrpSpPr/>
                <p:nvPr/>
              </p:nvGrpSpPr>
              <p:grpSpPr>
                <a:xfrm>
                  <a:off x="4911840" y="219240"/>
                  <a:ext cx="4806720" cy="7158960"/>
                  <a:chOff x="4911840" y="219240"/>
                  <a:chExt cx="4806720" cy="7158960"/>
                </a:xfrm>
              </p:grpSpPr>
              <p:sp>
                <p:nvSpPr>
                  <p:cNvPr id="2283" name="Text Box 6"/>
                  <p:cNvSpPr/>
                  <p:nvPr/>
                </p:nvSpPr>
                <p:spPr>
                  <a:xfrm>
                    <a:off x="4911840" y="219240"/>
                    <a:ext cx="4806720" cy="2932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егагалактика (доступная изучению часть вселенной)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Скопления и системы галактик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Галактики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Звездные скопления и системы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ланетные системы и звезды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ланеты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Text Box 7"/>
                  <p:cNvSpPr/>
                  <p:nvPr/>
                </p:nvSpPr>
                <p:spPr>
                  <a:xfrm>
                    <a:off x="4911840" y="3126240"/>
                    <a:ext cx="4806720" cy="93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акротела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Text Box 8"/>
                  <p:cNvSpPr/>
                  <p:nvPr/>
                </p:nvSpPr>
                <p:spPr>
                  <a:xfrm>
                    <a:off x="4911840" y="4061160"/>
                    <a:ext cx="4806720" cy="3317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олекулы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Атомы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Субэлементарные частицы (протоны, нейтроны и многие др.)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Элементарные частицы (кварки+частицы – переносчики взаимодействий)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Физический вакуум (особое состояние материи)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6" name="Group 9"/>
                <p:cNvGrpSpPr/>
                <p:nvPr/>
              </p:nvGrpSpPr>
              <p:grpSpPr>
                <a:xfrm>
                  <a:off x="539640" y="219240"/>
                  <a:ext cx="4370040" cy="7171920"/>
                  <a:chOff x="539640" y="219240"/>
                  <a:chExt cx="4370040" cy="7171920"/>
                </a:xfrm>
              </p:grpSpPr>
              <p:sp>
                <p:nvSpPr>
                  <p:cNvPr id="2287" name="Text Box 10"/>
                  <p:cNvSpPr/>
                  <p:nvPr/>
                </p:nvSpPr>
                <p:spPr>
                  <a:xfrm>
                    <a:off x="1640880" y="219240"/>
                    <a:ext cx="3268800" cy="2932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en-GB" sz="4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егамир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Text Box 11"/>
                  <p:cNvSpPr/>
                  <p:nvPr/>
                </p:nvSpPr>
                <p:spPr>
                  <a:xfrm>
                    <a:off x="1640880" y="3125880"/>
                    <a:ext cx="3268800" cy="93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en-GB" sz="3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акромир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Text Box 12"/>
                  <p:cNvSpPr/>
                  <p:nvPr/>
                </p:nvSpPr>
                <p:spPr>
                  <a:xfrm>
                    <a:off x="1640880" y="4060440"/>
                    <a:ext cx="3268800" cy="33166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en-GB" sz="3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икромир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0" name="Text Box 13"/>
                  <p:cNvSpPr/>
                  <p:nvPr/>
                </p:nvSpPr>
                <p:spPr>
                  <a:xfrm rot="16200000">
                    <a:off x="-2571840" y="3344760"/>
                    <a:ext cx="7158240" cy="934560"/>
                  </a:xfrm>
                  <a:prstGeom prst="rect">
                    <a:avLst/>
                  </a:prstGeom>
                  <a:solidFill>
                    <a:srgbClr val="ff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Уровни организации материи в космосе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1" name="Group 14"/>
              <p:cNvGrpSpPr/>
              <p:nvPr/>
            </p:nvGrpSpPr>
            <p:grpSpPr>
              <a:xfrm>
                <a:off x="4175280" y="34920"/>
                <a:ext cx="949320" cy="917640"/>
                <a:chOff x="4175280" y="34920"/>
                <a:chExt cx="949320" cy="917640"/>
              </a:xfrm>
            </p:grpSpPr>
            <p:sp>
              <p:nvSpPr>
                <p:cNvPr id="2292" name="Oval 15"/>
                <p:cNvSpPr/>
                <p:nvPr/>
              </p:nvSpPr>
              <p:spPr>
                <a:xfrm>
                  <a:off x="4175280" y="34920"/>
                  <a:ext cx="949320" cy="917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3" name="Text Box 16"/>
                <p:cNvSpPr/>
                <p:nvPr/>
              </p:nvSpPr>
              <p:spPr>
                <a:xfrm>
                  <a:off x="4316040" y="171000"/>
                  <a:ext cx="670320" cy="64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52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4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?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4" name="Group 17"/>
              <p:cNvGrpSpPr/>
              <p:nvPr/>
            </p:nvGrpSpPr>
            <p:grpSpPr>
              <a:xfrm>
                <a:off x="4175280" y="6461280"/>
                <a:ext cx="949320" cy="917280"/>
                <a:chOff x="4175280" y="6461280"/>
                <a:chExt cx="949320" cy="917280"/>
              </a:xfrm>
            </p:grpSpPr>
            <p:sp>
              <p:nvSpPr>
                <p:cNvPr id="2295" name="Oval 18"/>
                <p:cNvSpPr/>
                <p:nvPr/>
              </p:nvSpPr>
              <p:spPr>
                <a:xfrm>
                  <a:off x="4175280" y="6461280"/>
                  <a:ext cx="949320" cy="917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6" name="Text Box 19"/>
                <p:cNvSpPr/>
                <p:nvPr/>
              </p:nvSpPr>
              <p:spPr>
                <a:xfrm>
                  <a:off x="4316040" y="6597360"/>
                  <a:ext cx="670320" cy="64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52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4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?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7" name="AutoShape 20"/>
              <p:cNvSpPr/>
              <p:nvPr/>
            </p:nvSpPr>
            <p:spPr>
              <a:xfrm flipH="1">
                <a:off x="4606200" y="952560"/>
                <a:ext cx="361800" cy="5508720"/>
              </a:xfrm>
              <a:prstGeom prst="upDownArrow">
                <a:avLst>
                  <a:gd name="adj1" fmla="val 31296"/>
                  <a:gd name="adj2" fmla="val 16642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8" name="Group 1"/>
          <p:cNvGrpSpPr/>
          <p:nvPr/>
        </p:nvGrpSpPr>
        <p:grpSpPr>
          <a:xfrm>
            <a:off x="360360" y="179280"/>
            <a:ext cx="9358200" cy="7198920"/>
            <a:chOff x="360360" y="179280"/>
            <a:chExt cx="9358200" cy="7198920"/>
          </a:xfrm>
        </p:grpSpPr>
        <p:sp>
          <p:nvSpPr>
            <p:cNvPr id="2299" name="Line 2"/>
            <p:cNvSpPr/>
            <p:nvPr/>
          </p:nvSpPr>
          <p:spPr>
            <a:xfrm>
              <a:off x="8219880" y="2074320"/>
              <a:ext cx="1080" cy="15152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3"/>
            <p:cNvSpPr/>
            <p:nvPr/>
          </p:nvSpPr>
          <p:spPr>
            <a:xfrm>
              <a:off x="5039280" y="2074320"/>
              <a:ext cx="1080" cy="37882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4"/>
            <p:cNvSpPr/>
            <p:nvPr/>
          </p:nvSpPr>
          <p:spPr>
            <a:xfrm>
              <a:off x="1669680" y="2074320"/>
              <a:ext cx="1080" cy="37882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Text Box 5"/>
            <p:cNvSpPr/>
            <p:nvPr/>
          </p:nvSpPr>
          <p:spPr>
            <a:xfrm>
              <a:off x="360360" y="179280"/>
              <a:ext cx="9358200" cy="5680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АЛЕКТИК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Text Box 6"/>
            <p:cNvSpPr/>
            <p:nvPr/>
          </p:nvSpPr>
          <p:spPr>
            <a:xfrm>
              <a:off x="360360" y="937800"/>
              <a:ext cx="2807640" cy="1137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и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Text Box 7"/>
            <p:cNvSpPr/>
            <p:nvPr/>
          </p:nvSpPr>
          <p:spPr>
            <a:xfrm>
              <a:off x="6723360" y="936360"/>
              <a:ext cx="2994840" cy="1137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ТОЧНИК РАЗВИТИ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Text Box 8"/>
            <p:cNvSpPr/>
            <p:nvPr/>
          </p:nvSpPr>
          <p:spPr>
            <a:xfrm>
              <a:off x="3540960" y="937800"/>
              <a:ext cx="2994840" cy="1137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ОН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Text Box 9"/>
            <p:cNvSpPr/>
            <p:nvPr/>
          </p:nvSpPr>
          <p:spPr>
            <a:xfrm>
              <a:off x="360360" y="2262960"/>
              <a:ext cx="2807640" cy="1515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е в природе подлежит изменениям и развитию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Text Box 10"/>
            <p:cNvSpPr/>
            <p:nvPr/>
          </p:nvSpPr>
          <p:spPr>
            <a:xfrm>
              <a:off x="3540960" y="3967560"/>
              <a:ext cx="2994840" cy="1515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он перехода количественных изменений в качествен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Text Box 11"/>
            <p:cNvSpPr/>
            <p:nvPr/>
          </p:nvSpPr>
          <p:spPr>
            <a:xfrm>
              <a:off x="3540960" y="2262960"/>
              <a:ext cx="2994840" cy="1515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он единства и противостояния противоположносте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Text Box 12"/>
            <p:cNvSpPr/>
            <p:nvPr/>
          </p:nvSpPr>
          <p:spPr>
            <a:xfrm>
              <a:off x="3540960" y="5862960"/>
              <a:ext cx="2994840" cy="1515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он двойного отрицан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Text Box 13"/>
            <p:cNvSpPr/>
            <p:nvPr/>
          </p:nvSpPr>
          <p:spPr>
            <a:xfrm>
              <a:off x="360360" y="5861160"/>
              <a:ext cx="2807640" cy="1517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природе существует всеобщая связь вещей друг с друго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Text Box 14"/>
            <p:cNvSpPr/>
            <p:nvPr/>
          </p:nvSpPr>
          <p:spPr>
            <a:xfrm>
              <a:off x="360360" y="3967560"/>
              <a:ext cx="2807640" cy="1515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е в природе обладает полярностью и противоречивостью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Text Box 15"/>
            <p:cNvSpPr/>
            <p:nvPr/>
          </p:nvSpPr>
          <p:spPr>
            <a:xfrm>
              <a:off x="6723360" y="2262960"/>
              <a:ext cx="2994840" cy="1517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тиворечивое взаимодействие противоположносте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Line 16"/>
            <p:cNvSpPr/>
            <p:nvPr/>
          </p:nvSpPr>
          <p:spPr>
            <a:xfrm flipH="1">
              <a:off x="2391480" y="747360"/>
              <a:ext cx="61560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7"/>
            <p:cNvSpPr/>
            <p:nvPr/>
          </p:nvSpPr>
          <p:spPr>
            <a:xfrm>
              <a:off x="4852080" y="747360"/>
              <a:ext cx="108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8"/>
            <p:cNvSpPr/>
            <p:nvPr/>
          </p:nvSpPr>
          <p:spPr>
            <a:xfrm>
              <a:off x="6723360" y="747360"/>
              <a:ext cx="93600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Rectangle 1"/>
          <p:cNvSpPr/>
          <p:nvPr/>
        </p:nvSpPr>
        <p:spPr>
          <a:xfrm>
            <a:off x="0" y="792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7" name="Group 2"/>
          <p:cNvGrpSpPr/>
          <p:nvPr/>
        </p:nvGrpSpPr>
        <p:grpSpPr>
          <a:xfrm>
            <a:off x="360360" y="179280"/>
            <a:ext cx="11697840" cy="7018200"/>
            <a:chOff x="360360" y="179280"/>
            <a:chExt cx="11697840" cy="7018200"/>
          </a:xfrm>
        </p:grpSpPr>
        <p:grpSp>
          <p:nvGrpSpPr>
            <p:cNvPr id="2318" name="Group 3"/>
            <p:cNvGrpSpPr/>
            <p:nvPr/>
          </p:nvGrpSpPr>
          <p:grpSpPr>
            <a:xfrm>
              <a:off x="360360" y="179280"/>
              <a:ext cx="9356760" cy="7017120"/>
              <a:chOff x="360360" y="179280"/>
              <a:chExt cx="9356760" cy="7017120"/>
            </a:xfrm>
          </p:grpSpPr>
          <p:grpSp>
            <p:nvGrpSpPr>
              <p:cNvPr id="2319" name="Group 4"/>
              <p:cNvGrpSpPr/>
              <p:nvPr/>
            </p:nvGrpSpPr>
            <p:grpSpPr>
              <a:xfrm>
                <a:off x="360360" y="179280"/>
                <a:ext cx="9356760" cy="7017120"/>
                <a:chOff x="360360" y="179280"/>
                <a:chExt cx="9356760" cy="7017120"/>
              </a:xfrm>
            </p:grpSpPr>
            <p:sp>
              <p:nvSpPr>
                <p:cNvPr id="2320" name="AutoShape 5"/>
                <p:cNvSpPr/>
                <p:nvPr/>
              </p:nvSpPr>
              <p:spPr>
                <a:xfrm>
                  <a:off x="360360" y="179280"/>
                  <a:ext cx="9356760" cy="701712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1" name="Text Box 6"/>
                <p:cNvSpPr/>
                <p:nvPr/>
              </p:nvSpPr>
              <p:spPr>
                <a:xfrm>
                  <a:off x="1085400" y="1055160"/>
                  <a:ext cx="7909200" cy="52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флекс</a:t>
                  </a:r>
                  <a:r>
                    <a:rPr b="0" i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2" name="Text Box 7"/>
              <p:cNvSpPr/>
              <p:nvPr/>
            </p:nvSpPr>
            <p:spPr>
              <a:xfrm>
                <a:off x="1260000" y="3677400"/>
                <a:ext cx="8174160" cy="21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3" name="Text Box 8"/>
            <p:cNvSpPr/>
            <p:nvPr/>
          </p:nvSpPr>
          <p:spPr>
            <a:xfrm>
              <a:off x="1275840" y="2075760"/>
              <a:ext cx="10782360" cy="51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4" name="Group 9"/>
            <p:cNvGrpSpPr/>
            <p:nvPr/>
          </p:nvGrpSpPr>
          <p:grpSpPr>
            <a:xfrm>
              <a:off x="539280" y="2645640"/>
              <a:ext cx="8816760" cy="3450600"/>
              <a:chOff x="539280" y="2645640"/>
              <a:chExt cx="8816760" cy="3450600"/>
            </a:xfrm>
          </p:grpSpPr>
          <p:sp>
            <p:nvSpPr>
              <p:cNvPr id="2325" name="AutoShape 10"/>
              <p:cNvSpPr/>
              <p:nvPr/>
            </p:nvSpPr>
            <p:spPr>
              <a:xfrm>
                <a:off x="539280" y="2645640"/>
                <a:ext cx="8815320" cy="34506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423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Text Box 11"/>
              <p:cNvSpPr/>
              <p:nvPr/>
            </p:nvSpPr>
            <p:spPr>
              <a:xfrm>
                <a:off x="1078920" y="3252960"/>
                <a:ext cx="8277120" cy="21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ные вопрос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кие основные проблемы онтологии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к связана онтология с другими разделами философии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терия и субстанция: что общего у этих двух понятий и чем они различаются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327" name="Picture 1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Text Box 1"/>
          <p:cNvSpPr/>
          <p:nvPr/>
        </p:nvSpPr>
        <p:spPr>
          <a:xfrm>
            <a:off x="900000" y="3240000"/>
            <a:ext cx="84614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ГНОСЕОЛОГ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9" name="Group 1"/>
          <p:cNvGrpSpPr/>
          <p:nvPr/>
        </p:nvGrpSpPr>
        <p:grpSpPr>
          <a:xfrm>
            <a:off x="1260360" y="539640"/>
            <a:ext cx="8458200" cy="6478200"/>
            <a:chOff x="1260360" y="539640"/>
            <a:chExt cx="8458200" cy="6478200"/>
          </a:xfrm>
        </p:grpSpPr>
        <p:sp>
          <p:nvSpPr>
            <p:cNvPr id="2330" name="Rectangle 2"/>
            <p:cNvSpPr/>
            <p:nvPr/>
          </p:nvSpPr>
          <p:spPr>
            <a:xfrm>
              <a:off x="3018600" y="1558440"/>
              <a:ext cx="4613760" cy="62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Познаваем ли мир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Rectangle 3"/>
            <p:cNvSpPr/>
            <p:nvPr/>
          </p:nvSpPr>
          <p:spPr>
            <a:xfrm>
              <a:off x="3018600" y="2185200"/>
              <a:ext cx="4613760" cy="62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Способности познания челове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Rectangle 4"/>
            <p:cNvSpPr/>
            <p:nvPr/>
          </p:nvSpPr>
          <p:spPr>
            <a:xfrm>
              <a:off x="3018600" y="2812320"/>
              <a:ext cx="4613760" cy="628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Как человек познает мир?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Rectangle 5"/>
            <p:cNvSpPr/>
            <p:nvPr/>
          </p:nvSpPr>
          <p:spPr>
            <a:xfrm>
              <a:off x="3018600" y="3440520"/>
              <a:ext cx="4612320" cy="626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Что есть истина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3018600" y="4067640"/>
              <a:ext cx="4613760" cy="626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Каковы критерии истины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3018600" y="4694400"/>
              <a:ext cx="4613760" cy="626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Что такое знание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3018600" y="5321520"/>
              <a:ext cx="4613760" cy="86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Фундаментальные закон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позн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3018600" y="6184800"/>
              <a:ext cx="4613760" cy="83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Различные виды позн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религиозное, научное и т.д.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10"/>
            <p:cNvSpPr/>
            <p:nvPr/>
          </p:nvSpPr>
          <p:spPr>
            <a:xfrm>
              <a:off x="1918800" y="1402920"/>
              <a:ext cx="1440" cy="517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1"/>
            <p:cNvSpPr/>
            <p:nvPr/>
          </p:nvSpPr>
          <p:spPr>
            <a:xfrm>
              <a:off x="1918800" y="1950480"/>
              <a:ext cx="1099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2"/>
            <p:cNvSpPr/>
            <p:nvPr/>
          </p:nvSpPr>
          <p:spPr>
            <a:xfrm>
              <a:off x="1918800" y="2499480"/>
              <a:ext cx="10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13"/>
            <p:cNvSpPr/>
            <p:nvPr/>
          </p:nvSpPr>
          <p:spPr>
            <a:xfrm>
              <a:off x="1918800" y="3204000"/>
              <a:ext cx="10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14"/>
            <p:cNvSpPr/>
            <p:nvPr/>
          </p:nvSpPr>
          <p:spPr>
            <a:xfrm>
              <a:off x="1918800" y="3753360"/>
              <a:ext cx="1099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Line 15"/>
            <p:cNvSpPr/>
            <p:nvPr/>
          </p:nvSpPr>
          <p:spPr>
            <a:xfrm>
              <a:off x="1918800" y="4459320"/>
              <a:ext cx="10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Line 16"/>
            <p:cNvSpPr/>
            <p:nvPr/>
          </p:nvSpPr>
          <p:spPr>
            <a:xfrm>
              <a:off x="1918800" y="5008680"/>
              <a:ext cx="1099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Line 17"/>
            <p:cNvSpPr/>
            <p:nvPr/>
          </p:nvSpPr>
          <p:spPr>
            <a:xfrm>
              <a:off x="1918800" y="5792400"/>
              <a:ext cx="10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"/>
            <p:cNvSpPr/>
            <p:nvPr/>
          </p:nvSpPr>
          <p:spPr>
            <a:xfrm>
              <a:off x="1918800" y="6575040"/>
              <a:ext cx="10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Rectangle 19"/>
            <p:cNvSpPr/>
            <p:nvPr/>
          </p:nvSpPr>
          <p:spPr>
            <a:xfrm>
              <a:off x="1260360" y="539640"/>
              <a:ext cx="8458200" cy="863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Гносеология изучае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Rectangle 1"/>
          <p:cNvSpPr/>
          <p:nvPr/>
        </p:nvSpPr>
        <p:spPr>
          <a:xfrm>
            <a:off x="1079640" y="2004840"/>
            <a:ext cx="3328920" cy="1017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Основу человеческо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познания составляю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чув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Rectangle 2"/>
          <p:cNvSpPr/>
          <p:nvPr/>
        </p:nvSpPr>
        <p:spPr>
          <a:xfrm>
            <a:off x="1079640" y="4043520"/>
            <a:ext cx="3328920" cy="979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Основу человеческог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познания составля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0" name="Group 3"/>
          <p:cNvGrpSpPr/>
          <p:nvPr/>
        </p:nvGrpSpPr>
        <p:grpSpPr>
          <a:xfrm>
            <a:off x="1171440" y="360360"/>
            <a:ext cx="8007120" cy="6657480"/>
            <a:chOff x="1171440" y="360360"/>
            <a:chExt cx="8007120" cy="6657480"/>
          </a:xfrm>
        </p:grpSpPr>
        <p:sp>
          <p:nvSpPr>
            <p:cNvPr id="2351" name="Rectangle 4"/>
            <p:cNvSpPr/>
            <p:nvPr/>
          </p:nvSpPr>
          <p:spPr>
            <a:xfrm>
              <a:off x="1980720" y="360360"/>
              <a:ext cx="6299640" cy="6267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ГНОСЕОЛОГИЧЕСКИЕ КОНЦЕП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Rectangle 5"/>
            <p:cNvSpPr/>
            <p:nvPr/>
          </p:nvSpPr>
          <p:spPr>
            <a:xfrm>
              <a:off x="1618920" y="1221840"/>
              <a:ext cx="278856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сенсуал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"/>
            <p:cNvSpPr/>
            <p:nvPr/>
          </p:nvSpPr>
          <p:spPr>
            <a:xfrm>
              <a:off x="5939280" y="1221840"/>
              <a:ext cx="2788560" cy="547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интуитив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Rectangle 7"/>
            <p:cNvSpPr/>
            <p:nvPr/>
          </p:nvSpPr>
          <p:spPr>
            <a:xfrm>
              <a:off x="5669640" y="2004120"/>
              <a:ext cx="3508920" cy="1214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Основу человеческог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знания составляет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нтуиция(иррациональ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пособности сознания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Rectangle 8"/>
            <p:cNvSpPr/>
            <p:nvPr/>
          </p:nvSpPr>
          <p:spPr>
            <a:xfrm>
              <a:off x="1618920" y="3258000"/>
              <a:ext cx="2788560" cy="547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эмпир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Rectangle 9"/>
            <p:cNvSpPr/>
            <p:nvPr/>
          </p:nvSpPr>
          <p:spPr>
            <a:xfrm>
              <a:off x="1618920" y="5216760"/>
              <a:ext cx="2788560" cy="54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рационализ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Rectangle 10"/>
            <p:cNvSpPr/>
            <p:nvPr/>
          </p:nvSpPr>
          <p:spPr>
            <a:xfrm>
              <a:off x="5669640" y="4354920"/>
              <a:ext cx="3237480" cy="1214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Человеческое позна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сновано на действ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чувств, разума и интуиции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Rectangle 11"/>
            <p:cNvSpPr/>
            <p:nvPr/>
          </p:nvSpPr>
          <p:spPr>
            <a:xfrm>
              <a:off x="1171440" y="6000480"/>
              <a:ext cx="3328560" cy="101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снову человеческог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познания составляет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разу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Line 12"/>
            <p:cNvSpPr/>
            <p:nvPr/>
          </p:nvSpPr>
          <p:spPr>
            <a:xfrm flipH="1">
              <a:off x="4367880" y="5608800"/>
              <a:ext cx="801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Line 13"/>
            <p:cNvSpPr/>
            <p:nvPr/>
          </p:nvSpPr>
          <p:spPr>
            <a:xfrm>
              <a:off x="4407840" y="3650040"/>
              <a:ext cx="126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Line 14"/>
            <p:cNvSpPr/>
            <p:nvPr/>
          </p:nvSpPr>
          <p:spPr>
            <a:xfrm>
              <a:off x="4407840" y="1456920"/>
              <a:ext cx="153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15"/>
            <p:cNvSpPr/>
            <p:nvPr/>
          </p:nvSpPr>
          <p:spPr>
            <a:xfrm>
              <a:off x="4407840" y="2474280"/>
              <a:ext cx="1261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Line 16"/>
            <p:cNvSpPr/>
            <p:nvPr/>
          </p:nvSpPr>
          <p:spPr>
            <a:xfrm>
              <a:off x="2971440" y="1769400"/>
              <a:ext cx="1080" cy="23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17"/>
            <p:cNvSpPr/>
            <p:nvPr/>
          </p:nvSpPr>
          <p:spPr>
            <a:xfrm>
              <a:off x="7377120" y="1769400"/>
              <a:ext cx="1440" cy="23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18"/>
            <p:cNvSpPr/>
            <p:nvPr/>
          </p:nvSpPr>
          <p:spPr>
            <a:xfrm>
              <a:off x="7286760" y="4042440"/>
              <a:ext cx="1080" cy="31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19"/>
            <p:cNvSpPr/>
            <p:nvPr/>
          </p:nvSpPr>
          <p:spPr>
            <a:xfrm>
              <a:off x="2971440" y="5763960"/>
              <a:ext cx="108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Line 20"/>
            <p:cNvSpPr/>
            <p:nvPr/>
          </p:nvSpPr>
          <p:spPr>
            <a:xfrm>
              <a:off x="3060360" y="3805920"/>
              <a:ext cx="108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1"/>
            <p:cNvSpPr/>
            <p:nvPr/>
          </p:nvSpPr>
          <p:spPr>
            <a:xfrm flipV="1">
              <a:off x="5128560" y="945360"/>
              <a:ext cx="1080" cy="47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Rectangle 22"/>
            <p:cNvSpPr/>
            <p:nvPr/>
          </p:nvSpPr>
          <p:spPr>
            <a:xfrm>
              <a:off x="5669640" y="3493080"/>
              <a:ext cx="3328200" cy="645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синтетическа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концепц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1"/>
          <p:cNvGrpSpPr/>
          <p:nvPr/>
        </p:nvGrpSpPr>
        <p:grpSpPr>
          <a:xfrm>
            <a:off x="1440000" y="423720"/>
            <a:ext cx="7917840" cy="6594120"/>
            <a:chOff x="1440000" y="423720"/>
            <a:chExt cx="7917840" cy="6594120"/>
          </a:xfrm>
        </p:grpSpPr>
        <p:grpSp>
          <p:nvGrpSpPr>
            <p:cNvPr id="2371" name="Group 2"/>
            <p:cNvGrpSpPr/>
            <p:nvPr/>
          </p:nvGrpSpPr>
          <p:grpSpPr>
            <a:xfrm>
              <a:off x="1440000" y="423720"/>
              <a:ext cx="7917840" cy="6594120"/>
              <a:chOff x="1440000" y="423720"/>
              <a:chExt cx="7917840" cy="6594120"/>
            </a:xfrm>
          </p:grpSpPr>
          <p:sp>
            <p:nvSpPr>
              <p:cNvPr id="2372" name="Rectangle 3"/>
              <p:cNvSpPr/>
              <p:nvPr/>
            </p:nvSpPr>
            <p:spPr>
              <a:xfrm>
                <a:off x="1440000" y="423720"/>
                <a:ext cx="6227640" cy="11268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ФОРМ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РАЦИНАЛЬНОГ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ПОЗНАН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Rectangle 4"/>
              <p:cNvSpPr/>
              <p:nvPr/>
            </p:nvSpPr>
            <p:spPr>
              <a:xfrm>
                <a:off x="2493720" y="2113920"/>
                <a:ext cx="2847240" cy="723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ПОНЯТ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Rectangle 5"/>
              <p:cNvSpPr/>
              <p:nvPr/>
            </p:nvSpPr>
            <p:spPr>
              <a:xfrm>
                <a:off x="2493720" y="3962880"/>
                <a:ext cx="2848680" cy="723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СУЖДЕН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Rectangle 6"/>
              <p:cNvSpPr/>
              <p:nvPr/>
            </p:nvSpPr>
            <p:spPr>
              <a:xfrm>
                <a:off x="1440000" y="5973480"/>
                <a:ext cx="3959640" cy="644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УМОЗАКЛЮЧЕН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Rectangle 7"/>
              <p:cNvSpPr/>
              <p:nvPr/>
            </p:nvSpPr>
            <p:spPr>
              <a:xfrm>
                <a:off x="5766480" y="1789920"/>
                <a:ext cx="3588120" cy="144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Словесный символ,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выражающий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словесные признак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предмет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Rectangle 8"/>
              <p:cNvSpPr/>
              <p:nvPr/>
            </p:nvSpPr>
            <p:spPr>
              <a:xfrm>
                <a:off x="5766480" y="3642120"/>
                <a:ext cx="3591360" cy="1447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Совокупность по смыслу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связанных между собой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понятий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Rectangle 9"/>
              <p:cNvSpPr/>
              <p:nvPr/>
            </p:nvSpPr>
            <p:spPr>
              <a:xfrm>
                <a:off x="5766480" y="5570640"/>
                <a:ext cx="3591360" cy="1447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Совокупность нескольких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суждений, связанных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между собой по закона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логик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10"/>
              <p:cNvSpPr/>
              <p:nvPr/>
            </p:nvSpPr>
            <p:spPr>
              <a:xfrm>
                <a:off x="5342400" y="2434680"/>
                <a:ext cx="42372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11"/>
              <p:cNvSpPr/>
              <p:nvPr/>
            </p:nvSpPr>
            <p:spPr>
              <a:xfrm>
                <a:off x="5342400" y="4366080"/>
                <a:ext cx="42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12"/>
              <p:cNvSpPr/>
              <p:nvPr/>
            </p:nvSpPr>
            <p:spPr>
              <a:xfrm>
                <a:off x="1968120" y="1549080"/>
                <a:ext cx="1080" cy="442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2" name="Line 13"/>
            <p:cNvSpPr/>
            <p:nvPr/>
          </p:nvSpPr>
          <p:spPr>
            <a:xfrm>
              <a:off x="5400720" y="6300720"/>
              <a:ext cx="36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1"/>
          <p:cNvSpPr/>
          <p:nvPr/>
        </p:nvSpPr>
        <p:spPr>
          <a:xfrm>
            <a:off x="1079640" y="2160720"/>
            <a:ext cx="828036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ЧТО ФИЛОСОФИЯ МОЖЕТ ДАТЬ КАЖДОМУ ЧЕЛОВЕК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(ПРАКТИЧЕСКИЙ СМЫСЛ ИЗУЧЕНИЯ ФИЛОСОФ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3" name="Group 1"/>
          <p:cNvGrpSpPr/>
          <p:nvPr/>
        </p:nvGrpSpPr>
        <p:grpSpPr>
          <a:xfrm>
            <a:off x="792000" y="360360"/>
            <a:ext cx="8928000" cy="6659280"/>
            <a:chOff x="792000" y="360360"/>
            <a:chExt cx="8928000" cy="6659280"/>
          </a:xfrm>
        </p:grpSpPr>
        <p:sp>
          <p:nvSpPr>
            <p:cNvPr id="2384" name="Rectangle 2"/>
            <p:cNvSpPr/>
            <p:nvPr/>
          </p:nvSpPr>
          <p:spPr>
            <a:xfrm>
              <a:off x="2114280" y="360360"/>
              <a:ext cx="2561400" cy="1069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лное, точное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счерпывающе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знание о чем-либ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Rectangle 3"/>
            <p:cNvSpPr/>
            <p:nvPr/>
          </p:nvSpPr>
          <p:spPr>
            <a:xfrm>
              <a:off x="5758200" y="360360"/>
              <a:ext cx="2720520" cy="106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стинное, но неполно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знание о чем-либ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Rectangle 4"/>
            <p:cNvSpPr/>
            <p:nvPr/>
          </p:nvSpPr>
          <p:spPr>
            <a:xfrm>
              <a:off x="1949040" y="2086920"/>
              <a:ext cx="2975760" cy="61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АБСОЛЮТ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Rectangle 5"/>
            <p:cNvSpPr/>
            <p:nvPr/>
          </p:nvSpPr>
          <p:spPr>
            <a:xfrm>
              <a:off x="5667840" y="2086920"/>
              <a:ext cx="2974320" cy="61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ОТНОСИТЕ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Oval 6"/>
            <p:cNvSpPr/>
            <p:nvPr/>
          </p:nvSpPr>
          <p:spPr>
            <a:xfrm>
              <a:off x="4015800" y="2991600"/>
              <a:ext cx="2478960" cy="9046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ИСТИН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Rectangle 7"/>
            <p:cNvSpPr/>
            <p:nvPr/>
          </p:nvSpPr>
          <p:spPr>
            <a:xfrm>
              <a:off x="1949040" y="4305960"/>
              <a:ext cx="2974320" cy="61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ОБЪЕКТИВ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Rectangle 8"/>
            <p:cNvSpPr/>
            <p:nvPr/>
          </p:nvSpPr>
          <p:spPr>
            <a:xfrm>
              <a:off x="5667840" y="4305960"/>
              <a:ext cx="2974320" cy="61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СУБЪЕКТИВ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Rectangle 9"/>
            <p:cNvSpPr/>
            <p:nvPr/>
          </p:nvSpPr>
          <p:spPr>
            <a:xfrm>
              <a:off x="1949040" y="5456520"/>
              <a:ext cx="2974320" cy="1563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стина сама по себе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езависимая от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человеческого созн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от субъекта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Rectangle 10"/>
            <p:cNvSpPr/>
            <p:nvPr/>
          </p:nvSpPr>
          <p:spPr>
            <a:xfrm>
              <a:off x="5916960" y="5456520"/>
              <a:ext cx="2974320" cy="156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стина, зависимая от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человека (субъекта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Может совпада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 объективно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ли не совпада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11"/>
            <p:cNvSpPr/>
            <p:nvPr/>
          </p:nvSpPr>
          <p:spPr>
            <a:xfrm>
              <a:off x="4923720" y="2415600"/>
              <a:ext cx="7441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12"/>
            <p:cNvSpPr/>
            <p:nvPr/>
          </p:nvSpPr>
          <p:spPr>
            <a:xfrm>
              <a:off x="5255640" y="2415600"/>
              <a:ext cx="108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13"/>
            <p:cNvSpPr/>
            <p:nvPr/>
          </p:nvSpPr>
          <p:spPr>
            <a:xfrm>
              <a:off x="4923720" y="4634280"/>
              <a:ext cx="744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14"/>
            <p:cNvSpPr/>
            <p:nvPr/>
          </p:nvSpPr>
          <p:spPr>
            <a:xfrm flipV="1">
              <a:off x="5255640" y="3853080"/>
              <a:ext cx="1080" cy="82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15"/>
            <p:cNvSpPr/>
            <p:nvPr/>
          </p:nvSpPr>
          <p:spPr>
            <a:xfrm>
              <a:off x="3353760" y="4962960"/>
              <a:ext cx="1080" cy="49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16"/>
            <p:cNvSpPr/>
            <p:nvPr/>
          </p:nvSpPr>
          <p:spPr>
            <a:xfrm>
              <a:off x="7156800" y="4962960"/>
              <a:ext cx="1440" cy="49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AutoShape 17"/>
            <p:cNvSpPr/>
            <p:nvPr/>
          </p:nvSpPr>
          <p:spPr>
            <a:xfrm>
              <a:off x="792000" y="1294920"/>
              <a:ext cx="1157040" cy="985680"/>
            </a:xfrm>
            <a:custGeom>
              <a:avLst/>
              <a:gdLst>
                <a:gd name="textAreaLeft" fmla="*/ 154800 w 1157040"/>
                <a:gd name="textAreaRight" fmla="*/ 1002240 w 1157040"/>
                <a:gd name="textAreaTop" fmla="*/ 173160 h 985680"/>
                <a:gd name="textAreaBottom" fmla="*/ 712080 h 9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00" stAng="-5400000" swAng="-5400000"/>
                  <a:lnTo>
                    <a:pt x="0" y="11800"/>
                  </a:lnTo>
                  <a:arcTo wR="21600" hR="7600" stAng="10800000" swAng="-2691708"/>
                  <a:lnTo>
                    <a:pt x="14400" y="21165"/>
                  </a:lnTo>
                  <a:lnTo>
                    <a:pt x="21600" y="17300"/>
                  </a:lnTo>
                  <a:lnTo>
                    <a:pt x="14400" y="12565"/>
                  </a:lnTo>
                  <a:lnTo>
                    <a:pt x="14400" y="14765"/>
                  </a:lnTo>
                  <a:arcTo wR="21600" hR="7600" stAng="8108292" swAng="2345122"/>
                  <a:lnTo>
                    <a:pt x="841" y="9700"/>
                  </a:lnTo>
                  <a:arcTo wR="21600" hR="7600" stAng="-10453414" swAng="5053414"/>
                  <a:close/>
                </a:path>
                <a:path fill="darkenLess" w="21600" h="21600">
                  <a:moveTo>
                    <a:pt x="21600" y="0"/>
                  </a:moveTo>
                  <a:arcTo wR="21600" hR="7600" stAng="-5400000" swAng="-5400000"/>
                  <a:lnTo>
                    <a:pt x="0" y="7600"/>
                  </a:lnTo>
                  <a:arcTo wR="21600" hR="7600" stAng="10800000" swAng="-346586"/>
                  <a:lnTo>
                    <a:pt x="841" y="9700"/>
                  </a:lnTo>
                  <a:arcTo wR="21600" hR="7600" stAng="-10453414" swAng="5053414"/>
                  <a:close/>
                </a:path>
              </a:pathLst>
            </a:cu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AutoShape 18"/>
            <p:cNvSpPr/>
            <p:nvPr/>
          </p:nvSpPr>
          <p:spPr>
            <a:xfrm>
              <a:off x="8561520" y="1294920"/>
              <a:ext cx="1158480" cy="985680"/>
            </a:xfrm>
            <a:custGeom>
              <a:avLst/>
              <a:gdLst>
                <a:gd name="textAreaLeft" fmla="*/ 155160 w 1158480"/>
                <a:gd name="textAreaRight" fmla="*/ 1003320 w 1158480"/>
                <a:gd name="textAreaTop" fmla="*/ 173160 h 985680"/>
                <a:gd name="textAreaBottom" fmla="*/ 712080 h 9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00" stAng="-5400000" swAng="5400000"/>
                  <a:lnTo>
                    <a:pt x="21600" y="11800"/>
                  </a:lnTo>
                  <a:arcTo wR="21600" hR="7600" stAng="0" swAng="1288428"/>
                  <a:lnTo>
                    <a:pt x="14400" y="19665"/>
                  </a:lnTo>
                  <a:lnTo>
                    <a:pt x="0" y="17300"/>
                  </a:lnTo>
                  <a:lnTo>
                    <a:pt x="14400" y="11065"/>
                  </a:lnTo>
                  <a:lnTo>
                    <a:pt x="14400" y="13265"/>
                  </a:lnTo>
                  <a:arcTo wR="21600" hR="7600" stAng="1288428" swAng="-941842"/>
                  <a:lnTo>
                    <a:pt x="20759" y="9700"/>
                  </a:lnTo>
                  <a:arcTo wR="21600" hR="7600" stAng="-346586" swAng="-5053414"/>
                  <a:close/>
                </a:path>
                <a:path fill="darkenLess" w="21600" h="21600">
                  <a:moveTo>
                    <a:pt x="0" y="0"/>
                  </a:moveTo>
                  <a:arcTo wR="21600" hR="7600" stAng="-5400000" swAng="5400000"/>
                  <a:lnTo>
                    <a:pt x="21600" y="11800"/>
                  </a:lnTo>
                  <a:arcTo wR="21600" hR="7600" stAng="0" swAng="-346586"/>
                  <a:lnTo>
                    <a:pt x="20759" y="9700"/>
                  </a:lnTo>
                  <a:arcTo wR="21600" hR="7600" stAng="-346586" swAng="-5053414"/>
                  <a:close/>
                </a:path>
              </a:pathLst>
            </a:cu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1" name="Group 1"/>
          <p:cNvGrpSpPr/>
          <p:nvPr/>
        </p:nvGrpSpPr>
        <p:grpSpPr>
          <a:xfrm>
            <a:off x="1079640" y="360360"/>
            <a:ext cx="8457840" cy="6838560"/>
            <a:chOff x="1079640" y="360360"/>
            <a:chExt cx="8457840" cy="6838560"/>
          </a:xfrm>
        </p:grpSpPr>
        <p:sp>
          <p:nvSpPr>
            <p:cNvPr id="2402" name="Rectangle 2"/>
            <p:cNvSpPr/>
            <p:nvPr/>
          </p:nvSpPr>
          <p:spPr>
            <a:xfrm>
              <a:off x="3674520" y="360360"/>
              <a:ext cx="3364560" cy="123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едполагается причиннос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 закономерность явлений 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оцессов прир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3"/>
            <p:cNvSpPr/>
            <p:nvPr/>
          </p:nvSpPr>
          <p:spPr>
            <a:xfrm>
              <a:off x="1439640" y="1759680"/>
              <a:ext cx="2837520" cy="907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Объективность 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достоверность позн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4"/>
            <p:cNvSpPr/>
            <p:nvPr/>
          </p:nvSpPr>
          <p:spPr>
            <a:xfrm>
              <a:off x="5829840" y="1842480"/>
              <a:ext cx="2672640" cy="906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едполагает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знаваемость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ми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Oval 5"/>
            <p:cNvSpPr/>
            <p:nvPr/>
          </p:nvSpPr>
          <p:spPr>
            <a:xfrm>
              <a:off x="3415680" y="2913840"/>
              <a:ext cx="3104280" cy="10695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НАУЧ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ПОЗН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"/>
            <p:cNvSpPr/>
            <p:nvPr/>
          </p:nvSpPr>
          <p:spPr>
            <a:xfrm>
              <a:off x="1079640" y="3986640"/>
              <a:ext cx="2594880" cy="148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Высшим авторитето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читается тольк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объективная исти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7"/>
            <p:cNvSpPr/>
            <p:nvPr/>
          </p:nvSpPr>
          <p:spPr>
            <a:xfrm>
              <a:off x="1618920" y="5634360"/>
              <a:ext cx="2915640" cy="156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именяютс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теоретические 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эксперименталь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мет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зн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8"/>
            <p:cNvSpPr/>
            <p:nvPr/>
          </p:nvSpPr>
          <p:spPr>
            <a:xfrm>
              <a:off x="6520320" y="3986640"/>
              <a:ext cx="3017160" cy="1319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именяют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математические мет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опис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Rectangle 9"/>
            <p:cNvSpPr/>
            <p:nvPr/>
          </p:nvSpPr>
          <p:spPr>
            <a:xfrm>
              <a:off x="5915520" y="5634360"/>
              <a:ext cx="2902680" cy="156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именяют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пециальные сред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знания (приборы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аппараты, инструмен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 т.д.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10"/>
            <p:cNvSpPr/>
            <p:nvPr/>
          </p:nvSpPr>
          <p:spPr>
            <a:xfrm flipV="1">
              <a:off x="5055480" y="1553760"/>
              <a:ext cx="1080" cy="140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11"/>
            <p:cNvSpPr/>
            <p:nvPr/>
          </p:nvSpPr>
          <p:spPr>
            <a:xfrm flipH="1" flipV="1">
              <a:off x="3028320" y="2624760"/>
              <a:ext cx="860040" cy="49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12"/>
            <p:cNvSpPr/>
            <p:nvPr/>
          </p:nvSpPr>
          <p:spPr>
            <a:xfrm flipV="1">
              <a:off x="6090120" y="2707560"/>
              <a:ext cx="775800" cy="41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13"/>
            <p:cNvSpPr/>
            <p:nvPr/>
          </p:nvSpPr>
          <p:spPr>
            <a:xfrm flipH="1">
              <a:off x="3806280" y="3986640"/>
              <a:ext cx="942480" cy="16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14"/>
            <p:cNvSpPr/>
            <p:nvPr/>
          </p:nvSpPr>
          <p:spPr>
            <a:xfrm>
              <a:off x="5313960" y="3986640"/>
              <a:ext cx="1118880" cy="16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15"/>
            <p:cNvSpPr/>
            <p:nvPr/>
          </p:nvSpPr>
          <p:spPr>
            <a:xfrm flipH="1">
              <a:off x="2424960" y="3574080"/>
              <a:ext cx="1031400" cy="41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16"/>
            <p:cNvSpPr/>
            <p:nvPr/>
          </p:nvSpPr>
          <p:spPr>
            <a:xfrm>
              <a:off x="6520320" y="3493080"/>
              <a:ext cx="77580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Rectangle 1"/>
          <p:cNvSpPr/>
          <p:nvPr/>
        </p:nvSpPr>
        <p:spPr>
          <a:xfrm>
            <a:off x="0" y="792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8" name="Group 2"/>
          <p:cNvGrpSpPr/>
          <p:nvPr/>
        </p:nvGrpSpPr>
        <p:grpSpPr>
          <a:xfrm>
            <a:off x="539640" y="179280"/>
            <a:ext cx="11698200" cy="7018200"/>
            <a:chOff x="539640" y="179280"/>
            <a:chExt cx="11698200" cy="7018200"/>
          </a:xfrm>
        </p:grpSpPr>
        <p:grpSp>
          <p:nvGrpSpPr>
            <p:cNvPr id="2419" name="Group 3"/>
            <p:cNvGrpSpPr/>
            <p:nvPr/>
          </p:nvGrpSpPr>
          <p:grpSpPr>
            <a:xfrm>
              <a:off x="539640" y="179280"/>
              <a:ext cx="9357120" cy="7017120"/>
              <a:chOff x="539640" y="179280"/>
              <a:chExt cx="9357120" cy="7017120"/>
            </a:xfrm>
          </p:grpSpPr>
          <p:grpSp>
            <p:nvGrpSpPr>
              <p:cNvPr id="2420" name="Group 4"/>
              <p:cNvGrpSpPr/>
              <p:nvPr/>
            </p:nvGrpSpPr>
            <p:grpSpPr>
              <a:xfrm>
                <a:off x="539640" y="179280"/>
                <a:ext cx="9357120" cy="7017120"/>
                <a:chOff x="539640" y="179280"/>
                <a:chExt cx="9357120" cy="7017120"/>
              </a:xfrm>
            </p:grpSpPr>
            <p:sp>
              <p:nvSpPr>
                <p:cNvPr id="2421" name="AutoShape 5"/>
                <p:cNvSpPr/>
                <p:nvPr/>
              </p:nvSpPr>
              <p:spPr>
                <a:xfrm>
                  <a:off x="539640" y="179280"/>
                  <a:ext cx="9357120" cy="701712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2" name="Text Box 6"/>
                <p:cNvSpPr/>
                <p:nvPr/>
              </p:nvSpPr>
              <p:spPr>
                <a:xfrm>
                  <a:off x="1265040" y="1055160"/>
                  <a:ext cx="7907760" cy="52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флекс</a:t>
                  </a:r>
                  <a:r>
                    <a:rPr b="0" i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3" name="Text Box 7"/>
              <p:cNvSpPr/>
              <p:nvPr/>
            </p:nvSpPr>
            <p:spPr>
              <a:xfrm>
                <a:off x="1439640" y="3677400"/>
                <a:ext cx="8174160" cy="21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4" name="Text Box 8"/>
            <p:cNvSpPr/>
            <p:nvPr/>
          </p:nvSpPr>
          <p:spPr>
            <a:xfrm>
              <a:off x="1455480" y="2075760"/>
              <a:ext cx="10782360" cy="51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5" name="Group 9"/>
            <p:cNvGrpSpPr/>
            <p:nvPr/>
          </p:nvGrpSpPr>
          <p:grpSpPr>
            <a:xfrm>
              <a:off x="718920" y="2645640"/>
              <a:ext cx="8816760" cy="3450600"/>
              <a:chOff x="718920" y="2645640"/>
              <a:chExt cx="8816760" cy="3450600"/>
            </a:xfrm>
          </p:grpSpPr>
          <p:sp>
            <p:nvSpPr>
              <p:cNvPr id="2426" name="AutoShape 10"/>
              <p:cNvSpPr/>
              <p:nvPr/>
            </p:nvSpPr>
            <p:spPr>
              <a:xfrm>
                <a:off x="718920" y="2645640"/>
                <a:ext cx="8815680" cy="34506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423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Text Box 11"/>
              <p:cNvSpPr/>
              <p:nvPr/>
            </p:nvSpPr>
            <p:spPr>
              <a:xfrm>
                <a:off x="1258200" y="3252960"/>
                <a:ext cx="8277480" cy="21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ные вопрос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к отвечают философы на вопрос о том, познаваем ли мир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</a:rPr>
                  <a:t>Что такое субъект и объект познания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</a:rPr>
                  <a:t>Что рассматривается философами в качестве критериев истины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</a:rPr>
                  <a:t>Каковы цели познания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428" name="Picture 1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Text Box 1"/>
          <p:cNvSpPr/>
          <p:nvPr/>
        </p:nvSpPr>
        <p:spPr>
          <a:xfrm>
            <a:off x="900000" y="3060720"/>
            <a:ext cx="84614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СОЦИАЛЬН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ФИЛОСОФ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0" name="Group 1"/>
          <p:cNvGrpSpPr/>
          <p:nvPr/>
        </p:nvGrpSpPr>
        <p:grpSpPr>
          <a:xfrm>
            <a:off x="1440000" y="360360"/>
            <a:ext cx="7738920" cy="6838560"/>
            <a:chOff x="1440000" y="360360"/>
            <a:chExt cx="7738920" cy="6838560"/>
          </a:xfrm>
        </p:grpSpPr>
        <p:sp>
          <p:nvSpPr>
            <p:cNvPr id="2431" name="Rectangle 2"/>
            <p:cNvSpPr/>
            <p:nvPr/>
          </p:nvSpPr>
          <p:spPr>
            <a:xfrm>
              <a:off x="1440000" y="360360"/>
              <a:ext cx="7738920" cy="7520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Социальная философия изучает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Rectangle 3"/>
            <p:cNvSpPr/>
            <p:nvPr/>
          </p:nvSpPr>
          <p:spPr>
            <a:xfrm>
              <a:off x="3007800" y="1861560"/>
              <a:ext cx="6066000" cy="75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ущность обще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Rectangle 4"/>
            <p:cNvSpPr/>
            <p:nvPr/>
          </p:nvSpPr>
          <p:spPr>
            <a:xfrm>
              <a:off x="3007800" y="2778840"/>
              <a:ext cx="6067800" cy="75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Происхождение обще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Rectangle 5"/>
            <p:cNvSpPr/>
            <p:nvPr/>
          </p:nvSpPr>
          <p:spPr>
            <a:xfrm>
              <a:off x="3007800" y="3696120"/>
              <a:ext cx="6067800" cy="75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труктуру обще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Rectangle 6"/>
            <p:cNvSpPr/>
            <p:nvPr/>
          </p:nvSpPr>
          <p:spPr>
            <a:xfrm>
              <a:off x="3007800" y="4613400"/>
              <a:ext cx="6066000" cy="75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Фундаментальные закономерност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бщественного развит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Rectangle 7"/>
            <p:cNvSpPr/>
            <p:nvPr/>
          </p:nvSpPr>
          <p:spPr>
            <a:xfrm>
              <a:off x="3007800" y="5531040"/>
              <a:ext cx="6067800" cy="75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Перспективы общественного развит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Rectangle 8"/>
            <p:cNvSpPr/>
            <p:nvPr/>
          </p:nvSpPr>
          <p:spPr>
            <a:xfrm>
              <a:off x="3007800" y="6448320"/>
              <a:ext cx="6067800" cy="75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Закономерности функционирования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бщественной систем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9"/>
            <p:cNvSpPr/>
            <p:nvPr/>
          </p:nvSpPr>
          <p:spPr>
            <a:xfrm>
              <a:off x="2066400" y="4946760"/>
              <a:ext cx="9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10"/>
            <p:cNvSpPr/>
            <p:nvPr/>
          </p:nvSpPr>
          <p:spPr>
            <a:xfrm>
              <a:off x="2066400" y="5862600"/>
              <a:ext cx="9410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11"/>
            <p:cNvSpPr/>
            <p:nvPr/>
          </p:nvSpPr>
          <p:spPr>
            <a:xfrm>
              <a:off x="2066400" y="4028040"/>
              <a:ext cx="9410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12"/>
            <p:cNvSpPr/>
            <p:nvPr/>
          </p:nvSpPr>
          <p:spPr>
            <a:xfrm>
              <a:off x="2066400" y="3110400"/>
              <a:ext cx="9410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13"/>
            <p:cNvSpPr/>
            <p:nvPr/>
          </p:nvSpPr>
          <p:spPr>
            <a:xfrm>
              <a:off x="2066400" y="2194920"/>
              <a:ext cx="9410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14"/>
            <p:cNvSpPr/>
            <p:nvPr/>
          </p:nvSpPr>
          <p:spPr>
            <a:xfrm>
              <a:off x="2066400" y="1526760"/>
              <a:ext cx="1440" cy="525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15"/>
            <p:cNvSpPr/>
            <p:nvPr/>
          </p:nvSpPr>
          <p:spPr>
            <a:xfrm>
              <a:off x="2066400" y="6781680"/>
              <a:ext cx="9410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16"/>
            <p:cNvSpPr/>
            <p:nvPr/>
          </p:nvSpPr>
          <p:spPr>
            <a:xfrm>
              <a:off x="2066400" y="1526760"/>
              <a:ext cx="313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17"/>
            <p:cNvSpPr/>
            <p:nvPr/>
          </p:nvSpPr>
          <p:spPr>
            <a:xfrm flipV="1">
              <a:off x="5204520" y="1069560"/>
              <a:ext cx="1440" cy="49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7" name="Group 1"/>
          <p:cNvGrpSpPr/>
          <p:nvPr/>
        </p:nvGrpSpPr>
        <p:grpSpPr>
          <a:xfrm>
            <a:off x="900000" y="360360"/>
            <a:ext cx="8457840" cy="6838560"/>
            <a:chOff x="900000" y="360360"/>
            <a:chExt cx="8457840" cy="6838560"/>
          </a:xfrm>
        </p:grpSpPr>
        <p:sp>
          <p:nvSpPr>
            <p:cNvPr id="2448" name="Rectangle 2"/>
            <p:cNvSpPr/>
            <p:nvPr/>
          </p:nvSpPr>
          <p:spPr>
            <a:xfrm>
              <a:off x="3094920" y="360360"/>
              <a:ext cx="4719960" cy="6854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Общество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Rectangle 3"/>
            <p:cNvSpPr/>
            <p:nvPr/>
          </p:nvSpPr>
          <p:spPr>
            <a:xfrm>
              <a:off x="1731600" y="1812240"/>
              <a:ext cx="3087000" cy="685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Определ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Rectangle 4"/>
            <p:cNvSpPr/>
            <p:nvPr/>
          </p:nvSpPr>
          <p:spPr>
            <a:xfrm>
              <a:off x="6091560" y="1812240"/>
              <a:ext cx="3086640" cy="685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Характеристи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>
              <a:off x="900000" y="2923560"/>
              <a:ext cx="3555000" cy="2691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Общество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– форма разумн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рганизованной,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культурной жизни и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деятельности людей,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бъединенных общим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потребностями, интересам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и целям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Rectangle 6"/>
            <p:cNvSpPr/>
            <p:nvPr/>
          </p:nvSpPr>
          <p:spPr>
            <a:xfrm>
              <a:off x="6091560" y="3265920"/>
              <a:ext cx="3266280" cy="512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Целостн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>
              <a:off x="6091560" y="3950280"/>
              <a:ext cx="3266280" cy="51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амоорганизуем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>
              <a:off x="6091560" y="4633920"/>
              <a:ext cx="3266280" cy="512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Динамич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>
              <a:off x="6091560" y="5318280"/>
              <a:ext cx="3266280" cy="51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пособность развиватьс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>
              <a:off x="6091560" y="6000480"/>
              <a:ext cx="3266280" cy="512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Закономерн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>
              <a:off x="6091560" y="6686280"/>
              <a:ext cx="3266280" cy="512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амоуправляем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Line 12"/>
            <p:cNvSpPr/>
            <p:nvPr/>
          </p:nvSpPr>
          <p:spPr>
            <a:xfrm>
              <a:off x="3276000" y="1469520"/>
              <a:ext cx="435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Line 13"/>
            <p:cNvSpPr/>
            <p:nvPr/>
          </p:nvSpPr>
          <p:spPr>
            <a:xfrm>
              <a:off x="5545800" y="1044360"/>
              <a:ext cx="1080" cy="4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Line 14"/>
            <p:cNvSpPr/>
            <p:nvPr/>
          </p:nvSpPr>
          <p:spPr>
            <a:xfrm>
              <a:off x="3276000" y="1469520"/>
              <a:ext cx="108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Line 15"/>
            <p:cNvSpPr/>
            <p:nvPr/>
          </p:nvSpPr>
          <p:spPr>
            <a:xfrm>
              <a:off x="7634520" y="1469520"/>
              <a:ext cx="108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Line 16"/>
            <p:cNvSpPr/>
            <p:nvPr/>
          </p:nvSpPr>
          <p:spPr>
            <a:xfrm>
              <a:off x="7634520" y="2498040"/>
              <a:ext cx="1080" cy="34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Line 17"/>
            <p:cNvSpPr/>
            <p:nvPr/>
          </p:nvSpPr>
          <p:spPr>
            <a:xfrm flipH="1">
              <a:off x="5230800" y="2839320"/>
              <a:ext cx="24440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Line 18"/>
            <p:cNvSpPr/>
            <p:nvPr/>
          </p:nvSpPr>
          <p:spPr>
            <a:xfrm>
              <a:off x="5272560" y="2839320"/>
              <a:ext cx="1440" cy="418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Line 19"/>
            <p:cNvSpPr/>
            <p:nvPr/>
          </p:nvSpPr>
          <p:spPr>
            <a:xfrm>
              <a:off x="5272560" y="7027560"/>
              <a:ext cx="819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Line 20"/>
            <p:cNvSpPr/>
            <p:nvPr/>
          </p:nvSpPr>
          <p:spPr>
            <a:xfrm>
              <a:off x="5272560" y="6259320"/>
              <a:ext cx="819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21"/>
            <p:cNvSpPr/>
            <p:nvPr/>
          </p:nvSpPr>
          <p:spPr>
            <a:xfrm>
              <a:off x="5272560" y="5488200"/>
              <a:ext cx="819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22"/>
            <p:cNvSpPr/>
            <p:nvPr/>
          </p:nvSpPr>
          <p:spPr>
            <a:xfrm>
              <a:off x="5272560" y="4891320"/>
              <a:ext cx="819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23"/>
            <p:cNvSpPr/>
            <p:nvPr/>
          </p:nvSpPr>
          <p:spPr>
            <a:xfrm>
              <a:off x="5272560" y="4207320"/>
              <a:ext cx="819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24"/>
            <p:cNvSpPr/>
            <p:nvPr/>
          </p:nvSpPr>
          <p:spPr>
            <a:xfrm>
              <a:off x="5272560" y="3523320"/>
              <a:ext cx="819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Rectangle 1"/>
          <p:cNvSpPr/>
          <p:nvPr/>
        </p:nvSpPr>
        <p:spPr>
          <a:xfrm>
            <a:off x="720720" y="227160"/>
            <a:ext cx="3240000" cy="284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Духовные 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ели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Философ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Мор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скус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деоло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Rectangle 2"/>
          <p:cNvSpPr/>
          <p:nvPr/>
        </p:nvSpPr>
        <p:spPr>
          <a:xfrm>
            <a:off x="720720" y="4834080"/>
            <a:ext cx="3060720" cy="246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Народ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Н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Мужчины-женщ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арт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озрастные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Группы по интерес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3" name="Group 3"/>
          <p:cNvGrpSpPr/>
          <p:nvPr/>
        </p:nvGrpSpPr>
        <p:grpSpPr>
          <a:xfrm>
            <a:off x="720720" y="179280"/>
            <a:ext cx="8816760" cy="7198920"/>
            <a:chOff x="720720" y="179280"/>
            <a:chExt cx="8816760" cy="7198920"/>
          </a:xfrm>
        </p:grpSpPr>
        <p:sp>
          <p:nvSpPr>
            <p:cNvPr id="2474" name="Rectangle 4"/>
            <p:cNvSpPr/>
            <p:nvPr/>
          </p:nvSpPr>
          <p:spPr>
            <a:xfrm>
              <a:off x="6337800" y="179280"/>
              <a:ext cx="3199680" cy="283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едприятия (заводы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фабрики, фирмы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артели, банки и т.д.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оизводствен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отнош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Rectangle 5"/>
            <p:cNvSpPr/>
            <p:nvPr/>
          </p:nvSpPr>
          <p:spPr>
            <a:xfrm>
              <a:off x="720720" y="3167640"/>
              <a:ext cx="3307680" cy="45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Духов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Rectangle 6"/>
            <p:cNvSpPr/>
            <p:nvPr/>
          </p:nvSpPr>
          <p:spPr>
            <a:xfrm>
              <a:off x="6337800" y="3167640"/>
              <a:ext cx="3199680" cy="45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Материа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Rectangle 7"/>
            <p:cNvSpPr/>
            <p:nvPr/>
          </p:nvSpPr>
          <p:spPr>
            <a:xfrm>
              <a:off x="720720" y="4308840"/>
              <a:ext cx="3040920" cy="45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оциа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Rectangle 8"/>
            <p:cNvSpPr/>
            <p:nvPr/>
          </p:nvSpPr>
          <p:spPr>
            <a:xfrm>
              <a:off x="6337800" y="4308840"/>
              <a:ext cx="3199680" cy="45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лит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Rectangle 9"/>
            <p:cNvSpPr/>
            <p:nvPr/>
          </p:nvSpPr>
          <p:spPr>
            <a:xfrm>
              <a:off x="6337800" y="4915080"/>
              <a:ext cx="3110760" cy="2463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Государ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литические парт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Общественн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литические союз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офсоюз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Международ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литические организ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 объедин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10"/>
            <p:cNvSpPr/>
            <p:nvPr/>
          </p:nvSpPr>
          <p:spPr>
            <a:xfrm>
              <a:off x="2606400" y="3015360"/>
              <a:ext cx="10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11"/>
            <p:cNvSpPr/>
            <p:nvPr/>
          </p:nvSpPr>
          <p:spPr>
            <a:xfrm>
              <a:off x="7580520" y="3015360"/>
              <a:ext cx="10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12"/>
            <p:cNvSpPr/>
            <p:nvPr/>
          </p:nvSpPr>
          <p:spPr>
            <a:xfrm>
              <a:off x="2514240" y="4764240"/>
              <a:ext cx="108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13"/>
            <p:cNvSpPr/>
            <p:nvPr/>
          </p:nvSpPr>
          <p:spPr>
            <a:xfrm>
              <a:off x="7580520" y="4764240"/>
              <a:ext cx="108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Rectangle 14"/>
            <p:cNvSpPr/>
            <p:nvPr/>
          </p:nvSpPr>
          <p:spPr>
            <a:xfrm>
              <a:off x="3060000" y="3418560"/>
              <a:ext cx="3961800" cy="1080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Сферы жизни обществ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Rectangle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6" name="Group 2"/>
          <p:cNvGrpSpPr/>
          <p:nvPr/>
        </p:nvGrpSpPr>
        <p:grpSpPr>
          <a:xfrm>
            <a:off x="392040" y="179280"/>
            <a:ext cx="9145440" cy="7199280"/>
            <a:chOff x="392040" y="179280"/>
            <a:chExt cx="9145440" cy="7199280"/>
          </a:xfrm>
        </p:grpSpPr>
        <p:sp>
          <p:nvSpPr>
            <p:cNvPr id="2487" name="Line 3"/>
            <p:cNvSpPr/>
            <p:nvPr/>
          </p:nvSpPr>
          <p:spPr>
            <a:xfrm>
              <a:off x="4967280" y="179280"/>
              <a:ext cx="1440" cy="71992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8" name="Group 4"/>
            <p:cNvGrpSpPr/>
            <p:nvPr/>
          </p:nvGrpSpPr>
          <p:grpSpPr>
            <a:xfrm>
              <a:off x="392040" y="179280"/>
              <a:ext cx="9145440" cy="7198920"/>
              <a:chOff x="392040" y="179280"/>
              <a:chExt cx="9145440" cy="7198920"/>
            </a:xfrm>
          </p:grpSpPr>
          <p:sp>
            <p:nvSpPr>
              <p:cNvPr id="2489" name="Rectangle 5"/>
              <p:cNvSpPr/>
              <p:nvPr/>
            </p:nvSpPr>
            <p:spPr>
              <a:xfrm>
                <a:off x="466200" y="179280"/>
                <a:ext cx="9071280" cy="1080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Человек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– особое существо, явление природы, обладающе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способностью к глубокому абстрактному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мышлению, усвоению достижений культуры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Rectangle 6"/>
              <p:cNvSpPr/>
              <p:nvPr/>
            </p:nvSpPr>
            <p:spPr>
              <a:xfrm>
                <a:off x="466200" y="1449000"/>
                <a:ext cx="9071280" cy="19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Личность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– это врожденные качества человека, развитые и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приобретенные в социальной среде, совокупность знаний, ценностей,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целей. Таким образом, человек – это социально-биологическо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существо, причем в условиях современной цивилизации в силу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воспитания, законов, моральных норм социальное начало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контролирует биологическое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Rectangle 7"/>
              <p:cNvSpPr/>
              <p:nvPr/>
            </p:nvSpPr>
            <p:spPr>
              <a:xfrm>
                <a:off x="466200" y="3599280"/>
                <a:ext cx="9000000" cy="67752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GB" sz="2600" spc="-1" strike="noStrike">
                    <a:solidFill>
                      <a:srgbClr val="000000"/>
                    </a:solidFill>
                    <a:latin typeface="Times New Roman"/>
                  </a:rPr>
                  <a:t>Общественная природа человека, факторы его развит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Rectangle 8"/>
              <p:cNvSpPr/>
              <p:nvPr/>
            </p:nvSpPr>
            <p:spPr>
              <a:xfrm>
                <a:off x="392040" y="4499280"/>
                <a:ext cx="9072720" cy="89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Жизнь, развитие, воспитание в обществе – ключевое условие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нормального развития человека, развития в нем всевозможных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качеств, превращения в личность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Rectangle 9"/>
              <p:cNvSpPr/>
              <p:nvPr/>
            </p:nvSpPr>
            <p:spPr>
              <a:xfrm>
                <a:off x="392040" y="5399280"/>
                <a:ext cx="9072720" cy="1978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Большое значение для превращения биологического индивида 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социально-биологическую личность имеют практика, труд. Только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занимаясь каким-либо определенным делом, причем таким, которо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отвечает склонностям и интересам самого человека и полезно для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общества, человек может оценить свою социальную значимость,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раскрыть все грани своей личности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1"/>
          <p:cNvGrpSpPr/>
          <p:nvPr/>
        </p:nvGrpSpPr>
        <p:grpSpPr>
          <a:xfrm>
            <a:off x="900000" y="471600"/>
            <a:ext cx="8818560" cy="6819480"/>
            <a:chOff x="900000" y="471600"/>
            <a:chExt cx="8818560" cy="6819480"/>
          </a:xfrm>
        </p:grpSpPr>
        <p:grpSp>
          <p:nvGrpSpPr>
            <p:cNvPr id="2495" name="Group 2"/>
            <p:cNvGrpSpPr/>
            <p:nvPr/>
          </p:nvGrpSpPr>
          <p:grpSpPr>
            <a:xfrm>
              <a:off x="900000" y="471600"/>
              <a:ext cx="8818560" cy="6819480"/>
              <a:chOff x="900000" y="471600"/>
              <a:chExt cx="8818560" cy="6819480"/>
            </a:xfrm>
          </p:grpSpPr>
          <p:sp>
            <p:nvSpPr>
              <p:cNvPr id="2496" name="Line 3"/>
              <p:cNvSpPr/>
              <p:nvPr/>
            </p:nvSpPr>
            <p:spPr>
              <a:xfrm>
                <a:off x="3388680" y="5708880"/>
                <a:ext cx="1080" cy="70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Rectangle 4"/>
              <p:cNvSpPr/>
              <p:nvPr/>
            </p:nvSpPr>
            <p:spPr>
              <a:xfrm>
                <a:off x="1439640" y="2637720"/>
                <a:ext cx="3000960" cy="788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Определенные цел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Rectangle 5"/>
              <p:cNvSpPr/>
              <p:nvPr/>
            </p:nvSpPr>
            <p:spPr>
              <a:xfrm>
                <a:off x="1439640" y="3777480"/>
                <a:ext cx="3000960" cy="79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Целеполагание</a:t>
                </a: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Rectangle 6"/>
              <p:cNvSpPr/>
              <p:nvPr/>
            </p:nvSpPr>
            <p:spPr>
              <a:xfrm>
                <a:off x="1439640" y="4918680"/>
                <a:ext cx="3089880" cy="79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Достижение цел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Rectangle 7"/>
              <p:cNvSpPr/>
              <p:nvPr/>
            </p:nvSpPr>
            <p:spPr>
              <a:xfrm>
                <a:off x="5494680" y="2637720"/>
                <a:ext cx="2807640" cy="964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материальных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благ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Rectangle 8"/>
              <p:cNvSpPr/>
              <p:nvPr/>
            </p:nvSpPr>
            <p:spPr>
              <a:xfrm>
                <a:off x="1260000" y="6299280"/>
                <a:ext cx="3180600" cy="991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Отражение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действительност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Rectangle 9"/>
              <p:cNvSpPr/>
              <p:nvPr/>
            </p:nvSpPr>
            <p:spPr>
              <a:xfrm>
                <a:off x="5494680" y="4129560"/>
                <a:ext cx="2984040" cy="79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Объективные условия: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естественные законы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Rectangle 10"/>
              <p:cNvSpPr/>
              <p:nvPr/>
            </p:nvSpPr>
            <p:spPr>
              <a:xfrm>
                <a:off x="5494680" y="5271120"/>
                <a:ext cx="2984040" cy="79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Субъективные условия: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Воля, эмоци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11"/>
              <p:cNvSpPr/>
              <p:nvPr/>
            </p:nvSpPr>
            <p:spPr>
              <a:xfrm flipH="1">
                <a:off x="3697920" y="2111040"/>
                <a:ext cx="1048680" cy="52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12"/>
              <p:cNvSpPr/>
              <p:nvPr/>
            </p:nvSpPr>
            <p:spPr>
              <a:xfrm>
                <a:off x="5582160" y="2111040"/>
                <a:ext cx="703080" cy="52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13"/>
              <p:cNvSpPr/>
              <p:nvPr/>
            </p:nvSpPr>
            <p:spPr>
              <a:xfrm>
                <a:off x="3301200" y="3426840"/>
                <a:ext cx="1440" cy="35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Rectangle 14"/>
              <p:cNvSpPr/>
              <p:nvPr/>
            </p:nvSpPr>
            <p:spPr>
              <a:xfrm>
                <a:off x="5671080" y="6410520"/>
                <a:ext cx="2369520" cy="875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Практика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15"/>
              <p:cNvSpPr/>
              <p:nvPr/>
            </p:nvSpPr>
            <p:spPr>
              <a:xfrm>
                <a:off x="3388680" y="4569480"/>
                <a:ext cx="1080" cy="35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16"/>
              <p:cNvSpPr/>
              <p:nvPr/>
            </p:nvSpPr>
            <p:spPr>
              <a:xfrm flipH="1">
                <a:off x="4399920" y="6850080"/>
                <a:ext cx="13125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Line 17"/>
              <p:cNvSpPr/>
              <p:nvPr/>
            </p:nvSpPr>
            <p:spPr>
              <a:xfrm flipV="1">
                <a:off x="4529520" y="4528080"/>
                <a:ext cx="964800" cy="69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18"/>
              <p:cNvSpPr/>
              <p:nvPr/>
            </p:nvSpPr>
            <p:spPr>
              <a:xfrm>
                <a:off x="4529520" y="5358240"/>
                <a:ext cx="964800" cy="52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19"/>
              <p:cNvSpPr/>
              <p:nvPr/>
            </p:nvSpPr>
            <p:spPr>
              <a:xfrm>
                <a:off x="8304120" y="3077280"/>
                <a:ext cx="105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20"/>
              <p:cNvSpPr/>
              <p:nvPr/>
            </p:nvSpPr>
            <p:spPr>
              <a:xfrm>
                <a:off x="9358200" y="3077280"/>
                <a:ext cx="1080" cy="385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Line 21"/>
              <p:cNvSpPr/>
              <p:nvPr/>
            </p:nvSpPr>
            <p:spPr>
              <a:xfrm flipH="1">
                <a:off x="7999200" y="6937560"/>
                <a:ext cx="13996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Rectangle 22"/>
              <p:cNvSpPr/>
              <p:nvPr/>
            </p:nvSpPr>
            <p:spPr>
              <a:xfrm>
                <a:off x="900000" y="471600"/>
                <a:ext cx="8818560" cy="7884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</a:rPr>
                  <a:t>Природа человека в историко-философском контексте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Rectangle 23"/>
              <p:cNvSpPr/>
              <p:nvPr/>
            </p:nvSpPr>
            <p:spPr>
              <a:xfrm>
                <a:off x="3556800" y="1439640"/>
                <a:ext cx="3001320" cy="78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7" name="Line 24"/>
            <p:cNvSpPr/>
            <p:nvPr/>
          </p:nvSpPr>
          <p:spPr>
            <a:xfrm>
              <a:off x="5040360" y="1260360"/>
              <a:ext cx="1440" cy="1796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18" name="Picture 2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8080" y="6840360"/>
            <a:ext cx="51264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Text Box 1"/>
          <p:cNvSpPr/>
          <p:nvPr/>
        </p:nvSpPr>
        <p:spPr>
          <a:xfrm>
            <a:off x="900000" y="2700360"/>
            <a:ext cx="8461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УЧЕНИЕ О РАЗВИТ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1"/>
          <p:cNvGrpSpPr/>
          <p:nvPr/>
        </p:nvGrpSpPr>
        <p:grpSpPr>
          <a:xfrm>
            <a:off x="539640" y="360360"/>
            <a:ext cx="9178560" cy="6787800"/>
            <a:chOff x="539640" y="360360"/>
            <a:chExt cx="9178560" cy="6787800"/>
          </a:xfrm>
        </p:grpSpPr>
        <p:grpSp>
          <p:nvGrpSpPr>
            <p:cNvPr id="663" name="Group 2"/>
            <p:cNvGrpSpPr/>
            <p:nvPr/>
          </p:nvGrpSpPr>
          <p:grpSpPr>
            <a:xfrm>
              <a:off x="3571200" y="4118400"/>
              <a:ext cx="5588280" cy="1195200"/>
              <a:chOff x="3571200" y="4118400"/>
              <a:chExt cx="5588280" cy="1195200"/>
            </a:xfrm>
          </p:grpSpPr>
          <p:sp>
            <p:nvSpPr>
              <p:cNvPr id="664" name="Oval 3"/>
              <p:cNvSpPr/>
              <p:nvPr/>
            </p:nvSpPr>
            <p:spPr>
              <a:xfrm>
                <a:off x="3571200" y="4118400"/>
                <a:ext cx="5588280" cy="119520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Text Box 4"/>
              <p:cNvSpPr/>
              <p:nvPr/>
            </p:nvSpPr>
            <p:spPr>
              <a:xfrm>
                <a:off x="4399200" y="4294440"/>
                <a:ext cx="3931560" cy="84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6" name="Text Box 5"/>
            <p:cNvSpPr/>
            <p:nvPr/>
          </p:nvSpPr>
          <p:spPr>
            <a:xfrm>
              <a:off x="539640" y="360360"/>
              <a:ext cx="4150440" cy="1120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ветить на наиболее фундаментальные вопросы о мире и человек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6924960" y="2586960"/>
              <a:ext cx="2793240" cy="110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мочь осмыслить свое место в мире и смысл жизн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Text Box 7"/>
            <p:cNvSpPr/>
            <p:nvPr/>
          </p:nvSpPr>
          <p:spPr>
            <a:xfrm>
              <a:off x="539640" y="1726920"/>
              <a:ext cx="3312360" cy="1783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учить принципам «мудрой жизни» (т. е. жизни без иллюзий, без страданий, без заблуждений и т. д.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8"/>
            <p:cNvSpPr/>
            <p:nvPr/>
          </p:nvSpPr>
          <p:spPr>
            <a:xfrm>
              <a:off x="5194800" y="372600"/>
              <a:ext cx="4323240" cy="18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крепить внутренний духовный «стержень» и развить способность стойко преодолевать жизненные трудности (никогда не сдаваться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Text Box 9"/>
            <p:cNvSpPr/>
            <p:nvPr/>
          </p:nvSpPr>
          <p:spPr>
            <a:xfrm>
              <a:off x="3733200" y="5722920"/>
              <a:ext cx="5816520" cy="1425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чить синтетическому (философскому) стилю мышления, т.е. способности глубоко и всесторонне видеть любую проблему и плодотворно решать е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Text Box 10"/>
            <p:cNvSpPr/>
            <p:nvPr/>
          </p:nvSpPr>
          <p:spPr>
            <a:xfrm>
              <a:off x="539640" y="5656320"/>
              <a:ext cx="2521800" cy="1174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чить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нанию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дущег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11"/>
            <p:cNvSpPr/>
            <p:nvPr/>
          </p:nvSpPr>
          <p:spPr>
            <a:xfrm flipH="1" flipV="1">
              <a:off x="6274080" y="2167920"/>
              <a:ext cx="300960" cy="194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 flipH="1" flipV="1">
              <a:off x="4079160" y="1504440"/>
              <a:ext cx="1498320" cy="266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13"/>
            <p:cNvSpPr/>
            <p:nvPr/>
          </p:nvSpPr>
          <p:spPr>
            <a:xfrm flipH="1" flipV="1">
              <a:off x="3242520" y="4067640"/>
              <a:ext cx="121896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14"/>
            <p:cNvSpPr/>
            <p:nvPr/>
          </p:nvSpPr>
          <p:spPr>
            <a:xfrm flipV="1">
              <a:off x="7202520" y="3726360"/>
              <a:ext cx="838080" cy="44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15"/>
            <p:cNvSpPr/>
            <p:nvPr/>
          </p:nvSpPr>
          <p:spPr>
            <a:xfrm flipH="1">
              <a:off x="2963160" y="5144040"/>
              <a:ext cx="1498320" cy="51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16"/>
            <p:cNvSpPr/>
            <p:nvPr/>
          </p:nvSpPr>
          <p:spPr>
            <a:xfrm>
              <a:off x="7202520" y="5315400"/>
              <a:ext cx="558720" cy="34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Text Box 17"/>
            <p:cNvSpPr/>
            <p:nvPr/>
          </p:nvSpPr>
          <p:spPr>
            <a:xfrm>
              <a:off x="539640" y="3777120"/>
              <a:ext cx="2753640" cy="1395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чить совершенствованию и раскрытию своих внутренних сил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Line 18"/>
            <p:cNvSpPr/>
            <p:nvPr/>
          </p:nvSpPr>
          <p:spPr>
            <a:xfrm flipH="1" flipV="1">
              <a:off x="3801240" y="2835720"/>
              <a:ext cx="1218960" cy="13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0" name="Group 1"/>
          <p:cNvGrpSpPr/>
          <p:nvPr/>
        </p:nvGrpSpPr>
        <p:grpSpPr>
          <a:xfrm>
            <a:off x="900000" y="360360"/>
            <a:ext cx="8857800" cy="6838560"/>
            <a:chOff x="900000" y="360360"/>
            <a:chExt cx="8857800" cy="6838560"/>
          </a:xfrm>
        </p:grpSpPr>
        <p:sp>
          <p:nvSpPr>
            <p:cNvPr id="2521" name="Rectangle 2"/>
            <p:cNvSpPr/>
            <p:nvPr/>
          </p:nvSpPr>
          <p:spPr>
            <a:xfrm>
              <a:off x="3553200" y="360360"/>
              <a:ext cx="3853080" cy="8744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Rectangle 3"/>
            <p:cNvSpPr/>
            <p:nvPr/>
          </p:nvSpPr>
          <p:spPr>
            <a:xfrm>
              <a:off x="983880" y="1791720"/>
              <a:ext cx="1712160" cy="103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оединен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элементов 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истем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Rectangle 4"/>
            <p:cNvSpPr/>
            <p:nvPr/>
          </p:nvSpPr>
          <p:spPr>
            <a:xfrm>
              <a:off x="4151880" y="1791720"/>
              <a:ext cx="1969200" cy="1032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танов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возникновени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4" name="Rectangle 5"/>
            <p:cNvSpPr/>
            <p:nvPr/>
          </p:nvSpPr>
          <p:spPr>
            <a:xfrm>
              <a:off x="7147800" y="1791720"/>
              <a:ext cx="1796400" cy="1032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Критер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огресс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5" name="Rectangle 6"/>
            <p:cNvSpPr/>
            <p:nvPr/>
          </p:nvSpPr>
          <p:spPr>
            <a:xfrm>
              <a:off x="900000" y="3221640"/>
              <a:ext cx="1755000" cy="127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Возрастан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возможност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6" name="Rectangle 7"/>
            <p:cNvSpPr/>
            <p:nvPr/>
          </p:nvSpPr>
          <p:spPr>
            <a:xfrm>
              <a:off x="900000" y="4810320"/>
              <a:ext cx="1712160" cy="103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окращен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Возможност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7" name="Rectangle 8"/>
            <p:cNvSpPr/>
            <p:nvPr/>
          </p:nvSpPr>
          <p:spPr>
            <a:xfrm>
              <a:off x="900000" y="6243480"/>
              <a:ext cx="1712160" cy="95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Распад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истемы 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элемен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8" name="Rectangle 9"/>
            <p:cNvSpPr/>
            <p:nvPr/>
          </p:nvSpPr>
          <p:spPr>
            <a:xfrm>
              <a:off x="4151880" y="3221640"/>
              <a:ext cx="1967760" cy="1112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Восходящ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ветв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(доминиров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прогресса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9" name="Rectangle 10"/>
            <p:cNvSpPr/>
            <p:nvPr/>
          </p:nvSpPr>
          <p:spPr>
            <a:xfrm>
              <a:off x="4151880" y="4653000"/>
              <a:ext cx="1883520" cy="135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исходяща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ветв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доминиров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регресса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0" name="Rectangle 11"/>
            <p:cNvSpPr/>
            <p:nvPr/>
          </p:nvSpPr>
          <p:spPr>
            <a:xfrm>
              <a:off x="4151880" y="6402240"/>
              <a:ext cx="1882080" cy="79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счезновение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1" name="Rectangle 12"/>
            <p:cNvSpPr/>
            <p:nvPr/>
          </p:nvSpPr>
          <p:spPr>
            <a:xfrm>
              <a:off x="7147800" y="3221640"/>
              <a:ext cx="1796400" cy="87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истем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2" name="Rectangle 13"/>
            <p:cNvSpPr/>
            <p:nvPr/>
          </p:nvSpPr>
          <p:spPr>
            <a:xfrm>
              <a:off x="7017840" y="4415400"/>
              <a:ext cx="1926360" cy="87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Энергетиче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3" name="Rectangle 14"/>
            <p:cNvSpPr/>
            <p:nvPr/>
          </p:nvSpPr>
          <p:spPr>
            <a:xfrm>
              <a:off x="7017840" y="5685120"/>
              <a:ext cx="2013840" cy="87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нформацион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4" name="Line 15"/>
            <p:cNvSpPr/>
            <p:nvPr/>
          </p:nvSpPr>
          <p:spPr>
            <a:xfrm>
              <a:off x="5349600" y="1234800"/>
              <a:ext cx="1440" cy="55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5" name="Line 16"/>
            <p:cNvSpPr/>
            <p:nvPr/>
          </p:nvSpPr>
          <p:spPr>
            <a:xfrm flipH="1">
              <a:off x="1800000" y="1234800"/>
              <a:ext cx="3333600" cy="55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6" name="Line 17"/>
            <p:cNvSpPr/>
            <p:nvPr/>
          </p:nvSpPr>
          <p:spPr>
            <a:xfrm>
              <a:off x="5607000" y="1234800"/>
              <a:ext cx="2483280" cy="55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7" name="Line 18"/>
            <p:cNvSpPr/>
            <p:nvPr/>
          </p:nvSpPr>
          <p:spPr>
            <a:xfrm>
              <a:off x="5180040" y="2823480"/>
              <a:ext cx="1440" cy="39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8" name="Line 19"/>
            <p:cNvSpPr/>
            <p:nvPr/>
          </p:nvSpPr>
          <p:spPr>
            <a:xfrm>
              <a:off x="5180040" y="4334400"/>
              <a:ext cx="1440" cy="31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9" name="Line 20"/>
            <p:cNvSpPr/>
            <p:nvPr/>
          </p:nvSpPr>
          <p:spPr>
            <a:xfrm>
              <a:off x="5180040" y="6003720"/>
              <a:ext cx="1440" cy="39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0" name="Line 21"/>
            <p:cNvSpPr/>
            <p:nvPr/>
          </p:nvSpPr>
          <p:spPr>
            <a:xfrm flipH="1">
              <a:off x="2568960" y="6719760"/>
              <a:ext cx="1623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1" name="Line 22"/>
            <p:cNvSpPr/>
            <p:nvPr/>
          </p:nvSpPr>
          <p:spPr>
            <a:xfrm flipH="1">
              <a:off x="2568960" y="5208840"/>
              <a:ext cx="1623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2" name="Line 23"/>
            <p:cNvSpPr/>
            <p:nvPr/>
          </p:nvSpPr>
          <p:spPr>
            <a:xfrm>
              <a:off x="8944200" y="2347200"/>
              <a:ext cx="77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3" name="Line 24"/>
            <p:cNvSpPr/>
            <p:nvPr/>
          </p:nvSpPr>
          <p:spPr>
            <a:xfrm>
              <a:off x="9717480" y="2347200"/>
              <a:ext cx="1080" cy="38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4" name="Line 25"/>
            <p:cNvSpPr/>
            <p:nvPr/>
          </p:nvSpPr>
          <p:spPr>
            <a:xfrm flipH="1">
              <a:off x="8989920" y="6162480"/>
              <a:ext cx="767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5" name="Line 26"/>
            <p:cNvSpPr/>
            <p:nvPr/>
          </p:nvSpPr>
          <p:spPr>
            <a:xfrm flipH="1">
              <a:off x="8902800" y="4810320"/>
              <a:ext cx="855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6" name="Line 27"/>
            <p:cNvSpPr/>
            <p:nvPr/>
          </p:nvSpPr>
          <p:spPr>
            <a:xfrm flipH="1">
              <a:off x="8902800" y="3697920"/>
              <a:ext cx="855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7" name="Line 28"/>
            <p:cNvSpPr/>
            <p:nvPr/>
          </p:nvSpPr>
          <p:spPr>
            <a:xfrm flipH="1">
              <a:off x="2612160" y="2258280"/>
              <a:ext cx="1580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8" name="Line 29"/>
            <p:cNvSpPr/>
            <p:nvPr/>
          </p:nvSpPr>
          <p:spPr>
            <a:xfrm flipH="1">
              <a:off x="2612160" y="3848760"/>
              <a:ext cx="1580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49" name="Picture 3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Text Box 1"/>
          <p:cNvSpPr/>
          <p:nvPr/>
        </p:nvSpPr>
        <p:spPr>
          <a:xfrm>
            <a:off x="900000" y="2340000"/>
            <a:ext cx="84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РАЗЛИЧНОЕ ПОНИМАНИЕ СУТИ ИСТОРИЧЕСКОГО ПРОЦЕС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1" name="Group 1"/>
          <p:cNvGrpSpPr/>
          <p:nvPr/>
        </p:nvGrpSpPr>
        <p:grpSpPr>
          <a:xfrm>
            <a:off x="879480" y="179280"/>
            <a:ext cx="9178560" cy="7018200"/>
            <a:chOff x="879480" y="179280"/>
            <a:chExt cx="9178560" cy="7018200"/>
          </a:xfrm>
        </p:grpSpPr>
        <p:sp>
          <p:nvSpPr>
            <p:cNvPr id="2552" name="AutoShape 2"/>
            <p:cNvSpPr/>
            <p:nvPr/>
          </p:nvSpPr>
          <p:spPr>
            <a:xfrm>
              <a:off x="6279120" y="3199680"/>
              <a:ext cx="3778920" cy="399780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Происхождение триад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Аграрная цивилизация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Индустриальная цивилизация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Цивилизация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третьей волны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О. Тоффлер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3" name="Group 3"/>
            <p:cNvGrpSpPr/>
            <p:nvPr/>
          </p:nvGrpSpPr>
          <p:grpSpPr>
            <a:xfrm>
              <a:off x="879480" y="179280"/>
              <a:ext cx="8277120" cy="7016760"/>
              <a:chOff x="879480" y="179280"/>
              <a:chExt cx="8277120" cy="7016760"/>
            </a:xfrm>
          </p:grpSpPr>
          <p:sp>
            <p:nvSpPr>
              <p:cNvPr id="2554" name="Rectangle 4"/>
              <p:cNvSpPr/>
              <p:nvPr/>
            </p:nvSpPr>
            <p:spPr>
              <a:xfrm>
                <a:off x="2594880" y="179280"/>
                <a:ext cx="4476600" cy="89172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ИСТОРИЧЕСКИ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ПРОГРЕСС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Rectangle 5"/>
              <p:cNvSpPr/>
              <p:nvPr/>
            </p:nvSpPr>
            <p:spPr>
              <a:xfrm>
                <a:off x="879480" y="1480320"/>
                <a:ext cx="2365920" cy="1378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Единой лини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развития нет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(Н.Я. Данилевский,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О. Шпенглер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Rectangle 6"/>
              <p:cNvSpPr/>
              <p:nvPr/>
            </p:nvSpPr>
            <p:spPr>
              <a:xfrm>
                <a:off x="5378400" y="1394640"/>
                <a:ext cx="3778200" cy="1375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Единая линия развития для всех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Обществ (К. Маркс, О. Тоффлер,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Р. Арон, Д. Белл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AutoShape 7"/>
              <p:cNvSpPr/>
              <p:nvPr/>
            </p:nvSpPr>
            <p:spPr>
              <a:xfrm>
                <a:off x="1388520" y="3113280"/>
                <a:ext cx="1833480" cy="408276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 vert="eaVert">
                <a:spAutoFit/>
              </a:bodyPr>
              <a:p>
                <a:pPr rtl="1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Смена общественно-исторических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rtl="1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(экономических) формаций (К. Маркс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AutoShape 8"/>
              <p:cNvSpPr/>
              <p:nvPr/>
            </p:nvSpPr>
            <p:spPr>
              <a:xfrm>
                <a:off x="3758040" y="3098880"/>
                <a:ext cx="2699280" cy="409716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 rtl="1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Происхождение триады: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Доиндустриально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традиционное») общество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ндустриальное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стиндустриально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Д. Белл, Р. Арон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Line 9"/>
              <p:cNvSpPr/>
              <p:nvPr/>
            </p:nvSpPr>
            <p:spPr>
              <a:xfrm flipH="1">
                <a:off x="2385000" y="1072440"/>
                <a:ext cx="1855080" cy="40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10"/>
              <p:cNvSpPr/>
              <p:nvPr/>
            </p:nvSpPr>
            <p:spPr>
              <a:xfrm>
                <a:off x="5466960" y="1072440"/>
                <a:ext cx="1602720" cy="3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Line 11"/>
              <p:cNvSpPr/>
              <p:nvPr/>
            </p:nvSpPr>
            <p:spPr>
              <a:xfrm>
                <a:off x="7916040" y="2773800"/>
                <a:ext cx="1080" cy="32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Line 12"/>
              <p:cNvSpPr/>
              <p:nvPr/>
            </p:nvSpPr>
            <p:spPr>
              <a:xfrm flipH="1">
                <a:off x="2807640" y="2773800"/>
                <a:ext cx="3208320" cy="32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13"/>
              <p:cNvSpPr/>
              <p:nvPr/>
            </p:nvSpPr>
            <p:spPr>
              <a:xfrm flipH="1">
                <a:off x="5763600" y="2773800"/>
                <a:ext cx="1180440" cy="32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1"/>
          <p:cNvSpPr/>
          <p:nvPr/>
        </p:nvSpPr>
        <p:spPr>
          <a:xfrm>
            <a:off x="0" y="792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5" name="Group 2"/>
          <p:cNvGrpSpPr/>
          <p:nvPr/>
        </p:nvGrpSpPr>
        <p:grpSpPr>
          <a:xfrm>
            <a:off x="539640" y="179280"/>
            <a:ext cx="9178560" cy="7198920"/>
            <a:chOff x="539640" y="179280"/>
            <a:chExt cx="9178560" cy="7198920"/>
          </a:xfrm>
        </p:grpSpPr>
        <p:sp>
          <p:nvSpPr>
            <p:cNvPr id="2566" name="Rectangle 3"/>
            <p:cNvSpPr/>
            <p:nvPr/>
          </p:nvSpPr>
          <p:spPr>
            <a:xfrm>
              <a:off x="2923560" y="179280"/>
              <a:ext cx="5819760" cy="5616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Культурологический подход О. Шпенглер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7" name="Rectangle 4"/>
            <p:cNvSpPr/>
            <p:nvPr/>
          </p:nvSpPr>
          <p:spPr>
            <a:xfrm>
              <a:off x="2147400" y="982440"/>
              <a:ext cx="2718720" cy="482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Особенности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8" name="Rectangle 5"/>
            <p:cNvSpPr/>
            <p:nvPr/>
          </p:nvSpPr>
          <p:spPr>
            <a:xfrm>
              <a:off x="539640" y="1785240"/>
              <a:ext cx="6299280" cy="1347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Центральное понятие данного подхода 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культура – совокупность религии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традиций, материальной и духовно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жизн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9" name="Rectangle 6"/>
            <p:cNvSpPr/>
            <p:nvPr/>
          </p:nvSpPr>
          <p:spPr>
            <a:xfrm>
              <a:off x="539640" y="3130920"/>
              <a:ext cx="6299280" cy="72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Культура – автономная, самодовлеющая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замкнутая, обособленная реальность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0" name="Rectangle 7"/>
            <p:cNvSpPr/>
            <p:nvPr/>
          </p:nvSpPr>
          <p:spPr>
            <a:xfrm>
              <a:off x="539640" y="3851640"/>
              <a:ext cx="6299280" cy="3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Культура зарождается, живет и умирает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1" name="Rectangle 8"/>
            <p:cNvSpPr/>
            <p:nvPr/>
          </p:nvSpPr>
          <p:spPr>
            <a:xfrm>
              <a:off x="539640" y="6478200"/>
              <a:ext cx="6299280" cy="90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Культурологический подход был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Особенно популярен в Европе в 1-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ловине ХХ в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2" name="Rectangle 9"/>
            <p:cNvSpPr/>
            <p:nvPr/>
          </p:nvSpPr>
          <p:spPr>
            <a:xfrm>
              <a:off x="7093080" y="1304640"/>
              <a:ext cx="2523600" cy="12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Восемь культур,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выделенных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Шпенглеро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3" name="Rectangle 10"/>
            <p:cNvSpPr/>
            <p:nvPr/>
          </p:nvSpPr>
          <p:spPr>
            <a:xfrm>
              <a:off x="7191360" y="2912400"/>
              <a:ext cx="2526840" cy="402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ндийска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4" name="Rectangle 11"/>
            <p:cNvSpPr/>
            <p:nvPr/>
          </p:nvSpPr>
          <p:spPr>
            <a:xfrm>
              <a:off x="7191360" y="3313800"/>
              <a:ext cx="2523600" cy="402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китайска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5" name="Rectangle 12"/>
            <p:cNvSpPr/>
            <p:nvPr/>
          </p:nvSpPr>
          <p:spPr>
            <a:xfrm>
              <a:off x="7191360" y="3713760"/>
              <a:ext cx="2523600" cy="402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вавилонска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6" name="Rectangle 13"/>
            <p:cNvSpPr/>
            <p:nvPr/>
          </p:nvSpPr>
          <p:spPr>
            <a:xfrm>
              <a:off x="7191360" y="4116960"/>
              <a:ext cx="2523600" cy="402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египетска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7" name="Rectangle 14"/>
            <p:cNvSpPr/>
            <p:nvPr/>
          </p:nvSpPr>
          <p:spPr>
            <a:xfrm>
              <a:off x="7191360" y="4518000"/>
              <a:ext cx="252360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антична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8" name="Rectangle 15"/>
            <p:cNvSpPr/>
            <p:nvPr/>
          </p:nvSpPr>
          <p:spPr>
            <a:xfrm>
              <a:off x="7191360" y="4919760"/>
              <a:ext cx="2523600" cy="402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арабска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9" name="Rectangle 16"/>
            <p:cNvSpPr/>
            <p:nvPr/>
          </p:nvSpPr>
          <p:spPr>
            <a:xfrm>
              <a:off x="7191360" y="5322960"/>
              <a:ext cx="252684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русска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0" name="Rectangle 17"/>
            <p:cNvSpPr/>
            <p:nvPr/>
          </p:nvSpPr>
          <p:spPr>
            <a:xfrm>
              <a:off x="7191360" y="5722920"/>
              <a:ext cx="2523600" cy="56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западн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европей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1" name="Line 18"/>
            <p:cNvSpPr/>
            <p:nvPr/>
          </p:nvSpPr>
          <p:spPr>
            <a:xfrm flipH="1">
              <a:off x="3948840" y="740880"/>
              <a:ext cx="1342800" cy="23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2" name="AutoShape 19"/>
            <p:cNvSpPr/>
            <p:nvPr/>
          </p:nvSpPr>
          <p:spPr>
            <a:xfrm>
              <a:off x="3214080" y="1464840"/>
              <a:ext cx="483840" cy="321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3" name="AutoShape 20"/>
            <p:cNvSpPr/>
            <p:nvPr/>
          </p:nvSpPr>
          <p:spPr>
            <a:xfrm>
              <a:off x="8064360" y="2509200"/>
              <a:ext cx="580680" cy="402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4" name="AutoShape 21"/>
            <p:cNvSpPr/>
            <p:nvPr/>
          </p:nvSpPr>
          <p:spPr>
            <a:xfrm>
              <a:off x="8064360" y="740880"/>
              <a:ext cx="483840" cy="563400"/>
            </a:xfrm>
            <a:prstGeom prst="upDownArrow">
              <a:avLst>
                <a:gd name="adj1" fmla="val 50000"/>
                <a:gd name="adj2" fmla="val 23181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5" name="Rectangle 22"/>
            <p:cNvSpPr/>
            <p:nvPr/>
          </p:nvSpPr>
          <p:spPr>
            <a:xfrm>
              <a:off x="539640" y="4212000"/>
              <a:ext cx="6299280" cy="226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нятие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культура» Шпенглера близк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нятию «цивилизация» Тойнби, однак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«цивилизация» у Шпенглера имеет и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значения, чем у Тойнби. Цивилизация 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рамках культурологического подхода –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высший уровень развития культуры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едшествующий ее смерт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6" name="Group 1"/>
          <p:cNvGrpSpPr/>
          <p:nvPr/>
        </p:nvGrpSpPr>
        <p:grpSpPr>
          <a:xfrm>
            <a:off x="741240" y="360360"/>
            <a:ext cx="8640360" cy="6657480"/>
            <a:chOff x="741240" y="360360"/>
            <a:chExt cx="8640360" cy="6657480"/>
          </a:xfrm>
        </p:grpSpPr>
        <p:sp>
          <p:nvSpPr>
            <p:cNvPr id="2587" name="Rectangle 2"/>
            <p:cNvSpPr/>
            <p:nvPr/>
          </p:nvSpPr>
          <p:spPr>
            <a:xfrm>
              <a:off x="852120" y="360360"/>
              <a:ext cx="8527680" cy="539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Типы цивилизаций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8" name="Rectangle 3"/>
            <p:cNvSpPr/>
            <p:nvPr/>
          </p:nvSpPr>
          <p:spPr>
            <a:xfrm>
              <a:off x="5790240" y="2058120"/>
              <a:ext cx="3591360" cy="618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Информацион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9" name="AutoShape 4"/>
            <p:cNvSpPr/>
            <p:nvPr/>
          </p:nvSpPr>
          <p:spPr>
            <a:xfrm>
              <a:off x="4443840" y="2907720"/>
              <a:ext cx="4935960" cy="61704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Индустриально- информацион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0" name="AutoShape 5"/>
            <p:cNvSpPr/>
            <p:nvPr/>
          </p:nvSpPr>
          <p:spPr>
            <a:xfrm>
              <a:off x="3322080" y="3680280"/>
              <a:ext cx="6059520" cy="61740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Индустриаль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1" name="AutoShape 6"/>
            <p:cNvSpPr/>
            <p:nvPr/>
          </p:nvSpPr>
          <p:spPr>
            <a:xfrm>
              <a:off x="2314080" y="4529160"/>
              <a:ext cx="7067520" cy="61740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Аграр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2" name="AutoShape 7"/>
            <p:cNvSpPr/>
            <p:nvPr/>
          </p:nvSpPr>
          <p:spPr>
            <a:xfrm>
              <a:off x="1526760" y="5380200"/>
              <a:ext cx="7854840" cy="61884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Первобытнообщин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3" name="AutoShape 8"/>
            <p:cNvSpPr/>
            <p:nvPr/>
          </p:nvSpPr>
          <p:spPr>
            <a:xfrm>
              <a:off x="741240" y="6229080"/>
              <a:ext cx="8638920" cy="78876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Варварств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нецивилизованное состояние общества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4" name="AutoShape 9"/>
            <p:cNvSpPr/>
            <p:nvPr/>
          </p:nvSpPr>
          <p:spPr>
            <a:xfrm>
              <a:off x="6688440" y="1209240"/>
              <a:ext cx="2693160" cy="61884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5" name="Line 10"/>
            <p:cNvSpPr/>
            <p:nvPr/>
          </p:nvSpPr>
          <p:spPr>
            <a:xfrm>
              <a:off x="7135920" y="899640"/>
              <a:ext cx="1440" cy="30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6" name="Line 11"/>
            <p:cNvSpPr/>
            <p:nvPr/>
          </p:nvSpPr>
          <p:spPr>
            <a:xfrm>
              <a:off x="4664520" y="899640"/>
              <a:ext cx="1440" cy="200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7" name="Line 12"/>
            <p:cNvSpPr/>
            <p:nvPr/>
          </p:nvSpPr>
          <p:spPr>
            <a:xfrm>
              <a:off x="2537640" y="899640"/>
              <a:ext cx="1440" cy="363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8" name="Line 13"/>
            <p:cNvSpPr/>
            <p:nvPr/>
          </p:nvSpPr>
          <p:spPr>
            <a:xfrm>
              <a:off x="1079280" y="899640"/>
              <a:ext cx="1080" cy="532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9" name="Line 14"/>
            <p:cNvSpPr/>
            <p:nvPr/>
          </p:nvSpPr>
          <p:spPr>
            <a:xfrm>
              <a:off x="1860120" y="899640"/>
              <a:ext cx="1440" cy="448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0" name="Line 15"/>
            <p:cNvSpPr/>
            <p:nvPr/>
          </p:nvSpPr>
          <p:spPr>
            <a:xfrm>
              <a:off x="3434760" y="928440"/>
              <a:ext cx="1080" cy="270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1" name="Line 16"/>
            <p:cNvSpPr/>
            <p:nvPr/>
          </p:nvSpPr>
          <p:spPr>
            <a:xfrm>
              <a:off x="5958000" y="928440"/>
              <a:ext cx="1440" cy="115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2" name="Group 1"/>
          <p:cNvGrpSpPr/>
          <p:nvPr/>
        </p:nvGrpSpPr>
        <p:grpSpPr>
          <a:xfrm>
            <a:off x="1079640" y="360360"/>
            <a:ext cx="8457840" cy="6840360"/>
            <a:chOff x="1079640" y="360360"/>
            <a:chExt cx="8457840" cy="6840360"/>
          </a:xfrm>
        </p:grpSpPr>
        <p:sp>
          <p:nvSpPr>
            <p:cNvPr id="2603" name="Rectangle 2"/>
            <p:cNvSpPr/>
            <p:nvPr/>
          </p:nvSpPr>
          <p:spPr>
            <a:xfrm>
              <a:off x="2358720" y="360360"/>
              <a:ext cx="6492960" cy="5011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Типы развития обществ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4" name="Rectangle 3"/>
            <p:cNvSpPr/>
            <p:nvPr/>
          </p:nvSpPr>
          <p:spPr>
            <a:xfrm>
              <a:off x="1079640" y="1274400"/>
              <a:ext cx="3736080" cy="75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Революционны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Rectangle 4"/>
            <p:cNvSpPr/>
            <p:nvPr/>
          </p:nvSpPr>
          <p:spPr>
            <a:xfrm>
              <a:off x="5799600" y="1274400"/>
              <a:ext cx="3737880" cy="74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Эволюционны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6" name="Rectangle 5"/>
            <p:cNvSpPr/>
            <p:nvPr/>
          </p:nvSpPr>
          <p:spPr>
            <a:xfrm>
              <a:off x="1079640" y="2440800"/>
              <a:ext cx="3737880" cy="387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Войны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7" name="Rectangle 6"/>
            <p:cNvSpPr/>
            <p:nvPr/>
          </p:nvSpPr>
          <p:spPr>
            <a:xfrm>
              <a:off x="1079640" y="2826720"/>
              <a:ext cx="3737880" cy="672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литическ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ереворо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8" name="Rectangle 7"/>
            <p:cNvSpPr/>
            <p:nvPr/>
          </p:nvSpPr>
          <p:spPr>
            <a:xfrm>
              <a:off x="1079640" y="3498120"/>
              <a:ext cx="3737880" cy="866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оциальн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олитические револю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9" name="Rectangle 8"/>
            <p:cNvSpPr/>
            <p:nvPr/>
          </p:nvSpPr>
          <p:spPr>
            <a:xfrm>
              <a:off x="1079640" y="4364640"/>
              <a:ext cx="3737880" cy="672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Восстани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0" name="Rectangle 9"/>
            <p:cNvSpPr/>
            <p:nvPr/>
          </p:nvSpPr>
          <p:spPr>
            <a:xfrm>
              <a:off x="1079640" y="5037480"/>
              <a:ext cx="3737880" cy="67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аучные революци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1" name="Rectangle 10"/>
            <p:cNvSpPr/>
            <p:nvPr/>
          </p:nvSpPr>
          <p:spPr>
            <a:xfrm>
              <a:off x="1079640" y="5710320"/>
              <a:ext cx="3737880" cy="76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Технические револю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2" name="Rectangle 11"/>
            <p:cNvSpPr/>
            <p:nvPr/>
          </p:nvSpPr>
          <p:spPr>
            <a:xfrm>
              <a:off x="5799600" y="2440800"/>
              <a:ext cx="373788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Реформы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3" name="Rectangle 12"/>
            <p:cNvSpPr/>
            <p:nvPr/>
          </p:nvSpPr>
          <p:spPr>
            <a:xfrm>
              <a:off x="5799600" y="3047400"/>
              <a:ext cx="3737880" cy="779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мена власти как результа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традиции или выбор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4" name="Rectangle 13"/>
            <p:cNvSpPr/>
            <p:nvPr/>
          </p:nvSpPr>
          <p:spPr>
            <a:xfrm>
              <a:off x="5799600" y="3824640"/>
              <a:ext cx="3737880" cy="866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Естественная динамика идей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теорий, концепций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идеолог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5" name="Rectangle 14"/>
            <p:cNvSpPr/>
            <p:nvPr/>
          </p:nvSpPr>
          <p:spPr>
            <a:xfrm>
              <a:off x="5799600" y="4690080"/>
              <a:ext cx="3737880" cy="103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вободная трансформац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оциальной иерархии 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укла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6" name="Rectangle 15"/>
            <p:cNvSpPr/>
            <p:nvPr/>
          </p:nvSpPr>
          <p:spPr>
            <a:xfrm>
              <a:off x="5799600" y="5727960"/>
              <a:ext cx="3737880" cy="60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Социальная мобильнос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7" name="Rectangle 16"/>
            <p:cNvSpPr/>
            <p:nvPr/>
          </p:nvSpPr>
          <p:spPr>
            <a:xfrm>
              <a:off x="5799600" y="6334200"/>
              <a:ext cx="3737880" cy="866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Межкультурный диалог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8" name="Line 17"/>
            <p:cNvSpPr/>
            <p:nvPr/>
          </p:nvSpPr>
          <p:spPr>
            <a:xfrm>
              <a:off x="5407560" y="860040"/>
              <a:ext cx="108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9" name="Line 18"/>
            <p:cNvSpPr/>
            <p:nvPr/>
          </p:nvSpPr>
          <p:spPr>
            <a:xfrm>
              <a:off x="3146040" y="1109160"/>
              <a:ext cx="108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0" name="Line 19"/>
            <p:cNvSpPr/>
            <p:nvPr/>
          </p:nvSpPr>
          <p:spPr>
            <a:xfrm>
              <a:off x="7473960" y="1109160"/>
              <a:ext cx="14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1" name="Line 20"/>
            <p:cNvSpPr/>
            <p:nvPr/>
          </p:nvSpPr>
          <p:spPr>
            <a:xfrm>
              <a:off x="7570800" y="2025360"/>
              <a:ext cx="1440" cy="41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2" name="Line 21"/>
            <p:cNvSpPr/>
            <p:nvPr/>
          </p:nvSpPr>
          <p:spPr>
            <a:xfrm>
              <a:off x="3146040" y="1109160"/>
              <a:ext cx="432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Line 22"/>
            <p:cNvSpPr/>
            <p:nvPr/>
          </p:nvSpPr>
          <p:spPr>
            <a:xfrm>
              <a:off x="3146040" y="2025360"/>
              <a:ext cx="1080" cy="41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24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7360" y="6867360"/>
            <a:ext cx="51264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Text Box 1"/>
          <p:cNvSpPr/>
          <p:nvPr/>
        </p:nvSpPr>
        <p:spPr>
          <a:xfrm>
            <a:off x="900000" y="2340000"/>
            <a:ext cx="84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ГЛОБАЛЬНЫЕ ПРОБЛЕМЫ СОВРЕМЕН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Rectangle 1"/>
          <p:cNvSpPr/>
          <p:nvPr/>
        </p:nvSpPr>
        <p:spPr>
          <a:xfrm>
            <a:off x="0" y="936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7" name="Group 2"/>
          <p:cNvGrpSpPr/>
          <p:nvPr/>
        </p:nvGrpSpPr>
        <p:grpSpPr>
          <a:xfrm>
            <a:off x="900000" y="360360"/>
            <a:ext cx="8820000" cy="6760800"/>
            <a:chOff x="900000" y="360360"/>
            <a:chExt cx="8820000" cy="6760800"/>
          </a:xfrm>
        </p:grpSpPr>
        <p:grpSp>
          <p:nvGrpSpPr>
            <p:cNvPr id="2628" name="Group 3"/>
            <p:cNvGrpSpPr/>
            <p:nvPr/>
          </p:nvGrpSpPr>
          <p:grpSpPr>
            <a:xfrm>
              <a:off x="900000" y="360360"/>
              <a:ext cx="8820000" cy="6760800"/>
              <a:chOff x="900000" y="360360"/>
              <a:chExt cx="8820000" cy="6760800"/>
            </a:xfrm>
          </p:grpSpPr>
          <p:sp>
            <p:nvSpPr>
              <p:cNvPr id="2629" name="Rectangle 4"/>
              <p:cNvSpPr/>
              <p:nvPr/>
            </p:nvSpPr>
            <p:spPr>
              <a:xfrm>
                <a:off x="2415960" y="360360"/>
                <a:ext cx="5696280" cy="70452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</a:rPr>
                  <a:t>Глобальные проблемы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Rectangle 5"/>
              <p:cNvSpPr/>
              <p:nvPr/>
            </p:nvSpPr>
            <p:spPr>
              <a:xfrm>
                <a:off x="1310760" y="2001600"/>
                <a:ext cx="2572920" cy="13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Масштабность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Rectangle 6"/>
              <p:cNvSpPr/>
              <p:nvPr/>
            </p:nvSpPr>
            <p:spPr>
              <a:xfrm>
                <a:off x="3884040" y="2237760"/>
                <a:ext cx="1745640" cy="203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Острота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Rectangle 7"/>
              <p:cNvSpPr/>
              <p:nvPr/>
            </p:nvSpPr>
            <p:spPr>
              <a:xfrm>
                <a:off x="5814000" y="1923840"/>
                <a:ext cx="2482200" cy="13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Комплексность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AutoShape 8"/>
              <p:cNvSpPr/>
              <p:nvPr/>
            </p:nvSpPr>
            <p:spPr>
              <a:xfrm>
                <a:off x="900000" y="3322080"/>
                <a:ext cx="2755440" cy="305028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Представляют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значимость не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для отдельных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регионов, 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для человечеств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в цело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AutoShape 9"/>
              <p:cNvSpPr/>
              <p:nvPr/>
            </p:nvSpPr>
            <p:spPr>
              <a:xfrm>
                <a:off x="3239280" y="3913560"/>
                <a:ext cx="3123720" cy="320760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Все глобальные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проблемы требуют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незамедлительного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решен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AutoShape 10"/>
              <p:cNvSpPr/>
              <p:nvPr/>
            </p:nvSpPr>
            <p:spPr>
              <a:xfrm>
                <a:off x="5951880" y="3087000"/>
                <a:ext cx="3768120" cy="367560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Все проблемы,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имеющие глобальный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характер, тесно связаны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друг с друго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11"/>
              <p:cNvSpPr/>
              <p:nvPr/>
            </p:nvSpPr>
            <p:spPr>
              <a:xfrm flipH="1">
                <a:off x="2741040" y="1063440"/>
                <a:ext cx="1644120" cy="78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12"/>
              <p:cNvSpPr/>
              <p:nvPr/>
            </p:nvSpPr>
            <p:spPr>
              <a:xfrm>
                <a:off x="5079240" y="1063440"/>
                <a:ext cx="1440" cy="109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13"/>
              <p:cNvSpPr/>
              <p:nvPr/>
            </p:nvSpPr>
            <p:spPr>
              <a:xfrm>
                <a:off x="6090120" y="1063440"/>
                <a:ext cx="825120" cy="78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9" name="Group 1"/>
          <p:cNvGrpSpPr/>
          <p:nvPr/>
        </p:nvGrpSpPr>
        <p:grpSpPr>
          <a:xfrm>
            <a:off x="644400" y="360360"/>
            <a:ext cx="8997840" cy="6838560"/>
            <a:chOff x="644400" y="360360"/>
            <a:chExt cx="8997840" cy="6838560"/>
          </a:xfrm>
        </p:grpSpPr>
        <p:sp>
          <p:nvSpPr>
            <p:cNvPr id="2640" name="Rectangle 2"/>
            <p:cNvSpPr/>
            <p:nvPr/>
          </p:nvSpPr>
          <p:spPr>
            <a:xfrm>
              <a:off x="3002760" y="360360"/>
              <a:ext cx="4358520" cy="875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Групп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глобальных проблем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Rectangle 3"/>
            <p:cNvSpPr/>
            <p:nvPr/>
          </p:nvSpPr>
          <p:spPr>
            <a:xfrm>
              <a:off x="644400" y="1711080"/>
              <a:ext cx="2680560" cy="127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Отношения межд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государствам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Rectangle 4"/>
            <p:cNvSpPr/>
            <p:nvPr/>
          </p:nvSpPr>
          <p:spPr>
            <a:xfrm>
              <a:off x="3702960" y="1711080"/>
              <a:ext cx="2878920" cy="1271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Отнош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человек-природа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Rectangle 5"/>
            <p:cNvSpPr/>
            <p:nvPr/>
          </p:nvSpPr>
          <p:spPr>
            <a:xfrm>
              <a:off x="6763320" y="1799640"/>
              <a:ext cx="2878920" cy="1182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Отнош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человек-общество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AutoShape 6"/>
            <p:cNvSpPr/>
            <p:nvPr/>
          </p:nvSpPr>
          <p:spPr>
            <a:xfrm>
              <a:off x="823680" y="3381840"/>
              <a:ext cx="2502720" cy="381708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охранение мира,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выравнива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экономического и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оциальног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развития всех стран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AutoShape 7"/>
            <p:cNvSpPr/>
            <p:nvPr/>
          </p:nvSpPr>
          <p:spPr>
            <a:xfrm>
              <a:off x="4063320" y="3381840"/>
              <a:ext cx="2248920" cy="381384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Ресурсы, энергетика,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продовольств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AutoShape 8"/>
            <p:cNvSpPr/>
            <p:nvPr/>
          </p:nvSpPr>
          <p:spPr>
            <a:xfrm>
              <a:off x="7121880" y="3381840"/>
              <a:ext cx="2339280" cy="381384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бразование,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здравоохранение,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культур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9"/>
            <p:cNvSpPr/>
            <p:nvPr/>
          </p:nvSpPr>
          <p:spPr>
            <a:xfrm flipH="1">
              <a:off x="2558520" y="1234800"/>
              <a:ext cx="1535040" cy="47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Line 10"/>
            <p:cNvSpPr/>
            <p:nvPr/>
          </p:nvSpPr>
          <p:spPr>
            <a:xfrm>
              <a:off x="5182200" y="1234800"/>
              <a:ext cx="1080" cy="47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11"/>
            <p:cNvSpPr/>
            <p:nvPr/>
          </p:nvSpPr>
          <p:spPr>
            <a:xfrm>
              <a:off x="6715800" y="1234800"/>
              <a:ext cx="130608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0" name="Group 1"/>
          <p:cNvGrpSpPr/>
          <p:nvPr/>
        </p:nvGrpSpPr>
        <p:grpSpPr>
          <a:xfrm>
            <a:off x="1079640" y="331920"/>
            <a:ext cx="8280000" cy="6868800"/>
            <a:chOff x="1079640" y="331920"/>
            <a:chExt cx="8280000" cy="6868800"/>
          </a:xfrm>
        </p:grpSpPr>
        <p:sp>
          <p:nvSpPr>
            <p:cNvPr id="2651" name="Rectangle 2"/>
            <p:cNvSpPr/>
            <p:nvPr/>
          </p:nvSpPr>
          <p:spPr>
            <a:xfrm>
              <a:off x="1260000" y="331920"/>
              <a:ext cx="8099640" cy="100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Приоритет коллективного, духовного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главенство нравственных норм; творчество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диалектика, вселенность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AutoShape 3"/>
            <p:cNvSpPr/>
            <p:nvPr/>
          </p:nvSpPr>
          <p:spPr>
            <a:xfrm>
              <a:off x="2890440" y="1334880"/>
              <a:ext cx="4564440" cy="1131480"/>
            </a:xfrm>
            <a:prstGeom prst="pi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Духов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потреб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AutoShape 4"/>
            <p:cNvSpPr/>
            <p:nvPr/>
          </p:nvSpPr>
          <p:spPr>
            <a:xfrm>
              <a:off x="4258440" y="2648880"/>
              <a:ext cx="2282040" cy="1734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Человек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AutoShape 5"/>
            <p:cNvSpPr/>
            <p:nvPr/>
          </p:nvSpPr>
          <p:spPr>
            <a:xfrm rot="10800000">
              <a:off x="2979000" y="5196240"/>
              <a:ext cx="4656600" cy="1080720"/>
            </a:xfrm>
            <a:prstGeom prst="pi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Материальны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потребност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Rectangle 6"/>
            <p:cNvSpPr/>
            <p:nvPr/>
          </p:nvSpPr>
          <p:spPr>
            <a:xfrm>
              <a:off x="1079640" y="6194520"/>
              <a:ext cx="8278920" cy="100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Рационализм, индивидуализм, гедонизм,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главенство правовых, а не нравственных нор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существования, культ свободы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AutoShape 7"/>
            <p:cNvSpPr/>
            <p:nvPr/>
          </p:nvSpPr>
          <p:spPr>
            <a:xfrm>
              <a:off x="4715640" y="2466360"/>
              <a:ext cx="1096560" cy="5504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AutoShape 8"/>
            <p:cNvSpPr/>
            <p:nvPr/>
          </p:nvSpPr>
          <p:spPr>
            <a:xfrm>
              <a:off x="4899960" y="4383720"/>
              <a:ext cx="1004400" cy="731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1"/>
          <p:cNvSpPr/>
          <p:nvPr/>
        </p:nvSpPr>
        <p:spPr>
          <a:xfrm>
            <a:off x="1079640" y="2160720"/>
            <a:ext cx="828036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Times New Roman"/>
              </a:rPr>
              <a:t>РЕШЕНИ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Times New Roman"/>
              </a:rPr>
              <a:t>ОСНОВНОГО ВОПРОСА ФИЛОСОФ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8" name="Group 1"/>
          <p:cNvGrpSpPr/>
          <p:nvPr/>
        </p:nvGrpSpPr>
        <p:grpSpPr>
          <a:xfrm>
            <a:off x="1258920" y="539640"/>
            <a:ext cx="7918200" cy="6478200"/>
            <a:chOff x="1258920" y="539640"/>
            <a:chExt cx="7918200" cy="6478200"/>
          </a:xfrm>
        </p:grpSpPr>
        <p:sp>
          <p:nvSpPr>
            <p:cNvPr id="2659" name="Rectangle 2"/>
            <p:cNvSpPr/>
            <p:nvPr/>
          </p:nvSpPr>
          <p:spPr>
            <a:xfrm>
              <a:off x="3101760" y="539640"/>
              <a:ext cx="4050000" cy="5680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Глобалистик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Rectangle 3"/>
            <p:cNvSpPr/>
            <p:nvPr/>
          </p:nvSpPr>
          <p:spPr>
            <a:xfrm>
              <a:off x="3653640" y="1836000"/>
              <a:ext cx="3021840" cy="1134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Футурология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AutoShape 4"/>
            <p:cNvSpPr/>
            <p:nvPr/>
          </p:nvSpPr>
          <p:spPr>
            <a:xfrm>
              <a:off x="2160360" y="4588200"/>
              <a:ext cx="2783520" cy="2429640"/>
            </a:xfrm>
            <a:prstGeom prst="downArrowCallout">
              <a:avLst>
                <a:gd name="adj1" fmla="val 28644"/>
                <a:gd name="adj2" fmla="val 28641"/>
                <a:gd name="adj3" fmla="val 16667"/>
                <a:gd name="adj4" fmla="val 66667"/>
              </a:avLst>
            </a:prstGeom>
            <a:solidFill>
              <a:srgbClr val="94bd5e">
                <a:alpha val="4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Пессимистическ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Образы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будущег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AutoShape 5"/>
            <p:cNvSpPr/>
            <p:nvPr/>
          </p:nvSpPr>
          <p:spPr>
            <a:xfrm>
              <a:off x="4906080" y="3788280"/>
              <a:ext cx="2504520" cy="2420280"/>
            </a:xfrm>
            <a:prstGeom prst="upArrowCallout">
              <a:avLst>
                <a:gd name="adj1" fmla="val 25872"/>
                <a:gd name="adj2" fmla="val 25870"/>
                <a:gd name="adj3" fmla="val 16667"/>
                <a:gd name="adj4" fmla="val 6666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Оптимистическ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Образ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будущег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AutoShape 6"/>
            <p:cNvSpPr/>
            <p:nvPr/>
          </p:nvSpPr>
          <p:spPr>
            <a:xfrm>
              <a:off x="1258920" y="2160000"/>
              <a:ext cx="2393280" cy="2429640"/>
            </a:xfrm>
            <a:custGeom>
              <a:avLst/>
              <a:gdLst>
                <a:gd name="textAreaLeft" fmla="*/ 320400 w 2393280"/>
                <a:gd name="textAreaRight" fmla="*/ 2072880 w 2393280"/>
                <a:gd name="textAreaTop" fmla="*/ 427320 h 2429640"/>
                <a:gd name="textAreaBottom" fmla="*/ 1755000 h 242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00" stAng="-5400000" swAng="-5400000"/>
                  <a:lnTo>
                    <a:pt x="0" y="11800"/>
                  </a:lnTo>
                  <a:arcTo wR="21600" hR="7600" stAng="10800000" swAng="-2691708"/>
                  <a:lnTo>
                    <a:pt x="14400" y="21165"/>
                  </a:lnTo>
                  <a:lnTo>
                    <a:pt x="21600" y="17300"/>
                  </a:lnTo>
                  <a:lnTo>
                    <a:pt x="14400" y="12565"/>
                  </a:lnTo>
                  <a:lnTo>
                    <a:pt x="14400" y="14765"/>
                  </a:lnTo>
                  <a:arcTo wR="21600" hR="7600" stAng="8108292" swAng="2345122"/>
                  <a:lnTo>
                    <a:pt x="841" y="9700"/>
                  </a:lnTo>
                  <a:arcTo wR="21600" hR="7600" stAng="-10453414" swAng="5053414"/>
                  <a:close/>
                </a:path>
                <a:path fill="darkenLess" w="21600" h="21600">
                  <a:moveTo>
                    <a:pt x="21600" y="0"/>
                  </a:moveTo>
                  <a:arcTo wR="21600" hR="7600" stAng="-5400000" swAng="-5400000"/>
                  <a:lnTo>
                    <a:pt x="0" y="7600"/>
                  </a:lnTo>
                  <a:arcTo wR="21600" hR="7600" stAng="10800000" swAng="-346586"/>
                  <a:lnTo>
                    <a:pt x="841" y="9700"/>
                  </a:lnTo>
                  <a:arcTo wR="21600" hR="7600" stAng="-10453414" swAng="5053414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AutoShape 7"/>
            <p:cNvSpPr/>
            <p:nvPr/>
          </p:nvSpPr>
          <p:spPr>
            <a:xfrm flipH="1">
              <a:off x="6783840" y="2160000"/>
              <a:ext cx="2393280" cy="2429640"/>
            </a:xfrm>
            <a:custGeom>
              <a:avLst/>
              <a:gdLst>
                <a:gd name="textAreaLeft" fmla="*/ 320400 w 2393280"/>
                <a:gd name="textAreaRight" fmla="*/ 2072880 w 2393280"/>
                <a:gd name="textAreaTop" fmla="*/ 427320 h 2429640"/>
                <a:gd name="textAreaBottom" fmla="*/ 1755000 h 242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00" stAng="-5400000" swAng="-5400000"/>
                  <a:lnTo>
                    <a:pt x="0" y="11800"/>
                  </a:lnTo>
                  <a:arcTo wR="21600" hR="7600" stAng="10800000" swAng="-2691708"/>
                  <a:lnTo>
                    <a:pt x="14400" y="21165"/>
                  </a:lnTo>
                  <a:lnTo>
                    <a:pt x="21600" y="17300"/>
                  </a:lnTo>
                  <a:lnTo>
                    <a:pt x="14400" y="12565"/>
                  </a:lnTo>
                  <a:lnTo>
                    <a:pt x="14400" y="14765"/>
                  </a:lnTo>
                  <a:arcTo wR="21600" hR="7600" stAng="8108292" swAng="2345122"/>
                  <a:lnTo>
                    <a:pt x="841" y="9700"/>
                  </a:lnTo>
                  <a:arcTo wR="21600" hR="7600" stAng="-10453414" swAng="5053414"/>
                  <a:close/>
                </a:path>
                <a:path fill="darkenLess" w="21600" h="21600">
                  <a:moveTo>
                    <a:pt x="21600" y="0"/>
                  </a:moveTo>
                  <a:arcTo wR="21600" hR="7600" stAng="-5400000" swAng="-5400000"/>
                  <a:lnTo>
                    <a:pt x="0" y="7600"/>
                  </a:lnTo>
                  <a:arcTo wR="21600" hR="7600" stAng="10800000" swAng="-346586"/>
                  <a:lnTo>
                    <a:pt x="841" y="9700"/>
                  </a:lnTo>
                  <a:arcTo wR="21600" hR="7600" stAng="-10453414" swAng="5053414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Rectangle 1"/>
          <p:cNvSpPr/>
          <p:nvPr/>
        </p:nvSpPr>
        <p:spPr>
          <a:xfrm>
            <a:off x="0" y="936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6" name="Group 2"/>
          <p:cNvGrpSpPr/>
          <p:nvPr/>
        </p:nvGrpSpPr>
        <p:grpSpPr>
          <a:xfrm>
            <a:off x="360360" y="179280"/>
            <a:ext cx="11697840" cy="7018200"/>
            <a:chOff x="360360" y="179280"/>
            <a:chExt cx="11697840" cy="7018200"/>
          </a:xfrm>
        </p:grpSpPr>
        <p:grpSp>
          <p:nvGrpSpPr>
            <p:cNvPr id="2667" name="Group 3"/>
            <p:cNvGrpSpPr/>
            <p:nvPr/>
          </p:nvGrpSpPr>
          <p:grpSpPr>
            <a:xfrm>
              <a:off x="360360" y="179280"/>
              <a:ext cx="9356760" cy="7017120"/>
              <a:chOff x="360360" y="179280"/>
              <a:chExt cx="9356760" cy="7017120"/>
            </a:xfrm>
          </p:grpSpPr>
          <p:grpSp>
            <p:nvGrpSpPr>
              <p:cNvPr id="2668" name="Group 4"/>
              <p:cNvGrpSpPr/>
              <p:nvPr/>
            </p:nvGrpSpPr>
            <p:grpSpPr>
              <a:xfrm>
                <a:off x="360360" y="179280"/>
                <a:ext cx="9356760" cy="7017120"/>
                <a:chOff x="360360" y="179280"/>
                <a:chExt cx="9356760" cy="7017120"/>
              </a:xfrm>
            </p:grpSpPr>
            <p:sp>
              <p:nvSpPr>
                <p:cNvPr id="2669" name="AutoShape 5"/>
                <p:cNvSpPr/>
                <p:nvPr/>
              </p:nvSpPr>
              <p:spPr>
                <a:xfrm>
                  <a:off x="360360" y="179280"/>
                  <a:ext cx="9356760" cy="701712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0" name="Text Box 6"/>
                <p:cNvSpPr/>
                <p:nvPr/>
              </p:nvSpPr>
              <p:spPr>
                <a:xfrm>
                  <a:off x="1085400" y="1055160"/>
                  <a:ext cx="7907760" cy="52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флекс</a:t>
                  </a:r>
                  <a:r>
                    <a:rPr b="0" i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Text Box 7"/>
              <p:cNvSpPr/>
              <p:nvPr/>
            </p:nvSpPr>
            <p:spPr>
              <a:xfrm>
                <a:off x="1260000" y="3677400"/>
                <a:ext cx="8174160" cy="21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72" name="Text Box 8"/>
            <p:cNvSpPr/>
            <p:nvPr/>
          </p:nvSpPr>
          <p:spPr>
            <a:xfrm>
              <a:off x="1275840" y="2075760"/>
              <a:ext cx="10782360" cy="51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3" name="Group 9"/>
            <p:cNvGrpSpPr/>
            <p:nvPr/>
          </p:nvGrpSpPr>
          <p:grpSpPr>
            <a:xfrm>
              <a:off x="539280" y="2645640"/>
              <a:ext cx="8816760" cy="3450600"/>
              <a:chOff x="539280" y="2645640"/>
              <a:chExt cx="8816760" cy="3450600"/>
            </a:xfrm>
          </p:grpSpPr>
          <p:sp>
            <p:nvSpPr>
              <p:cNvPr id="2674" name="AutoShape 10"/>
              <p:cNvSpPr/>
              <p:nvPr/>
            </p:nvSpPr>
            <p:spPr>
              <a:xfrm>
                <a:off x="539280" y="2645640"/>
                <a:ext cx="8815320" cy="34506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423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Text Box 11"/>
              <p:cNvSpPr/>
              <p:nvPr/>
            </p:nvSpPr>
            <p:spPr>
              <a:xfrm>
                <a:off x="1078920" y="3252960"/>
                <a:ext cx="8277120" cy="21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ные вопрос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чем опасность «рационалистического» отношения к Природе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уществует ли смысл и цель в истории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Есть ли прогресс в истории и каковы его критерии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то такое аксиология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676" name="Picture 1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1"/>
          <p:cNvGrpSpPr/>
          <p:nvPr/>
        </p:nvGrpSpPr>
        <p:grpSpPr>
          <a:xfrm>
            <a:off x="404640" y="179280"/>
            <a:ext cx="9313560" cy="7021440"/>
            <a:chOff x="404640" y="179280"/>
            <a:chExt cx="9313560" cy="7021440"/>
          </a:xfrm>
        </p:grpSpPr>
        <p:sp>
          <p:nvSpPr>
            <p:cNvPr id="682" name="AutoShape 2"/>
            <p:cNvSpPr/>
            <p:nvPr/>
          </p:nvSpPr>
          <p:spPr>
            <a:xfrm>
              <a:off x="1039320" y="179280"/>
              <a:ext cx="8319960" cy="6926400"/>
            </a:xfrm>
            <a:prstGeom prst="roundRect">
              <a:avLst>
                <a:gd name="adj" fmla="val 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Text Box 3"/>
            <p:cNvSpPr/>
            <p:nvPr/>
          </p:nvSpPr>
          <p:spPr>
            <a:xfrm>
              <a:off x="720360" y="182160"/>
              <a:ext cx="3778920" cy="8028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 первой стороны основного вопроса философ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Text Box 4"/>
            <p:cNvSpPr/>
            <p:nvPr/>
          </p:nvSpPr>
          <p:spPr>
            <a:xfrm>
              <a:off x="5814000" y="201240"/>
              <a:ext cx="3724920" cy="783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 второй стороны основного вопроса философ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694800" y="1344240"/>
              <a:ext cx="3805920" cy="72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то первично: бытие (материя) или созн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Text Box 6"/>
            <p:cNvSpPr/>
            <p:nvPr/>
          </p:nvSpPr>
          <p:spPr>
            <a:xfrm>
              <a:off x="2882160" y="2606040"/>
              <a:ext cx="1258560" cy="447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уализ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 Box 7"/>
            <p:cNvSpPr/>
            <p:nvPr/>
          </p:nvSpPr>
          <p:spPr>
            <a:xfrm>
              <a:off x="5758200" y="2426400"/>
              <a:ext cx="136332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р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навае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 Box 8"/>
            <p:cNvSpPr/>
            <p:nvPr/>
          </p:nvSpPr>
          <p:spPr>
            <a:xfrm>
              <a:off x="7558200" y="2426400"/>
              <a:ext cx="1978920" cy="90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стоверное познание мира невозможн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9"/>
            <p:cNvSpPr/>
            <p:nvPr/>
          </p:nvSpPr>
          <p:spPr>
            <a:xfrm>
              <a:off x="7581960" y="5124960"/>
              <a:ext cx="2136240" cy="47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ностициз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Text Box 10"/>
            <p:cNvSpPr/>
            <p:nvPr/>
          </p:nvSpPr>
          <p:spPr>
            <a:xfrm>
              <a:off x="2878920" y="3506040"/>
              <a:ext cx="1439640" cy="12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я зависит от духовного нача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Text Box 11"/>
            <p:cNvSpPr/>
            <p:nvPr/>
          </p:nvSpPr>
          <p:spPr>
            <a:xfrm>
              <a:off x="5039280" y="3685320"/>
              <a:ext cx="2878920" cy="126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альное и духовное начало существуют независимо друг от друг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12"/>
            <p:cNvSpPr/>
            <p:nvPr/>
          </p:nvSpPr>
          <p:spPr>
            <a:xfrm>
              <a:off x="2836080" y="5051880"/>
              <a:ext cx="1842840" cy="433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ализ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Text Box 13"/>
            <p:cNvSpPr/>
            <p:nvPr/>
          </p:nvSpPr>
          <p:spPr>
            <a:xfrm>
              <a:off x="4345560" y="5757840"/>
              <a:ext cx="3212280" cy="3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ъективный идеализ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14"/>
            <p:cNvSpPr/>
            <p:nvPr/>
          </p:nvSpPr>
          <p:spPr>
            <a:xfrm>
              <a:off x="404640" y="6478560"/>
              <a:ext cx="3915360" cy="72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р существует благодаря сознанию 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15"/>
            <p:cNvSpPr/>
            <p:nvPr/>
          </p:nvSpPr>
          <p:spPr>
            <a:xfrm>
              <a:off x="539280" y="5757840"/>
              <a:ext cx="3239640" cy="45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бъективный идеализ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Text Box 16"/>
            <p:cNvSpPr/>
            <p:nvPr/>
          </p:nvSpPr>
          <p:spPr>
            <a:xfrm>
              <a:off x="7378920" y="1166400"/>
              <a:ext cx="1807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17"/>
            <p:cNvSpPr/>
            <p:nvPr/>
          </p:nvSpPr>
          <p:spPr>
            <a:xfrm>
              <a:off x="5758200" y="1344240"/>
              <a:ext cx="3804480" cy="72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наваем ли мир, природа, общество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Text Box 18"/>
            <p:cNvSpPr/>
            <p:nvPr/>
          </p:nvSpPr>
          <p:spPr>
            <a:xfrm>
              <a:off x="1215720" y="2606040"/>
              <a:ext cx="1125000" cy="47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из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Text Box 19"/>
            <p:cNvSpPr/>
            <p:nvPr/>
          </p:nvSpPr>
          <p:spPr>
            <a:xfrm>
              <a:off x="899640" y="3506040"/>
              <a:ext cx="1439640" cy="12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я -  первична, сознание -  вторичн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20"/>
            <p:cNvSpPr/>
            <p:nvPr/>
          </p:nvSpPr>
          <p:spPr>
            <a:xfrm>
              <a:off x="539280" y="5051880"/>
              <a:ext cx="1842840" cy="433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ализ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21"/>
            <p:cNvSpPr/>
            <p:nvPr/>
          </p:nvSpPr>
          <p:spPr>
            <a:xfrm>
              <a:off x="4904280" y="6477120"/>
              <a:ext cx="3915360" cy="72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р существует благодаря объективной иде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22"/>
            <p:cNvSpPr/>
            <p:nvPr/>
          </p:nvSpPr>
          <p:spPr>
            <a:xfrm>
              <a:off x="2160360" y="987120"/>
              <a:ext cx="10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23"/>
            <p:cNvSpPr/>
            <p:nvPr/>
          </p:nvSpPr>
          <p:spPr>
            <a:xfrm>
              <a:off x="2699640" y="2066040"/>
              <a:ext cx="7203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24"/>
            <p:cNvSpPr/>
            <p:nvPr/>
          </p:nvSpPr>
          <p:spPr>
            <a:xfrm flipH="1">
              <a:off x="1747440" y="2066040"/>
              <a:ext cx="10015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25"/>
            <p:cNvSpPr/>
            <p:nvPr/>
          </p:nvSpPr>
          <p:spPr>
            <a:xfrm>
              <a:off x="1618920" y="3145680"/>
              <a:ext cx="10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26"/>
            <p:cNvSpPr/>
            <p:nvPr/>
          </p:nvSpPr>
          <p:spPr>
            <a:xfrm>
              <a:off x="2339280" y="3145680"/>
              <a:ext cx="539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27"/>
            <p:cNvSpPr/>
            <p:nvPr/>
          </p:nvSpPr>
          <p:spPr>
            <a:xfrm>
              <a:off x="4139280" y="2966400"/>
              <a:ext cx="126000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28"/>
            <p:cNvSpPr/>
            <p:nvPr/>
          </p:nvSpPr>
          <p:spPr>
            <a:xfrm>
              <a:off x="7558200" y="987120"/>
              <a:ext cx="14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29"/>
            <p:cNvSpPr/>
            <p:nvPr/>
          </p:nvSpPr>
          <p:spPr>
            <a:xfrm>
              <a:off x="7558200" y="2066040"/>
              <a:ext cx="720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30"/>
            <p:cNvSpPr/>
            <p:nvPr/>
          </p:nvSpPr>
          <p:spPr>
            <a:xfrm flipH="1">
              <a:off x="6607080" y="2066040"/>
              <a:ext cx="10011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Line 31"/>
            <p:cNvSpPr/>
            <p:nvPr/>
          </p:nvSpPr>
          <p:spPr>
            <a:xfrm>
              <a:off x="8818200" y="3326760"/>
              <a:ext cx="1440" cy="17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Line 32"/>
            <p:cNvSpPr/>
            <p:nvPr/>
          </p:nvSpPr>
          <p:spPr>
            <a:xfrm>
              <a:off x="1079280" y="4766040"/>
              <a:ext cx="10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33"/>
            <p:cNvSpPr/>
            <p:nvPr/>
          </p:nvSpPr>
          <p:spPr>
            <a:xfrm>
              <a:off x="3418920" y="4766040"/>
              <a:ext cx="10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34"/>
            <p:cNvSpPr/>
            <p:nvPr/>
          </p:nvSpPr>
          <p:spPr>
            <a:xfrm flipH="1">
              <a:off x="2288520" y="5399640"/>
              <a:ext cx="6408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Line 35"/>
            <p:cNvSpPr/>
            <p:nvPr/>
          </p:nvSpPr>
          <p:spPr>
            <a:xfrm>
              <a:off x="4678920" y="5399640"/>
              <a:ext cx="899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36"/>
            <p:cNvSpPr/>
            <p:nvPr/>
          </p:nvSpPr>
          <p:spPr>
            <a:xfrm>
              <a:off x="5758200" y="6118200"/>
              <a:ext cx="14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37"/>
            <p:cNvSpPr/>
            <p:nvPr/>
          </p:nvSpPr>
          <p:spPr>
            <a:xfrm>
              <a:off x="3779280" y="6118200"/>
              <a:ext cx="3600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9" name="Group 2"/>
          <p:cNvGrpSpPr/>
          <p:nvPr/>
        </p:nvGrpSpPr>
        <p:grpSpPr>
          <a:xfrm>
            <a:off x="360360" y="179280"/>
            <a:ext cx="11697840" cy="7018200"/>
            <a:chOff x="360360" y="179280"/>
            <a:chExt cx="11697840" cy="7018200"/>
          </a:xfrm>
        </p:grpSpPr>
        <p:grpSp>
          <p:nvGrpSpPr>
            <p:cNvPr id="720" name="Group 3"/>
            <p:cNvGrpSpPr/>
            <p:nvPr/>
          </p:nvGrpSpPr>
          <p:grpSpPr>
            <a:xfrm>
              <a:off x="360360" y="179280"/>
              <a:ext cx="9356760" cy="7017120"/>
              <a:chOff x="360360" y="179280"/>
              <a:chExt cx="9356760" cy="7017120"/>
            </a:xfrm>
          </p:grpSpPr>
          <p:grpSp>
            <p:nvGrpSpPr>
              <p:cNvPr id="721" name="Group 4"/>
              <p:cNvGrpSpPr/>
              <p:nvPr/>
            </p:nvGrpSpPr>
            <p:grpSpPr>
              <a:xfrm>
                <a:off x="360360" y="179280"/>
                <a:ext cx="9356760" cy="7017120"/>
                <a:chOff x="360360" y="179280"/>
                <a:chExt cx="9356760" cy="7017120"/>
              </a:xfrm>
            </p:grpSpPr>
            <p:sp>
              <p:nvSpPr>
                <p:cNvPr id="722" name="AutoShape 5"/>
                <p:cNvSpPr/>
                <p:nvPr/>
              </p:nvSpPr>
              <p:spPr>
                <a:xfrm>
                  <a:off x="360360" y="179280"/>
                  <a:ext cx="9356760" cy="701712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6"/>
                <p:cNvSpPr/>
                <p:nvPr/>
              </p:nvSpPr>
              <p:spPr>
                <a:xfrm>
                  <a:off x="1085400" y="1055160"/>
                  <a:ext cx="7907760" cy="52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флекс</a:t>
                  </a:r>
                  <a:r>
                    <a:rPr b="0" i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Text Box 7"/>
              <p:cNvSpPr/>
              <p:nvPr/>
            </p:nvSpPr>
            <p:spPr>
              <a:xfrm>
                <a:off x="1260000" y="3677400"/>
                <a:ext cx="8174160" cy="21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5" name="Text Box 8"/>
            <p:cNvSpPr/>
            <p:nvPr/>
          </p:nvSpPr>
          <p:spPr>
            <a:xfrm>
              <a:off x="1275840" y="2075760"/>
              <a:ext cx="10782360" cy="51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6" name="Group 9"/>
            <p:cNvGrpSpPr/>
            <p:nvPr/>
          </p:nvGrpSpPr>
          <p:grpSpPr>
            <a:xfrm>
              <a:off x="539280" y="2645640"/>
              <a:ext cx="8816760" cy="3450600"/>
              <a:chOff x="539280" y="2645640"/>
              <a:chExt cx="8816760" cy="3450600"/>
            </a:xfrm>
          </p:grpSpPr>
          <p:sp>
            <p:nvSpPr>
              <p:cNvPr id="727" name="AutoShape 10"/>
              <p:cNvSpPr/>
              <p:nvPr/>
            </p:nvSpPr>
            <p:spPr>
              <a:xfrm>
                <a:off x="539280" y="2645640"/>
                <a:ext cx="8815320" cy="34506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423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Text Box 11"/>
              <p:cNvSpPr/>
              <p:nvPr/>
            </p:nvSpPr>
            <p:spPr>
              <a:xfrm>
                <a:off x="1078920" y="3252960"/>
                <a:ext cx="8277120" cy="21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ные вопросы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Является ли философия наукой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ковы основные черты философского мышления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ем философия отличается от других форм мировоззрения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ожно ли выделить основной вопрос философии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729" name="Picture 1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1"/>
          <p:cNvSpPr/>
          <p:nvPr/>
        </p:nvSpPr>
        <p:spPr>
          <a:xfrm>
            <a:off x="900000" y="1440000"/>
            <a:ext cx="846144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ДРЕВНЕГРЕЧЕСКАЯ ФИЛОСОФ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КУЛЬТУРНЫЕ ИСТОЧНИКИ, ПОВЛИЯВШИЕ НА СТАНОВЛЕНИЕ И РАЗВИТИЕ ДРЕВНЕЙ ГРЕЧЕСКОЙ ФИЛОСОФ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720720" y="360360"/>
            <a:ext cx="90010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4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ЭЛЕКТОРОННАЯ ПРЕЗЕНТ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Визуально-активизирующ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материал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(ВА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79280" y="2879640"/>
            <a:ext cx="972036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</a:rPr>
              <a:t>Презентация является частью УМКД по курсу «Философия». Предназначена для самостоятельной работы студентам и преподавателям, ведущим курс  «Философ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AutoShape 2"/>
          <p:cNvSpPr/>
          <p:nvPr/>
        </p:nvSpPr>
        <p:spPr>
          <a:xfrm>
            <a:off x="4500720" y="720720"/>
            <a:ext cx="1081080" cy="539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AutoShape 3"/>
          <p:cNvSpPr/>
          <p:nvPr/>
        </p:nvSpPr>
        <p:spPr>
          <a:xfrm>
            <a:off x="4498920" y="6300720"/>
            <a:ext cx="1081080" cy="539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4"/>
          <p:cNvSpPr/>
          <p:nvPr/>
        </p:nvSpPr>
        <p:spPr>
          <a:xfrm>
            <a:off x="4498920" y="4859280"/>
            <a:ext cx="1081080" cy="539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AutoShape 5"/>
          <p:cNvSpPr/>
          <p:nvPr/>
        </p:nvSpPr>
        <p:spPr>
          <a:xfrm>
            <a:off x="4498920" y="3421080"/>
            <a:ext cx="1081080" cy="539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AutoShape 6"/>
          <p:cNvSpPr/>
          <p:nvPr/>
        </p:nvSpPr>
        <p:spPr>
          <a:xfrm>
            <a:off x="4498920" y="1979640"/>
            <a:ext cx="1081080" cy="539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7" name="Group 7"/>
          <p:cNvGrpSpPr/>
          <p:nvPr/>
        </p:nvGrpSpPr>
        <p:grpSpPr>
          <a:xfrm>
            <a:off x="719280" y="360360"/>
            <a:ext cx="3598560" cy="6838560"/>
            <a:chOff x="719280" y="360360"/>
            <a:chExt cx="3598560" cy="6838560"/>
          </a:xfrm>
        </p:grpSpPr>
        <p:sp>
          <p:nvSpPr>
            <p:cNvPr id="738" name="Text Box 8"/>
            <p:cNvSpPr/>
            <p:nvPr/>
          </p:nvSpPr>
          <p:spPr>
            <a:xfrm>
              <a:off x="719280" y="360360"/>
              <a:ext cx="3598560" cy="136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фолог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Text Box 9"/>
            <p:cNvSpPr/>
            <p:nvPr/>
          </p:nvSpPr>
          <p:spPr>
            <a:xfrm>
              <a:off x="719280" y="5830920"/>
              <a:ext cx="3598560" cy="1368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рическая поэз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10"/>
            <p:cNvSpPr/>
            <p:nvPr/>
          </p:nvSpPr>
          <p:spPr>
            <a:xfrm>
              <a:off x="719280" y="4462920"/>
              <a:ext cx="3598560" cy="136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лигиозно-мистическое учение последователей Орфея (орфизм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Text Box 11"/>
            <p:cNvSpPr/>
            <p:nvPr/>
          </p:nvSpPr>
          <p:spPr>
            <a:xfrm>
              <a:off x="719280" y="3094920"/>
              <a:ext cx="3598560" cy="136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тонаук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12"/>
            <p:cNvSpPr/>
            <p:nvPr/>
          </p:nvSpPr>
          <p:spPr>
            <a:xfrm>
              <a:off x="719280" y="1728000"/>
              <a:ext cx="3598560" cy="136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философ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 Box 13"/>
          <p:cNvSpPr/>
          <p:nvPr/>
        </p:nvSpPr>
        <p:spPr>
          <a:xfrm>
            <a:off x="5940360" y="360360"/>
            <a:ext cx="360036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яя греческая философ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1"/>
          <p:cNvSpPr/>
          <p:nvPr/>
        </p:nvSpPr>
        <p:spPr>
          <a:xfrm>
            <a:off x="900000" y="2340000"/>
            <a:ext cx="84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ЧТО ТАКОЕ ФИЛОСОФ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(ПРЕДСТАВЛ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РАЗЛИЧНЫХ ФИЛОСОФ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Group 2"/>
          <p:cNvGrpSpPr/>
          <p:nvPr/>
        </p:nvGrpSpPr>
        <p:grpSpPr>
          <a:xfrm>
            <a:off x="360360" y="179280"/>
            <a:ext cx="9359640" cy="7199280"/>
            <a:chOff x="360360" y="179280"/>
            <a:chExt cx="9359640" cy="7199280"/>
          </a:xfrm>
        </p:grpSpPr>
        <p:grpSp>
          <p:nvGrpSpPr>
            <p:cNvPr id="747" name="Group 3"/>
            <p:cNvGrpSpPr/>
            <p:nvPr/>
          </p:nvGrpSpPr>
          <p:grpSpPr>
            <a:xfrm>
              <a:off x="360360" y="1208160"/>
              <a:ext cx="9359640" cy="1028520"/>
              <a:chOff x="360360" y="1208160"/>
              <a:chExt cx="9359640" cy="1028520"/>
            </a:xfrm>
          </p:grpSpPr>
          <p:sp>
            <p:nvSpPr>
              <p:cNvPr id="748" name="Text Box 4"/>
              <p:cNvSpPr/>
              <p:nvPr/>
            </p:nvSpPr>
            <p:spPr>
              <a:xfrm>
                <a:off x="360360" y="1208160"/>
                <a:ext cx="4680360" cy="102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ифагор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Text Box 5"/>
              <p:cNvSpPr/>
              <p:nvPr/>
            </p:nvSpPr>
            <p:spPr>
              <a:xfrm>
                <a:off x="5039640" y="1208160"/>
                <a:ext cx="4680360" cy="102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Любовь к мудрости»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философия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6"/>
            <p:cNvGrpSpPr/>
            <p:nvPr/>
          </p:nvGrpSpPr>
          <p:grpSpPr>
            <a:xfrm>
              <a:off x="360360" y="5321160"/>
              <a:ext cx="9359640" cy="1028880"/>
              <a:chOff x="360360" y="5321160"/>
              <a:chExt cx="9359640" cy="1028880"/>
            </a:xfrm>
          </p:grpSpPr>
          <p:sp>
            <p:nvSpPr>
              <p:cNvPr id="751" name="Text Box 7"/>
              <p:cNvSpPr/>
              <p:nvPr/>
            </p:nvSpPr>
            <p:spPr>
              <a:xfrm>
                <a:off x="360360" y="5321160"/>
                <a:ext cx="4680360" cy="1028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ристотель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Text Box 8"/>
              <p:cNvSpPr/>
              <p:nvPr/>
            </p:nvSpPr>
            <p:spPr>
              <a:xfrm>
                <a:off x="5039640" y="5321160"/>
                <a:ext cx="4680360" cy="1028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сследование причин и принципов веще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Group 9"/>
            <p:cNvGrpSpPr/>
            <p:nvPr/>
          </p:nvGrpSpPr>
          <p:grpSpPr>
            <a:xfrm>
              <a:off x="360360" y="4294080"/>
              <a:ext cx="9359640" cy="1027080"/>
              <a:chOff x="360360" y="4294080"/>
              <a:chExt cx="9359640" cy="1027080"/>
            </a:xfrm>
          </p:grpSpPr>
          <p:sp>
            <p:nvSpPr>
              <p:cNvPr id="754" name="Text Box 10"/>
              <p:cNvSpPr/>
              <p:nvPr/>
            </p:nvSpPr>
            <p:spPr>
              <a:xfrm>
                <a:off x="360360" y="4294080"/>
                <a:ext cx="4680360" cy="1027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крат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Text Box 11"/>
              <p:cNvSpPr/>
              <p:nvPr/>
            </p:nvSpPr>
            <p:spPr>
              <a:xfrm>
                <a:off x="5039640" y="4294080"/>
                <a:ext cx="4680360" cy="1027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редство познания добра и зл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2"/>
            <p:cNvGrpSpPr/>
            <p:nvPr/>
          </p:nvGrpSpPr>
          <p:grpSpPr>
            <a:xfrm>
              <a:off x="360360" y="3265560"/>
              <a:ext cx="9359640" cy="1028520"/>
              <a:chOff x="360360" y="3265560"/>
              <a:chExt cx="9359640" cy="1028520"/>
            </a:xfrm>
          </p:grpSpPr>
          <p:sp>
            <p:nvSpPr>
              <p:cNvPr id="757" name="Text Box 13"/>
              <p:cNvSpPr/>
              <p:nvPr/>
            </p:nvSpPr>
            <p:spPr>
              <a:xfrm>
                <a:off x="360360" y="3265560"/>
                <a:ext cx="4680360" cy="102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латон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Text Box 14"/>
              <p:cNvSpPr/>
              <p:nvPr/>
            </p:nvSpPr>
            <p:spPr>
              <a:xfrm>
                <a:off x="5039640" y="3265560"/>
                <a:ext cx="4680360" cy="102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собая наука, направленная на познание вечного истинного быт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5"/>
            <p:cNvGrpSpPr/>
            <p:nvPr/>
          </p:nvGrpSpPr>
          <p:grpSpPr>
            <a:xfrm>
              <a:off x="360360" y="2236680"/>
              <a:ext cx="9359640" cy="1027080"/>
              <a:chOff x="360360" y="2236680"/>
              <a:chExt cx="9359640" cy="1027080"/>
            </a:xfrm>
          </p:grpSpPr>
          <p:sp>
            <p:nvSpPr>
              <p:cNvPr id="760" name="Text Box 16"/>
              <p:cNvSpPr/>
              <p:nvPr/>
            </p:nvSpPr>
            <p:spPr>
              <a:xfrm>
                <a:off x="360360" y="2236680"/>
                <a:ext cx="4680360" cy="1027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ераклит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Text Box 17"/>
              <p:cNvSpPr/>
              <p:nvPr/>
            </p:nvSpPr>
            <p:spPr>
              <a:xfrm>
                <a:off x="5039640" y="2236680"/>
                <a:ext cx="4680360" cy="1027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 – человек, занимающийся исследованиям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18"/>
            <p:cNvGrpSpPr/>
            <p:nvPr/>
          </p:nvGrpSpPr>
          <p:grpSpPr>
            <a:xfrm>
              <a:off x="360360" y="179280"/>
              <a:ext cx="9359640" cy="1027080"/>
              <a:chOff x="360360" y="179280"/>
              <a:chExt cx="9359640" cy="1027080"/>
            </a:xfrm>
          </p:grpSpPr>
          <p:sp>
            <p:nvSpPr>
              <p:cNvPr id="763" name="Text Box 19"/>
              <p:cNvSpPr/>
              <p:nvPr/>
            </p:nvSpPr>
            <p:spPr>
              <a:xfrm>
                <a:off x="360360" y="179280"/>
                <a:ext cx="4680360" cy="10270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 или философское течение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Text Box 20"/>
              <p:cNvSpPr/>
              <p:nvPr/>
            </p:nvSpPr>
            <p:spPr>
              <a:xfrm>
                <a:off x="5039640" y="179280"/>
                <a:ext cx="4680360" cy="10270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уть представления о предмете философии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21"/>
            <p:cNvGrpSpPr/>
            <p:nvPr/>
          </p:nvGrpSpPr>
          <p:grpSpPr>
            <a:xfrm>
              <a:off x="360360" y="6351480"/>
              <a:ext cx="9359640" cy="1027080"/>
              <a:chOff x="360360" y="6351480"/>
              <a:chExt cx="9359640" cy="1027080"/>
            </a:xfrm>
          </p:grpSpPr>
          <p:sp>
            <p:nvSpPr>
              <p:cNvPr id="766" name="Text Box 22"/>
              <p:cNvSpPr/>
              <p:nvPr/>
            </p:nvSpPr>
            <p:spPr>
              <a:xfrm>
                <a:off x="360360" y="6351480"/>
                <a:ext cx="4680360" cy="1027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пикур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Text Box 23"/>
              <p:cNvSpPr/>
              <p:nvPr/>
            </p:nvSpPr>
            <p:spPr>
              <a:xfrm>
                <a:off x="5039640" y="6351480"/>
                <a:ext cx="4680360" cy="1027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уть достижения счастья посредством разум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1"/>
          <p:cNvSpPr/>
          <p:nvPr/>
        </p:nvSpPr>
        <p:spPr>
          <a:xfrm>
            <a:off x="900000" y="2340000"/>
            <a:ext cx="84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АНТИЧНЫЕ ФИЛОСОФСКИЕ ШКО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(ДРЕВНЯЯ ГРЕЦИЯ И ДРЕВНИЙ РИ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1"/>
          <p:cNvGrpSpPr/>
          <p:nvPr/>
        </p:nvGrpSpPr>
        <p:grpSpPr>
          <a:xfrm>
            <a:off x="1068480" y="360360"/>
            <a:ext cx="7941960" cy="6478200"/>
            <a:chOff x="1068480" y="360360"/>
            <a:chExt cx="7941960" cy="6478200"/>
          </a:xfrm>
        </p:grpSpPr>
        <p:sp>
          <p:nvSpPr>
            <p:cNvPr id="770" name="Text Box 2"/>
            <p:cNvSpPr/>
            <p:nvPr/>
          </p:nvSpPr>
          <p:spPr>
            <a:xfrm>
              <a:off x="1068480" y="1079280"/>
              <a:ext cx="379188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1440" bIns="9144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нний период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VII-VI  вв. до н.э.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"/>
            <p:cNvSpPr/>
            <p:nvPr/>
          </p:nvSpPr>
          <p:spPr>
            <a:xfrm>
              <a:off x="1079280" y="360360"/>
              <a:ext cx="7918560" cy="539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колы и течен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Text Box 4"/>
            <p:cNvSpPr/>
            <p:nvPr/>
          </p:nvSpPr>
          <p:spPr>
            <a:xfrm>
              <a:off x="1079280" y="1979280"/>
              <a:ext cx="377892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летская школа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алес, Анаксимандр, Анакси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5"/>
            <p:cNvSpPr/>
            <p:nvPr/>
          </p:nvSpPr>
          <p:spPr>
            <a:xfrm>
              <a:off x="1079280" y="3239280"/>
              <a:ext cx="377892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ифагорейская школа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ифагор и его последовате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6"/>
            <p:cNvSpPr/>
            <p:nvPr/>
          </p:nvSpPr>
          <p:spPr>
            <a:xfrm>
              <a:off x="1079280" y="4139280"/>
              <a:ext cx="377892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лейская школа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сенофан, Парменид, Зенон, Мелис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7"/>
            <p:cNvSpPr/>
            <p:nvPr/>
          </p:nvSpPr>
          <p:spPr>
            <a:xfrm>
              <a:off x="1079280" y="5399280"/>
              <a:ext cx="377892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алектическая натурфилософия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ракли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Text Box 8"/>
            <p:cNvSpPr/>
            <p:nvPr/>
          </p:nvSpPr>
          <p:spPr>
            <a:xfrm>
              <a:off x="5218560" y="1979280"/>
              <a:ext cx="377928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томисты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вкипп, Демокри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Text Box 9"/>
            <p:cNvSpPr/>
            <p:nvPr/>
          </p:nvSpPr>
          <p:spPr>
            <a:xfrm>
              <a:off x="5218560" y="2878920"/>
              <a:ext cx="377928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фисты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тагор, Горгий, Гиппий, Проди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Text Box 10"/>
            <p:cNvSpPr/>
            <p:nvPr/>
          </p:nvSpPr>
          <p:spPr>
            <a:xfrm>
              <a:off x="5218560" y="4139280"/>
              <a:ext cx="377928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ический рационализм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крат и его последовате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Text Box 11"/>
            <p:cNvSpPr/>
            <p:nvPr/>
          </p:nvSpPr>
          <p:spPr>
            <a:xfrm>
              <a:off x="5218560" y="5039280"/>
              <a:ext cx="377928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адемия, или платонизм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то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Text Box 12"/>
            <p:cNvSpPr/>
            <p:nvPr/>
          </p:nvSpPr>
          <p:spPr>
            <a:xfrm>
              <a:off x="5218560" y="5938920"/>
              <a:ext cx="377928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кей, или аристотелизм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ристотель и его последовате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перипатетики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13"/>
            <p:cNvSpPr/>
            <p:nvPr/>
          </p:nvSpPr>
          <p:spPr>
            <a:xfrm>
              <a:off x="5218560" y="1079280"/>
              <a:ext cx="379188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1440" bIns="9144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 расцвет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V-IV  вв. до н.э.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Line 14"/>
            <p:cNvSpPr/>
            <p:nvPr/>
          </p:nvSpPr>
          <p:spPr>
            <a:xfrm>
              <a:off x="4858560" y="4499640"/>
              <a:ext cx="360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Line 15"/>
            <p:cNvSpPr/>
            <p:nvPr/>
          </p:nvSpPr>
          <p:spPr>
            <a:xfrm>
              <a:off x="4858560" y="3778920"/>
              <a:ext cx="360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Line 16"/>
            <p:cNvSpPr/>
            <p:nvPr/>
          </p:nvSpPr>
          <p:spPr>
            <a:xfrm>
              <a:off x="4858560" y="2339280"/>
              <a:ext cx="360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Line 17"/>
            <p:cNvSpPr/>
            <p:nvPr/>
          </p:nvSpPr>
          <p:spPr>
            <a:xfrm>
              <a:off x="4858560" y="5578560"/>
              <a:ext cx="360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Line 18"/>
            <p:cNvSpPr/>
            <p:nvPr/>
          </p:nvSpPr>
          <p:spPr>
            <a:xfrm>
              <a:off x="5039640" y="899640"/>
              <a:ext cx="1080" cy="55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19"/>
            <p:cNvSpPr/>
            <p:nvPr/>
          </p:nvSpPr>
          <p:spPr>
            <a:xfrm>
              <a:off x="5039640" y="6478560"/>
              <a:ext cx="17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Group 1"/>
          <p:cNvGrpSpPr/>
          <p:nvPr/>
        </p:nvGrpSpPr>
        <p:grpSpPr>
          <a:xfrm>
            <a:off x="539640" y="504720"/>
            <a:ext cx="8999640" cy="6333840"/>
            <a:chOff x="539640" y="504720"/>
            <a:chExt cx="8999640" cy="6333840"/>
          </a:xfrm>
        </p:grpSpPr>
        <p:sp>
          <p:nvSpPr>
            <p:cNvPr id="789" name="Text Box 2"/>
            <p:cNvSpPr/>
            <p:nvPr/>
          </p:nvSpPr>
          <p:spPr>
            <a:xfrm>
              <a:off x="539640" y="504720"/>
              <a:ext cx="8999640" cy="5760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1440" bIns="9144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 заката и упадка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IV-VI  вв. до н.э.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Text Box 3"/>
            <p:cNvSpPr/>
            <p:nvPr/>
          </p:nvSpPr>
          <p:spPr>
            <a:xfrm>
              <a:off x="539640" y="1618920"/>
              <a:ext cx="4139640" cy="53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пикуреизм: Эпикур, Метродор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4"/>
            <p:cNvSpPr/>
            <p:nvPr/>
          </p:nvSpPr>
          <p:spPr>
            <a:xfrm>
              <a:off x="539640" y="3958200"/>
              <a:ext cx="413964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ническая школа: Антисфен, Диоген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Text Box 5"/>
            <p:cNvSpPr/>
            <p:nvPr/>
          </p:nvSpPr>
          <p:spPr>
            <a:xfrm>
              <a:off x="539640" y="2339280"/>
              <a:ext cx="4139640" cy="14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патетики, или аристотелизм:Теофраст, Аристоксен, Стратон, Андроник Родосск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Text Box 6"/>
            <p:cNvSpPr/>
            <p:nvPr/>
          </p:nvSpPr>
          <p:spPr>
            <a:xfrm>
              <a:off x="539640" y="4858200"/>
              <a:ext cx="413964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гарская школа: Евклид из Мегара, Евбулид, Стильпон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Text Box 7"/>
            <p:cNvSpPr/>
            <p:nvPr/>
          </p:nvSpPr>
          <p:spPr>
            <a:xfrm>
              <a:off x="5578920" y="4139280"/>
              <a:ext cx="377928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лектицизм: Филон, Антиох, Боэций, Цицерон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Text Box 8"/>
            <p:cNvSpPr/>
            <p:nvPr/>
          </p:nvSpPr>
          <p:spPr>
            <a:xfrm>
              <a:off x="5578920" y="2878920"/>
              <a:ext cx="3779280" cy="90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ептицизм: Пиррон, Секст Эмпирик, Энесиде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Text Box 9"/>
            <p:cNvSpPr/>
            <p:nvPr/>
          </p:nvSpPr>
          <p:spPr>
            <a:xfrm>
              <a:off x="5578920" y="1618920"/>
              <a:ext cx="377928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оицизм: Зенон, Синека, Эпиктет, Марк Аврел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Text Box 10"/>
            <p:cNvSpPr/>
            <p:nvPr/>
          </p:nvSpPr>
          <p:spPr>
            <a:xfrm>
              <a:off x="539640" y="5938920"/>
              <a:ext cx="413964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ренская школа: Аристипп, Антипатр, Феодор, Гегес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Text Box 11"/>
            <p:cNvSpPr/>
            <p:nvPr/>
          </p:nvSpPr>
          <p:spPr>
            <a:xfrm>
              <a:off x="5578920" y="5399280"/>
              <a:ext cx="377928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латонизм: Плотин, Порфирий, Явлих, Прокл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99" name="AutoShape 12"/>
            <p:cNvCxnSpPr>
              <a:stCxn id="797" idx="3"/>
            </p:cNvCxnSpPr>
            <p:nvPr/>
          </p:nvCxnSpPr>
          <p:spPr>
            <a:xfrm>
              <a:off x="4678920" y="6388200"/>
              <a:ext cx="358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0" name="AutoShape 13"/>
            <p:cNvCxnSpPr>
              <a:endCxn id="789" idx="2"/>
            </p:cNvCxnSpPr>
            <p:nvPr/>
          </p:nvCxnSpPr>
          <p:spPr>
            <a:xfrm flipV="1">
              <a:off x="5037840" y="1080360"/>
              <a:ext cx="2160" cy="530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1" name="AutoShape 14"/>
            <p:cNvCxnSpPr>
              <a:stCxn id="793" idx="3"/>
            </p:cNvCxnSpPr>
            <p:nvPr/>
          </p:nvCxnSpPr>
          <p:spPr>
            <a:xfrm>
              <a:off x="4678920" y="5306760"/>
              <a:ext cx="358920" cy="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2" name="AutoShape 15"/>
            <p:cNvCxnSpPr>
              <a:stCxn id="791" idx="3"/>
            </p:cNvCxnSpPr>
            <p:nvPr/>
          </p:nvCxnSpPr>
          <p:spPr>
            <a:xfrm flipV="1">
              <a:off x="4679280" y="4314960"/>
              <a:ext cx="39240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3" name="AutoShape 16"/>
            <p:cNvCxnSpPr>
              <a:stCxn id="792" idx="3"/>
            </p:cNvCxnSpPr>
            <p:nvPr/>
          </p:nvCxnSpPr>
          <p:spPr>
            <a:xfrm flipV="1">
              <a:off x="4678920" y="3056400"/>
              <a:ext cx="358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4" name="AutoShape 17"/>
            <p:cNvCxnSpPr>
              <a:stCxn id="790" idx="3"/>
            </p:cNvCxnSpPr>
            <p:nvPr/>
          </p:nvCxnSpPr>
          <p:spPr>
            <a:xfrm>
              <a:off x="4678920" y="1888560"/>
              <a:ext cx="358920" cy="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5" name="AutoShape 18"/>
            <p:cNvCxnSpPr>
              <a:endCxn id="798" idx="1"/>
            </p:cNvCxnSpPr>
            <p:nvPr/>
          </p:nvCxnSpPr>
          <p:spPr>
            <a:xfrm flipV="1">
              <a:off x="5037480" y="5848200"/>
              <a:ext cx="541800" cy="49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6" name="AutoShape 19"/>
            <p:cNvCxnSpPr>
              <a:endCxn id="794" idx="1"/>
            </p:cNvCxnSpPr>
            <p:nvPr/>
          </p:nvCxnSpPr>
          <p:spPr>
            <a:xfrm flipV="1">
              <a:off x="5037480" y="4589280"/>
              <a:ext cx="541800" cy="72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7" name="AutoShape 20"/>
            <p:cNvCxnSpPr>
              <a:endCxn id="795" idx="1"/>
            </p:cNvCxnSpPr>
            <p:nvPr/>
          </p:nvCxnSpPr>
          <p:spPr>
            <a:xfrm flipV="1">
              <a:off x="5067360" y="3327840"/>
              <a:ext cx="511560" cy="94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8" name="AutoShape 21"/>
            <p:cNvCxnSpPr>
              <a:endCxn id="796" idx="1"/>
            </p:cNvCxnSpPr>
            <p:nvPr/>
          </p:nvCxnSpPr>
          <p:spPr>
            <a:xfrm flipV="1">
              <a:off x="5037480" y="1978560"/>
              <a:ext cx="541800" cy="107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1"/>
          <p:cNvGrpSpPr/>
          <p:nvPr/>
        </p:nvGrpSpPr>
        <p:grpSpPr>
          <a:xfrm>
            <a:off x="900000" y="387360"/>
            <a:ext cx="8457840" cy="6810480"/>
            <a:chOff x="900000" y="387360"/>
            <a:chExt cx="8457840" cy="6810480"/>
          </a:xfrm>
        </p:grpSpPr>
        <p:sp>
          <p:nvSpPr>
            <p:cNvPr id="810" name="AutoShape 2"/>
            <p:cNvSpPr/>
            <p:nvPr/>
          </p:nvSpPr>
          <p:spPr>
            <a:xfrm>
              <a:off x="900000" y="387360"/>
              <a:ext cx="8278560" cy="681048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3"/>
            <p:cNvSpPr/>
            <p:nvPr/>
          </p:nvSpPr>
          <p:spPr>
            <a:xfrm>
              <a:off x="3026520" y="496440"/>
              <a:ext cx="4140720" cy="7250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ски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Text Box 4"/>
            <p:cNvSpPr/>
            <p:nvPr/>
          </p:nvSpPr>
          <p:spPr>
            <a:xfrm>
              <a:off x="1321920" y="1510920"/>
              <a:ext cx="3369600" cy="43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алектическ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Text Box 5"/>
            <p:cNvSpPr/>
            <p:nvPr/>
          </p:nvSpPr>
          <p:spPr>
            <a:xfrm>
              <a:off x="5420160" y="1510920"/>
              <a:ext cx="3937680" cy="43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афизическ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Text Box 6"/>
            <p:cNvSpPr/>
            <p:nvPr/>
          </p:nvSpPr>
          <p:spPr>
            <a:xfrm>
              <a:off x="1321920" y="2380680"/>
              <a:ext cx="3408840" cy="72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усство спо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Сократ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7"/>
            <p:cNvSpPr/>
            <p:nvPr/>
          </p:nvSpPr>
          <p:spPr>
            <a:xfrm>
              <a:off x="5461560" y="2380680"/>
              <a:ext cx="3896280" cy="788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ние о сверхфизическо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аль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Text Box 8"/>
            <p:cNvSpPr/>
            <p:nvPr/>
          </p:nvSpPr>
          <p:spPr>
            <a:xfrm>
              <a:off x="1321920" y="3540960"/>
              <a:ext cx="3408840" cy="72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мотрение мира в его целост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 Box 9"/>
            <p:cNvSpPr/>
            <p:nvPr/>
          </p:nvSpPr>
          <p:spPr>
            <a:xfrm>
              <a:off x="5461560" y="3540960"/>
              <a:ext cx="3896280" cy="709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нание не опытом, а с помощью умозрения, созерц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321920" y="4699440"/>
              <a:ext cx="3408840" cy="98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мотрение мира в единстве его противоположност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5461560" y="4699440"/>
              <a:ext cx="3896280" cy="98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бсолютизация одного из противоположных моментов действитель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Text Box 12"/>
            <p:cNvSpPr/>
            <p:nvPr/>
          </p:nvSpPr>
          <p:spPr>
            <a:xfrm>
              <a:off x="1321920" y="6148440"/>
              <a:ext cx="3408840" cy="8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декватное понимание мира и процесса позн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Text Box 13"/>
            <p:cNvSpPr/>
            <p:nvPr/>
          </p:nvSpPr>
          <p:spPr>
            <a:xfrm>
              <a:off x="5409000" y="6228000"/>
              <a:ext cx="394884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адекватное понимание мира и процесса позн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14"/>
            <p:cNvSpPr/>
            <p:nvPr/>
          </p:nvSpPr>
          <p:spPr>
            <a:xfrm>
              <a:off x="2783880" y="1945800"/>
              <a:ext cx="1080" cy="43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15"/>
            <p:cNvSpPr/>
            <p:nvPr/>
          </p:nvSpPr>
          <p:spPr>
            <a:xfrm>
              <a:off x="7166160" y="1945800"/>
              <a:ext cx="1080" cy="43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16"/>
            <p:cNvSpPr/>
            <p:nvPr/>
          </p:nvSpPr>
          <p:spPr>
            <a:xfrm>
              <a:off x="2783880" y="3104280"/>
              <a:ext cx="1080" cy="43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17"/>
            <p:cNvSpPr/>
            <p:nvPr/>
          </p:nvSpPr>
          <p:spPr>
            <a:xfrm flipH="1">
              <a:off x="3462840" y="1221840"/>
              <a:ext cx="1076040" cy="29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18"/>
            <p:cNvSpPr/>
            <p:nvPr/>
          </p:nvSpPr>
          <p:spPr>
            <a:xfrm>
              <a:off x="5706000" y="1221840"/>
              <a:ext cx="972720" cy="29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9"/>
            <p:cNvSpPr/>
            <p:nvPr/>
          </p:nvSpPr>
          <p:spPr>
            <a:xfrm>
              <a:off x="2929680" y="4266000"/>
              <a:ext cx="1440" cy="43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28" name="AutoShape 20"/>
            <p:cNvCxnSpPr>
              <a:stCxn id="815" idx="2"/>
              <a:endCxn id="817" idx="0"/>
            </p:cNvCxnSpPr>
            <p:nvPr/>
          </p:nvCxnSpPr>
          <p:spPr>
            <a:xfrm>
              <a:off x="7410240" y="3169080"/>
              <a:ext cx="1800" cy="37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9" name="AutoShape 21"/>
            <p:cNvCxnSpPr>
              <a:stCxn id="817" idx="2"/>
              <a:endCxn id="819" idx="0"/>
            </p:cNvCxnSpPr>
            <p:nvPr/>
          </p:nvCxnSpPr>
          <p:spPr>
            <a:xfrm>
              <a:off x="7410240" y="4249800"/>
              <a:ext cx="180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0" name="AutoShape 22"/>
            <p:cNvCxnSpPr>
              <a:stCxn id="819" idx="2"/>
              <a:endCxn id="821" idx="0"/>
            </p:cNvCxnSpPr>
            <p:nvPr/>
          </p:nvCxnSpPr>
          <p:spPr>
            <a:xfrm flipH="1">
              <a:off x="7383240" y="5687640"/>
              <a:ext cx="25920" cy="54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1" name="AutoShape 23"/>
            <p:cNvCxnSpPr>
              <a:stCxn id="818" idx="2"/>
              <a:endCxn id="820" idx="0"/>
            </p:cNvCxnSpPr>
            <p:nvPr/>
          </p:nvCxnSpPr>
          <p:spPr>
            <a:xfrm>
              <a:off x="3026520" y="5688000"/>
              <a:ext cx="2160" cy="46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Group 1"/>
          <p:cNvGrpSpPr/>
          <p:nvPr/>
        </p:nvGrpSpPr>
        <p:grpSpPr>
          <a:xfrm>
            <a:off x="900000" y="360360"/>
            <a:ext cx="8820360" cy="6843600"/>
            <a:chOff x="900000" y="360360"/>
            <a:chExt cx="8820360" cy="6843600"/>
          </a:xfrm>
        </p:grpSpPr>
        <p:grpSp>
          <p:nvGrpSpPr>
            <p:cNvPr id="833" name="Group 2"/>
            <p:cNvGrpSpPr/>
            <p:nvPr/>
          </p:nvGrpSpPr>
          <p:grpSpPr>
            <a:xfrm>
              <a:off x="900000" y="360360"/>
              <a:ext cx="8278920" cy="2163240"/>
              <a:chOff x="900000" y="360360"/>
              <a:chExt cx="8278920" cy="2163240"/>
            </a:xfrm>
          </p:grpSpPr>
          <p:sp>
            <p:nvSpPr>
              <p:cNvPr id="834" name="Text Box 3"/>
              <p:cNvSpPr/>
              <p:nvPr/>
            </p:nvSpPr>
            <p:spPr>
              <a:xfrm>
                <a:off x="900000" y="360360"/>
                <a:ext cx="8278920" cy="5454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осударство в философии Аристотел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Text Box 4"/>
              <p:cNvSpPr/>
              <p:nvPr/>
            </p:nvSpPr>
            <p:spPr>
              <a:xfrm>
                <a:off x="900000" y="1377000"/>
                <a:ext cx="3779280" cy="786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Шесть типов государства, выделяемые Аристотеле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Text Box 5"/>
              <p:cNvSpPr/>
              <p:nvPr/>
            </p:nvSpPr>
            <p:spPr>
              <a:xfrm>
                <a:off x="7018920" y="1264320"/>
                <a:ext cx="2159640" cy="545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собенност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AutoShape 6"/>
              <p:cNvSpPr/>
              <p:nvPr/>
            </p:nvSpPr>
            <p:spPr>
              <a:xfrm>
                <a:off x="7918560" y="1803600"/>
                <a:ext cx="344160" cy="404280"/>
              </a:xfrm>
              <a:prstGeom prst="downArrow">
                <a:avLst>
                  <a:gd name="adj1" fmla="val 50000"/>
                  <a:gd name="adj2" fmla="val 29367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8097840" y="904320"/>
                <a:ext cx="144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AutoShape 8"/>
              <p:cNvSpPr/>
              <p:nvPr/>
            </p:nvSpPr>
            <p:spPr>
              <a:xfrm>
                <a:off x="3256920" y="2163600"/>
                <a:ext cx="342360" cy="360000"/>
              </a:xfrm>
              <a:prstGeom prst="downArrow">
                <a:avLst>
                  <a:gd name="adj1" fmla="val 50000"/>
                  <a:gd name="adj2" fmla="val 26288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AutoShape 9"/>
              <p:cNvSpPr/>
              <p:nvPr/>
            </p:nvSpPr>
            <p:spPr>
              <a:xfrm>
                <a:off x="3599640" y="904320"/>
                <a:ext cx="291960" cy="420120"/>
              </a:xfrm>
              <a:prstGeom prst="upDownArrow">
                <a:avLst>
                  <a:gd name="adj1" fmla="val 50000"/>
                  <a:gd name="adj2" fmla="val 28646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0"/>
            <p:cNvGrpSpPr/>
            <p:nvPr/>
          </p:nvGrpSpPr>
          <p:grpSpPr>
            <a:xfrm>
              <a:off x="6119640" y="2344680"/>
              <a:ext cx="3600720" cy="4859280"/>
              <a:chOff x="6119640" y="2344680"/>
              <a:chExt cx="3600720" cy="4859280"/>
            </a:xfrm>
          </p:grpSpPr>
          <p:sp>
            <p:nvSpPr>
              <p:cNvPr id="842" name="Text Box 11"/>
              <p:cNvSpPr/>
              <p:nvPr/>
            </p:nvSpPr>
            <p:spPr>
              <a:xfrm>
                <a:off x="6119640" y="2344680"/>
                <a:ext cx="3600720" cy="4859280"/>
              </a:xfrm>
              <a:prstGeom prst="rect">
                <a:avLst/>
              </a:prstGeom>
              <a:solidFill>
                <a:srgbClr val="ffffff"/>
              </a:solidFill>
              <a:ln w="28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добно Платону Аристотель разделяет «дурные» формы государства (тирания, крайняя олигархия и охлократия) и «хорошие» (монархия, аристократия и полития)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аилучшей формой государства, по Аристотелю, является полития – совокупность умеренной олигархии умеренной демократии, государство «среднего класса» (идеал Аристотеля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12"/>
              <p:cNvSpPr/>
              <p:nvPr/>
            </p:nvSpPr>
            <p:spPr>
              <a:xfrm>
                <a:off x="6119640" y="4504320"/>
                <a:ext cx="3599280" cy="1080"/>
              </a:xfrm>
              <a:prstGeom prst="line">
                <a:avLst/>
              </a:prstGeom>
              <a:ln w="36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3"/>
            <p:cNvGrpSpPr/>
            <p:nvPr/>
          </p:nvGrpSpPr>
          <p:grpSpPr>
            <a:xfrm>
              <a:off x="1079640" y="2705040"/>
              <a:ext cx="3598560" cy="4498560"/>
              <a:chOff x="1079640" y="2705040"/>
              <a:chExt cx="3598560" cy="4498560"/>
            </a:xfrm>
          </p:grpSpPr>
          <p:sp>
            <p:nvSpPr>
              <p:cNvPr id="845" name="Text Box 14"/>
              <p:cNvSpPr/>
              <p:nvPr/>
            </p:nvSpPr>
            <p:spPr>
              <a:xfrm>
                <a:off x="1079640" y="2705040"/>
                <a:ext cx="3598560" cy="750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онарх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1079640" y="6453000"/>
                <a:ext cx="3598560" cy="750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лит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Text Box 16"/>
              <p:cNvSpPr/>
              <p:nvPr/>
            </p:nvSpPr>
            <p:spPr>
              <a:xfrm>
                <a:off x="1079640" y="5704200"/>
                <a:ext cx="3598560" cy="750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хлократ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Text Box 17"/>
              <p:cNvSpPr/>
              <p:nvPr/>
            </p:nvSpPr>
            <p:spPr>
              <a:xfrm>
                <a:off x="1079640" y="4953600"/>
                <a:ext cx="3598560" cy="750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лигарх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1079640" y="4204440"/>
                <a:ext cx="3598560" cy="750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ристократ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1079640" y="3455640"/>
                <a:ext cx="3598560" cy="750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ран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851" name="Picture 2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8080" y="6840360"/>
            <a:ext cx="51264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1"/>
          <p:cNvSpPr/>
          <p:nvPr/>
        </p:nvSpPr>
        <p:spPr>
          <a:xfrm>
            <a:off x="900000" y="3419640"/>
            <a:ext cx="846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ФИЛОСОФИЯ ЭЛЛИНИЗ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oup 2"/>
          <p:cNvGrpSpPr/>
          <p:nvPr/>
        </p:nvGrpSpPr>
        <p:grpSpPr>
          <a:xfrm>
            <a:off x="423720" y="179280"/>
            <a:ext cx="9542520" cy="7201080"/>
            <a:chOff x="423720" y="179280"/>
            <a:chExt cx="9542520" cy="7201080"/>
          </a:xfrm>
        </p:grpSpPr>
        <p:grpSp>
          <p:nvGrpSpPr>
            <p:cNvPr id="855" name="Group 3"/>
            <p:cNvGrpSpPr/>
            <p:nvPr/>
          </p:nvGrpSpPr>
          <p:grpSpPr>
            <a:xfrm>
              <a:off x="3375000" y="1182600"/>
              <a:ext cx="3762360" cy="5283360"/>
              <a:chOff x="3375000" y="1182600"/>
              <a:chExt cx="3762360" cy="5283360"/>
            </a:xfrm>
          </p:grpSpPr>
          <p:sp>
            <p:nvSpPr>
              <p:cNvPr id="856" name="AutoShape 4"/>
              <p:cNvSpPr/>
              <p:nvPr/>
            </p:nvSpPr>
            <p:spPr>
              <a:xfrm>
                <a:off x="3375000" y="1182600"/>
                <a:ext cx="3762360" cy="5283360"/>
              </a:xfrm>
              <a:custGeom>
                <a:avLst/>
                <a:gdLst>
                  <a:gd name="textAreaLeft" fmla="*/ 360 w 3762360"/>
                  <a:gd name="textAreaRight" fmla="*/ 3762000 w 3762360"/>
                  <a:gd name="textAreaTop" fmla="*/ 360 h 5283360"/>
                  <a:gd name="textAreaBottom" fmla="*/ 5283000 h 5283360"/>
                </a:gdLst>
                <a:ahLst/>
                <a:rect l="textAreaLeft" t="textAreaTop" r="textAreaRight" b="textAreaBottom"/>
                <a:pathLst>
                  <a:path w="21600" h="30331">
                    <a:moveTo>
                      <a:pt x="8" y="0"/>
                    </a:moveTo>
                    <a:arcTo wR="8" hR="8" stAng="16200000" swAng="-5400000"/>
                    <a:lnTo>
                      <a:pt x="0" y="30323"/>
                    </a:lnTo>
                    <a:arcTo wR="8" hR="8" stAng="10800000" swAng="-5400000"/>
                    <a:lnTo>
                      <a:pt x="21592" y="30331"/>
                    </a:lnTo>
                    <a:arcTo wR="8" hR="8" stAng="5400000" swAng="-5400000"/>
                    <a:lnTo>
                      <a:pt x="21600" y="8"/>
                    </a:lnTo>
                    <a:arcTo wR="8" hR="8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7" name="Group 5"/>
            <p:cNvGrpSpPr/>
            <p:nvPr/>
          </p:nvGrpSpPr>
          <p:grpSpPr>
            <a:xfrm>
              <a:off x="1131840" y="179280"/>
              <a:ext cx="8128080" cy="1803240"/>
              <a:chOff x="1131840" y="179280"/>
              <a:chExt cx="8128080" cy="1803240"/>
            </a:xfrm>
          </p:grpSpPr>
          <p:sp>
            <p:nvSpPr>
              <p:cNvPr id="858" name="Text Box 6"/>
              <p:cNvSpPr/>
              <p:nvPr/>
            </p:nvSpPr>
            <p:spPr>
              <a:xfrm>
                <a:off x="1131840" y="179280"/>
                <a:ext cx="8128080" cy="4550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иники – одна из философских школ Древней Греции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Text Box 7"/>
              <p:cNvSpPr/>
              <p:nvPr/>
            </p:nvSpPr>
            <p:spPr>
              <a:xfrm>
                <a:off x="1131840" y="1028160"/>
                <a:ext cx="3710880" cy="656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арактерные черты философии и образа жизн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Text Box 8"/>
              <p:cNvSpPr/>
              <p:nvPr/>
            </p:nvSpPr>
            <p:spPr>
              <a:xfrm>
                <a:off x="7139520" y="932760"/>
                <a:ext cx="2120040" cy="455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собенност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AutoShape 9"/>
              <p:cNvSpPr/>
              <p:nvPr/>
            </p:nvSpPr>
            <p:spPr>
              <a:xfrm>
                <a:off x="8023320" y="1383120"/>
                <a:ext cx="336240" cy="336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Line 10"/>
              <p:cNvSpPr/>
              <p:nvPr/>
            </p:nvSpPr>
            <p:spPr>
              <a:xfrm>
                <a:off x="8197920" y="632520"/>
                <a:ext cx="144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AutoShape 11"/>
              <p:cNvSpPr/>
              <p:nvPr/>
            </p:nvSpPr>
            <p:spPr>
              <a:xfrm>
                <a:off x="3445920" y="1683000"/>
                <a:ext cx="335880" cy="29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AutoShape 12"/>
              <p:cNvSpPr/>
              <p:nvPr/>
            </p:nvSpPr>
            <p:spPr>
              <a:xfrm>
                <a:off x="3782160" y="632520"/>
                <a:ext cx="288720" cy="350640"/>
              </a:xfrm>
              <a:prstGeom prst="upDownArrow">
                <a:avLst>
                  <a:gd name="adj1" fmla="val 50000"/>
                  <a:gd name="adj2" fmla="val 24177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5" name="Group 13"/>
            <p:cNvGrpSpPr/>
            <p:nvPr/>
          </p:nvGrpSpPr>
          <p:grpSpPr>
            <a:xfrm>
              <a:off x="5018040" y="1800360"/>
              <a:ext cx="4948200" cy="5580000"/>
              <a:chOff x="5018040" y="1800360"/>
              <a:chExt cx="4948200" cy="5580000"/>
            </a:xfrm>
          </p:grpSpPr>
          <p:sp>
            <p:nvSpPr>
              <p:cNvPr id="866" name="Text Box 14"/>
              <p:cNvSpPr/>
              <p:nvPr/>
            </p:nvSpPr>
            <p:spPr>
              <a:xfrm>
                <a:off x="5018040" y="1800360"/>
                <a:ext cx="4948200" cy="1258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аиболее яркие представители философской школы киников – Антисфен, Диоген Синопский, Кратет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Text Box 15"/>
              <p:cNvSpPr/>
              <p:nvPr/>
            </p:nvSpPr>
            <p:spPr>
              <a:xfrm>
                <a:off x="5018040" y="3058920"/>
                <a:ext cx="4948200" cy="1113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Цель кинического учения – философское обоснование особого образа жизни – вне связи с общество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Text Box 16"/>
              <p:cNvSpPr/>
              <p:nvPr/>
            </p:nvSpPr>
            <p:spPr>
              <a:xfrm>
                <a:off x="5018040" y="4172760"/>
                <a:ext cx="4948200" cy="1812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иническая философия возникла в период кризиса античного полиса и завоевала симпатии людей, не нашедших своего места в  официальной системе общественнных отношений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Text Box 17"/>
              <p:cNvSpPr/>
              <p:nvPr/>
            </p:nvSpPr>
            <p:spPr>
              <a:xfrm>
                <a:off x="5018040" y="5985360"/>
                <a:ext cx="4948200" cy="1395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современную эпоху большое сходство с философией киников имеют философия и образ жизни йогов, хипп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0" name="Text Box 18"/>
            <p:cNvSpPr/>
            <p:nvPr/>
          </p:nvSpPr>
          <p:spPr>
            <a:xfrm>
              <a:off x="423720" y="1979640"/>
              <a:ext cx="4419720" cy="540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ведение в абсолют асоциальной свободы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бровольная отверженность, одиночество,скитания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разитический образ жизни, попрошайничество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схваление физической и духовной бедности, крайний аскетизм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итика идеалистических философских учений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признание авторитетов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рессивность в отстаивании своих взглядов, отсутствие патриотизма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центрация внимания на пороках обще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720720" y="360360"/>
            <a:ext cx="8640720" cy="68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4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</a:rPr>
              <a:t>Философия: предмет, структура, функц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</a:rPr>
              <a:t>Древнегреческая философ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</a:rPr>
              <a:t>Философия раннего эллиниз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</a:rPr>
              <a:t>Философия средневековь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</a:rPr>
              <a:t>Философия эпохи Возрож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</a:rPr>
              <a:t>Философия Нового времен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</a:rPr>
              <a:t>Немецкая классическая философ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</a:rPr>
              <a:t>Основные течения Западной философии (</a:t>
            </a:r>
            <a:r>
              <a:rPr b="0" lang="en-GB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IX-XX вв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философ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т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носеологи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циальная философ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ение о развит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личное понимание сущности исторического процесс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обальные проблемы современ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2280" y="90000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3960" y="6175440"/>
            <a:ext cx="266760" cy="304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3960" y="5815080"/>
            <a:ext cx="266760" cy="3045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3960" y="540072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3960" y="504036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53960" y="460368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8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53960" y="424332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9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3960" y="388296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0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453960" y="352260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1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53960" y="316224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2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53960" y="274788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3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453960" y="238752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4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453960" y="202716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422280" y="1619280"/>
            <a:ext cx="266760" cy="3049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6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422280" y="1260360"/>
            <a:ext cx="2667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1"/>
          <p:cNvGrpSpPr/>
          <p:nvPr/>
        </p:nvGrpSpPr>
        <p:grpSpPr>
          <a:xfrm>
            <a:off x="0" y="0"/>
            <a:ext cx="10078920" cy="7558200"/>
            <a:chOff x="0" y="0"/>
            <a:chExt cx="10078920" cy="7558200"/>
          </a:xfrm>
        </p:grpSpPr>
        <p:sp>
          <p:nvSpPr>
            <p:cNvPr id="872" name="Rectangle 2"/>
            <p:cNvSpPr/>
            <p:nvPr/>
          </p:nvSpPr>
          <p:spPr>
            <a:xfrm>
              <a:off x="0" y="0"/>
              <a:ext cx="10078920" cy="7558200"/>
            </a:xfrm>
            <a:prstGeom prst="rect">
              <a:avLst/>
            </a:prstGeom>
            <a:solidFill>
              <a:srgbClr val="94bd5e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AutoShape 3"/>
            <p:cNvSpPr/>
            <p:nvPr/>
          </p:nvSpPr>
          <p:spPr>
            <a:xfrm>
              <a:off x="2698200" y="931680"/>
              <a:ext cx="6838920" cy="446760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Text Box 4"/>
            <p:cNvSpPr/>
            <p:nvPr/>
          </p:nvSpPr>
          <p:spPr>
            <a:xfrm>
              <a:off x="537840" y="178920"/>
              <a:ext cx="9358200" cy="21600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оген Синопский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точные даты неизвестны, жил в IV в. до н.э., современник Александра Македонского) – наиболее яркий и известный теоретик и практик кинической философии. Считается, что именно он дал название данной философской школе (так как одно из прозвищ Диогена – «кинос», «собака»). В действительности название – от слова «Киносарг» -холм и гимнасий в Афинах, где Антисфен занимался с ученикам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5" name="Group 5"/>
            <p:cNvGrpSpPr/>
            <p:nvPr/>
          </p:nvGrpSpPr>
          <p:grpSpPr>
            <a:xfrm>
              <a:off x="3058560" y="2525040"/>
              <a:ext cx="4137480" cy="532800"/>
              <a:chOff x="3058560" y="2525040"/>
              <a:chExt cx="4137480" cy="532800"/>
            </a:xfrm>
          </p:grpSpPr>
          <p:sp>
            <p:nvSpPr>
              <p:cNvPr id="876" name="Text Box 6"/>
              <p:cNvSpPr/>
              <p:nvPr/>
            </p:nvSpPr>
            <p:spPr>
              <a:xfrm>
                <a:off x="3058560" y="2525040"/>
                <a:ext cx="4137480" cy="2257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собенност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utoShape 7"/>
              <p:cNvSpPr/>
              <p:nvPr/>
            </p:nvSpPr>
            <p:spPr>
              <a:xfrm>
                <a:off x="4829040" y="2750760"/>
                <a:ext cx="539280" cy="307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Text Box 8"/>
            <p:cNvSpPr/>
            <p:nvPr/>
          </p:nvSpPr>
          <p:spPr>
            <a:xfrm>
              <a:off x="537840" y="3239280"/>
              <a:ext cx="9358200" cy="413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ундаментальных философских трудов не оставил, однако вошел в историю своим скандальным поведением и образом жизни (жил в бочке, заявил царю А. Македонскому: «Отойди и не загораживай мне солнце!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нул лозунг: « Без общины, без дома, без отечества»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ел понятие «гражданин мира» (космополит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вергал брак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естоко высмеивал сторонников традиционного образа жизн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признавал ни каких законов, кроме закона природы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рдился своей независимостью от внешнего мира, живя попрошайничеством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ализировал жизнь первобытных людей и животных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1"/>
          <p:cNvGrpSpPr/>
          <p:nvPr/>
        </p:nvGrpSpPr>
        <p:grpSpPr>
          <a:xfrm>
            <a:off x="720720" y="360360"/>
            <a:ext cx="9177120" cy="7017840"/>
            <a:chOff x="720720" y="360360"/>
            <a:chExt cx="9177120" cy="7017840"/>
          </a:xfrm>
        </p:grpSpPr>
        <p:sp>
          <p:nvSpPr>
            <p:cNvPr id="880" name="AutoShape 2"/>
            <p:cNvSpPr/>
            <p:nvPr/>
          </p:nvSpPr>
          <p:spPr>
            <a:xfrm>
              <a:off x="2657160" y="539280"/>
              <a:ext cx="5080320" cy="5938560"/>
            </a:xfrm>
            <a:custGeom>
              <a:avLst/>
              <a:gdLst>
                <a:gd name="textAreaLeft" fmla="*/ 360 w 5080320"/>
                <a:gd name="textAreaRight" fmla="*/ 5079960 w 5080320"/>
                <a:gd name="textAreaTop" fmla="*/ 360 h 5938560"/>
                <a:gd name="textAreaBottom" fmla="*/ 5938200 h 5938560"/>
              </a:gdLst>
              <a:ahLst/>
              <a:rect l="textAreaLeft" t="textAreaTop" r="textAreaRight" b="textAreaBottom"/>
              <a:pathLst>
                <a:path w="21600" h="25249">
                  <a:moveTo>
                    <a:pt x="6" y="0"/>
                  </a:moveTo>
                  <a:arcTo wR="6" hR="6" stAng="16200000" swAng="-5400000"/>
                  <a:lnTo>
                    <a:pt x="0" y="25243"/>
                  </a:lnTo>
                  <a:arcTo wR="6" hR="6" stAng="10800000" swAng="-5400000"/>
                  <a:lnTo>
                    <a:pt x="21594" y="25249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1" name="Group 3"/>
            <p:cNvGrpSpPr/>
            <p:nvPr/>
          </p:nvGrpSpPr>
          <p:grpSpPr>
            <a:xfrm>
              <a:off x="720720" y="360360"/>
              <a:ext cx="7914960" cy="1978560"/>
              <a:chOff x="720720" y="360360"/>
              <a:chExt cx="7914960" cy="1978560"/>
            </a:xfrm>
          </p:grpSpPr>
          <p:sp>
            <p:nvSpPr>
              <p:cNvPr id="882" name="Text Box 4"/>
              <p:cNvSpPr/>
              <p:nvPr/>
            </p:nvSpPr>
            <p:spPr>
              <a:xfrm>
                <a:off x="3621240" y="360360"/>
                <a:ext cx="2786040" cy="410400"/>
              </a:xfrm>
              <a:prstGeom prst="rect">
                <a:avLst/>
              </a:prstGeom>
              <a:solidFill>
                <a:srgbClr val="ffff99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тоики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Text Box 5"/>
              <p:cNvSpPr/>
              <p:nvPr/>
            </p:nvSpPr>
            <p:spPr>
              <a:xfrm>
                <a:off x="720720" y="1041840"/>
                <a:ext cx="2730600" cy="872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тапы развития стоическо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Text Box 6"/>
              <p:cNvSpPr/>
              <p:nvPr/>
            </p:nvSpPr>
            <p:spPr>
              <a:xfrm>
                <a:off x="4151520" y="1060920"/>
                <a:ext cx="4484160" cy="546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арактерные черты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тоической философи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AutoShape 7"/>
              <p:cNvSpPr/>
              <p:nvPr/>
            </p:nvSpPr>
            <p:spPr>
              <a:xfrm>
                <a:off x="1986840" y="1914480"/>
                <a:ext cx="644040" cy="424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AutoShape 8"/>
              <p:cNvSpPr/>
              <p:nvPr/>
            </p:nvSpPr>
            <p:spPr>
              <a:xfrm>
                <a:off x="6409440" y="1640160"/>
                <a:ext cx="644040" cy="2743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9"/>
              <p:cNvSpPr/>
              <p:nvPr/>
            </p:nvSpPr>
            <p:spPr>
              <a:xfrm flipH="1">
                <a:off x="2856240" y="783360"/>
                <a:ext cx="910440" cy="282240"/>
              </a:xfrm>
              <a:prstGeom prst="line">
                <a:avLst/>
              </a:prstGeom>
              <a:ln w="36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10"/>
              <p:cNvSpPr/>
              <p:nvPr/>
            </p:nvSpPr>
            <p:spPr>
              <a:xfrm>
                <a:off x="6452280" y="783360"/>
                <a:ext cx="818640" cy="282240"/>
              </a:xfrm>
              <a:prstGeom prst="line">
                <a:avLst/>
              </a:prstGeom>
              <a:ln w="36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Text Box 11"/>
            <p:cNvSpPr/>
            <p:nvPr/>
          </p:nvSpPr>
          <p:spPr>
            <a:xfrm>
              <a:off x="720720" y="2518560"/>
              <a:ext cx="2520360" cy="4318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нняя Сто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III –II вв. до н. э.), представители – Зенон, Клеанф, Хрисипп и др.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едняя Стоя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II –I вв. до н. э.) – Панеттий, Посидоний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дняя Сто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I в. до н. э. – III в. н. э.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Text Box 12"/>
            <p:cNvSpPr/>
            <p:nvPr/>
          </p:nvSpPr>
          <p:spPr>
            <a:xfrm>
              <a:off x="3779280" y="1978920"/>
              <a:ext cx="6118560" cy="53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призыв к жизни в согласии с природой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признание добродетели высшим благом, а порока – единственным злом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пределение добродетели как знание о добре и зле и следования добру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призыв к добродетели как к постоянному состоянию душ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неучастие в жизни государства, игнорирование законов, традиций, философиии и культуры, если они служат злу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правдание самоубийства, если оно совершено в знак протеста против неспроведливости и зла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восхищение богатством, здоровьем, красотой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высокий эстетизм в мыслях и поступках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осуждение бедност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признание стремления к счастью высшей ценностью человека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Text Box 13"/>
            <p:cNvSpPr/>
            <p:nvPr/>
          </p:nvSpPr>
          <p:spPr>
            <a:xfrm>
              <a:off x="5039640" y="6838560"/>
              <a:ext cx="10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1"/>
          <p:cNvGrpSpPr/>
          <p:nvPr/>
        </p:nvGrpSpPr>
        <p:grpSpPr>
          <a:xfrm>
            <a:off x="360360" y="274680"/>
            <a:ext cx="9357840" cy="6924240"/>
            <a:chOff x="360360" y="274680"/>
            <a:chExt cx="9357840" cy="6924240"/>
          </a:xfrm>
        </p:grpSpPr>
        <p:grpSp>
          <p:nvGrpSpPr>
            <p:cNvPr id="893" name="Group 2"/>
            <p:cNvGrpSpPr/>
            <p:nvPr/>
          </p:nvGrpSpPr>
          <p:grpSpPr>
            <a:xfrm>
              <a:off x="1080720" y="274680"/>
              <a:ext cx="7624080" cy="982440"/>
              <a:chOff x="1080720" y="274680"/>
              <a:chExt cx="7624080" cy="982440"/>
            </a:xfrm>
          </p:grpSpPr>
          <p:sp>
            <p:nvSpPr>
              <p:cNvPr id="894" name="Text Box 3"/>
              <p:cNvSpPr/>
              <p:nvPr/>
            </p:nvSpPr>
            <p:spPr>
              <a:xfrm>
                <a:off x="4892040" y="274680"/>
                <a:ext cx="3812760" cy="58932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сновные иде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AutoShape 4"/>
              <p:cNvSpPr/>
              <p:nvPr/>
            </p:nvSpPr>
            <p:spPr>
              <a:xfrm>
                <a:off x="6670440" y="864000"/>
                <a:ext cx="512640" cy="3931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Text Box 5"/>
              <p:cNvSpPr/>
              <p:nvPr/>
            </p:nvSpPr>
            <p:spPr>
              <a:xfrm>
                <a:off x="1080720" y="275760"/>
                <a:ext cx="3812760" cy="58968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сновные взгляд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AutoShape 6"/>
              <p:cNvSpPr/>
              <p:nvPr/>
            </p:nvSpPr>
            <p:spPr>
              <a:xfrm>
                <a:off x="2648160" y="864000"/>
                <a:ext cx="514080" cy="3931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8" name="Text Box 7"/>
            <p:cNvSpPr/>
            <p:nvPr/>
          </p:nvSpPr>
          <p:spPr>
            <a:xfrm>
              <a:off x="360360" y="1439640"/>
              <a:ext cx="4505760" cy="575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НЕ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поведовал идеи добродетел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зывал не участвовать в общественной жизни и сосредоточиться на себ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ветствовал покой и созерцани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рил в безграничные возможности развития человека и человечества в цело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увеличивал роль философов в управлении государством, презирал «толпу»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читал высшим благом нравственный идеал и человеческое счасть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дел в философии не отвлеченную теоретическую систему, а практическое руководство по управлению государством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Text Box 8"/>
            <p:cNvSpPr/>
            <p:nvPr/>
          </p:nvSpPr>
          <p:spPr>
            <a:xfrm>
              <a:off x="5212440" y="1439640"/>
              <a:ext cx="4505760" cy="575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РК АВРЕЛ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убокое личное уважительное отношение к Бог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нимание Бога как активной материально-духовной силы, объединяющей весь мир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дение в качестве главной причины успеха, счастья сотрудничества с Божественными силами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еление внешнего мира, который неподвластен человеку и внутреннего мира, подвластного только человек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еление души и разум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зывы к несопротивлению внешним обстоятельствам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почтение пессимистического взгляда на явления окружающего мир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1"/>
          <p:cNvGrpSpPr/>
          <p:nvPr/>
        </p:nvGrpSpPr>
        <p:grpSpPr>
          <a:xfrm>
            <a:off x="539640" y="179280"/>
            <a:ext cx="9358200" cy="7199280"/>
            <a:chOff x="539640" y="179280"/>
            <a:chExt cx="9358200" cy="7199280"/>
          </a:xfrm>
        </p:grpSpPr>
        <p:sp>
          <p:nvSpPr>
            <p:cNvPr id="901" name="Line 2"/>
            <p:cNvSpPr/>
            <p:nvPr/>
          </p:nvSpPr>
          <p:spPr>
            <a:xfrm>
              <a:off x="5218920" y="1978920"/>
              <a:ext cx="1440" cy="3600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AutoShape 3"/>
            <p:cNvSpPr/>
            <p:nvPr/>
          </p:nvSpPr>
          <p:spPr>
            <a:xfrm>
              <a:off x="2698560" y="539280"/>
              <a:ext cx="5038920" cy="6478560"/>
            </a:xfrm>
            <a:custGeom>
              <a:avLst/>
              <a:gdLst>
                <a:gd name="textAreaLeft" fmla="*/ 360 w 5038920"/>
                <a:gd name="textAreaRight" fmla="*/ 5038560 w 5038920"/>
                <a:gd name="textAreaTop" fmla="*/ 360 h 6478560"/>
                <a:gd name="textAreaBottom" fmla="*/ 6478200 h 6478560"/>
              </a:gdLst>
              <a:ahLst/>
              <a:rect l="textAreaLeft" t="textAreaTop" r="textAreaRight" b="textAreaBottom"/>
              <a:pathLst>
                <a:path w="21600" h="27771">
                  <a:moveTo>
                    <a:pt x="6" y="0"/>
                  </a:moveTo>
                  <a:arcTo wR="6" hR="6" stAng="16200000" swAng="-5400000"/>
                  <a:lnTo>
                    <a:pt x="0" y="27765"/>
                  </a:lnTo>
                  <a:arcTo wR="6" hR="6" stAng="10800000" swAng="-5400000"/>
                  <a:lnTo>
                    <a:pt x="21594" y="27771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Text Box 4"/>
            <p:cNvSpPr/>
            <p:nvPr/>
          </p:nvSpPr>
          <p:spPr>
            <a:xfrm>
              <a:off x="898200" y="539280"/>
              <a:ext cx="1765080" cy="90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ние о природе и космос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Text Box 5"/>
            <p:cNvSpPr/>
            <p:nvPr/>
          </p:nvSpPr>
          <p:spPr>
            <a:xfrm>
              <a:off x="4392000" y="1439640"/>
              <a:ext cx="1547280" cy="60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ние о познан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6"/>
            <p:cNvSpPr/>
            <p:nvPr/>
          </p:nvSpPr>
          <p:spPr>
            <a:xfrm>
              <a:off x="7376040" y="539280"/>
              <a:ext cx="1701360" cy="668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ние 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6" name="Group 7"/>
            <p:cNvGrpSpPr/>
            <p:nvPr/>
          </p:nvGrpSpPr>
          <p:grpSpPr>
            <a:xfrm>
              <a:off x="4137840" y="179280"/>
              <a:ext cx="2160360" cy="898200"/>
              <a:chOff x="4137840" y="179280"/>
              <a:chExt cx="2160360" cy="898200"/>
            </a:xfrm>
          </p:grpSpPr>
          <p:sp>
            <p:nvSpPr>
              <p:cNvPr id="907" name="Oval 8"/>
              <p:cNvSpPr/>
              <p:nvPr/>
            </p:nvSpPr>
            <p:spPr>
              <a:xfrm>
                <a:off x="4137840" y="179280"/>
                <a:ext cx="2160360" cy="89820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Text Box 9"/>
              <p:cNvSpPr/>
              <p:nvPr/>
            </p:nvSpPr>
            <p:spPr>
              <a:xfrm>
                <a:off x="4458240" y="310680"/>
                <a:ext cx="1519200" cy="6332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пикур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9" name="AutoShape 10"/>
            <p:cNvSpPr/>
            <p:nvPr/>
          </p:nvSpPr>
          <p:spPr>
            <a:xfrm>
              <a:off x="1690200" y="1472760"/>
              <a:ext cx="290160" cy="326880"/>
            </a:xfrm>
            <a:prstGeom prst="downArrow">
              <a:avLst>
                <a:gd name="adj1" fmla="val 50000"/>
                <a:gd name="adj2" fmla="val 28164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AutoShape 11"/>
            <p:cNvSpPr/>
            <p:nvPr/>
          </p:nvSpPr>
          <p:spPr>
            <a:xfrm>
              <a:off x="8097840" y="1260000"/>
              <a:ext cx="288720" cy="261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2"/>
            <p:cNvSpPr/>
            <p:nvPr/>
          </p:nvSpPr>
          <p:spPr>
            <a:xfrm flipH="1">
              <a:off x="2652480" y="539280"/>
              <a:ext cx="1531440" cy="5396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>
              <a:off x="6298200" y="539280"/>
              <a:ext cx="1078920" cy="3600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>
              <a:off x="5218920" y="1079280"/>
              <a:ext cx="14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Text Box 15"/>
            <p:cNvSpPr/>
            <p:nvPr/>
          </p:nvSpPr>
          <p:spPr>
            <a:xfrm>
              <a:off x="7198200" y="1618920"/>
              <a:ext cx="2699640" cy="575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оим появлением на свет человек обязан самому себ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 – результат биологической эволюци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ги не вмешиваются в жизнь людей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дьба человека зависит от него самого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уша – особый вид материи, и она смертн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 должен стремиться к счастью в земной жизн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частье человека – в удовольствии, т.е. отсутствии страданий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Text Box 16"/>
            <p:cNvSpPr/>
            <p:nvPr/>
          </p:nvSpPr>
          <p:spPr>
            <a:xfrm>
              <a:off x="3958560" y="2339280"/>
              <a:ext cx="2699640" cy="503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ружающий мир познавае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м видом познания является чувственное познани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возможно «созерцание разумом» каких-либо «идей» либо явлений, если этому не предшествовали чувственное познание и ощущени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щущения возникают благодаря восприятию познающим субъектом образов предметов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Text Box 17"/>
            <p:cNvSpPr/>
            <p:nvPr/>
          </p:nvSpPr>
          <p:spPr>
            <a:xfrm>
              <a:off x="539640" y="1978920"/>
              <a:ext cx="2879280" cy="53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ичего не происходит из несуществующего и ничто не становится несуществующим, ибо нет ничего помимо Вселенной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еленная вечна и бесконечн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е вещества состоят из атомов и пустоты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томы и пустота вечны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томы находятся в постоянном движени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мира чистых идей не существует»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ществует множество материальных миров во Вселенной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8" name="Group 2"/>
          <p:cNvGrpSpPr/>
          <p:nvPr/>
        </p:nvGrpSpPr>
        <p:grpSpPr>
          <a:xfrm>
            <a:off x="360360" y="179280"/>
            <a:ext cx="9358200" cy="7018560"/>
            <a:chOff x="360360" y="179280"/>
            <a:chExt cx="9358200" cy="7018560"/>
          </a:xfrm>
        </p:grpSpPr>
        <p:grpSp>
          <p:nvGrpSpPr>
            <p:cNvPr id="919" name="Group 3"/>
            <p:cNvGrpSpPr/>
            <p:nvPr/>
          </p:nvGrpSpPr>
          <p:grpSpPr>
            <a:xfrm>
              <a:off x="360360" y="179280"/>
              <a:ext cx="9358200" cy="7018560"/>
              <a:chOff x="360360" y="179280"/>
              <a:chExt cx="9358200" cy="7018560"/>
            </a:xfrm>
          </p:grpSpPr>
          <p:sp>
            <p:nvSpPr>
              <p:cNvPr id="920" name="AutoShape 4"/>
              <p:cNvSpPr/>
              <p:nvPr/>
            </p:nvSpPr>
            <p:spPr>
              <a:xfrm>
                <a:off x="360360" y="179280"/>
                <a:ext cx="9358200" cy="701856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Text Box 5"/>
              <p:cNvSpPr/>
              <p:nvPr/>
            </p:nvSpPr>
            <p:spPr>
              <a:xfrm>
                <a:off x="1083960" y="1055160"/>
                <a:ext cx="7910280" cy="52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флекс</a:t>
                </a:r>
                <a:r>
                  <a:rPr b="0" i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Я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 Box 6"/>
            <p:cNvSpPr/>
            <p:nvPr/>
          </p:nvSpPr>
          <p:spPr>
            <a:xfrm>
              <a:off x="1258920" y="3678120"/>
              <a:ext cx="817560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Text Box 7"/>
          <p:cNvSpPr/>
          <p:nvPr/>
        </p:nvSpPr>
        <p:spPr>
          <a:xfrm>
            <a:off x="0" y="2076480"/>
            <a:ext cx="107838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8"/>
          <p:cNvGrpSpPr/>
          <p:nvPr/>
        </p:nvGrpSpPr>
        <p:grpSpPr>
          <a:xfrm>
            <a:off x="523800" y="2462040"/>
            <a:ext cx="8818200" cy="3837240"/>
            <a:chOff x="523800" y="2462040"/>
            <a:chExt cx="8818200" cy="3837240"/>
          </a:xfrm>
        </p:grpSpPr>
        <p:sp>
          <p:nvSpPr>
            <p:cNvPr id="925" name="AutoShape 9"/>
            <p:cNvSpPr/>
            <p:nvPr/>
          </p:nvSpPr>
          <p:spPr>
            <a:xfrm>
              <a:off x="523800" y="2462040"/>
              <a:ext cx="8816760" cy="3837240"/>
            </a:xfrm>
            <a:prstGeom prst="horizontalScroll">
              <a:avLst>
                <a:gd name="adj" fmla="val 12500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107423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1063440" y="3134880"/>
              <a:ext cx="8278560" cy="27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рольные вопрос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то объединяет всех античных философов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го и почему считают первым философом Запада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чем проявляется античная специфика материализма и идеализма древних греков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ие принципы лежат в основании линии Платона в философии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то характеризует линию Аристотеля в философии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27" name="Picture 1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1"/>
          <p:cNvSpPr/>
          <p:nvPr/>
        </p:nvSpPr>
        <p:spPr>
          <a:xfrm>
            <a:off x="900000" y="2340000"/>
            <a:ext cx="84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ФИЛОСОФИЯ СРЕДНЕВЕКОВ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1260360" y="360360"/>
            <a:ext cx="666144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3"/>
          <p:cNvGrpSpPr/>
          <p:nvPr/>
        </p:nvGrpSpPr>
        <p:grpSpPr>
          <a:xfrm>
            <a:off x="720720" y="360360"/>
            <a:ext cx="8818560" cy="6659280"/>
            <a:chOff x="720720" y="360360"/>
            <a:chExt cx="8818560" cy="6659280"/>
          </a:xfrm>
        </p:grpSpPr>
        <p:sp>
          <p:nvSpPr>
            <p:cNvPr id="932" name="Text Box 4"/>
            <p:cNvSpPr/>
            <p:nvPr/>
          </p:nvSpPr>
          <p:spPr>
            <a:xfrm>
              <a:off x="720720" y="360360"/>
              <a:ext cx="8818560" cy="809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падная христианская философия средних веков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5"/>
            <p:cNvSpPr/>
            <p:nvPr/>
          </p:nvSpPr>
          <p:spPr>
            <a:xfrm>
              <a:off x="1847520" y="1439640"/>
              <a:ext cx="6970680" cy="3182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тристика (II-VII вв.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ристианский гностицизм (Карпократ, Василид, Валентин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ристианская апологетика (Марциан, Юстин, Тертуллиан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ександрийская школа (Пантен, Климент, Ориген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ппадокийская догматика (Григорий Нисский, Григорий Назианзин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гматическая патристика (Августин, Иоанн Дамаскин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нихейство (Мани и последователи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 Box 6"/>
            <p:cNvSpPr/>
            <p:nvPr/>
          </p:nvSpPr>
          <p:spPr>
            <a:xfrm>
              <a:off x="1847520" y="4785120"/>
              <a:ext cx="6970680" cy="223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холастика (VII-XV вв.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минализм (Абеляр, Оккам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ализм (Августин, Фома Аквинат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тореформаторство (Уиклиф, Гус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стическое христианство (Экхарт, Таулер, Сузо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ристианская алхимическая философия (Альберт Великий, Роджер Бэкон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7"/>
            <p:cNvSpPr/>
            <p:nvPr/>
          </p:nvSpPr>
          <p:spPr>
            <a:xfrm>
              <a:off x="1455480" y="1166400"/>
              <a:ext cx="1080" cy="48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8"/>
            <p:cNvSpPr/>
            <p:nvPr/>
          </p:nvSpPr>
          <p:spPr>
            <a:xfrm>
              <a:off x="1455480" y="6004080"/>
              <a:ext cx="39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9"/>
            <p:cNvSpPr/>
            <p:nvPr/>
          </p:nvSpPr>
          <p:spPr>
            <a:xfrm>
              <a:off x="1455480" y="2813760"/>
              <a:ext cx="391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1"/>
          <p:cNvSpPr/>
          <p:nvPr/>
        </p:nvSpPr>
        <p:spPr>
          <a:xfrm>
            <a:off x="901800" y="2879640"/>
            <a:ext cx="84614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ОСНОВНЫЕ ИДЕИ ЗАПАДНОЙ ФИЛОСОФИИ СРЕДНИХ ВЕ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-XIV вв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Group 2"/>
          <p:cNvGrpSpPr/>
          <p:nvPr/>
        </p:nvGrpSpPr>
        <p:grpSpPr>
          <a:xfrm>
            <a:off x="360360" y="179280"/>
            <a:ext cx="9178560" cy="7019640"/>
            <a:chOff x="360360" y="179280"/>
            <a:chExt cx="9178560" cy="7019640"/>
          </a:xfrm>
        </p:grpSpPr>
        <p:sp>
          <p:nvSpPr>
            <p:cNvPr id="941" name="Text Box 3"/>
            <p:cNvSpPr/>
            <p:nvPr/>
          </p:nvSpPr>
          <p:spPr>
            <a:xfrm>
              <a:off x="360360" y="179280"/>
              <a:ext cx="2518560" cy="685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лог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4"/>
            <p:cNvSpPr/>
            <p:nvPr/>
          </p:nvSpPr>
          <p:spPr>
            <a:xfrm>
              <a:off x="2880720" y="179280"/>
              <a:ext cx="6656760" cy="685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центризм. Всемогущая Абсолютная личность. Монотеизм. Антропоморфиз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 Box 5"/>
            <p:cNvSpPr/>
            <p:nvPr/>
          </p:nvSpPr>
          <p:spPr>
            <a:xfrm>
              <a:off x="361440" y="864720"/>
              <a:ext cx="2517120" cy="9349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нтолог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6"/>
            <p:cNvSpPr/>
            <p:nvPr/>
          </p:nvSpPr>
          <p:spPr>
            <a:xfrm>
              <a:off x="2880720" y="864720"/>
              <a:ext cx="6658200" cy="93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еационизм – творение мира из «ничего». Дуализм бытия: Божественный мир и природный мир. Высшее бытие – Бог. Природа – неподлинное бытие. Геоцентризм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7"/>
            <p:cNvSpPr/>
            <p:nvPr/>
          </p:nvSpPr>
          <p:spPr>
            <a:xfrm>
              <a:off x="361440" y="1801080"/>
              <a:ext cx="2517120" cy="1620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рополог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Text Box 8"/>
            <p:cNvSpPr/>
            <p:nvPr/>
          </p:nvSpPr>
          <p:spPr>
            <a:xfrm>
              <a:off x="2880720" y="1801080"/>
              <a:ext cx="6658200" cy="1620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еационизм – творение человека Богом. Человек – подобие Бога. Человек: дух+душа+тело. Посмертное бытие души в соответствии с воздоянием. Бессмертие как приобщение души к духу. Идея спасения человека через Бога – Сына. Открытие самосознания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9"/>
            <p:cNvSpPr/>
            <p:nvPr/>
          </p:nvSpPr>
          <p:spPr>
            <a:xfrm>
              <a:off x="361440" y="3420000"/>
              <a:ext cx="2518920" cy="899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носеолог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10"/>
            <p:cNvSpPr/>
            <p:nvPr/>
          </p:nvSpPr>
          <p:spPr>
            <a:xfrm>
              <a:off x="2880720" y="3420000"/>
              <a:ext cx="6656760" cy="899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ященное Писание (Библия) – Откровение Бога. Бог непознаваем. Вера выше знания. Философия - «служанка» богослов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11"/>
            <p:cNvSpPr/>
            <p:nvPr/>
          </p:nvSpPr>
          <p:spPr>
            <a:xfrm>
              <a:off x="360360" y="4318560"/>
              <a:ext cx="2518560" cy="1260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12"/>
            <p:cNvSpPr/>
            <p:nvPr/>
          </p:nvSpPr>
          <p:spPr>
            <a:xfrm>
              <a:off x="2880720" y="4318560"/>
              <a:ext cx="6656760" cy="133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ральные заповеди Христа. Аскетизм. Человек имеет божественную душу, но, вместе с тем , грешен и зол. Зло в мире не от Бога, а от человека. Моральный долг человека – спасение своей душ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Text Box 13"/>
            <p:cNvSpPr/>
            <p:nvPr/>
          </p:nvSpPr>
          <p:spPr>
            <a:xfrm>
              <a:off x="361440" y="6478200"/>
              <a:ext cx="2518920" cy="72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ая философ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Text Box 14"/>
            <p:cNvSpPr/>
            <p:nvPr/>
          </p:nvSpPr>
          <p:spPr>
            <a:xfrm>
              <a:off x="2882160" y="6478200"/>
              <a:ext cx="6656760" cy="72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г дает и устанавливает общественные законы. Социальная иерархия подобна «Небесной»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15"/>
            <p:cNvSpPr/>
            <p:nvPr/>
          </p:nvSpPr>
          <p:spPr>
            <a:xfrm>
              <a:off x="360360" y="5578560"/>
              <a:ext cx="2517120" cy="899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истор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16"/>
            <p:cNvSpPr/>
            <p:nvPr/>
          </p:nvSpPr>
          <p:spPr>
            <a:xfrm>
              <a:off x="2878920" y="5578560"/>
              <a:ext cx="6660000" cy="899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иденциализм. Главный движущий фактор истории – Бог. Направленность истории ко «второму пришествию». Эсхатология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1"/>
          <p:cNvSpPr/>
          <p:nvPr/>
        </p:nvSpPr>
        <p:spPr>
          <a:xfrm>
            <a:off x="901800" y="2879640"/>
            <a:ext cx="84614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ОСОБЕННОСТИ РЕЛИГИОЗНОЙ КАРТИНЫ МИ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1260360" y="2879640"/>
            <a:ext cx="738036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ФИЛОСОФ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ПРЕДМЕТ, СТРУКТУРА, ФУН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Group 2"/>
          <p:cNvGrpSpPr/>
          <p:nvPr/>
        </p:nvGrpSpPr>
        <p:grpSpPr>
          <a:xfrm>
            <a:off x="838080" y="360360"/>
            <a:ext cx="8519760" cy="6009840"/>
            <a:chOff x="838080" y="360360"/>
            <a:chExt cx="8519760" cy="6009840"/>
          </a:xfrm>
        </p:grpSpPr>
        <p:grpSp>
          <p:nvGrpSpPr>
            <p:cNvPr id="958" name="Group 3"/>
            <p:cNvGrpSpPr/>
            <p:nvPr/>
          </p:nvGrpSpPr>
          <p:grpSpPr>
            <a:xfrm>
              <a:off x="838080" y="360360"/>
              <a:ext cx="8519760" cy="6009840"/>
              <a:chOff x="838080" y="360360"/>
              <a:chExt cx="8519760" cy="6009840"/>
            </a:xfrm>
          </p:grpSpPr>
          <p:sp>
            <p:nvSpPr>
              <p:cNvPr id="959" name="Line 4"/>
              <p:cNvSpPr/>
              <p:nvPr/>
            </p:nvSpPr>
            <p:spPr>
              <a:xfrm>
                <a:off x="5097600" y="3238920"/>
                <a:ext cx="1800" cy="3059640"/>
              </a:xfrm>
              <a:prstGeom prst="line">
                <a:avLst/>
              </a:prstGeom>
              <a:ln w="36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5"/>
              <p:cNvSpPr/>
              <p:nvPr/>
            </p:nvSpPr>
            <p:spPr>
              <a:xfrm>
                <a:off x="2725920" y="360360"/>
                <a:ext cx="4857840" cy="6854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</a:rPr>
                  <a:t>Религ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6"/>
              <p:cNvSpPr/>
              <p:nvPr/>
            </p:nvSpPr>
            <p:spPr>
              <a:xfrm>
                <a:off x="838080" y="1439640"/>
                <a:ext cx="2477520" cy="125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Религиозное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сознани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7"/>
              <p:cNvSpPr/>
              <p:nvPr/>
            </p:nvSpPr>
            <p:spPr>
              <a:xfrm>
                <a:off x="6764040" y="1439640"/>
                <a:ext cx="2593800" cy="125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Религиозные организации (церковь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8"/>
              <p:cNvSpPr/>
              <p:nvPr/>
            </p:nvSpPr>
            <p:spPr>
              <a:xfrm>
                <a:off x="838080" y="3238920"/>
                <a:ext cx="8519760" cy="51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Вера в сверхъестественное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9"/>
              <p:cNvSpPr/>
              <p:nvPr/>
            </p:nvSpPr>
            <p:spPr>
              <a:xfrm>
                <a:off x="838080" y="3923280"/>
                <a:ext cx="8519760" cy="75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Чувство завистимости человека от чего-то иного, лежащего вне человек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10"/>
              <p:cNvSpPr/>
              <p:nvPr/>
            </p:nvSpPr>
            <p:spPr>
              <a:xfrm>
                <a:off x="838080" y="4857840"/>
                <a:ext cx="8519760" cy="51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Теология и религиозно-идеалистическая философ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11"/>
              <p:cNvSpPr/>
              <p:nvPr/>
            </p:nvSpPr>
            <p:spPr>
              <a:xfrm>
                <a:off x="838080" y="5543280"/>
                <a:ext cx="8519760" cy="826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Отражение в сознании внешних сил, которые господствуют над человеком в повседневной жизн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12"/>
              <p:cNvSpPr/>
              <p:nvPr/>
            </p:nvSpPr>
            <p:spPr>
              <a:xfrm>
                <a:off x="3546000" y="1439640"/>
                <a:ext cx="3033360" cy="125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Религиозные Культуры и обрядность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968" name="AutoShape 13"/>
              <p:cNvCxnSpPr>
                <a:stCxn id="961" idx="1"/>
                <a:endCxn id="966" idx="1"/>
              </p:cNvCxnSpPr>
              <p:nvPr/>
            </p:nvCxnSpPr>
            <p:spPr>
              <a:xfrm>
                <a:off x="838080" y="2069280"/>
                <a:ext cx="2160" cy="3888720"/>
              </a:xfrm>
              <a:prstGeom prst="bentConnector3">
                <a:avLst>
                  <a:gd name="adj1" fmla="val 40000"/>
                </a:avLst>
              </a:prstGeom>
              <a:ln w="36000">
                <a:solidFill>
                  <a:srgbClr val="000000"/>
                </a:solidFill>
                <a:round/>
              </a:ln>
            </p:spPr>
          </p:cxnSp>
          <p:sp>
            <p:nvSpPr>
              <p:cNvPr id="969" name="Line 14"/>
              <p:cNvSpPr/>
              <p:nvPr/>
            </p:nvSpPr>
            <p:spPr>
              <a:xfrm flipH="1">
                <a:off x="2831760" y="1079280"/>
                <a:ext cx="1566360" cy="360000"/>
              </a:xfrm>
              <a:prstGeom prst="line">
                <a:avLst/>
              </a:prstGeom>
              <a:ln w="360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5"/>
              <p:cNvSpPr/>
              <p:nvPr/>
            </p:nvSpPr>
            <p:spPr>
              <a:xfrm>
                <a:off x="5097600" y="1079280"/>
                <a:ext cx="1800" cy="360000"/>
              </a:xfrm>
              <a:prstGeom prst="line">
                <a:avLst/>
              </a:prstGeom>
              <a:ln w="360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6"/>
              <p:cNvSpPr/>
              <p:nvPr/>
            </p:nvSpPr>
            <p:spPr>
              <a:xfrm>
                <a:off x="6208560" y="1079280"/>
                <a:ext cx="1296720" cy="360000"/>
              </a:xfrm>
              <a:prstGeom prst="line">
                <a:avLst/>
              </a:prstGeom>
              <a:ln w="360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1"/>
          <p:cNvGrpSpPr/>
          <p:nvPr/>
        </p:nvGrpSpPr>
        <p:grpSpPr>
          <a:xfrm>
            <a:off x="360360" y="179280"/>
            <a:ext cx="9537480" cy="7200720"/>
            <a:chOff x="360360" y="179280"/>
            <a:chExt cx="9537480" cy="7200720"/>
          </a:xfrm>
        </p:grpSpPr>
        <p:sp>
          <p:nvSpPr>
            <p:cNvPr id="973" name="Rectangle 2"/>
            <p:cNvSpPr/>
            <p:nvPr/>
          </p:nvSpPr>
          <p:spPr>
            <a:xfrm>
              <a:off x="2479320" y="348840"/>
              <a:ext cx="4945680" cy="62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3"/>
            <p:cNvSpPr/>
            <p:nvPr/>
          </p:nvSpPr>
          <p:spPr>
            <a:xfrm>
              <a:off x="3893400" y="1103040"/>
              <a:ext cx="1944360" cy="51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8080" bIns="2808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ставите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4"/>
            <p:cNvSpPr/>
            <p:nvPr/>
          </p:nvSpPr>
          <p:spPr>
            <a:xfrm>
              <a:off x="6895080" y="1098360"/>
              <a:ext cx="2475720" cy="55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8080" bIns="2808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черт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AutoShape 5"/>
            <p:cNvSpPr/>
            <p:nvPr/>
          </p:nvSpPr>
          <p:spPr>
            <a:xfrm>
              <a:off x="1596600" y="1657080"/>
              <a:ext cx="209160" cy="391680"/>
            </a:xfrm>
            <a:prstGeom prst="downArrow">
              <a:avLst>
                <a:gd name="adj1" fmla="val 50000"/>
                <a:gd name="adj2" fmla="val 46816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Text Box 6"/>
            <p:cNvSpPr/>
            <p:nvPr/>
          </p:nvSpPr>
          <p:spPr>
            <a:xfrm>
              <a:off x="890280" y="1069560"/>
              <a:ext cx="1766520" cy="58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8080" bIns="2808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7"/>
            <p:cNvSpPr/>
            <p:nvPr/>
          </p:nvSpPr>
          <p:spPr>
            <a:xfrm>
              <a:off x="360360" y="179280"/>
              <a:ext cx="9363240" cy="7426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8080" bIns="2808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едневеков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логическая философ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AutoShape 8"/>
            <p:cNvSpPr/>
            <p:nvPr/>
          </p:nvSpPr>
          <p:spPr>
            <a:xfrm>
              <a:off x="4745880" y="1633320"/>
              <a:ext cx="209160" cy="391680"/>
            </a:xfrm>
            <a:prstGeom prst="downArrow">
              <a:avLst>
                <a:gd name="adj1" fmla="val 50000"/>
                <a:gd name="adj2" fmla="val 46816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AutoShape 9"/>
            <p:cNvSpPr/>
            <p:nvPr/>
          </p:nvSpPr>
          <p:spPr>
            <a:xfrm>
              <a:off x="8099640" y="1657080"/>
              <a:ext cx="209160" cy="391680"/>
            </a:xfrm>
            <a:prstGeom prst="downArrow">
              <a:avLst>
                <a:gd name="adj1" fmla="val 50000"/>
                <a:gd name="adj2" fmla="val 46816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Text Box 10"/>
            <p:cNvSpPr/>
            <p:nvPr/>
          </p:nvSpPr>
          <p:spPr>
            <a:xfrm>
              <a:off x="360360" y="2208960"/>
              <a:ext cx="3002760" cy="517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8080" bIns="2808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чала зарождаться еще в Римской империи в I-V вв. н.э. на основе раннего христианства, ересей и античной философии и достигла высшего расцвета в V-XIII  вв. н.э.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личалась замкнутостью на самой себе, традиционностью, повернутостью в прошлое, оторванностью от реального мира, догматизмом, назидательностью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Text Box 11"/>
            <p:cNvSpPr/>
            <p:nvPr/>
          </p:nvSpPr>
          <p:spPr>
            <a:xfrm>
              <a:off x="6188760" y="2208960"/>
              <a:ext cx="3709080" cy="517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8080" bIns="2808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центриз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ю космоса и природы уделялось мало внимания;господствовали догматы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глаживается противоречие между материализмом и идеализмо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 выделялся из природы и объявлялся творением Бога, стоящим над природой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зглашался принцип свободы воли человека в рамках божественного предопределени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галась идея воскрешения человека из мертвых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р считался познаваемым через познание Бог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Text Box 12"/>
            <p:cNvSpPr/>
            <p:nvPr/>
          </p:nvSpPr>
          <p:spPr>
            <a:xfrm>
              <a:off x="3539520" y="2208960"/>
              <a:ext cx="2473920" cy="517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8080" bIns="2808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вгустин Блаженны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354-430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эци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480-524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ьберт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лики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193-1280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м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винский (1225-1374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сельм Кентерберийский (1033-1109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ьер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беляр (1079-1142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ильям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кам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285-1349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1"/>
          <p:cNvGrpSpPr/>
          <p:nvPr/>
        </p:nvGrpSpPr>
        <p:grpSpPr>
          <a:xfrm>
            <a:off x="719280" y="360360"/>
            <a:ext cx="8999280" cy="6838560"/>
            <a:chOff x="719280" y="360360"/>
            <a:chExt cx="8999280" cy="6838560"/>
          </a:xfrm>
        </p:grpSpPr>
        <p:sp>
          <p:nvSpPr>
            <p:cNvPr id="985" name="AutoShape 2"/>
            <p:cNvSpPr/>
            <p:nvPr/>
          </p:nvSpPr>
          <p:spPr>
            <a:xfrm>
              <a:off x="3017160" y="539280"/>
              <a:ext cx="5438880" cy="6298920"/>
            </a:xfrm>
            <a:custGeom>
              <a:avLst/>
              <a:gdLst>
                <a:gd name="textAreaLeft" fmla="*/ 360 w 5438880"/>
                <a:gd name="textAreaRight" fmla="*/ 5438520 w 5438880"/>
                <a:gd name="textAreaTop" fmla="*/ 360 h 6298920"/>
                <a:gd name="textAreaBottom" fmla="*/ 6298560 h 6298920"/>
              </a:gdLst>
              <a:ahLst/>
              <a:rect l="textAreaLeft" t="textAreaTop" r="textAreaRight" b="textAreaBottom"/>
              <a:pathLst>
                <a:path w="21600" h="25015">
                  <a:moveTo>
                    <a:pt x="6" y="0"/>
                  </a:moveTo>
                  <a:arcTo wR="6" hR="6" stAng="16200000" swAng="-5400000"/>
                  <a:lnTo>
                    <a:pt x="0" y="25009"/>
                  </a:lnTo>
                  <a:arcTo wR="6" hR="6" stAng="10800000" swAng="-5400000"/>
                  <a:lnTo>
                    <a:pt x="21594" y="25015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Text Box 3"/>
            <p:cNvSpPr/>
            <p:nvPr/>
          </p:nvSpPr>
          <p:spPr>
            <a:xfrm>
              <a:off x="719280" y="360360"/>
              <a:ext cx="8999280" cy="539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едневековая теологическая философ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4"/>
            <p:cNvSpPr/>
            <p:nvPr/>
          </p:nvSpPr>
          <p:spPr>
            <a:xfrm>
              <a:off x="719280" y="1079280"/>
              <a:ext cx="3959640" cy="112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истенция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бытие, существование) – показывает, есть ли вещь вообще (то есть существует или не существует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Text Box 5"/>
            <p:cNvSpPr/>
            <p:nvPr/>
          </p:nvSpPr>
          <p:spPr>
            <a:xfrm>
              <a:off x="6117120" y="1079280"/>
              <a:ext cx="3599640" cy="72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ссенция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сущность), характеризующая вещ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Text Box 6"/>
            <p:cNvSpPr/>
            <p:nvPr/>
          </p:nvSpPr>
          <p:spPr>
            <a:xfrm>
              <a:off x="719280" y="2878920"/>
              <a:ext cx="8999280" cy="5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AutoShape 7"/>
            <p:cNvSpPr/>
            <p:nvPr/>
          </p:nvSpPr>
          <p:spPr>
            <a:xfrm>
              <a:off x="2241360" y="2339280"/>
              <a:ext cx="637560" cy="360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Text Box 8"/>
            <p:cNvSpPr/>
            <p:nvPr/>
          </p:nvSpPr>
          <p:spPr>
            <a:xfrm>
              <a:off x="6117120" y="1932840"/>
              <a:ext cx="3599640" cy="76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то такое вещь? Какая вещь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чего она существует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Text Box 9"/>
            <p:cNvSpPr/>
            <p:nvPr/>
          </p:nvSpPr>
          <p:spPr>
            <a:xfrm>
              <a:off x="719280" y="3778920"/>
              <a:ext cx="8999280" cy="342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отличии от античных философов, которые видели сущность (признаки) и существование (факт бытия) в неразрывном единстве, как единую сущность – бытие, согласно теологической философии сущность (признаки) может иметь место и без бытия (без существования). Чтобы стать существующим (бытием) сущность (признаки) должна быть сотворена Бого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стелесная сущность (признаки, образы – сродни платоновским «чистым идеям») витает в сознании Бога и только актом его воли и благодаря присущей только ему способности становиться материальным бытие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ществование (бытие) может быть познано чувственными ощущениями, опытом, сущность – же только разумо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лько в Боге сущность и существование совпадают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Line 10"/>
            <p:cNvSpPr/>
            <p:nvPr/>
          </p:nvSpPr>
          <p:spPr>
            <a:xfrm flipH="1">
              <a:off x="4271040" y="899640"/>
              <a:ext cx="9918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11"/>
            <p:cNvSpPr/>
            <p:nvPr/>
          </p:nvSpPr>
          <p:spPr>
            <a:xfrm>
              <a:off x="5217120" y="899640"/>
              <a:ext cx="899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95" name="AutoShape 12"/>
            <p:cNvCxnSpPr>
              <a:stCxn id="988" idx="3"/>
              <a:endCxn id="991" idx="3"/>
            </p:cNvCxnSpPr>
            <p:nvPr/>
          </p:nvCxnSpPr>
          <p:spPr>
            <a:xfrm>
              <a:off x="9716760" y="1440720"/>
              <a:ext cx="2160" cy="87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6" name="AutoShape 13"/>
            <p:cNvCxnSpPr>
              <a:stCxn id="989" idx="2"/>
              <a:endCxn id="992" idx="0"/>
            </p:cNvCxnSpPr>
            <p:nvPr/>
          </p:nvCxnSpPr>
          <p:spPr>
            <a:xfrm>
              <a:off x="5218560" y="3418560"/>
              <a:ext cx="2160" cy="3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Group 1"/>
          <p:cNvGrpSpPr/>
          <p:nvPr/>
        </p:nvGrpSpPr>
        <p:grpSpPr>
          <a:xfrm>
            <a:off x="539640" y="179280"/>
            <a:ext cx="9180360" cy="7198920"/>
            <a:chOff x="539640" y="179280"/>
            <a:chExt cx="9180360" cy="7198920"/>
          </a:xfrm>
        </p:grpSpPr>
        <p:sp>
          <p:nvSpPr>
            <p:cNvPr id="998" name="AutoShape 2"/>
            <p:cNvSpPr/>
            <p:nvPr/>
          </p:nvSpPr>
          <p:spPr>
            <a:xfrm>
              <a:off x="2158560" y="1180800"/>
              <a:ext cx="6118920" cy="583704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3"/>
            <p:cNvSpPr/>
            <p:nvPr/>
          </p:nvSpPr>
          <p:spPr>
            <a:xfrm>
              <a:off x="6118560" y="1079280"/>
              <a:ext cx="359352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холасты подразделяли знание на два ви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4"/>
            <p:cNvSpPr/>
            <p:nvPr/>
          </p:nvSpPr>
          <p:spPr>
            <a:xfrm>
              <a:off x="718920" y="1042560"/>
              <a:ext cx="3040920" cy="577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арактерные чер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5"/>
            <p:cNvSpPr/>
            <p:nvPr/>
          </p:nvSpPr>
          <p:spPr>
            <a:xfrm>
              <a:off x="718920" y="179280"/>
              <a:ext cx="8999640" cy="539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холасти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6"/>
            <p:cNvSpPr/>
            <p:nvPr/>
          </p:nvSpPr>
          <p:spPr>
            <a:xfrm>
              <a:off x="5223240" y="4678560"/>
              <a:ext cx="4493520" cy="26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этой связи схоласты вели многочисленные споры, написали сотни философских томов, в которых пытались правильно понять идеи Бога, спрятанные за строчками Библии. Причем предметом данных споров и исканий становились не суть идеи Бога, а правильность и четкость понятий, определений, формулировок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7"/>
            <p:cNvSpPr/>
            <p:nvPr/>
          </p:nvSpPr>
          <p:spPr>
            <a:xfrm>
              <a:off x="539640" y="2518560"/>
              <a:ext cx="4501440" cy="431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звание “схоластика”- от латинского слова schola (школа), поскольку данный тип философии несколько столетий преподавался в школах и университетах Европы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холастика представляла собой не столько науку, занимающуюся творческим поиском, сколько застывшую школьно-университетскую дисциплину, имевшую цель философски обосновать религиозное учение и догматы Церкв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схоластики характерно восприятие Библии как жестко нормативного текста, абсолютной истины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8"/>
            <p:cNvSpPr/>
            <p:nvPr/>
          </p:nvSpPr>
          <p:spPr>
            <a:xfrm flipH="1">
              <a:off x="3372480" y="720360"/>
              <a:ext cx="9918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9"/>
            <p:cNvSpPr/>
            <p:nvPr/>
          </p:nvSpPr>
          <p:spPr>
            <a:xfrm>
              <a:off x="5578920" y="720360"/>
              <a:ext cx="1079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10"/>
            <p:cNvSpPr/>
            <p:nvPr/>
          </p:nvSpPr>
          <p:spPr>
            <a:xfrm>
              <a:off x="1979280" y="1618920"/>
              <a:ext cx="1080" cy="89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11"/>
            <p:cNvSpPr/>
            <p:nvPr/>
          </p:nvSpPr>
          <p:spPr>
            <a:xfrm flipH="1">
              <a:off x="6791760" y="1799640"/>
              <a:ext cx="4521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12"/>
            <p:cNvSpPr/>
            <p:nvPr/>
          </p:nvSpPr>
          <p:spPr>
            <a:xfrm>
              <a:off x="6298200" y="4318560"/>
              <a:ext cx="539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Text Box 13"/>
            <p:cNvSpPr/>
            <p:nvPr/>
          </p:nvSpPr>
          <p:spPr>
            <a:xfrm>
              <a:off x="5218560" y="1978920"/>
              <a:ext cx="4501440" cy="25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ерхъестественное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даваемое в откровении (т.е. то, что имел в виду Бог, закладывая ту или иную мысль в Библии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тественное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отыскиваемое человеческим разумом (т.е. то, что сумел человек «расшифровать» из текста Библии, как он понял идеи Бога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Group 1"/>
          <p:cNvGrpSpPr/>
          <p:nvPr/>
        </p:nvGrpSpPr>
        <p:grpSpPr>
          <a:xfrm>
            <a:off x="360360" y="360360"/>
            <a:ext cx="9601200" cy="6659280"/>
            <a:chOff x="360360" y="360360"/>
            <a:chExt cx="9601200" cy="6659280"/>
          </a:xfrm>
        </p:grpSpPr>
        <p:sp>
          <p:nvSpPr>
            <p:cNvPr id="1011" name="Text Box 2"/>
            <p:cNvSpPr/>
            <p:nvPr/>
          </p:nvSpPr>
          <p:spPr>
            <a:xfrm>
              <a:off x="360360" y="360360"/>
              <a:ext cx="9601200" cy="8996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ение средневековой теологической философии для последующего развития философи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AutoShape 3"/>
            <p:cNvSpPr/>
            <p:nvPr/>
          </p:nvSpPr>
          <p:spPr>
            <a:xfrm>
              <a:off x="4737960" y="1260000"/>
              <a:ext cx="902880" cy="660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4"/>
            <p:cNvSpPr/>
            <p:nvPr/>
          </p:nvSpPr>
          <p:spPr>
            <a:xfrm>
              <a:off x="601200" y="1980720"/>
              <a:ext cx="9179280" cy="503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ла связующим звеном между античной философией и философией эпохи Возрождения и Нового времен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хранила и развила ряд античных философских идей, поскольку возникла на основе античной философии христианского учения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ствовала расчленению философии на новые сферы (помимо онтологии – учения о бытии, полностью слившегося с античной философией, выделилась гносеология – самостоятельное учение о познании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ствовала разделению идеализма на объективный и субъективный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ожила начало появлению в будущем эмпирического и рационалистического направлений философии как результатам соответственно практики номеналистов опираться на опыт (эмпиризм) и повышенного интнреса к проблеме самосознания (рационализм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удила интерес к осмыслению исторического процесса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нула идею оптимизма, выразившегося в вере в победу добра над злом и в воскрешение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1"/>
          <p:cNvGrpSpPr/>
          <p:nvPr/>
        </p:nvGrpSpPr>
        <p:grpSpPr>
          <a:xfrm>
            <a:off x="539640" y="360360"/>
            <a:ext cx="9362880" cy="6117840"/>
            <a:chOff x="539640" y="360360"/>
            <a:chExt cx="9362880" cy="6117840"/>
          </a:xfrm>
        </p:grpSpPr>
        <p:sp>
          <p:nvSpPr>
            <p:cNvPr id="1015" name="AutoShape 2"/>
            <p:cNvSpPr/>
            <p:nvPr/>
          </p:nvSpPr>
          <p:spPr>
            <a:xfrm>
              <a:off x="1422000" y="3958200"/>
              <a:ext cx="738000" cy="1044000"/>
            </a:xfrm>
            <a:prstGeom prst="downArrow">
              <a:avLst>
                <a:gd name="adj1" fmla="val 50000"/>
                <a:gd name="adj2" fmla="val 35366"/>
              </a:avLst>
            </a:prstGeom>
            <a:solidFill>
              <a:srgbClr val="ffff00">
                <a:alpha val="5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Text Box 3"/>
            <p:cNvSpPr/>
            <p:nvPr/>
          </p:nvSpPr>
          <p:spPr>
            <a:xfrm>
              <a:off x="539640" y="2121840"/>
              <a:ext cx="2826720" cy="1656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дийский (тантрический) буддизм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Text Box 4"/>
            <p:cNvSpPr/>
            <p:nvPr/>
          </p:nvSpPr>
          <p:spPr>
            <a:xfrm>
              <a:off x="3599640" y="2121840"/>
              <a:ext cx="2825280" cy="1656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тайский буддизм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Text Box 5"/>
            <p:cNvSpPr/>
            <p:nvPr/>
          </p:nvSpPr>
          <p:spPr>
            <a:xfrm>
              <a:off x="6839280" y="2158200"/>
              <a:ext cx="3003120" cy="16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ибетская мифология и религиозные культуры (бон-по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Text Box 6"/>
            <p:cNvSpPr/>
            <p:nvPr/>
          </p:nvSpPr>
          <p:spPr>
            <a:xfrm>
              <a:off x="720360" y="5181840"/>
              <a:ext cx="9182160" cy="129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ибетский буддизм (ламаизм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Падма Самбхва, Атиша, Тилопа, Наропа, Марпа, Миларепа, Гампо-па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AutoShape 7"/>
            <p:cNvSpPr/>
            <p:nvPr/>
          </p:nvSpPr>
          <p:spPr>
            <a:xfrm>
              <a:off x="7901280" y="3994560"/>
              <a:ext cx="737640" cy="1044360"/>
            </a:xfrm>
            <a:prstGeom prst="downArrow">
              <a:avLst>
                <a:gd name="adj1" fmla="val 50000"/>
                <a:gd name="adj2" fmla="val 35395"/>
              </a:avLst>
            </a:prstGeom>
            <a:solidFill>
              <a:srgbClr val="ffff00">
                <a:alpha val="5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AutoShape 8"/>
            <p:cNvSpPr/>
            <p:nvPr/>
          </p:nvSpPr>
          <p:spPr>
            <a:xfrm>
              <a:off x="4482360" y="3994560"/>
              <a:ext cx="738000" cy="1044360"/>
            </a:xfrm>
            <a:prstGeom prst="downArrow">
              <a:avLst>
                <a:gd name="adj1" fmla="val 50000"/>
                <a:gd name="adj2" fmla="val 35378"/>
              </a:avLst>
            </a:prstGeom>
            <a:solidFill>
              <a:srgbClr val="ffff00">
                <a:alpha val="5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Text Box 9"/>
            <p:cNvSpPr/>
            <p:nvPr/>
          </p:nvSpPr>
          <p:spPr>
            <a:xfrm>
              <a:off x="539640" y="360360"/>
              <a:ext cx="9182520" cy="1296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Е ТИБЕТСКОЙ БУДДИЙСКОЙ ФИЛОСОФИИ В СРЕДНИЕ ВЕКА (VII-XIX вв.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1"/>
          <p:cNvGrpSpPr/>
          <p:nvPr/>
        </p:nvGrpSpPr>
        <p:grpSpPr>
          <a:xfrm>
            <a:off x="539640" y="360360"/>
            <a:ext cx="9358560" cy="6659280"/>
            <a:chOff x="539640" y="360360"/>
            <a:chExt cx="9358560" cy="6659280"/>
          </a:xfrm>
        </p:grpSpPr>
        <p:sp>
          <p:nvSpPr>
            <p:cNvPr id="1024" name="AutoShape 2"/>
            <p:cNvSpPr/>
            <p:nvPr/>
          </p:nvSpPr>
          <p:spPr>
            <a:xfrm>
              <a:off x="2340000" y="899640"/>
              <a:ext cx="5040360" cy="6120000"/>
            </a:xfrm>
            <a:custGeom>
              <a:avLst/>
              <a:gdLst>
                <a:gd name="textAreaLeft" fmla="*/ 360 w 5040360"/>
                <a:gd name="textAreaRight" fmla="*/ 5040000 w 5040360"/>
                <a:gd name="textAreaTop" fmla="*/ 360 h 6120000"/>
                <a:gd name="textAreaBottom" fmla="*/ 6119640 h 6120000"/>
              </a:gdLst>
              <a:ahLst/>
              <a:rect l="textAreaLeft" t="textAreaTop" r="textAreaRight" b="textAreaBottom"/>
              <a:pathLst>
                <a:path w="21600" h="26226">
                  <a:moveTo>
                    <a:pt x="6" y="0"/>
                  </a:moveTo>
                  <a:arcTo wR="6" hR="6" stAng="16200000" swAng="-5400000"/>
                  <a:lnTo>
                    <a:pt x="0" y="26220"/>
                  </a:lnTo>
                  <a:arcTo wR="6" hR="6" stAng="10800000" swAng="-5400000"/>
                  <a:lnTo>
                    <a:pt x="21594" y="2622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Text Box 3"/>
            <p:cNvSpPr/>
            <p:nvPr/>
          </p:nvSpPr>
          <p:spPr>
            <a:xfrm>
              <a:off x="1079640" y="360360"/>
              <a:ext cx="8280360" cy="539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лам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Text Box 4"/>
            <p:cNvSpPr/>
            <p:nvPr/>
          </p:nvSpPr>
          <p:spPr>
            <a:xfrm>
              <a:off x="5398920" y="1260000"/>
              <a:ext cx="3961080" cy="5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религиозные теч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Text Box 5"/>
            <p:cNvSpPr/>
            <p:nvPr/>
          </p:nvSpPr>
          <p:spPr>
            <a:xfrm>
              <a:off x="1006560" y="1260000"/>
              <a:ext cx="3852720" cy="5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традиции позн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8" name="Group 6"/>
            <p:cNvGrpSpPr/>
            <p:nvPr/>
          </p:nvGrpSpPr>
          <p:grpSpPr>
            <a:xfrm>
              <a:off x="5398920" y="2339280"/>
              <a:ext cx="3959280" cy="1078920"/>
              <a:chOff x="5398920" y="2339280"/>
              <a:chExt cx="3959280" cy="1078920"/>
            </a:xfrm>
          </p:grpSpPr>
          <p:sp>
            <p:nvSpPr>
              <p:cNvPr id="1029" name="Text Box 7"/>
              <p:cNvSpPr/>
              <p:nvPr/>
            </p:nvSpPr>
            <p:spPr>
              <a:xfrm>
                <a:off x="5398920" y="2339280"/>
                <a:ext cx="3959280" cy="35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Шиизм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Text Box 8"/>
              <p:cNvSpPr/>
              <p:nvPr/>
            </p:nvSpPr>
            <p:spPr>
              <a:xfrm>
                <a:off x="5398920" y="2698920"/>
                <a:ext cx="3959280" cy="35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уннизм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Text Box 9"/>
              <p:cNvSpPr/>
              <p:nvPr/>
            </p:nvSpPr>
            <p:spPr>
              <a:xfrm>
                <a:off x="5398920" y="3058560"/>
                <a:ext cx="3959280" cy="35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уфизм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2" name="Group 10"/>
            <p:cNvGrpSpPr/>
            <p:nvPr/>
          </p:nvGrpSpPr>
          <p:grpSpPr>
            <a:xfrm>
              <a:off x="539640" y="3778920"/>
              <a:ext cx="2698920" cy="3057840"/>
              <a:chOff x="539640" y="3778920"/>
              <a:chExt cx="2698920" cy="3057840"/>
            </a:xfrm>
          </p:grpSpPr>
          <p:sp>
            <p:nvSpPr>
              <p:cNvPr id="1033" name="Text Box 11"/>
              <p:cNvSpPr/>
              <p:nvPr/>
            </p:nvSpPr>
            <p:spPr>
              <a:xfrm>
                <a:off x="539640" y="3778920"/>
                <a:ext cx="2698920" cy="1019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лигиозная вер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2"/>
              <p:cNvSpPr/>
              <p:nvPr/>
            </p:nvSpPr>
            <p:spPr>
              <a:xfrm>
                <a:off x="539640" y="4798440"/>
                <a:ext cx="2698920" cy="1019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азу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3"/>
              <p:cNvSpPr/>
              <p:nvPr/>
            </p:nvSpPr>
            <p:spPr>
              <a:xfrm>
                <a:off x="539640" y="5817240"/>
                <a:ext cx="2698920" cy="1019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зарение, интуиция, разу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"/>
            <p:cNvGrpSpPr/>
            <p:nvPr/>
          </p:nvGrpSpPr>
          <p:grpSpPr>
            <a:xfrm>
              <a:off x="3959280" y="3778920"/>
              <a:ext cx="5938920" cy="3057840"/>
              <a:chOff x="3959280" y="3778920"/>
              <a:chExt cx="5938920" cy="3057840"/>
            </a:xfrm>
          </p:grpSpPr>
          <p:grpSp>
            <p:nvGrpSpPr>
              <p:cNvPr id="1037" name="Group 15"/>
              <p:cNvGrpSpPr/>
              <p:nvPr/>
            </p:nvGrpSpPr>
            <p:grpSpPr>
              <a:xfrm>
                <a:off x="3959280" y="3778920"/>
                <a:ext cx="2698560" cy="3057840"/>
                <a:chOff x="3959280" y="3778920"/>
                <a:chExt cx="2698560" cy="3057840"/>
              </a:xfrm>
            </p:grpSpPr>
            <p:sp>
              <p:nvSpPr>
                <p:cNvPr id="1038" name="Text Box 16"/>
                <p:cNvSpPr/>
                <p:nvPr/>
              </p:nvSpPr>
              <p:spPr>
                <a:xfrm>
                  <a:off x="3959280" y="3778920"/>
                  <a:ext cx="2698560" cy="1019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ртодоксальное богословие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Text Box 17"/>
                <p:cNvSpPr/>
                <p:nvPr/>
              </p:nvSpPr>
              <p:spPr>
                <a:xfrm>
                  <a:off x="3959280" y="4798440"/>
                  <a:ext cx="2698560" cy="1019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ациональная философия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Text Box 18"/>
                <p:cNvSpPr/>
                <p:nvPr/>
              </p:nvSpPr>
              <p:spPr>
                <a:xfrm>
                  <a:off x="3959280" y="5817240"/>
                  <a:ext cx="2698560" cy="1019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истическая философия </a:t>
                  </a: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суфизм)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Group 19"/>
              <p:cNvGrpSpPr/>
              <p:nvPr/>
            </p:nvGrpSpPr>
            <p:grpSpPr>
              <a:xfrm>
                <a:off x="6659640" y="3778920"/>
                <a:ext cx="3238560" cy="3057840"/>
                <a:chOff x="6659640" y="3778920"/>
                <a:chExt cx="3238560" cy="3057840"/>
              </a:xfrm>
            </p:grpSpPr>
            <p:sp>
              <p:nvSpPr>
                <p:cNvPr id="1042" name="Text Box 20"/>
                <p:cNvSpPr/>
                <p:nvPr/>
              </p:nvSpPr>
              <p:spPr>
                <a:xfrm>
                  <a:off x="6659640" y="3778920"/>
                  <a:ext cx="3238560" cy="1019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хмад Ханбал, аль-Газали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21"/>
                <p:cNvSpPr/>
                <p:nvPr/>
              </p:nvSpPr>
              <p:spPr>
                <a:xfrm>
                  <a:off x="6659640" y="4798440"/>
                  <a:ext cx="3238560" cy="1019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ль-Фараби, аль-Кинди,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бн-Сина, Ибн Рушд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Text Box 22"/>
                <p:cNvSpPr/>
                <p:nvPr/>
              </p:nvSpPr>
              <p:spPr>
                <a:xfrm>
                  <a:off x="6659640" y="5817240"/>
                  <a:ext cx="3238560" cy="1019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ль-Мисри, аль-Мухасиби,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Джунайд, Абу Язид,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ухраварди, Ибн Араби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Line 23"/>
            <p:cNvSpPr/>
            <p:nvPr/>
          </p:nvSpPr>
          <p:spPr>
            <a:xfrm flipH="1">
              <a:off x="3373200" y="899640"/>
              <a:ext cx="6318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24"/>
            <p:cNvSpPr/>
            <p:nvPr/>
          </p:nvSpPr>
          <p:spPr>
            <a:xfrm>
              <a:off x="5938920" y="899640"/>
              <a:ext cx="360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25"/>
            <p:cNvSpPr/>
            <p:nvPr/>
          </p:nvSpPr>
          <p:spPr>
            <a:xfrm>
              <a:off x="7378560" y="1800000"/>
              <a:ext cx="180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26"/>
            <p:cNvSpPr/>
            <p:nvPr/>
          </p:nvSpPr>
          <p:spPr>
            <a:xfrm>
              <a:off x="1979640" y="1800000"/>
              <a:ext cx="1440" cy="19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Line 27"/>
            <p:cNvSpPr/>
            <p:nvPr/>
          </p:nvSpPr>
          <p:spPr>
            <a:xfrm>
              <a:off x="3240000" y="4318560"/>
              <a:ext cx="720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28"/>
            <p:cNvSpPr/>
            <p:nvPr/>
          </p:nvSpPr>
          <p:spPr>
            <a:xfrm>
              <a:off x="3240000" y="5399280"/>
              <a:ext cx="720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29"/>
            <p:cNvSpPr/>
            <p:nvPr/>
          </p:nvSpPr>
          <p:spPr>
            <a:xfrm>
              <a:off x="3240000" y="6478560"/>
              <a:ext cx="720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4" name="Group 3"/>
          <p:cNvGrpSpPr/>
          <p:nvPr/>
        </p:nvGrpSpPr>
        <p:grpSpPr>
          <a:xfrm>
            <a:off x="539640" y="179280"/>
            <a:ext cx="11518560" cy="7018200"/>
            <a:chOff x="539640" y="179280"/>
            <a:chExt cx="11518560" cy="7018200"/>
          </a:xfrm>
        </p:grpSpPr>
        <p:grpSp>
          <p:nvGrpSpPr>
            <p:cNvPr id="1055" name="Group 4"/>
            <p:cNvGrpSpPr/>
            <p:nvPr/>
          </p:nvGrpSpPr>
          <p:grpSpPr>
            <a:xfrm>
              <a:off x="539640" y="179280"/>
              <a:ext cx="9356760" cy="7017120"/>
              <a:chOff x="539640" y="179280"/>
              <a:chExt cx="9356760" cy="7017120"/>
            </a:xfrm>
          </p:grpSpPr>
          <p:grpSp>
            <p:nvGrpSpPr>
              <p:cNvPr id="1056" name="Group 5"/>
              <p:cNvGrpSpPr/>
              <p:nvPr/>
            </p:nvGrpSpPr>
            <p:grpSpPr>
              <a:xfrm>
                <a:off x="539640" y="179280"/>
                <a:ext cx="9356760" cy="7017120"/>
                <a:chOff x="539640" y="179280"/>
                <a:chExt cx="9356760" cy="7017120"/>
              </a:xfrm>
            </p:grpSpPr>
            <p:sp>
              <p:nvSpPr>
                <p:cNvPr id="1057" name="AutoShape 6"/>
                <p:cNvSpPr/>
                <p:nvPr/>
              </p:nvSpPr>
              <p:spPr>
                <a:xfrm>
                  <a:off x="539640" y="179280"/>
                  <a:ext cx="9356760" cy="701712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Text Box 7"/>
                <p:cNvSpPr/>
                <p:nvPr/>
              </p:nvSpPr>
              <p:spPr>
                <a:xfrm>
                  <a:off x="1265040" y="1055160"/>
                  <a:ext cx="7907400" cy="52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флекс</a:t>
                  </a:r>
                  <a:r>
                    <a:rPr b="0" i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Text Box 8"/>
              <p:cNvSpPr/>
              <p:nvPr/>
            </p:nvSpPr>
            <p:spPr>
              <a:xfrm>
                <a:off x="1439640" y="3677400"/>
                <a:ext cx="8173800" cy="21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0" name="Text Box 9"/>
            <p:cNvSpPr/>
            <p:nvPr/>
          </p:nvSpPr>
          <p:spPr>
            <a:xfrm>
              <a:off x="1275840" y="2075760"/>
              <a:ext cx="10782360" cy="51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1" name="Group 10"/>
            <p:cNvGrpSpPr/>
            <p:nvPr/>
          </p:nvGrpSpPr>
          <p:grpSpPr>
            <a:xfrm>
              <a:off x="539640" y="2645640"/>
              <a:ext cx="8816760" cy="3450600"/>
              <a:chOff x="539640" y="2645640"/>
              <a:chExt cx="8816760" cy="3450600"/>
            </a:xfrm>
          </p:grpSpPr>
          <p:sp>
            <p:nvSpPr>
              <p:cNvPr id="1062" name="AutoShape 11"/>
              <p:cNvSpPr/>
              <p:nvPr/>
            </p:nvSpPr>
            <p:spPr>
              <a:xfrm>
                <a:off x="539640" y="2645640"/>
                <a:ext cx="8815320" cy="34506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423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Text Box 12"/>
              <p:cNvSpPr/>
              <p:nvPr/>
            </p:nvSpPr>
            <p:spPr>
              <a:xfrm>
                <a:off x="1079280" y="3252960"/>
                <a:ext cx="8277120" cy="226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ные вопрос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то относится к важнейшим принципам средневековой хрестианской философии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кие проблемы выделяются в качестве наиболее спорных для философии христианского средневековья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то характеризует Августина как виднейшего философа патристики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чему философия Фомы Аквинского является вершиной зрелой схоластики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064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1"/>
          <p:cNvSpPr/>
          <p:nvPr/>
        </p:nvSpPr>
        <p:spPr>
          <a:xfrm>
            <a:off x="900000" y="2340000"/>
            <a:ext cx="84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ФИЛОСОФИЯ ЭПОХИ ВОЗРОЖД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Group 1"/>
          <p:cNvGrpSpPr/>
          <p:nvPr/>
        </p:nvGrpSpPr>
        <p:grpSpPr>
          <a:xfrm>
            <a:off x="619200" y="360360"/>
            <a:ext cx="9031320" cy="6837120"/>
            <a:chOff x="619200" y="360360"/>
            <a:chExt cx="9031320" cy="6837120"/>
          </a:xfrm>
        </p:grpSpPr>
        <p:sp>
          <p:nvSpPr>
            <p:cNvPr id="1067" name="AutoShape 2"/>
            <p:cNvSpPr/>
            <p:nvPr/>
          </p:nvSpPr>
          <p:spPr>
            <a:xfrm>
              <a:off x="2990160" y="1618920"/>
              <a:ext cx="4539240" cy="287892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Text Box 3"/>
            <p:cNvSpPr/>
            <p:nvPr/>
          </p:nvSpPr>
          <p:spPr>
            <a:xfrm>
              <a:off x="3217320" y="2518560"/>
              <a:ext cx="3732840" cy="5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посылки возникнов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AutoShape 4"/>
            <p:cNvSpPr/>
            <p:nvPr/>
          </p:nvSpPr>
          <p:spPr>
            <a:xfrm>
              <a:off x="4890240" y="2160000"/>
              <a:ext cx="260280" cy="300960"/>
            </a:xfrm>
            <a:prstGeom prst="downArrow">
              <a:avLst>
                <a:gd name="adj1" fmla="val 50000"/>
                <a:gd name="adj2" fmla="val 28907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AutoShape 5"/>
            <p:cNvSpPr/>
            <p:nvPr/>
          </p:nvSpPr>
          <p:spPr>
            <a:xfrm>
              <a:off x="4969800" y="3060000"/>
              <a:ext cx="283680" cy="253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Text Box 6"/>
            <p:cNvSpPr/>
            <p:nvPr/>
          </p:nvSpPr>
          <p:spPr>
            <a:xfrm>
              <a:off x="619200" y="360360"/>
              <a:ext cx="9031320" cy="1799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эпохи Возрождения –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это совокупность философских направлений, возникших и развившихся в Европе в XIV- XVII вв., которые объединяли антицерковная и антисхоластическая направленность, устремленность к человеку, вера в его физический и духовный потенциал, жизнеутверждающий и оптимистический характер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Text Box 7"/>
            <p:cNvSpPr/>
            <p:nvPr/>
          </p:nvSpPr>
          <p:spPr>
            <a:xfrm>
              <a:off x="650520" y="3418920"/>
              <a:ext cx="8999640" cy="377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вершенствование орудий труда и производительных отношений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изис феодализма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ремесла и торговл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иление городов, превращение их в торгово-ремесленные, военные, культурные и политические центры, независимые от феодалов и Церкв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крепление, централизация европейских государств, усиление светской власт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явлене первых парламентов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изис Церкви и схоластической философи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уровня образованности в Европе в целом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ликие географические открытия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чно-технические открытия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"/>
          <p:cNvSpPr/>
          <p:nvPr/>
        </p:nvSpPr>
        <p:spPr>
          <a:xfrm>
            <a:off x="3265560" y="1800360"/>
            <a:ext cx="4070160" cy="1419120"/>
          </a:xfrm>
          <a:prstGeom prst="rect">
            <a:avLst/>
          </a:prstGeom>
          <a:solidFill>
            <a:srgbClr val="ffff99"/>
          </a:solidFill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н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3773520" y="3848040"/>
            <a:ext cx="3052800" cy="1103400"/>
          </a:xfrm>
          <a:prstGeom prst="rect">
            <a:avLst/>
          </a:prstGeom>
          <a:solidFill>
            <a:srgbClr val="ffffff"/>
          </a:solidFill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ировозз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720720" y="5580000"/>
            <a:ext cx="4241880" cy="1260360"/>
          </a:xfrm>
          <a:prstGeom prst="rect">
            <a:avLst/>
          </a:prstGeom>
          <a:solidFill>
            <a:srgbClr val="ffff99"/>
          </a:solidFill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Обыде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стихийно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пирическое зн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6146640" y="5580000"/>
            <a:ext cx="3392640" cy="1260360"/>
          </a:xfrm>
          <a:prstGeom prst="rect">
            <a:avLst/>
          </a:prstGeom>
          <a:solidFill>
            <a:srgbClr val="ffff99"/>
          </a:solidFill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Научное зн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1" name="AutoShape 5"/>
          <p:cNvCxnSpPr>
            <a:stCxn id="487" idx="1"/>
          </p:cNvCxnSpPr>
          <p:nvPr/>
        </p:nvCxnSpPr>
        <p:spPr>
          <a:xfrm flipH="1">
            <a:off x="1033200" y="2509560"/>
            <a:ext cx="2232720" cy="3050280"/>
          </a:xfrm>
          <a:prstGeom prst="straightConnector1">
            <a:avLst/>
          </a:prstGeom>
          <a:ln w="360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2" name="AutoShape 6"/>
          <p:cNvCxnSpPr>
            <a:stCxn id="487" idx="3"/>
          </p:cNvCxnSpPr>
          <p:nvPr/>
        </p:nvCxnSpPr>
        <p:spPr>
          <a:xfrm>
            <a:off x="7335720" y="2509560"/>
            <a:ext cx="1496160" cy="2994840"/>
          </a:xfrm>
          <a:prstGeom prst="straightConnector1">
            <a:avLst/>
          </a:prstGeom>
          <a:ln w="360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3" name="AutoShape 7"/>
          <p:cNvSpPr/>
          <p:nvPr/>
        </p:nvSpPr>
        <p:spPr>
          <a:xfrm>
            <a:off x="5040360" y="6119640"/>
            <a:ext cx="1081080" cy="36036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2340000" y="573120"/>
            <a:ext cx="6119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4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МИРОВОЗЗР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9"/>
          <p:cNvSpPr/>
          <p:nvPr/>
        </p:nvSpPr>
        <p:spPr>
          <a:xfrm rot="2700000">
            <a:off x="2987280" y="4525920"/>
            <a:ext cx="360360" cy="900360"/>
          </a:xfrm>
          <a:prstGeom prst="upDownArrow">
            <a:avLst>
              <a:gd name="adj1" fmla="val 50000"/>
              <a:gd name="adj2" fmla="val 497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0"/>
          <p:cNvSpPr/>
          <p:nvPr/>
        </p:nvSpPr>
        <p:spPr>
          <a:xfrm rot="19380000">
            <a:off x="7122600" y="4545000"/>
            <a:ext cx="360360" cy="900000"/>
          </a:xfrm>
          <a:prstGeom prst="upDownArrow">
            <a:avLst>
              <a:gd name="adj1" fmla="val 50000"/>
              <a:gd name="adj2" fmla="val 497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4" name="Group 2"/>
          <p:cNvGrpSpPr/>
          <p:nvPr/>
        </p:nvGrpSpPr>
        <p:grpSpPr>
          <a:xfrm>
            <a:off x="449280" y="179280"/>
            <a:ext cx="9268920" cy="7019640"/>
            <a:chOff x="449280" y="179280"/>
            <a:chExt cx="9268920" cy="7019640"/>
          </a:xfrm>
        </p:grpSpPr>
        <p:sp>
          <p:nvSpPr>
            <p:cNvPr id="1075" name="Text Box 3"/>
            <p:cNvSpPr/>
            <p:nvPr/>
          </p:nvSpPr>
          <p:spPr>
            <a:xfrm>
              <a:off x="1260360" y="179280"/>
              <a:ext cx="7559640" cy="540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эпохи Возрождения (XV-XVI вв.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6" name="Group 4"/>
            <p:cNvGrpSpPr/>
            <p:nvPr/>
          </p:nvGrpSpPr>
          <p:grpSpPr>
            <a:xfrm>
              <a:off x="449280" y="1081080"/>
              <a:ext cx="9268920" cy="6117840"/>
              <a:chOff x="449280" y="1081080"/>
              <a:chExt cx="9268920" cy="6117840"/>
            </a:xfrm>
          </p:grpSpPr>
          <p:sp>
            <p:nvSpPr>
              <p:cNvPr id="1077" name="Text Box 5"/>
              <p:cNvSpPr/>
              <p:nvPr/>
            </p:nvSpPr>
            <p:spPr>
              <a:xfrm>
                <a:off x="449280" y="1081080"/>
                <a:ext cx="431856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уман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Text Box 6"/>
              <p:cNvSpPr/>
              <p:nvPr/>
            </p:nvSpPr>
            <p:spPr>
              <a:xfrm>
                <a:off x="4769280" y="1081080"/>
                <a:ext cx="494892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анте, Петрарка, Эразм Роттердамский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Text Box 7"/>
              <p:cNvSpPr/>
              <p:nvPr/>
            </p:nvSpPr>
            <p:spPr>
              <a:xfrm>
                <a:off x="449280" y="6518160"/>
                <a:ext cx="431856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кептиц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Text Box 8"/>
              <p:cNvSpPr/>
              <p:nvPr/>
            </p:nvSpPr>
            <p:spPr>
              <a:xfrm>
                <a:off x="4769280" y="6518160"/>
                <a:ext cx="494892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онтень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Text Box 9"/>
              <p:cNvSpPr/>
              <p:nvPr/>
            </p:nvSpPr>
            <p:spPr>
              <a:xfrm>
                <a:off x="449280" y="5837400"/>
                <a:ext cx="431856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озенкрейнцерство, герметизм и алхим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Text Box 10"/>
              <p:cNvSpPr/>
              <p:nvPr/>
            </p:nvSpPr>
            <p:spPr>
              <a:xfrm>
                <a:off x="4769280" y="5837400"/>
                <a:ext cx="494892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йер, Филалет, Хейдон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Text Box 11"/>
              <p:cNvSpPr/>
              <p:nvPr/>
            </p:nvSpPr>
            <p:spPr>
              <a:xfrm>
                <a:off x="449280" y="5158080"/>
                <a:ext cx="4318560" cy="680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истическая философ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Text Box 12"/>
              <p:cNvSpPr/>
              <p:nvPr/>
            </p:nvSpPr>
            <p:spPr>
              <a:xfrm>
                <a:off x="4769280" y="5158080"/>
                <a:ext cx="4948920" cy="680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юнцер, Беме, Парацельс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Text Box 13"/>
              <p:cNvSpPr/>
              <p:nvPr/>
            </p:nvSpPr>
            <p:spPr>
              <a:xfrm>
                <a:off x="449280" y="4478760"/>
                <a:ext cx="4318560" cy="679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альная философ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Text Box 14"/>
              <p:cNvSpPr/>
              <p:nvPr/>
            </p:nvSpPr>
            <p:spPr>
              <a:xfrm>
                <a:off x="4769280" y="4478760"/>
                <a:ext cx="4948920" cy="679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ор, Кампанелла, Макиавелл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Text Box 15"/>
              <p:cNvSpPr/>
              <p:nvPr/>
            </p:nvSpPr>
            <p:spPr>
              <a:xfrm>
                <a:off x="449280" y="3799440"/>
                <a:ext cx="431856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христианской реформаци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Text Box 16"/>
              <p:cNvSpPr/>
              <p:nvPr/>
            </p:nvSpPr>
            <p:spPr>
              <a:xfrm>
                <a:off x="4769280" y="3799440"/>
                <a:ext cx="494892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ютер, Цвингли, Кальвин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Text Box 17"/>
              <p:cNvSpPr/>
              <p:nvPr/>
            </p:nvSpPr>
            <p:spPr>
              <a:xfrm>
                <a:off x="449280" y="3120480"/>
                <a:ext cx="4318560" cy="680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атурфилософ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Text Box 18"/>
              <p:cNvSpPr/>
              <p:nvPr/>
            </p:nvSpPr>
            <p:spPr>
              <a:xfrm>
                <a:off x="4769280" y="3120480"/>
                <a:ext cx="4948920" cy="678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руно, Коперник, да Винчи, Галилей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Text Box 19"/>
              <p:cNvSpPr/>
              <p:nvPr/>
            </p:nvSpPr>
            <p:spPr>
              <a:xfrm>
                <a:off x="449280" y="2439360"/>
                <a:ext cx="431856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ристианский аристотел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Text Box 20"/>
              <p:cNvSpPr/>
              <p:nvPr/>
            </p:nvSpPr>
            <p:spPr>
              <a:xfrm>
                <a:off x="4769280" y="2439360"/>
                <a:ext cx="494892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мпонацц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Text Box 21"/>
              <p:cNvSpPr/>
              <p:nvPr/>
            </p:nvSpPr>
            <p:spPr>
              <a:xfrm>
                <a:off x="449280" y="1760040"/>
                <a:ext cx="431856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ристианский неоплатон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Text Box 22"/>
              <p:cNvSpPr/>
              <p:nvPr/>
            </p:nvSpPr>
            <p:spPr>
              <a:xfrm>
                <a:off x="4769280" y="1760040"/>
                <a:ext cx="4948920" cy="680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занский, Мирандола, Вико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"/>
          <p:cNvSpPr/>
          <p:nvPr/>
        </p:nvSpPr>
        <p:spPr>
          <a:xfrm>
            <a:off x="901800" y="2879640"/>
            <a:ext cx="84614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ОСНОВНЫЕ ИДЕИ ЗАПАДНОЙ ФИЛОСОФИИ ЭПОХИ ВОЗРОЖД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Group 2"/>
          <p:cNvGrpSpPr/>
          <p:nvPr/>
        </p:nvGrpSpPr>
        <p:grpSpPr>
          <a:xfrm>
            <a:off x="541440" y="177840"/>
            <a:ext cx="9176760" cy="7020000"/>
            <a:chOff x="541440" y="177840"/>
            <a:chExt cx="9176760" cy="7020000"/>
          </a:xfrm>
        </p:grpSpPr>
        <p:grpSp>
          <p:nvGrpSpPr>
            <p:cNvPr id="1098" name="Group 3"/>
            <p:cNvGrpSpPr/>
            <p:nvPr/>
          </p:nvGrpSpPr>
          <p:grpSpPr>
            <a:xfrm>
              <a:off x="541440" y="177840"/>
              <a:ext cx="9176760" cy="718920"/>
              <a:chOff x="541440" y="177840"/>
              <a:chExt cx="9176760" cy="718920"/>
            </a:xfrm>
          </p:grpSpPr>
          <p:sp>
            <p:nvSpPr>
              <p:cNvPr id="1099" name="Text Box 4"/>
              <p:cNvSpPr/>
              <p:nvPr/>
            </p:nvSpPr>
            <p:spPr>
              <a:xfrm>
                <a:off x="541440" y="177840"/>
                <a:ext cx="4588200" cy="718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ог (теология)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Text Box 5"/>
              <p:cNvSpPr/>
              <p:nvPr/>
            </p:nvSpPr>
            <p:spPr>
              <a:xfrm>
                <a:off x="5129640" y="177840"/>
                <a:ext cx="4588560" cy="718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тивостояние теизма и пантеизма. Секуляризация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6"/>
            <p:cNvGrpSpPr/>
            <p:nvPr/>
          </p:nvGrpSpPr>
          <p:grpSpPr>
            <a:xfrm>
              <a:off x="541440" y="898560"/>
              <a:ext cx="9176760" cy="1258920"/>
              <a:chOff x="541440" y="898560"/>
              <a:chExt cx="9176760" cy="1258920"/>
            </a:xfrm>
          </p:grpSpPr>
          <p:sp>
            <p:nvSpPr>
              <p:cNvPr id="1102" name="Text Box 7"/>
              <p:cNvSpPr/>
              <p:nvPr/>
            </p:nvSpPr>
            <p:spPr>
              <a:xfrm>
                <a:off x="541440" y="898560"/>
                <a:ext cx="4588200" cy="1258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нтолог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Text Box 8"/>
              <p:cNvSpPr/>
              <p:nvPr/>
            </p:nvSpPr>
            <p:spPr>
              <a:xfrm>
                <a:off x="5129640" y="898560"/>
                <a:ext cx="4588560" cy="1258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есконечная Вселенная. Отказ от дуализма бытия. Гелиоцентризм. Полицентризм. Существование скрытых сил в природе и человек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9"/>
            <p:cNvGrpSpPr/>
            <p:nvPr/>
          </p:nvGrpSpPr>
          <p:grpSpPr>
            <a:xfrm>
              <a:off x="541440" y="2158920"/>
              <a:ext cx="9176760" cy="1798560"/>
              <a:chOff x="541440" y="2158920"/>
              <a:chExt cx="9176760" cy="1798560"/>
            </a:xfrm>
          </p:grpSpPr>
          <p:sp>
            <p:nvSpPr>
              <p:cNvPr id="1105" name="Text Box 10"/>
              <p:cNvSpPr/>
              <p:nvPr/>
            </p:nvSpPr>
            <p:spPr>
              <a:xfrm>
                <a:off x="541440" y="2158920"/>
                <a:ext cx="4588200" cy="1798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трополог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Text Box 11"/>
              <p:cNvSpPr/>
              <p:nvPr/>
            </p:nvSpPr>
            <p:spPr>
              <a:xfrm>
                <a:off x="5129640" y="2158920"/>
                <a:ext cx="4588560" cy="1798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тропоцентризм. Гуманизм. Реабилитация телесного начала человека. Возвращение ценности земной жизни. Свобода человека. Культ человека-творца. Идея духовного преображения челове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12"/>
            <p:cNvGrpSpPr/>
            <p:nvPr/>
          </p:nvGrpSpPr>
          <p:grpSpPr>
            <a:xfrm>
              <a:off x="541440" y="3957480"/>
              <a:ext cx="9176760" cy="1079640"/>
              <a:chOff x="541440" y="3957480"/>
              <a:chExt cx="9176760" cy="1079640"/>
            </a:xfrm>
          </p:grpSpPr>
          <p:sp>
            <p:nvSpPr>
              <p:cNvPr id="1108" name="Text Box 13"/>
              <p:cNvSpPr/>
              <p:nvPr/>
            </p:nvSpPr>
            <p:spPr>
              <a:xfrm>
                <a:off x="541440" y="3957480"/>
                <a:ext cx="4588200" cy="107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носеолог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Text Box 14"/>
              <p:cNvSpPr/>
              <p:nvPr/>
            </p:nvSpPr>
            <p:spPr>
              <a:xfrm>
                <a:off x="5129640" y="3957480"/>
                <a:ext cx="4588560" cy="107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крепление позиций Разума. Становление научных методов познания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0" name="Group 15"/>
            <p:cNvGrpSpPr/>
            <p:nvPr/>
          </p:nvGrpSpPr>
          <p:grpSpPr>
            <a:xfrm>
              <a:off x="541440" y="5038560"/>
              <a:ext cx="9176760" cy="1260720"/>
              <a:chOff x="541440" y="5038560"/>
              <a:chExt cx="9176760" cy="1260720"/>
            </a:xfrm>
          </p:grpSpPr>
          <p:sp>
            <p:nvSpPr>
              <p:cNvPr id="1111" name="Text Box 16"/>
              <p:cNvSpPr/>
              <p:nvPr/>
            </p:nvSpPr>
            <p:spPr>
              <a:xfrm>
                <a:off x="541440" y="5038560"/>
                <a:ext cx="4588200" cy="1260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тика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Text Box 17"/>
              <p:cNvSpPr/>
              <p:nvPr/>
            </p:nvSpPr>
            <p:spPr>
              <a:xfrm>
                <a:off x="5129640" y="5038560"/>
                <a:ext cx="4588560" cy="1260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уализм: этика заповедей Нового Завета и эпикурейское отношение к жизни. Человек способен сам определить свою судьбу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18"/>
            <p:cNvGrpSpPr/>
            <p:nvPr/>
          </p:nvGrpSpPr>
          <p:grpSpPr>
            <a:xfrm>
              <a:off x="541440" y="6299280"/>
              <a:ext cx="9176760" cy="898560"/>
              <a:chOff x="541440" y="6299280"/>
              <a:chExt cx="9176760" cy="898560"/>
            </a:xfrm>
          </p:grpSpPr>
          <p:sp>
            <p:nvSpPr>
              <p:cNvPr id="1114" name="Text Box 19"/>
              <p:cNvSpPr/>
              <p:nvPr/>
            </p:nvSpPr>
            <p:spPr>
              <a:xfrm>
                <a:off x="541440" y="6299280"/>
                <a:ext cx="4588200" cy="898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альная философ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Text Box 20"/>
              <p:cNvSpPr/>
              <p:nvPr/>
            </p:nvSpPr>
            <p:spPr>
              <a:xfrm>
                <a:off x="5129640" y="6299280"/>
                <a:ext cx="4588560" cy="898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одели совершенного, справедливого общества (социальные утопии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1"/>
          <p:cNvGrpSpPr/>
          <p:nvPr/>
        </p:nvGrpSpPr>
        <p:grpSpPr>
          <a:xfrm>
            <a:off x="1258920" y="669960"/>
            <a:ext cx="7919640" cy="5987520"/>
            <a:chOff x="1258920" y="669960"/>
            <a:chExt cx="7919640" cy="5987520"/>
          </a:xfrm>
        </p:grpSpPr>
        <p:sp>
          <p:nvSpPr>
            <p:cNvPr id="1117" name="AutoShape 2"/>
            <p:cNvSpPr/>
            <p:nvPr/>
          </p:nvSpPr>
          <p:spPr>
            <a:xfrm>
              <a:off x="2518920" y="898200"/>
              <a:ext cx="4499640" cy="5759280"/>
            </a:xfrm>
            <a:custGeom>
              <a:avLst/>
              <a:gdLst>
                <a:gd name="textAreaLeft" fmla="*/ 360 w 4499640"/>
                <a:gd name="textAreaRight" fmla="*/ 4499280 w 4499640"/>
                <a:gd name="textAreaTop" fmla="*/ 360 h 5759280"/>
                <a:gd name="textAreaBottom" fmla="*/ 5758920 h 5759280"/>
              </a:gdLst>
              <a:ahLst/>
              <a:rect l="textAreaLeft" t="textAreaTop" r="textAreaRight" b="textAreaBottom"/>
              <a:pathLst>
                <a:path w="21600" h="27646">
                  <a:moveTo>
                    <a:pt x="7" y="0"/>
                  </a:moveTo>
                  <a:arcTo wR="7" hR="7" stAng="16200000" swAng="-5400000"/>
                  <a:lnTo>
                    <a:pt x="0" y="27639"/>
                  </a:lnTo>
                  <a:arcTo wR="7" hR="7" stAng="10800000" swAng="-5400000"/>
                  <a:lnTo>
                    <a:pt x="21593" y="27646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Text Box 3"/>
            <p:cNvSpPr/>
            <p:nvPr/>
          </p:nvSpPr>
          <p:spPr>
            <a:xfrm>
              <a:off x="1258920" y="669960"/>
              <a:ext cx="7739280" cy="13089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философии эпохи Возрождения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XIV-XVII вв.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Text Box 4"/>
            <p:cNvSpPr/>
            <p:nvPr/>
          </p:nvSpPr>
          <p:spPr>
            <a:xfrm>
              <a:off x="5399640" y="2617200"/>
              <a:ext cx="3778920" cy="3140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ледние три течения принято объединять под общим названием «социально-политические направления. Предметом их исследования являлись проблемы общества, государства и Церкви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AutoShape 5"/>
            <p:cNvSpPr/>
            <p:nvPr/>
          </p:nvSpPr>
          <p:spPr>
            <a:xfrm>
              <a:off x="2530080" y="1978920"/>
              <a:ext cx="529920" cy="453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1" name="Group 6"/>
            <p:cNvGrpSpPr/>
            <p:nvPr/>
          </p:nvGrpSpPr>
          <p:grpSpPr>
            <a:xfrm>
              <a:off x="1258920" y="2698200"/>
              <a:ext cx="3418560" cy="3058920"/>
              <a:chOff x="1258920" y="2698200"/>
              <a:chExt cx="3418560" cy="3058920"/>
            </a:xfrm>
          </p:grpSpPr>
          <p:sp>
            <p:nvSpPr>
              <p:cNvPr id="1122" name="Text Box 7"/>
              <p:cNvSpPr/>
              <p:nvPr/>
            </p:nvSpPr>
            <p:spPr>
              <a:xfrm>
                <a:off x="1258920" y="2698200"/>
                <a:ext cx="3418560" cy="51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уманистическо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Text Box 8"/>
              <p:cNvSpPr/>
              <p:nvPr/>
            </p:nvSpPr>
            <p:spPr>
              <a:xfrm>
                <a:off x="1258920" y="5246640"/>
                <a:ext cx="3418560" cy="510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ально-утопическо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Text Box 9"/>
              <p:cNvSpPr/>
              <p:nvPr/>
            </p:nvSpPr>
            <p:spPr>
              <a:xfrm>
                <a:off x="1258920" y="4735800"/>
                <a:ext cx="3418560" cy="509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литическо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10"/>
              <p:cNvSpPr/>
              <p:nvPr/>
            </p:nvSpPr>
            <p:spPr>
              <a:xfrm>
                <a:off x="1258920" y="4227120"/>
                <a:ext cx="3418560" cy="51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формационно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Text Box 11"/>
              <p:cNvSpPr/>
              <p:nvPr/>
            </p:nvSpPr>
            <p:spPr>
              <a:xfrm>
                <a:off x="1258920" y="3717720"/>
                <a:ext cx="3418560" cy="510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атурфилософско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Text Box 12"/>
              <p:cNvSpPr/>
              <p:nvPr/>
            </p:nvSpPr>
            <p:spPr>
              <a:xfrm>
                <a:off x="1258920" y="3208320"/>
                <a:ext cx="3418560" cy="509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еоплатоническо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1128" name="AutoShape 13"/>
            <p:cNvCxnSpPr>
              <a:endCxn id="1119" idx="2"/>
            </p:cNvCxnSpPr>
            <p:nvPr/>
          </p:nvCxnSpPr>
          <p:spPr>
            <a:xfrm flipV="1">
              <a:off x="2968200" y="5757120"/>
              <a:ext cx="4320720" cy="2160"/>
            </a:xfrm>
            <a:prstGeom prst="bentConnector3">
              <a:avLst>
                <a:gd name="adj1" fmla="val 49995"/>
              </a:avLst>
            </a:prstGeom>
            <a:ln w="36000">
              <a:solidFill>
                <a:srgbClr val="000000"/>
              </a:solidFill>
              <a:round/>
            </a:ln>
          </p:spPr>
        </p:cxnSp>
      </p:grp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9" name="Group 1"/>
          <p:cNvGrpSpPr/>
          <p:nvPr/>
        </p:nvGrpSpPr>
        <p:grpSpPr>
          <a:xfrm>
            <a:off x="539640" y="360360"/>
            <a:ext cx="8820000" cy="6838560"/>
            <a:chOff x="539640" y="360360"/>
            <a:chExt cx="8820000" cy="6838560"/>
          </a:xfrm>
        </p:grpSpPr>
        <p:sp>
          <p:nvSpPr>
            <p:cNvPr id="1130" name="AutoShape 2"/>
            <p:cNvSpPr/>
            <p:nvPr/>
          </p:nvSpPr>
          <p:spPr>
            <a:xfrm>
              <a:off x="2339640" y="539280"/>
              <a:ext cx="4860000" cy="6119640"/>
            </a:xfrm>
            <a:custGeom>
              <a:avLst/>
              <a:gdLst>
                <a:gd name="textAreaLeft" fmla="*/ 360 w 4860000"/>
                <a:gd name="textAreaRight" fmla="*/ 4859640 w 4860000"/>
                <a:gd name="textAreaTop" fmla="*/ 360 h 6119640"/>
                <a:gd name="textAreaBottom" fmla="*/ 6119280 h 6119640"/>
              </a:gdLst>
              <a:ahLst/>
              <a:rect l="textAreaLeft" t="textAreaTop" r="textAreaRight" b="textAreaBottom"/>
              <a:pathLst>
                <a:path w="21600" h="27198">
                  <a:moveTo>
                    <a:pt x="7" y="0"/>
                  </a:moveTo>
                  <a:arcTo wR="7" hR="7" stAng="16200000" swAng="-5400000"/>
                  <a:lnTo>
                    <a:pt x="0" y="27191"/>
                  </a:lnTo>
                  <a:arcTo wR="7" hR="7" stAng="10800000" swAng="-5400000"/>
                  <a:lnTo>
                    <a:pt x="21593" y="27198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Text Box 3"/>
            <p:cNvSpPr/>
            <p:nvPr/>
          </p:nvSpPr>
          <p:spPr>
            <a:xfrm>
              <a:off x="720360" y="360360"/>
              <a:ext cx="8639280" cy="5331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уманизм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Text Box 4"/>
            <p:cNvSpPr/>
            <p:nvPr/>
          </p:nvSpPr>
          <p:spPr>
            <a:xfrm>
              <a:off x="720360" y="1220400"/>
              <a:ext cx="3080520" cy="39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Text Box 5"/>
            <p:cNvSpPr/>
            <p:nvPr/>
          </p:nvSpPr>
          <p:spPr>
            <a:xfrm>
              <a:off x="6704640" y="1439640"/>
              <a:ext cx="2653560" cy="39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чер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AutoShape 6"/>
            <p:cNvSpPr/>
            <p:nvPr/>
          </p:nvSpPr>
          <p:spPr>
            <a:xfrm>
              <a:off x="7918560" y="1867680"/>
              <a:ext cx="279000" cy="471240"/>
            </a:xfrm>
            <a:prstGeom prst="downArrow">
              <a:avLst>
                <a:gd name="adj1" fmla="val 50000"/>
                <a:gd name="adj2" fmla="val 4222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AutoShape 7"/>
            <p:cNvSpPr/>
            <p:nvPr/>
          </p:nvSpPr>
          <p:spPr>
            <a:xfrm>
              <a:off x="7918560" y="899640"/>
              <a:ext cx="360000" cy="539640"/>
            </a:xfrm>
            <a:prstGeom prst="upDownArrow">
              <a:avLst>
                <a:gd name="adj1" fmla="val 50000"/>
                <a:gd name="adj2" fmla="val 2984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Line 8"/>
            <p:cNvSpPr/>
            <p:nvPr/>
          </p:nvSpPr>
          <p:spPr>
            <a:xfrm>
              <a:off x="2160360" y="899640"/>
              <a:ext cx="1080" cy="3600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AutoShape 9"/>
            <p:cNvSpPr/>
            <p:nvPr/>
          </p:nvSpPr>
          <p:spPr>
            <a:xfrm>
              <a:off x="2060280" y="1618920"/>
              <a:ext cx="279000" cy="471240"/>
            </a:xfrm>
            <a:prstGeom prst="downArrow">
              <a:avLst>
                <a:gd name="adj1" fmla="val 50000"/>
                <a:gd name="adj2" fmla="val 4222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10"/>
            <p:cNvSpPr/>
            <p:nvPr/>
          </p:nvSpPr>
          <p:spPr>
            <a:xfrm>
              <a:off x="539640" y="2160000"/>
              <a:ext cx="4318920" cy="503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уманизм как философское направление получил распространение в Европе в XIV – середине XV вв. Его центром была Италия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своему жанру гуманистическая философия сливалась с литературой, излагалась иносказательно и в художественной форме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более известные философы-гуманисты одновременно были писателями. К ним прежде всего относились Данте Алигьери, Франческо Петрарка, Лоренцо Вала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11"/>
            <p:cNvSpPr/>
            <p:nvPr/>
          </p:nvSpPr>
          <p:spPr>
            <a:xfrm>
              <a:off x="5939280" y="2339280"/>
              <a:ext cx="3420360" cy="467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ицерковная и антисхоластическая направленность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емление уменьшить всемогущество Бога и доказать самоценность человека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ропоцентризм – особое внимание к человеку, воспевание его силы, величия, возможностей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знеутверждающий характер и оптимиз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1"/>
          <p:cNvGrpSpPr/>
          <p:nvPr/>
        </p:nvGrpSpPr>
        <p:grpSpPr>
          <a:xfrm>
            <a:off x="539640" y="136440"/>
            <a:ext cx="8818560" cy="7241760"/>
            <a:chOff x="539640" y="136440"/>
            <a:chExt cx="8818560" cy="7241760"/>
          </a:xfrm>
        </p:grpSpPr>
        <p:sp>
          <p:nvSpPr>
            <p:cNvPr id="1141" name="AutoShape 2"/>
            <p:cNvSpPr/>
            <p:nvPr/>
          </p:nvSpPr>
          <p:spPr>
            <a:xfrm>
              <a:off x="2339280" y="2223360"/>
              <a:ext cx="5938920" cy="317556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3"/>
            <p:cNvSpPr/>
            <p:nvPr/>
          </p:nvSpPr>
          <p:spPr>
            <a:xfrm>
              <a:off x="1618920" y="2004120"/>
              <a:ext cx="6659640" cy="51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своих произведениях теоретики неоплатонизм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AutoShape 4"/>
            <p:cNvSpPr/>
            <p:nvPr/>
          </p:nvSpPr>
          <p:spPr>
            <a:xfrm>
              <a:off x="4678920" y="1618560"/>
              <a:ext cx="309240" cy="360000"/>
            </a:xfrm>
            <a:prstGeom prst="upDownArrow">
              <a:avLst>
                <a:gd name="adj1" fmla="val 50000"/>
                <a:gd name="adj2" fmla="val 2317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AutoShape 5"/>
            <p:cNvSpPr/>
            <p:nvPr/>
          </p:nvSpPr>
          <p:spPr>
            <a:xfrm>
              <a:off x="4678920" y="2518560"/>
              <a:ext cx="509040" cy="539640"/>
            </a:xfrm>
            <a:prstGeom prst="downArrow">
              <a:avLst>
                <a:gd name="adj1" fmla="val 50000"/>
                <a:gd name="adj2" fmla="val 26503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6"/>
            <p:cNvSpPr/>
            <p:nvPr/>
          </p:nvSpPr>
          <p:spPr>
            <a:xfrm>
              <a:off x="539640" y="136440"/>
              <a:ext cx="8818560" cy="1483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латонизм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деалистическое направление, которое ставило своей целью строгую систематизацию учения Платона, устранение из него противоречий и его дальнейшее развитие. Особого расцвета неоплатонизм достиг в эпоху Возрождения, в XV в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7"/>
            <p:cNvSpPr/>
            <p:nvPr/>
          </p:nvSpPr>
          <p:spPr>
            <a:xfrm>
              <a:off x="539640" y="3083400"/>
              <a:ext cx="8818560" cy="429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тивопоставили, сложившейся и чрезмерно систематизированной схоластической философии, новую философскую систему, основанную на идеях Платона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ложили новую картину мира, в которой уменьшалась роль Бога и усиливалось значение первоначальных (по отношению к миру и вещам) идей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отрицали божественную природу человека, но в то же время рассматривали его как самостоятельный микрокосм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зывали к переосмыслению ряда постулатов прежней философии и созданию целостной мировой философской системы, которая охватила бы собой и согласовала все имеющиеся направления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8" name="Group 2"/>
          <p:cNvGrpSpPr/>
          <p:nvPr/>
        </p:nvGrpSpPr>
        <p:grpSpPr>
          <a:xfrm>
            <a:off x="360360" y="179280"/>
            <a:ext cx="11697840" cy="7018200"/>
            <a:chOff x="360360" y="179280"/>
            <a:chExt cx="11697840" cy="7018200"/>
          </a:xfrm>
        </p:grpSpPr>
        <p:grpSp>
          <p:nvGrpSpPr>
            <p:cNvPr id="1149" name="Group 3"/>
            <p:cNvGrpSpPr/>
            <p:nvPr/>
          </p:nvGrpSpPr>
          <p:grpSpPr>
            <a:xfrm>
              <a:off x="360360" y="179280"/>
              <a:ext cx="9356760" cy="7017120"/>
              <a:chOff x="360360" y="179280"/>
              <a:chExt cx="9356760" cy="7017120"/>
            </a:xfrm>
          </p:grpSpPr>
          <p:grpSp>
            <p:nvGrpSpPr>
              <p:cNvPr id="1150" name="Group 4"/>
              <p:cNvGrpSpPr/>
              <p:nvPr/>
            </p:nvGrpSpPr>
            <p:grpSpPr>
              <a:xfrm>
                <a:off x="360360" y="179280"/>
                <a:ext cx="9356760" cy="7017120"/>
                <a:chOff x="360360" y="179280"/>
                <a:chExt cx="9356760" cy="7017120"/>
              </a:xfrm>
            </p:grpSpPr>
            <p:sp>
              <p:nvSpPr>
                <p:cNvPr id="1151" name="AutoShape 5"/>
                <p:cNvSpPr/>
                <p:nvPr/>
              </p:nvSpPr>
              <p:spPr>
                <a:xfrm>
                  <a:off x="360360" y="179280"/>
                  <a:ext cx="9356760" cy="701712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Text Box 6"/>
                <p:cNvSpPr/>
                <p:nvPr/>
              </p:nvSpPr>
              <p:spPr>
                <a:xfrm>
                  <a:off x="1085400" y="1055160"/>
                  <a:ext cx="7909200" cy="52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флекс</a:t>
                  </a:r>
                  <a:r>
                    <a:rPr b="0" i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3" name="Text Box 7"/>
              <p:cNvSpPr/>
              <p:nvPr/>
            </p:nvSpPr>
            <p:spPr>
              <a:xfrm>
                <a:off x="1260000" y="3677400"/>
                <a:ext cx="8174160" cy="21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4" name="Text Box 8"/>
            <p:cNvSpPr/>
            <p:nvPr/>
          </p:nvSpPr>
          <p:spPr>
            <a:xfrm>
              <a:off x="1275840" y="2075760"/>
              <a:ext cx="10782360" cy="51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5" name="Group 9"/>
            <p:cNvGrpSpPr/>
            <p:nvPr/>
          </p:nvGrpSpPr>
          <p:grpSpPr>
            <a:xfrm>
              <a:off x="539280" y="2645640"/>
              <a:ext cx="8816760" cy="3450600"/>
              <a:chOff x="539280" y="2645640"/>
              <a:chExt cx="8816760" cy="3450600"/>
            </a:xfrm>
          </p:grpSpPr>
          <p:sp>
            <p:nvSpPr>
              <p:cNvPr id="1156" name="AutoShape 10"/>
              <p:cNvSpPr/>
              <p:nvPr/>
            </p:nvSpPr>
            <p:spPr>
              <a:xfrm>
                <a:off x="539280" y="2645640"/>
                <a:ext cx="8815320" cy="34506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423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Text Box 11"/>
              <p:cNvSpPr/>
              <p:nvPr/>
            </p:nvSpPr>
            <p:spPr>
              <a:xfrm>
                <a:off x="1078920" y="3252960"/>
                <a:ext cx="82771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ные вопросы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кие идеи доминируют на отдельных этапах философии Возрождения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чем состоит специфика гуманизма эпохи Возрождения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Является ли неоплатонизм основой всей философии Возрождения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ковы характерные черты натурфилософского периода в философии Возрождения?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158" name="Picture 1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 Box 1"/>
          <p:cNvSpPr/>
          <p:nvPr/>
        </p:nvSpPr>
        <p:spPr>
          <a:xfrm>
            <a:off x="901800" y="2879640"/>
            <a:ext cx="84614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ФИЛОСОФИЯ НОВОГ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ОСНОВНЫЕ НАПРАВЛЕНИЯ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VII-XIX вв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Group 1"/>
          <p:cNvGrpSpPr/>
          <p:nvPr/>
        </p:nvGrpSpPr>
        <p:grpSpPr>
          <a:xfrm>
            <a:off x="0" y="0"/>
            <a:ext cx="10078560" cy="7558200"/>
            <a:chOff x="0" y="0"/>
            <a:chExt cx="10078560" cy="7558200"/>
          </a:xfrm>
        </p:grpSpPr>
        <p:grpSp>
          <p:nvGrpSpPr>
            <p:cNvPr id="1161" name="Group 2"/>
            <p:cNvGrpSpPr/>
            <p:nvPr/>
          </p:nvGrpSpPr>
          <p:grpSpPr>
            <a:xfrm>
              <a:off x="0" y="0"/>
              <a:ext cx="10078560" cy="676440"/>
              <a:chOff x="0" y="0"/>
              <a:chExt cx="10078560" cy="676440"/>
            </a:xfrm>
          </p:grpSpPr>
          <p:sp>
            <p:nvSpPr>
              <p:cNvPr id="1162" name="Text Box 3"/>
              <p:cNvSpPr/>
              <p:nvPr/>
            </p:nvSpPr>
            <p:spPr>
              <a:xfrm>
                <a:off x="0" y="0"/>
                <a:ext cx="5039280" cy="676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мпиризм и сенсуал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Text Box 4"/>
              <p:cNvSpPr/>
              <p:nvPr/>
            </p:nvSpPr>
            <p:spPr>
              <a:xfrm>
                <a:off x="5039280" y="0"/>
                <a:ext cx="5039280" cy="676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экон, Локк, Гоббс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4" name="Group 5"/>
            <p:cNvGrpSpPr/>
            <p:nvPr/>
          </p:nvGrpSpPr>
          <p:grpSpPr>
            <a:xfrm>
              <a:off x="0" y="677880"/>
              <a:ext cx="10078560" cy="677880"/>
              <a:chOff x="0" y="677880"/>
              <a:chExt cx="10078560" cy="677880"/>
            </a:xfrm>
          </p:grpSpPr>
          <p:sp>
            <p:nvSpPr>
              <p:cNvPr id="1165" name="Text Box 6"/>
              <p:cNvSpPr/>
              <p:nvPr/>
            </p:nvSpPr>
            <p:spPr>
              <a:xfrm>
                <a:off x="0" y="67788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тафизический материал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Text Box 7"/>
              <p:cNvSpPr/>
              <p:nvPr/>
            </p:nvSpPr>
            <p:spPr>
              <a:xfrm>
                <a:off x="5039280" y="67788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аметри, Гольбах, Гельвеций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8"/>
            <p:cNvGrpSpPr/>
            <p:nvPr/>
          </p:nvGrpSpPr>
          <p:grpSpPr>
            <a:xfrm>
              <a:off x="0" y="1317600"/>
              <a:ext cx="10078560" cy="677880"/>
              <a:chOff x="0" y="1317600"/>
              <a:chExt cx="10078560" cy="677880"/>
            </a:xfrm>
          </p:grpSpPr>
          <p:sp>
            <p:nvSpPr>
              <p:cNvPr id="1168" name="Text Box 9"/>
              <p:cNvSpPr/>
              <p:nvPr/>
            </p:nvSpPr>
            <p:spPr>
              <a:xfrm>
                <a:off x="0" y="131760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ационал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Text Box 10"/>
              <p:cNvSpPr/>
              <p:nvPr/>
            </p:nvSpPr>
            <p:spPr>
              <a:xfrm>
                <a:off x="5039280" y="131760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екарт, Ньютон, Лейбниц, Спиноза, Кант, Гегель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0" name="Group 11"/>
            <p:cNvGrpSpPr/>
            <p:nvPr/>
          </p:nvGrpSpPr>
          <p:grpSpPr>
            <a:xfrm>
              <a:off x="0" y="1959120"/>
              <a:ext cx="10078560" cy="1279440"/>
              <a:chOff x="0" y="1959120"/>
              <a:chExt cx="10078560" cy="1279440"/>
            </a:xfrm>
          </p:grpSpPr>
          <p:sp>
            <p:nvSpPr>
              <p:cNvPr id="1171" name="Text Box 12"/>
              <p:cNvSpPr/>
              <p:nvPr/>
            </p:nvSpPr>
            <p:spPr>
              <a:xfrm>
                <a:off x="0" y="1959120"/>
                <a:ext cx="5039280" cy="1279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Просвещен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Text Box 13"/>
              <p:cNvSpPr/>
              <p:nvPr/>
            </p:nvSpPr>
            <p:spPr>
              <a:xfrm>
                <a:off x="5039280" y="1959120"/>
                <a:ext cx="5039280" cy="1279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оббс, Локк, Толанд, Вольтер, Руссо, Дидро, Кондильяк, Лессинг, Гердер, Джефферсон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3" name="Group 14"/>
            <p:cNvGrpSpPr/>
            <p:nvPr/>
          </p:nvGrpSpPr>
          <p:grpSpPr>
            <a:xfrm>
              <a:off x="0" y="3238560"/>
              <a:ext cx="10078560" cy="677880"/>
              <a:chOff x="0" y="3238560"/>
              <a:chExt cx="10078560" cy="677880"/>
            </a:xfrm>
          </p:grpSpPr>
          <p:sp>
            <p:nvSpPr>
              <p:cNvPr id="1174" name="Text Box 15"/>
              <p:cNvSpPr/>
              <p:nvPr/>
            </p:nvSpPr>
            <p:spPr>
              <a:xfrm>
                <a:off x="0" y="323856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деал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Text Box 16"/>
              <p:cNvSpPr/>
              <p:nvPr/>
            </p:nvSpPr>
            <p:spPr>
              <a:xfrm>
                <a:off x="5039280" y="323856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Юм, Беркли, Фихте, Кант, Гегель, Шеллинг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6" name="Group 17"/>
            <p:cNvGrpSpPr/>
            <p:nvPr/>
          </p:nvGrpSpPr>
          <p:grpSpPr>
            <a:xfrm>
              <a:off x="0" y="3878280"/>
              <a:ext cx="10078560" cy="677880"/>
              <a:chOff x="0" y="3878280"/>
              <a:chExt cx="10078560" cy="677880"/>
            </a:xfrm>
          </p:grpSpPr>
          <p:sp>
            <p:nvSpPr>
              <p:cNvPr id="1177" name="Text Box 18"/>
              <p:cNvSpPr/>
              <p:nvPr/>
            </p:nvSpPr>
            <p:spPr>
              <a:xfrm>
                <a:off x="0" y="387828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тропологический материал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Text Box 19"/>
              <p:cNvSpPr/>
              <p:nvPr/>
            </p:nvSpPr>
            <p:spPr>
              <a:xfrm>
                <a:off x="5039280" y="387828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ейербах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9" name="Group 20"/>
            <p:cNvGrpSpPr/>
            <p:nvPr/>
          </p:nvGrpSpPr>
          <p:grpSpPr>
            <a:xfrm>
              <a:off x="0" y="4519440"/>
              <a:ext cx="10078560" cy="677880"/>
              <a:chOff x="0" y="4519440"/>
              <a:chExt cx="10078560" cy="677880"/>
            </a:xfrm>
          </p:grpSpPr>
          <p:sp>
            <p:nvSpPr>
              <p:cNvPr id="1180" name="Text Box 21"/>
              <p:cNvSpPr/>
              <p:nvPr/>
            </p:nvSpPr>
            <p:spPr>
              <a:xfrm>
                <a:off x="0" y="451944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иалектический материал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Text Box 22"/>
              <p:cNvSpPr/>
              <p:nvPr/>
            </p:nvSpPr>
            <p:spPr>
              <a:xfrm>
                <a:off x="5039280" y="451944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ркс, Энгельс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23"/>
            <p:cNvGrpSpPr/>
            <p:nvPr/>
          </p:nvGrpSpPr>
          <p:grpSpPr>
            <a:xfrm>
              <a:off x="0" y="5159520"/>
              <a:ext cx="10078560" cy="677880"/>
              <a:chOff x="0" y="5159520"/>
              <a:chExt cx="10078560" cy="677880"/>
            </a:xfrm>
          </p:grpSpPr>
          <p:sp>
            <p:nvSpPr>
              <p:cNvPr id="1183" name="Text Box 24"/>
              <p:cNvSpPr/>
              <p:nvPr/>
            </p:nvSpPr>
            <p:spPr>
              <a:xfrm>
                <a:off x="0" y="515952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истическая философ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Text Box 25"/>
              <p:cNvSpPr/>
              <p:nvPr/>
            </p:nvSpPr>
            <p:spPr>
              <a:xfrm>
                <a:off x="5039280" y="515952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лиостро, Сен-Жермен, Сведенборг, Сен-Мартен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26"/>
            <p:cNvGrpSpPr/>
            <p:nvPr/>
          </p:nvGrpSpPr>
          <p:grpSpPr>
            <a:xfrm>
              <a:off x="0" y="5799240"/>
              <a:ext cx="10078560" cy="677880"/>
              <a:chOff x="0" y="5799240"/>
              <a:chExt cx="10078560" cy="677880"/>
            </a:xfrm>
          </p:grpSpPr>
          <p:sp>
            <p:nvSpPr>
              <p:cNvPr id="1186" name="Text Box 27"/>
              <p:cNvSpPr/>
              <p:nvPr/>
            </p:nvSpPr>
            <p:spPr>
              <a:xfrm>
                <a:off x="0" y="579924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жизни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Text Box 28"/>
              <p:cNvSpPr/>
              <p:nvPr/>
            </p:nvSpPr>
            <p:spPr>
              <a:xfrm>
                <a:off x="5039280" y="5799240"/>
                <a:ext cx="5039280" cy="677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Шопенгауэр, Ницше, Бергсон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8" name="Group 29"/>
            <p:cNvGrpSpPr/>
            <p:nvPr/>
          </p:nvGrpSpPr>
          <p:grpSpPr>
            <a:xfrm>
              <a:off x="0" y="6438960"/>
              <a:ext cx="10078560" cy="479520"/>
              <a:chOff x="0" y="6438960"/>
              <a:chExt cx="10078560" cy="479520"/>
            </a:xfrm>
          </p:grpSpPr>
          <p:sp>
            <p:nvSpPr>
              <p:cNvPr id="1189" name="Text Box 30"/>
              <p:cNvSpPr/>
              <p:nvPr/>
            </p:nvSpPr>
            <p:spPr>
              <a:xfrm>
                <a:off x="0" y="6438960"/>
                <a:ext cx="5039280" cy="479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зитивиз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31"/>
              <p:cNvSpPr/>
              <p:nvPr/>
            </p:nvSpPr>
            <p:spPr>
              <a:xfrm>
                <a:off x="5039280" y="6438960"/>
                <a:ext cx="5039280" cy="479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, Спенсер, Милль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32"/>
            <p:cNvGrpSpPr/>
            <p:nvPr/>
          </p:nvGrpSpPr>
          <p:grpSpPr>
            <a:xfrm>
              <a:off x="0" y="6881760"/>
              <a:ext cx="10078560" cy="676440"/>
              <a:chOff x="0" y="6881760"/>
              <a:chExt cx="10078560" cy="676440"/>
            </a:xfrm>
          </p:grpSpPr>
          <p:sp>
            <p:nvSpPr>
              <p:cNvPr id="1192" name="Text Box 33"/>
              <p:cNvSpPr/>
              <p:nvPr/>
            </p:nvSpPr>
            <p:spPr>
              <a:xfrm>
                <a:off x="0" y="6881760"/>
                <a:ext cx="5039280" cy="676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еософия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34"/>
              <p:cNvSpPr/>
              <p:nvPr/>
            </p:nvSpPr>
            <p:spPr>
              <a:xfrm>
                <a:off x="5039280" y="6881760"/>
                <a:ext cx="5039280" cy="676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лаватская, Синнет, Субба Роу, Безант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1"/>
          <p:cNvGrpSpPr/>
          <p:nvPr/>
        </p:nvGrpSpPr>
        <p:grpSpPr>
          <a:xfrm>
            <a:off x="338040" y="360360"/>
            <a:ext cx="9720360" cy="6838560"/>
            <a:chOff x="338040" y="360360"/>
            <a:chExt cx="9720360" cy="6838560"/>
          </a:xfrm>
        </p:grpSpPr>
        <p:sp>
          <p:nvSpPr>
            <p:cNvPr id="1195" name="AutoShape 2"/>
            <p:cNvSpPr/>
            <p:nvPr/>
          </p:nvSpPr>
          <p:spPr>
            <a:xfrm>
              <a:off x="3038400" y="1079640"/>
              <a:ext cx="5040360" cy="46796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AutoShape 3"/>
            <p:cNvSpPr/>
            <p:nvPr/>
          </p:nvSpPr>
          <p:spPr>
            <a:xfrm>
              <a:off x="4478400" y="1839960"/>
              <a:ext cx="1334880" cy="1400040"/>
            </a:xfrm>
            <a:custGeom>
              <a:avLst/>
              <a:gdLst>
                <a:gd name="textAreaLeft" fmla="*/ 166680 w 1334880"/>
                <a:gd name="textAreaRight" fmla="*/ 1168200 w 1334880"/>
                <a:gd name="textAreaTop" fmla="*/ 349920 h 1400040"/>
                <a:gd name="textAreaBottom" fmla="*/ 1050120 h 14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AutoShape 4"/>
            <p:cNvSpPr/>
            <p:nvPr/>
          </p:nvSpPr>
          <p:spPr>
            <a:xfrm>
              <a:off x="338040" y="3600360"/>
              <a:ext cx="2374920" cy="1420920"/>
            </a:xfrm>
            <a:prstGeom prst="hexagon">
              <a:avLst>
                <a:gd name="adj" fmla="val 41785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Text Box 5"/>
            <p:cNvSpPr/>
            <p:nvPr/>
          </p:nvSpPr>
          <p:spPr>
            <a:xfrm>
              <a:off x="777960" y="3863880"/>
              <a:ext cx="149364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мет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и по Ф.Бэкон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Oval 6"/>
            <p:cNvSpPr/>
            <p:nvPr/>
          </p:nvSpPr>
          <p:spPr>
            <a:xfrm>
              <a:off x="6099120" y="3770280"/>
              <a:ext cx="3219480" cy="1241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Text Box 7"/>
            <p:cNvSpPr/>
            <p:nvPr/>
          </p:nvSpPr>
          <p:spPr>
            <a:xfrm>
              <a:off x="6575400" y="3954600"/>
              <a:ext cx="226872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 познания человеко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Text Box 8"/>
            <p:cNvSpPr/>
            <p:nvPr/>
          </p:nvSpPr>
          <p:spPr>
            <a:xfrm>
              <a:off x="1598760" y="360360"/>
              <a:ext cx="2520720" cy="120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ойств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ческого ум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AutoShape 9"/>
            <p:cNvSpPr/>
            <p:nvPr/>
          </p:nvSpPr>
          <p:spPr>
            <a:xfrm>
              <a:off x="1282680" y="5029200"/>
              <a:ext cx="496800" cy="557280"/>
            </a:xfrm>
            <a:prstGeom prst="downArrow">
              <a:avLst>
                <a:gd name="adj1" fmla="val 50000"/>
                <a:gd name="adj2" fmla="val 28043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AutoShape 10"/>
            <p:cNvSpPr/>
            <p:nvPr/>
          </p:nvSpPr>
          <p:spPr>
            <a:xfrm>
              <a:off x="7454880" y="5022720"/>
              <a:ext cx="423720" cy="557280"/>
            </a:xfrm>
            <a:prstGeom prst="downArrow">
              <a:avLst>
                <a:gd name="adj1" fmla="val 50000"/>
                <a:gd name="adj2" fmla="val 3288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Text Box 11"/>
            <p:cNvSpPr/>
            <p:nvPr/>
          </p:nvSpPr>
          <p:spPr>
            <a:xfrm>
              <a:off x="6099120" y="360360"/>
              <a:ext cx="3240000" cy="1260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ассификац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.Бэко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5" name="Group 12"/>
            <p:cNvGrpSpPr/>
            <p:nvPr/>
          </p:nvGrpSpPr>
          <p:grpSpPr>
            <a:xfrm>
              <a:off x="1598760" y="1800360"/>
              <a:ext cx="2519280" cy="1439280"/>
              <a:chOff x="1598760" y="1800360"/>
              <a:chExt cx="2519280" cy="1439280"/>
            </a:xfrm>
          </p:grpSpPr>
          <p:sp>
            <p:nvSpPr>
              <p:cNvPr id="1206" name="Text Box 13"/>
              <p:cNvSpPr/>
              <p:nvPr/>
            </p:nvSpPr>
            <p:spPr>
              <a:xfrm>
                <a:off x="1598760" y="1800360"/>
                <a:ext cx="2519280" cy="480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амять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Text Box 14"/>
              <p:cNvSpPr/>
              <p:nvPr/>
            </p:nvSpPr>
            <p:spPr>
              <a:xfrm>
                <a:off x="1598760" y="2278800"/>
                <a:ext cx="2519280" cy="48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оображение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15"/>
              <p:cNvSpPr/>
              <p:nvPr/>
            </p:nvSpPr>
            <p:spPr>
              <a:xfrm>
                <a:off x="1598760" y="2759400"/>
                <a:ext cx="2519280" cy="480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ассудок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9" name="Group 16"/>
            <p:cNvGrpSpPr/>
            <p:nvPr/>
          </p:nvGrpSpPr>
          <p:grpSpPr>
            <a:xfrm>
              <a:off x="6099120" y="1800360"/>
              <a:ext cx="3238560" cy="1439280"/>
              <a:chOff x="6099120" y="1800360"/>
              <a:chExt cx="3238560" cy="1439280"/>
            </a:xfrm>
          </p:grpSpPr>
          <p:sp>
            <p:nvSpPr>
              <p:cNvPr id="1210" name="Text Box 17"/>
              <p:cNvSpPr/>
              <p:nvPr/>
            </p:nvSpPr>
            <p:spPr>
              <a:xfrm>
                <a:off x="6099120" y="1800360"/>
                <a:ext cx="3238560" cy="480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сторические науки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Text Box 18"/>
              <p:cNvSpPr/>
              <p:nvPr/>
            </p:nvSpPr>
            <p:spPr>
              <a:xfrm>
                <a:off x="6099120" y="2278800"/>
                <a:ext cx="3238560" cy="48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эз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Text Box 19"/>
              <p:cNvSpPr/>
              <p:nvPr/>
            </p:nvSpPr>
            <p:spPr>
              <a:xfrm>
                <a:off x="6099120" y="2759400"/>
                <a:ext cx="3238560" cy="480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3" name="Group 20"/>
            <p:cNvGrpSpPr/>
            <p:nvPr/>
          </p:nvGrpSpPr>
          <p:grpSpPr>
            <a:xfrm>
              <a:off x="2319480" y="5759280"/>
              <a:ext cx="7738920" cy="1439640"/>
              <a:chOff x="2319480" y="5759280"/>
              <a:chExt cx="7738920" cy="1439640"/>
            </a:xfrm>
          </p:grpSpPr>
          <p:sp>
            <p:nvSpPr>
              <p:cNvPr id="1214" name="Text Box 21"/>
              <p:cNvSpPr/>
              <p:nvPr/>
            </p:nvSpPr>
            <p:spPr>
              <a:xfrm>
                <a:off x="2319480" y="5759280"/>
                <a:ext cx="7738920" cy="48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епосредственно – с помощью чувсттвенного опыта;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Text Box 22"/>
              <p:cNvSpPr/>
              <p:nvPr/>
            </p:nvSpPr>
            <p:spPr>
              <a:xfrm>
                <a:off x="2319480" y="6239880"/>
                <a:ext cx="7738920" cy="480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ерез природу;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Text Box 23"/>
              <p:cNvSpPr/>
              <p:nvPr/>
            </p:nvSpPr>
            <p:spPr>
              <a:xfrm>
                <a:off x="2319480" y="6718320"/>
                <a:ext cx="7738920" cy="48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ерез рефлексию.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24"/>
            <p:cNvGrpSpPr/>
            <p:nvPr/>
          </p:nvGrpSpPr>
          <p:grpSpPr>
            <a:xfrm>
              <a:off x="338040" y="5759280"/>
              <a:ext cx="1978200" cy="1439640"/>
              <a:chOff x="338040" y="5759280"/>
              <a:chExt cx="1978200" cy="1439640"/>
            </a:xfrm>
          </p:grpSpPr>
          <p:sp>
            <p:nvSpPr>
              <p:cNvPr id="1218" name="Text Box 25"/>
              <p:cNvSpPr/>
              <p:nvPr/>
            </p:nvSpPr>
            <p:spPr>
              <a:xfrm>
                <a:off x="338040" y="5759280"/>
                <a:ext cx="1978200" cy="48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ирода;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Text Box 26"/>
              <p:cNvSpPr/>
              <p:nvPr/>
            </p:nvSpPr>
            <p:spPr>
              <a:xfrm>
                <a:off x="338040" y="6239880"/>
                <a:ext cx="1978200" cy="480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ог;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Text Box 27"/>
              <p:cNvSpPr/>
              <p:nvPr/>
            </p:nvSpPr>
            <p:spPr>
              <a:xfrm>
                <a:off x="338040" y="6718320"/>
                <a:ext cx="1978200" cy="48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еловек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1" name="Line 28"/>
            <p:cNvSpPr/>
            <p:nvPr/>
          </p:nvSpPr>
          <p:spPr>
            <a:xfrm flipH="1">
              <a:off x="2452320" y="3240000"/>
              <a:ext cx="45925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Line 29"/>
            <p:cNvSpPr/>
            <p:nvPr/>
          </p:nvSpPr>
          <p:spPr>
            <a:xfrm>
              <a:off x="6818400" y="3240000"/>
              <a:ext cx="90000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1"/>
          <p:cNvGrpSpPr/>
          <p:nvPr/>
        </p:nvGrpSpPr>
        <p:grpSpPr>
          <a:xfrm>
            <a:off x="1619280" y="179280"/>
            <a:ext cx="6479640" cy="7199280"/>
            <a:chOff x="1619280" y="179280"/>
            <a:chExt cx="6479640" cy="7199280"/>
          </a:xfrm>
        </p:grpSpPr>
        <p:sp>
          <p:nvSpPr>
            <p:cNvPr id="498" name="AutoShape 2"/>
            <p:cNvSpPr/>
            <p:nvPr/>
          </p:nvSpPr>
          <p:spPr>
            <a:xfrm>
              <a:off x="1619280" y="179280"/>
              <a:ext cx="6478200" cy="7199280"/>
            </a:xfrm>
            <a:custGeom>
              <a:avLst/>
              <a:gdLst>
                <a:gd name="textAreaLeft" fmla="*/ 360 w 6478200"/>
                <a:gd name="textAreaRight" fmla="*/ 6477840 w 6478200"/>
                <a:gd name="textAreaTop" fmla="*/ 360 h 7199280"/>
                <a:gd name="textAreaBottom" fmla="*/ 7198920 h 7199280"/>
              </a:gdLst>
              <a:ahLst/>
              <a:rect l="textAreaLeft" t="textAreaTop" r="textAreaRight" b="textAreaBottom"/>
              <a:pathLst>
                <a:path w="21600" h="24004">
                  <a:moveTo>
                    <a:pt x="5" y="0"/>
                  </a:moveTo>
                  <a:arcTo wR="5" hR="5" stAng="16200000" swAng="-5400000"/>
                  <a:lnTo>
                    <a:pt x="0" y="23999"/>
                  </a:lnTo>
                  <a:arcTo wR="5" hR="5" stAng="10800000" swAng="-5400000"/>
                  <a:lnTo>
                    <a:pt x="21595" y="24004"/>
                  </a:lnTo>
                  <a:arcTo wR="5" hR="5" stAng="5400000" swAng="-5400000"/>
                  <a:lnTo>
                    <a:pt x="21600" y="5"/>
                  </a:lnTo>
                  <a:arcTo wR="5" hR="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3"/>
            <p:cNvSpPr/>
            <p:nvPr/>
          </p:nvSpPr>
          <p:spPr>
            <a:xfrm>
              <a:off x="2622240" y="360000"/>
              <a:ext cx="4337280" cy="539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ровоззре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"/>
            <p:cNvSpPr/>
            <p:nvPr/>
          </p:nvSpPr>
          <p:spPr>
            <a:xfrm>
              <a:off x="3334680" y="1618920"/>
              <a:ext cx="2286720" cy="12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фер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5"/>
            <p:cNvSpPr/>
            <p:nvPr/>
          </p:nvSpPr>
          <p:spPr>
            <a:xfrm>
              <a:off x="5810400" y="1618920"/>
              <a:ext cx="2286720" cy="12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уктур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1619280" y="1618920"/>
              <a:ext cx="1526400" cy="12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ня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7"/>
            <p:cNvSpPr/>
            <p:nvPr/>
          </p:nvSpPr>
          <p:spPr>
            <a:xfrm>
              <a:off x="1619280" y="3418560"/>
              <a:ext cx="1526400" cy="1618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 представлений о мире и человек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8"/>
            <p:cNvSpPr/>
            <p:nvPr/>
          </p:nvSpPr>
          <p:spPr>
            <a:xfrm>
              <a:off x="3334680" y="3418560"/>
              <a:ext cx="2286720" cy="160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ропонимание (рациональная, интеллектуально-познавательная сфера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9"/>
            <p:cNvSpPr/>
            <p:nvPr/>
          </p:nvSpPr>
          <p:spPr>
            <a:xfrm>
              <a:off x="6383520" y="3418560"/>
              <a:ext cx="1715400" cy="53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0"/>
            <p:cNvSpPr/>
            <p:nvPr/>
          </p:nvSpPr>
          <p:spPr>
            <a:xfrm>
              <a:off x="6383520" y="4318560"/>
              <a:ext cx="1715400" cy="72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н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оцен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6383520" y="5218200"/>
              <a:ext cx="171540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алы и норм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6383520" y="6297480"/>
              <a:ext cx="171540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бежд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3334680" y="5578560"/>
              <a:ext cx="2286720" cy="161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роощущение (чувственная, эмоционально-психическа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фера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 flipH="1">
              <a:off x="2255040" y="887040"/>
              <a:ext cx="1491480" cy="73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6002640" y="899640"/>
              <a:ext cx="1167840" cy="7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4499640" y="899640"/>
              <a:ext cx="108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>
              <a:off x="2382480" y="2878920"/>
              <a:ext cx="108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18"/>
            <p:cNvSpPr/>
            <p:nvPr/>
          </p:nvSpPr>
          <p:spPr>
            <a:xfrm>
              <a:off x="4477320" y="2878920"/>
              <a:ext cx="108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19"/>
            <p:cNvSpPr/>
            <p:nvPr/>
          </p:nvSpPr>
          <p:spPr>
            <a:xfrm>
              <a:off x="6383520" y="2878920"/>
              <a:ext cx="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20"/>
            <p:cNvSpPr/>
            <p:nvPr/>
          </p:nvSpPr>
          <p:spPr>
            <a:xfrm>
              <a:off x="6002640" y="2878920"/>
              <a:ext cx="1080" cy="37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21"/>
            <p:cNvSpPr/>
            <p:nvPr/>
          </p:nvSpPr>
          <p:spPr>
            <a:xfrm>
              <a:off x="6002640" y="3597840"/>
              <a:ext cx="3805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2"/>
            <p:cNvSpPr/>
            <p:nvPr/>
          </p:nvSpPr>
          <p:spPr>
            <a:xfrm>
              <a:off x="6002640" y="4678560"/>
              <a:ext cx="380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23"/>
            <p:cNvSpPr/>
            <p:nvPr/>
          </p:nvSpPr>
          <p:spPr>
            <a:xfrm>
              <a:off x="6002640" y="5578560"/>
              <a:ext cx="38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24"/>
            <p:cNvSpPr/>
            <p:nvPr/>
          </p:nvSpPr>
          <p:spPr>
            <a:xfrm>
              <a:off x="6002640" y="6657840"/>
              <a:ext cx="380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25"/>
            <p:cNvSpPr/>
            <p:nvPr/>
          </p:nvSpPr>
          <p:spPr>
            <a:xfrm>
              <a:off x="4477320" y="5015160"/>
              <a:ext cx="1080" cy="56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Group 1"/>
          <p:cNvGrpSpPr/>
          <p:nvPr/>
        </p:nvGrpSpPr>
        <p:grpSpPr>
          <a:xfrm>
            <a:off x="539640" y="360360"/>
            <a:ext cx="9178920" cy="6838560"/>
            <a:chOff x="539640" y="360360"/>
            <a:chExt cx="9178920" cy="6838560"/>
          </a:xfrm>
        </p:grpSpPr>
        <p:sp>
          <p:nvSpPr>
            <p:cNvPr id="1224" name="AutoShape 2"/>
            <p:cNvSpPr/>
            <p:nvPr/>
          </p:nvSpPr>
          <p:spPr>
            <a:xfrm>
              <a:off x="3239280" y="1439640"/>
              <a:ext cx="2880720" cy="197892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Text Box 3"/>
            <p:cNvSpPr/>
            <p:nvPr/>
          </p:nvSpPr>
          <p:spPr>
            <a:xfrm>
              <a:off x="3599640" y="1999440"/>
              <a:ext cx="2880720" cy="51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ские воззр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AutoShape 4"/>
            <p:cNvSpPr/>
            <p:nvPr/>
          </p:nvSpPr>
          <p:spPr>
            <a:xfrm>
              <a:off x="4777200" y="1444320"/>
              <a:ext cx="394920" cy="534600"/>
            </a:xfrm>
            <a:prstGeom prst="upDownArrow">
              <a:avLst>
                <a:gd name="adj1" fmla="val 50000"/>
                <a:gd name="adj2" fmla="val 26948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AutoShape 5"/>
            <p:cNvSpPr/>
            <p:nvPr/>
          </p:nvSpPr>
          <p:spPr>
            <a:xfrm>
              <a:off x="4825080" y="2518560"/>
              <a:ext cx="393120" cy="539640"/>
            </a:xfrm>
            <a:prstGeom prst="downArrow">
              <a:avLst>
                <a:gd name="adj1" fmla="val 50000"/>
                <a:gd name="adj2" fmla="val 34318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Text Box 6"/>
            <p:cNvSpPr/>
            <p:nvPr/>
          </p:nvSpPr>
          <p:spPr>
            <a:xfrm>
              <a:off x="1618920" y="360360"/>
              <a:ext cx="6478560" cy="108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мас Гоббс – ученик и продолжатель философской традиции Ф. Бэкон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Text Box 7"/>
            <p:cNvSpPr/>
            <p:nvPr/>
          </p:nvSpPr>
          <p:spPr>
            <a:xfrm>
              <a:off x="539640" y="3060000"/>
              <a:ext cx="9178920" cy="413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ительно отвергал теологическую схоластическую философию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ью философии видел достижение практических результатов деятельности человека, способствовании научно-техническому прогрессу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споре между эмпиризмом и рационализмом выступил на стороне эмпиризма; критиковал рационалистическую философию Декарта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л убежденным материалистом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читал важнейшей философской проблемой вопросы общества и государства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ал теорию государства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ым выдвинул идею, согласно которой в основе возникновения государства лежал общественный (совместный) договор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1"/>
          <p:cNvGrpSpPr/>
          <p:nvPr/>
        </p:nvGrpSpPr>
        <p:grpSpPr>
          <a:xfrm>
            <a:off x="538200" y="358920"/>
            <a:ext cx="9180000" cy="6840000"/>
            <a:chOff x="538200" y="358920"/>
            <a:chExt cx="9180000" cy="6840000"/>
          </a:xfrm>
        </p:grpSpPr>
        <p:sp>
          <p:nvSpPr>
            <p:cNvPr id="1231" name="AutoShape 2"/>
            <p:cNvSpPr/>
            <p:nvPr/>
          </p:nvSpPr>
          <p:spPr>
            <a:xfrm>
              <a:off x="1617480" y="537840"/>
              <a:ext cx="6299280" cy="629892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Text Box 3"/>
            <p:cNvSpPr/>
            <p:nvPr/>
          </p:nvSpPr>
          <p:spPr>
            <a:xfrm>
              <a:off x="538200" y="358920"/>
              <a:ext cx="9178560" cy="539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ские взгляды  Декарт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Text Box 4"/>
            <p:cNvSpPr/>
            <p:nvPr/>
          </p:nvSpPr>
          <p:spPr>
            <a:xfrm>
              <a:off x="2158560" y="2517120"/>
              <a:ext cx="5938920" cy="3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чный метод при изучении проблем позн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Text Box 5"/>
            <p:cNvSpPr/>
            <p:nvPr/>
          </p:nvSpPr>
          <p:spPr>
            <a:xfrm>
              <a:off x="538200" y="3058560"/>
              <a:ext cx="2878920" cy="3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Text Box 6"/>
            <p:cNvSpPr/>
            <p:nvPr/>
          </p:nvSpPr>
          <p:spPr>
            <a:xfrm>
              <a:off x="6809040" y="3058560"/>
              <a:ext cx="2909160" cy="3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емы исследов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AutoShape 7"/>
            <p:cNvSpPr/>
            <p:nvPr/>
          </p:nvSpPr>
          <p:spPr>
            <a:xfrm>
              <a:off x="4856760" y="898200"/>
              <a:ext cx="333000" cy="360000"/>
            </a:xfrm>
            <a:prstGeom prst="downArrow">
              <a:avLst>
                <a:gd name="adj1" fmla="val 50000"/>
                <a:gd name="adj2" fmla="val 27027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AutoShape 8"/>
            <p:cNvSpPr/>
            <p:nvPr/>
          </p:nvSpPr>
          <p:spPr>
            <a:xfrm>
              <a:off x="4916880" y="2158200"/>
              <a:ext cx="299880" cy="250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Text Box 9"/>
            <p:cNvSpPr/>
            <p:nvPr/>
          </p:nvSpPr>
          <p:spPr>
            <a:xfrm>
              <a:off x="538200" y="1258560"/>
              <a:ext cx="917856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 совмещает в себе две субстанции, дуалистичен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кольку человек дуалистичен, то ни материя, н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нание  не могут быть первичны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Text Box 10"/>
            <p:cNvSpPr/>
            <p:nvPr/>
          </p:nvSpPr>
          <p:spPr>
            <a:xfrm>
              <a:off x="538200" y="3597840"/>
              <a:ext cx="4318560" cy="35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мнению Декарта, применив научный метод в процессе познания можно значительно продвинуть вперед сам познавательный процесс;в качестве научного метода предлагается дедукция, понимаемая в философском смысл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ысл философского гносеологического метода Декарта в том, чтобы в процессе познания опираться только на достоверные знания и с помощью разума получить новые зн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Text Box 11"/>
            <p:cNvSpPr/>
            <p:nvPr/>
          </p:nvSpPr>
          <p:spPr>
            <a:xfrm>
              <a:off x="5397840" y="3597840"/>
              <a:ext cx="4318560" cy="360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пускать при исследовании в качестве исходных положений только истинное, абсолютно достоверное знание;сложную проблему расчленить на отдельные, более простые задачи;последовательно переходить от известных и доказанных  вопросов к неизвестным то есть  недоказанны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ого соблюдать последовательность, логическую цепь исследов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Line 12"/>
            <p:cNvSpPr/>
            <p:nvPr/>
          </p:nvSpPr>
          <p:spPr>
            <a:xfrm flipH="1">
              <a:off x="1751760" y="2877480"/>
              <a:ext cx="9918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Line 13"/>
            <p:cNvSpPr/>
            <p:nvPr/>
          </p:nvSpPr>
          <p:spPr>
            <a:xfrm>
              <a:off x="7737480" y="2877480"/>
              <a:ext cx="107928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Line 14"/>
            <p:cNvSpPr/>
            <p:nvPr/>
          </p:nvSpPr>
          <p:spPr>
            <a:xfrm>
              <a:off x="3058560" y="3416760"/>
              <a:ext cx="7203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Line 15"/>
            <p:cNvSpPr/>
            <p:nvPr/>
          </p:nvSpPr>
          <p:spPr>
            <a:xfrm flipH="1">
              <a:off x="6249600" y="3416760"/>
              <a:ext cx="81252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6" name="Group 2"/>
          <p:cNvGrpSpPr/>
          <p:nvPr/>
        </p:nvGrpSpPr>
        <p:grpSpPr>
          <a:xfrm>
            <a:off x="358920" y="307800"/>
            <a:ext cx="9538920" cy="7070400"/>
            <a:chOff x="358920" y="307800"/>
            <a:chExt cx="9538920" cy="7070400"/>
          </a:xfrm>
        </p:grpSpPr>
        <p:sp>
          <p:nvSpPr>
            <p:cNvPr id="1247" name="AutoShape 3"/>
            <p:cNvSpPr/>
            <p:nvPr/>
          </p:nvSpPr>
          <p:spPr>
            <a:xfrm>
              <a:off x="1979280" y="539280"/>
              <a:ext cx="6299640" cy="611820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Text Box 4"/>
            <p:cNvSpPr/>
            <p:nvPr/>
          </p:nvSpPr>
          <p:spPr>
            <a:xfrm>
              <a:off x="539280" y="307800"/>
              <a:ext cx="9179280" cy="4140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ционализм Декарт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Text Box 5"/>
            <p:cNvSpPr/>
            <p:nvPr/>
          </p:nvSpPr>
          <p:spPr>
            <a:xfrm>
              <a:off x="539280" y="899640"/>
              <a:ext cx="197928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ение философии Декарт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Text Box 6"/>
            <p:cNvSpPr/>
            <p:nvPr/>
          </p:nvSpPr>
          <p:spPr>
            <a:xfrm>
              <a:off x="3707640" y="899640"/>
              <a:ext cx="565056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азательства Декарта первичности разума по отношению к бытию и познанию – главной идеи рационализма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Text Box 7"/>
            <p:cNvSpPr/>
            <p:nvPr/>
          </p:nvSpPr>
          <p:spPr>
            <a:xfrm>
              <a:off x="358920" y="2160000"/>
              <a:ext cx="2878920" cy="5218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сновал ведущую роль разума в познани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нул учение о субстанции, ее атрибутах и модусах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л автором теории дуализма, чем попытался примирить материалистическое и идеалистическое направление в философи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нул теорию о научном методе познания и о «врожденных идея»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Text Box 8"/>
            <p:cNvSpPr/>
            <p:nvPr/>
          </p:nvSpPr>
          <p:spPr>
            <a:xfrm>
              <a:off x="3418920" y="2160000"/>
              <a:ext cx="6478920" cy="5218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мире существует много вещей и явлений, которые непонятны человеку (например: есть ли Бог? Конечна ли Вселенная и т. д.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то абсолютно в любом явлении, любой вещи можно усомниться  (существует ли окружающий мир? Светит  ли Солнце? Бессмертна ли душа? и т.д.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едовательно, сомнение реально существует, этот факт очевиден и не нуждается в доказательствах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мнение – свойство мысли, значит, человек, сомневаясь, мыслит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слить может реально существующий человек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едовательно, мышление является основой как бытия, так и познания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кольку мышление – это работа разума, то в основе бытия и познания может лежать только разу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Line 9"/>
            <p:cNvSpPr/>
            <p:nvPr/>
          </p:nvSpPr>
          <p:spPr>
            <a:xfrm flipH="1">
              <a:off x="2472840" y="720360"/>
              <a:ext cx="809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Line 10"/>
            <p:cNvSpPr/>
            <p:nvPr/>
          </p:nvSpPr>
          <p:spPr>
            <a:xfrm>
              <a:off x="5578920" y="720360"/>
              <a:ext cx="3600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Line 11"/>
            <p:cNvSpPr/>
            <p:nvPr/>
          </p:nvSpPr>
          <p:spPr>
            <a:xfrm>
              <a:off x="1618920" y="1978920"/>
              <a:ext cx="7203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Line 12"/>
            <p:cNvSpPr/>
            <p:nvPr/>
          </p:nvSpPr>
          <p:spPr>
            <a:xfrm flipH="1">
              <a:off x="5891760" y="1978920"/>
              <a:ext cx="80928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8" name="Group 2"/>
          <p:cNvGrpSpPr/>
          <p:nvPr/>
        </p:nvGrpSpPr>
        <p:grpSpPr>
          <a:xfrm>
            <a:off x="539640" y="177840"/>
            <a:ext cx="9358560" cy="7019640"/>
            <a:chOff x="539640" y="177840"/>
            <a:chExt cx="9358560" cy="7019640"/>
          </a:xfrm>
        </p:grpSpPr>
        <p:sp>
          <p:nvSpPr>
            <p:cNvPr id="1259" name="AutoShape 3"/>
            <p:cNvSpPr/>
            <p:nvPr/>
          </p:nvSpPr>
          <p:spPr>
            <a:xfrm>
              <a:off x="4679280" y="917280"/>
              <a:ext cx="899640" cy="1060200"/>
            </a:xfrm>
            <a:prstGeom prst="downArrow">
              <a:avLst>
                <a:gd name="adj1" fmla="val 50000"/>
                <a:gd name="adj2" fmla="val 29462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Text Box 4"/>
            <p:cNvSpPr/>
            <p:nvPr/>
          </p:nvSpPr>
          <p:spPr>
            <a:xfrm>
              <a:off x="1226880" y="177840"/>
              <a:ext cx="8131320" cy="72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 философии Дж. Лок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Text Box 5"/>
            <p:cNvSpPr/>
            <p:nvPr/>
          </p:nvSpPr>
          <p:spPr>
            <a:xfrm>
              <a:off x="539640" y="2158200"/>
              <a:ext cx="9358560" cy="503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р материалистичен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основе познания лежит только опыт («нет ничего в мыслях человека, чего до этого не было в чувствах»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нание – пустое помещение, которое в течение жизни наполняется опытом (в этой связи является всемирно известным высказывание Локка о сознании ка о «чистой доске», на которой записывается опыт, -Tabula rasa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точником опыта выступает внешний мир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ь философии – помочь человеку добиться успеха в своей деятельност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ал человека – спокойный, законопослушный, добропорядочный джентельмен, который повышает уровень своего образования и добивается хороших результатов в своей професси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ал государства – государство, построенное на основе разделения властей на законодательную, исполнительную (в том числе судебную) и федеративную (внешнеполитическую). Локк стал первым, кто выдвинул эту идею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3" name="Group 2"/>
          <p:cNvGrpSpPr/>
          <p:nvPr/>
        </p:nvGrpSpPr>
        <p:grpSpPr>
          <a:xfrm>
            <a:off x="539640" y="217440"/>
            <a:ext cx="9178560" cy="7160760"/>
            <a:chOff x="539640" y="217440"/>
            <a:chExt cx="9178560" cy="7160760"/>
          </a:xfrm>
        </p:grpSpPr>
        <p:sp>
          <p:nvSpPr>
            <p:cNvPr id="1264" name="AutoShape 3"/>
            <p:cNvSpPr/>
            <p:nvPr/>
          </p:nvSpPr>
          <p:spPr>
            <a:xfrm>
              <a:off x="1979280" y="810720"/>
              <a:ext cx="5578560" cy="6027480"/>
            </a:xfrm>
            <a:custGeom>
              <a:avLst/>
              <a:gdLst>
                <a:gd name="textAreaLeft" fmla="*/ 360 w 5578560"/>
                <a:gd name="textAreaRight" fmla="*/ 5578200 w 5578560"/>
                <a:gd name="textAreaTop" fmla="*/ 360 h 6027480"/>
                <a:gd name="textAreaBottom" fmla="*/ 6027120 h 6027480"/>
              </a:gdLst>
              <a:ahLst/>
              <a:rect l="textAreaLeft" t="textAreaTop" r="textAreaRight" b="textAreaBottom"/>
              <a:pathLst>
                <a:path w="21600" h="23338">
                  <a:moveTo>
                    <a:pt x="6" y="0"/>
                  </a:moveTo>
                  <a:arcTo wR="6" hR="6" stAng="16200000" swAng="-5400000"/>
                  <a:lnTo>
                    <a:pt x="0" y="23332"/>
                  </a:lnTo>
                  <a:arcTo wR="6" hR="6" stAng="10800000" swAng="-5400000"/>
                  <a:lnTo>
                    <a:pt x="21594" y="23338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Text Box 4"/>
            <p:cNvSpPr/>
            <p:nvPr/>
          </p:nvSpPr>
          <p:spPr>
            <a:xfrm>
              <a:off x="6658200" y="1799640"/>
              <a:ext cx="220428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че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бстан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а-Бог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AutoShape 5"/>
            <p:cNvSpPr/>
            <p:nvPr/>
          </p:nvSpPr>
          <p:spPr>
            <a:xfrm>
              <a:off x="7635960" y="2699640"/>
              <a:ext cx="461520" cy="360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AutoShape 6"/>
            <p:cNvSpPr/>
            <p:nvPr/>
          </p:nvSpPr>
          <p:spPr>
            <a:xfrm>
              <a:off x="3239280" y="1260000"/>
              <a:ext cx="615600" cy="347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AutoShape 7"/>
            <p:cNvSpPr/>
            <p:nvPr/>
          </p:nvSpPr>
          <p:spPr>
            <a:xfrm>
              <a:off x="7558200" y="1260000"/>
              <a:ext cx="461520" cy="539640"/>
            </a:xfrm>
            <a:prstGeom prst="upDownArrow">
              <a:avLst>
                <a:gd name="adj1" fmla="val 50000"/>
                <a:gd name="adj2" fmla="val 23277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Text Box 8"/>
            <p:cNvSpPr/>
            <p:nvPr/>
          </p:nvSpPr>
          <p:spPr>
            <a:xfrm>
              <a:off x="1439640" y="217440"/>
              <a:ext cx="7378200" cy="104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а – учение Спинозы о единой субстанции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главным недостатком теории субстанции Декарта Спиноза считал дуализм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Text Box 9"/>
            <p:cNvSpPr/>
            <p:nvPr/>
          </p:nvSpPr>
          <p:spPr>
            <a:xfrm>
              <a:off x="6658200" y="3060000"/>
              <a:ext cx="3060000" cy="4318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ществует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стоятельна и независима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меет внутреннюю (а не внешнюю, как модусы) причину самой себ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ладает множеством свойств (атрибутов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основе их – мышление и протяжени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сконечна во времени и пространств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чна (несотворима и неуничтожима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подвижн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Text Box 10"/>
            <p:cNvSpPr/>
            <p:nvPr/>
          </p:nvSpPr>
          <p:spPr>
            <a:xfrm>
              <a:off x="539640" y="1618920"/>
              <a:ext cx="5938920" cy="575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существует различия между высшей субстанцией – Богом – и сотворенными им другими субстанциям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ществует только одна единая субстанция, которая заключает в себе окружающий мир (природу) и Бог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а и Бог едины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существует Бога, находящегося и творящегося вне природы, возвышающегося над природой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г внутри природы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лько единая субстанция Природа-Бог обладает способностью творить, является «миром творящим» и создает «мир сотворенный» - единичные вещ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диничные вещи существуют не сами по себе, а являются всего лишь проявлениями – «модусами» единой субстанции – Природы-Бога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нешней причиной существования модусов является единая субстанция (Природа-Бог)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ни зависят от нее, подвержены изменениям, движутся во времени и пространстве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Group 1"/>
          <p:cNvGrpSpPr/>
          <p:nvPr/>
        </p:nvGrpSpPr>
        <p:grpSpPr>
          <a:xfrm>
            <a:off x="503280" y="179280"/>
            <a:ext cx="9214920" cy="7198920"/>
            <a:chOff x="503280" y="179280"/>
            <a:chExt cx="9214920" cy="7198920"/>
          </a:xfrm>
        </p:grpSpPr>
        <p:sp>
          <p:nvSpPr>
            <p:cNvPr id="1273" name="AutoShape 2"/>
            <p:cNvSpPr/>
            <p:nvPr/>
          </p:nvSpPr>
          <p:spPr>
            <a:xfrm>
              <a:off x="2518560" y="539280"/>
              <a:ext cx="5039280" cy="6298920"/>
            </a:xfrm>
            <a:custGeom>
              <a:avLst/>
              <a:gdLst>
                <a:gd name="textAreaLeft" fmla="*/ 360 w 5039280"/>
                <a:gd name="textAreaRight" fmla="*/ 5038920 w 5039280"/>
                <a:gd name="textAreaTop" fmla="*/ 360 h 6298920"/>
                <a:gd name="textAreaBottom" fmla="*/ 6298560 h 6298920"/>
              </a:gdLst>
              <a:ahLst/>
              <a:rect l="textAreaLeft" t="textAreaTop" r="textAreaRight" b="textAreaBottom"/>
              <a:pathLst>
                <a:path w="21600" h="26999">
                  <a:moveTo>
                    <a:pt x="6" y="0"/>
                  </a:moveTo>
                  <a:arcTo wR="6" hR="6" stAng="16200000" swAng="-5400000"/>
                  <a:lnTo>
                    <a:pt x="0" y="26993"/>
                  </a:lnTo>
                  <a:arcTo wR="6" hR="6" stAng="10800000" swAng="-5400000"/>
                  <a:lnTo>
                    <a:pt x="21594" y="26999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Text Box 3"/>
            <p:cNvSpPr/>
            <p:nvPr/>
          </p:nvSpPr>
          <p:spPr>
            <a:xfrm>
              <a:off x="503280" y="1079280"/>
              <a:ext cx="2917080" cy="53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Text Box 4"/>
            <p:cNvSpPr/>
            <p:nvPr/>
          </p:nvSpPr>
          <p:spPr>
            <a:xfrm>
              <a:off x="5758200" y="1439640"/>
              <a:ext cx="396000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ассы монад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чем выше класс монады, тем больше ее разумность и степень свободы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AutoShape 5"/>
            <p:cNvSpPr/>
            <p:nvPr/>
          </p:nvSpPr>
          <p:spPr>
            <a:xfrm>
              <a:off x="7809120" y="820440"/>
              <a:ext cx="288360" cy="539280"/>
            </a:xfrm>
            <a:prstGeom prst="upDownArrow">
              <a:avLst>
                <a:gd name="adj1" fmla="val 27778"/>
                <a:gd name="adj2" fmla="val 697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AutoShape 6"/>
            <p:cNvSpPr/>
            <p:nvPr/>
          </p:nvSpPr>
          <p:spPr>
            <a:xfrm>
              <a:off x="1814040" y="780840"/>
              <a:ext cx="345960" cy="29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Text Box 7"/>
            <p:cNvSpPr/>
            <p:nvPr/>
          </p:nvSpPr>
          <p:spPr>
            <a:xfrm>
              <a:off x="539280" y="179280"/>
              <a:ext cx="9178920" cy="601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рия о монадах Г. Лейбниц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Text Box 8"/>
            <p:cNvSpPr/>
            <p:nvPr/>
          </p:nvSpPr>
          <p:spPr>
            <a:xfrm>
              <a:off x="539280" y="1799640"/>
              <a:ext cx="5039280" cy="557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ь мир состоит из огромного количества субстанций, имеющих не дуалистическую (двойственную, как у Декарта и Спинозы), а единую природ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нные субстанции называются монадами (в переводе в греческого – «единое», «единица»)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ада проста, неделима, не имеет протяжения, не является материально-вещественным образование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ада обладает 4-мя качествами: стремлением, влечением, восприятием, представление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своей сути монада – это деятельность, единое, непрерывно меняющее свое состояни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силу непрерывности своего существования монада осознает себ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ады абсолютно замкнуты и независимы друг от друг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Text Box 9"/>
            <p:cNvSpPr/>
            <p:nvPr/>
          </p:nvSpPr>
          <p:spPr>
            <a:xfrm>
              <a:off x="5758200" y="3059640"/>
              <a:ext cx="3960000" cy="395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голые монады» -лежат в основе неорганической природы (камней, земли, полезных ископаемых)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ады животных – обладают ощущениями, но неразвитым самосознанием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ады человека (души) – обладают сознанием, памятью, уникальной способностью разума мыслить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сшая монада – Бог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Line 10"/>
            <p:cNvSpPr/>
            <p:nvPr/>
          </p:nvSpPr>
          <p:spPr>
            <a:xfrm>
              <a:off x="2160360" y="1618920"/>
              <a:ext cx="53928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Line 11"/>
            <p:cNvSpPr/>
            <p:nvPr/>
          </p:nvSpPr>
          <p:spPr>
            <a:xfrm>
              <a:off x="7739280" y="2518560"/>
              <a:ext cx="108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Group 2"/>
          <p:cNvGrpSpPr/>
          <p:nvPr/>
        </p:nvGrpSpPr>
        <p:grpSpPr>
          <a:xfrm>
            <a:off x="539640" y="179280"/>
            <a:ext cx="9178560" cy="7198920"/>
            <a:chOff x="539640" y="179280"/>
            <a:chExt cx="9178560" cy="7198920"/>
          </a:xfrm>
        </p:grpSpPr>
        <p:sp>
          <p:nvSpPr>
            <p:cNvPr id="1285" name="Text Box 3"/>
            <p:cNvSpPr/>
            <p:nvPr/>
          </p:nvSpPr>
          <p:spPr>
            <a:xfrm>
              <a:off x="539640" y="179280"/>
              <a:ext cx="3060000" cy="7300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нтолог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Text Box 4"/>
            <p:cNvSpPr/>
            <p:nvPr/>
          </p:nvSpPr>
          <p:spPr>
            <a:xfrm>
              <a:off x="3599640" y="179280"/>
              <a:ext cx="6118560" cy="730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ницизм. Противостояние идеализма и материализма. Диалектик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Text Box 5"/>
            <p:cNvSpPr/>
            <p:nvPr/>
          </p:nvSpPr>
          <p:spPr>
            <a:xfrm>
              <a:off x="539640" y="909360"/>
              <a:ext cx="3060000" cy="5965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лог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Text Box 6"/>
            <p:cNvSpPr/>
            <p:nvPr/>
          </p:nvSpPr>
          <p:spPr>
            <a:xfrm>
              <a:off x="3599640" y="909360"/>
              <a:ext cx="6118560" cy="596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изм. Атеизм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Text Box 7"/>
            <p:cNvSpPr/>
            <p:nvPr/>
          </p:nvSpPr>
          <p:spPr>
            <a:xfrm>
              <a:off x="539640" y="1393560"/>
              <a:ext cx="3060000" cy="14817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рополог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Text Box 8"/>
            <p:cNvSpPr/>
            <p:nvPr/>
          </p:nvSpPr>
          <p:spPr>
            <a:xfrm>
              <a:off x="3599640" y="1393560"/>
              <a:ext cx="6118560" cy="1481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ницизм. Дуализм: тело-душа. Материализм: отрицание бессмертия души и жизни после смерти. Биологическая природа человека. Биологическая или социальная сущность человек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Text Box 9"/>
            <p:cNvSpPr/>
            <p:nvPr/>
          </p:nvSpPr>
          <p:spPr>
            <a:xfrm>
              <a:off x="539640" y="4163040"/>
              <a:ext cx="3060000" cy="7869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ика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Text Box 10"/>
            <p:cNvSpPr/>
            <p:nvPr/>
          </p:nvSpPr>
          <p:spPr>
            <a:xfrm>
              <a:off x="3599640" y="4163040"/>
              <a:ext cx="6118560" cy="78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уманизм. Свобода. Утверждение неотъемлимых прав человека. Обоснование ценности личности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Text Box 11"/>
            <p:cNvSpPr/>
            <p:nvPr/>
          </p:nvSpPr>
          <p:spPr>
            <a:xfrm>
              <a:off x="539640" y="6108480"/>
              <a:ext cx="3060000" cy="126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истор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 Box 12"/>
            <p:cNvSpPr/>
            <p:nvPr/>
          </p:nvSpPr>
          <p:spPr>
            <a:xfrm>
              <a:off x="3599640" y="6108480"/>
              <a:ext cx="6118560" cy="126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ализм: история как развитие Абсолютной Идеи. Материализм: история как развитие материальных отношений (способ производства и распределения)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Text Box 13"/>
            <p:cNvSpPr/>
            <p:nvPr/>
          </p:nvSpPr>
          <p:spPr>
            <a:xfrm>
              <a:off x="539640" y="2874240"/>
              <a:ext cx="3060000" cy="944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носеолог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Text Box 14"/>
            <p:cNvSpPr/>
            <p:nvPr/>
          </p:nvSpPr>
          <p:spPr>
            <a:xfrm>
              <a:off x="3599640" y="2874240"/>
              <a:ext cx="6118560" cy="94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ционализм  эмпиризм. Критика метафизики. Иррационализм: критика научного разума. Позитивиз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Text Box 15"/>
            <p:cNvSpPr/>
            <p:nvPr/>
          </p:nvSpPr>
          <p:spPr>
            <a:xfrm>
              <a:off x="539640" y="3818520"/>
              <a:ext cx="3060000" cy="3931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гик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Text Box 16"/>
            <p:cNvSpPr/>
            <p:nvPr/>
          </p:nvSpPr>
          <p:spPr>
            <a:xfrm>
              <a:off x="3599640" y="3818520"/>
              <a:ext cx="6118560" cy="393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алектика и ее закон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Text Box 17"/>
            <p:cNvSpPr/>
            <p:nvPr/>
          </p:nvSpPr>
          <p:spPr>
            <a:xfrm>
              <a:off x="539640" y="4942080"/>
              <a:ext cx="3060000" cy="1166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ая 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Text Box 18"/>
            <p:cNvSpPr/>
            <p:nvPr/>
          </p:nvSpPr>
          <p:spPr>
            <a:xfrm>
              <a:off x="3599640" y="4942080"/>
              <a:ext cx="6118560" cy="1166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рия «общественного договора». Теория разделения властей. Правовое государство. Критика традиционной культуры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2" name="Group 2"/>
          <p:cNvGrpSpPr/>
          <p:nvPr/>
        </p:nvGrpSpPr>
        <p:grpSpPr>
          <a:xfrm>
            <a:off x="360360" y="179280"/>
            <a:ext cx="11697840" cy="7018200"/>
            <a:chOff x="360360" y="179280"/>
            <a:chExt cx="11697840" cy="7018200"/>
          </a:xfrm>
        </p:grpSpPr>
        <p:grpSp>
          <p:nvGrpSpPr>
            <p:cNvPr id="1303" name="Group 3"/>
            <p:cNvGrpSpPr/>
            <p:nvPr/>
          </p:nvGrpSpPr>
          <p:grpSpPr>
            <a:xfrm>
              <a:off x="360360" y="179280"/>
              <a:ext cx="9356760" cy="7017120"/>
              <a:chOff x="360360" y="179280"/>
              <a:chExt cx="9356760" cy="7017120"/>
            </a:xfrm>
          </p:grpSpPr>
          <p:grpSp>
            <p:nvGrpSpPr>
              <p:cNvPr id="1304" name="Group 4"/>
              <p:cNvGrpSpPr/>
              <p:nvPr/>
            </p:nvGrpSpPr>
            <p:grpSpPr>
              <a:xfrm>
                <a:off x="360360" y="179280"/>
                <a:ext cx="9356760" cy="7017120"/>
                <a:chOff x="360360" y="179280"/>
                <a:chExt cx="9356760" cy="7017120"/>
              </a:xfrm>
            </p:grpSpPr>
            <p:sp>
              <p:nvSpPr>
                <p:cNvPr id="1305" name="AutoShape 5"/>
                <p:cNvSpPr/>
                <p:nvPr/>
              </p:nvSpPr>
              <p:spPr>
                <a:xfrm>
                  <a:off x="360360" y="179280"/>
                  <a:ext cx="9356760" cy="701712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6" name="Text Box 6"/>
                <p:cNvSpPr/>
                <p:nvPr/>
              </p:nvSpPr>
              <p:spPr>
                <a:xfrm>
                  <a:off x="1085400" y="1055160"/>
                  <a:ext cx="7907760" cy="52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флекс</a:t>
                  </a:r>
                  <a:r>
                    <a:rPr b="0" i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7" name="Text Box 7"/>
              <p:cNvSpPr/>
              <p:nvPr/>
            </p:nvSpPr>
            <p:spPr>
              <a:xfrm>
                <a:off x="1260000" y="3677400"/>
                <a:ext cx="8174160" cy="21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8" name="Text Box 8"/>
            <p:cNvSpPr/>
            <p:nvPr/>
          </p:nvSpPr>
          <p:spPr>
            <a:xfrm>
              <a:off x="1275840" y="2075760"/>
              <a:ext cx="10782360" cy="51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9" name="Group 9"/>
            <p:cNvGrpSpPr/>
            <p:nvPr/>
          </p:nvGrpSpPr>
          <p:grpSpPr>
            <a:xfrm>
              <a:off x="539280" y="2645640"/>
              <a:ext cx="8816760" cy="3450600"/>
              <a:chOff x="539280" y="2645640"/>
              <a:chExt cx="8816760" cy="3450600"/>
            </a:xfrm>
          </p:grpSpPr>
          <p:sp>
            <p:nvSpPr>
              <p:cNvPr id="1310" name="AutoShape 10"/>
              <p:cNvSpPr/>
              <p:nvPr/>
            </p:nvSpPr>
            <p:spPr>
              <a:xfrm>
                <a:off x="539280" y="2645640"/>
                <a:ext cx="8815320" cy="34506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423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Text Box 11"/>
              <p:cNvSpPr/>
              <p:nvPr/>
            </p:nvSpPr>
            <p:spPr>
              <a:xfrm>
                <a:off x="1078920" y="3252960"/>
                <a:ext cx="8277120" cy="21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ные вопрос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чем состоит рационализм философии  XVII в.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то нового внес Ф. Бэкон в философию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то делает Декарта ключевой фигурой философии Нового времени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кие образы человека и общества предстают в концепциях философии Нового времени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12" name="Picture 1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Text Box 1"/>
          <p:cNvSpPr/>
          <p:nvPr/>
        </p:nvSpPr>
        <p:spPr>
          <a:xfrm>
            <a:off x="900000" y="2340000"/>
            <a:ext cx="84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НЕМЕЦКАЯ КЛАССИЧЕСКАЯ ФИЛОСОФ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4" name="Group 1"/>
          <p:cNvGrpSpPr/>
          <p:nvPr/>
        </p:nvGrpSpPr>
        <p:grpSpPr>
          <a:xfrm>
            <a:off x="855720" y="539640"/>
            <a:ext cx="8354520" cy="6119640"/>
            <a:chOff x="855720" y="539640"/>
            <a:chExt cx="8354520" cy="6119640"/>
          </a:xfrm>
        </p:grpSpPr>
        <p:sp>
          <p:nvSpPr>
            <p:cNvPr id="1315" name="AutoShape 2"/>
            <p:cNvSpPr/>
            <p:nvPr/>
          </p:nvSpPr>
          <p:spPr>
            <a:xfrm>
              <a:off x="2699640" y="899640"/>
              <a:ext cx="4860000" cy="5484960"/>
            </a:xfrm>
            <a:custGeom>
              <a:avLst/>
              <a:gdLst>
                <a:gd name="textAreaLeft" fmla="*/ 360 w 4860000"/>
                <a:gd name="textAreaRight" fmla="*/ 4859640 w 4860000"/>
                <a:gd name="textAreaTop" fmla="*/ 360 h 5484960"/>
                <a:gd name="textAreaBottom" fmla="*/ 5484600 h 5484960"/>
              </a:gdLst>
              <a:ahLst/>
              <a:rect l="textAreaLeft" t="textAreaTop" r="textAreaRight" b="textAreaBottom"/>
              <a:pathLst>
                <a:path w="21600" h="24377">
                  <a:moveTo>
                    <a:pt x="7" y="0"/>
                  </a:moveTo>
                  <a:arcTo wR="7" hR="7" stAng="16200000" swAng="-5400000"/>
                  <a:lnTo>
                    <a:pt x="0" y="24370"/>
                  </a:lnTo>
                  <a:arcTo wR="7" hR="7" stAng="10800000" swAng="-5400000"/>
                  <a:lnTo>
                    <a:pt x="21593" y="24377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Text Box 3"/>
            <p:cNvSpPr/>
            <p:nvPr/>
          </p:nvSpPr>
          <p:spPr>
            <a:xfrm>
              <a:off x="2160360" y="539640"/>
              <a:ext cx="6118200" cy="7790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мецкая классическая философия (XVIII-XIX вв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Text Box 4"/>
            <p:cNvSpPr/>
            <p:nvPr/>
          </p:nvSpPr>
          <p:spPr>
            <a:xfrm>
              <a:off x="855720" y="1800000"/>
              <a:ext cx="292356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алистическое направле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Text Box 5"/>
            <p:cNvSpPr/>
            <p:nvPr/>
          </p:nvSpPr>
          <p:spPr>
            <a:xfrm>
              <a:off x="6305760" y="1800000"/>
              <a:ext cx="287244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алистическое направле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19" name="AutoShape 6"/>
            <p:cNvCxnSpPr>
              <a:stCxn id="1316" idx="2"/>
              <a:endCxn id="1317" idx="0"/>
            </p:cNvCxnSpPr>
            <p:nvPr/>
          </p:nvCxnSpPr>
          <p:spPr>
            <a:xfrm flipV="1" rot="10800000">
              <a:off x="2316600" y="1318320"/>
              <a:ext cx="2901960" cy="481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20" name="AutoShape 7"/>
            <p:cNvCxnSpPr>
              <a:stCxn id="1316" idx="2"/>
              <a:endCxn id="1318" idx="0"/>
            </p:cNvCxnSpPr>
            <p:nvPr/>
          </p:nvCxnSpPr>
          <p:spPr>
            <a:xfrm>
              <a:off x="5218560" y="1318680"/>
              <a:ext cx="2524320" cy="481680"/>
            </a:xfrm>
            <a:prstGeom prst="bentConnector3">
              <a:avLst>
                <a:gd name="adj1" fmla="val 49992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21" name="Text Box 8"/>
            <p:cNvSpPr/>
            <p:nvPr/>
          </p:nvSpPr>
          <p:spPr>
            <a:xfrm>
              <a:off x="855720" y="3060000"/>
              <a:ext cx="292356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юдвиг Фейербах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Text Box 9"/>
            <p:cNvSpPr/>
            <p:nvPr/>
          </p:nvSpPr>
          <p:spPr>
            <a:xfrm>
              <a:off x="855720" y="4858200"/>
              <a:ext cx="292356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ридрих Энгель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Text Box 10"/>
            <p:cNvSpPr/>
            <p:nvPr/>
          </p:nvSpPr>
          <p:spPr>
            <a:xfrm>
              <a:off x="855720" y="3958200"/>
              <a:ext cx="292356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рл Марк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24" name="AutoShape 11"/>
            <p:cNvCxnSpPr>
              <a:stCxn id="1317" idx="2"/>
              <a:endCxn id="1321" idx="0"/>
            </p:cNvCxnSpPr>
            <p:nvPr/>
          </p:nvCxnSpPr>
          <p:spPr>
            <a:xfrm>
              <a:off x="2317320" y="2699640"/>
              <a:ext cx="2160" cy="3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25" name="Text Box 12"/>
            <p:cNvSpPr/>
            <p:nvPr/>
          </p:nvSpPr>
          <p:spPr>
            <a:xfrm>
              <a:off x="6286680" y="3060000"/>
              <a:ext cx="292356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ммануил Кант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Text Box 13"/>
            <p:cNvSpPr/>
            <p:nvPr/>
          </p:nvSpPr>
          <p:spPr>
            <a:xfrm>
              <a:off x="6286680" y="4858200"/>
              <a:ext cx="292356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ридрих Шеллинг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Text Box 14"/>
            <p:cNvSpPr/>
            <p:nvPr/>
          </p:nvSpPr>
          <p:spPr>
            <a:xfrm>
              <a:off x="6286680" y="3958200"/>
              <a:ext cx="2923560" cy="89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оганн Фихт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Text Box 15"/>
            <p:cNvSpPr/>
            <p:nvPr/>
          </p:nvSpPr>
          <p:spPr>
            <a:xfrm>
              <a:off x="6286680" y="5757840"/>
              <a:ext cx="2923560" cy="901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орг Гегел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29" name="AutoShape 16"/>
            <p:cNvCxnSpPr>
              <a:stCxn id="1318" idx="2"/>
              <a:endCxn id="1325" idx="0"/>
            </p:cNvCxnSpPr>
            <p:nvPr/>
          </p:nvCxnSpPr>
          <p:spPr>
            <a:xfrm>
              <a:off x="7742160" y="2699640"/>
              <a:ext cx="6480" cy="3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1"/>
          <p:cNvGrpSpPr/>
          <p:nvPr/>
        </p:nvGrpSpPr>
        <p:grpSpPr>
          <a:xfrm>
            <a:off x="1379160" y="360360"/>
            <a:ext cx="7618320" cy="7018200"/>
            <a:chOff x="1379160" y="360360"/>
            <a:chExt cx="7618320" cy="7018200"/>
          </a:xfrm>
        </p:grpSpPr>
        <p:grpSp>
          <p:nvGrpSpPr>
            <p:cNvPr id="523" name="Group 2"/>
            <p:cNvGrpSpPr/>
            <p:nvPr/>
          </p:nvGrpSpPr>
          <p:grpSpPr>
            <a:xfrm>
              <a:off x="1379160" y="360360"/>
              <a:ext cx="7618320" cy="7018200"/>
              <a:chOff x="1379160" y="360360"/>
              <a:chExt cx="7618320" cy="7018200"/>
            </a:xfrm>
          </p:grpSpPr>
          <p:sp>
            <p:nvSpPr>
              <p:cNvPr id="524" name="AutoShape 3"/>
              <p:cNvSpPr/>
              <p:nvPr/>
            </p:nvSpPr>
            <p:spPr>
              <a:xfrm>
                <a:off x="1379520" y="360360"/>
                <a:ext cx="7617960" cy="7018200"/>
              </a:xfrm>
              <a:prstGeom prst="roundRect">
                <a:avLst>
                  <a:gd name="adj" fmla="val 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Text Box 4"/>
              <p:cNvSpPr/>
              <p:nvPr/>
            </p:nvSpPr>
            <p:spPr>
              <a:xfrm>
                <a:off x="1379520" y="360360"/>
                <a:ext cx="4135680" cy="6109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п мировоззрен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Text Box 5"/>
              <p:cNvSpPr/>
              <p:nvPr/>
            </p:nvSpPr>
            <p:spPr>
              <a:xfrm>
                <a:off x="2032920" y="2037600"/>
                <a:ext cx="1959840" cy="76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ифолог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6"/>
              <p:cNvSpPr/>
              <p:nvPr/>
            </p:nvSpPr>
            <p:spPr>
              <a:xfrm>
                <a:off x="2032920" y="3869280"/>
                <a:ext cx="1959840" cy="76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лиг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7"/>
              <p:cNvSpPr/>
              <p:nvPr/>
            </p:nvSpPr>
            <p:spPr>
              <a:xfrm>
                <a:off x="2032920" y="5851800"/>
                <a:ext cx="1959840" cy="763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4425840" y="1580760"/>
                <a:ext cx="4463640" cy="1526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65160" indent="-65160" algn="ctr">
                  <a:lnSpc>
                    <a:spcPct val="96000"/>
                  </a:lnSpc>
                  <a:tabLst>
                    <a:tab algn="l" pos="0"/>
                    <a:tab algn="l" pos="65160"/>
                    <a:tab algn="l" pos="512640"/>
                    <a:tab algn="l" pos="961920"/>
                    <a:tab algn="l" pos="1411200"/>
                    <a:tab algn="l" pos="1860480"/>
                    <a:tab algn="l" pos="2309760"/>
                    <a:tab algn="l" pos="2759040"/>
                    <a:tab algn="l" pos="3208320"/>
                    <a:tab algn="l" pos="3657600"/>
                    <a:tab algn="l" pos="4106880"/>
                    <a:tab algn="l" pos="4556160"/>
                    <a:tab algn="l" pos="5005440"/>
                    <a:tab algn="l" pos="5454720"/>
                    <a:tab algn="l" pos="5904000"/>
                    <a:tab algn="l" pos="6353280"/>
                    <a:tab algn="l" pos="6802560"/>
                    <a:tab algn="l" pos="7251840"/>
                    <a:tab algn="l" pos="7701120"/>
                    <a:tab algn="l" pos="8150400"/>
                    <a:tab algn="l" pos="8599320"/>
                    <a:tab algn="l" pos="904860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увственное мировосприят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65160" indent="-65160" algn="ctr">
                  <a:lnSpc>
                    <a:spcPct val="96000"/>
                  </a:lnSpc>
                  <a:tabLst>
                    <a:tab algn="l" pos="0"/>
                    <a:tab algn="l" pos="65160"/>
                    <a:tab algn="l" pos="512640"/>
                    <a:tab algn="l" pos="961920"/>
                    <a:tab algn="l" pos="1411200"/>
                    <a:tab algn="l" pos="1860480"/>
                    <a:tab algn="l" pos="2309760"/>
                    <a:tab algn="l" pos="2759040"/>
                    <a:tab algn="l" pos="3208320"/>
                    <a:tab algn="l" pos="3657600"/>
                    <a:tab algn="l" pos="4106880"/>
                    <a:tab algn="l" pos="4556160"/>
                    <a:tab algn="l" pos="5005440"/>
                    <a:tab algn="l" pos="5454720"/>
                    <a:tab algn="l" pos="5904000"/>
                    <a:tab algn="l" pos="6353280"/>
                    <a:tab algn="l" pos="6802560"/>
                    <a:tab algn="l" pos="7251840"/>
                    <a:tab algn="l" pos="7701120"/>
                    <a:tab algn="l" pos="8150400"/>
                    <a:tab algn="l" pos="8599320"/>
                    <a:tab algn="l" pos="904860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иверженность традици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65160" indent="-65160" algn="ctr">
                  <a:lnSpc>
                    <a:spcPct val="96000"/>
                  </a:lnSpc>
                  <a:tabLst>
                    <a:tab algn="l" pos="0"/>
                    <a:tab algn="l" pos="65160"/>
                    <a:tab algn="l" pos="512640"/>
                    <a:tab algn="l" pos="961920"/>
                    <a:tab algn="l" pos="1411200"/>
                    <a:tab algn="l" pos="1860480"/>
                    <a:tab algn="l" pos="2309760"/>
                    <a:tab algn="l" pos="2759040"/>
                    <a:tab algn="l" pos="3208320"/>
                    <a:tab algn="l" pos="3657600"/>
                    <a:tab algn="l" pos="4106880"/>
                    <a:tab algn="l" pos="4556160"/>
                    <a:tab algn="l" pos="5005440"/>
                    <a:tab algn="l" pos="5454720"/>
                    <a:tab algn="l" pos="5904000"/>
                    <a:tab algn="l" pos="6353280"/>
                    <a:tab algn="l" pos="6802560"/>
                    <a:tab algn="l" pos="7251840"/>
                    <a:tab algn="l" pos="7701120"/>
                    <a:tab algn="l" pos="8150400"/>
                    <a:tab algn="l" pos="8599320"/>
                    <a:tab algn="l" pos="904860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имволизм и аллегоричность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65160" indent="-65160" algn="ctr">
                  <a:lnSpc>
                    <a:spcPct val="96000"/>
                  </a:lnSpc>
                  <a:tabLst>
                    <a:tab algn="l" pos="0"/>
                    <a:tab algn="l" pos="65160"/>
                    <a:tab algn="l" pos="512640"/>
                    <a:tab algn="l" pos="961920"/>
                    <a:tab algn="l" pos="1411200"/>
                    <a:tab algn="l" pos="1860480"/>
                    <a:tab algn="l" pos="2309760"/>
                    <a:tab algn="l" pos="2759040"/>
                    <a:tab algn="l" pos="3208320"/>
                    <a:tab algn="l" pos="3657600"/>
                    <a:tab algn="l" pos="4106880"/>
                    <a:tab algn="l" pos="4556160"/>
                    <a:tab algn="l" pos="5005440"/>
                    <a:tab algn="l" pos="5454720"/>
                    <a:tab algn="l" pos="5904000"/>
                    <a:tab algn="l" pos="6353280"/>
                    <a:tab algn="l" pos="6802560"/>
                    <a:tab algn="l" pos="7251840"/>
                    <a:tab algn="l" pos="7701120"/>
                    <a:tab algn="l" pos="8150400"/>
                    <a:tab algn="l" pos="8599320"/>
                    <a:tab algn="l" pos="904860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тсутствие рациональных поняти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9"/>
              <p:cNvSpPr/>
              <p:nvPr/>
            </p:nvSpPr>
            <p:spPr>
              <a:xfrm>
                <a:off x="4425840" y="3410280"/>
                <a:ext cx="4425480" cy="183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65160" indent="-65160" algn="ctr">
                  <a:lnSpc>
                    <a:spcPct val="96000"/>
                  </a:lnSpc>
                  <a:tabLst>
                    <a:tab algn="l" pos="0"/>
                    <a:tab algn="l" pos="65160"/>
                    <a:tab algn="l" pos="512640"/>
                    <a:tab algn="l" pos="961920"/>
                    <a:tab algn="l" pos="1411200"/>
                    <a:tab algn="l" pos="1860480"/>
                    <a:tab algn="l" pos="2309760"/>
                    <a:tab algn="l" pos="2759040"/>
                    <a:tab algn="l" pos="3208320"/>
                    <a:tab algn="l" pos="3657600"/>
                    <a:tab algn="l" pos="4106880"/>
                    <a:tab algn="l" pos="4556160"/>
                    <a:tab algn="l" pos="5005440"/>
                    <a:tab algn="l" pos="5454720"/>
                    <a:tab algn="l" pos="5904000"/>
                    <a:tab algn="l" pos="6353280"/>
                    <a:tab algn="l" pos="6802560"/>
                    <a:tab algn="l" pos="7251840"/>
                    <a:tab algn="l" pos="7701120"/>
                    <a:tab algn="l" pos="8150400"/>
                    <a:tab algn="l" pos="8599320"/>
                    <a:tab algn="l" pos="904860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еобладание чувственного мировосприят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65160" indent="-65160" algn="ctr">
                  <a:lnSpc>
                    <a:spcPct val="96000"/>
                  </a:lnSpc>
                  <a:tabLst>
                    <a:tab algn="l" pos="0"/>
                    <a:tab algn="l" pos="65160"/>
                    <a:tab algn="l" pos="512640"/>
                    <a:tab algn="l" pos="961920"/>
                    <a:tab algn="l" pos="1411200"/>
                    <a:tab algn="l" pos="1860480"/>
                    <a:tab algn="l" pos="2309760"/>
                    <a:tab algn="l" pos="2759040"/>
                    <a:tab algn="l" pos="3208320"/>
                    <a:tab algn="l" pos="3657600"/>
                    <a:tab algn="l" pos="4106880"/>
                    <a:tab algn="l" pos="4556160"/>
                    <a:tab algn="l" pos="5005440"/>
                    <a:tab algn="l" pos="5454720"/>
                    <a:tab algn="l" pos="5904000"/>
                    <a:tab algn="l" pos="6353280"/>
                    <a:tab algn="l" pos="6802560"/>
                    <a:tab algn="l" pos="7251840"/>
                    <a:tab algn="l" pos="7701120"/>
                    <a:tab algn="l" pos="8150400"/>
                    <a:tab algn="l" pos="8599320"/>
                    <a:tab algn="l" pos="904860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Вера» возводится в принцип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65160" indent="-65160" algn="ctr">
                  <a:lnSpc>
                    <a:spcPct val="96000"/>
                  </a:lnSpc>
                  <a:tabLst>
                    <a:tab algn="l" pos="0"/>
                    <a:tab algn="l" pos="65160"/>
                    <a:tab algn="l" pos="512640"/>
                    <a:tab algn="l" pos="961920"/>
                    <a:tab algn="l" pos="1411200"/>
                    <a:tab algn="l" pos="1860480"/>
                    <a:tab algn="l" pos="2309760"/>
                    <a:tab algn="l" pos="2759040"/>
                    <a:tab algn="l" pos="3208320"/>
                    <a:tab algn="l" pos="3657600"/>
                    <a:tab algn="l" pos="4106880"/>
                    <a:tab algn="l" pos="4556160"/>
                    <a:tab algn="l" pos="5005440"/>
                    <a:tab algn="l" pos="5454720"/>
                    <a:tab algn="l" pos="5904000"/>
                    <a:tab algn="l" pos="6353280"/>
                    <a:tab algn="l" pos="6802560"/>
                    <a:tab algn="l" pos="7251840"/>
                    <a:tab algn="l" pos="7701120"/>
                    <a:tab algn="l" pos="8150400"/>
                    <a:tab algn="l" pos="8599320"/>
                    <a:tab algn="l" pos="904860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истема догмато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65160" indent="-65160" algn="ctr">
                  <a:lnSpc>
                    <a:spcPct val="96000"/>
                  </a:lnSpc>
                  <a:tabLst>
                    <a:tab algn="l" pos="0"/>
                    <a:tab algn="l" pos="65160"/>
                    <a:tab algn="l" pos="512640"/>
                    <a:tab algn="l" pos="961920"/>
                    <a:tab algn="l" pos="1411200"/>
                    <a:tab algn="l" pos="1860480"/>
                    <a:tab algn="l" pos="2309760"/>
                    <a:tab algn="l" pos="2759040"/>
                    <a:tab algn="l" pos="3208320"/>
                    <a:tab algn="l" pos="3657600"/>
                    <a:tab algn="l" pos="4106880"/>
                    <a:tab algn="l" pos="4556160"/>
                    <a:tab algn="l" pos="5005440"/>
                    <a:tab algn="l" pos="5454720"/>
                    <a:tab algn="l" pos="5904000"/>
                    <a:tab algn="l" pos="6353280"/>
                    <a:tab algn="l" pos="6802560"/>
                    <a:tab algn="l" pos="7251840"/>
                    <a:tab algn="l" pos="7701120"/>
                    <a:tab algn="l" pos="8150400"/>
                    <a:tab algn="l" pos="8599320"/>
                    <a:tab algn="l" pos="904860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азум занимает подчиненное положен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Text Box 10"/>
              <p:cNvSpPr/>
              <p:nvPr/>
            </p:nvSpPr>
            <p:spPr>
              <a:xfrm>
                <a:off x="4425840" y="5546880"/>
                <a:ext cx="4411080" cy="183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ациональное мировосприятие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азум ставится выше вер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ормируются абстрактные понят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спользуются наблюдения, сравнения, анализ, выводы, доказательства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AutoShape 11"/>
              <p:cNvSpPr/>
              <p:nvPr/>
            </p:nvSpPr>
            <p:spPr>
              <a:xfrm>
                <a:off x="3991320" y="2189880"/>
                <a:ext cx="435600" cy="4586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AutoShape 12"/>
              <p:cNvSpPr/>
              <p:nvPr/>
            </p:nvSpPr>
            <p:spPr>
              <a:xfrm>
                <a:off x="3991320" y="4021560"/>
                <a:ext cx="435600" cy="4586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AutoShape 13"/>
              <p:cNvSpPr/>
              <p:nvPr/>
            </p:nvSpPr>
            <p:spPr>
              <a:xfrm>
                <a:off x="3991320" y="6003720"/>
                <a:ext cx="435600" cy="4582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535" name="AutoShape 14"/>
              <p:cNvCxnSpPr>
                <a:stCxn id="525" idx="1"/>
                <a:endCxn id="528" idx="1"/>
              </p:cNvCxnSpPr>
              <p:nvPr/>
            </p:nvCxnSpPr>
            <p:spPr>
              <a:xfrm>
                <a:off x="1379160" y="666000"/>
                <a:ext cx="654120" cy="5568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36" name="AutoShape 15"/>
              <p:cNvCxnSpPr>
                <a:stCxn id="527" idx="1"/>
                <a:endCxn id="526" idx="1"/>
              </p:cNvCxnSpPr>
              <p:nvPr/>
            </p:nvCxnSpPr>
            <p:spPr>
              <a:xfrm flipV="1">
                <a:off x="2032560" y="2417760"/>
                <a:ext cx="2520" cy="18320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37" name="AutoShape 16"/>
              <p:cNvCxnSpPr>
                <a:stCxn id="528" idx="1"/>
                <a:endCxn id="527" idx="1"/>
              </p:cNvCxnSpPr>
              <p:nvPr/>
            </p:nvCxnSpPr>
            <p:spPr>
              <a:xfrm flipV="1">
                <a:off x="2032560" y="4250160"/>
                <a:ext cx="2520" cy="19825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</p:grpSp>
      </p:grp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Group 1"/>
          <p:cNvGrpSpPr/>
          <p:nvPr/>
        </p:nvGrpSpPr>
        <p:grpSpPr>
          <a:xfrm>
            <a:off x="539640" y="307800"/>
            <a:ext cx="9359640" cy="6891120"/>
            <a:chOff x="539640" y="307800"/>
            <a:chExt cx="9359640" cy="6891120"/>
          </a:xfrm>
        </p:grpSpPr>
        <p:sp>
          <p:nvSpPr>
            <p:cNvPr id="1331" name="AutoShape 2"/>
            <p:cNvSpPr/>
            <p:nvPr/>
          </p:nvSpPr>
          <p:spPr>
            <a:xfrm>
              <a:off x="2518920" y="539280"/>
              <a:ext cx="5039280" cy="5897520"/>
            </a:xfrm>
            <a:custGeom>
              <a:avLst/>
              <a:gdLst>
                <a:gd name="textAreaLeft" fmla="*/ 360 w 5039280"/>
                <a:gd name="textAreaRight" fmla="*/ 5038920 w 5039280"/>
                <a:gd name="textAreaTop" fmla="*/ 360 h 5897520"/>
                <a:gd name="textAreaBottom" fmla="*/ 5897160 h 5897520"/>
              </a:gdLst>
              <a:ahLst/>
              <a:rect l="textAreaLeft" t="textAreaTop" r="textAreaRight" b="textAreaBottom"/>
              <a:pathLst>
                <a:path w="21600" h="25278">
                  <a:moveTo>
                    <a:pt x="6" y="0"/>
                  </a:moveTo>
                  <a:arcTo wR="6" hR="6" stAng="16200000" swAng="-5400000"/>
                  <a:lnTo>
                    <a:pt x="0" y="25272"/>
                  </a:lnTo>
                  <a:arcTo wR="6" hR="6" stAng="10800000" swAng="-5400000"/>
                  <a:lnTo>
                    <a:pt x="21594" y="25278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Text Box 3"/>
            <p:cNvSpPr/>
            <p:nvPr/>
          </p:nvSpPr>
          <p:spPr>
            <a:xfrm>
              <a:off x="2439720" y="307800"/>
              <a:ext cx="5779080" cy="4140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мецкая классическая философ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Text Box 4"/>
            <p:cNvSpPr/>
            <p:nvPr/>
          </p:nvSpPr>
          <p:spPr>
            <a:xfrm>
              <a:off x="1760040" y="899640"/>
              <a:ext cx="7058160" cy="807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ъективный идеализм: основные представител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Text Box 5"/>
            <p:cNvSpPr/>
            <p:nvPr/>
          </p:nvSpPr>
          <p:spPr>
            <a:xfrm>
              <a:off x="1244160" y="1978920"/>
              <a:ext cx="2355120" cy="53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. Кант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Text Box 6"/>
            <p:cNvSpPr/>
            <p:nvPr/>
          </p:nvSpPr>
          <p:spPr>
            <a:xfrm>
              <a:off x="4868280" y="1978920"/>
              <a:ext cx="2150640" cy="53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Гегел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Text Box 7"/>
            <p:cNvSpPr/>
            <p:nvPr/>
          </p:nvSpPr>
          <p:spPr>
            <a:xfrm>
              <a:off x="7918560" y="1978920"/>
              <a:ext cx="1792080" cy="53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32800" indent="-9532800" algn="ctr">
                <a:lnSpc>
                  <a:spcPct val="89000"/>
                </a:lnSpc>
                <a:tabLst>
                  <a:tab algn="l" pos="0"/>
                  <a:tab algn="l" pos="9532800"/>
                  <a:tab algn="l" pos="9980640"/>
                  <a:tab algn="l" pos="10429920"/>
                  <a:tab algn="l" pos="10879200"/>
                  <a:tab algn="l" pos="11328480"/>
                  <a:tab algn="l" pos="11777760"/>
                  <a:tab algn="l" pos="12227040"/>
                  <a:tab algn="l" pos="12676320"/>
                  <a:tab algn="l" pos="13125600"/>
                  <a:tab algn="l" pos="13574880"/>
                  <a:tab algn="l" pos="14023800"/>
                  <a:tab algn="l" pos="14473080"/>
                  <a:tab algn="l" pos="14922360"/>
                  <a:tab algn="l" pos="15371640"/>
                  <a:tab algn="l" pos="15820920"/>
                  <a:tab algn="l" pos="16270200"/>
                  <a:tab algn="l" pos="16719480"/>
                  <a:tab algn="l" pos="17168760"/>
                  <a:tab algn="l" pos="17618040"/>
                  <a:tab algn="l" pos="18067320"/>
                  <a:tab algn="l" pos="18516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. Шеллинг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Text Box 8"/>
            <p:cNvSpPr/>
            <p:nvPr/>
          </p:nvSpPr>
          <p:spPr>
            <a:xfrm>
              <a:off x="7739280" y="2699640"/>
              <a:ext cx="2160000" cy="44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убоко обосновал понимание природы с позиций объективного идеализм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нул идею, согласно которой свобода и правовой строй изначально заложены в природе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Text Box 9"/>
            <p:cNvSpPr/>
            <p:nvPr/>
          </p:nvSpPr>
          <p:spPr>
            <a:xfrm>
              <a:off x="4500000" y="2699640"/>
              <a:ext cx="3060000" cy="44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ождествил бытие и мышлени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нул учение об абсолютной идее, независимой от сознания и являющейся первопричиной всего сущего, и тем самым обосновал концепцию объективного идеализм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лючительная заслуга Гегеля перед философией – разработка диалектик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Text Box 10"/>
            <p:cNvSpPr/>
            <p:nvPr/>
          </p:nvSpPr>
          <p:spPr>
            <a:xfrm>
              <a:off x="539640" y="2699640"/>
              <a:ext cx="3779280" cy="44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л объяснения возникновения Солнечной системы в силу естественных причин на основе законов Ньютон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нул теорию о наличии границ познавательной способности человека («вещь в себе»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нул учение о категориях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формулировал моральный закон («категорический императив»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нул идею о «вечном мире»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11"/>
            <p:cNvSpPr/>
            <p:nvPr/>
          </p:nvSpPr>
          <p:spPr>
            <a:xfrm>
              <a:off x="2518920" y="2518560"/>
              <a:ext cx="14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12"/>
            <p:cNvSpPr/>
            <p:nvPr/>
          </p:nvSpPr>
          <p:spPr>
            <a:xfrm>
              <a:off x="5939280" y="2518560"/>
              <a:ext cx="14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13"/>
            <p:cNvSpPr/>
            <p:nvPr/>
          </p:nvSpPr>
          <p:spPr>
            <a:xfrm>
              <a:off x="8818560" y="2518560"/>
              <a:ext cx="14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14"/>
            <p:cNvSpPr/>
            <p:nvPr/>
          </p:nvSpPr>
          <p:spPr>
            <a:xfrm>
              <a:off x="5399640" y="720360"/>
              <a:ext cx="108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44" name="AutoShape 15"/>
            <p:cNvCxnSpPr>
              <a:stCxn id="1333" idx="2"/>
              <a:endCxn id="1334" idx="0"/>
            </p:cNvCxnSpPr>
            <p:nvPr/>
          </p:nvCxnSpPr>
          <p:spPr>
            <a:xfrm flipV="1" rot="10800000">
              <a:off x="2421360" y="1707120"/>
              <a:ext cx="2867040" cy="271800"/>
            </a:xfrm>
            <a:prstGeom prst="bentConnector3">
              <a:avLst>
                <a:gd name="adj1" fmla="val 4999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45" name="AutoShape 16"/>
            <p:cNvCxnSpPr>
              <a:stCxn id="1333" idx="2"/>
              <a:endCxn id="1336" idx="0"/>
            </p:cNvCxnSpPr>
            <p:nvPr/>
          </p:nvCxnSpPr>
          <p:spPr>
            <a:xfrm>
              <a:off x="5288400" y="1707120"/>
              <a:ext cx="3525840" cy="271800"/>
            </a:xfrm>
            <a:prstGeom prst="bentConnector3">
              <a:avLst>
                <a:gd name="adj1" fmla="val 49994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46" name="AutoShape 17"/>
            <p:cNvCxnSpPr>
              <a:stCxn id="1333" idx="2"/>
              <a:endCxn id="1335" idx="0"/>
            </p:cNvCxnSpPr>
            <p:nvPr/>
          </p:nvCxnSpPr>
          <p:spPr>
            <a:xfrm>
              <a:off x="5288400" y="1707120"/>
              <a:ext cx="654480" cy="271800"/>
            </a:xfrm>
            <a:prstGeom prst="bentConnector3">
              <a:avLst>
                <a:gd name="adj1" fmla="val 49972"/>
              </a:avLst>
            </a:prstGeom>
            <a:ln w="9360">
              <a:solidFill>
                <a:srgbClr val="000000"/>
              </a:solidFill>
              <a:round/>
            </a:ln>
          </p:spPr>
        </p:cxnSp>
      </p:grp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7" name="Group 1"/>
          <p:cNvGrpSpPr/>
          <p:nvPr/>
        </p:nvGrpSpPr>
        <p:grpSpPr>
          <a:xfrm>
            <a:off x="587520" y="293760"/>
            <a:ext cx="8997480" cy="7068600"/>
            <a:chOff x="587520" y="293760"/>
            <a:chExt cx="8997480" cy="7068600"/>
          </a:xfrm>
        </p:grpSpPr>
        <p:sp>
          <p:nvSpPr>
            <p:cNvPr id="1348" name="AutoShape 2"/>
            <p:cNvSpPr/>
            <p:nvPr/>
          </p:nvSpPr>
          <p:spPr>
            <a:xfrm>
              <a:off x="2026800" y="344160"/>
              <a:ext cx="5399640" cy="6176880"/>
            </a:xfrm>
            <a:custGeom>
              <a:avLst/>
              <a:gdLst>
                <a:gd name="textAreaLeft" fmla="*/ 360 w 5399640"/>
                <a:gd name="textAreaRight" fmla="*/ 5399280 w 5399640"/>
                <a:gd name="textAreaTop" fmla="*/ 360 h 6176880"/>
                <a:gd name="textAreaBottom" fmla="*/ 6176520 h 6176880"/>
              </a:gdLst>
              <a:ahLst/>
              <a:rect l="textAreaLeft" t="textAreaTop" r="textAreaRight" b="textAreaBottom"/>
              <a:pathLst>
                <a:path w="21600" h="24709">
                  <a:moveTo>
                    <a:pt x="6" y="0"/>
                  </a:moveTo>
                  <a:arcTo wR="6" hR="6" stAng="16200000" swAng="-5400000"/>
                  <a:lnTo>
                    <a:pt x="0" y="24703"/>
                  </a:lnTo>
                  <a:arcTo wR="6" hR="6" stAng="10800000" swAng="-5400000"/>
                  <a:lnTo>
                    <a:pt x="21594" y="24709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Text Box 3"/>
            <p:cNvSpPr/>
            <p:nvPr/>
          </p:nvSpPr>
          <p:spPr>
            <a:xfrm>
              <a:off x="2387160" y="293760"/>
              <a:ext cx="5159880" cy="5918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мецкая классическая философ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Text Box 4"/>
            <p:cNvSpPr/>
            <p:nvPr/>
          </p:nvSpPr>
          <p:spPr>
            <a:xfrm>
              <a:off x="3826800" y="1963080"/>
              <a:ext cx="2339280" cy="3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.Фейербах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Text Box 5"/>
            <p:cNvSpPr/>
            <p:nvPr/>
          </p:nvSpPr>
          <p:spPr>
            <a:xfrm>
              <a:off x="7066440" y="1395000"/>
              <a:ext cx="2160360" cy="56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ени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Text Box 6"/>
            <p:cNvSpPr/>
            <p:nvPr/>
          </p:nvSpPr>
          <p:spPr>
            <a:xfrm>
              <a:off x="3826800" y="1242720"/>
              <a:ext cx="2339280" cy="53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ализ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AutoShape 7"/>
            <p:cNvSpPr/>
            <p:nvPr/>
          </p:nvSpPr>
          <p:spPr>
            <a:xfrm>
              <a:off x="7966080" y="1963080"/>
              <a:ext cx="450720" cy="360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Text Box 8"/>
            <p:cNvSpPr/>
            <p:nvPr/>
          </p:nvSpPr>
          <p:spPr>
            <a:xfrm>
              <a:off x="766440" y="2144160"/>
              <a:ext cx="2339280" cy="3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. Фихт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Text Box 9"/>
            <p:cNvSpPr/>
            <p:nvPr/>
          </p:nvSpPr>
          <p:spPr>
            <a:xfrm>
              <a:off x="766440" y="1242720"/>
              <a:ext cx="233928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бъективный идеализ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Text Box 10"/>
            <p:cNvSpPr/>
            <p:nvPr/>
          </p:nvSpPr>
          <p:spPr>
            <a:xfrm>
              <a:off x="6706080" y="2502720"/>
              <a:ext cx="2878920" cy="467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ернула внимание философии от традиционных проблем (бытие, мышление, познание и др.) к исследованию человеческой сущност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ое внимание уделяла проблеме развити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ительно обогатила логико-теоретический аппарат философи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зглянула на историю как целостный  процесс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Text Box 11"/>
            <p:cNvSpPr/>
            <p:nvPr/>
          </p:nvSpPr>
          <p:spPr>
            <a:xfrm>
              <a:off x="3826800" y="2683800"/>
              <a:ext cx="2699640" cy="467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верг критике идеализм и выдвинул целостную и последовательную материалистическую картину мир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ейербах выступал как полный атеист, доказывал отсутствие Бога, его искусственность, выдуманность людьми, перенесение на личность Бога нереализованных человеческих идеалов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12"/>
            <p:cNvSpPr/>
            <p:nvPr/>
          </p:nvSpPr>
          <p:spPr>
            <a:xfrm>
              <a:off x="587520" y="2863080"/>
              <a:ext cx="2520000" cy="4318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нес большой вклад в разработку концепции субъективного идеализма, согласно которой единственной и главной реальностью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человека является он сам, его сознание (так называемая «Я – концепция»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Line 13"/>
            <p:cNvSpPr/>
            <p:nvPr/>
          </p:nvSpPr>
          <p:spPr>
            <a:xfrm flipH="1">
              <a:off x="2342880" y="882360"/>
              <a:ext cx="17078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Line 14"/>
            <p:cNvSpPr/>
            <p:nvPr/>
          </p:nvSpPr>
          <p:spPr>
            <a:xfrm>
              <a:off x="4726800" y="882360"/>
              <a:ext cx="14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15"/>
            <p:cNvSpPr/>
            <p:nvPr/>
          </p:nvSpPr>
          <p:spPr>
            <a:xfrm>
              <a:off x="6526800" y="882360"/>
              <a:ext cx="143928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Line 16"/>
            <p:cNvSpPr/>
            <p:nvPr/>
          </p:nvSpPr>
          <p:spPr>
            <a:xfrm>
              <a:off x="1847520" y="2502720"/>
              <a:ext cx="10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7"/>
            <p:cNvSpPr/>
            <p:nvPr/>
          </p:nvSpPr>
          <p:spPr>
            <a:xfrm>
              <a:off x="4906080" y="2323440"/>
              <a:ext cx="14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Line 18"/>
            <p:cNvSpPr/>
            <p:nvPr/>
          </p:nvSpPr>
          <p:spPr>
            <a:xfrm>
              <a:off x="1847520" y="1963080"/>
              <a:ext cx="108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Line 19"/>
            <p:cNvSpPr/>
            <p:nvPr/>
          </p:nvSpPr>
          <p:spPr>
            <a:xfrm>
              <a:off x="4906080" y="1783800"/>
              <a:ext cx="144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7" name="Group 2"/>
          <p:cNvGrpSpPr/>
          <p:nvPr/>
        </p:nvGrpSpPr>
        <p:grpSpPr>
          <a:xfrm>
            <a:off x="539640" y="360360"/>
            <a:ext cx="9178560" cy="6838560"/>
            <a:chOff x="539640" y="360360"/>
            <a:chExt cx="9178560" cy="6838560"/>
          </a:xfrm>
        </p:grpSpPr>
        <p:grpSp>
          <p:nvGrpSpPr>
            <p:cNvPr id="1368" name="Group 3"/>
            <p:cNvGrpSpPr/>
            <p:nvPr/>
          </p:nvGrpSpPr>
          <p:grpSpPr>
            <a:xfrm>
              <a:off x="539640" y="360360"/>
              <a:ext cx="9178560" cy="6838560"/>
              <a:chOff x="539640" y="360360"/>
              <a:chExt cx="9178560" cy="6838560"/>
            </a:xfrm>
          </p:grpSpPr>
          <p:sp>
            <p:nvSpPr>
              <p:cNvPr id="1369" name="AutoShape 4"/>
              <p:cNvSpPr/>
              <p:nvPr/>
            </p:nvSpPr>
            <p:spPr>
              <a:xfrm>
                <a:off x="7169400" y="1725120"/>
                <a:ext cx="748800" cy="434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AutoShape 5"/>
              <p:cNvSpPr/>
              <p:nvPr/>
            </p:nvSpPr>
            <p:spPr>
              <a:xfrm>
                <a:off x="2339640" y="720360"/>
                <a:ext cx="5399640" cy="5603760"/>
              </a:xfrm>
              <a:custGeom>
                <a:avLst/>
                <a:gdLst>
                  <a:gd name="textAreaLeft" fmla="*/ 360 w 5399640"/>
                  <a:gd name="textAreaRight" fmla="*/ 5399280 w 5399640"/>
                  <a:gd name="textAreaTop" fmla="*/ 360 h 5603760"/>
                  <a:gd name="textAreaBottom" fmla="*/ 5603400 h 5603760"/>
                </a:gdLst>
                <a:ahLst/>
                <a:rect l="textAreaLeft" t="textAreaTop" r="textAreaRight" b="textAreaBottom"/>
                <a:pathLst>
                  <a:path w="21600" h="22416">
                    <a:moveTo>
                      <a:pt x="6" y="0"/>
                    </a:moveTo>
                    <a:arcTo wR="6" hR="6" stAng="16200000" swAng="-5400000"/>
                    <a:lnTo>
                      <a:pt x="0" y="22410"/>
                    </a:lnTo>
                    <a:arcTo wR="6" hR="6" stAng="10800000" swAng="-5400000"/>
                    <a:lnTo>
                      <a:pt x="21594" y="22416"/>
                    </a:lnTo>
                    <a:arcTo wR="6" hR="6" stAng="5400000" swAng="-5400000"/>
                    <a:lnTo>
                      <a:pt x="21600" y="6"/>
                    </a:lnTo>
                    <a:arcTo wR="6" hR="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Text Box 6"/>
              <p:cNvSpPr/>
              <p:nvPr/>
            </p:nvSpPr>
            <p:spPr>
              <a:xfrm>
                <a:off x="4858200" y="899640"/>
                <a:ext cx="4860000" cy="100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ритический период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начало 70-х гг. XVIII -1804 г.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AutoShape 7"/>
              <p:cNvSpPr/>
              <p:nvPr/>
            </p:nvSpPr>
            <p:spPr>
              <a:xfrm>
                <a:off x="2518560" y="1506240"/>
                <a:ext cx="749160" cy="6537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Text Box 8"/>
              <p:cNvSpPr/>
              <p:nvPr/>
            </p:nvSpPr>
            <p:spPr>
              <a:xfrm>
                <a:off x="610920" y="899640"/>
                <a:ext cx="4248720" cy="1007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окритический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ериод (до начала 70-х гг. XVIII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Text Box 9"/>
              <p:cNvSpPr/>
              <p:nvPr/>
            </p:nvSpPr>
            <p:spPr>
              <a:xfrm>
                <a:off x="5399640" y="2160000"/>
                <a:ext cx="4318560" cy="5038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основе философских исследований лежит проблема познания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нтерес Канта сместился на вопросы деятельности разума, познания, механизма познания, границ познания, логики, этики, социальной философии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ыходят фундаментальные философские произведения, в связи с которыми этот период получил свое наименование: «Критика чистого разума», «Критика практического разума», «Критика способности суждения»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Text Box 10"/>
              <p:cNvSpPr/>
              <p:nvPr/>
            </p:nvSpPr>
            <p:spPr>
              <a:xfrm>
                <a:off x="539640" y="2160000"/>
                <a:ext cx="4678920" cy="5038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лнечная система возникла из большого первоначального облака разреженных в космосе частиц материи в результате вращения данного облака, которое стало возможным благодаря взаимодействию, составляющих его частиц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ирода имеет свою историю во времени, а не вечна  неизменна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ирода находится в постоянном изменении и развитии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вижение и покой относительны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се живое – результат естественной биологической эволюции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ханические законы изначально не заложены в материи, а имеют свою внешнюю причину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анной внешней причиной является Бог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Text Box 11"/>
              <p:cNvSpPr/>
              <p:nvPr/>
            </p:nvSpPr>
            <p:spPr>
              <a:xfrm>
                <a:off x="610920" y="360360"/>
                <a:ext cx="9107280" cy="53928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Иммануила Кант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Group 1"/>
          <p:cNvGrpSpPr/>
          <p:nvPr/>
        </p:nvGrpSpPr>
        <p:grpSpPr>
          <a:xfrm>
            <a:off x="720720" y="179280"/>
            <a:ext cx="9177120" cy="7200720"/>
            <a:chOff x="720720" y="179280"/>
            <a:chExt cx="9177120" cy="7200720"/>
          </a:xfrm>
        </p:grpSpPr>
        <p:grpSp>
          <p:nvGrpSpPr>
            <p:cNvPr id="1378" name="Group 2"/>
            <p:cNvGrpSpPr/>
            <p:nvPr/>
          </p:nvGrpSpPr>
          <p:grpSpPr>
            <a:xfrm>
              <a:off x="720720" y="179280"/>
              <a:ext cx="9177120" cy="7200720"/>
              <a:chOff x="720720" y="179280"/>
              <a:chExt cx="9177120" cy="7200720"/>
            </a:xfrm>
          </p:grpSpPr>
          <p:sp>
            <p:nvSpPr>
              <p:cNvPr id="1379" name="AutoShape 3"/>
              <p:cNvSpPr/>
              <p:nvPr/>
            </p:nvSpPr>
            <p:spPr>
              <a:xfrm>
                <a:off x="3094920" y="2471040"/>
                <a:ext cx="4642200" cy="4547160"/>
              </a:xfrm>
              <a:prstGeom prst="roundRect">
                <a:avLst>
                  <a:gd name="adj" fmla="val 3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Text Box 4"/>
              <p:cNvSpPr/>
              <p:nvPr/>
            </p:nvSpPr>
            <p:spPr>
              <a:xfrm rot="16200000">
                <a:off x="-478800" y="3042000"/>
                <a:ext cx="5457960" cy="8996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тиноми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Text Box 5"/>
              <p:cNvSpPr/>
              <p:nvPr/>
            </p:nvSpPr>
            <p:spPr>
              <a:xfrm rot="16200000">
                <a:off x="2464200" y="768600"/>
                <a:ext cx="1902960" cy="108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граниченность пространств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Text Box 6"/>
              <p:cNvSpPr/>
              <p:nvPr/>
            </p:nvSpPr>
            <p:spPr>
              <a:xfrm rot="16200000">
                <a:off x="2748240" y="2532240"/>
                <a:ext cx="1296720" cy="1050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стое 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ложно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Text Box 7"/>
              <p:cNvSpPr/>
              <p:nvPr/>
            </p:nvSpPr>
            <p:spPr>
              <a:xfrm rot="16200000">
                <a:off x="2622960" y="4203360"/>
                <a:ext cx="1574640" cy="1049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вобода 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ичинность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Text Box 8"/>
              <p:cNvSpPr/>
              <p:nvPr/>
            </p:nvSpPr>
            <p:spPr>
              <a:xfrm rot="16200000">
                <a:off x="2669760" y="5997240"/>
                <a:ext cx="1464840" cy="1049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алич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ог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Text Box 9"/>
              <p:cNvSpPr/>
              <p:nvPr/>
            </p:nvSpPr>
            <p:spPr>
              <a:xfrm>
                <a:off x="4318920" y="1622160"/>
                <a:ext cx="5578920" cy="887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уществуют только простые элементы и то, что состоит из простых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Text Box 10"/>
              <p:cNvSpPr/>
              <p:nvPr/>
            </p:nvSpPr>
            <p:spPr>
              <a:xfrm>
                <a:off x="4318920" y="2655000"/>
                <a:ext cx="5578920" cy="444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мире нет ничего простог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Text Box 11"/>
              <p:cNvSpPr/>
              <p:nvPr/>
            </p:nvSpPr>
            <p:spPr>
              <a:xfrm>
                <a:off x="4318920" y="3245760"/>
                <a:ext cx="5578920" cy="887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уществует не только причинность по законам природы, но и свобод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Text Box 12"/>
              <p:cNvSpPr/>
              <p:nvPr/>
            </p:nvSpPr>
            <p:spPr>
              <a:xfrm>
                <a:off x="4318920" y="4277160"/>
                <a:ext cx="5578920" cy="1036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вободы не существует. Все в мире совершается в силу строгой причинности по законам природ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Text Box 13"/>
              <p:cNvSpPr/>
              <p:nvPr/>
            </p:nvSpPr>
            <p:spPr>
              <a:xfrm>
                <a:off x="4318920" y="5459760"/>
                <a:ext cx="5578920" cy="88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Есть Бог – безусловно необходимое существо, причина всего сущег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Text Box 14"/>
              <p:cNvSpPr/>
              <p:nvPr/>
            </p:nvSpPr>
            <p:spPr>
              <a:xfrm>
                <a:off x="4318920" y="6492960"/>
                <a:ext cx="5578920" cy="887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ога нет. Нет никакого абсолютно необходимого существа – причины всего сущег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Text Box 15"/>
              <p:cNvSpPr/>
              <p:nvPr/>
            </p:nvSpPr>
            <p:spPr>
              <a:xfrm>
                <a:off x="4318920" y="179280"/>
                <a:ext cx="5578920" cy="55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ир имеет начало во времени и ограничен в пространств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Text Box 16"/>
              <p:cNvSpPr/>
              <p:nvPr/>
            </p:nvSpPr>
            <p:spPr>
              <a:xfrm>
                <a:off x="4318920" y="882360"/>
                <a:ext cx="5578920" cy="590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ир не имеет начала во времени и безграничен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Text Box 17"/>
              <p:cNvSpPr/>
              <p:nvPr/>
            </p:nvSpPr>
            <p:spPr>
              <a:xfrm rot="16200000">
                <a:off x="-2343960" y="3287880"/>
                <a:ext cx="7000920" cy="871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ритика чистого разума И. Кант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8"/>
              <p:cNvSpPr/>
              <p:nvPr/>
            </p:nvSpPr>
            <p:spPr>
              <a:xfrm>
                <a:off x="3958560" y="1260000"/>
                <a:ext cx="36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9"/>
              <p:cNvSpPr/>
              <p:nvPr/>
            </p:nvSpPr>
            <p:spPr>
              <a:xfrm flipV="1">
                <a:off x="3958560" y="1964520"/>
                <a:ext cx="360000" cy="9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20"/>
              <p:cNvSpPr/>
              <p:nvPr/>
            </p:nvSpPr>
            <p:spPr>
              <a:xfrm flipV="1">
                <a:off x="3958560" y="2865960"/>
                <a:ext cx="36000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21"/>
              <p:cNvSpPr/>
              <p:nvPr/>
            </p:nvSpPr>
            <p:spPr>
              <a:xfrm flipV="1">
                <a:off x="3958560" y="3764520"/>
                <a:ext cx="360000" cy="9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22"/>
              <p:cNvSpPr/>
              <p:nvPr/>
            </p:nvSpPr>
            <p:spPr>
              <a:xfrm>
                <a:off x="3958560" y="4858200"/>
                <a:ext cx="36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23"/>
              <p:cNvSpPr/>
              <p:nvPr/>
            </p:nvSpPr>
            <p:spPr>
              <a:xfrm flipV="1">
                <a:off x="3958560" y="5743800"/>
                <a:ext cx="360000" cy="74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24"/>
              <p:cNvSpPr/>
              <p:nvPr/>
            </p:nvSpPr>
            <p:spPr>
              <a:xfrm>
                <a:off x="3958560" y="6658200"/>
                <a:ext cx="3600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1" name="Line 25"/>
            <p:cNvSpPr/>
            <p:nvPr/>
          </p:nvSpPr>
          <p:spPr>
            <a:xfrm flipV="1">
              <a:off x="3959280" y="525600"/>
              <a:ext cx="36036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1"/>
          <p:cNvSpPr/>
          <p:nvPr/>
        </p:nvSpPr>
        <p:spPr>
          <a:xfrm>
            <a:off x="0" y="1440"/>
            <a:ext cx="10080720" cy="756000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AutoShape 2"/>
          <p:cNvSpPr/>
          <p:nvPr/>
        </p:nvSpPr>
        <p:spPr>
          <a:xfrm>
            <a:off x="3095640" y="1959120"/>
            <a:ext cx="4000320" cy="5600520"/>
          </a:xfrm>
          <a:custGeom>
            <a:avLst/>
            <a:gdLst>
              <a:gd name="textAreaLeft" fmla="*/ 360 w 4000320"/>
              <a:gd name="textAreaRight" fmla="*/ 3999960 w 4000320"/>
              <a:gd name="textAreaTop" fmla="*/ 360 h 5600520"/>
              <a:gd name="textAreaBottom" fmla="*/ 5600160 h 5600520"/>
            </a:gdLst>
            <a:ahLst/>
            <a:rect l="textAreaLeft" t="textAreaTop" r="textAreaRight" b="textAreaBottom"/>
            <a:pathLst>
              <a:path w="21600" h="30240">
                <a:moveTo>
                  <a:pt x="8" y="0"/>
                </a:moveTo>
                <a:arcTo wR="8" hR="8" stAng="16200000" swAng="-5400000"/>
                <a:lnTo>
                  <a:pt x="0" y="30232"/>
                </a:lnTo>
                <a:arcTo wR="8" hR="8" stAng="10800000" swAng="-5400000"/>
                <a:lnTo>
                  <a:pt x="21592" y="30240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4" name="Group 3"/>
          <p:cNvGrpSpPr/>
          <p:nvPr/>
        </p:nvGrpSpPr>
        <p:grpSpPr>
          <a:xfrm>
            <a:off x="900000" y="179280"/>
            <a:ext cx="8367480" cy="7199280"/>
            <a:chOff x="900000" y="179280"/>
            <a:chExt cx="8367480" cy="7199280"/>
          </a:xfrm>
        </p:grpSpPr>
        <p:sp>
          <p:nvSpPr>
            <p:cNvPr id="1405" name="AutoShape 4"/>
            <p:cNvSpPr/>
            <p:nvPr/>
          </p:nvSpPr>
          <p:spPr>
            <a:xfrm>
              <a:off x="5307480" y="720360"/>
              <a:ext cx="660240" cy="4377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Text Box 5"/>
            <p:cNvSpPr/>
            <p:nvPr/>
          </p:nvSpPr>
          <p:spPr>
            <a:xfrm>
              <a:off x="1807920" y="1985400"/>
              <a:ext cx="7459560" cy="872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ы чувств человека принимает аффицированные образы внешнего мира в виде ощущений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Text Box 6"/>
            <p:cNvSpPr/>
            <p:nvPr/>
          </p:nvSpPr>
          <p:spPr>
            <a:xfrm>
              <a:off x="1807920" y="3002760"/>
              <a:ext cx="7459560" cy="87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ческое сознание приводит полученные органами чувств разрозненные образы, ощущения в систем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Text Box 7"/>
            <p:cNvSpPr/>
            <p:nvPr/>
          </p:nvSpPr>
          <p:spPr>
            <a:xfrm>
              <a:off x="1807920" y="4018320"/>
              <a:ext cx="7459560" cy="101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ртина окружающего мира, возникающая в разуме на основании ощущений, есть всего лишь видимый образ внешнего мира, который не имеет ничего общего с реальным миро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Text Box 8"/>
            <p:cNvSpPr/>
            <p:nvPr/>
          </p:nvSpPr>
          <p:spPr>
            <a:xfrm>
              <a:off x="1807920" y="5178600"/>
              <a:ext cx="7459560" cy="101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альный мир, образы которого воспринимают разум и чувства, является «вещью в себе» - субстанцией, которая не может быть понята разумо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9"/>
            <p:cNvSpPr/>
            <p:nvPr/>
          </p:nvSpPr>
          <p:spPr>
            <a:xfrm>
              <a:off x="1807920" y="6341760"/>
              <a:ext cx="7459560" cy="101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ческий разум может лишь познать образы огромного множества  предметов и явлений окружающего мира, - «вещей в себе», но не их внутреннего сущность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Text Box 10"/>
            <p:cNvSpPr/>
            <p:nvPr/>
          </p:nvSpPr>
          <p:spPr>
            <a:xfrm>
              <a:off x="3050280" y="179280"/>
              <a:ext cx="5496480" cy="5601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хема познавательного процесс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Text Box 11"/>
            <p:cNvSpPr/>
            <p:nvPr/>
          </p:nvSpPr>
          <p:spPr>
            <a:xfrm>
              <a:off x="1807920" y="1260000"/>
              <a:ext cx="7459560" cy="582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нешний мир первоначально осуществляет воздействие на органы чувств человек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13" name="AutoShape 12"/>
            <p:cNvCxnSpPr>
              <a:stCxn id="1410" idx="1"/>
              <a:endCxn id="1409" idx="1"/>
            </p:cNvCxnSpPr>
            <p:nvPr/>
          </p:nvCxnSpPr>
          <p:spPr>
            <a:xfrm flipV="1">
              <a:off x="1807560" y="5687640"/>
              <a:ext cx="1800" cy="1164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414" name="AutoShape 13"/>
            <p:cNvCxnSpPr>
              <a:stCxn id="1409" idx="1"/>
              <a:endCxn id="1408" idx="1"/>
            </p:cNvCxnSpPr>
            <p:nvPr/>
          </p:nvCxnSpPr>
          <p:spPr>
            <a:xfrm flipV="1">
              <a:off x="1807560" y="4527360"/>
              <a:ext cx="1800" cy="1160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415" name="AutoShape 14"/>
            <p:cNvCxnSpPr>
              <a:stCxn id="1408" idx="1"/>
              <a:endCxn id="1407" idx="1"/>
            </p:cNvCxnSpPr>
            <p:nvPr/>
          </p:nvCxnSpPr>
          <p:spPr>
            <a:xfrm flipV="1">
              <a:off x="1807560" y="3438720"/>
              <a:ext cx="1800" cy="1089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416" name="AutoShape 15"/>
            <p:cNvCxnSpPr>
              <a:stCxn id="1407" idx="1"/>
              <a:endCxn id="1406" idx="1"/>
            </p:cNvCxnSpPr>
            <p:nvPr/>
          </p:nvCxnSpPr>
          <p:spPr>
            <a:xfrm flipV="1">
              <a:off x="1807560" y="2421360"/>
              <a:ext cx="1800" cy="1018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417" name="AutoShape 16"/>
            <p:cNvCxnSpPr>
              <a:stCxn id="1406" idx="1"/>
              <a:endCxn id="1412" idx="1"/>
            </p:cNvCxnSpPr>
            <p:nvPr/>
          </p:nvCxnSpPr>
          <p:spPr>
            <a:xfrm flipV="1">
              <a:off x="1807560" y="1550160"/>
              <a:ext cx="1800" cy="87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418" name="Text Box 17"/>
            <p:cNvSpPr/>
            <p:nvPr/>
          </p:nvSpPr>
          <p:spPr>
            <a:xfrm rot="16200000">
              <a:off x="-2369160" y="3448800"/>
              <a:ext cx="7199280" cy="66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1440" bIns="9144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Критика чистого разума»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9" name="Group 1"/>
          <p:cNvGrpSpPr/>
          <p:nvPr/>
        </p:nvGrpSpPr>
        <p:grpSpPr>
          <a:xfrm>
            <a:off x="623880" y="179280"/>
            <a:ext cx="9274320" cy="7200720"/>
            <a:chOff x="623880" y="179280"/>
            <a:chExt cx="9274320" cy="7200720"/>
          </a:xfrm>
        </p:grpSpPr>
        <p:sp>
          <p:nvSpPr>
            <p:cNvPr id="1420" name="AutoShape 2"/>
            <p:cNvSpPr/>
            <p:nvPr/>
          </p:nvSpPr>
          <p:spPr>
            <a:xfrm>
              <a:off x="2700360" y="720360"/>
              <a:ext cx="4862520" cy="6299280"/>
            </a:xfrm>
            <a:custGeom>
              <a:avLst/>
              <a:gdLst>
                <a:gd name="textAreaLeft" fmla="*/ 360 w 4862520"/>
                <a:gd name="textAreaRight" fmla="*/ 4862160 w 4862520"/>
                <a:gd name="textAreaTop" fmla="*/ 360 h 6299280"/>
                <a:gd name="textAreaBottom" fmla="*/ 6298920 h 6299280"/>
              </a:gdLst>
              <a:ahLst/>
              <a:rect l="textAreaLeft" t="textAreaTop" r="textAreaRight" b="textAreaBottom"/>
              <a:pathLst>
                <a:path w="21600" h="27982">
                  <a:moveTo>
                    <a:pt x="7" y="0"/>
                  </a:moveTo>
                  <a:arcTo wR="7" hR="7" stAng="16200000" swAng="-5400000"/>
                  <a:lnTo>
                    <a:pt x="0" y="27975"/>
                  </a:lnTo>
                  <a:arcTo wR="7" hR="7" stAng="10800000" swAng="-5400000"/>
                  <a:lnTo>
                    <a:pt x="21593" y="27982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Text Box 3"/>
            <p:cNvSpPr/>
            <p:nvPr/>
          </p:nvSpPr>
          <p:spPr>
            <a:xfrm>
              <a:off x="623880" y="3239280"/>
              <a:ext cx="2076480" cy="126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читал, что человек наделен изначально злой природо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Text Box 4"/>
            <p:cNvSpPr/>
            <p:nvPr/>
          </p:nvSpPr>
          <p:spPr>
            <a:xfrm>
              <a:off x="3959280" y="179280"/>
              <a:ext cx="2700360" cy="14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дел спасение человека в моральном воспитании и жестком следовании моральному закону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3" name="Group 5"/>
            <p:cNvGrpSpPr/>
            <p:nvPr/>
          </p:nvGrpSpPr>
          <p:grpSpPr>
            <a:xfrm>
              <a:off x="2806560" y="1628280"/>
              <a:ext cx="4932360" cy="964800"/>
              <a:chOff x="2806560" y="1628280"/>
              <a:chExt cx="4932360" cy="964800"/>
            </a:xfrm>
          </p:grpSpPr>
          <p:sp>
            <p:nvSpPr>
              <p:cNvPr id="1424" name="AutoShape 6"/>
              <p:cNvSpPr/>
              <p:nvPr/>
            </p:nvSpPr>
            <p:spPr>
              <a:xfrm>
                <a:off x="2806560" y="1628280"/>
                <a:ext cx="4932360" cy="964800"/>
              </a:xfrm>
              <a:custGeom>
                <a:avLst/>
                <a:gdLst>
                  <a:gd name="textAreaLeft" fmla="*/ 1028160 w 4932360"/>
                  <a:gd name="textAreaRight" fmla="*/ 3905640 w 4932360"/>
                  <a:gd name="textAreaTop" fmla="*/ 201240 h 964800"/>
                  <a:gd name="textAreaBottom" fmla="*/ 763560 h 96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Text Box 7"/>
              <p:cNvSpPr/>
              <p:nvPr/>
            </p:nvSpPr>
            <p:spPr>
              <a:xfrm>
                <a:off x="3890160" y="1840320"/>
                <a:ext cx="2764440" cy="54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тегорический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мперати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6" name="Text Box 8"/>
            <p:cNvSpPr/>
            <p:nvPr/>
          </p:nvSpPr>
          <p:spPr>
            <a:xfrm>
              <a:off x="720720" y="4678920"/>
              <a:ext cx="3240000" cy="12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уждал войны как наиболее тяжкое заблуждение и преступление человече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Text Box 9"/>
            <p:cNvSpPr/>
            <p:nvPr/>
          </p:nvSpPr>
          <p:spPr>
            <a:xfrm>
              <a:off x="720720" y="6299280"/>
              <a:ext cx="576108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читал, что в будущем неизбежно наступит «высший мир» - войны будут либо запрещены правом, либо станут экономически невыгодны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8" name="Group 10"/>
            <p:cNvGrpSpPr/>
            <p:nvPr/>
          </p:nvGrpSpPr>
          <p:grpSpPr>
            <a:xfrm>
              <a:off x="6659640" y="4678920"/>
              <a:ext cx="3238560" cy="2518560"/>
              <a:chOff x="6659640" y="4678920"/>
              <a:chExt cx="3238560" cy="2518560"/>
            </a:xfrm>
          </p:grpSpPr>
          <p:sp>
            <p:nvSpPr>
              <p:cNvPr id="1429" name="AutoShape 11"/>
              <p:cNvSpPr/>
              <p:nvPr/>
            </p:nvSpPr>
            <p:spPr>
              <a:xfrm>
                <a:off x="6659640" y="4678920"/>
                <a:ext cx="3238560" cy="2518560"/>
              </a:xfrm>
              <a:prstGeom prst="verticalScroll">
                <a:avLst>
                  <a:gd name="adj" fmla="val 125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12"/>
              <p:cNvSpPr/>
              <p:nvPr/>
            </p:nvSpPr>
            <p:spPr>
              <a:xfrm>
                <a:off x="6936840" y="4991400"/>
                <a:ext cx="2686320" cy="189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8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) в каждом отдельном обществе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) в отношениях между государствами и народам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1" name="Text Box 13"/>
            <p:cNvSpPr/>
            <p:nvPr/>
          </p:nvSpPr>
          <p:spPr>
            <a:xfrm>
              <a:off x="1800360" y="2518560"/>
              <a:ext cx="7019640" cy="539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о-политические взгляды И. Кан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Text Box 14"/>
            <p:cNvSpPr/>
            <p:nvPr/>
          </p:nvSpPr>
          <p:spPr>
            <a:xfrm>
              <a:off x="6840360" y="3239280"/>
              <a:ext cx="2700360" cy="126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л сторонником распространения демократии  правогого поряд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15"/>
            <p:cNvSpPr/>
            <p:nvPr/>
          </p:nvSpPr>
          <p:spPr>
            <a:xfrm flipH="1">
              <a:off x="4454280" y="3060000"/>
              <a:ext cx="809640" cy="32392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16"/>
            <p:cNvSpPr/>
            <p:nvPr/>
          </p:nvSpPr>
          <p:spPr>
            <a:xfrm flipH="1">
              <a:off x="2655360" y="3060000"/>
              <a:ext cx="1528920" cy="10792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17"/>
            <p:cNvSpPr/>
            <p:nvPr/>
          </p:nvSpPr>
          <p:spPr>
            <a:xfrm flipH="1">
              <a:off x="3555720" y="3060000"/>
              <a:ext cx="988920" cy="16189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18"/>
            <p:cNvSpPr/>
            <p:nvPr/>
          </p:nvSpPr>
          <p:spPr>
            <a:xfrm>
              <a:off x="6119640" y="3060000"/>
              <a:ext cx="720720" cy="10792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1"/>
          <p:cNvSpPr/>
          <p:nvPr/>
        </p:nvSpPr>
        <p:spPr>
          <a:xfrm>
            <a:off x="0" y="324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8" name="Group 2"/>
          <p:cNvGrpSpPr/>
          <p:nvPr/>
        </p:nvGrpSpPr>
        <p:grpSpPr>
          <a:xfrm>
            <a:off x="720720" y="179280"/>
            <a:ext cx="8639280" cy="7019640"/>
            <a:chOff x="720720" y="179280"/>
            <a:chExt cx="8639280" cy="7019640"/>
          </a:xfrm>
        </p:grpSpPr>
        <p:sp>
          <p:nvSpPr>
            <p:cNvPr id="1439" name="AutoShape 3"/>
            <p:cNvSpPr/>
            <p:nvPr/>
          </p:nvSpPr>
          <p:spPr>
            <a:xfrm>
              <a:off x="2518920" y="179280"/>
              <a:ext cx="5039280" cy="6659280"/>
            </a:xfrm>
            <a:custGeom>
              <a:avLst/>
              <a:gdLst>
                <a:gd name="textAreaLeft" fmla="*/ 360 w 5039280"/>
                <a:gd name="textAreaRight" fmla="*/ 5038920 w 5039280"/>
                <a:gd name="textAreaTop" fmla="*/ 360 h 6659280"/>
                <a:gd name="textAreaBottom" fmla="*/ 6658920 h 6659280"/>
              </a:gdLst>
              <a:ahLst/>
              <a:rect l="textAreaLeft" t="textAreaTop" r="textAreaRight" b="textAreaBottom"/>
              <a:pathLst>
                <a:path w="21600" h="28543">
                  <a:moveTo>
                    <a:pt x="6" y="0"/>
                  </a:moveTo>
                  <a:arcTo wR="6" hR="6" stAng="16200000" swAng="-5400000"/>
                  <a:lnTo>
                    <a:pt x="0" y="28537"/>
                  </a:lnTo>
                  <a:arcTo wR="6" hR="6" stAng="10800000" swAng="-5400000"/>
                  <a:lnTo>
                    <a:pt x="21594" y="28543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Text Box 4"/>
            <p:cNvSpPr/>
            <p:nvPr/>
          </p:nvSpPr>
          <p:spPr>
            <a:xfrm>
              <a:off x="720720" y="179280"/>
              <a:ext cx="8639280" cy="1591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жние концепции объяснения природы неистинны, поскольку субъективные идеалисты и Фихте природу выводят из сознания человека, а во всех остальных теориях (теория субстанции Спинозы и др.) дается ограничительное толкование природы, то есть философы пытаются «втиснуть» природу в какие-либо рамк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Text Box 5"/>
            <p:cNvSpPr/>
            <p:nvPr/>
          </p:nvSpPr>
          <p:spPr>
            <a:xfrm>
              <a:off x="5686920" y="3780360"/>
              <a:ext cx="3671280" cy="341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ижущей силой природы является ее полярность – наличие внутренних противоположностей и их  взаимодействие (например, полюса магнита, плюсовые и минусовые заряды электричества, объективное и субъективное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Text Box 6"/>
            <p:cNvSpPr/>
            <p:nvPr/>
          </p:nvSpPr>
          <p:spPr>
            <a:xfrm>
              <a:off x="5686920" y="1917000"/>
              <a:ext cx="3671280" cy="1707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а есть «абсолютное» - первопричина и первоначало всего, охватывающее все остальное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7"/>
            <p:cNvSpPr/>
            <p:nvPr/>
          </p:nvSpPr>
          <p:spPr>
            <a:xfrm>
              <a:off x="720720" y="3313800"/>
              <a:ext cx="3815640" cy="201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а есть целостный организм, обладающий одушевленностью (едины живая и неживая природа, материя, поле, свет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Text Box 8"/>
            <p:cNvSpPr/>
            <p:nvPr/>
          </p:nvSpPr>
          <p:spPr>
            <a:xfrm>
              <a:off x="720720" y="5489640"/>
              <a:ext cx="3815640" cy="170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я и дух едины и являются свойствами природы, различными состояниями абсолютного разум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Text Box 9"/>
            <p:cNvSpPr/>
            <p:nvPr/>
          </p:nvSpPr>
          <p:spPr>
            <a:xfrm>
              <a:off x="720720" y="1917000"/>
              <a:ext cx="3815640" cy="124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а есть единство субъективного и объективного, вечный разум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Text Box 10"/>
            <p:cNvSpPr/>
            <p:nvPr/>
          </p:nvSpPr>
          <p:spPr>
            <a:xfrm rot="16200000">
              <a:off x="2524680" y="4298040"/>
              <a:ext cx="5218200" cy="579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1440" bIns="9144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турфилософия Ф. Шеллинг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Group 1"/>
          <p:cNvGrpSpPr/>
          <p:nvPr/>
        </p:nvGrpSpPr>
        <p:grpSpPr>
          <a:xfrm>
            <a:off x="539640" y="539640"/>
            <a:ext cx="9180720" cy="6478200"/>
            <a:chOff x="539640" y="539640"/>
            <a:chExt cx="9180720" cy="6478200"/>
          </a:xfrm>
        </p:grpSpPr>
        <p:sp>
          <p:nvSpPr>
            <p:cNvPr id="1448" name="AutoShape 2"/>
            <p:cNvSpPr/>
            <p:nvPr/>
          </p:nvSpPr>
          <p:spPr>
            <a:xfrm>
              <a:off x="2518920" y="539640"/>
              <a:ext cx="5039280" cy="5954760"/>
            </a:xfrm>
            <a:custGeom>
              <a:avLst/>
              <a:gdLst>
                <a:gd name="textAreaLeft" fmla="*/ 360 w 5039280"/>
                <a:gd name="textAreaRight" fmla="*/ 5038920 w 5039280"/>
                <a:gd name="textAreaTop" fmla="*/ 360 h 5954760"/>
                <a:gd name="textAreaBottom" fmla="*/ 5954400 h 5954760"/>
              </a:gdLst>
              <a:ahLst/>
              <a:rect l="textAreaLeft" t="textAreaTop" r="textAreaRight" b="textAreaBottom"/>
              <a:pathLst>
                <a:path w="21600" h="25524">
                  <a:moveTo>
                    <a:pt x="6" y="0"/>
                  </a:moveTo>
                  <a:arcTo wR="6" hR="6" stAng="16200000" swAng="-5400000"/>
                  <a:lnTo>
                    <a:pt x="0" y="25518"/>
                  </a:lnTo>
                  <a:arcTo wR="6" hR="6" stAng="10800000" swAng="-5400000"/>
                  <a:lnTo>
                    <a:pt x="21594" y="25524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3"/>
            <p:cNvSpPr/>
            <p:nvPr/>
          </p:nvSpPr>
          <p:spPr>
            <a:xfrm>
              <a:off x="539640" y="539640"/>
              <a:ext cx="9180720" cy="4726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носеологические идеи  Л. Фейербах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4"/>
            <p:cNvSpPr/>
            <p:nvPr/>
          </p:nvSpPr>
          <p:spPr>
            <a:xfrm>
              <a:off x="2547720" y="1326960"/>
              <a:ext cx="5450400" cy="472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5"/>
            <p:cNvSpPr/>
            <p:nvPr/>
          </p:nvSpPr>
          <p:spPr>
            <a:xfrm>
              <a:off x="5221800" y="1012320"/>
              <a:ext cx="288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AutoShape 6"/>
            <p:cNvSpPr/>
            <p:nvPr/>
          </p:nvSpPr>
          <p:spPr>
            <a:xfrm>
              <a:off x="4858560" y="1800000"/>
              <a:ext cx="720360" cy="443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Text Box 7"/>
            <p:cNvSpPr/>
            <p:nvPr/>
          </p:nvSpPr>
          <p:spPr>
            <a:xfrm>
              <a:off x="539640" y="2518560"/>
              <a:ext cx="9180720" cy="44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ружающий мир позноваем, а позновательные возможности безграничны. Однако безграничность возможностей познания разума наступает не сразу, а развивается постепенно, по мере эволюции человека, накопления опыта, роста научно-технического прогресса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ть данной идеи (о постепенном увеличении познавательных возможностей разума и в перспективе их бесконечности) философ выразил словами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То, что не познаем мы, познают наши потомки»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у познания составляют субъективные чувственные ощущения, в основе которых лежит объективная реальность, и которые осознаются разумом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им образом, гносеология Фейербаха базируется на материалистических принципах при соединении и уравнении эмпирического и рационального подходов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4" name="Group 1"/>
          <p:cNvGrpSpPr/>
          <p:nvPr/>
        </p:nvGrpSpPr>
        <p:grpSpPr>
          <a:xfrm>
            <a:off x="720720" y="179280"/>
            <a:ext cx="9178920" cy="7201080"/>
            <a:chOff x="720720" y="179280"/>
            <a:chExt cx="9178920" cy="7201080"/>
          </a:xfrm>
        </p:grpSpPr>
        <p:sp>
          <p:nvSpPr>
            <p:cNvPr id="1455" name="AutoShape 2"/>
            <p:cNvSpPr/>
            <p:nvPr/>
          </p:nvSpPr>
          <p:spPr>
            <a:xfrm>
              <a:off x="720720" y="179280"/>
              <a:ext cx="9178920" cy="72010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Text Box 3"/>
            <p:cNvSpPr/>
            <p:nvPr/>
          </p:nvSpPr>
          <p:spPr>
            <a:xfrm>
              <a:off x="720720" y="188640"/>
              <a:ext cx="4720320" cy="125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 – уникальное биологическое существо, наделенное волей, разумом, чувствами, желаниями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Text Box 4"/>
            <p:cNvSpPr/>
            <p:nvPr/>
          </p:nvSpPr>
          <p:spPr>
            <a:xfrm>
              <a:off x="720720" y="1666440"/>
              <a:ext cx="3675960" cy="1409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ой связей между людьми в обществе, стержнем общества должна стать религия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Text Box 5"/>
            <p:cNvSpPr/>
            <p:nvPr/>
          </p:nvSpPr>
          <p:spPr>
            <a:xfrm>
              <a:off x="720720" y="3307680"/>
              <a:ext cx="3936240" cy="156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нная религия должна быть основана не на вере в выдуманное сверхъестественное существо – в Бога, а на иных принципах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6"/>
            <p:cNvSpPr/>
            <p:nvPr/>
          </p:nvSpPr>
          <p:spPr>
            <a:xfrm flipV="1">
              <a:off x="7488720" y="1223640"/>
              <a:ext cx="28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"/>
            <p:cNvSpPr/>
            <p:nvPr/>
          </p:nvSpPr>
          <p:spPr>
            <a:xfrm flipH="1" flipV="1">
              <a:off x="4376160" y="1414080"/>
              <a:ext cx="1577520" cy="69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8"/>
            <p:cNvSpPr/>
            <p:nvPr/>
          </p:nvSpPr>
          <p:spPr>
            <a:xfrm flipH="1" flipV="1">
              <a:off x="4306320" y="2477520"/>
              <a:ext cx="84240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9"/>
            <p:cNvSpPr/>
            <p:nvPr/>
          </p:nvSpPr>
          <p:spPr>
            <a:xfrm flipH="1">
              <a:off x="4602960" y="3991320"/>
              <a:ext cx="73944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10"/>
            <p:cNvSpPr/>
            <p:nvPr/>
          </p:nvSpPr>
          <p:spPr>
            <a:xfrm flipH="1">
              <a:off x="4482000" y="4289760"/>
              <a:ext cx="1191960" cy="83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11"/>
            <p:cNvSpPr/>
            <p:nvPr/>
          </p:nvSpPr>
          <p:spPr>
            <a:xfrm>
              <a:off x="7477560" y="4701240"/>
              <a:ext cx="2880" cy="24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Text Box 12"/>
            <p:cNvSpPr/>
            <p:nvPr/>
          </p:nvSpPr>
          <p:spPr>
            <a:xfrm>
              <a:off x="747360" y="5129640"/>
              <a:ext cx="4195080" cy="198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нокровная реализация человеком своего «Я» возможна только во взаимодействии с «Ты» (т. е. другими людьми) – человек может жить только в обществе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Text Box 13"/>
            <p:cNvSpPr/>
            <p:nvPr/>
          </p:nvSpPr>
          <p:spPr>
            <a:xfrm>
              <a:off x="5441040" y="4924800"/>
              <a:ext cx="4458240" cy="234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бходимо отбросить традиционную религию (христианство, мусульманство и т.д.) и заменить ее религией любви людей друг к другу и религией любви внутри семьи как наиболее отвечающей природе человек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Text Box 14"/>
            <p:cNvSpPr/>
            <p:nvPr/>
          </p:nvSpPr>
          <p:spPr>
            <a:xfrm>
              <a:off x="5961600" y="186840"/>
              <a:ext cx="3936240" cy="109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ыслом жизни человека должно стать стремление к счастью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8" name="Group 15"/>
            <p:cNvGrpSpPr/>
            <p:nvPr/>
          </p:nvGrpSpPr>
          <p:grpSpPr>
            <a:xfrm>
              <a:off x="4915800" y="1742760"/>
              <a:ext cx="4980600" cy="2972520"/>
              <a:chOff x="4915800" y="1742760"/>
              <a:chExt cx="4980600" cy="2972520"/>
            </a:xfrm>
          </p:grpSpPr>
          <p:sp>
            <p:nvSpPr>
              <p:cNvPr id="1469" name="Oval 16"/>
              <p:cNvSpPr/>
              <p:nvPr/>
            </p:nvSpPr>
            <p:spPr>
              <a:xfrm>
                <a:off x="4915800" y="1742760"/>
                <a:ext cx="4980600" cy="29725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Text Box 17"/>
              <p:cNvSpPr/>
              <p:nvPr/>
            </p:nvSpPr>
            <p:spPr>
              <a:xfrm>
                <a:off x="5651640" y="2183400"/>
                <a:ext cx="3508200" cy="2091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ально-политические взгляды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ейербах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обусловлены его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тропологической философией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9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1"/>
          <p:cNvSpPr/>
          <p:nvPr/>
        </p:nvSpPr>
        <p:spPr>
          <a:xfrm>
            <a:off x="0" y="324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2" name="Group 2"/>
          <p:cNvGrpSpPr/>
          <p:nvPr/>
        </p:nvGrpSpPr>
        <p:grpSpPr>
          <a:xfrm>
            <a:off x="539640" y="179280"/>
            <a:ext cx="11171160" cy="7018200"/>
            <a:chOff x="539640" y="179280"/>
            <a:chExt cx="11171160" cy="7018200"/>
          </a:xfrm>
        </p:grpSpPr>
        <p:grpSp>
          <p:nvGrpSpPr>
            <p:cNvPr id="1473" name="Group 3"/>
            <p:cNvGrpSpPr/>
            <p:nvPr/>
          </p:nvGrpSpPr>
          <p:grpSpPr>
            <a:xfrm>
              <a:off x="539640" y="179280"/>
              <a:ext cx="9357120" cy="7017120"/>
              <a:chOff x="539640" y="179280"/>
              <a:chExt cx="9357120" cy="7017120"/>
            </a:xfrm>
          </p:grpSpPr>
          <p:grpSp>
            <p:nvGrpSpPr>
              <p:cNvPr id="1474" name="Group 4"/>
              <p:cNvGrpSpPr/>
              <p:nvPr/>
            </p:nvGrpSpPr>
            <p:grpSpPr>
              <a:xfrm>
                <a:off x="539640" y="179280"/>
                <a:ext cx="9357120" cy="7017120"/>
                <a:chOff x="539640" y="179280"/>
                <a:chExt cx="9357120" cy="7017120"/>
              </a:xfrm>
            </p:grpSpPr>
            <p:sp>
              <p:nvSpPr>
                <p:cNvPr id="1475" name="AutoShape 5"/>
                <p:cNvSpPr/>
                <p:nvPr/>
              </p:nvSpPr>
              <p:spPr>
                <a:xfrm>
                  <a:off x="539640" y="179280"/>
                  <a:ext cx="9357120" cy="701712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2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6" name="Text Box 6"/>
                <p:cNvSpPr/>
                <p:nvPr/>
              </p:nvSpPr>
              <p:spPr>
                <a:xfrm>
                  <a:off x="1265040" y="1055160"/>
                  <a:ext cx="7907760" cy="52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флекс</a:t>
                  </a:r>
                  <a:r>
                    <a:rPr b="0" i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r>
                    <a:rPr b="1" lang="en-GB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89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7" name="Text Box 7"/>
              <p:cNvSpPr/>
              <p:nvPr/>
            </p:nvSpPr>
            <p:spPr>
              <a:xfrm>
                <a:off x="1439640" y="3677400"/>
                <a:ext cx="8174160" cy="21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8" name="Text Box 8"/>
            <p:cNvSpPr/>
            <p:nvPr/>
          </p:nvSpPr>
          <p:spPr>
            <a:xfrm>
              <a:off x="928440" y="2075760"/>
              <a:ext cx="10782360" cy="51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9" name="Group 9"/>
            <p:cNvGrpSpPr/>
            <p:nvPr/>
          </p:nvGrpSpPr>
          <p:grpSpPr>
            <a:xfrm>
              <a:off x="718920" y="2645640"/>
              <a:ext cx="8816760" cy="3450600"/>
              <a:chOff x="718920" y="2645640"/>
              <a:chExt cx="8816760" cy="3450600"/>
            </a:xfrm>
          </p:grpSpPr>
          <p:sp>
            <p:nvSpPr>
              <p:cNvPr id="1480" name="AutoShape 10"/>
              <p:cNvSpPr/>
              <p:nvPr/>
            </p:nvSpPr>
            <p:spPr>
              <a:xfrm>
                <a:off x="718920" y="2645640"/>
                <a:ext cx="8815680" cy="34506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423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Text Box 11"/>
              <p:cNvSpPr/>
              <p:nvPr/>
            </p:nvSpPr>
            <p:spPr>
              <a:xfrm>
                <a:off x="1258200" y="3252960"/>
                <a:ext cx="8277480" cy="21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ные вопрос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ковы характерные черты философии немецкого классического идеализма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чем состоит переворот И. Канта в философии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чем сущность системы абсолютного идеализма Гегеля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8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ак Вы объясните суть диалектического метода Гегеля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482" name="Picture 1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80360" y="6840360"/>
            <a:ext cx="513000" cy="5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"/>
          <p:cNvGrpSpPr/>
          <p:nvPr/>
        </p:nvGrpSpPr>
        <p:grpSpPr>
          <a:xfrm>
            <a:off x="178920" y="0"/>
            <a:ext cx="9632880" cy="8999640"/>
            <a:chOff x="178920" y="0"/>
            <a:chExt cx="9632880" cy="8999640"/>
          </a:xfrm>
        </p:grpSpPr>
        <p:sp>
          <p:nvSpPr>
            <p:cNvPr id="539" name="AutoShape 2"/>
            <p:cNvSpPr/>
            <p:nvPr/>
          </p:nvSpPr>
          <p:spPr>
            <a:xfrm>
              <a:off x="812520" y="0"/>
              <a:ext cx="8999280" cy="8999640"/>
            </a:xfrm>
            <a:custGeom>
              <a:avLst/>
              <a:gdLst>
                <a:gd name="textAreaLeft" fmla="*/ 360 w 8999280"/>
                <a:gd name="textAreaRight" fmla="*/ 8998920 w 8999280"/>
                <a:gd name="textAreaTop" fmla="*/ 360 h 8999640"/>
                <a:gd name="textAreaBottom" fmla="*/ 8999280 h 8999640"/>
              </a:gdLst>
              <a:ahLst/>
              <a:rect l="textAreaLeft" t="textAreaTop" r="textAreaRight" b="textAreaBottom"/>
              <a:pathLst>
                <a:path w="21600" h="21601">
                  <a:moveTo>
                    <a:pt x="3" y="0"/>
                  </a:moveTo>
                  <a:arcTo wR="3" hR="3" stAng="16200000" swAng="-5400000"/>
                  <a:lnTo>
                    <a:pt x="0" y="21598"/>
                  </a:lnTo>
                  <a:arcTo wR="3" hR="3" stAng="10800000" swAng="-5400000"/>
                  <a:lnTo>
                    <a:pt x="21597" y="21601"/>
                  </a:lnTo>
                  <a:arcTo wR="3" hR="3" stAng="5400000" swAng="-5400000"/>
                  <a:lnTo>
                    <a:pt x="21600" y="3"/>
                  </a:lnTo>
                  <a:arcTo wR="3" hR="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0" name="Group 3"/>
            <p:cNvGrpSpPr/>
            <p:nvPr/>
          </p:nvGrpSpPr>
          <p:grpSpPr>
            <a:xfrm>
              <a:off x="178920" y="226800"/>
              <a:ext cx="9599400" cy="6972120"/>
              <a:chOff x="178920" y="226800"/>
              <a:chExt cx="9599400" cy="6972120"/>
            </a:xfrm>
          </p:grpSpPr>
          <p:sp>
            <p:nvSpPr>
              <p:cNvPr id="541" name="Text Box 4"/>
              <p:cNvSpPr/>
              <p:nvPr/>
            </p:nvSpPr>
            <p:spPr>
              <a:xfrm>
                <a:off x="2159640" y="226800"/>
                <a:ext cx="6058800" cy="85356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лассификация философских традиций и систем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Text Box 5"/>
              <p:cNvSpPr/>
              <p:nvPr/>
            </p:nvSpPr>
            <p:spPr>
              <a:xfrm>
                <a:off x="3655440" y="1845360"/>
                <a:ext cx="2864880" cy="1034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 открытости и доступност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7243560" y="1438920"/>
                <a:ext cx="2534760" cy="108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 историческому признаку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397800" y="1438920"/>
                <a:ext cx="2536200" cy="1438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 ориентации на конкретное мировоззрение и теоретизаци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365760" y="3238200"/>
                <a:ext cx="2352600" cy="72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ыденная философ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Text Box 9"/>
              <p:cNvSpPr/>
              <p:nvPr/>
            </p:nvSpPr>
            <p:spPr>
              <a:xfrm>
                <a:off x="3655440" y="3147840"/>
                <a:ext cx="2864880" cy="99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зотерическая философ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Text Box 10"/>
              <p:cNvSpPr/>
              <p:nvPr/>
            </p:nvSpPr>
            <p:spPr>
              <a:xfrm>
                <a:off x="7243560" y="2698920"/>
                <a:ext cx="2395800" cy="674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Древнего мир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Text Box 11"/>
              <p:cNvSpPr/>
              <p:nvPr/>
            </p:nvSpPr>
            <p:spPr>
              <a:xfrm>
                <a:off x="7274160" y="3598560"/>
                <a:ext cx="2352600" cy="723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средневековь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2"/>
              <p:cNvSpPr/>
              <p:nvPr/>
            </p:nvSpPr>
            <p:spPr>
              <a:xfrm>
                <a:off x="7274160" y="4498560"/>
                <a:ext cx="2395800" cy="72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эпохи Возрожден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7274160" y="5398200"/>
                <a:ext cx="2395800" cy="72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Нового времен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3623760" y="4453920"/>
                <a:ext cx="2927160" cy="943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кзотерическая философ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15"/>
              <p:cNvSpPr/>
              <p:nvPr/>
            </p:nvSpPr>
            <p:spPr>
              <a:xfrm flipH="1">
                <a:off x="1401120" y="1078920"/>
                <a:ext cx="85716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16"/>
              <p:cNvSpPr/>
              <p:nvPr/>
            </p:nvSpPr>
            <p:spPr>
              <a:xfrm>
                <a:off x="8178840" y="1078920"/>
                <a:ext cx="51228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4921200" y="1078920"/>
                <a:ext cx="1440" cy="72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7413120" y="3371760"/>
                <a:ext cx="14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Text Box 19"/>
              <p:cNvSpPr/>
              <p:nvPr/>
            </p:nvSpPr>
            <p:spPr>
              <a:xfrm>
                <a:off x="365760" y="4138200"/>
                <a:ext cx="2352600" cy="89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лигиозная философ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Text Box 20"/>
              <p:cNvSpPr/>
              <p:nvPr/>
            </p:nvSpPr>
            <p:spPr>
              <a:xfrm>
                <a:off x="365760" y="5217120"/>
                <a:ext cx="2352600" cy="89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истическая философ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Text Box 21"/>
              <p:cNvSpPr/>
              <p:nvPr/>
            </p:nvSpPr>
            <p:spPr>
              <a:xfrm>
                <a:off x="365760" y="6297840"/>
                <a:ext cx="2352600" cy="89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аучная философ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22"/>
              <p:cNvSpPr/>
              <p:nvPr/>
            </p:nvSpPr>
            <p:spPr>
              <a:xfrm>
                <a:off x="7274160" y="6297840"/>
                <a:ext cx="2395800" cy="901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Новейшего времен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560" name="AutoShape 23"/>
              <p:cNvCxnSpPr>
                <a:stCxn id="544" idx="1"/>
                <a:endCxn id="558" idx="1"/>
              </p:cNvCxnSpPr>
              <p:nvPr/>
            </p:nvCxnSpPr>
            <p:spPr>
              <a:xfrm flipV="1" rot="10800000">
                <a:off x="365040" y="2157120"/>
                <a:ext cx="32400" cy="4589640"/>
              </a:xfrm>
              <a:prstGeom prst="bentConnector3">
                <a:avLst>
                  <a:gd name="adj1" fmla="val 49438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61" name="AutoShape 24"/>
              <p:cNvCxnSpPr>
                <a:stCxn id="542" idx="1"/>
                <a:endCxn id="551" idx="1"/>
              </p:cNvCxnSpPr>
              <p:nvPr/>
            </p:nvCxnSpPr>
            <p:spPr>
              <a:xfrm flipV="1" rot="10800000">
                <a:off x="3623040" y="2361960"/>
                <a:ext cx="32400" cy="2565000"/>
              </a:xfrm>
              <a:prstGeom prst="bentConnector3">
                <a:avLst>
                  <a:gd name="adj1" fmla="val 49438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62" name="AutoShape 25"/>
              <p:cNvCxnSpPr>
                <a:stCxn id="543" idx="1"/>
                <a:endCxn id="559" idx="1"/>
              </p:cNvCxnSpPr>
              <p:nvPr/>
            </p:nvCxnSpPr>
            <p:spPr>
              <a:xfrm>
                <a:off x="7243560" y="1978200"/>
                <a:ext cx="30600" cy="47707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63" name="AutoShape 26"/>
              <p:cNvCxnSpPr>
                <a:stCxn id="545" idx="1"/>
              </p:cNvCxnSpPr>
              <p:nvPr/>
            </p:nvCxnSpPr>
            <p:spPr>
              <a:xfrm flipV="1" rot="10800000">
                <a:off x="178560" y="3598200"/>
                <a:ext cx="187200" cy="51120"/>
              </a:xfrm>
              <a:prstGeom prst="bentConnector3">
                <a:avLst>
                  <a:gd name="adj1" fmla="val 49903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64" name="AutoShape 27"/>
              <p:cNvCxnSpPr>
                <a:stCxn id="556" idx="1"/>
              </p:cNvCxnSpPr>
              <p:nvPr/>
            </p:nvCxnSpPr>
            <p:spPr>
              <a:xfrm flipV="1" rot="10800000">
                <a:off x="178560" y="4588200"/>
                <a:ext cx="187200" cy="124200"/>
              </a:xfrm>
              <a:prstGeom prst="bentConnector3">
                <a:avLst>
                  <a:gd name="adj1" fmla="val 49903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65" name="AutoShape 28"/>
              <p:cNvCxnSpPr>
                <a:stCxn id="557" idx="1"/>
              </p:cNvCxnSpPr>
              <p:nvPr/>
            </p:nvCxnSpPr>
            <p:spPr>
              <a:xfrm rot="10800000">
                <a:off x="210240" y="5648040"/>
                <a:ext cx="155520" cy="17640"/>
              </a:xfrm>
              <a:prstGeom prst="bentConnector3">
                <a:avLst>
                  <a:gd name="adj1" fmla="val 49883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66" name="AutoShape 29"/>
              <p:cNvCxnSpPr>
                <a:endCxn id="546" idx="1"/>
              </p:cNvCxnSpPr>
              <p:nvPr/>
            </p:nvCxnSpPr>
            <p:spPr>
              <a:xfrm>
                <a:off x="3430080" y="3642840"/>
                <a:ext cx="225720" cy="18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67" name="AutoShape 30"/>
              <p:cNvCxnSpPr>
                <a:stCxn id="547" idx="1"/>
              </p:cNvCxnSpPr>
              <p:nvPr/>
            </p:nvCxnSpPr>
            <p:spPr>
              <a:xfrm flipV="1" rot="10800000">
                <a:off x="7043400" y="3034800"/>
                <a:ext cx="200160" cy="14400"/>
              </a:xfrm>
              <a:prstGeom prst="bentConnector3">
                <a:avLst>
                  <a:gd name="adj1" fmla="val 49909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68" name="AutoShape 31"/>
              <p:cNvCxnSpPr>
                <a:stCxn id="548" idx="1"/>
              </p:cNvCxnSpPr>
              <p:nvPr/>
            </p:nvCxnSpPr>
            <p:spPr>
              <a:xfrm flipV="1" rot="10800000">
                <a:off x="7059240" y="3960000"/>
                <a:ext cx="214560" cy="6480"/>
              </a:xfrm>
              <a:prstGeom prst="bentConnector3">
                <a:avLst>
                  <a:gd name="adj1" fmla="val 49915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69" name="AutoShape 32"/>
              <p:cNvCxnSpPr>
                <a:stCxn id="549" idx="1"/>
              </p:cNvCxnSpPr>
              <p:nvPr/>
            </p:nvCxnSpPr>
            <p:spPr>
              <a:xfrm rot="10800000">
                <a:off x="7043400" y="4806720"/>
                <a:ext cx="230400" cy="51480"/>
              </a:xfrm>
              <a:prstGeom prst="bentConnector3">
                <a:avLst>
                  <a:gd name="adj1" fmla="val 49921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  <p:cxnSp>
            <p:nvCxnSpPr>
              <p:cNvPr id="570" name="AutoShape 33"/>
              <p:cNvCxnSpPr>
                <a:stCxn id="550" idx="1"/>
              </p:cNvCxnSpPr>
              <p:nvPr/>
            </p:nvCxnSpPr>
            <p:spPr>
              <a:xfrm flipV="1" rot="10800000">
                <a:off x="7043400" y="5757840"/>
                <a:ext cx="230400" cy="17640"/>
              </a:xfrm>
              <a:prstGeom prst="bentConnector3">
                <a:avLst>
                  <a:gd name="adj1" fmla="val 49921"/>
                </a:avLst>
              </a:prstGeom>
              <a:ln w="9360">
                <a:solidFill>
                  <a:srgbClr val="000000"/>
                </a:solidFill>
                <a:round/>
              </a:ln>
            </p:spPr>
          </p:cxnSp>
        </p:grpSp>
      </p:grp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Text Box 1"/>
          <p:cNvSpPr/>
          <p:nvPr/>
        </p:nvSpPr>
        <p:spPr>
          <a:xfrm>
            <a:off x="903240" y="2700360"/>
            <a:ext cx="8461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ОСНОВНЫЕ ТЕЧ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ЗАПАДНОЙ ФИЛОСОФ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IX-XXI вв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1"/>
          <p:cNvSpPr/>
          <p:nvPr/>
        </p:nvSpPr>
        <p:spPr>
          <a:xfrm>
            <a:off x="0" y="324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5" name="Group 2"/>
          <p:cNvGrpSpPr/>
          <p:nvPr/>
        </p:nvGrpSpPr>
        <p:grpSpPr>
          <a:xfrm>
            <a:off x="719280" y="360360"/>
            <a:ext cx="8818560" cy="6657480"/>
            <a:chOff x="719280" y="360360"/>
            <a:chExt cx="8818560" cy="6657480"/>
          </a:xfrm>
        </p:grpSpPr>
        <p:sp>
          <p:nvSpPr>
            <p:cNvPr id="1486" name="Text Box 3"/>
            <p:cNvSpPr/>
            <p:nvPr/>
          </p:nvSpPr>
          <p:spPr>
            <a:xfrm>
              <a:off x="719280" y="1978920"/>
              <a:ext cx="4409280" cy="265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падная 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Text Box 4"/>
            <p:cNvSpPr/>
            <p:nvPr/>
          </p:nvSpPr>
          <p:spPr>
            <a:xfrm>
              <a:off x="5128560" y="1978920"/>
              <a:ext cx="4409280" cy="265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позитивизм; Психоанализ; Структурализм; Прагматизм; Неоклассицизм; Постмодернизм; Герменевтика; Сциентизм  и техницизм; Неотомизм; Религиозно-мистический синкретизм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Text Box 5"/>
            <p:cNvSpPr/>
            <p:nvPr/>
          </p:nvSpPr>
          <p:spPr>
            <a:xfrm>
              <a:off x="719280" y="360360"/>
              <a:ext cx="4409280" cy="1620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сточная фил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Text Box 6"/>
            <p:cNvSpPr/>
            <p:nvPr/>
          </p:nvSpPr>
          <p:spPr>
            <a:xfrm>
              <a:off x="719280" y="4508640"/>
              <a:ext cx="4409280" cy="2509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чения, идейно близкие эзотерической традиции познания –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и «сокровенной мудрости» (оказывают влияние как на восточную, так и на западную философию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Text Box 7"/>
            <p:cNvSpPr/>
            <p:nvPr/>
          </p:nvSpPr>
          <p:spPr>
            <a:xfrm>
              <a:off x="5128560" y="360360"/>
              <a:ext cx="4409280" cy="1620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ддизм; Неоиндуизм, Философия йоги; Исламская философия; Религиозно-мистический синкретиз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Text Box 8"/>
            <p:cNvSpPr/>
            <p:nvPr/>
          </p:nvSpPr>
          <p:spPr>
            <a:xfrm>
              <a:off x="5128560" y="4508640"/>
              <a:ext cx="4409280" cy="2509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вая этика (анги-йога) теософ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Text Box 1"/>
          <p:cNvSpPr/>
          <p:nvPr/>
        </p:nvSpPr>
        <p:spPr>
          <a:xfrm>
            <a:off x="903240" y="2700360"/>
            <a:ext cx="8461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ШКОЛЫ И ТЕЧЕНИЯ ЗАПАДНОЙ ПОСТКЛАССИЧЕСКОЙ ФИЛОСОФ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IX-XX вв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1"/>
          <p:cNvSpPr/>
          <p:nvPr/>
        </p:nvSpPr>
        <p:spPr>
          <a:xfrm>
            <a:off x="0" y="324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4" name="Group 2"/>
          <p:cNvGrpSpPr/>
          <p:nvPr/>
        </p:nvGrpSpPr>
        <p:grpSpPr>
          <a:xfrm>
            <a:off x="655560" y="317520"/>
            <a:ext cx="9064440" cy="6700680"/>
            <a:chOff x="655560" y="317520"/>
            <a:chExt cx="9064440" cy="6700680"/>
          </a:xfrm>
        </p:grpSpPr>
        <p:grpSp>
          <p:nvGrpSpPr>
            <p:cNvPr id="1495" name="Group 3"/>
            <p:cNvGrpSpPr/>
            <p:nvPr/>
          </p:nvGrpSpPr>
          <p:grpSpPr>
            <a:xfrm>
              <a:off x="655560" y="317520"/>
              <a:ext cx="9064440" cy="687240"/>
              <a:chOff x="655560" y="317520"/>
              <a:chExt cx="9064440" cy="687240"/>
            </a:xfrm>
          </p:grpSpPr>
          <p:sp>
            <p:nvSpPr>
              <p:cNvPr id="1496" name="Text Box 4"/>
              <p:cNvSpPr/>
              <p:nvPr/>
            </p:nvSpPr>
            <p:spPr>
              <a:xfrm>
                <a:off x="655560" y="317520"/>
                <a:ext cx="4531680" cy="687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жизн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Text Box 5"/>
              <p:cNvSpPr/>
              <p:nvPr/>
            </p:nvSpPr>
            <p:spPr>
              <a:xfrm>
                <a:off x="5187240" y="317520"/>
                <a:ext cx="4532760" cy="687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Шопенгауэр, Ницше, Бергсон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8" name="Group 6"/>
            <p:cNvGrpSpPr/>
            <p:nvPr/>
          </p:nvGrpSpPr>
          <p:grpSpPr>
            <a:xfrm>
              <a:off x="655560" y="957240"/>
              <a:ext cx="9064440" cy="687240"/>
              <a:chOff x="655560" y="957240"/>
              <a:chExt cx="9064440" cy="687240"/>
            </a:xfrm>
          </p:grpSpPr>
          <p:sp>
            <p:nvSpPr>
              <p:cNvPr id="1499" name="Text Box 7"/>
              <p:cNvSpPr/>
              <p:nvPr/>
            </p:nvSpPr>
            <p:spPr>
              <a:xfrm>
                <a:off x="655560" y="957240"/>
                <a:ext cx="4531680" cy="687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еотом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Text Box 8"/>
              <p:cNvSpPr/>
              <p:nvPr/>
            </p:nvSpPr>
            <p:spPr>
              <a:xfrm>
                <a:off x="5187240" y="957240"/>
                <a:ext cx="4532760" cy="687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Жильсон, Маритен, Мерсь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1" name="Group 9"/>
            <p:cNvGrpSpPr/>
            <p:nvPr/>
          </p:nvGrpSpPr>
          <p:grpSpPr>
            <a:xfrm>
              <a:off x="655560" y="1595520"/>
              <a:ext cx="9064440" cy="901440"/>
              <a:chOff x="655560" y="1595520"/>
              <a:chExt cx="9064440" cy="901440"/>
            </a:xfrm>
          </p:grpSpPr>
          <p:sp>
            <p:nvSpPr>
              <p:cNvPr id="1502" name="Text Box 10"/>
              <p:cNvSpPr/>
              <p:nvPr/>
            </p:nvSpPr>
            <p:spPr>
              <a:xfrm>
                <a:off x="655560" y="1595520"/>
                <a:ext cx="4531680" cy="90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еософ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Text Box 11"/>
              <p:cNvSpPr/>
              <p:nvPr/>
            </p:nvSpPr>
            <p:spPr>
              <a:xfrm>
                <a:off x="5187240" y="1595520"/>
                <a:ext cx="4532760" cy="90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лаватская. Синнет, Безант, Ла-Дью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4" name="Group 12"/>
            <p:cNvGrpSpPr/>
            <p:nvPr/>
          </p:nvGrpSpPr>
          <p:grpSpPr>
            <a:xfrm>
              <a:off x="655560" y="2496960"/>
              <a:ext cx="9064440" cy="638280"/>
              <a:chOff x="655560" y="2496960"/>
              <a:chExt cx="9064440" cy="638280"/>
            </a:xfrm>
          </p:grpSpPr>
          <p:sp>
            <p:nvSpPr>
              <p:cNvPr id="1505" name="Text Box 13"/>
              <p:cNvSpPr/>
              <p:nvPr/>
            </p:nvSpPr>
            <p:spPr>
              <a:xfrm>
                <a:off x="655560" y="2496960"/>
                <a:ext cx="4531680" cy="63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тропософ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Text Box 14"/>
              <p:cNvSpPr/>
              <p:nvPr/>
            </p:nvSpPr>
            <p:spPr>
              <a:xfrm>
                <a:off x="5187240" y="2496960"/>
                <a:ext cx="4532760" cy="63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Штейнер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7" name="Group 15"/>
            <p:cNvGrpSpPr/>
            <p:nvPr/>
          </p:nvGrpSpPr>
          <p:grpSpPr>
            <a:xfrm>
              <a:off x="655560" y="3086280"/>
              <a:ext cx="9064440" cy="901440"/>
              <a:chOff x="655560" y="3086280"/>
              <a:chExt cx="9064440" cy="901440"/>
            </a:xfrm>
          </p:grpSpPr>
          <p:sp>
            <p:nvSpPr>
              <p:cNvPr id="1508" name="Text Box 16"/>
              <p:cNvSpPr/>
              <p:nvPr/>
            </p:nvSpPr>
            <p:spPr>
              <a:xfrm>
                <a:off x="655560" y="3086280"/>
                <a:ext cx="4531680" cy="90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кзистенциал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Text Box 17"/>
              <p:cNvSpPr/>
              <p:nvPr/>
            </p:nvSpPr>
            <p:spPr>
              <a:xfrm>
                <a:off x="5187240" y="3086280"/>
                <a:ext cx="4532760" cy="90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ьеркегор, Камю, Сартр, Ясперс, Хайдеггер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Group 18"/>
            <p:cNvGrpSpPr/>
            <p:nvPr/>
          </p:nvGrpSpPr>
          <p:grpSpPr>
            <a:xfrm>
              <a:off x="655560" y="3987720"/>
              <a:ext cx="9064440" cy="687600"/>
              <a:chOff x="655560" y="3987720"/>
              <a:chExt cx="9064440" cy="687600"/>
            </a:xfrm>
          </p:grpSpPr>
          <p:sp>
            <p:nvSpPr>
              <p:cNvPr id="1511" name="Text Box 19"/>
              <p:cNvSpPr/>
              <p:nvPr/>
            </p:nvSpPr>
            <p:spPr>
              <a:xfrm>
                <a:off x="655560" y="3987720"/>
                <a:ext cx="4531680" cy="687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сихоанализ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Text Box 20"/>
              <p:cNvSpPr/>
              <p:nvPr/>
            </p:nvSpPr>
            <p:spPr>
              <a:xfrm>
                <a:off x="5187240" y="3987720"/>
                <a:ext cx="4532760" cy="687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рейд, Адлер, Юнг, Фром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3" name="Group 21"/>
            <p:cNvGrpSpPr/>
            <p:nvPr/>
          </p:nvGrpSpPr>
          <p:grpSpPr>
            <a:xfrm>
              <a:off x="655560" y="4627440"/>
              <a:ext cx="9064440" cy="901800"/>
              <a:chOff x="655560" y="4627440"/>
              <a:chExt cx="9064440" cy="901800"/>
            </a:xfrm>
          </p:grpSpPr>
          <p:sp>
            <p:nvSpPr>
              <p:cNvPr id="1514" name="Text Box 22"/>
              <p:cNvSpPr/>
              <p:nvPr/>
            </p:nvSpPr>
            <p:spPr>
              <a:xfrm>
                <a:off x="655560" y="4627440"/>
                <a:ext cx="4531680" cy="901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еортодоксальная религиозная философ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Text Box 23"/>
              <p:cNvSpPr/>
              <p:nvPr/>
            </p:nvSpPr>
            <p:spPr>
              <a:xfrm>
                <a:off x="5187240" y="4627440"/>
                <a:ext cx="4532760" cy="901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ейяр де Шарден, Бубер, Генон, Бультман, Теллих, Кокс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6" name="Group 24"/>
            <p:cNvGrpSpPr/>
            <p:nvPr/>
          </p:nvGrpSpPr>
          <p:grpSpPr>
            <a:xfrm>
              <a:off x="655560" y="5478480"/>
              <a:ext cx="9064440" cy="851040"/>
              <a:chOff x="655560" y="5478480"/>
              <a:chExt cx="9064440" cy="851040"/>
            </a:xfrm>
          </p:grpSpPr>
          <p:sp>
            <p:nvSpPr>
              <p:cNvPr id="1517" name="Text Box 25"/>
              <p:cNvSpPr/>
              <p:nvPr/>
            </p:nvSpPr>
            <p:spPr>
              <a:xfrm>
                <a:off x="655560" y="5478480"/>
                <a:ext cx="4531680" cy="851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усская религиозная философия западного зарубежь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Text Box 26"/>
              <p:cNvSpPr/>
              <p:nvPr/>
            </p:nvSpPr>
            <p:spPr>
              <a:xfrm>
                <a:off x="5187240" y="5478480"/>
                <a:ext cx="4532760" cy="851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ердяев, Шестов, Булгаков, Франк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9" name="Group 27"/>
            <p:cNvGrpSpPr/>
            <p:nvPr/>
          </p:nvGrpSpPr>
          <p:grpSpPr>
            <a:xfrm>
              <a:off x="655560" y="6330960"/>
              <a:ext cx="9064440" cy="687240"/>
              <a:chOff x="655560" y="6330960"/>
              <a:chExt cx="9064440" cy="687240"/>
            </a:xfrm>
          </p:grpSpPr>
          <p:sp>
            <p:nvSpPr>
              <p:cNvPr id="1520" name="Text Box 28"/>
              <p:cNvSpPr/>
              <p:nvPr/>
            </p:nvSpPr>
            <p:spPr>
              <a:xfrm>
                <a:off x="655560" y="6330960"/>
                <a:ext cx="4531680" cy="687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агмат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Text Box 29"/>
              <p:cNvSpPr/>
              <p:nvPr/>
            </p:nvSpPr>
            <p:spPr>
              <a:xfrm>
                <a:off x="5187240" y="6330960"/>
                <a:ext cx="4532760" cy="687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ирс, Джемс, Дьюи, Хук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1"/>
          <p:cNvSpPr/>
          <p:nvPr/>
        </p:nvSpPr>
        <p:spPr>
          <a:xfrm>
            <a:off x="0" y="324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3" name="Group 2"/>
          <p:cNvGrpSpPr/>
          <p:nvPr/>
        </p:nvGrpSpPr>
        <p:grpSpPr>
          <a:xfrm>
            <a:off x="539640" y="179280"/>
            <a:ext cx="9178560" cy="7021800"/>
            <a:chOff x="539640" y="179280"/>
            <a:chExt cx="9178560" cy="7021800"/>
          </a:xfrm>
        </p:grpSpPr>
        <p:grpSp>
          <p:nvGrpSpPr>
            <p:cNvPr id="1524" name="Group 3"/>
            <p:cNvGrpSpPr/>
            <p:nvPr/>
          </p:nvGrpSpPr>
          <p:grpSpPr>
            <a:xfrm>
              <a:off x="539640" y="179280"/>
              <a:ext cx="9178560" cy="2466720"/>
              <a:chOff x="539640" y="179280"/>
              <a:chExt cx="9178560" cy="2466720"/>
            </a:xfrm>
          </p:grpSpPr>
          <p:sp>
            <p:nvSpPr>
              <p:cNvPr id="1525" name="Text Box 4"/>
              <p:cNvSpPr/>
              <p:nvPr/>
            </p:nvSpPr>
            <p:spPr>
              <a:xfrm>
                <a:off x="539640" y="179280"/>
                <a:ext cx="2777400" cy="2465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зитив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Text Box 5"/>
              <p:cNvSpPr/>
              <p:nvPr/>
            </p:nvSpPr>
            <p:spPr>
              <a:xfrm>
                <a:off x="3315600" y="179280"/>
                <a:ext cx="2593080" cy="805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ервый позитив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Text Box 6"/>
              <p:cNvSpPr/>
              <p:nvPr/>
            </p:nvSpPr>
            <p:spPr>
              <a:xfrm>
                <a:off x="5877360" y="179280"/>
                <a:ext cx="3840840" cy="805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, Спенсер, Милль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Text Box 7"/>
              <p:cNvSpPr/>
              <p:nvPr/>
            </p:nvSpPr>
            <p:spPr>
              <a:xfrm>
                <a:off x="3315600" y="950040"/>
                <a:ext cx="2593080" cy="806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торой позитив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Text Box 8"/>
              <p:cNvSpPr/>
              <p:nvPr/>
            </p:nvSpPr>
            <p:spPr>
              <a:xfrm>
                <a:off x="5877360" y="950040"/>
                <a:ext cx="3840840" cy="806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х, Авенариус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Text Box 9"/>
              <p:cNvSpPr/>
              <p:nvPr/>
            </p:nvSpPr>
            <p:spPr>
              <a:xfrm>
                <a:off x="3315600" y="1721520"/>
                <a:ext cx="2593080" cy="924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еопозитив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Text Box 10"/>
              <p:cNvSpPr/>
              <p:nvPr/>
            </p:nvSpPr>
            <p:spPr>
              <a:xfrm>
                <a:off x="5877360" y="1721520"/>
                <a:ext cx="3840840" cy="924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Шлих, Карнап, Нейрат, Рассел, Витгенштейн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2" name="Group 11"/>
            <p:cNvGrpSpPr/>
            <p:nvPr/>
          </p:nvGrpSpPr>
          <p:grpSpPr>
            <a:xfrm>
              <a:off x="539640" y="2646360"/>
              <a:ext cx="9178560" cy="568440"/>
              <a:chOff x="539640" y="2646360"/>
              <a:chExt cx="9178560" cy="568440"/>
            </a:xfrm>
          </p:grpSpPr>
          <p:sp>
            <p:nvSpPr>
              <p:cNvPr id="1533" name="Text Box 12"/>
              <p:cNvSpPr/>
              <p:nvPr/>
            </p:nvSpPr>
            <p:spPr>
              <a:xfrm>
                <a:off x="539640" y="2646360"/>
                <a:ext cx="4590000" cy="568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еопрагмат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Text Box 13"/>
              <p:cNvSpPr/>
              <p:nvPr/>
            </p:nvSpPr>
            <p:spPr>
              <a:xfrm>
                <a:off x="5128200" y="2646360"/>
                <a:ext cx="4590000" cy="568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эйн, Гудмен, Рорти, Решер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5" name="Group 14"/>
            <p:cNvGrpSpPr/>
            <p:nvPr/>
          </p:nvGrpSpPr>
          <p:grpSpPr>
            <a:xfrm>
              <a:off x="539640" y="3216240"/>
              <a:ext cx="9178560" cy="757440"/>
              <a:chOff x="539640" y="3216240"/>
              <a:chExt cx="9178560" cy="757440"/>
            </a:xfrm>
          </p:grpSpPr>
          <p:sp>
            <p:nvSpPr>
              <p:cNvPr id="1536" name="Text Box 15"/>
              <p:cNvSpPr/>
              <p:nvPr/>
            </p:nvSpPr>
            <p:spPr>
              <a:xfrm>
                <a:off x="539640" y="3216240"/>
                <a:ext cx="4590000" cy="757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ерсонал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Text Box 16"/>
              <p:cNvSpPr/>
              <p:nvPr/>
            </p:nvSpPr>
            <p:spPr>
              <a:xfrm>
                <a:off x="5128200" y="3216240"/>
                <a:ext cx="4590000" cy="757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ердяев, Шестов, Боун, Ройс, Мунье, Лакру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8" name="Group 17"/>
            <p:cNvGrpSpPr/>
            <p:nvPr/>
          </p:nvGrpSpPr>
          <p:grpSpPr>
            <a:xfrm>
              <a:off x="539640" y="3975120"/>
              <a:ext cx="9178560" cy="568440"/>
              <a:chOff x="539640" y="3975120"/>
              <a:chExt cx="9178560" cy="568440"/>
            </a:xfrm>
          </p:grpSpPr>
          <p:sp>
            <p:nvSpPr>
              <p:cNvPr id="1539" name="Text Box 18"/>
              <p:cNvSpPr/>
              <p:nvPr/>
            </p:nvSpPr>
            <p:spPr>
              <a:xfrm>
                <a:off x="539640" y="3975120"/>
                <a:ext cx="4590000" cy="568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еноменолог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Text Box 19"/>
              <p:cNvSpPr/>
              <p:nvPr/>
            </p:nvSpPr>
            <p:spPr>
              <a:xfrm>
                <a:off x="5128200" y="3975120"/>
                <a:ext cx="4590000" cy="568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уссерль и его последовател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1" name="Group 20"/>
            <p:cNvGrpSpPr/>
            <p:nvPr/>
          </p:nvGrpSpPr>
          <p:grpSpPr>
            <a:xfrm>
              <a:off x="539640" y="4543560"/>
              <a:ext cx="9178560" cy="568080"/>
              <a:chOff x="539640" y="4543560"/>
              <a:chExt cx="9178560" cy="568080"/>
            </a:xfrm>
          </p:grpSpPr>
          <p:sp>
            <p:nvSpPr>
              <p:cNvPr id="1542" name="Text Box 21"/>
              <p:cNvSpPr/>
              <p:nvPr/>
            </p:nvSpPr>
            <p:spPr>
              <a:xfrm>
                <a:off x="539640" y="4543560"/>
                <a:ext cx="4590000" cy="568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ская антрополог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Text Box 22"/>
              <p:cNvSpPr/>
              <p:nvPr/>
            </p:nvSpPr>
            <p:spPr>
              <a:xfrm>
                <a:off x="5128200" y="4543560"/>
                <a:ext cx="4590000" cy="568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Шелер, Гелен, Плеснер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4" name="Group 23"/>
            <p:cNvGrpSpPr/>
            <p:nvPr/>
          </p:nvGrpSpPr>
          <p:grpSpPr>
            <a:xfrm>
              <a:off x="539640" y="5113440"/>
              <a:ext cx="9178560" cy="757080"/>
              <a:chOff x="539640" y="5113440"/>
              <a:chExt cx="9178560" cy="757080"/>
            </a:xfrm>
          </p:grpSpPr>
          <p:sp>
            <p:nvSpPr>
              <p:cNvPr id="1545" name="Text Box 24"/>
              <p:cNvSpPr/>
              <p:nvPr/>
            </p:nvSpPr>
            <p:spPr>
              <a:xfrm>
                <a:off x="539640" y="5113440"/>
                <a:ext cx="4590000" cy="757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еокантианств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Text Box 25"/>
              <p:cNvSpPr/>
              <p:nvPr/>
            </p:nvSpPr>
            <p:spPr>
              <a:xfrm>
                <a:off x="5128200" y="5113440"/>
                <a:ext cx="4590000" cy="757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ген, Наторп, Виндельбанд, Риккер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7" name="Group 26"/>
            <p:cNvGrpSpPr/>
            <p:nvPr/>
          </p:nvGrpSpPr>
          <p:grpSpPr>
            <a:xfrm>
              <a:off x="539640" y="5872320"/>
              <a:ext cx="9178560" cy="377640"/>
              <a:chOff x="539640" y="5872320"/>
              <a:chExt cx="9178560" cy="377640"/>
            </a:xfrm>
          </p:grpSpPr>
          <p:sp>
            <p:nvSpPr>
              <p:cNvPr id="1548" name="Text Box 27"/>
              <p:cNvSpPr/>
              <p:nvPr/>
            </p:nvSpPr>
            <p:spPr>
              <a:xfrm>
                <a:off x="539640" y="5872320"/>
                <a:ext cx="4590000" cy="377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еогегельянств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Text Box 28"/>
              <p:cNvSpPr/>
              <p:nvPr/>
            </p:nvSpPr>
            <p:spPr>
              <a:xfrm>
                <a:off x="5128200" y="5872320"/>
                <a:ext cx="4590000" cy="377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терлинг, Кэрд, Бредли, Ройс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0" name="Group 29"/>
            <p:cNvGrpSpPr/>
            <p:nvPr/>
          </p:nvGrpSpPr>
          <p:grpSpPr>
            <a:xfrm>
              <a:off x="539640" y="6251400"/>
              <a:ext cx="9178560" cy="949680"/>
              <a:chOff x="539640" y="6251400"/>
              <a:chExt cx="9178560" cy="949680"/>
            </a:xfrm>
          </p:grpSpPr>
          <p:sp>
            <p:nvSpPr>
              <p:cNvPr id="1551" name="Text Box 30"/>
              <p:cNvSpPr/>
              <p:nvPr/>
            </p:nvSpPr>
            <p:spPr>
              <a:xfrm>
                <a:off x="539640" y="6251400"/>
                <a:ext cx="4590000" cy="94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ркс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Text Box 31"/>
              <p:cNvSpPr/>
              <p:nvPr/>
            </p:nvSpPr>
            <p:spPr>
              <a:xfrm>
                <a:off x="5128200" y="6251400"/>
                <a:ext cx="4590000" cy="94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ркс, Энгельс, Хоркхаймер, Маркузе, Леферв, Адорно, Сартр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Rectangle 1"/>
          <p:cNvSpPr/>
          <p:nvPr/>
        </p:nvSpPr>
        <p:spPr>
          <a:xfrm>
            <a:off x="0" y="324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4" name="Group 2"/>
          <p:cNvGrpSpPr/>
          <p:nvPr/>
        </p:nvGrpSpPr>
        <p:grpSpPr>
          <a:xfrm>
            <a:off x="539640" y="360360"/>
            <a:ext cx="9178560" cy="6838920"/>
            <a:chOff x="539640" y="360360"/>
            <a:chExt cx="9178560" cy="6838920"/>
          </a:xfrm>
        </p:grpSpPr>
        <p:grpSp>
          <p:nvGrpSpPr>
            <p:cNvPr id="1555" name="Group 3"/>
            <p:cNvGrpSpPr/>
            <p:nvPr/>
          </p:nvGrpSpPr>
          <p:grpSpPr>
            <a:xfrm>
              <a:off x="539640" y="360360"/>
              <a:ext cx="9178560" cy="787320"/>
              <a:chOff x="539640" y="360360"/>
              <a:chExt cx="9178560" cy="787320"/>
            </a:xfrm>
          </p:grpSpPr>
          <p:sp>
            <p:nvSpPr>
              <p:cNvPr id="1556" name="Text Box 4"/>
              <p:cNvSpPr/>
              <p:nvPr/>
            </p:nvSpPr>
            <p:spPr>
              <a:xfrm>
                <a:off x="539640" y="360360"/>
                <a:ext cx="4590000" cy="787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чение «живая этика»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Text Box 5"/>
              <p:cNvSpPr/>
              <p:nvPr/>
            </p:nvSpPr>
            <p:spPr>
              <a:xfrm>
                <a:off x="5128200" y="360360"/>
                <a:ext cx="4590000" cy="787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рихи и последовател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8" name="Group 6"/>
            <p:cNvGrpSpPr/>
            <p:nvPr/>
          </p:nvGrpSpPr>
          <p:grpSpPr>
            <a:xfrm>
              <a:off x="539640" y="1149480"/>
              <a:ext cx="9178560" cy="788760"/>
              <a:chOff x="539640" y="1149480"/>
              <a:chExt cx="9178560" cy="788760"/>
            </a:xfrm>
          </p:grpSpPr>
          <p:sp>
            <p:nvSpPr>
              <p:cNvPr id="1559" name="Text Box 7"/>
              <p:cNvSpPr/>
              <p:nvPr/>
            </p:nvSpPr>
            <p:spPr>
              <a:xfrm>
                <a:off x="539640" y="1149480"/>
                <a:ext cx="4590000" cy="788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наук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Text Box 8"/>
              <p:cNvSpPr/>
              <p:nvPr/>
            </p:nvSpPr>
            <p:spPr>
              <a:xfrm>
                <a:off x="5128200" y="1149480"/>
                <a:ext cx="4590000" cy="788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ппер, Кун, Лакатос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1" name="Group 9"/>
            <p:cNvGrpSpPr/>
            <p:nvPr/>
          </p:nvGrpSpPr>
          <p:grpSpPr>
            <a:xfrm>
              <a:off x="539640" y="1938240"/>
              <a:ext cx="9178560" cy="1051200"/>
              <a:chOff x="539640" y="1938240"/>
              <a:chExt cx="9178560" cy="1051200"/>
            </a:xfrm>
          </p:grpSpPr>
          <p:sp>
            <p:nvSpPr>
              <p:cNvPr id="1562" name="Text Box 10"/>
              <p:cNvSpPr/>
              <p:nvPr/>
            </p:nvSpPr>
            <p:spPr>
              <a:xfrm>
                <a:off x="539640" y="1938240"/>
                <a:ext cx="4590000" cy="1051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истори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Text Box 11"/>
              <p:cNvSpPr/>
              <p:nvPr/>
            </p:nvSpPr>
            <p:spPr>
              <a:xfrm>
                <a:off x="5128200" y="1938240"/>
                <a:ext cx="4590000" cy="1051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Шпенглер, Сорокин, Ясперс, Тойнб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4" name="Group 12"/>
            <p:cNvGrpSpPr/>
            <p:nvPr/>
          </p:nvGrpSpPr>
          <p:grpSpPr>
            <a:xfrm>
              <a:off x="539640" y="2990880"/>
              <a:ext cx="9178560" cy="1052640"/>
              <a:chOff x="539640" y="2990880"/>
              <a:chExt cx="9178560" cy="1052640"/>
            </a:xfrm>
          </p:grpSpPr>
          <p:sp>
            <p:nvSpPr>
              <p:cNvPr id="1565" name="Text Box 13"/>
              <p:cNvSpPr/>
              <p:nvPr/>
            </p:nvSpPr>
            <p:spPr>
              <a:xfrm>
                <a:off x="539640" y="2990880"/>
                <a:ext cx="4590000" cy="105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труктурал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Text Box 14"/>
              <p:cNvSpPr/>
              <p:nvPr/>
            </p:nvSpPr>
            <p:spPr>
              <a:xfrm>
                <a:off x="5128200" y="2990880"/>
                <a:ext cx="4590000" cy="105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еви-Строс, Альтюссер, Фуко, Деррида, Лакан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7" name="Group 15"/>
            <p:cNvGrpSpPr/>
            <p:nvPr/>
          </p:nvGrpSpPr>
          <p:grpSpPr>
            <a:xfrm>
              <a:off x="539640" y="4043520"/>
              <a:ext cx="9178560" cy="1050840"/>
              <a:chOff x="539640" y="4043520"/>
              <a:chExt cx="9178560" cy="1050840"/>
            </a:xfrm>
          </p:grpSpPr>
          <p:sp>
            <p:nvSpPr>
              <p:cNvPr id="1568" name="Text Box 16"/>
              <p:cNvSpPr/>
              <p:nvPr/>
            </p:nvSpPr>
            <p:spPr>
              <a:xfrm>
                <a:off x="539640" y="4043520"/>
                <a:ext cx="4590000" cy="1050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циентиз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Text Box 17"/>
              <p:cNvSpPr/>
              <p:nvPr/>
            </p:nvSpPr>
            <p:spPr>
              <a:xfrm>
                <a:off x="5128200" y="4043520"/>
                <a:ext cx="4590000" cy="1050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остоу, Белл, Тофлер, Масуда, Несби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0" name="Group 18"/>
            <p:cNvGrpSpPr/>
            <p:nvPr/>
          </p:nvGrpSpPr>
          <p:grpSpPr>
            <a:xfrm>
              <a:off x="539640" y="5095800"/>
              <a:ext cx="9178560" cy="789120"/>
              <a:chOff x="539640" y="5095800"/>
              <a:chExt cx="9178560" cy="789120"/>
            </a:xfrm>
          </p:grpSpPr>
          <p:sp>
            <p:nvSpPr>
              <p:cNvPr id="1571" name="Text Box 19"/>
              <p:cNvSpPr/>
              <p:nvPr/>
            </p:nvSpPr>
            <p:spPr>
              <a:xfrm>
                <a:off x="539640" y="5095800"/>
                <a:ext cx="4590000" cy="78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инергетик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Text Box 20"/>
              <p:cNvSpPr/>
              <p:nvPr/>
            </p:nvSpPr>
            <p:spPr>
              <a:xfrm>
                <a:off x="5128200" y="5095800"/>
                <a:ext cx="4590000" cy="78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акен, Пригожин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3" name="Group 21"/>
            <p:cNvGrpSpPr/>
            <p:nvPr/>
          </p:nvGrpSpPr>
          <p:grpSpPr>
            <a:xfrm>
              <a:off x="539640" y="5884920"/>
              <a:ext cx="9178560" cy="1314360"/>
              <a:chOff x="539640" y="5884920"/>
              <a:chExt cx="9178560" cy="1314360"/>
            </a:xfrm>
          </p:grpSpPr>
          <p:sp>
            <p:nvSpPr>
              <p:cNvPr id="1574" name="Text Box 22"/>
              <p:cNvSpPr/>
              <p:nvPr/>
            </p:nvSpPr>
            <p:spPr>
              <a:xfrm>
                <a:off x="539640" y="5884920"/>
                <a:ext cx="4590000" cy="1314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литическая философ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Text Box 23"/>
              <p:cNvSpPr/>
              <p:nvPr/>
            </p:nvSpPr>
            <p:spPr>
              <a:xfrm>
                <a:off x="5128200" y="5884920"/>
                <a:ext cx="4590000" cy="1314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олс, Нозик, Новак, Бжезинский, Киссинджер, Пиментел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1"/>
          <p:cNvGrpSpPr/>
          <p:nvPr/>
        </p:nvGrpSpPr>
        <p:grpSpPr>
          <a:xfrm>
            <a:off x="1079640" y="317520"/>
            <a:ext cx="8280360" cy="6700320"/>
            <a:chOff x="1079640" y="317520"/>
            <a:chExt cx="8280360" cy="6700320"/>
          </a:xfrm>
        </p:grpSpPr>
        <p:sp>
          <p:nvSpPr>
            <p:cNvPr id="1577" name="Line 2"/>
            <p:cNvSpPr/>
            <p:nvPr/>
          </p:nvSpPr>
          <p:spPr>
            <a:xfrm>
              <a:off x="5040360" y="1260360"/>
              <a:ext cx="1440" cy="54007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AutoShape 3"/>
            <p:cNvSpPr/>
            <p:nvPr/>
          </p:nvSpPr>
          <p:spPr>
            <a:xfrm>
              <a:off x="3780000" y="3213000"/>
              <a:ext cx="2520720" cy="208080"/>
            </a:xfrm>
            <a:prstGeom prst="leftRightArrow">
              <a:avLst>
                <a:gd name="adj1" fmla="val 50000"/>
                <a:gd name="adj2" fmla="val 24116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Text Box 4"/>
            <p:cNvSpPr/>
            <p:nvPr/>
          </p:nvSpPr>
          <p:spPr>
            <a:xfrm>
              <a:off x="1079640" y="317520"/>
              <a:ext cx="8100720" cy="9428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ррационалистическая тенденция в Западной философии XIX-XX вв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0" name="Group 5"/>
            <p:cNvGrpSpPr/>
            <p:nvPr/>
          </p:nvGrpSpPr>
          <p:grpSpPr>
            <a:xfrm>
              <a:off x="1079640" y="1757520"/>
              <a:ext cx="2698560" cy="761400"/>
              <a:chOff x="1079640" y="1757520"/>
              <a:chExt cx="2698560" cy="761400"/>
            </a:xfrm>
          </p:grpSpPr>
          <p:sp>
            <p:nvSpPr>
              <p:cNvPr id="1581" name="Text Box 6"/>
              <p:cNvSpPr/>
              <p:nvPr/>
            </p:nvSpPr>
            <p:spPr>
              <a:xfrm>
                <a:off x="1079640" y="1757520"/>
                <a:ext cx="2698560" cy="395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Воля к жизни»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Text Box 7"/>
              <p:cNvSpPr/>
              <p:nvPr/>
            </p:nvSpPr>
            <p:spPr>
              <a:xfrm>
                <a:off x="1079640" y="2122920"/>
                <a:ext cx="2698560" cy="39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Шопенгауер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3" name="Group 8"/>
            <p:cNvGrpSpPr/>
            <p:nvPr/>
          </p:nvGrpSpPr>
          <p:grpSpPr>
            <a:xfrm>
              <a:off x="1079640" y="3060720"/>
              <a:ext cx="2698560" cy="718920"/>
              <a:chOff x="1079640" y="3060720"/>
              <a:chExt cx="2698560" cy="718920"/>
            </a:xfrm>
          </p:grpSpPr>
          <p:sp>
            <p:nvSpPr>
              <p:cNvPr id="1584" name="Text Box 9"/>
              <p:cNvSpPr/>
              <p:nvPr/>
            </p:nvSpPr>
            <p:spPr>
              <a:xfrm>
                <a:off x="1079640" y="3060720"/>
                <a:ext cx="2698560" cy="373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Воля к власти»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Text Box 10"/>
              <p:cNvSpPr/>
              <p:nvPr/>
            </p:nvSpPr>
            <p:spPr>
              <a:xfrm>
                <a:off x="1079640" y="3405960"/>
                <a:ext cx="2698560" cy="373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ицше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6" name="Group 11"/>
            <p:cNvGrpSpPr/>
            <p:nvPr/>
          </p:nvGrpSpPr>
          <p:grpSpPr>
            <a:xfrm>
              <a:off x="1079640" y="4319640"/>
              <a:ext cx="2698560" cy="1617120"/>
              <a:chOff x="1079640" y="4319640"/>
              <a:chExt cx="2698560" cy="1617120"/>
            </a:xfrm>
          </p:grpSpPr>
          <p:sp>
            <p:nvSpPr>
              <p:cNvPr id="1587" name="Text Box 12"/>
              <p:cNvSpPr/>
              <p:nvPr/>
            </p:nvSpPr>
            <p:spPr>
              <a:xfrm>
                <a:off x="1079640" y="4319640"/>
                <a:ext cx="2698560" cy="1121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“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Жизненный порыв», «интуиция»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Text Box 13"/>
              <p:cNvSpPr/>
              <p:nvPr/>
            </p:nvSpPr>
            <p:spPr>
              <a:xfrm>
                <a:off x="1079640" y="5356440"/>
                <a:ext cx="2698560" cy="58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ергсон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9" name="Group 14"/>
            <p:cNvGrpSpPr/>
            <p:nvPr/>
          </p:nvGrpSpPr>
          <p:grpSpPr>
            <a:xfrm>
              <a:off x="6300720" y="1800360"/>
              <a:ext cx="3059280" cy="1077480"/>
              <a:chOff x="6300720" y="1800360"/>
              <a:chExt cx="3059280" cy="1077480"/>
            </a:xfrm>
          </p:grpSpPr>
          <p:sp>
            <p:nvSpPr>
              <p:cNvPr id="1590" name="Text Box 15"/>
              <p:cNvSpPr/>
              <p:nvPr/>
            </p:nvSpPr>
            <p:spPr>
              <a:xfrm>
                <a:off x="6300720" y="1800360"/>
                <a:ext cx="3059280" cy="746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“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Жизнь», «смерть», «страх», «вина»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Text Box 16"/>
              <p:cNvSpPr/>
              <p:nvPr/>
            </p:nvSpPr>
            <p:spPr>
              <a:xfrm>
                <a:off x="6300720" y="2491200"/>
                <a:ext cx="3059280" cy="386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ьеркегор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2" name="Group 17"/>
            <p:cNvGrpSpPr/>
            <p:nvPr/>
          </p:nvGrpSpPr>
          <p:grpSpPr>
            <a:xfrm>
              <a:off x="6300720" y="3060720"/>
              <a:ext cx="3059280" cy="1437840"/>
              <a:chOff x="6300720" y="3060720"/>
              <a:chExt cx="3059280" cy="1437840"/>
            </a:xfrm>
          </p:grpSpPr>
          <p:sp>
            <p:nvSpPr>
              <p:cNvPr id="1593" name="Text Box 18"/>
              <p:cNvSpPr/>
              <p:nvPr/>
            </p:nvSpPr>
            <p:spPr>
              <a:xfrm>
                <a:off x="6300720" y="3060720"/>
                <a:ext cx="3059280" cy="1121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“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уховная интуиция», «скрытые духовные силы»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Text Box 19"/>
              <p:cNvSpPr/>
              <p:nvPr/>
            </p:nvSpPr>
            <p:spPr>
              <a:xfrm>
                <a:off x="6300720" y="4097520"/>
                <a:ext cx="3059280" cy="401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лаватская, Штейнер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5" name="Group 20"/>
            <p:cNvGrpSpPr/>
            <p:nvPr/>
          </p:nvGrpSpPr>
          <p:grpSpPr>
            <a:xfrm>
              <a:off x="6300720" y="4680000"/>
              <a:ext cx="3059280" cy="898200"/>
              <a:chOff x="6300720" y="4680000"/>
              <a:chExt cx="3059280" cy="898200"/>
            </a:xfrm>
          </p:grpSpPr>
          <p:sp>
            <p:nvSpPr>
              <p:cNvPr id="1596" name="Text Box 21"/>
              <p:cNvSpPr/>
              <p:nvPr/>
            </p:nvSpPr>
            <p:spPr>
              <a:xfrm>
                <a:off x="6300720" y="4680000"/>
                <a:ext cx="3059280" cy="467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“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щущения»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Text Box 22"/>
              <p:cNvSpPr/>
              <p:nvPr/>
            </p:nvSpPr>
            <p:spPr>
              <a:xfrm>
                <a:off x="6300720" y="5112720"/>
                <a:ext cx="3059280" cy="46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х, Авенариус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8" name="Group 23"/>
            <p:cNvGrpSpPr/>
            <p:nvPr/>
          </p:nvGrpSpPr>
          <p:grpSpPr>
            <a:xfrm>
              <a:off x="6300720" y="5940360"/>
              <a:ext cx="3059280" cy="1077480"/>
              <a:chOff x="6300720" y="5940360"/>
              <a:chExt cx="3059280" cy="1077480"/>
            </a:xfrm>
          </p:grpSpPr>
          <p:sp>
            <p:nvSpPr>
              <p:cNvPr id="1599" name="Text Box 24"/>
              <p:cNvSpPr/>
              <p:nvPr/>
            </p:nvSpPr>
            <p:spPr>
              <a:xfrm>
                <a:off x="6300720" y="5940360"/>
                <a:ext cx="3059280" cy="746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“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ессознательное», «инстинкты»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Text Box 25"/>
              <p:cNvSpPr/>
              <p:nvPr/>
            </p:nvSpPr>
            <p:spPr>
              <a:xfrm>
                <a:off x="6300720" y="6631200"/>
                <a:ext cx="3059280" cy="386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рейд, Адлер, Юнг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1" name="AutoShape 26"/>
            <p:cNvSpPr/>
            <p:nvPr/>
          </p:nvSpPr>
          <p:spPr>
            <a:xfrm>
              <a:off x="3780000" y="5013360"/>
              <a:ext cx="2520720" cy="208080"/>
            </a:xfrm>
            <a:prstGeom prst="leftRightArrow">
              <a:avLst>
                <a:gd name="adj1" fmla="val 50000"/>
                <a:gd name="adj2" fmla="val 24116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AutoShape 27"/>
            <p:cNvSpPr/>
            <p:nvPr/>
          </p:nvSpPr>
          <p:spPr>
            <a:xfrm>
              <a:off x="3780000" y="1979640"/>
              <a:ext cx="2520720" cy="208080"/>
            </a:xfrm>
            <a:prstGeom prst="leftRightArrow">
              <a:avLst>
                <a:gd name="adj1" fmla="val 50000"/>
                <a:gd name="adj2" fmla="val 24116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AutoShape 28"/>
            <p:cNvSpPr/>
            <p:nvPr/>
          </p:nvSpPr>
          <p:spPr>
            <a:xfrm rot="16200000">
              <a:off x="5457600" y="6020640"/>
              <a:ext cx="343080" cy="1260720"/>
            </a:xfrm>
            <a:prstGeom prst="downArrow">
              <a:avLst>
                <a:gd name="adj1" fmla="val 50000"/>
                <a:gd name="adj2" fmla="val 91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AutoShape 1"/>
          <p:cNvSpPr/>
          <p:nvPr/>
        </p:nvSpPr>
        <p:spPr>
          <a:xfrm>
            <a:off x="1979640" y="2073240"/>
            <a:ext cx="3886200" cy="5486400"/>
          </a:xfrm>
          <a:custGeom>
            <a:avLst/>
            <a:gdLst>
              <a:gd name="textAreaLeft" fmla="*/ 360 w 3886200"/>
              <a:gd name="textAreaRight" fmla="*/ 3885840 w 3886200"/>
              <a:gd name="textAreaTop" fmla="*/ 360 h 5486400"/>
              <a:gd name="textAreaBottom" fmla="*/ 5486040 h 5486400"/>
            </a:gdLst>
            <a:ahLst/>
            <a:rect l="textAreaLeft" t="textAreaTop" r="textAreaRight" b="textAreaBottom"/>
            <a:pathLst>
              <a:path w="21600" h="30493">
                <a:moveTo>
                  <a:pt x="8" y="0"/>
                </a:moveTo>
                <a:arcTo wR="8" hR="8" stAng="16200000" swAng="-5400000"/>
                <a:lnTo>
                  <a:pt x="0" y="30485"/>
                </a:lnTo>
                <a:arcTo wR="8" hR="8" stAng="10800000" swAng="-5400000"/>
                <a:lnTo>
                  <a:pt x="21592" y="30493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5" name="Group 2"/>
          <p:cNvGrpSpPr/>
          <p:nvPr/>
        </p:nvGrpSpPr>
        <p:grpSpPr>
          <a:xfrm>
            <a:off x="539640" y="178920"/>
            <a:ext cx="8999280" cy="7201440"/>
            <a:chOff x="539640" y="178920"/>
            <a:chExt cx="8999280" cy="7201440"/>
          </a:xfrm>
        </p:grpSpPr>
        <p:sp>
          <p:nvSpPr>
            <p:cNvPr id="1606" name="Text Box 3"/>
            <p:cNvSpPr/>
            <p:nvPr/>
          </p:nvSpPr>
          <p:spPr>
            <a:xfrm rot="16200000">
              <a:off x="-2520360" y="3238920"/>
              <a:ext cx="720108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1440" bIns="9144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люнтаризм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универсальный принцип философии Шопенгауэра), согласно которому главной движущей силой, определяющей все в окружающем мире, является воля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Text Box 4"/>
            <p:cNvSpPr/>
            <p:nvPr/>
          </p:nvSpPr>
          <p:spPr>
            <a:xfrm>
              <a:off x="2339640" y="179280"/>
              <a:ext cx="7199280" cy="763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. Шопенгауер «Мир как воля и представление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Text Box 5"/>
            <p:cNvSpPr/>
            <p:nvPr/>
          </p:nvSpPr>
          <p:spPr>
            <a:xfrm>
              <a:off x="2339640" y="1079640"/>
              <a:ext cx="7199280" cy="162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ля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абсолютное начало, корень всего сущего, идеальная сила, способная определять все сущее и влиять на него. Воля таже есть высший космический принцип, который лежит в основе мироздания. Воля лежит в основе сознания и является всеобщей сущностью вещ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Text Box 6"/>
            <p:cNvSpPr/>
            <p:nvPr/>
          </p:nvSpPr>
          <p:spPr>
            <a:xfrm>
              <a:off x="1800000" y="2879640"/>
              <a:ext cx="7738920" cy="450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ружающий мир есть лишь мир представлений в сознании человека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щность же мира, его вещей, явлений есть не «вещь в себе», а воля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р явлений и мир сущности являются соответственно миром представлений и миром вол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 же, как воля человека определяет его поступки, так и действующая во всем мире всеобщая воля, воля предметов и явлений вызывает внешние события в мире, движение предметов, возникновение явлений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ля присуща не только живым организмам, но и неживой природе в виде “бессознательной”, “дремлющей” вол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ружающий мир по своей сущности есть реализация воли.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Line 7"/>
            <p:cNvSpPr/>
            <p:nvPr/>
          </p:nvSpPr>
          <p:spPr>
            <a:xfrm flipH="1">
              <a:off x="1577160" y="539640"/>
              <a:ext cx="803160" cy="7207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1"/>
          <p:cNvSpPr/>
          <p:nvPr/>
        </p:nvSpPr>
        <p:spPr>
          <a:xfrm>
            <a:off x="0" y="324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Group 2"/>
          <p:cNvGrpSpPr/>
          <p:nvPr/>
        </p:nvGrpSpPr>
        <p:grpSpPr>
          <a:xfrm>
            <a:off x="540720" y="179280"/>
            <a:ext cx="9000000" cy="7260840"/>
            <a:chOff x="540720" y="179280"/>
            <a:chExt cx="9000000" cy="7260840"/>
          </a:xfrm>
        </p:grpSpPr>
        <p:grpSp>
          <p:nvGrpSpPr>
            <p:cNvPr id="1613" name="Group 3"/>
            <p:cNvGrpSpPr/>
            <p:nvPr/>
          </p:nvGrpSpPr>
          <p:grpSpPr>
            <a:xfrm>
              <a:off x="540720" y="179280"/>
              <a:ext cx="9000000" cy="7260840"/>
              <a:chOff x="540720" y="179280"/>
              <a:chExt cx="9000000" cy="7260840"/>
            </a:xfrm>
          </p:grpSpPr>
          <p:sp>
            <p:nvSpPr>
              <p:cNvPr id="1614" name="AutoShape 4"/>
              <p:cNvSpPr/>
              <p:nvPr/>
            </p:nvSpPr>
            <p:spPr>
              <a:xfrm>
                <a:off x="2340000" y="283680"/>
                <a:ext cx="4859280" cy="6750000"/>
              </a:xfrm>
              <a:custGeom>
                <a:avLst/>
                <a:gdLst>
                  <a:gd name="textAreaLeft" fmla="*/ 360 w 4859280"/>
                  <a:gd name="textAreaRight" fmla="*/ 4858920 w 4859280"/>
                  <a:gd name="textAreaTop" fmla="*/ 360 h 6750000"/>
                  <a:gd name="textAreaBottom" fmla="*/ 6749640 h 6750000"/>
                </a:gdLst>
                <a:ahLst/>
                <a:rect l="textAreaLeft" t="textAreaTop" r="textAreaRight" b="textAreaBottom"/>
                <a:pathLst>
                  <a:path w="21600" h="30004">
                    <a:moveTo>
                      <a:pt x="7" y="0"/>
                    </a:moveTo>
                    <a:arcTo wR="7" hR="7" stAng="16200000" swAng="-5400000"/>
                    <a:lnTo>
                      <a:pt x="0" y="29997"/>
                    </a:lnTo>
                    <a:arcTo wR="7" hR="7" stAng="10800000" swAng="-5400000"/>
                    <a:lnTo>
                      <a:pt x="21593" y="30004"/>
                    </a:lnTo>
                    <a:arcTo wR="7" hR="7" stAng="5400000" swAng="-5400000"/>
                    <a:lnTo>
                      <a:pt x="21600" y="7"/>
                    </a:lnTo>
                    <a:arcTo wR="7" hR="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Text Box 5"/>
              <p:cNvSpPr/>
              <p:nvPr/>
            </p:nvSpPr>
            <p:spPr>
              <a:xfrm>
                <a:off x="2160720" y="2878920"/>
                <a:ext cx="7375320" cy="657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оля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(лежит в основе как жизни, так и окружающего мира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Text Box 6"/>
              <p:cNvSpPr/>
              <p:nvPr/>
            </p:nvSpPr>
            <p:spPr>
              <a:xfrm>
                <a:off x="2158920" y="1260000"/>
                <a:ext cx="7380360" cy="143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Жизнь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стержневое понятие данной философии) – мир в аспекте его данности познающему субъекту, единственная реальность, существующая для конкретного человека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Text Box 7"/>
              <p:cNvSpPr/>
              <p:nvPr/>
            </p:nvSpPr>
            <p:spPr>
              <a:xfrm>
                <a:off x="2158920" y="3778920"/>
                <a:ext cx="7380360" cy="3661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воля к жизни»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оля внутри самого человека («внутренний стержень»)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еуправляемая, бессознательная воля –  страсти, влечения, аффекты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воля к власти». В большей или меньшей степени присуща каждому человеку. По своей природе «воля к власти» близка к инстинкту самосохранения, является внешним выражением спрятанного внутри человека стремления к безопасности и движущей силой многих поступков человека. Также согласно Ницше каждый человек (как и государство) осознанно или неосознанно стремится к расширению своего «Я» во внешнем мире, экспансии «Я»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Rectangle 8"/>
              <p:cNvSpPr/>
              <p:nvPr/>
            </p:nvSpPr>
            <p:spPr>
              <a:xfrm flipH="1" rot="16200000">
                <a:off x="-2428920" y="3148560"/>
                <a:ext cx="7199280" cy="1260360"/>
              </a:xfrm>
              <a:prstGeom prst="rect">
                <a:avLst/>
              </a:prstGeom>
              <a:solidFill>
                <a:srgbClr val="ffffff"/>
              </a:solidFill>
              <a:ln w="36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Цель философии, по Ницше, помочь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человеку максимально реализовать себ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жизни, приспособиться к окружающему миру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Text Box 9"/>
              <p:cNvSpPr/>
              <p:nvPr/>
            </p:nvSpPr>
            <p:spPr>
              <a:xfrm>
                <a:off x="2160720" y="179280"/>
                <a:ext cx="7380000" cy="9000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“</a:t>
                </a:r>
                <a:r>
                  <a:rPr b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ия жизни” Фридриха Ницше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0" name="Group 1"/>
          <p:cNvGrpSpPr/>
          <p:nvPr/>
        </p:nvGrpSpPr>
        <p:grpSpPr>
          <a:xfrm>
            <a:off x="360360" y="179280"/>
            <a:ext cx="9538920" cy="7199280"/>
            <a:chOff x="360360" y="179280"/>
            <a:chExt cx="9538920" cy="7199280"/>
          </a:xfrm>
        </p:grpSpPr>
        <p:sp>
          <p:nvSpPr>
            <p:cNvPr id="1621" name="Line 2"/>
            <p:cNvSpPr/>
            <p:nvPr/>
          </p:nvSpPr>
          <p:spPr>
            <a:xfrm flipH="1">
              <a:off x="6802920" y="2878920"/>
              <a:ext cx="1422000" cy="28789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AutoShape 3"/>
            <p:cNvSpPr/>
            <p:nvPr/>
          </p:nvSpPr>
          <p:spPr>
            <a:xfrm>
              <a:off x="2268000" y="539280"/>
              <a:ext cx="5342760" cy="6068880"/>
            </a:xfrm>
            <a:custGeom>
              <a:avLst/>
              <a:gdLst>
                <a:gd name="textAreaLeft" fmla="*/ 360 w 5342760"/>
                <a:gd name="textAreaRight" fmla="*/ 5342400 w 5342760"/>
                <a:gd name="textAreaTop" fmla="*/ 360 h 6068880"/>
                <a:gd name="textAreaBottom" fmla="*/ 6068520 h 6068880"/>
              </a:gdLst>
              <a:ahLst/>
              <a:rect l="textAreaLeft" t="textAreaTop" r="textAreaRight" b="textAreaBottom"/>
              <a:pathLst>
                <a:path w="21600" h="24535">
                  <a:moveTo>
                    <a:pt x="6" y="0"/>
                  </a:moveTo>
                  <a:arcTo wR="6" hR="6" stAng="16200000" swAng="-5400000"/>
                  <a:lnTo>
                    <a:pt x="0" y="24529"/>
                  </a:lnTo>
                  <a:arcTo wR="6" hR="6" stAng="10800000" swAng="-5400000"/>
                  <a:lnTo>
                    <a:pt x="21594" y="24535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Text Box 4"/>
            <p:cNvSpPr/>
            <p:nvPr/>
          </p:nvSpPr>
          <p:spPr>
            <a:xfrm>
              <a:off x="360360" y="179280"/>
              <a:ext cx="9350640" cy="539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Философия жизни» В. Дильте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Text Box 5"/>
            <p:cNvSpPr/>
            <p:nvPr/>
          </p:nvSpPr>
          <p:spPr>
            <a:xfrm>
              <a:off x="360360" y="899640"/>
              <a:ext cx="3817080" cy="51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ские воззрен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Text Box 6"/>
            <p:cNvSpPr/>
            <p:nvPr/>
          </p:nvSpPr>
          <p:spPr>
            <a:xfrm>
              <a:off x="4555440" y="899640"/>
              <a:ext cx="5151960" cy="498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знь – способ бытия человека в мир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Text Box 7"/>
            <p:cNvSpPr/>
            <p:nvPr/>
          </p:nvSpPr>
          <p:spPr>
            <a:xfrm>
              <a:off x="7036200" y="2160000"/>
              <a:ext cx="267264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знак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зн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AutoShape 8"/>
            <p:cNvSpPr/>
            <p:nvPr/>
          </p:nvSpPr>
          <p:spPr>
            <a:xfrm>
              <a:off x="8234640" y="1439640"/>
              <a:ext cx="520200" cy="720360"/>
            </a:xfrm>
            <a:prstGeom prst="upDownArrow">
              <a:avLst>
                <a:gd name="adj1" fmla="val 50000"/>
                <a:gd name="adj2" fmla="val 275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Text Box 9"/>
            <p:cNvSpPr/>
            <p:nvPr/>
          </p:nvSpPr>
          <p:spPr>
            <a:xfrm>
              <a:off x="360360" y="1618920"/>
              <a:ext cx="5151960" cy="575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льтей подверг критике философию Гегеля, в которой все многообразие окружающего мира и уникальность человеческой жизни сводились к мышлению (идее). Вместо мышления (идеи) Дильтей предложил в основу философии положить понятие «жизнь». Согласно Дильтею философия должна прекратить «схоластические» дискуссии о материи, сознании, диалектике и др. и сосредоточить все внимание на изучение жизни как особого феномена во всех ее проявлениях.Философ отвергал концепции, согласно которым история – предопределенный и закономерный процесс, идущий в сторону прогресса. По Дильтею, история – цепь случайностей, хаос, омут, который затягивает в себя как отдельного человека, так в целые народы. Влиять на ход истории невозможно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Text Box 10"/>
            <p:cNvSpPr/>
            <p:nvPr/>
          </p:nvSpPr>
          <p:spPr>
            <a:xfrm>
              <a:off x="5701320" y="3200760"/>
              <a:ext cx="2672640" cy="758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000" algn="ctr">
                <a:lnSpc>
                  <a:spcPct val="86000"/>
                </a:lnSpc>
                <a:tabLst>
                  <a:tab algn="l" pos="0"/>
                  <a:tab algn="l" pos="27000"/>
                  <a:tab algn="l" pos="474840"/>
                  <a:tab algn="l" pos="923760"/>
                  <a:tab algn="l" pos="1373040"/>
                  <a:tab algn="l" pos="1822320"/>
                  <a:tab algn="l" pos="2271600"/>
                  <a:tab algn="l" pos="2720880"/>
                  <a:tab algn="l" pos="3170160"/>
                  <a:tab algn="l" pos="3619440"/>
                  <a:tab algn="l" pos="4068720"/>
                  <a:tab algn="l" pos="4518000"/>
                  <a:tab algn="l" pos="4967280"/>
                  <a:tab algn="l" pos="5416560"/>
                  <a:tab algn="l" pos="5865840"/>
                  <a:tab algn="l" pos="6315120"/>
                  <a:tab algn="l" pos="6764400"/>
                  <a:tab algn="l" pos="7213680"/>
                  <a:tab algn="l" pos="7662960"/>
                  <a:tab algn="l" pos="8112240"/>
                  <a:tab algn="l" pos="8561520"/>
                  <a:tab algn="l" pos="90108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ост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Text Box 11"/>
            <p:cNvSpPr/>
            <p:nvPr/>
          </p:nvSpPr>
          <p:spPr>
            <a:xfrm>
              <a:off x="5701320" y="5757840"/>
              <a:ext cx="2480400" cy="126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000" algn="ctr">
                <a:lnSpc>
                  <a:spcPct val="86000"/>
                </a:lnSpc>
                <a:tabLst>
                  <a:tab algn="l" pos="0"/>
                  <a:tab algn="l" pos="27000"/>
                  <a:tab algn="l" pos="474840"/>
                  <a:tab algn="l" pos="923760"/>
                  <a:tab algn="l" pos="1373040"/>
                  <a:tab algn="l" pos="1822320"/>
                  <a:tab algn="l" pos="2271600"/>
                  <a:tab algn="l" pos="2720880"/>
                  <a:tab algn="l" pos="3170160"/>
                  <a:tab algn="l" pos="3619440"/>
                  <a:tab algn="l" pos="4068720"/>
                  <a:tab algn="l" pos="4518000"/>
                  <a:tab algn="l" pos="4967280"/>
                  <a:tab algn="l" pos="5416560"/>
                  <a:tab algn="l" pos="5865840"/>
                  <a:tab algn="l" pos="6315120"/>
                  <a:tab algn="l" pos="6764400"/>
                  <a:tab algn="l" pos="7213680"/>
                  <a:tab algn="l" pos="7662960"/>
                  <a:tab algn="l" pos="8112240"/>
                  <a:tab algn="l" pos="8561520"/>
                  <a:tab algn="l" pos="90108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разрывное единство с внешним миро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Text Box 12"/>
            <p:cNvSpPr/>
            <p:nvPr/>
          </p:nvSpPr>
          <p:spPr>
            <a:xfrm>
              <a:off x="7418880" y="4139280"/>
              <a:ext cx="2480400" cy="12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000" algn="ctr">
                <a:lnSpc>
                  <a:spcPct val="86000"/>
                </a:lnSpc>
                <a:tabLst>
                  <a:tab algn="l" pos="0"/>
                  <a:tab algn="l" pos="27000"/>
                  <a:tab algn="l" pos="474840"/>
                  <a:tab algn="l" pos="923760"/>
                  <a:tab algn="l" pos="1373040"/>
                  <a:tab algn="l" pos="1822320"/>
                  <a:tab algn="l" pos="2271600"/>
                  <a:tab algn="l" pos="2720880"/>
                  <a:tab algn="l" pos="3170160"/>
                  <a:tab algn="l" pos="3619440"/>
                  <a:tab algn="l" pos="4068720"/>
                  <a:tab algn="l" pos="4518000"/>
                  <a:tab algn="l" pos="4967280"/>
                  <a:tab algn="l" pos="5416560"/>
                  <a:tab algn="l" pos="5865840"/>
                  <a:tab algn="l" pos="6315120"/>
                  <a:tab algn="l" pos="6764400"/>
                  <a:tab algn="l" pos="7213680"/>
                  <a:tab algn="l" pos="7662960"/>
                  <a:tab algn="l" pos="8112240"/>
                  <a:tab algn="l" pos="8561520"/>
                  <a:tab algn="l" pos="90108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многообразного духовного нача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Line 13"/>
            <p:cNvSpPr/>
            <p:nvPr/>
          </p:nvSpPr>
          <p:spPr>
            <a:xfrm>
              <a:off x="8944200" y="2878920"/>
              <a:ext cx="382320" cy="1260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Line 14"/>
            <p:cNvSpPr/>
            <p:nvPr/>
          </p:nvSpPr>
          <p:spPr>
            <a:xfrm flipH="1">
              <a:off x="6804000" y="2878920"/>
              <a:ext cx="849240" cy="3600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AutoShape 1"/>
          <p:cNvSpPr/>
          <p:nvPr/>
        </p:nvSpPr>
        <p:spPr>
          <a:xfrm>
            <a:off x="720720" y="0"/>
            <a:ext cx="9001080" cy="9001080"/>
          </a:xfrm>
          <a:prstGeom prst="roundRect">
            <a:avLst>
              <a:gd name="adj" fmla="val 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Group 2"/>
          <p:cNvGrpSpPr/>
          <p:nvPr/>
        </p:nvGrpSpPr>
        <p:grpSpPr>
          <a:xfrm>
            <a:off x="539640" y="179280"/>
            <a:ext cx="9177120" cy="7198920"/>
            <a:chOff x="539640" y="179280"/>
            <a:chExt cx="9177120" cy="7198920"/>
          </a:xfrm>
        </p:grpSpPr>
        <p:sp>
          <p:nvSpPr>
            <p:cNvPr id="573" name="Line 3"/>
            <p:cNvSpPr/>
            <p:nvPr/>
          </p:nvSpPr>
          <p:spPr>
            <a:xfrm>
              <a:off x="8099280" y="2700360"/>
              <a:ext cx="1800" cy="45007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4"/>
            <p:cNvSpPr/>
            <p:nvPr/>
          </p:nvSpPr>
          <p:spPr>
            <a:xfrm>
              <a:off x="4859280" y="2700360"/>
              <a:ext cx="1800" cy="1800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5"/>
            <p:cNvSpPr/>
            <p:nvPr/>
          </p:nvSpPr>
          <p:spPr>
            <a:xfrm>
              <a:off x="1800360" y="1979640"/>
              <a:ext cx="1440" cy="46800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6" name="Group 6"/>
            <p:cNvGrpSpPr/>
            <p:nvPr/>
          </p:nvGrpSpPr>
          <p:grpSpPr>
            <a:xfrm>
              <a:off x="539640" y="179280"/>
              <a:ext cx="9177120" cy="7198920"/>
              <a:chOff x="539640" y="179280"/>
              <a:chExt cx="9177120" cy="7198920"/>
            </a:xfrm>
          </p:grpSpPr>
          <p:sp>
            <p:nvSpPr>
              <p:cNvPr id="577" name="Text Box 7"/>
              <p:cNvSpPr/>
              <p:nvPr/>
            </p:nvSpPr>
            <p:spPr>
              <a:xfrm>
                <a:off x="2300040" y="179280"/>
                <a:ext cx="5978880" cy="54108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лассификация философских традиций и систем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8"/>
              <p:cNvSpPr/>
              <p:nvPr/>
            </p:nvSpPr>
            <p:spPr>
              <a:xfrm>
                <a:off x="3598200" y="1439640"/>
                <a:ext cx="2878920" cy="1213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 решению вопроса о первичности духовного или материального нач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9"/>
              <p:cNvSpPr/>
              <p:nvPr/>
            </p:nvSpPr>
            <p:spPr>
              <a:xfrm>
                <a:off x="6837840" y="1079280"/>
                <a:ext cx="2878920" cy="162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 ориентированности на конкретные идеологические концепции, теории и религи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Text Box 10"/>
              <p:cNvSpPr/>
              <p:nvPr/>
            </p:nvSpPr>
            <p:spPr>
              <a:xfrm>
                <a:off x="3598200" y="2967840"/>
                <a:ext cx="2848680" cy="63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зотерическая философ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Text Box 11"/>
              <p:cNvSpPr/>
              <p:nvPr/>
            </p:nvSpPr>
            <p:spPr>
              <a:xfrm>
                <a:off x="6837840" y="3058560"/>
                <a:ext cx="2878920" cy="53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уддийская философия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12"/>
              <p:cNvSpPr/>
              <p:nvPr/>
            </p:nvSpPr>
            <p:spPr>
              <a:xfrm>
                <a:off x="7515360" y="3551760"/>
                <a:ext cx="1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Text Box 13"/>
              <p:cNvSpPr/>
              <p:nvPr/>
            </p:nvSpPr>
            <p:spPr>
              <a:xfrm>
                <a:off x="3598200" y="3778920"/>
                <a:ext cx="2878920" cy="72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кзотерическая философ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Text Box 14"/>
              <p:cNvSpPr/>
              <p:nvPr/>
            </p:nvSpPr>
            <p:spPr>
              <a:xfrm>
                <a:off x="5937840" y="6837120"/>
                <a:ext cx="3778920" cy="36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теистическая философия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Text Box 15"/>
              <p:cNvSpPr/>
              <p:nvPr/>
            </p:nvSpPr>
            <p:spPr>
              <a:xfrm>
                <a:off x="5937840" y="6297480"/>
                <a:ext cx="3778920" cy="36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зитивистская философия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Text Box 16"/>
              <p:cNvSpPr/>
              <p:nvPr/>
            </p:nvSpPr>
            <p:spPr>
              <a:xfrm>
                <a:off x="5937840" y="5757840"/>
                <a:ext cx="3778920" cy="36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еологическая философия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Text Box 17"/>
              <p:cNvSpPr/>
              <p:nvPr/>
            </p:nvSpPr>
            <p:spPr>
              <a:xfrm>
                <a:off x="5937840" y="5218200"/>
                <a:ext cx="3778920" cy="36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ационалистическая философия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Text Box 18"/>
              <p:cNvSpPr/>
              <p:nvPr/>
            </p:nvSpPr>
            <p:spPr>
              <a:xfrm>
                <a:off x="6837840" y="4497840"/>
                <a:ext cx="2878920" cy="53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сламская философия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Text Box 19"/>
              <p:cNvSpPr/>
              <p:nvPr/>
            </p:nvSpPr>
            <p:spPr>
              <a:xfrm>
                <a:off x="6837840" y="3778920"/>
                <a:ext cx="2878920" cy="53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ристианская философия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Text Box 20"/>
              <p:cNvSpPr/>
              <p:nvPr/>
            </p:nvSpPr>
            <p:spPr>
              <a:xfrm>
                <a:off x="539640" y="1079280"/>
                <a:ext cx="2699640" cy="899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 географическому признак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21"/>
              <p:cNvSpPr/>
              <p:nvPr/>
            </p:nvSpPr>
            <p:spPr>
              <a:xfrm>
                <a:off x="539640" y="2339280"/>
                <a:ext cx="2699640" cy="53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осточная философ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22"/>
              <p:cNvSpPr/>
              <p:nvPr/>
            </p:nvSpPr>
            <p:spPr>
              <a:xfrm>
                <a:off x="539640" y="3058560"/>
                <a:ext cx="2699640" cy="53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ападная философ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Text Box 23"/>
              <p:cNvSpPr/>
              <p:nvPr/>
            </p:nvSpPr>
            <p:spPr>
              <a:xfrm>
                <a:off x="539640" y="3778920"/>
                <a:ext cx="2699640" cy="53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Европейская философ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24"/>
              <p:cNvSpPr/>
              <p:nvPr/>
            </p:nvSpPr>
            <p:spPr>
              <a:xfrm>
                <a:off x="539640" y="4497840"/>
                <a:ext cx="2699640" cy="53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ндийская философ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539640" y="5937480"/>
                <a:ext cx="2699640" cy="53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рабская философ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Text Box 26"/>
              <p:cNvSpPr/>
              <p:nvPr/>
            </p:nvSpPr>
            <p:spPr>
              <a:xfrm>
                <a:off x="539640" y="5218200"/>
                <a:ext cx="2699640" cy="53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итайская философ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Text Box 27"/>
              <p:cNvSpPr/>
              <p:nvPr/>
            </p:nvSpPr>
            <p:spPr>
              <a:xfrm>
                <a:off x="539640" y="6657840"/>
                <a:ext cx="2699640" cy="72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усская философ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28"/>
              <p:cNvSpPr/>
              <p:nvPr/>
            </p:nvSpPr>
            <p:spPr>
              <a:xfrm flipH="1">
                <a:off x="1566360" y="718920"/>
                <a:ext cx="82224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29"/>
              <p:cNvSpPr/>
              <p:nvPr/>
            </p:nvSpPr>
            <p:spPr>
              <a:xfrm flipH="1">
                <a:off x="4820040" y="720360"/>
                <a:ext cx="260280" cy="72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30"/>
              <p:cNvSpPr/>
              <p:nvPr/>
            </p:nvSpPr>
            <p:spPr>
              <a:xfrm>
                <a:off x="8277480" y="539280"/>
                <a:ext cx="72036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Group 1"/>
          <p:cNvGrpSpPr/>
          <p:nvPr/>
        </p:nvGrpSpPr>
        <p:grpSpPr>
          <a:xfrm>
            <a:off x="900000" y="317520"/>
            <a:ext cx="8459640" cy="6881400"/>
            <a:chOff x="900000" y="317520"/>
            <a:chExt cx="8459640" cy="6881400"/>
          </a:xfrm>
        </p:grpSpPr>
        <p:sp>
          <p:nvSpPr>
            <p:cNvPr id="1635" name="AutoShape 2"/>
            <p:cNvSpPr/>
            <p:nvPr/>
          </p:nvSpPr>
          <p:spPr>
            <a:xfrm>
              <a:off x="3094920" y="1066320"/>
              <a:ext cx="3999600" cy="5484960"/>
            </a:xfrm>
            <a:custGeom>
              <a:avLst/>
              <a:gdLst>
                <a:gd name="textAreaLeft" fmla="*/ 360 w 3999600"/>
                <a:gd name="textAreaRight" fmla="*/ 3999240 w 3999600"/>
                <a:gd name="textAreaTop" fmla="*/ 360 h 5484960"/>
                <a:gd name="textAreaBottom" fmla="*/ 5484600 h 5484960"/>
              </a:gdLst>
              <a:ahLst/>
              <a:rect l="textAreaLeft" t="textAreaTop" r="textAreaRight" b="textAreaBottom"/>
              <a:pathLst>
                <a:path w="21600" h="29621">
                  <a:moveTo>
                    <a:pt x="8" y="0"/>
                  </a:moveTo>
                  <a:arcTo wR="8" hR="8" stAng="16200000" swAng="-5400000"/>
                  <a:lnTo>
                    <a:pt x="0" y="29613"/>
                  </a:lnTo>
                  <a:arcTo wR="8" hR="8" stAng="10800000" swAng="-5400000"/>
                  <a:lnTo>
                    <a:pt x="21592" y="29621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Line 3"/>
            <p:cNvSpPr/>
            <p:nvPr/>
          </p:nvSpPr>
          <p:spPr>
            <a:xfrm>
              <a:off x="7540920" y="1418760"/>
              <a:ext cx="1080" cy="29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Line 4"/>
            <p:cNvSpPr/>
            <p:nvPr/>
          </p:nvSpPr>
          <p:spPr>
            <a:xfrm>
              <a:off x="2574720" y="1439640"/>
              <a:ext cx="1080" cy="29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AutoShape 5"/>
            <p:cNvSpPr/>
            <p:nvPr/>
          </p:nvSpPr>
          <p:spPr>
            <a:xfrm>
              <a:off x="2314080" y="2566440"/>
              <a:ext cx="539640" cy="374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Text Box 6"/>
            <p:cNvSpPr/>
            <p:nvPr/>
          </p:nvSpPr>
          <p:spPr>
            <a:xfrm>
              <a:off x="900000" y="1669680"/>
              <a:ext cx="3600000" cy="902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вления, способствовавшие возникновению марксизма и марксистской философ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Text Box 7"/>
            <p:cNvSpPr/>
            <p:nvPr/>
          </p:nvSpPr>
          <p:spPr>
            <a:xfrm>
              <a:off x="900000" y="317520"/>
              <a:ext cx="8458560" cy="1123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рксистская философия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была создана совместно немецкими учеными Карлом Марксом и Фридрихом Энгельсом во 2-й половине XIX в. И является составной частью более широкого учен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AutoShape 8"/>
            <p:cNvSpPr/>
            <p:nvPr/>
          </p:nvSpPr>
          <p:spPr>
            <a:xfrm>
              <a:off x="7174440" y="2566440"/>
              <a:ext cx="539280" cy="374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Text Box 9"/>
            <p:cNvSpPr/>
            <p:nvPr/>
          </p:nvSpPr>
          <p:spPr>
            <a:xfrm>
              <a:off x="5758200" y="1669680"/>
              <a:ext cx="3601440" cy="902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авные произведения основателей марксизм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Text Box 10"/>
            <p:cNvSpPr/>
            <p:nvPr/>
          </p:nvSpPr>
          <p:spPr>
            <a:xfrm>
              <a:off x="900000" y="3056760"/>
              <a:ext cx="3600000" cy="414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шествующая материалистическая философия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рное развитие науки и техник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ушение идеалов Великой французской революции их невозможность воплощения в реальной жизни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астание социально-классовых противоречий и конфликтов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изис традиционных буржуазных ценностей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Text Box 11"/>
            <p:cNvSpPr/>
            <p:nvPr/>
          </p:nvSpPr>
          <p:spPr>
            <a:xfrm>
              <a:off x="5758200" y="3060000"/>
              <a:ext cx="3601440" cy="413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Тезисы о Фейербахе» К. Маркс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Капитал» К. Маркс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Манифест Коммунистической партии» К. Маркса и Ф. Энгельс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Святое семейство» и «Немецкая идеология» К. Маркса и Ф. Энгельс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Диалектика природы» Ф. Энгельс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Анти-Дюринг» Ф. Энгельс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Роль труда в прцессе превращения обезьяны в человека» Ф. Энгельс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Text Box 1"/>
          <p:cNvSpPr/>
          <p:nvPr/>
        </p:nvSpPr>
        <p:spPr>
          <a:xfrm>
            <a:off x="7020000" y="5219640"/>
            <a:ext cx="270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6" name="Group 2"/>
          <p:cNvGrpSpPr/>
          <p:nvPr/>
        </p:nvGrpSpPr>
        <p:grpSpPr>
          <a:xfrm>
            <a:off x="900000" y="179280"/>
            <a:ext cx="8459640" cy="7198920"/>
            <a:chOff x="900000" y="179280"/>
            <a:chExt cx="8459640" cy="7198920"/>
          </a:xfrm>
        </p:grpSpPr>
        <p:sp>
          <p:nvSpPr>
            <p:cNvPr id="1647" name="AutoShape 3"/>
            <p:cNvSpPr/>
            <p:nvPr/>
          </p:nvSpPr>
          <p:spPr>
            <a:xfrm>
              <a:off x="2879280" y="539280"/>
              <a:ext cx="4499640" cy="6068880"/>
            </a:xfrm>
            <a:custGeom>
              <a:avLst/>
              <a:gdLst>
                <a:gd name="textAreaLeft" fmla="*/ 360 w 4499640"/>
                <a:gd name="textAreaRight" fmla="*/ 4499280 w 4499640"/>
                <a:gd name="textAreaTop" fmla="*/ 360 h 6068880"/>
                <a:gd name="textAreaBottom" fmla="*/ 6068520 h 6068880"/>
              </a:gdLst>
              <a:ahLst/>
              <a:rect l="textAreaLeft" t="textAreaTop" r="textAreaRight" b="textAreaBottom"/>
              <a:pathLst>
                <a:path w="21600" h="29132">
                  <a:moveTo>
                    <a:pt x="7" y="0"/>
                  </a:moveTo>
                  <a:arcTo wR="7" hR="7" stAng="16200000" swAng="-5400000"/>
                  <a:lnTo>
                    <a:pt x="0" y="29125"/>
                  </a:lnTo>
                  <a:arcTo wR="7" hR="7" stAng="10800000" swAng="-5400000"/>
                  <a:lnTo>
                    <a:pt x="21593" y="29132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Text Box 4"/>
            <p:cNvSpPr/>
            <p:nvPr/>
          </p:nvSpPr>
          <p:spPr>
            <a:xfrm>
              <a:off x="918720" y="179280"/>
              <a:ext cx="8440920" cy="539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ономическая теория марксизм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Text Box 5"/>
            <p:cNvSpPr/>
            <p:nvPr/>
          </p:nvSpPr>
          <p:spPr>
            <a:xfrm>
              <a:off x="5399640" y="1079280"/>
              <a:ext cx="396000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рядок установления новых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щественно-экономических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ношен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Text Box 6"/>
            <p:cNvSpPr/>
            <p:nvPr/>
          </p:nvSpPr>
          <p:spPr>
            <a:xfrm>
              <a:off x="900000" y="1079280"/>
              <a:ext cx="4255200" cy="360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Text Box 7"/>
            <p:cNvSpPr/>
            <p:nvPr/>
          </p:nvSpPr>
          <p:spPr>
            <a:xfrm>
              <a:off x="5399640" y="2699640"/>
              <a:ext cx="3960000" cy="3418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000" algn="ctr">
                <a:lnSpc>
                  <a:spcPct val="86000"/>
                </a:lnSpc>
                <a:tabLst>
                  <a:tab algn="l" pos="0"/>
                  <a:tab algn="l" pos="27000"/>
                  <a:tab algn="l" pos="474840"/>
                  <a:tab algn="l" pos="923760"/>
                  <a:tab algn="l" pos="1373040"/>
                  <a:tab algn="l" pos="1822320"/>
                  <a:tab algn="l" pos="2271600"/>
                  <a:tab algn="l" pos="2720880"/>
                  <a:tab algn="l" pos="3170160"/>
                  <a:tab algn="l" pos="3619440"/>
                  <a:tab algn="l" pos="4068720"/>
                  <a:tab algn="l" pos="4518000"/>
                  <a:tab algn="l" pos="4967280"/>
                  <a:tab algn="l" pos="5416560"/>
                  <a:tab algn="l" pos="5865840"/>
                  <a:tab algn="l" pos="6315120"/>
                  <a:tab algn="l" pos="6764400"/>
                  <a:tab algn="l" pos="7213680"/>
                  <a:tab algn="l" pos="7662960"/>
                  <a:tab algn="l" pos="8112240"/>
                  <a:tab algn="l" pos="8561520"/>
                  <a:tab algn="l" pos="90108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квидация частной собственности на средства производств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000" algn="ctr">
                <a:lnSpc>
                  <a:spcPct val="86000"/>
                </a:lnSpc>
                <a:tabLst>
                  <a:tab algn="l" pos="0"/>
                  <a:tab algn="l" pos="27000"/>
                  <a:tab algn="l" pos="474840"/>
                  <a:tab algn="l" pos="923760"/>
                  <a:tab algn="l" pos="1373040"/>
                  <a:tab algn="l" pos="1822320"/>
                  <a:tab algn="l" pos="2271600"/>
                  <a:tab algn="l" pos="2720880"/>
                  <a:tab algn="l" pos="3170160"/>
                  <a:tab algn="l" pos="3619440"/>
                  <a:tab algn="l" pos="4068720"/>
                  <a:tab algn="l" pos="4518000"/>
                  <a:tab algn="l" pos="4967280"/>
                  <a:tab algn="l" pos="5416560"/>
                  <a:tab algn="l" pos="5865840"/>
                  <a:tab algn="l" pos="6315120"/>
                  <a:tab algn="l" pos="6764400"/>
                  <a:tab algn="l" pos="7213680"/>
                  <a:tab algn="l" pos="7662960"/>
                  <a:tab algn="l" pos="8112240"/>
                  <a:tab algn="l" pos="8561520"/>
                  <a:tab algn="l" pos="90108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квидация эксплуатации человека человеком и присвоения  результатов чужого труда узкой группой лиц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000" algn="ctr">
                <a:lnSpc>
                  <a:spcPct val="86000"/>
                </a:lnSpc>
                <a:tabLst>
                  <a:tab algn="l" pos="0"/>
                  <a:tab algn="l" pos="27000"/>
                  <a:tab algn="l" pos="474840"/>
                  <a:tab algn="l" pos="923760"/>
                  <a:tab algn="l" pos="1373040"/>
                  <a:tab algn="l" pos="1822320"/>
                  <a:tab algn="l" pos="2271600"/>
                  <a:tab algn="l" pos="2720880"/>
                  <a:tab algn="l" pos="3170160"/>
                  <a:tab algn="l" pos="3619440"/>
                  <a:tab algn="l" pos="4068720"/>
                  <a:tab algn="l" pos="4518000"/>
                  <a:tab algn="l" pos="4967280"/>
                  <a:tab algn="l" pos="5416560"/>
                  <a:tab algn="l" pos="5865840"/>
                  <a:tab algn="l" pos="6315120"/>
                  <a:tab algn="l" pos="6764400"/>
                  <a:tab algn="l" pos="7213680"/>
                  <a:tab algn="l" pos="7662960"/>
                  <a:tab algn="l" pos="8112240"/>
                  <a:tab algn="l" pos="8561520"/>
                  <a:tab algn="l" pos="90108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мена частной собственности на средства производства на общественную (государственную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7000" algn="ctr">
                <a:lnSpc>
                  <a:spcPct val="86000"/>
                </a:lnSpc>
                <a:tabLst>
                  <a:tab algn="l" pos="0"/>
                  <a:tab algn="l" pos="27000"/>
                  <a:tab algn="l" pos="474840"/>
                  <a:tab algn="l" pos="923760"/>
                  <a:tab algn="l" pos="1373040"/>
                  <a:tab algn="l" pos="1822320"/>
                  <a:tab algn="l" pos="2271600"/>
                  <a:tab algn="l" pos="2720880"/>
                  <a:tab algn="l" pos="3170160"/>
                  <a:tab algn="l" pos="3619440"/>
                  <a:tab algn="l" pos="4068720"/>
                  <a:tab algn="l" pos="4518000"/>
                  <a:tab algn="l" pos="4967280"/>
                  <a:tab algn="l" pos="5416560"/>
                  <a:tab algn="l" pos="5865840"/>
                  <a:tab algn="l" pos="6315120"/>
                  <a:tab algn="l" pos="6764400"/>
                  <a:tab algn="l" pos="7213680"/>
                  <a:tab algn="l" pos="7662960"/>
                  <a:tab algn="l" pos="8112240"/>
                  <a:tab algn="l" pos="8561520"/>
                  <a:tab algn="l" pos="90108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раведливое распределение произведенного продукт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Text Box 8"/>
            <p:cNvSpPr/>
            <p:nvPr/>
          </p:nvSpPr>
          <p:spPr>
            <a:xfrm>
              <a:off x="900000" y="1756800"/>
              <a:ext cx="4255200" cy="562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едства производства - уникальный товар, позволяющие производить товар. Для производства нового товара помимо средств производства необходима рабочая сил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ой товар – средства производства – сосредотачиваются в руках немногих собственников, а основная масса трудящихся вынуждена обращаться к собственникам средств производства как рабочая сил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оимость произведенного рабочей силой продукта выше стоимости ее труда, разница между ними идет капиталисту, а часть вкладывается в новые средства производства. Выход – установление социалистических общественно-экономических отнош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"/>
            <p:cNvSpPr/>
            <p:nvPr/>
          </p:nvSpPr>
          <p:spPr>
            <a:xfrm>
              <a:off x="7198200" y="2160000"/>
              <a:ext cx="1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10"/>
            <p:cNvSpPr/>
            <p:nvPr/>
          </p:nvSpPr>
          <p:spPr>
            <a:xfrm>
              <a:off x="3060000" y="1439640"/>
              <a:ext cx="10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11"/>
            <p:cNvSpPr/>
            <p:nvPr/>
          </p:nvSpPr>
          <p:spPr>
            <a:xfrm flipH="1">
              <a:off x="3377520" y="720360"/>
              <a:ext cx="8028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12"/>
            <p:cNvSpPr/>
            <p:nvPr/>
          </p:nvSpPr>
          <p:spPr>
            <a:xfrm>
              <a:off x="6299640" y="720360"/>
              <a:ext cx="9000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7" name="Group 1"/>
          <p:cNvGrpSpPr/>
          <p:nvPr/>
        </p:nvGrpSpPr>
        <p:grpSpPr>
          <a:xfrm>
            <a:off x="720720" y="360360"/>
            <a:ext cx="8997480" cy="7018200"/>
            <a:chOff x="720720" y="360360"/>
            <a:chExt cx="8997480" cy="7018200"/>
          </a:xfrm>
        </p:grpSpPr>
        <p:sp>
          <p:nvSpPr>
            <p:cNvPr id="1658" name="AutoShape 2"/>
            <p:cNvSpPr/>
            <p:nvPr/>
          </p:nvSpPr>
          <p:spPr>
            <a:xfrm>
              <a:off x="899640" y="360360"/>
              <a:ext cx="8818560" cy="701820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Text Box 3"/>
            <p:cNvSpPr/>
            <p:nvPr/>
          </p:nvSpPr>
          <p:spPr>
            <a:xfrm>
              <a:off x="720720" y="1258560"/>
              <a:ext cx="4405680" cy="4680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ринцип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Text Box 4"/>
            <p:cNvSpPr/>
            <p:nvPr/>
          </p:nvSpPr>
          <p:spPr>
            <a:xfrm>
              <a:off x="5518800" y="1258560"/>
              <a:ext cx="4019760" cy="720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ундамент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нят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Text Box 5"/>
            <p:cNvSpPr/>
            <p:nvPr/>
          </p:nvSpPr>
          <p:spPr>
            <a:xfrm>
              <a:off x="2231640" y="5470560"/>
              <a:ext cx="6046920" cy="4680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вопросы герменевтик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Text Box 6"/>
            <p:cNvSpPr/>
            <p:nvPr/>
          </p:nvSpPr>
          <p:spPr>
            <a:xfrm>
              <a:off x="1079280" y="6297480"/>
              <a:ext cx="233928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 возможно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нимание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Text Box 7"/>
            <p:cNvSpPr/>
            <p:nvPr/>
          </p:nvSpPr>
          <p:spPr>
            <a:xfrm>
              <a:off x="4678920" y="6298920"/>
              <a:ext cx="4970880" cy="901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 устроено бытие, существо которого состоит в понимании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AutoShape 8"/>
            <p:cNvSpPr/>
            <p:nvPr/>
          </p:nvSpPr>
          <p:spPr>
            <a:xfrm>
              <a:off x="4139640" y="4678560"/>
              <a:ext cx="2267640" cy="720360"/>
            </a:xfrm>
            <a:prstGeom prst="downArrow">
              <a:avLst>
                <a:gd name="adj1" fmla="val 61111"/>
                <a:gd name="adj2" fmla="val 52778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Text Box 9"/>
            <p:cNvSpPr/>
            <p:nvPr/>
          </p:nvSpPr>
          <p:spPr>
            <a:xfrm>
              <a:off x="720720" y="2013840"/>
              <a:ext cx="4501080" cy="2485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авная идея герменевтики: существовать – значит быть поняты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метом  исследования, как правило, является текст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рменевтика возникла вместе с появлением герменевтических ситуаций – случаев, когда необходимо правильное истолкование и понимание текст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Text Box 10"/>
            <p:cNvSpPr/>
            <p:nvPr/>
          </p:nvSpPr>
          <p:spPr>
            <a:xfrm>
              <a:off x="5578920" y="2158200"/>
              <a:ext cx="3959640" cy="233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герменевтический треугольник» - взаимоотношения между автором теста, самим текстом и читателе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герменевтический круг» - циклический характер процесса понимания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11"/>
            <p:cNvSpPr/>
            <p:nvPr/>
          </p:nvSpPr>
          <p:spPr>
            <a:xfrm flipH="1">
              <a:off x="2683800" y="5938920"/>
              <a:ext cx="12888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12"/>
            <p:cNvSpPr/>
            <p:nvPr/>
          </p:nvSpPr>
          <p:spPr>
            <a:xfrm>
              <a:off x="5939280" y="5938920"/>
              <a:ext cx="1260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Text Box 13"/>
            <p:cNvSpPr/>
            <p:nvPr/>
          </p:nvSpPr>
          <p:spPr>
            <a:xfrm>
              <a:off x="720720" y="360360"/>
              <a:ext cx="8818200" cy="720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рменевтив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1"/>
          <p:cNvSpPr/>
          <p:nvPr/>
        </p:nvSpPr>
        <p:spPr>
          <a:xfrm>
            <a:off x="0" y="324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1" name="Group 2"/>
          <p:cNvGrpSpPr/>
          <p:nvPr/>
        </p:nvGrpSpPr>
        <p:grpSpPr>
          <a:xfrm>
            <a:off x="720720" y="179280"/>
            <a:ext cx="8999640" cy="7018200"/>
            <a:chOff x="720720" y="179280"/>
            <a:chExt cx="8999640" cy="7018200"/>
          </a:xfrm>
        </p:grpSpPr>
        <p:grpSp>
          <p:nvGrpSpPr>
            <p:cNvPr id="1672" name="Group 3"/>
            <p:cNvGrpSpPr/>
            <p:nvPr/>
          </p:nvGrpSpPr>
          <p:grpSpPr>
            <a:xfrm>
              <a:off x="720720" y="1079640"/>
              <a:ext cx="8996040" cy="6117840"/>
              <a:chOff x="720720" y="1079640"/>
              <a:chExt cx="8996040" cy="6117840"/>
            </a:xfrm>
          </p:grpSpPr>
          <p:sp>
            <p:nvSpPr>
              <p:cNvPr id="1673" name="Text Box 4"/>
              <p:cNvSpPr/>
              <p:nvPr/>
            </p:nvSpPr>
            <p:spPr>
              <a:xfrm>
                <a:off x="4871880" y="1079640"/>
                <a:ext cx="4844880" cy="12600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ичины, способствовавшие в 20-70-е гг. ХХ в. расцвету экзистенциализм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Text Box 5"/>
              <p:cNvSpPr/>
              <p:nvPr/>
            </p:nvSpPr>
            <p:spPr>
              <a:xfrm>
                <a:off x="720720" y="1079640"/>
                <a:ext cx="3980160" cy="12600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ы, рассматриваемые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кзистенциализмо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Text Box 6"/>
              <p:cNvSpPr/>
              <p:nvPr/>
            </p:nvSpPr>
            <p:spPr>
              <a:xfrm>
                <a:off x="720720" y="2518920"/>
                <a:ext cx="3980160" cy="4678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никальность человеческой личности, глубина чувств, переживаний, жизни в целом человека;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азительное противоречие между человеческим внутренним миром и окружающей жизнью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отчуждения человека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одиночества человека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бессмысленности жизни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внутреннего выбора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поиска человеком  своего как внутреннего «Я», так и внешнего – места в жизни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Text Box 7"/>
              <p:cNvSpPr/>
              <p:nvPr/>
            </p:nvSpPr>
            <p:spPr>
              <a:xfrm>
                <a:off x="4871880" y="2518920"/>
                <a:ext cx="4844880" cy="4678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равственные, экономические и политические кризисы, охватившие человечество в XX в.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урный рост науки и техники, использование технических достижений во вред человеку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пасность гибели человечества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силение жестокости, бесчеловечное отношение к человеку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аспространение фашистских и других тоталитарных режимов, полностью подавляющих человеческую личность;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ессилие человека перед природой и техногенным обществом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7" name="Text Box 8"/>
            <p:cNvSpPr/>
            <p:nvPr/>
          </p:nvSpPr>
          <p:spPr>
            <a:xfrm>
              <a:off x="720720" y="179280"/>
              <a:ext cx="8999640" cy="720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истенциализм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8" name="Group 1"/>
          <p:cNvGrpSpPr/>
          <p:nvPr/>
        </p:nvGrpSpPr>
        <p:grpSpPr>
          <a:xfrm>
            <a:off x="900000" y="360360"/>
            <a:ext cx="8639280" cy="7017840"/>
            <a:chOff x="900000" y="360360"/>
            <a:chExt cx="8639280" cy="7017840"/>
          </a:xfrm>
        </p:grpSpPr>
        <p:sp>
          <p:nvSpPr>
            <p:cNvPr id="1679" name="AutoShape 2"/>
            <p:cNvSpPr/>
            <p:nvPr/>
          </p:nvSpPr>
          <p:spPr>
            <a:xfrm>
              <a:off x="2518920" y="539280"/>
              <a:ext cx="5218560" cy="6298920"/>
            </a:xfrm>
            <a:custGeom>
              <a:avLst/>
              <a:gdLst>
                <a:gd name="textAreaLeft" fmla="*/ 360 w 5218560"/>
                <a:gd name="textAreaRight" fmla="*/ 5218200 w 5218560"/>
                <a:gd name="textAreaTop" fmla="*/ 360 h 6298920"/>
                <a:gd name="textAreaBottom" fmla="*/ 6298560 h 6298920"/>
              </a:gdLst>
              <a:ahLst/>
              <a:rect l="textAreaLeft" t="textAreaTop" r="textAreaRight" b="textAreaBottom"/>
              <a:pathLst>
                <a:path w="21600" h="26071">
                  <a:moveTo>
                    <a:pt x="6" y="0"/>
                  </a:moveTo>
                  <a:arcTo wR="6" hR="6" stAng="16200000" swAng="-5400000"/>
                  <a:lnTo>
                    <a:pt x="0" y="26065"/>
                  </a:lnTo>
                  <a:arcTo wR="6" hR="6" stAng="10800000" swAng="-5400000"/>
                  <a:lnTo>
                    <a:pt x="21594" y="26071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Text Box 3"/>
            <p:cNvSpPr/>
            <p:nvPr/>
          </p:nvSpPr>
          <p:spPr>
            <a:xfrm>
              <a:off x="955440" y="360360"/>
              <a:ext cx="8582040" cy="539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 философии К. Ясперс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Text Box 4"/>
            <p:cNvSpPr/>
            <p:nvPr/>
          </p:nvSpPr>
          <p:spPr>
            <a:xfrm>
              <a:off x="4195080" y="6491160"/>
              <a:ext cx="5342400" cy="887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динство себя с собственным внутренним миром (согласие с собой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Text Box 5"/>
            <p:cNvSpPr/>
            <p:nvPr/>
          </p:nvSpPr>
          <p:spPr>
            <a:xfrm>
              <a:off x="900000" y="6478200"/>
              <a:ext cx="3060000" cy="852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ерть – конечность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т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Text Box 6"/>
            <p:cNvSpPr/>
            <p:nvPr/>
          </p:nvSpPr>
          <p:spPr>
            <a:xfrm>
              <a:off x="7322040" y="4903920"/>
              <a:ext cx="2215440" cy="495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об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Text Box 7"/>
            <p:cNvSpPr/>
            <p:nvPr/>
          </p:nvSpPr>
          <p:spPr>
            <a:xfrm>
              <a:off x="900000" y="5615280"/>
              <a:ext cx="1979280" cy="50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ротика, сек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Text Box 8"/>
            <p:cNvSpPr/>
            <p:nvPr/>
          </p:nvSpPr>
          <p:spPr>
            <a:xfrm>
              <a:off x="900000" y="1079280"/>
              <a:ext cx="8639280" cy="35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 обычно живет «заброшенной», не имеющей большого смысла жизнью – «как все», не подозревая о том, кто он такой в действительности, не зная своих скрытых способностей, возможностей, подлинного «Я»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днако в особых случаях истинная натура, данные скрытые качества выходят наружу. Это пограничные ситуации – между жизнью и смертью, особо важные для человека, его дальнейшей судьбы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этого момента человек осознает себя и становится самим собой, он соприкасается с трансцедентальностью – высшим бытием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я жизнь человека осознанно или неосознанно направлена к трансцеденции – к полному раскрепощению энергии и пониманию некоего высшего абсолюта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 приближается к трансцеденции, абсолюту, высвобождает энергию, осознает себя через так называемые «шифры» трансцедентального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Line 9"/>
            <p:cNvSpPr/>
            <p:nvPr/>
          </p:nvSpPr>
          <p:spPr>
            <a:xfrm flipH="1">
              <a:off x="2477880" y="6117840"/>
              <a:ext cx="1522080" cy="3600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Line 10"/>
            <p:cNvSpPr/>
            <p:nvPr/>
          </p:nvSpPr>
          <p:spPr>
            <a:xfrm>
              <a:off x="6658560" y="6117840"/>
              <a:ext cx="360000" cy="3600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Line 11"/>
            <p:cNvSpPr/>
            <p:nvPr/>
          </p:nvSpPr>
          <p:spPr>
            <a:xfrm flipV="1">
              <a:off x="7379280" y="5356080"/>
              <a:ext cx="720360" cy="4424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Line 12"/>
            <p:cNvSpPr/>
            <p:nvPr/>
          </p:nvSpPr>
          <p:spPr>
            <a:xfrm flipH="1" flipV="1">
              <a:off x="2837880" y="5897880"/>
              <a:ext cx="1161720" cy="261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0" name="Group 13"/>
            <p:cNvGrpSpPr/>
            <p:nvPr/>
          </p:nvGrpSpPr>
          <p:grpSpPr>
            <a:xfrm>
              <a:off x="3022200" y="5038920"/>
              <a:ext cx="4356720" cy="1218960"/>
              <a:chOff x="3022200" y="5038920"/>
              <a:chExt cx="4356720" cy="1218960"/>
            </a:xfrm>
          </p:grpSpPr>
          <p:sp>
            <p:nvSpPr>
              <p:cNvPr id="1691" name="Oval 14"/>
              <p:cNvSpPr/>
              <p:nvPr/>
            </p:nvSpPr>
            <p:spPr>
              <a:xfrm>
                <a:off x="3022200" y="5038920"/>
                <a:ext cx="4356720" cy="121896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Text Box 15"/>
              <p:cNvSpPr/>
              <p:nvPr/>
            </p:nvSpPr>
            <p:spPr>
              <a:xfrm>
                <a:off x="3667680" y="5219640"/>
                <a:ext cx="3065040" cy="858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Шифры»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рансцедентальног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1"/>
          <p:cNvGrpSpPr/>
          <p:nvPr/>
        </p:nvGrpSpPr>
        <p:grpSpPr>
          <a:xfrm>
            <a:off x="720720" y="243000"/>
            <a:ext cx="8840520" cy="7135200"/>
            <a:chOff x="720720" y="243000"/>
            <a:chExt cx="8840520" cy="7135200"/>
          </a:xfrm>
        </p:grpSpPr>
        <p:sp>
          <p:nvSpPr>
            <p:cNvPr id="1694" name="AutoShape 2"/>
            <p:cNvSpPr/>
            <p:nvPr/>
          </p:nvSpPr>
          <p:spPr>
            <a:xfrm>
              <a:off x="720720" y="360000"/>
              <a:ext cx="8838720" cy="66592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Text Box 3"/>
            <p:cNvSpPr/>
            <p:nvPr/>
          </p:nvSpPr>
          <p:spPr>
            <a:xfrm>
              <a:off x="720720" y="3418560"/>
              <a:ext cx="8838720" cy="539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 философии Ж.-П. Сартр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Text Box 4"/>
            <p:cNvSpPr/>
            <p:nvPr/>
          </p:nvSpPr>
          <p:spPr>
            <a:xfrm>
              <a:off x="4448160" y="243000"/>
              <a:ext cx="5111280" cy="173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днако полностью осознать себя человек может только через «для-другого-бытие» - высшая реальность для человека, приоритетность для него прежде всего его собственного внутреннего мир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Text Box 5"/>
            <p:cNvSpPr/>
            <p:nvPr/>
          </p:nvSpPr>
          <p:spPr>
            <a:xfrm>
              <a:off x="4508640" y="5749920"/>
              <a:ext cx="5052600" cy="162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 находит свою свободу и проявляет ее в жизненно важном выборе, когда решения избежать нельзя (вопросы жизни и смерти и т.п.) – экзистенциальный выбор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Text Box 6"/>
            <p:cNvSpPr/>
            <p:nvPr/>
          </p:nvSpPr>
          <p:spPr>
            <a:xfrm>
              <a:off x="789120" y="5715000"/>
              <a:ext cx="3471120" cy="166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я жизнь – цепочка различных «маленьких жизней», т.е. экзистенциальных решен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Text Box 7"/>
            <p:cNvSpPr/>
            <p:nvPr/>
          </p:nvSpPr>
          <p:spPr>
            <a:xfrm>
              <a:off x="5458320" y="2160000"/>
              <a:ext cx="4101120" cy="1013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ответственности Человек ответствен за все, что он совершает, за самого себ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Text Box 8"/>
            <p:cNvSpPr/>
            <p:nvPr/>
          </p:nvSpPr>
          <p:spPr>
            <a:xfrm>
              <a:off x="4327200" y="4139280"/>
              <a:ext cx="5230800" cy="146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динственное, за что человек не может отвечать, -это за свое собственное рождение. Однако во всем остальном он полностью свободен и должен ответственно распоряжаться свободо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Text Box 9"/>
            <p:cNvSpPr/>
            <p:nvPr/>
          </p:nvSpPr>
          <p:spPr>
            <a:xfrm>
              <a:off x="782640" y="4118400"/>
              <a:ext cx="3032280" cy="1448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жнейшее условие жизни человека, ее «стержень», основание активности – свобод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Text Box 10"/>
            <p:cNvSpPr/>
            <p:nvPr/>
          </p:nvSpPr>
          <p:spPr>
            <a:xfrm>
              <a:off x="736560" y="2189880"/>
              <a:ext cx="2869920" cy="8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обода человека абсолютн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Text Box 11"/>
            <p:cNvSpPr/>
            <p:nvPr/>
          </p:nvSpPr>
          <p:spPr>
            <a:xfrm>
              <a:off x="720720" y="243000"/>
              <a:ext cx="2885760" cy="173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нтральным понятием сартровской философии является “для-себя-бытие”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2"/>
            <p:cNvSpPr/>
            <p:nvPr/>
          </p:nvSpPr>
          <p:spPr>
            <a:xfrm flipH="1" flipV="1">
              <a:off x="3563640" y="1216800"/>
              <a:ext cx="1164240" cy="22424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3"/>
            <p:cNvSpPr/>
            <p:nvPr/>
          </p:nvSpPr>
          <p:spPr>
            <a:xfrm flipH="1" flipV="1">
              <a:off x="3563640" y="2477520"/>
              <a:ext cx="1164240" cy="9820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4"/>
            <p:cNvSpPr/>
            <p:nvPr/>
          </p:nvSpPr>
          <p:spPr>
            <a:xfrm flipV="1">
              <a:off x="4688280" y="1937160"/>
              <a:ext cx="540720" cy="15217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5"/>
            <p:cNvSpPr/>
            <p:nvPr/>
          </p:nvSpPr>
          <p:spPr>
            <a:xfrm flipV="1">
              <a:off x="4688280" y="2837520"/>
              <a:ext cx="722160" cy="6217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6"/>
            <p:cNvSpPr/>
            <p:nvPr/>
          </p:nvSpPr>
          <p:spPr>
            <a:xfrm flipH="1">
              <a:off x="3745080" y="3958200"/>
              <a:ext cx="443520" cy="720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7"/>
            <p:cNvSpPr/>
            <p:nvPr/>
          </p:nvSpPr>
          <p:spPr>
            <a:xfrm>
              <a:off x="4147560" y="3958200"/>
              <a:ext cx="179640" cy="8996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8"/>
            <p:cNvSpPr/>
            <p:nvPr/>
          </p:nvSpPr>
          <p:spPr>
            <a:xfrm flipH="1">
              <a:off x="3926520" y="3958200"/>
              <a:ext cx="262080" cy="17992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11" name="AutoShape 19"/>
            <p:cNvCxnSpPr>
              <a:stCxn id="1695" idx="3"/>
              <a:endCxn id="1697" idx="3"/>
            </p:cNvCxnSpPr>
            <p:nvPr/>
          </p:nvCxnSpPr>
          <p:spPr>
            <a:xfrm>
              <a:off x="9559080" y="3688200"/>
              <a:ext cx="2520" cy="28760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2" name="Group 1"/>
          <p:cNvGrpSpPr/>
          <p:nvPr/>
        </p:nvGrpSpPr>
        <p:grpSpPr>
          <a:xfrm>
            <a:off x="1079640" y="474840"/>
            <a:ext cx="8280000" cy="6544800"/>
            <a:chOff x="1079640" y="474840"/>
            <a:chExt cx="8280000" cy="6544800"/>
          </a:xfrm>
        </p:grpSpPr>
        <p:sp>
          <p:nvSpPr>
            <p:cNvPr id="1713" name="AutoShape 2"/>
            <p:cNvSpPr/>
            <p:nvPr/>
          </p:nvSpPr>
          <p:spPr>
            <a:xfrm>
              <a:off x="1260000" y="720360"/>
              <a:ext cx="7918560" cy="62992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Text Box 3"/>
            <p:cNvSpPr/>
            <p:nvPr/>
          </p:nvSpPr>
          <p:spPr>
            <a:xfrm>
              <a:off x="2388960" y="474840"/>
              <a:ext cx="5883480" cy="4248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итивизм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Text Box 4"/>
            <p:cNvSpPr/>
            <p:nvPr/>
          </p:nvSpPr>
          <p:spPr>
            <a:xfrm>
              <a:off x="1079640" y="1471320"/>
              <a:ext cx="3724920" cy="507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ть теор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Text Box 5"/>
            <p:cNvSpPr/>
            <p:nvPr/>
          </p:nvSpPr>
          <p:spPr>
            <a:xfrm>
              <a:off x="5399640" y="1471320"/>
              <a:ext cx="3960000" cy="1049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стади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итивизм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Text Box 6"/>
            <p:cNvSpPr/>
            <p:nvPr/>
          </p:nvSpPr>
          <p:spPr>
            <a:xfrm>
              <a:off x="1079640" y="2370960"/>
              <a:ext cx="3960000" cy="4647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должна быть освобождена от ненаучных черт и опираться только на достоверное научное знание;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мнению позитивистов, философия должна исследовать лишь факты (а не их внутреннюю сущность), освободиться от любой оценочной роли, руководствоваться в исследованиях именно научным арсеналом средств (как и любая другая наука), опираться на научный метод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Text Box 7"/>
            <p:cNvSpPr/>
            <p:nvPr/>
          </p:nvSpPr>
          <p:spPr>
            <a:xfrm>
              <a:off x="5399640" y="3091680"/>
              <a:ext cx="3960000" cy="2128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ассический позитивизм (О. Конта 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Спенсера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хизм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зитивизм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позитивизм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Line 8"/>
            <p:cNvSpPr/>
            <p:nvPr/>
          </p:nvSpPr>
          <p:spPr>
            <a:xfrm>
              <a:off x="2879280" y="1979280"/>
              <a:ext cx="1440" cy="36000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Line 9"/>
            <p:cNvSpPr/>
            <p:nvPr/>
          </p:nvSpPr>
          <p:spPr>
            <a:xfrm>
              <a:off x="7378920" y="2518560"/>
              <a:ext cx="1080" cy="5396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Line 10"/>
            <p:cNvSpPr/>
            <p:nvPr/>
          </p:nvSpPr>
          <p:spPr>
            <a:xfrm flipH="1">
              <a:off x="2837880" y="899640"/>
              <a:ext cx="1161720" cy="5396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Line 11"/>
            <p:cNvSpPr/>
            <p:nvPr/>
          </p:nvSpPr>
          <p:spPr>
            <a:xfrm>
              <a:off x="6299640" y="899640"/>
              <a:ext cx="1079280" cy="5396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1"/>
          <p:cNvSpPr/>
          <p:nvPr/>
        </p:nvSpPr>
        <p:spPr>
          <a:xfrm>
            <a:off x="0" y="46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4" name="Group 2"/>
          <p:cNvGrpSpPr/>
          <p:nvPr/>
        </p:nvGrpSpPr>
        <p:grpSpPr>
          <a:xfrm>
            <a:off x="720720" y="210960"/>
            <a:ext cx="8999640" cy="7167240"/>
            <a:chOff x="720720" y="210960"/>
            <a:chExt cx="8999640" cy="7167240"/>
          </a:xfrm>
        </p:grpSpPr>
        <p:grpSp>
          <p:nvGrpSpPr>
            <p:cNvPr id="1725" name="Group 3"/>
            <p:cNvGrpSpPr/>
            <p:nvPr/>
          </p:nvGrpSpPr>
          <p:grpSpPr>
            <a:xfrm>
              <a:off x="720720" y="210960"/>
              <a:ext cx="8999640" cy="7167240"/>
              <a:chOff x="720720" y="210960"/>
              <a:chExt cx="8999640" cy="7167240"/>
            </a:xfrm>
          </p:grpSpPr>
          <p:sp>
            <p:nvSpPr>
              <p:cNvPr id="1726" name="AutoShape 4"/>
              <p:cNvSpPr/>
              <p:nvPr/>
            </p:nvSpPr>
            <p:spPr>
              <a:xfrm>
                <a:off x="7198200" y="6117840"/>
                <a:ext cx="831600" cy="541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Text Box 5"/>
              <p:cNvSpPr/>
              <p:nvPr/>
            </p:nvSpPr>
            <p:spPr>
              <a:xfrm>
                <a:off x="720720" y="1439640"/>
                <a:ext cx="8999640" cy="179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осточный (Китай, Египет и др.) – осознает себя и свободен только один человек – правитель, все остальные – его  рабы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тичный (Греция, Рим, Средневековье) – осознает себя и свободна лишь одна группа, прослойка людей – «верхушка»; все остальные служат ей и зависят от нее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ерманский – осознают себя и свободны все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AutoShape 6"/>
              <p:cNvSpPr/>
              <p:nvPr/>
            </p:nvSpPr>
            <p:spPr>
              <a:xfrm>
                <a:off x="2339640" y="539280"/>
                <a:ext cx="5399640" cy="6298920"/>
              </a:xfrm>
              <a:custGeom>
                <a:avLst/>
                <a:gdLst>
                  <a:gd name="textAreaLeft" fmla="*/ 360 w 5399640"/>
                  <a:gd name="textAreaRight" fmla="*/ 5399280 w 5399640"/>
                  <a:gd name="textAreaTop" fmla="*/ 360 h 6298920"/>
                  <a:gd name="textAreaBottom" fmla="*/ 6298560 h 6298920"/>
                </a:gdLst>
                <a:ahLst/>
                <a:rect l="textAreaLeft" t="textAreaTop" r="textAreaRight" b="textAreaBottom"/>
                <a:pathLst>
                  <a:path w="21600" h="25197">
                    <a:moveTo>
                      <a:pt x="6" y="0"/>
                    </a:moveTo>
                    <a:arcTo wR="6" hR="6" stAng="16200000" swAng="-5400000"/>
                    <a:lnTo>
                      <a:pt x="0" y="25191"/>
                    </a:lnTo>
                    <a:arcTo wR="6" hR="6" stAng="10800000" swAng="-5400000"/>
                    <a:lnTo>
                      <a:pt x="21594" y="25197"/>
                    </a:lnTo>
                    <a:arcTo wR="6" hR="6" stAng="5400000" swAng="-5400000"/>
                    <a:lnTo>
                      <a:pt x="21600" y="6"/>
                    </a:lnTo>
                    <a:arcTo wR="6" hR="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Text Box 7"/>
              <p:cNvSpPr/>
              <p:nvPr/>
            </p:nvSpPr>
            <p:spPr>
              <a:xfrm>
                <a:off x="720720" y="3599280"/>
                <a:ext cx="8999640" cy="9000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зитивистский подход к истории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в несколько измененном виде получил в настоящее время широкое распространение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Text Box 8"/>
              <p:cNvSpPr/>
              <p:nvPr/>
            </p:nvSpPr>
            <p:spPr>
              <a:xfrm>
                <a:off x="720720" y="4857840"/>
                <a:ext cx="5039280" cy="126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тадии развития общества, выделенные Огюстом Контом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Text Box 9"/>
              <p:cNvSpPr/>
              <p:nvPr/>
            </p:nvSpPr>
            <p:spPr>
              <a:xfrm>
                <a:off x="5939280" y="4857840"/>
                <a:ext cx="3779280" cy="1299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тадии развития общества, выделяемые современными западными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лософам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Text Box 10"/>
              <p:cNvSpPr/>
              <p:nvPr/>
            </p:nvSpPr>
            <p:spPr>
              <a:xfrm>
                <a:off x="720720" y="210960"/>
                <a:ext cx="8999640" cy="86976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зитивистский подход к истории в сравнении с теорие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. Гегел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AutoShape 11"/>
              <p:cNvSpPr/>
              <p:nvPr/>
            </p:nvSpPr>
            <p:spPr>
              <a:xfrm>
                <a:off x="4858560" y="1079280"/>
                <a:ext cx="720360" cy="3600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AutoShape 12"/>
              <p:cNvSpPr/>
              <p:nvPr/>
            </p:nvSpPr>
            <p:spPr>
              <a:xfrm>
                <a:off x="3239280" y="4499640"/>
                <a:ext cx="313920" cy="360000"/>
              </a:xfrm>
              <a:prstGeom prst="upDownArrow">
                <a:avLst>
                  <a:gd name="adj1" fmla="val 50000"/>
                  <a:gd name="adj2" fmla="val 22829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AutoShape 13"/>
              <p:cNvSpPr/>
              <p:nvPr/>
            </p:nvSpPr>
            <p:spPr>
              <a:xfrm>
                <a:off x="7558200" y="4499640"/>
                <a:ext cx="313920" cy="360000"/>
              </a:xfrm>
              <a:prstGeom prst="upDownArrow">
                <a:avLst>
                  <a:gd name="adj1" fmla="val 50000"/>
                  <a:gd name="adj2" fmla="val 22829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AutoShape 14"/>
              <p:cNvSpPr/>
              <p:nvPr/>
            </p:nvSpPr>
            <p:spPr>
              <a:xfrm>
                <a:off x="5039640" y="3238920"/>
                <a:ext cx="720360" cy="3600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AutoShape 15"/>
              <p:cNvSpPr/>
              <p:nvPr/>
            </p:nvSpPr>
            <p:spPr>
              <a:xfrm>
                <a:off x="2339640" y="6117840"/>
                <a:ext cx="720360" cy="3600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Text Box 16"/>
              <p:cNvSpPr/>
              <p:nvPr/>
            </p:nvSpPr>
            <p:spPr>
              <a:xfrm>
                <a:off x="4318920" y="6657840"/>
                <a:ext cx="5399640" cy="72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радиционная; доиндустриальная(аграрная)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ндустриальная; постиндустриальна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17"/>
              <p:cNvSpPr/>
              <p:nvPr/>
            </p:nvSpPr>
            <p:spPr>
              <a:xfrm>
                <a:off x="720720" y="6478200"/>
                <a:ext cx="3239280" cy="90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радиционная; доиндустриальная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ндустриальна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1"/>
          <p:cNvSpPr/>
          <p:nvPr/>
        </p:nvSpPr>
        <p:spPr>
          <a:xfrm>
            <a:off x="0" y="46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1" name="Group 2"/>
          <p:cNvGrpSpPr/>
          <p:nvPr/>
        </p:nvGrpSpPr>
        <p:grpSpPr>
          <a:xfrm>
            <a:off x="719280" y="179280"/>
            <a:ext cx="8999280" cy="7198920"/>
            <a:chOff x="719280" y="179280"/>
            <a:chExt cx="8999280" cy="7198920"/>
          </a:xfrm>
        </p:grpSpPr>
        <p:sp>
          <p:nvSpPr>
            <p:cNvPr id="1742" name="Text Box 3"/>
            <p:cNvSpPr/>
            <p:nvPr/>
          </p:nvSpPr>
          <p:spPr>
            <a:xfrm>
              <a:off x="3239280" y="1799640"/>
              <a:ext cx="6478920" cy="5578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должна заниматься логическим анализом языка науки, т.к. язык – главное средство, через которое человек позитивно (достоверно) воспринимать окружающий мир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гический анализ языка – это анализ текста, знаков, понятий, связей внутри знаковых систем, семантика (смысл) знаков (по этим неопозитивизм сближается с герменевтикой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ой принцип неопозитивизма – принцип верификации – сравнения положений науки с фактами опыта. Положение представляет интерес для науки, лишь когда его можно подвергнуть проверке фактам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инство проблем философии должно быть исключено из философии, т.к. она не подлежат верификации и являются проблемами, не имеющими научного разрешения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угой основной целью неопозитивизма (помимо логического анализа языка науки) является освобождение философии от метафизических (не имеющих научного решения)  пробле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AutoShape 4"/>
            <p:cNvSpPr/>
            <p:nvPr/>
          </p:nvSpPr>
          <p:spPr>
            <a:xfrm>
              <a:off x="2917080" y="1066320"/>
              <a:ext cx="3999600" cy="5484960"/>
            </a:xfrm>
            <a:custGeom>
              <a:avLst/>
              <a:gdLst>
                <a:gd name="textAreaLeft" fmla="*/ 360 w 3999600"/>
                <a:gd name="textAreaRight" fmla="*/ 3999240 w 3999600"/>
                <a:gd name="textAreaTop" fmla="*/ 360 h 5484960"/>
                <a:gd name="textAreaBottom" fmla="*/ 5484600 h 5484960"/>
              </a:gdLst>
              <a:ahLst/>
              <a:rect l="textAreaLeft" t="textAreaTop" r="textAreaRight" b="textAreaBottom"/>
              <a:pathLst>
                <a:path w="21600" h="29621">
                  <a:moveTo>
                    <a:pt x="8" y="0"/>
                  </a:moveTo>
                  <a:arcTo wR="8" hR="8" stAng="16200000" swAng="-5400000"/>
                  <a:lnTo>
                    <a:pt x="0" y="29613"/>
                  </a:lnTo>
                  <a:arcTo wR="8" hR="8" stAng="10800000" swAng="-5400000"/>
                  <a:lnTo>
                    <a:pt x="21592" y="29621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Text Box 5"/>
            <p:cNvSpPr/>
            <p:nvPr/>
          </p:nvSpPr>
          <p:spPr>
            <a:xfrm>
              <a:off x="719280" y="1079280"/>
              <a:ext cx="2339280" cy="72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ставител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Text Box 6"/>
            <p:cNvSpPr/>
            <p:nvPr/>
          </p:nvSpPr>
          <p:spPr>
            <a:xfrm>
              <a:off x="3239280" y="1079280"/>
              <a:ext cx="6478920" cy="523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иде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Text Box 7"/>
            <p:cNvSpPr/>
            <p:nvPr/>
          </p:nvSpPr>
          <p:spPr>
            <a:xfrm>
              <a:off x="719280" y="179280"/>
              <a:ext cx="8999280" cy="720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1440" bIns="9144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зитивизм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Text Box 8"/>
            <p:cNvSpPr/>
            <p:nvPr/>
          </p:nvSpPr>
          <p:spPr>
            <a:xfrm>
              <a:off x="719280" y="1978920"/>
              <a:ext cx="2339280" cy="5399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лософия «Венского кружка» (М. Шлик – основатель; последователи – Р. Карнап, О. Нейрат, Г. Рейехенбах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ставители Львовско-Варшавской школы (А. Татарский, Я. Лукасевич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.Рассел (1872-1970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. Витгенштейн (1889-1951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1"/>
          <p:cNvSpPr/>
          <p:nvPr/>
        </p:nvSpPr>
        <p:spPr>
          <a:xfrm>
            <a:off x="0" y="4680"/>
            <a:ext cx="10080720" cy="7559640"/>
          </a:xfrm>
          <a:prstGeom prst="rect">
            <a:avLst/>
          </a:prstGeom>
          <a:solidFill>
            <a:srgbClr val="94bd5e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9" name="Group 2"/>
          <p:cNvGrpSpPr/>
          <p:nvPr/>
        </p:nvGrpSpPr>
        <p:grpSpPr>
          <a:xfrm>
            <a:off x="1046160" y="179280"/>
            <a:ext cx="8527680" cy="7198920"/>
            <a:chOff x="1046160" y="179280"/>
            <a:chExt cx="8527680" cy="7198920"/>
          </a:xfrm>
        </p:grpSpPr>
        <p:grpSp>
          <p:nvGrpSpPr>
            <p:cNvPr id="1750" name="Group 3"/>
            <p:cNvGrpSpPr/>
            <p:nvPr/>
          </p:nvGrpSpPr>
          <p:grpSpPr>
            <a:xfrm>
              <a:off x="1046160" y="179280"/>
              <a:ext cx="8527680" cy="7198920"/>
              <a:chOff x="1046160" y="179280"/>
              <a:chExt cx="8527680" cy="7198920"/>
            </a:xfrm>
          </p:grpSpPr>
          <p:sp>
            <p:nvSpPr>
              <p:cNvPr id="1751" name="AutoShape 4"/>
              <p:cNvSpPr/>
              <p:nvPr/>
            </p:nvSpPr>
            <p:spPr>
              <a:xfrm>
                <a:off x="2373120" y="558360"/>
                <a:ext cx="5683680" cy="6199200"/>
              </a:xfrm>
              <a:custGeom>
                <a:avLst/>
                <a:gdLst>
                  <a:gd name="textAreaLeft" fmla="*/ 360 w 5683680"/>
                  <a:gd name="textAreaRight" fmla="*/ 5683320 w 5683680"/>
                  <a:gd name="textAreaTop" fmla="*/ 360 h 6199200"/>
                  <a:gd name="textAreaBottom" fmla="*/ 6198840 h 6199200"/>
                </a:gdLst>
                <a:ahLst/>
                <a:rect l="textAreaLeft" t="textAreaTop" r="textAreaRight" b="textAreaBottom"/>
                <a:pathLst>
                  <a:path w="21600" h="23559">
                    <a:moveTo>
                      <a:pt x="6" y="0"/>
                    </a:moveTo>
                    <a:arcTo wR="6" hR="6" stAng="16200000" swAng="-5400000"/>
                    <a:lnTo>
                      <a:pt x="0" y="23553"/>
                    </a:lnTo>
                    <a:arcTo wR="6" hR="6" stAng="10800000" swAng="-5400000"/>
                    <a:lnTo>
                      <a:pt x="21594" y="23559"/>
                    </a:lnTo>
                    <a:arcTo wR="6" hR="6" stAng="5400000" swAng="-5400000"/>
                    <a:lnTo>
                      <a:pt x="21600" y="6"/>
                    </a:lnTo>
                    <a:arcTo wR="6" hR="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2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Text Box 5"/>
              <p:cNvSpPr/>
              <p:nvPr/>
            </p:nvSpPr>
            <p:spPr>
              <a:xfrm>
                <a:off x="1046160" y="179280"/>
                <a:ext cx="8526600" cy="56808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сновные проблемы постпозитивизма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Text Box 6"/>
              <p:cNvSpPr/>
              <p:nvPr/>
            </p:nvSpPr>
            <p:spPr>
              <a:xfrm rot="16200000">
                <a:off x="640440" y="5263200"/>
                <a:ext cx="2517120" cy="1706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91440" bIns="9144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сновные проблемы современного постпозитивизм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Text Box 7"/>
              <p:cNvSpPr/>
              <p:nvPr/>
            </p:nvSpPr>
            <p:spPr>
              <a:xfrm>
                <a:off x="1046160" y="936360"/>
                <a:ext cx="8526600" cy="3742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тходит от приоритетности логического исследования символов (языка, научного аппарата) и обращается к истории науки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лавная цель  - исследование не структуры (подобно неопозитивистам) научного знания (языка, понятий), а развития научного  знания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мягчает свое отношение к философии в целом, к проблемам познания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едставители считают, что нет обязательной взаимозависимости между истинностью теории и ее верифицируемостью (возможностью проверки на опыте), как нет жесткого противоречия между общим смыслом науки и языком науки, а также не обязательно исключать неверифицируемые (метафизические, ненаучные) проблемы из философии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 мнению постпозитивистов, наука развивается не строго линейно, а скачкообразно, имеет взлеты и падения, но общая тенденция направлена к росту и совершенствованию научного знания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Text Box 8"/>
              <p:cNvSpPr/>
              <p:nvPr/>
            </p:nvSpPr>
            <p:spPr>
              <a:xfrm>
                <a:off x="2943000" y="4857840"/>
                <a:ext cx="6630840" cy="252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фальсификации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правдоподобия научных теорий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рациональности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соизмеримости научных теорий;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8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блема понимания, нахождения общих точек зрения между представителями антагонистических теорий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3-05-23T05:39:43Z</dcterms:modified>
  <cp:revision>1</cp:revision>
  <dc:subject/>
  <dc:title>Слайд 1</dc:title>
</cp:coreProperties>
</file>