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4F3-9415-4E65-B12C-06E3B473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C9E-1E72-4556-BDDE-68735D3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34A-62DC-4544-96CB-F3FEDF07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E9F-CF9C-43D4-B534-B315624E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AF6-B1ED-4C3B-B412-C45AE2C8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36FD-DAD8-4E8C-92B5-DF60F82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9B3E-CB4C-4EDC-89EC-4551744E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E62-576F-415C-8D11-FF380FE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1AE0-AC0A-465C-95DF-91BCC339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16F-23F0-473B-8662-3F314CFD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B91-D519-4846-B608-A3B892B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ECE-D869-423C-A3BE-FF067FD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5686-AC7A-4656-B567-0B9038C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91FD-2FAA-49F6-9042-65CFFC8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AAF-4F2C-478A-A4BF-F7FC09C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3E5-F472-4ABA-8F4E-212DA0A2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0F32-6366-464B-9521-087BE363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349-3195-45E9-B93A-6510476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766-FF48-4B5A-B7FF-9ED204E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132-3F0D-496F-BAFD-45647C2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354-510E-44C8-AABC-E38D52B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FAB-A6FB-4D40-9C75-6DC0BE9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711-C57B-444F-A779-9FF4909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58D-F9B2-4E2D-9D1F-654D542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4EB-6A9B-41E9-B5FB-6404D111E7FE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EBB5-81A3-4F47-B4EA-AC80D82159D1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37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Скругленный прямоугольник 4"/>
          <p:cNvSpPr/>
          <p:nvPr/>
        </p:nvSpPr>
        <p:spPr>
          <a:xfrm>
            <a:off x="2268360" y="476280"/>
            <a:ext cx="43912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7030a0"/>
                </a:solidFill>
                <a:uFillTx/>
                <a:latin typeface="Constantia"/>
              </a:rPr>
              <a:t>Театры Японии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99920"/>
            <a:ext cx="446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хання изображает лицо разгневанной женщины. Ханья – ведьма, преследующий людей демон злобы. Рога у маски (от выражения «отрастить рога» — разгневаться) означают, что разгневанная женщина похожа на дьявола. Раскраска лица также означает степень страсти и гнева. Отличительная особенность маски — большой рот, как считают, свидетельствующий о крайней истерич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Рисунок 4" descr="1_IV_02b.jpg"/>
          <p:cNvPicPr/>
          <p:nvPr/>
        </p:nvPicPr>
        <p:blipFill>
          <a:blip r:embed="rId1"/>
          <a:stretch/>
        </p:blipFill>
        <p:spPr>
          <a:xfrm>
            <a:off x="5219640" y="1052640"/>
            <a:ext cx="3924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557360"/>
            <a:ext cx="44276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цура обозначает задумчивость, озабоченность, неуверенность. Внешние концы бровей опущены, уголки губ опущены, все лицо вытянуто. С давних пор в Японии считается, что человек с таким выражением лица является игрушкой в руках судьбы. Такие типы обычно предполагают одиночество, над ними довлеют раздумья, нередко они боятся «как бы чего не вышло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Рисунок 3" descr="1251962759_04.-tsura.jpg"/>
          <p:cNvPicPr/>
          <p:nvPr/>
        </p:nvPicPr>
        <p:blipFill>
          <a:blip r:embed="rId1"/>
          <a:stretch/>
        </p:blipFill>
        <p:spPr>
          <a:xfrm>
            <a:off x="4352760" y="1189080"/>
            <a:ext cx="47977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кобэсими имеет две характерные особенности — преувеличенно большие глаза и специфически сомкнутые губы. Издавна в Японии людей, изображенных с помощью этой маски, относили к страстным, темпераментным натурам, нередко прибегающим к резким суждениям. Глаза здесь свидетельствуют о пытливости характера, а сомкнутый рот с опущенными уголками губ указывает на то, что обладатель его постоянно в чем-то сомневается, что-то ищет, исследу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Рисунок 3" descr="1251963078_05.-kobesimi.jpg"/>
          <p:cNvPicPr/>
          <p:nvPr/>
        </p:nvPicPr>
        <p:blipFill>
          <a:blip r:embed="rId1"/>
          <a:stretch/>
        </p:blipFill>
        <p:spPr>
          <a:xfrm>
            <a:off x="4427640" y="1197000"/>
            <a:ext cx="4716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83920"/>
            <a:ext cx="38512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дэйган изображает людей замкнутых, болезненных, постоянно неудовлетворенных. Если такого человека хорошенько вовлечь в деятельность, думают японцы, то усталость его может со временем прой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0" name="Рисунок 3" descr="1251963038_06.-deygan.jpg"/>
          <p:cNvPicPr/>
          <p:nvPr/>
        </p:nvPicPr>
        <p:blipFill>
          <a:blip r:embed="rId1"/>
          <a:stretch/>
        </p:blipFill>
        <p:spPr>
          <a:xfrm>
            <a:off x="4427640" y="1052640"/>
            <a:ext cx="4716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83920"/>
            <a:ext cx="435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у отобидэ отличает большой рот. Японцы наделяют людей с большим ртом различными положительными качествами, они считают, что такие люди великодушны, справедливы и правильно оценивают человеческие качества. Обычно большой рот говорит о незаурядном здоровье, физической полноцен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Рисунок 3" descr="1251963085_07.-otoobide.jpg"/>
          <p:cNvPicPr/>
          <p:nvPr/>
        </p:nvPicPr>
        <p:blipFill>
          <a:blip r:embed="rId1"/>
          <a:stretch/>
        </p:blipFill>
        <p:spPr>
          <a:xfrm>
            <a:off x="4284720" y="1125360"/>
            <a:ext cx="4859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412640"/>
            <a:ext cx="4356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мицухирэ (героя) свидетельствует о мятежном складе натуры, о бунтарских наклонностях. Шрам на лбу героя служит устрашающим знаком для его соперников. Этот шрам свидетельствует о бурно прожитых годах, об отчаянном поведении. Сведенные брови и вздернутые вверх их внешние концы — показатель решительности и непоколебим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Рисунок 3" descr="1251963033_08.-mitsuhire.jpg"/>
          <p:cNvPicPr/>
          <p:nvPr/>
        </p:nvPicPr>
        <p:blipFill>
          <a:blip r:embed="rId1"/>
          <a:stretch/>
        </p:blipFill>
        <p:spPr>
          <a:xfrm>
            <a:off x="4295880" y="1125360"/>
            <a:ext cx="4848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988640"/>
            <a:ext cx="43560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	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кохару (лицо героини) — обычное стилизованное лицо японской женщины: вытянутый овал, узкие вскинутые брови, маленький рот, напомаженные губы, отсутствующий взгляд. Такое лицо говорит о глубоких чувствах, определенной скрытности и кокетлив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Рисунок 3" descr="1251963025_09.-koharu.jpg"/>
          <p:cNvPicPr/>
          <p:nvPr/>
        </p:nvPicPr>
        <p:blipFill>
          <a:blip r:embed="rId1"/>
          <a:stretch/>
        </p:blipFill>
        <p:spPr>
          <a:xfrm>
            <a:off x="4330800" y="1125360"/>
            <a:ext cx="48132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700280"/>
            <a:ext cx="435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	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тярикуби (тяри — интересный, привлекательный) — второстепенный персонаж кукольного театра. У него круглое лицо добряка, широко открытый рот, круглый нос, высокий лоб. Как правило, этот персонаж нравится людям, они питают к нему теплые чув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1251963104_10.-tyarikubi.jpg"/>
          <p:cNvPicPr/>
          <p:nvPr/>
        </p:nvPicPr>
        <p:blipFill>
          <a:blip r:embed="rId1"/>
          <a:stretch/>
        </p:blipFill>
        <p:spPr>
          <a:xfrm>
            <a:off x="4427640" y="1197000"/>
            <a:ext cx="4716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7" descr="cb74a5ae596f.jp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333000"/>
            <a:ext cx="7236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i="1" lang="ru-RU" sz="2300" spc="-1" strike="noStrike">
                <a:solidFill>
                  <a:srgbClr val="7030a0"/>
                </a:solidFill>
                <a:latin typeface="Book Antiqua"/>
              </a:rPr>
              <a:t>Японские театры, до последних годов не были популярны в мире, но за последнее десятилетие мировая мода на всё японское коснулась и  театральной жизни. И сегодня, выступления любого традиционного театра Страны восходящего Солнца является событием в культурной жизни любого европейского города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ff56e1cc012cfa3465e0c13cb3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7" descr=""/>
          <p:cNvPicPr/>
          <p:nvPr/>
        </p:nvPicPr>
        <p:blipFill>
          <a:blip r:embed="rId2"/>
          <a:stretch/>
        </p:blipFill>
        <p:spPr>
          <a:xfrm>
            <a:off x="1463760" y="171360"/>
            <a:ext cx="16142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jp-kabuki-4.jpg"/>
          <p:cNvPicPr/>
          <p:nvPr/>
        </p:nvPicPr>
        <p:blipFill>
          <a:blip r:embed="rId1"/>
          <a:stretch/>
        </p:blipFill>
        <p:spPr>
          <a:xfrm>
            <a:off x="0" y="3716280"/>
            <a:ext cx="470844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content_.jpg"/>
          <p:cNvPicPr/>
          <p:nvPr/>
        </p:nvPicPr>
        <p:blipFill>
          <a:blip r:embed="rId2"/>
          <a:stretch/>
        </p:blipFill>
        <p:spPr>
          <a:xfrm>
            <a:off x="5076720" y="3363840"/>
            <a:ext cx="3888000" cy="3494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 Antiqua"/>
              </a:rPr>
              <a:t>   </a:t>
            </a:r>
            <a:r>
              <a:rPr b="0" i="1" lang="ru-RU" sz="2600" spc="-1" strike="noStrike">
                <a:solidFill>
                  <a:srgbClr val="7030a0"/>
                </a:solidFill>
                <a:latin typeface="Book Antiqua"/>
              </a:rPr>
              <a:t>В настоящее время в Японии существуют три вида театров: </a:t>
            </a:r>
            <a:r>
              <a:rPr b="1" i="1" lang="ru-RU" sz="2600" spc="-1" strike="noStrike">
                <a:solidFill>
                  <a:srgbClr val="7030a0"/>
                </a:solidFill>
                <a:latin typeface="Book Antiqua"/>
              </a:rPr>
              <a:t>«Кабуки», «Но», «Бунрак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Рисунок 3" descr="0f9cacec487c.jpg"/>
          <p:cNvPicPr/>
          <p:nvPr/>
        </p:nvPicPr>
        <p:blipFill>
          <a:blip r:embed="rId3"/>
          <a:stretch/>
        </p:blipFill>
        <p:spPr>
          <a:xfrm>
            <a:off x="1835280" y="2133720"/>
            <a:ext cx="4608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549360"/>
            <a:ext cx="4392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Book Antiqua"/>
              </a:rPr>
              <a:t>   </a:t>
            </a:r>
            <a:r>
              <a:rPr b="1" i="1" lang="ru-RU" sz="2400" spc="-1" strike="noStrike">
                <a:solidFill>
                  <a:srgbClr val="7030a0"/>
                </a:solidFill>
                <a:latin typeface="Book Antiqua"/>
              </a:rPr>
              <a:t>Бунраку</a:t>
            </a:r>
            <a:r>
              <a:rPr b="0" i="1" lang="ru-RU" sz="2400" spc="-1" strike="noStrike">
                <a:solidFill>
                  <a:srgbClr val="7030a0"/>
                </a:solidFill>
                <a:latin typeface="Book Antiqua"/>
              </a:rPr>
              <a:t> – горячо любимый японцами вид кукольного театра, представление в котором сопровождается игрой на сямисэне – японском трехструнном щипковом инструменте. Кукла Бунраку не имеет тела. Она представляет собой деревянную раму прямоугольной формы, опутанную сложным переплетением нитей, которые крепятся к голове, рукам и иногда ногам. В зависимости от предстоящей роли на любую раму крепят соответствующую голову, руки и но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Рисунок 5" descr="39775957_111111111111.png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360" y="404640"/>
            <a:ext cx="4211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200" spc="-1" strike="noStrike">
                <a:solidFill>
                  <a:srgbClr val="7030a0"/>
                </a:solidFill>
                <a:latin typeface="Book Antiqua"/>
              </a:rPr>
              <a:t>Куклы бунраку могут не только шевелить конечностями и головой, но и любым пальцем, а еще они умеют моргать, высовывать язык, шевелить бровями и двигать зрачками и губами. Размер кукол составляет от половины до двух третей человеческого роста. Каждую куклу ведут аж 3 человека. Главный кукловод – омодзукай, он управляет головой и правой рукой. Хидари-дзукай обеспечивает движение левой руки, а аси-дзукай управляет ногами.</a:t>
            </a:r>
            <a:r>
              <a:rPr b="0" i="1" lang="ru-RU" sz="2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i="1" lang="ru-RU" sz="2200" spc="-1" strike="noStrike">
                <a:solidFill>
                  <a:srgbClr val="7030a0"/>
                </a:solidFill>
                <a:latin typeface="Book Antiqua"/>
              </a:rPr>
              <a:t>Сюжеты театра довольно грустные, но всегда философские, с глубокой сутью и размышлениями о вечн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Рисунок 4" descr="0a310345945eab9cfecca3b057a9b727.jpg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39237956.jpg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6021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78920" y="1125360"/>
            <a:ext cx="40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Составляющие театра Кабуки глубоко символичны. Яркий грим, выбеленные рисовой мукой лица актеров: все эти черты, присущие театру Кабуки, используются и в современных постановках. Театр Кабуки отличается оригинальным устройством сцены: на нее актеры попадают прямо из зрительского зала, пройдя по длинным дорожкам, которые еще называют «цветочной тропою». Для театра Кабуки характерны вращающиеся сцены и внезапно открывающиеся лю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2556000" y="189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onstantia"/>
              </a:rPr>
              <a:t>Театр Кабу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14485324.jpg"/>
          <p:cNvPicPr/>
          <p:nvPr/>
        </p:nvPicPr>
        <p:blipFill>
          <a:blip r:embed="rId1"/>
          <a:stretch/>
        </p:blipFill>
        <p:spPr>
          <a:xfrm>
            <a:off x="-154080" y="0"/>
            <a:ext cx="94521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716360" y="3284640"/>
            <a:ext cx="3959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200" spc="-1" strike="noStrike">
                <a:solidFill>
                  <a:srgbClr val="7030a0"/>
                </a:solidFill>
                <a:latin typeface="Constantia"/>
              </a:rPr>
              <a:t>Музыка — неотъемлемая часть искусства Кабуки. Для сопровождения пения и действия спектакля в театре используется целый ряд музыкальных инструментов, но основным является трехструнный инструмент сямисэ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Японская+музыка[www.vpleer.ru].mp3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609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Masks_NOU_M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31640" y="333000"/>
            <a:ext cx="532764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Театр Но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22" name="Содержимое 2" descr=""/>
          <p:cNvPicPr/>
          <p:nvPr/>
        </p:nvPicPr>
        <p:blipFill>
          <a:blip r:embed="rId2"/>
          <a:stretch/>
        </p:blipFill>
        <p:spPr>
          <a:xfrm>
            <a:off x="-189000" y="1249200"/>
            <a:ext cx="9382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484280"/>
            <a:ext cx="42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 </a:t>
            </a: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Маска тэнгу изображает сказочного героя, обладающего сверхъестественной силой, способного парить в воздухе и прыгать по крутым скалам. Маска тэнгу отрицательных черт характера, в частности излишней самоуверенности, надменности, хвастовства. Для этого маска имеет характерную экспрессию: сведенные брови, внешние концы которых подняты; выпученные глаза; приподнятый подбородок; растянутые сжатые губы; крупный мясистый но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Рисунок 3" descr="2.jpg"/>
          <p:cNvPicPr/>
          <p:nvPr/>
        </p:nvPicPr>
        <p:blipFill>
          <a:blip r:embed="rId1"/>
          <a:stretch/>
        </p:blipFill>
        <p:spPr>
          <a:xfrm>
            <a:off x="3924360" y="1052640"/>
            <a:ext cx="521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Основные виды масок театра «Но» 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700280"/>
            <a:ext cx="421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i="1" lang="ru-RU" sz="2200" spc="-1" strike="noStrike">
                <a:solidFill>
                  <a:srgbClr val="7030a0"/>
                </a:solidFill>
                <a:latin typeface="Constantia"/>
              </a:rPr>
              <a:t>Маска отафуку представляет собой полную противоположность тэнгу: цвет бледно-пепельный, выражение умеренно-скрытное. В японской культуре отсутствие ярко выраженных чувств издавна символизирует счастье и удовлетворенность. У японцев эта маска ассоциируется с жизнерадостным характер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Рисунок 3" descr="00dc87re.jpg"/>
          <p:cNvPicPr/>
          <p:nvPr/>
        </p:nvPicPr>
        <p:blipFill>
          <a:blip r:embed="rId1"/>
          <a:stretch/>
        </p:blipFill>
        <p:spPr>
          <a:xfrm>
            <a:off x="4716360" y="1125360"/>
            <a:ext cx="4427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4:09:17Z</dcterms:created>
  <dc:creator>МАШУНЯ</dc:creator>
  <dc:description/>
  <dc:language>en-US</dc:language>
  <cp:lastModifiedBy>Чечулина</cp:lastModifiedBy>
  <dcterms:modified xsi:type="dcterms:W3CDTF">2012-03-19T11:58:40Z</dcterms:modified>
  <cp:revision>40</cp:revision>
  <dc:subject/>
  <dc:title>Театры Японии</dc:title>
</cp:coreProperties>
</file>