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5290-19C9-4889-97AF-D7CF1FAB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077-8A91-4A0F-8E3C-EDD5118D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F60-EBC3-4248-BEA4-A4DB38DF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E823-87BE-4524-BC72-E47C03A0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58D2-B0C5-4FD9-88B3-15DFE0DE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440B-F8E4-4A39-876F-F05FACD1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984F-AAD0-4394-9BDC-CCACB5D8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AA15-FF4B-4D49-B86D-208E3F81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9521-219B-4614-963A-2369D8EF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2E91-8CE3-4C83-8E63-CE7F57E8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3758-0966-4735-8EBD-50EC2205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3BC-19E3-40B8-A77D-59BA7962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2913-E34A-4324-BC2D-EA84C827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15A7-40EE-4DBC-AB18-3D785B9B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4C39-5E7E-4003-9170-356D484F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3BBF-B26F-48BD-B91B-D6EA2A87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F6D2-4C5F-47AC-A977-B5DB636E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ED8-2F32-4998-915B-6C4AA110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5AB-C2E3-4A3E-B9F1-27934D23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C9C-DB44-4355-B7C8-E955C47E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E1C-9F61-46AE-A324-AE4B080F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344-E659-4F4C-8EEB-C1089F49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F22-DE51-4215-A9C0-885BB7F2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2FE-B44B-4C77-B72E-FE12EF8D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2279-BB84-48BE-BC53-ED39637701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A3FC-F577-4C87-84F2-D7F15F915F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32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ОСНОВЫ ТЕОРИИ ДЕНЕГ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. Функции денег. Денежная масса и ее агрегаты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ньги – совокупность активов, которые регулярно используются хозяйствующими субъектами для покупки товаров и услуг у других хозяйствующих субъект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ункции денег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Средство обращ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ньги – это особый актив, который покупатели передают продавцам при покупке товаров и услу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Мера стоим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нежная единица – является единицей измерения ценностей (расстояние – 1 м, 1 км, и т. д.; масса – граммы, кг и т. д.; цены – в рублях, долларах, евро и т. д.).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Средство накоп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ньки – средство используемое людьми для переноса покупательной способности из настоящего в будуще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определения степени легкости, с которой любой вид активов может быть превращен в принятое в экономике средство обращения, вводится понятие ликвид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личество обращающихся денег в экономике называют денежной массой  или денежным предложением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ey supply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нежная база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etary bas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– наличные банкноты и монеты в обращении за пределами центрального банка + резерв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степени ликвидности денежная масса делится на агрегат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врозона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1 = наличные в обращении на руках у населения + депозиты «до востребования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2 = М1 + депозиты до 2-х лет + депозиты с предварительным уведомлением об изъяти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3 = М2 + РЕПО + средства и бумаги денежного рын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ША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0 = наличные в обращени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1 = М0 + бессрочные депозиты  + дорожные чек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2 = М1 + сберегательные вклады, акции взаимных фонд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ларусь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0 = наличные банкноты вне нац. банка (т. е. на руках у физических лиц и в кассах юридических лиц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1 = М0 + остатки средств юридических и физических лиц – резидентов Республики Беларусь на текущих, депозитных и иных счетах до востребования в белорусских рублях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2 = М1 + срочные депозиты, открытые в банках юридическими и физическими лицами –  резидентами Республики Беларусь в белорусских рублях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2* = М2 + средства в ценных бумагах (кроме акций) юридических и физических лиц –  резидентов Республики Беларусь в белорусских рублях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3 = М2*  + все депозиты в иностранной валюте и драгоценных материалах юридических и физических лиц –  резидентов РБ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. Регулирование денежной массы при двухуровневой банковской системе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нковские систем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. Одноуровнева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только центральный банк или только частные банк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. Двухуровнева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тральный бан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мерческий банк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Частичное банковское резервирование и создание денег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100% банковском резервировании баланс банка 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26920" y="3284640"/>
          <a:ext cx="5329440" cy="1655640"/>
        </p:xfrm>
        <a:graphic>
          <a:graphicData uri="http://schemas.openxmlformats.org/drawingml/2006/table">
            <a:tbl>
              <a:tblPr/>
              <a:tblGrid>
                <a:gridCol w="2665440"/>
                <a:gridCol w="2664000"/>
              </a:tblGrid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ы (руб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сивы (руб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ервы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клады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частичном банковском резервировании 10% баланс банка 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ланс банка 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76360" y="1268280"/>
          <a:ext cx="5688000" cy="2189160"/>
        </p:xfrm>
        <a:graphic>
          <a:graphicData uri="http://schemas.openxmlformats.org/drawingml/2006/table">
            <a:tbl>
              <a:tblPr/>
              <a:tblGrid>
                <a:gridCol w="2844720"/>
                <a:gridCol w="2843280"/>
              </a:tblGrid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ы (руб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сивы (руб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ервы 1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диты 9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клады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47640" y="4076640"/>
          <a:ext cx="5616720" cy="23050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ы (руб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сивы (руб.)_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ервы 9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диты 81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клады 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ланс банка 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е предложение денег 1000 ру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19280" y="907920"/>
          <a:ext cx="5473800" cy="1513080"/>
        </p:xfrm>
        <a:graphic>
          <a:graphicData uri="http://schemas.openxmlformats.org/drawingml/2006/table">
            <a:tbl>
              <a:tblPr/>
              <a:tblGrid>
                <a:gridCol w="2736720"/>
                <a:gridCol w="2737080"/>
              </a:tblGrid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ы (руб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сивы (руб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ервы 8.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диты 72.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клады 81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.Возникновение и эволюция денег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апы становления и развития денег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Прямой единичный товарообмен Т – Т (бартер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Развитый бартер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унция со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овц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топора   =   3 локтя холс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мешка зер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личество денег производимое банковской системой из каждого рубля резервов называют денежным мультипликатор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норма резерв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: при 10% (0.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4572000" y="1989000"/>
                <a:ext cx="129708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Rectangle 7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3203640" y="4508640"/>
                <a:ext cx="288108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9560" indent="-75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870264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струменты центрального банка, используемые для регулирования денежной масс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9560" indent="-75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870264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ерации на открытом рынке (покупка и продажа центральным банком государственных облигаций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9560" indent="-75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870264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тная ставка или ставка рефинансирования (процент, взымаемый центральным банком по кредитам, выдаваемым коммерческим банкам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9560" indent="-75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870264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тановление нормы обязательных резервов (Например в РБ 6% депозитов физических лиц; 10%  –  юридических лиц; 10%  –   валютных депозитов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.Измерение покупательской способности денег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следование потребительской рынка с целью определения состава потребительской корзин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, корзина состоит из: 4 бананов и 2 апельсин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8920" y="115560"/>
            <a:ext cx="871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Определение цен каждого товара (услуги) в наблюдаемые го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Вычисление стоимости потребительской корзи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11280" y="1052640"/>
          <a:ext cx="7994520" cy="1888920"/>
        </p:xfrm>
        <a:graphic>
          <a:graphicData uri="http://schemas.openxmlformats.org/drawingml/2006/table">
            <a:tbl>
              <a:tblPr/>
              <a:tblGrid>
                <a:gridCol w="2728800"/>
                <a:gridCol w="2536920"/>
                <a:gridCol w="272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н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пельс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11280" y="3933720"/>
          <a:ext cx="8064360" cy="2125800"/>
        </p:xfrm>
        <a:graphic>
          <a:graphicData uri="http://schemas.openxmlformats.org/drawingml/2006/table">
            <a:tbl>
              <a:tblPr/>
              <a:tblGrid>
                <a:gridCol w="1577880"/>
                <a:gridCol w="64864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имость потребительской корз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х 4 + 2 х 2 = 8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х 4 + 3 х 2 = 14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х 4 + 4 х 2 = 20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Выбор цен базисного года и вычисление ИПЦ из каждый го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Определение темпов инфляц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дексы рассчитываются также по регионам, видам това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8360" y="1341360"/>
          <a:ext cx="7559640" cy="1800360"/>
        </p:xfrm>
        <a:graphic>
          <a:graphicData uri="http://schemas.openxmlformats.org/drawingml/2006/table">
            <a:tbl>
              <a:tblPr/>
              <a:tblGrid>
                <a:gridCol w="1758960"/>
                <a:gridCol w="5800680"/>
              </a:tblGrid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/ 8 х 100 =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 / 8 х 100 = 1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 / 8 х 100 = 2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68360" y="3933720"/>
          <a:ext cx="7559640" cy="1224000"/>
        </p:xfrm>
        <a:graphic>
          <a:graphicData uri="http://schemas.openxmlformats.org/drawingml/2006/table">
            <a:tbl>
              <a:tblPr/>
              <a:tblGrid>
                <a:gridCol w="1830240"/>
                <a:gridCol w="5729400"/>
              </a:tblGrid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75 – 100) / 100 х 100% = 75%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50 – 175) / 175 х 100% = 4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43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декс Пааше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декс Ласпейрса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декс Фишера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003640" y="189000"/>
                <a:ext cx="3024360" cy="22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sSubSup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Q</m:t>
                            </m:r>
                            <m:sSubSup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sSubSup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Q</m:t>
                            </m:r>
                            <m:sSubSup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Rectangle 7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5148360" y="2997360"/>
                <a:ext cx="288108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л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sSubSup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Q</m:t>
                            </m:r>
                            <m:sSubSup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sSubSup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Q</m:t>
                            </m:r>
                            <m:sSubSup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8"/>
              <p:cNvSpPr txBox="1"/>
              <p:nvPr/>
            </p:nvSpPr>
            <p:spPr>
              <a:xfrm>
                <a:off x="5508720" y="5950080"/>
                <a:ext cx="22320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Iл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Iп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. Инфляция: причины, виды, последствия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фляция – снижение покупательной способности денег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фляция – рост покупательной способности денег (в США в 1880 – 1896 гг. цены снизились на 23%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зинфляция – снижение темпа инфля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Виды инфляции: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рытая (рост цен в  соответствии с темпом обесценения денег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рытая (подавленная) при искусственном сдерживании цен государством образуются дефицит и очеред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п инфляции – процент изменения ИПЦ относительно предшествующего период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темпу инфляция делится на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зучую (рост цен до 10% в год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алопирующую (рост цен до 100% в год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иперинфляцию (рост цен свыше 100% в год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ричины инфляции делятся на 2 группы: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. Инфляция спрос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1. Потребительская инфляция (рост заработной платы, опережающий рост производительности труда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2. Инвестиционная инфляция (инвестиции превышают сбережения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3. Фискальная инфляция (расходы государственного бюджета превышают его доходы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. Инфляция издержек (причина – рост затрат фирм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Появление денежного това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топ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овца                      =    1 унция со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локтя холс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Благородные метал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топ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овца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локтя холста     =    1 доля золота, 23 доли серебр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унция со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дствия инфляции неоднозначны для различных субъектов хозяйствова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едиторы проигрывают, заемщики выигрываю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, кто в активе имеет деньги, облагаются «инфляционным налогом»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держки «стоптанных башмаков» (субъекты хозяйствования тратят много времени и ресурсов на то, чтобы поскорее обменять деньги на товары, валюту и др.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держки «меню» (фирмы вынуждены чаще рассылать каталоги и менять ценники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целом, искажается ценовой механизм, дезориентируются фирмы и домохозяй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Неполноценные металлические, бумажные и кредитные 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ксель     банкн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Безналичные деньг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лектронные деньги 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0492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. Трудовая, номиналистическая и количественная теории денег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удовая теория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В. Петти, К. Маркс, марксисты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ньги – особый товар, стихийно выделившийся из мира товаров и выполняющий денежные функ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Товар – продукт труда, предназначенный для обмена путем купли – продажи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ноценные деньги – золото и серебро. Банкноты – суррогат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миналистическая теория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А. Смит, французские «просветители»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ньги – условные знаки, не имеющие внутренней цен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ньги – продукт общественного договора. Доверие к ним – это доверие к власти, их выпустивш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личественная теория: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жит в основе большинства современных теорий денег (Д. Юм, Д. Рикардо; С. Ньюкомб; И. Фишер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ньги – любой актив, выполняющий  денежные функ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сь вопрос не в качестве денег, а в их количестве в экономик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равнение обмен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V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Q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ли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V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T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ли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V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денежная м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скорость обращения денежной единиц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значение це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количество произведенных товаров и услу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проданные товары и услуги (количество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Q = p1 q1 + p2q2 + … + pnq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ьюкомб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     cons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 изменение их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звано немонетарным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акторам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M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3780000" y="1341360"/>
                <a:ext cx="431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5" name="Rectangle 7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843280" y="2421000"/>
                <a:ext cx="5047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8" name="Picture 10" descr=""/>
          <p:cNvPicPr/>
          <p:nvPr/>
        </p:nvPicPr>
        <p:blipFill>
          <a:blip r:embed="rId1"/>
          <a:stretch/>
        </p:blipFill>
        <p:spPr>
          <a:xfrm>
            <a:off x="3780000" y="2492280"/>
            <a:ext cx="4316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2:49:25Z</dcterms:created>
  <dc:creator>ssobolevskii</dc:creator>
  <dc:description/>
  <dc:language>en-US</dc:language>
  <cp:lastModifiedBy>Admin</cp:lastModifiedBy>
  <dcterms:modified xsi:type="dcterms:W3CDTF">2013-03-08T07:05:31Z</dcterms:modified>
  <cp:revision>5</cp:revision>
  <dc:subject/>
  <dc:title>ОСНОВЫ ТЕОРИИ ДЕНЕГ</dc:title>
</cp:coreProperties>
</file>