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C4DB-A3E3-4969-8FF0-8DA2ABED1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CB80-4037-43DB-B0B8-4A7AFBFE6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AE3C-1AE6-4348-ABF8-DC2B1EFD9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9BE0-C016-42EC-A44B-B16057CF4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6097A-D0F1-49D3-9E2D-860C34302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EB7DD-04C9-4FEF-8E1B-5E436343D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D43EE-AA09-4032-AFEA-16FFBD4D6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3C8BC-C693-44CF-B63A-EA4EC8BDC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25B6C-690E-4D6E-8779-84FB4D249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C6B11-EEA9-4DCD-A54B-CDEDA08B6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56EE4-F288-407C-9428-2E0B9745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3EAE-19B6-4794-91D7-97F0AB226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5C530-8CCA-4B83-B9ED-7D20C475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A40D0-7197-4BC9-B388-1F538202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A5FBD-9711-465E-BDA9-1C896835F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AE661-490A-4ACA-8564-882A1D186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2BB55-B65E-47BA-B155-3A77C2B7E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5877-5E9D-46BD-BBC7-F12805A47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5540-6B29-47AF-8256-B041667FB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B2A9-284D-49A9-B384-9A86F887F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AB8A-7F01-4D0A-B003-9D5A426C9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AE60-B46E-40C0-86F3-D7C83BBA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AC9A-7822-4DDE-8EAE-80E5035D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D417-7FE0-4405-A142-7B62C86A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66A6A-0719-4DD0-8862-0D058F4FE3F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3A75C-1973-42ED-9A6D-40735054298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324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eec94"/>
                </a:solidFill>
                <a:latin typeface="Times New Roman"/>
              </a:rPr>
              <a:t>ОСНОВЫ ТЕОРИИ ДЕНЕГ</a:t>
            </a:r>
            <a:endParaRPr b="1" lang="en-US" sz="66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3. Функции денег. Денежная масса и ее агрегаты.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еньги – совокупность активов, которые регулярно используются хозяйствующими субъектами для покупки товаров и услуг у других хозяйствующих субъектов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640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Функции денег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Средство обраще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ньги – это особый актив, который покупатели передают продавцам при покупке товаров и услу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Мера стоимост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нежная единица – является единицей измерения ценностей (расстояние – 1 м, 1 км, и т. д.; масса – граммы, кг и т. д.; цены – в рублях, долларах, евро и т. д.).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II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Средство накопле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ньки – средство используемое людьми для переноса покупательной способности из настоящего в будуще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ля определения степени легкости, с которой любой вид активов может быть превращен в принятое в экономике средство обращения, вводится понятие ликвидност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личество обращающихся денег в экономике называют денежной массой  или денежным предложением (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ey supply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нежная база 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etary base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) – наличные банкноты и монеты в обращении за пределами центрального банка + резерв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 степени ликвидности денежная масса делится на агрегаты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врозона –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1 = наличные в обращении на руках у населения + депозиты «до востребования»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2 = М1 + депозиты до 2-х лет + депозиты с предварительным уведомлением об изъятии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3 = М2 + РЕПО + средства и бумаги денежного рынк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ША –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0 = наличные в обращении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1 = М0 + бессрочные депозиты  + дорожные чеки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2 = М1 + сберегательные вклады, акции взаимных фонд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еларусь –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0 = наличные банкноты вне нац. банка (т. е. на руках у физических лиц и в кассах юридических лиц)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1 = М0 + остатки средств юридических и физических лиц – резидентов Республики Беларусь на текущих, депозитных и иных счетах до востребования в белорусских рублях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2 = М1 + срочные депозиты, открытые в банках юридическими и физическими лицами –  резидентами Республики Беларусь в белорусских рублях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2* = М2 + средства в ценных бумагах (кроме акций) юридических и физических лиц –  резидентов Республики Беларусь в белорусских рублях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3 = М2*  + все депозиты в иностранной валюте и драгоценных материалах юридических и физических лиц –  резидентов РБ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4. Регулирование денежной массы при двухуровневой банковской системе.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анковские системы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А. Одноуровнева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только центральный банк или только частные банки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Б. Двухуровнева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Центральный банк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ммерческий банк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Частичное банковское резервирование и создание денег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 100% банковском резервировании баланс банка 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826920" y="3284640"/>
          <a:ext cx="5329440" cy="1655640"/>
        </p:xfrm>
        <a:graphic>
          <a:graphicData uri="http://schemas.openxmlformats.org/drawingml/2006/table">
            <a:tbl>
              <a:tblPr/>
              <a:tblGrid>
                <a:gridCol w="2665440"/>
                <a:gridCol w="2664000"/>
              </a:tblGrid>
              <a:tr h="830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ктивы (руб.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ассивы (руб.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зервы 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клады 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78920" y="333360"/>
            <a:ext cx="87138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 частичном банковском резервировании 10% баланс банка 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аланс банка 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476360" y="1268280"/>
          <a:ext cx="5688000" cy="2189160"/>
        </p:xfrm>
        <a:graphic>
          <a:graphicData uri="http://schemas.openxmlformats.org/drawingml/2006/table">
            <a:tbl>
              <a:tblPr/>
              <a:tblGrid>
                <a:gridCol w="2844720"/>
                <a:gridCol w="2843280"/>
              </a:tblGrid>
              <a:tr h="792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ктивы (руб.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ассивы (руб.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96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зервы 10.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едиты 90.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клады 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1547640" y="4076640"/>
          <a:ext cx="5616720" cy="2305080"/>
        </p:xfrm>
        <a:graphic>
          <a:graphicData uri="http://schemas.openxmlformats.org/drawingml/2006/table">
            <a:tbl>
              <a:tblPr/>
              <a:tblGrid>
                <a:gridCol w="2808360"/>
                <a:gridCol w="2808360"/>
              </a:tblGrid>
              <a:tr h="833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ктивы (руб.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ассивы (руб.)_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71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зервы 9.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едиты 81.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клады 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3628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аланс банка С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…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щее предложение денег 1000 руб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619280" y="907920"/>
          <a:ext cx="5473800" cy="1513080"/>
        </p:xfrm>
        <a:graphic>
          <a:graphicData uri="http://schemas.openxmlformats.org/drawingml/2006/table">
            <a:tbl>
              <a:tblPr/>
              <a:tblGrid>
                <a:gridCol w="2736720"/>
                <a:gridCol w="2737080"/>
              </a:tblGrid>
              <a:tr h="547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ктивы (руб.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ассивы (руб.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5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зервы 8.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едиты 72.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клады 81.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1.Возникновение и эволюция денег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тапы становления и развития денег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Прямой единичный товарообмен Т – Т (бартер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Развитый бартер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 унция сол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 овц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 топора   =   3 локтя холс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 мешка зер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личество денег производимое банковской системой из каждого рубля резервов называют денежным мультипликаторо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– норма резерво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пример: при 10% (0.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4"/>
              <p:cNvSpPr txBox="1"/>
              <p:nvPr/>
            </p:nvSpPr>
            <p:spPr>
              <a:xfrm>
                <a:off x="4572000" y="1989000"/>
                <a:ext cx="1297080" cy="127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9" name="Rectangle 7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6"/>
              <p:cNvSpPr txBox="1"/>
              <p:nvPr/>
            </p:nvSpPr>
            <p:spPr>
              <a:xfrm>
                <a:off x="3203640" y="4508640"/>
                <a:ext cx="288108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69560" indent="-756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870264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нструменты центрального банка, используемые для регулирования денежной масс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69560" indent="-756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870264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перации на открытом рынке (покупка и продажа центральным банком государственных облигаций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69560" indent="-756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870264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четная ставка или ставка рефинансирования (процент, взымаемый центральным банком по кредитам, выдаваемым коммерческим банкам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69560" indent="-756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870264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становление нормы обязательных резервов (Например в РБ 6% депозитов физических лиц; 10%  –  юридических лиц; 10%  –   валютных депозитов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5.Измерение покупательской способности денег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8920" y="1844280"/>
            <a:ext cx="8713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 Исследование потребительской рынка с целью определения состава потребительской корзины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пример, корзина состоит из: 4 бананов и 2 апельсино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78920" y="115560"/>
            <a:ext cx="87138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Определение цен каждого товара (услуги) в наблюдаемые год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 Вычисление стоимости потребительской корзины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611280" y="1052640"/>
          <a:ext cx="7994520" cy="1888920"/>
        </p:xfrm>
        <a:graphic>
          <a:graphicData uri="http://schemas.openxmlformats.org/drawingml/2006/table">
            <a:tbl>
              <a:tblPr/>
              <a:tblGrid>
                <a:gridCol w="2728800"/>
                <a:gridCol w="2536920"/>
                <a:gridCol w="2728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на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пельси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611280" y="3933720"/>
          <a:ext cx="8064360" cy="2125800"/>
        </p:xfrm>
        <a:graphic>
          <a:graphicData uri="http://schemas.openxmlformats.org/drawingml/2006/table">
            <a:tbl>
              <a:tblPr/>
              <a:tblGrid>
                <a:gridCol w="1577880"/>
                <a:gridCol w="64864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оимость потребительской корзи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4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х 4 + 2 х 2 = 8 руб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х 4 + 3 х 2 = 14 руб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 х 4 + 4 х 2 = 20 руб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640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. Выбор цен базисного года и вычисление ИПЦ из каждый год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. Определение темпов инфляци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ндексы рассчитываются также по регионам, видам товар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68360" y="1341360"/>
          <a:ext cx="7559640" cy="1800360"/>
        </p:xfrm>
        <a:graphic>
          <a:graphicData uri="http://schemas.openxmlformats.org/drawingml/2006/table">
            <a:tbl>
              <a:tblPr/>
              <a:tblGrid>
                <a:gridCol w="1758960"/>
                <a:gridCol w="5800680"/>
              </a:tblGrid>
              <a:tr h="600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 / 8 х 100 = 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 / 8 х 100 = 1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 / 8 х 100 = 2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468360" y="3933720"/>
          <a:ext cx="7559640" cy="1224000"/>
        </p:xfrm>
        <a:graphic>
          <a:graphicData uri="http://schemas.openxmlformats.org/drawingml/2006/table">
            <a:tbl>
              <a:tblPr/>
              <a:tblGrid>
                <a:gridCol w="1830240"/>
                <a:gridCol w="5729400"/>
              </a:tblGrid>
              <a:tr h="612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175 – 100) / 100 х 100% = 75%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250 – 175) / 175 х 100% = 43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40435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ндекс Пааше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ндекс Ласпейрса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ндекс Фишера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0" y="279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4"/>
              <p:cNvSpPr txBox="1"/>
              <p:nvPr/>
            </p:nvSpPr>
            <p:spPr>
              <a:xfrm>
                <a:off x="5003640" y="189000"/>
                <a:ext cx="3024360" cy="22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P</m:t>
                            </m:r>
                            <m:sSubSup>
                              <m:e/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Q</m:t>
                            </m:r>
                            <m:sSubSup>
                              <m:e/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P</m:t>
                            </m:r>
                            <m:sSubSup>
                              <m:e/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Q</m:t>
                            </m:r>
                            <m:sSubSup>
                              <m:e/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1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3" name="Rectangle 7"/>
          <p:cNvSpPr/>
          <p:nvPr/>
        </p:nvSpPr>
        <p:spPr>
          <a:xfrm>
            <a:off x="0" y="279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6"/>
              <p:cNvSpPr txBox="1"/>
              <p:nvPr/>
            </p:nvSpPr>
            <p:spPr>
              <a:xfrm>
                <a:off x="5148360" y="2997360"/>
                <a:ext cx="2881080" cy="21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л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P</m:t>
                            </m:r>
                            <m:sSubSup>
                              <m:e/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Q</m:t>
                            </m:r>
                            <m:sSubSup>
                              <m:e/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P</m:t>
                            </m:r>
                            <m:sSubSup>
                              <m:e/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Q</m:t>
                            </m:r>
                            <m:sSubSup>
                              <m:e/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1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5" name="Rectangle 9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8"/>
              <p:cNvSpPr txBox="1"/>
              <p:nvPr/>
            </p:nvSpPr>
            <p:spPr>
              <a:xfrm>
                <a:off x="5508720" y="5950080"/>
                <a:ext cx="223200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ф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Iл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Iп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6. Инфляция: причины, виды, последствия.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нфляция – снижение покупательной способности денег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ефляция – рост покупательной способности денег (в США в 1880 – 1896 гг. цены снизились на 23%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езинфляция – снижение темпа инфляци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Виды инфляции: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ткрытая (рост цен в  соответствии с темпом обесценения денег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крытая (подавленная) при искусственном сдерживании цен государством образуются дефицит и очеред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емп инфляции – процент изменения ИПЦ относительно предшествующего период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о темпу инфляция делится на: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лзучую (рост цен до 10% в год)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алопирующую (рост цен до 100% в год)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иперинфляцию (рост цен свыше 100% в год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123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Причины инфляции делятся на 2 группы: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640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. Инфляция спроса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1. Потребительская инфляция (рост заработной платы, опережающий рост производительности труда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2. Инвестиционная инфляция (инвестиции превышают сбережения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3. Фискальная инфляция (расходы государственного бюджета превышают его доходы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. Инфляция издержек (причина – рост затрат фирм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II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Появление денежного това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 топо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 овца                      =    1 унция сол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 локтя холс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V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Благородные металл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 топо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 овца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 локтя холста     =    1 доля золота, 23 доли серебр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 унция сол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713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следствия инфляции неоднозначны для различных субъектов хозяйствовани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редиторы проигрывают, заемщики выигрывают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се, кто в активе имеет деньги, облагаются «инфляционным налогом»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держки «стоптанных башмаков» (субъекты хозяйствования тратят много времени и ресурсов на то, чтобы поскорее обменять деньги на товары, валюту и др.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держки «меню» (фирмы вынуждены чаще рассылать каталоги и менять ценники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целом, искажается ценовой механизм, дезориентируются фирмы и домохозяйств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 Неполноценные металлические, бумажные и кредитные деньг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ексель     банкнот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 Безналичные деньг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лектронные деньги и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–деньг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2771640" y="1773360"/>
            <a:ext cx="30492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2. Трудовая, номиналистическая и количественная теории денег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Трудовая теория: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(В. Петти, К. Маркс, марксисты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еньги – особый товар, стихийно выделившийся из мира товаров и выполняющий денежные функци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Товар – продукт труда, предназначенный для обмена путем купли – продажи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лноценные деньги – золото и серебро. Банкноты – суррогаты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Номиналистическая теория: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(А. Смит, французские «просветители»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еньги – условные знаки, не имеющие внутренней ценност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еньги – продукт общественного договора. Доверие к ним – это доверие к власти, их выпустившей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оличественная теория: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ежит в основе большинства современных теорий денег (Д. Юм, Д. Рикардо; С. Ньюкомб; И. Фишер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еньги – любой актив, выполняющий  денежные функци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есь вопрос не в качестве денег, а в их количестве в экономик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Уравнение обмена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964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V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Q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или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V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T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или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V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– денежная масс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– скорость обращения денежной единиц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– значение це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– количество произведенных товаров и услу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– проданные товары и услуги (количество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Q = p1 q1 + p2q2 + … + pnq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ьюкомб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     const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и  изменение их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звано немонетарным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факторами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M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4"/>
              <p:cNvSpPr txBox="1"/>
              <p:nvPr/>
            </p:nvSpPr>
            <p:spPr>
              <a:xfrm>
                <a:off x="3780000" y="1341360"/>
                <a:ext cx="43164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5" name="Rectangle 7"/>
          <p:cNvSpPr/>
          <p:nvPr/>
        </p:nvSpPr>
        <p:spPr>
          <a:xfrm>
            <a:off x="0" y="33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0" y="33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8"/>
              <p:cNvSpPr txBox="1"/>
              <p:nvPr/>
            </p:nvSpPr>
            <p:spPr>
              <a:xfrm>
                <a:off x="2843280" y="2421000"/>
                <a:ext cx="50472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8" name="Picture 10" descr=""/>
          <p:cNvPicPr/>
          <p:nvPr/>
        </p:nvPicPr>
        <p:blipFill>
          <a:blip r:embed="rId1"/>
          <a:stretch/>
        </p:blipFill>
        <p:spPr>
          <a:xfrm>
            <a:off x="3780000" y="2492280"/>
            <a:ext cx="43164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12:49:25Z</dcterms:created>
  <dc:creator>ssobolevskii</dc:creator>
  <dc:description/>
  <dc:language>en-US</dc:language>
  <cp:lastModifiedBy>Admin</cp:lastModifiedBy>
  <dcterms:modified xsi:type="dcterms:W3CDTF">2013-03-08T07:05:31Z</dcterms:modified>
  <cp:revision>5</cp:revision>
  <dc:subject/>
  <dc:title>ОСНОВЫ ТЕОРИИ ДЕНЕГ</dc:title>
</cp:coreProperties>
</file>