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422-C639-4E21-B5BD-983542D2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C71-ACD9-455D-ABFC-6DF9EC4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124-CA7E-4C17-893F-68F7446C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3C8-9264-4131-A8DB-D8C31238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D35C-AE2B-439A-B561-E063E87B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B50C-3E36-4DF6-AF90-6B6DC52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3D2A-2D6C-42A2-95C8-FD22ED6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4499-EDDC-4374-90A7-18E486EA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ED9-5CC2-4FA0-B054-670EF8E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6D7B-5BB7-4452-B238-BE974F0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9F9-FDA6-4C16-AE8F-9F171A3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A1E-B9AA-4831-A07F-461D4E6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3D4-EE68-4650-8978-A716851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DC42-CDD5-42A9-A901-E70F719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53EA-0A41-43C1-9923-28E2C0A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38E-9F24-487C-A4B7-896A3AFC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512-CDB5-44B5-A216-628D281C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5A604-EE8D-4D5C-9377-343E1E54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63255-F51C-4E96-8981-CEF59D3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5498D-0941-4359-87BF-26D9D7D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DBB6C-88BF-45F5-AC23-DDF8DA7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87665-EACE-4307-8907-9265F2E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669-7F5C-4060-9A2D-B4973D76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917F6-BE0E-40C7-8469-C0DA2BE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2D997-ED7D-46D8-A9F3-2FC4432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9AD9C-1D8E-43DA-8903-2062ABA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EAD1D-CD24-4DCA-B491-4CCDA8C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8D3BC-E687-4A9C-8DC9-C99A19D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C360D-9FC2-4620-AC73-28FA8560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568E4-84D4-41FE-8883-A2D9366C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ADB6-16A3-452A-9A44-C41071F8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4A22-AF3E-4501-A768-2A7C828B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B8E1-6C20-4D14-9720-60761E28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A20-E0F5-431C-ACC2-480BA58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B7BE-A9A9-471F-A018-65DDD58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32A3-5F66-41F0-A016-D96BFDB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1A6D-D394-42F7-8B01-5824986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1F5B-13F6-472C-B417-A74C85D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2C88-C1F1-444B-92B9-BE0997E2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E643-547E-4D97-965D-3B5A093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443F-91C2-48DF-8AE3-C375F9E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4331-B8A7-4F69-B1FF-4EFE36B6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0B89-8FB5-488C-8D40-C27E6834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0B12-D012-4457-9391-E52AC373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127-A1F5-4D62-964F-C442454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1F73-BE3B-47D6-BF45-6EF9B24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B01F-4C60-4E93-8B3F-95C7301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80A3-CB84-41FC-918A-470CA1A0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ADDA-AF92-4D49-8698-8661D8D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96021-BC75-4898-9DC7-50F494C5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FF33-E5F4-40D7-A313-10F79AE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8FA3-8BE8-484E-A4C8-8ABDDC8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D9DC-5AD7-4D21-A9EE-5FF3573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A2EC-7295-4778-BC5D-637A50F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D9C8-CA0E-4055-8103-A2353FC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B44-2BCD-4409-B390-4807463A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C899-9DC0-4AF6-ACA2-3BD78988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80F88-D6C2-421C-A9A6-19EB44E6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C552-62BF-47DA-B692-28FE9DA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587F-5F32-4F12-8F36-43CAEBD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2C71-FECF-4477-A634-9CDD4C1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7E79-126C-46BF-9728-A82083B6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03CD-FD42-4F68-A28C-D1CD2EE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8A76-0A88-4778-8E15-B40B213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8479-F5A9-4698-81B8-E7922A0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F3FFC-F95F-4F97-8F7D-BFF57E14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8E0-8FD8-4A58-813E-1BDDA30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D5B5-6D54-4C67-9B9E-5B07E127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B5C8-8780-442A-A826-D6EEC872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59C3-3226-481A-8776-9724667C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7C63-A2E4-4938-84ED-3B6F474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1A53-462B-49D8-A9A7-9B9B8F01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BE676-BB30-4EC1-A21C-3A18D553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58D1-5286-40B5-9CFA-CC354EB2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C95F-EE39-46A2-B068-689858F8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6830-9330-4619-B523-70CCCCB2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7EDF-31F1-4895-BE69-3F390FD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AC7-D275-4952-91E0-6BDEB37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8207-14BE-4C3A-952E-6789EBA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85309-A096-476F-982A-AC90E29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CBEF-539B-4456-972B-E6108263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804D-AE5B-4098-AD02-8935973D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1328-1F7E-4EFA-9CCE-ED5B1BF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612-8FAA-4364-87B6-B5AFD2B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F17-7895-4D4E-B891-6D37DDBC8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B26E-4EAC-40F5-AC04-D1EE2E3987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BD4-06FF-4E12-812E-98CC80CB49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C817-4E74-4016-B93A-FE0013B3F8E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CBC-0CD1-47CD-BD8F-169A3D441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8392-E800-4422-AEF9-2F9459BDA7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3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3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44A-3F91-4310-8F79-98BA08A7B94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БРНАУКИ РФ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ОУ ВПО «Челябинский государственный университет»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экономики отраслей, бизнеса и администрирования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экономики отраслей и рынков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85840" y="2786040"/>
            <a:ext cx="8715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исциплине: «История экономических учений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«Меркантилизм и его актуальность в современном мире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4214880" y="471492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Студент гр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хин Алексей Владимирови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: к. э. н., доц. Плетнёв Дмитрий Александрови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008960" y="621504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4788000" y="1484280"/>
            <a:ext cx="28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Поздний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1908000" y="1484280"/>
            <a:ext cx="18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99"/>
                </a:solidFill>
                <a:latin typeface="Times New Roman"/>
              </a:rPr>
              <a:t>Ранн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1565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собенности раннего и позднего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мерканти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187280" y="2060640"/>
            <a:ext cx="3097440" cy="12970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етарная систем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V-XV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.Стаффорд (Англия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Скаруффи (Итал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3"/>
          <p:cNvSpPr/>
          <p:nvPr/>
        </p:nvSpPr>
        <p:spPr>
          <a:xfrm>
            <a:off x="4643280" y="2060640"/>
            <a:ext cx="3241800" cy="12970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ерческая систем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-XV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Мен (Англ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Монкретьен (Франц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0"/>
          <p:cNvSpPr/>
          <p:nvPr/>
        </p:nvSpPr>
        <p:spPr>
          <a:xfrm>
            <a:off x="3492360" y="33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Це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5"/>
          <p:cNvSpPr/>
          <p:nvPr/>
        </p:nvSpPr>
        <p:spPr>
          <a:xfrm>
            <a:off x="1555560" y="3933000"/>
            <a:ext cx="2605320" cy="101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6b3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ив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ежный балан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716360" y="3933720"/>
            <a:ext cx="2519640" cy="100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6b3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ив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рговый балан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8"/>
          <p:cNvSpPr/>
          <p:nvPr/>
        </p:nvSpPr>
        <p:spPr>
          <a:xfrm>
            <a:off x="1403280" y="3645000"/>
            <a:ext cx="3024360" cy="2377800"/>
          </a:xfrm>
          <a:prstGeom prst="wedgeRoundRectCallout">
            <a:avLst>
              <a:gd name="adj1" fmla="val 40287"/>
              <a:gd name="adj2" fmla="val -60680"/>
              <a:gd name="adj3" fmla="val 16667"/>
            </a:avLst>
          </a:prstGeom>
          <a:gradFill rotWithShape="0">
            <a:gsLst>
              <a:gs pos="0">
                <a:srgbClr val="ffff99">
                  <a:alpha val="95294"/>
                </a:srgbClr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Вывоз денег за границу                       не поощрялся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«нация сидела на своем денежном мешке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1"/>
          <p:cNvSpPr/>
          <p:nvPr/>
        </p:nvSpPr>
        <p:spPr>
          <a:xfrm>
            <a:off x="4643280" y="3645000"/>
            <a:ext cx="3024360" cy="2376360"/>
          </a:xfrm>
          <a:prstGeom prst="wedgeRoundRectCallout">
            <a:avLst>
              <a:gd name="adj1" fmla="val -44171"/>
              <a:gd name="adj2" fmla="val -60620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Вывоз денег за границу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поощрялся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ция начала торгова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ради развития производства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4"/>
          <p:cNvSpPr/>
          <p:nvPr/>
        </p:nvSpPr>
        <p:spPr>
          <a:xfrm>
            <a:off x="3419640" y="49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ред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9"/>
          <p:cNvSpPr/>
          <p:nvPr/>
        </p:nvSpPr>
        <p:spPr>
          <a:xfrm>
            <a:off x="2340000" y="5516640"/>
            <a:ext cx="4537080" cy="5014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ая поли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1"/>
          <p:cNvSpPr/>
          <p:nvPr/>
        </p:nvSpPr>
        <p:spPr>
          <a:xfrm>
            <a:off x="2556000" y="2852640"/>
            <a:ext cx="4824360" cy="2089080"/>
          </a:xfrm>
          <a:prstGeom prst="wedgeRoundRectCallout">
            <a:avLst>
              <a:gd name="adj1" fmla="val 35092"/>
              <a:gd name="adj2" fmla="val 91564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ешательств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а в экономику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е займы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абление коло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2195640" y="1916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омас Мен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1571-164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1908000" y="3433680"/>
            <a:ext cx="5545440" cy="88596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первые составил торговый баланс Англ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1908000" y="4292640"/>
            <a:ext cx="5545440" cy="93492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оял у истоков экономической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истики и бухгалтерского учет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1547640" y="620640"/>
            <a:ext cx="63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3. Особенности меркантилиз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различных страна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6"/>
          <p:cNvSpPr/>
          <p:nvPr/>
        </p:nvSpPr>
        <p:spPr>
          <a:xfrm>
            <a:off x="3276720" y="3573360"/>
            <a:ext cx="4248000" cy="2592360"/>
          </a:xfrm>
          <a:prstGeom prst="wedgeRoundRectCallout">
            <a:avLst>
              <a:gd name="adj1" fmla="val -36884"/>
              <a:gd name="adj2" fmla="val -58513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Обилие денег в королевстве делает отечественные товары дороже. Что…прямо противоположно благу государства, в отношениях размера торговли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1908000" y="5229360"/>
            <a:ext cx="5545440" cy="8650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лен совета директоров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т-Индской компан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3132000" y="141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Англ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755640" y="2421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Богатство Англии во внешней торговле» (166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35280" y="1988640"/>
            <a:ext cx="5905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жон Ло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1671-17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611280" y="6922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3. Особенности меркантилизма в различных страна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1763640" y="2781360"/>
            <a:ext cx="6193080" cy="57456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ся в Эдинбурге-столице Шотлан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763640" y="3645000"/>
            <a:ext cx="6193080" cy="8636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сновал новые принципы дея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1763640" y="4797360"/>
            <a:ext cx="6193080" cy="8650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ель первых акционерных общест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финансовых пирами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3635280" y="2565360"/>
            <a:ext cx="4103640" cy="2374920"/>
          </a:xfrm>
          <a:prstGeom prst="wedgeRoundRectCallout">
            <a:avLst>
              <a:gd name="adj1" fmla="val -61875"/>
              <a:gd name="adj2" fmla="val 15041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кредитной экспансии, т.е. выдача ссуд банкнотами, размер которых превышает золотые и серебряные деньг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3132000" y="1484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Англ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6767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нтуан Монкретьен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1575-16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55640" y="62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3. Особенности меркантилизма в различных стран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971640" y="4005360"/>
            <a:ext cx="6840360" cy="100800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л терм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«политическая экономия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447840" y="-58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4"/>
          <p:cNvSpPr/>
          <p:nvPr/>
        </p:nvSpPr>
        <p:spPr>
          <a:xfrm>
            <a:off x="3780000" y="3068640"/>
            <a:ext cx="4535280" cy="3168720"/>
          </a:xfrm>
          <a:prstGeom prst="wedgeRoundRectCallout">
            <a:avLst>
              <a:gd name="adj1" fmla="val 2467"/>
              <a:gd name="adj2" fmla="val -54657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…не обилие золота и серебра, не количество жемчуга и алмазов делает государство богатым, но наличие предметов необходимых для жизни и одежды: у кого их больше, у того выше благосостояни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7"/>
          <p:cNvSpPr/>
          <p:nvPr/>
        </p:nvSpPr>
        <p:spPr>
          <a:xfrm>
            <a:off x="900000" y="3500280"/>
            <a:ext cx="4105440" cy="2303640"/>
          </a:xfrm>
          <a:prstGeom prst="wedgeRoundRectCallout">
            <a:avLst>
              <a:gd name="adj1" fmla="val 67592"/>
              <a:gd name="adj2" fmla="val -10990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черкивает , что речь идет 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зяйстве государств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проводящего определенную экономическую полити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3132000" y="1628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Фран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755640" y="2997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Трактат политической экономии» (161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Жан Батист Кольбер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(1619-16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042920" y="333360"/>
            <a:ext cx="58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50920" y="62064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3. Особенности меркантилизма в различных страна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826920" y="2421000"/>
            <a:ext cx="58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Главный казначей Франц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826920" y="2997360"/>
            <a:ext cx="561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одействовал </a:t>
            </a: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развитию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внешней и внутренней торговли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Франц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826920" y="4292640"/>
            <a:ext cx="561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роводил политику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колониальных захвато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7"/>
          <p:cNvSpPr/>
          <p:nvPr/>
        </p:nvSpPr>
        <p:spPr>
          <a:xfrm>
            <a:off x="900000" y="5229360"/>
            <a:ext cx="61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пособствовал </a:t>
            </a: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развитию королевских мануфактур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8" descr="47069"/>
          <p:cNvPicPr/>
          <p:nvPr/>
        </p:nvPicPr>
        <p:blipFill>
          <a:blip r:embed="rId1"/>
          <a:stretch/>
        </p:blipFill>
        <p:spPr>
          <a:xfrm>
            <a:off x="6012000" y="2421000"/>
            <a:ext cx="2190600" cy="2232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9"/>
          <p:cNvSpPr/>
          <p:nvPr/>
        </p:nvSpPr>
        <p:spPr>
          <a:xfrm>
            <a:off x="5651640" y="4653000"/>
            <a:ext cx="28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Ж.Б.Кольбер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2987640" y="141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Фран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4. Актуальность меркантилизма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овременном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32000" y="1857240"/>
            <a:ext cx="6696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яркими примерами школы меркантилизма в России можно считать экономические воззрения А.Л. Ордын-Нащокина (ок. 1605-1686), Ю. Крижанича (1617-1683) и И.Т. Посошкова (1652-172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зрелыми являются воззрения И.Т. Посошкова. Они соответствуют более позднему этапу развития России и совпадают с эпохой петровских преобразований. В работе И.Т. Посошкова «Книга о скудости и богатстве» содержится анализ экономических проблем России того време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"/>
          <p:cNvSpPr/>
          <p:nvPr/>
        </p:nvSpPr>
        <p:spPr>
          <a:xfrm>
            <a:off x="183528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ывод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900000" y="1628640"/>
            <a:ext cx="7344000" cy="10796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зрения меркантилистов носили прогрессив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, так как способствовали становлени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питализм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900000" y="4149720"/>
            <a:ext cx="7344000" cy="16556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дующие школы политической эконом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лись на взгляды меркантилистов, частичн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обождались от них, частично развива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900000" y="2924280"/>
            <a:ext cx="7344000" cy="10094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7992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гали государству выработ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ую экономическую полити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07640" y="1125360"/>
            <a:ext cx="5185080" cy="58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писок литер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1B31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6000" y="5373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display"/>
          <p:cNvPicPr/>
          <p:nvPr/>
        </p:nvPicPr>
        <p:blipFill>
          <a:blip r:embed="rId2"/>
          <a:stretch/>
        </p:blipFill>
        <p:spPr>
          <a:xfrm>
            <a:off x="7885080" y="33336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MP00640_"/>
          <p:cNvPicPr/>
          <p:nvPr/>
        </p:nvPicPr>
        <p:blipFill>
          <a:blip r:embed="rId3"/>
          <a:stretch/>
        </p:blipFill>
        <p:spPr>
          <a:xfrm>
            <a:off x="971640" y="4797360"/>
            <a:ext cx="1366920" cy="1360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8"/>
          <p:cNvSpPr/>
          <p:nvPr/>
        </p:nvSpPr>
        <p:spPr>
          <a:xfrm>
            <a:off x="755640" y="1989000"/>
            <a:ext cx="79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рия экономических учений: Учеб.пособие / под ред. Автономова, О.Ананьина, Н.Макашевой.–М.:Инфра-М,2007.–784 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рия экономических учений: (современный этап): Учебник / под общей редакцией А.Г.Худокормова. – М.: ИНФРА-М,2007.–733 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u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6"/>
          <p:cNvSpPr/>
          <p:nvPr/>
        </p:nvSpPr>
        <p:spPr>
          <a:xfrm>
            <a:off x="1979640" y="90792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26920" y="4076640"/>
            <a:ext cx="748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3.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Особенности меркантилизма в различных странах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>
            <a:hlinkClick r:id="" action="ppaction://hlinkshowjump?jump=nextslide"/>
          </p:cNvPr>
          <p:cNvSpPr/>
          <p:nvPr/>
        </p:nvSpPr>
        <p:spPr>
          <a:xfrm>
            <a:off x="755640" y="1484280"/>
            <a:ext cx="748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Предпосылки Великих географических открыт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Первоначальное накопление капитал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Возникновение меркантилизма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826920" y="306864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2.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Общее и особенности</a:t>
            </a:r>
            <a:r>
              <a:rPr b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раннего и поздне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меркантилизма</a:t>
            </a:r>
            <a:r>
              <a:rPr b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826920" y="479736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4.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Актуальность меркантилизма в современном мире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>
            <a:hlinkClick r:id="" action="ppaction://hlinkshowjump?jump=nextslide"/>
          </p:cNvPr>
          <p:cNvSpPr/>
          <p:nvPr/>
        </p:nvSpPr>
        <p:spPr>
          <a:xfrm>
            <a:off x="2700360" y="836640"/>
            <a:ext cx="36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Оглавл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7"/>
          <p:cNvSpPr/>
          <p:nvPr/>
        </p:nvSpPr>
        <p:spPr>
          <a:xfrm>
            <a:off x="3276720" y="3357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395280" y="537372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7"/>
          <p:cNvSpPr/>
          <p:nvPr/>
        </p:nvSpPr>
        <p:spPr>
          <a:xfrm>
            <a:off x="1979640" y="2276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Побудительные мотив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8"/>
          <p:cNvSpPr/>
          <p:nvPr/>
        </p:nvSpPr>
        <p:spPr>
          <a:xfrm>
            <a:off x="2340000" y="2924280"/>
            <a:ext cx="4897440" cy="14396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</a:rPr>
              <a:t>Разрыв торговых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</a:rPr>
              <a:t>путей Европа-Восто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9"/>
          <p:cNvSpPr/>
          <p:nvPr/>
        </p:nvSpPr>
        <p:spPr>
          <a:xfrm>
            <a:off x="2340000" y="4653000"/>
            <a:ext cx="4897440" cy="144000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</a:rPr>
              <a:t>Дефицит драгоценных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</a:rPr>
              <a:t>металлов– «жажда золота»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0"/>
          <p:cNvSpPr/>
          <p:nvPr/>
        </p:nvSpPr>
        <p:spPr>
          <a:xfrm>
            <a:off x="1476360" y="981000"/>
            <a:ext cx="655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Предпосылки Великих географических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ткрытий. Первоначальное накопл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апитала. Возникновение меркантилиз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1. Предпосылки Великих географических </a:t>
            </a:r>
            <a:br>
              <a:rPr sz="2100"/>
            </a:b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открытий. Первоначальное накопление капитала. Возникновение меркантилизм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27280" y="2133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Услов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2195640" y="2852640"/>
            <a:ext cx="4533840" cy="136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Развитие науки и техник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195640" y="4508640"/>
            <a:ext cx="4533840" cy="13665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Формирование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imes New Roman"/>
              </a:rPr>
              <a:t>капиталистического уклад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6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ие географические открыт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1116000" y="2781360"/>
            <a:ext cx="7201080" cy="574560"/>
          </a:xfrm>
          <a:prstGeom prst="rect">
            <a:avLst/>
          </a:prstGeom>
          <a:solidFill>
            <a:srgbClr val="c1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2 г. </a:t>
            </a:r>
            <a:r>
              <a:rPr b="0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ткрытие Америки  Х.Колумб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6000" y="4508640"/>
            <a:ext cx="7201080" cy="718920"/>
          </a:xfrm>
          <a:prstGeom prst="rect">
            <a:avLst/>
          </a:prstGeom>
          <a:solidFill>
            <a:srgbClr val="c1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499 г. </a:t>
            </a:r>
            <a:r>
              <a:rPr b="0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ткрытие морского пути в Индию Васко да Га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1116000" y="3573360"/>
            <a:ext cx="7201080" cy="719280"/>
          </a:xfrm>
          <a:prstGeom prst="rect">
            <a:avLst/>
          </a:prstGeom>
          <a:solidFill>
            <a:srgbClr val="c1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497-1498 гг. </a:t>
            </a:r>
            <a:r>
              <a:rPr b="0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ткрытие Северной Америки Дж.Кабот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1116000" y="1989000"/>
            <a:ext cx="7201080" cy="505080"/>
          </a:xfrm>
          <a:prstGeom prst="rect">
            <a:avLst/>
          </a:prstGeom>
          <a:solidFill>
            <a:srgbClr val="c1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466-1472 гг. </a:t>
            </a:r>
            <a:r>
              <a:rPr b="0" lang="ru-RU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«Хождение за три моря» Афанасия Никит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1116000" y="5445000"/>
            <a:ext cx="7345440" cy="863640"/>
          </a:xfrm>
          <a:prstGeom prst="rect">
            <a:avLst/>
          </a:prstGeom>
          <a:solidFill>
            <a:srgbClr val="c1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519-1522 гг. </a:t>
            </a:r>
            <a:r>
              <a:rPr b="0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ервое кругосветное мореплавани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– Ф. Магелла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408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кономические последствия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еликих географических открытий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924360" y="2060640"/>
            <a:ext cx="4608360" cy="136692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чок 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и внешн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рговл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европейских стра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образование мирового ры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3995640" y="4076640"/>
            <a:ext cx="4608720" cy="144144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повышение це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 Европе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званное наплывом дешевог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олота и серебра из коло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2843280" y="2781360"/>
            <a:ext cx="792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0"/>
          <p:cNvSpPr/>
          <p:nvPr/>
        </p:nvSpPr>
        <p:spPr>
          <a:xfrm>
            <a:off x="2916360" y="4653000"/>
            <a:ext cx="792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1"/>
          <p:cNvSpPr/>
          <p:nvPr/>
        </p:nvSpPr>
        <p:spPr>
          <a:xfrm>
            <a:off x="1187280" y="2205000"/>
            <a:ext cx="15116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гов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2"/>
          <p:cNvSpPr/>
          <p:nvPr/>
        </p:nvSpPr>
        <p:spPr>
          <a:xfrm>
            <a:off x="1116000" y="4149720"/>
            <a:ext cx="1584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8080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волю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1"/>
          <p:cNvSpPr/>
          <p:nvPr/>
        </p:nvSpPr>
        <p:spPr>
          <a:xfrm>
            <a:off x="1187280" y="54936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оначальное накопление капит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826920" y="134136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6"/>
          <p:cNvSpPr/>
          <p:nvPr/>
        </p:nvSpPr>
        <p:spPr>
          <a:xfrm>
            <a:off x="5580000" y="4149720"/>
            <a:ext cx="25210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ынк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7"/>
          <p:cNvSpPr/>
          <p:nvPr/>
        </p:nvSpPr>
        <p:spPr>
          <a:xfrm>
            <a:off x="5580000" y="1989000"/>
            <a:ext cx="2448000" cy="1225800"/>
          </a:xfrm>
          <a:prstGeom prst="roundRect">
            <a:avLst>
              <a:gd name="adj" fmla="val 16667"/>
            </a:avLst>
          </a:prstGeom>
          <a:solidFill>
            <a:srgbClr val="a0d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ын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ей си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8"/>
          <p:cNvSpPr/>
          <p:nvPr/>
        </p:nvSpPr>
        <p:spPr>
          <a:xfrm>
            <a:off x="900000" y="1916280"/>
            <a:ext cx="2448000" cy="1584000"/>
          </a:xfrm>
          <a:prstGeom prst="roundRect">
            <a:avLst>
              <a:gd name="adj" fmla="val 16667"/>
            </a:avLst>
          </a:prstGeom>
          <a:solidFill>
            <a:srgbClr val="a0d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дел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изводителе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редст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2"/>
          <p:cNvSpPr/>
          <p:nvPr/>
        </p:nvSpPr>
        <p:spPr>
          <a:xfrm>
            <a:off x="3635280" y="2781360"/>
            <a:ext cx="15112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3"/>
          <p:cNvSpPr/>
          <p:nvPr/>
        </p:nvSpPr>
        <p:spPr>
          <a:xfrm>
            <a:off x="3708360" y="4941720"/>
            <a:ext cx="1440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4"/>
          <p:cNvSpPr/>
          <p:nvPr/>
        </p:nvSpPr>
        <p:spPr>
          <a:xfrm>
            <a:off x="900000" y="4076640"/>
            <a:ext cx="244656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вращ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нег в капита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5"/>
          <p:cNvSpPr/>
          <p:nvPr/>
        </p:nvSpPr>
        <p:spPr>
          <a:xfrm>
            <a:off x="3492360" y="2276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раз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6"/>
          <p:cNvSpPr/>
          <p:nvPr/>
        </p:nvSpPr>
        <p:spPr>
          <a:xfrm>
            <a:off x="363528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раз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1692360" y="1773360"/>
            <a:ext cx="5904000" cy="136656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ая политика феодально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бсолютистского государства эпох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начального накопления капита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1692360" y="3429000"/>
            <a:ext cx="5904000" cy="86508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ажает интересы торгового капита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1692360" y="4653000"/>
            <a:ext cx="5904000" cy="122400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развитию торговли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уфактурного производств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1476360" y="836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Times New Roman"/>
              </a:rPr>
              <a:t>Характеристика меркантилиз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1547640" y="2781360"/>
            <a:ext cx="52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1835280" y="2276640"/>
            <a:ext cx="5832360" cy="100800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ьг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олото и серебро)- абсолютна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 богатств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1835280" y="3573360"/>
            <a:ext cx="5832360" cy="93672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копление богатст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форме прибы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внешней торгов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1835280" y="4797360"/>
            <a:ext cx="5832360" cy="792360"/>
          </a:xfrm>
          <a:prstGeom prst="rect">
            <a:avLst/>
          </a:prstGeom>
          <a:gradFill rotWithShape="0">
            <a:gsLst>
              <a:gs pos="0">
                <a:srgbClr val="acd0e2"/>
              </a:gs>
              <a:gs pos="100000">
                <a:srgbClr val="8aa6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естк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екционистская поли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1619280" y="83664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бщие черты раннего и позднего меркантилиз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02:24Z</dcterms:created>
  <dc:creator>бог</dc:creator>
  <dc:description/>
  <dc:language>en-US</dc:language>
  <cp:lastModifiedBy>Ната</cp:lastModifiedBy>
  <dcterms:modified xsi:type="dcterms:W3CDTF">2013-05-29T15:39:00Z</dcterms:modified>
  <cp:revision>33</cp:revision>
  <dc:subject/>
  <dc:title>МЕРКАНТИЛИЗМ</dc:title>
</cp:coreProperties>
</file>