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6CA-7806-496F-873A-D18CAD65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B8C-CC86-4FAC-BED5-D79F1317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037-B118-417C-A174-606326EA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5748-D137-4B13-9942-A768F2FA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982-413F-44E1-B19F-806FA6A5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EF3-68C9-42D9-A41E-E64B4C10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A21-B88F-46DF-8188-C5FC33EC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649-9955-40C4-A1F8-7F10C6B9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B73-C909-4774-A974-BF0B7ABD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73D-3BCA-4CEF-9835-81FAEBDB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246-8664-4835-8183-58772FA4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400-44DA-410B-BB87-15FD1630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5913-0131-4845-B837-853849F5BB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6229080" cy="370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98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индром внезапной детской  смер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79640" y="5013360"/>
            <a:ext cx="6400800" cy="17524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ли: Литвинова 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шенов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кенов 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988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пно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158760" y="1311120"/>
            <a:ext cx="8515440" cy="55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18000"/>
            <a:ext cx="8229600" cy="1143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Факторы, провоцирующие апноэ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4" descr=""/>
          <p:cNvPicPr/>
          <p:nvPr/>
        </p:nvPicPr>
        <p:blipFill>
          <a:blip r:embed="rId1"/>
          <a:stretch/>
        </p:blipFill>
        <p:spPr>
          <a:xfrm>
            <a:off x="-128520" y="1163520"/>
            <a:ext cx="9070920" cy="550548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домой 5"/>
          <p:cNvSpPr/>
          <p:nvPr/>
        </p:nvSpPr>
        <p:spPr>
          <a:xfrm>
            <a:off x="802800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12332" y="3837"/>
                </a:moveTo>
                <a:lnTo>
                  <a:pt x="14908" y="6448"/>
                </a:ln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lnTo>
                  <a:pt x="19295" y="10800"/>
                </a:lnTo>
                <a:lnTo>
                  <a:pt x="17641" y="10800"/>
                </a:lnTo>
                <a:lnTo>
                  <a:pt x="17641" y="17989"/>
                </a:lnTo>
                <a:lnTo>
                  <a:pt x="7023" y="17989"/>
                </a:lnTo>
                <a:lnTo>
                  <a:pt x="7023" y="10800"/>
                </a:lnTo>
                <a:lnTo>
                  <a:pt x="5369" y="10800"/>
                </a:lnTo>
                <a:close/>
              </a:path>
              <a:path fill="darkenLess" w="24664" h="21600">
                <a:moveTo>
                  <a:pt x="14908" y="6448"/>
                </a:move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close/>
              </a:path>
              <a:path fill="darkenLess" w="24664" h="21600">
                <a:moveTo>
                  <a:pt x="11409" y="14299"/>
                </a:moveTo>
                <a:lnTo>
                  <a:pt x="13254" y="14299"/>
                </a:lnTo>
                <a:lnTo>
                  <a:pt x="13254" y="17989"/>
                </a:lnTo>
                <a:lnTo>
                  <a:pt x="17641" y="17989"/>
                </a:lnTo>
                <a:lnTo>
                  <a:pt x="17641" y="10800"/>
                </a:lnTo>
                <a:lnTo>
                  <a:pt x="7023" y="10800"/>
                </a:lnTo>
                <a:lnTo>
                  <a:pt x="7023" y="17989"/>
                </a:lnTo>
                <a:lnTo>
                  <a:pt x="1140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утоиммунные заболевания матер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такой матери высок риск рождения ребенка, позитивного по отношению к волчаночным антителам.(Дети, родившиеся от матерей с СКВ и С. Шегрена предрасположены к развитию полной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локад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AV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локада-важный признак волчаночного синдрома). НО!!!! Даже если у такого ребенка будут отсутсвовать нарушения проводимости, на ЭКГ все-равно обнаруживатся удлинение интервал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-T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что  тоже увеличивает риск развития СВД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NB!!!!!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2 важных вывод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Многократный ЭКГ-контроль новорожденным на протяжении первого года жизни, матери которых имеют СКВ,для обнаружени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окады, удлиненного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-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Управляющая кнопка: домой 3"/>
          <p:cNvSpPr/>
          <p:nvPr/>
        </p:nvSpPr>
        <p:spPr>
          <a:xfrm>
            <a:off x="8172360" y="616572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индром удлиненного интервала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Q-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Calibri"/>
              </a:rPr>
              <a:t>1-</a:t>
            </a:r>
            <a:r>
              <a:rPr b="1" lang="kk-KZ" sz="2500" spc="-1" strike="noStrike" u="sng">
                <a:solidFill>
                  <a:srgbClr val="ff0000"/>
                </a:solidFill>
                <a:uFillTx/>
                <a:latin typeface="Calibri"/>
              </a:rPr>
              <a:t>ая гипотеза: </a:t>
            </a:r>
            <a:r>
              <a:rPr b="1" i="1" lang="kk-KZ" sz="2500" spc="-1" strike="noStrike">
                <a:solidFill>
                  <a:srgbClr val="002060"/>
                </a:solidFill>
                <a:latin typeface="Calibri"/>
              </a:rPr>
              <a:t>Гипотеза симпатического дисбаланс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гда ребенок рождается, симпатическая иннервация сердца еще развивается, правая половина сердца получает правый симпатический ганглий, левая половина, соответственно левый.  В норме, </a:t>
            </a:r>
            <a:r>
              <a:rPr b="0" lang="kk-KZ" sz="2500" spc="-1" strike="noStrike">
                <a:solidFill>
                  <a:srgbClr val="000000"/>
                </a:solidFill>
                <a:latin typeface="Calibri"/>
              </a:rPr>
              <a:t>правый и левый симпатический ганглий должны развиваться одновременно, но бывает происходит так, что развитие левого ганглия опережает развитие право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евый ганглий в свою очередь является аритмогенным- что и обуславливает развитие фибрилляции желудочков и приводит к СВД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 ЭКГ такой дисбаланс регистрируется как удлинение интервала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Q-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9280" y="189000"/>
            <a:ext cx="850752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0000"/>
                </a:solidFill>
                <a:uFillTx/>
                <a:latin typeface="Calibri"/>
              </a:rPr>
              <a:t>2-</a:t>
            </a:r>
            <a:r>
              <a:rPr b="1" lang="ru-RU" sz="2700" spc="-1" strike="noStrike" u="sng">
                <a:solidFill>
                  <a:srgbClr val="ff0000"/>
                </a:solidFill>
                <a:uFillTx/>
                <a:latin typeface="Calibri"/>
              </a:rPr>
              <a:t>ая гипотез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i="1" lang="ru-RU" sz="2700" spc="-1" strike="noStrike">
                <a:solidFill>
                  <a:srgbClr val="002060"/>
                </a:solidFill>
                <a:latin typeface="Calibri"/>
              </a:rPr>
              <a:t>Гипотеза о каналопатия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атология трансмембранных ион-селективных каналов клеток миокар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збуждение и сокращение кардиомиоцитов миокарда связаны с потенциалом действия, возникновение которого связано с работой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+,K+,Ca++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нал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озникает мутация в генах, кодирующих белки трансмембранных ионоселективных каналов КМЦ, нарушается поток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+,Ca++,K+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оответсвенно изменяется продолжительность ПД, а на ЭКГ видим увеличение интервал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-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тенциал действия увеличивается, что облегчает возникновение ранней постдеполяризации, развивается желудочковая тахикардия и возникает СВДС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Управляющая кнопка: домой 3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индром Бруг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ое возникновение синкопе на фоне приступов желудочковой тахикард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СД возникает чаще во с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рфологически отсутствуют признаки поражения миокар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Г: блокада ножки пучка Ги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цифический подъе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1-V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иодическое удлинени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-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Управляющая кнопка: домой 3"/>
          <p:cNvSpPr/>
          <p:nvPr/>
        </p:nvSpPr>
        <p:spPr>
          <a:xfrm>
            <a:off x="8172360" y="623736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13856" y="3837"/>
                </a:moveTo>
                <a:lnTo>
                  <a:pt x="16432" y="6448"/>
                </a:ln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lnTo>
                  <a:pt x="20819" y="10800"/>
                </a:lnTo>
                <a:lnTo>
                  <a:pt x="19165" y="10800"/>
                </a:lnTo>
                <a:lnTo>
                  <a:pt x="19165" y="17989"/>
                </a:lnTo>
                <a:lnTo>
                  <a:pt x="8547" y="17989"/>
                </a:lnTo>
                <a:lnTo>
                  <a:pt x="8547" y="10800"/>
                </a:lnTo>
                <a:lnTo>
                  <a:pt x="6893" y="10800"/>
                </a:lnTo>
                <a:close/>
              </a:path>
              <a:path fill="darkenLess" w="27712" h="21600">
                <a:moveTo>
                  <a:pt x="16432" y="6448"/>
                </a:move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close/>
              </a:path>
              <a:path fill="darkenLess" w="27712" h="21600">
                <a:moveTo>
                  <a:pt x="12933" y="14299"/>
                </a:moveTo>
                <a:lnTo>
                  <a:pt x="14779" y="14299"/>
                </a:lnTo>
                <a:lnTo>
                  <a:pt x="14779" y="17989"/>
                </a:lnTo>
                <a:lnTo>
                  <a:pt x="19165" y="17989"/>
                </a:lnTo>
                <a:lnTo>
                  <a:pt x="19165" y="10800"/>
                </a:lnTo>
                <a:lnTo>
                  <a:pt x="8547" y="10800"/>
                </a:lnTo>
                <a:lnTo>
                  <a:pt x="8547" y="17989"/>
                </a:lnTo>
                <a:lnTo>
                  <a:pt x="1293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дром Вольфа-Паркинсона-Уай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8880" y="1492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дополнительного пути проведения импульса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запная наджелудочковая тахикардия, потом переходит в фибрилляцию желудочков и смер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Управляющая кнопка: домой 3"/>
          <p:cNvSpPr/>
          <p:nvPr/>
        </p:nvSpPr>
        <p:spPr>
          <a:xfrm>
            <a:off x="7885080" y="6021360"/>
            <a:ext cx="863640" cy="64764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имико-лимфатический диате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четание 2х патологических процессо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ru-RU" sz="3000" spc="-1" strike="noStrike">
                <a:solidFill>
                  <a:srgbClr val="00b050"/>
                </a:solidFill>
                <a:latin typeface="Calibri"/>
              </a:rPr>
              <a:t>гипертрофия тимуса и его гипофункц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ru-RU" sz="3000" spc="-1" strike="noStrike">
                <a:solidFill>
                  <a:srgbClr val="00b050"/>
                </a:solidFill>
                <a:latin typeface="Calibri"/>
              </a:rPr>
              <a:t>гипоплазия коры надпочечников  и ее дискортициз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повышение уровня минералкортикоидов и снижения синтеза ГКС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анные изменения приводят к снижению резистентности организма и формируют неадекватные реакции на внешние воздейств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79280" y="188640"/>
            <a:ext cx="8856720" cy="65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ртизол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ормон надпочечников, который начинает усиленно синтезироваться в ответ на стресс, травму, инфекцию, помогает организму адаптироваться ко всем неблагоприятным условиям внешним среды, воздействующим на организ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клиник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быструю утомляемост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ялост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пат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стозность кож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жные покровы обычно бледны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кожная клетчатка рыхла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лонность к ожирени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скулатура выражена слаб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мечается гиперплазия небных миндалин и всех лимфатических узл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рдечно-сосудистая система недоразвита, отмечают функциональный систолический шум, склонность к артериальной гипотони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ы приступы цианоза&gt; коллапс, которые объясняются гипофункцией коркового вещества надпочечни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мечается склонность к инфекционным и кож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ичные половые признаки выражены слабо, у отдельных больных наружные половые органы недоразвит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изолированном: увеличении вилочковой железы у детей раннего возраста может развиться asthma thymicum. Она характеризуется периодическими приступами одышки с кашлем, набуханием шейных вен, цианозом лица, изменением голоса впло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афонии, рвот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определению консенсусной группы Нацио- нального института здоровья ребенка и развития человека (NICHHD), принятому в 1989 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индром внезапной смерти новорожденных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это внезапная смерть ребенка в возрасте до одного года, которая остается необъяснимой после проведения полного посмертного исследования, включающего вскрытие, изучение места смерти и анализ медицинской документ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огно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ные могут внезапно умереть вследствие снижения защитных свойств организма в стрессовой ситуации (физическая травма, анестезия, интоксикация, холодная ванна и т. д.). Причиной смерти считают гипофункцию коры надпочечников или сдавление увеличенной вилочковой железой органов средостения и блуждающего нерв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наличии asthma thymicum у детей показано экстренное хирургическое вмешательство, в противном случае возможен летальный исхо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филактика внезапного летального исхода. Лицам с тимико-лимфатическим статусом следует избегать инфекций, интоксикаций, им противопоказаны общий наркоз и наркотики (морфин, пантопон, промедол и др.). При сочетании диффузного токсического зоба с тимико-лимфатическим статусом в предоперационном периоде проводят комбинированное лечение тиреостатически-ми препаратами и глюкокортикоид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000" y="1557360"/>
            <a:ext cx="8351640" cy="5184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бегать укладывать детей первого года жизни на живот во время с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максимально снизить риск возникновения СВСМ,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ть должна самым внимательным образом отнестись к себе и своему ребенку еще во время беременно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Курение, наркотики, чрезмерное употребление алкоголя беременной матерью втрое повышают шансы внезапной гибели ребенка на первом году жиз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гулярное наблюдение врача в период беременно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ервом году жизни, по крайней мере до того момента, пока ребенок сам не начнет активно переворачиваться,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 не должен спать на животе. В детской кроватке должен быть жесткий матрас и не должно быть большой и мягкой подушки. Игрушки необходимо убирать из кроват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 время сна малыш не должен быть слишком тепло одет. В комнате, где он спит, температура воздуха должна быть комфортной для взрослого человека, одетого в рубашку с коротким рукавом. Ребенок во время сна должен быть укрыт легким одеялом до уровня пле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8435880" cy="5141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присутствии грудного ребенка нельзя кури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Более того, если по какой-то причине малыш спит рядом с отцом или матерью, то последние не должны источать резких запахов табака, алкоголя, парфюмерии и т.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обходимо избегать воздействия на ребёнка резких запахов, звуков, света, прежде всего во время с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тественное вскармливание является эффективным профилактическим мероприятием от СВС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кцинация ни в коей мере не является причиной СВСМ, 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отсутствии медицинских противопоказаний ребенок должен быть приви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язательным является проводение своевременной терапии тимо - лимфатического диатеза глюкокортикоидами в комбинации с иммуномодулятор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воевременная, патогенетически обоснованная нейрометаболическая, мембраностабилизирующая и антиоксидантная терапия нарушений сердечного ритма и проводим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офилактика и лечения апноэ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значают в соответствии с причинами, вызвавшими апноэ, наприм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даление увеличенных миндалин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ррекция анемии или аритм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упирование судорог с использованием противосудорожных препарат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пноэ, связанное с брадикардией, купируют с помощью теофиллина или атропин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 наличии у ребенка гастроэзофагеального рефлюкса необходимо придать телу ребенка вертикальное положение и увеличить долю злаковых в пищевом рационе; при неэффективности мероприятий назначают метоклопрами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КБ-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95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запная смерть младенцев грудного возра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и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249120" y="1249200"/>
            <a:ext cx="84981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-103320" y="262080"/>
            <a:ext cx="93027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934360" y="39600"/>
            <a:ext cx="39312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несердечные прич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Заголовок 1"/>
          <p:cNvGrpSpPr/>
          <p:nvPr/>
        </p:nvGrpSpPr>
        <p:grpSpPr>
          <a:xfrm>
            <a:off x="414360" y="237960"/>
            <a:ext cx="8339040" cy="1352880"/>
            <a:chOff x="414360" y="237960"/>
            <a:chExt cx="8339040" cy="1352880"/>
          </a:xfrm>
        </p:grpSpPr>
        <p:pic>
          <p:nvPicPr>
            <p:cNvPr id="5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14360" y="237960"/>
              <a:ext cx="8339040" cy="13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68360" y="2700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Сердечные причины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Объект 3" descr=""/>
          <p:cNvPicPr/>
          <p:nvPr/>
        </p:nvPicPr>
        <p:blipFill>
          <a:blip r:embed="rId2"/>
          <a:stretch/>
        </p:blipFill>
        <p:spPr>
          <a:xfrm>
            <a:off x="49320" y="1341360"/>
            <a:ext cx="90392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Сон ребенка на живот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зано, что сон ребенка на животе действительно увеличивает риск развития СВД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хема 3" descr=""/>
          <p:cNvPicPr/>
          <p:nvPr/>
        </p:nvPicPr>
        <p:blipFill>
          <a:blip r:embed="rId1"/>
          <a:stretch/>
        </p:blipFill>
        <p:spPr>
          <a:xfrm>
            <a:off x="2004840" y="2382840"/>
            <a:ext cx="6096240" cy="4097160"/>
          </a:xfrm>
          <a:prstGeom prst="rect">
            <a:avLst/>
          </a:prstGeom>
          <a:ln w="0">
            <a:noFill/>
          </a:ln>
        </p:spPr>
      </p:pic>
      <p:sp>
        <p:nvSpPr>
          <p:cNvPr id="59" name="Управляющая кнопка: домой 5"/>
          <p:cNvSpPr/>
          <p:nvPr/>
        </p:nvSpPr>
        <p:spPr>
          <a:xfrm>
            <a:off x="8101080" y="616572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13470" y="3837"/>
                </a:moveTo>
                <a:lnTo>
                  <a:pt x="16046" y="6448"/>
                </a:lnTo>
                <a:lnTo>
                  <a:pt x="16046" y="4707"/>
                </a:lnTo>
                <a:lnTo>
                  <a:pt x="17822" y="4707"/>
                </a:lnTo>
                <a:lnTo>
                  <a:pt x="17822" y="8224"/>
                </a:lnTo>
                <a:lnTo>
                  <a:pt x="20433" y="10800"/>
                </a:lnTo>
                <a:lnTo>
                  <a:pt x="18779" y="10800"/>
                </a:lnTo>
                <a:lnTo>
                  <a:pt x="18779" y="17989"/>
                </a:lnTo>
                <a:lnTo>
                  <a:pt x="8160" y="17989"/>
                </a:lnTo>
                <a:lnTo>
                  <a:pt x="8160" y="10800"/>
                </a:lnTo>
                <a:lnTo>
                  <a:pt x="6507" y="10800"/>
                </a:lnTo>
                <a:close/>
              </a:path>
              <a:path fill="darkenLess" w="26939" h="21600">
                <a:moveTo>
                  <a:pt x="16046" y="6448"/>
                </a:moveTo>
                <a:lnTo>
                  <a:pt x="16046" y="4707"/>
                </a:lnTo>
                <a:lnTo>
                  <a:pt x="17822" y="4707"/>
                </a:lnTo>
                <a:lnTo>
                  <a:pt x="17822" y="8224"/>
                </a:lnTo>
                <a:close/>
              </a:path>
              <a:path fill="darkenLess" w="26939" h="21600">
                <a:moveTo>
                  <a:pt x="12547" y="14299"/>
                </a:moveTo>
                <a:lnTo>
                  <a:pt x="14392" y="14299"/>
                </a:lnTo>
                <a:lnTo>
                  <a:pt x="14392" y="17989"/>
                </a:lnTo>
                <a:lnTo>
                  <a:pt x="18779" y="17989"/>
                </a:lnTo>
                <a:lnTo>
                  <a:pt x="18779" y="10800"/>
                </a:lnTo>
                <a:lnTo>
                  <a:pt x="8160" y="10800"/>
                </a:lnTo>
                <a:lnTo>
                  <a:pt x="8160" y="17989"/>
                </a:lnTo>
                <a:lnTo>
                  <a:pt x="1254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09440" y="1109520"/>
            <a:ext cx="8710560" cy="4565880"/>
          </a:xfrm>
          <a:prstGeom prst="rect">
            <a:avLst/>
          </a:prstGeom>
          <a:ln w="0">
            <a:noFill/>
          </a:ln>
        </p:spPr>
      </p:pic>
      <p:sp>
        <p:nvSpPr>
          <p:cNvPr id="61" name="Управляющая кнопка: домой 4"/>
          <p:cNvSpPr/>
          <p:nvPr/>
        </p:nvSpPr>
        <p:spPr>
          <a:xfrm>
            <a:off x="8028000" y="602136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3837"/>
                </a:moveTo>
                <a:lnTo>
                  <a:pt x="14444" y="6448"/>
                </a:ln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lnTo>
                  <a:pt x="18831" y="10800"/>
                </a:lnTo>
                <a:lnTo>
                  <a:pt x="17177" y="10800"/>
                </a:lnTo>
                <a:lnTo>
                  <a:pt x="17177" y="17989"/>
                </a:lnTo>
                <a:lnTo>
                  <a:pt x="6558" y="17989"/>
                </a:lnTo>
                <a:lnTo>
                  <a:pt x="6558" y="10800"/>
                </a:lnTo>
                <a:lnTo>
                  <a:pt x="4905" y="10800"/>
                </a:lnTo>
                <a:close/>
              </a:path>
              <a:path fill="darkenLess" w="23735" h="21600">
                <a:moveTo>
                  <a:pt x="14444" y="6448"/>
                </a:move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close/>
              </a:path>
              <a:path fill="darkenLess" w="23735" h="21600">
                <a:moveTo>
                  <a:pt x="10945" y="14299"/>
                </a:moveTo>
                <a:lnTo>
                  <a:pt x="12790" y="14299"/>
                </a:lnTo>
                <a:lnTo>
                  <a:pt x="12790" y="17989"/>
                </a:lnTo>
                <a:lnTo>
                  <a:pt x="17177" y="17989"/>
                </a:lnTo>
                <a:lnTo>
                  <a:pt x="17177" y="10800"/>
                </a:lnTo>
                <a:lnTo>
                  <a:pt x="6558" y="10800"/>
                </a:lnTo>
                <a:lnTo>
                  <a:pt x="6558" y="17989"/>
                </a:lnTo>
                <a:lnTo>
                  <a:pt x="1094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6760" y="-3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рение вызыва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176040" y="804960"/>
            <a:ext cx="8967960" cy="6016680"/>
          </a:xfrm>
          <a:prstGeom prst="rect">
            <a:avLst/>
          </a:prstGeom>
          <a:ln w="0">
            <a:noFill/>
          </a:ln>
        </p:spPr>
      </p:pic>
      <p:sp>
        <p:nvSpPr>
          <p:cNvPr id="64" name="Управляющая кнопка: домой 4"/>
          <p:cNvSpPr/>
          <p:nvPr/>
        </p:nvSpPr>
        <p:spPr>
          <a:xfrm>
            <a:off x="8317080" y="6237360"/>
            <a:ext cx="718920" cy="50472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760" h="21600">
                <a:moveTo>
                  <a:pt x="0" y="0"/>
                </a:moveTo>
                <a:lnTo>
                  <a:pt x="30760" y="0"/>
                </a:lnTo>
                <a:lnTo>
                  <a:pt x="30760" y="21600"/>
                </a:lnTo>
                <a:lnTo>
                  <a:pt x="0" y="21600"/>
                </a:lnTo>
                <a:close/>
              </a:path>
              <a:path fill="lightenLess" w="30760" h="21600">
                <a:moveTo>
                  <a:pt x="0" y="0"/>
                </a:moveTo>
                <a:lnTo>
                  <a:pt x="30760" y="0"/>
                </a:lnTo>
                <a:lnTo>
                  <a:pt x="29360" y="1400"/>
                </a:lnTo>
                <a:lnTo>
                  <a:pt x="1400" y="1400"/>
                </a:lnTo>
                <a:close/>
              </a:path>
              <a:path fill="darken" w="30760" h="21600">
                <a:moveTo>
                  <a:pt x="30760" y="0"/>
                </a:moveTo>
                <a:lnTo>
                  <a:pt x="30760" y="21600"/>
                </a:lnTo>
                <a:lnTo>
                  <a:pt x="29360" y="20200"/>
                </a:lnTo>
                <a:lnTo>
                  <a:pt x="29360" y="1400"/>
                </a:lnTo>
                <a:close/>
              </a:path>
              <a:path fill="darkenLess" w="30760" h="21600">
                <a:moveTo>
                  <a:pt x="30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60" y="20200"/>
                </a:lnTo>
                <a:close/>
              </a:path>
              <a:path fill="lighten" w="30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60" h="21600">
                <a:moveTo>
                  <a:pt x="15380" y="3837"/>
                </a:moveTo>
                <a:lnTo>
                  <a:pt x="17956" y="6448"/>
                </a:lnTo>
                <a:lnTo>
                  <a:pt x="17956" y="4707"/>
                </a:lnTo>
                <a:lnTo>
                  <a:pt x="19732" y="4707"/>
                </a:lnTo>
                <a:lnTo>
                  <a:pt x="19732" y="8224"/>
                </a:lnTo>
                <a:lnTo>
                  <a:pt x="22343" y="10800"/>
                </a:lnTo>
                <a:lnTo>
                  <a:pt x="20689" y="10800"/>
                </a:lnTo>
                <a:lnTo>
                  <a:pt x="20689" y="17989"/>
                </a:lnTo>
                <a:lnTo>
                  <a:pt x="10071" y="17989"/>
                </a:lnTo>
                <a:lnTo>
                  <a:pt x="10071" y="10800"/>
                </a:lnTo>
                <a:lnTo>
                  <a:pt x="8417" y="10800"/>
                </a:lnTo>
                <a:close/>
              </a:path>
              <a:path fill="darkenLess" w="30760" h="21600">
                <a:moveTo>
                  <a:pt x="17956" y="6448"/>
                </a:moveTo>
                <a:lnTo>
                  <a:pt x="17956" y="4707"/>
                </a:lnTo>
                <a:lnTo>
                  <a:pt x="19732" y="4707"/>
                </a:lnTo>
                <a:lnTo>
                  <a:pt x="19732" y="8224"/>
                </a:lnTo>
                <a:close/>
              </a:path>
              <a:path fill="darkenLess" w="30760" h="21600">
                <a:moveTo>
                  <a:pt x="14458" y="14299"/>
                </a:moveTo>
                <a:lnTo>
                  <a:pt x="16303" y="14299"/>
                </a:lnTo>
                <a:lnTo>
                  <a:pt x="16303" y="17989"/>
                </a:lnTo>
                <a:lnTo>
                  <a:pt x="20689" y="17989"/>
                </a:lnTo>
                <a:lnTo>
                  <a:pt x="20689" y="10800"/>
                </a:lnTo>
                <a:lnTo>
                  <a:pt x="10071" y="10800"/>
                </a:lnTo>
                <a:lnTo>
                  <a:pt x="10071" y="17989"/>
                </a:lnTo>
                <a:lnTo>
                  <a:pt x="1445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4T15:10:49Z</dcterms:created>
  <dc:creator>Ярослава</dc:creator>
  <dc:description/>
  <dc:language>en-US</dc:language>
  <cp:lastModifiedBy>RePack by Diakov</cp:lastModifiedBy>
  <dcterms:modified xsi:type="dcterms:W3CDTF">2017-10-20T09:15:27Z</dcterms:modified>
  <cp:revision>19</cp:revision>
  <dc:subject/>
  <dc:title>Синдром внезапной смерти новорожденных</dc:title>
</cp:coreProperties>
</file>