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4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7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25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1ADC-476D-4E71-B99B-7B45B02CD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CE3C-4711-49BB-9628-6F3521622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2A5D-0D1E-428F-A98A-2BD70E623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C8CF-D2B6-4FFF-B20C-4414AD780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3A8C-9003-4489-AACD-FDDF71621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F6AC-4DEA-4081-9C43-3FAB582FF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FCA2-FD88-433C-BD80-2FEA5114F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3F59-55ED-4F55-9EB4-B901CF0C3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9542-07BC-44F8-B249-8A6A8A6FF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7C22-1C90-424F-838D-379E46390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7FA1-04AB-4033-BB61-22C12B40C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BC45-F9BF-4FBE-BC33-11A2F22C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A98AA-FCD2-430B-B512-FF302B1BF0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2.pn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pn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C:\Users\Солнышко\Desktop\Финальная часть дипломной\logo_college_150.gif"/>
          <p:cNvPicPr/>
          <p:nvPr/>
        </p:nvPicPr>
        <p:blipFill>
          <a:blip r:embed="rId1"/>
          <a:stretch/>
        </p:blipFill>
        <p:spPr>
          <a:xfrm>
            <a:off x="0" y="44280"/>
            <a:ext cx="1844640" cy="172908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6" descr=""/>
          <p:cNvPicPr/>
          <p:nvPr/>
        </p:nvPicPr>
        <p:blipFill>
          <a:blip r:embed="rId2"/>
          <a:stretch/>
        </p:blipFill>
        <p:spPr>
          <a:xfrm>
            <a:off x="895320" y="1305000"/>
            <a:ext cx="6816600" cy="13348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C:\Users\Солнышко\Desktop\Финальная часть дипломной\0_42bc0_7da7545_orig.png"/>
          <p:cNvPicPr/>
          <p:nvPr/>
        </p:nvPicPr>
        <p:blipFill>
          <a:blip r:embed="rId3"/>
          <a:stretch/>
        </p:blipFill>
        <p:spPr>
          <a:xfrm>
            <a:off x="7524720" y="0"/>
            <a:ext cx="1584360" cy="17002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8"/>
          <p:cNvSpPr/>
          <p:nvPr/>
        </p:nvSpPr>
        <p:spPr>
          <a:xfrm>
            <a:off x="324000" y="2957760"/>
            <a:ext cx="8526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ВЫПУСКНАЯ КВАЛИФИКАЦИОННАЯ РАБОТ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тема: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Особенности выполнения механической чистки кожи лиц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с различными недостатк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Rectangle 9" descr=""/>
          <p:cNvPicPr/>
          <p:nvPr/>
        </p:nvPicPr>
        <p:blipFill>
          <a:blip r:embed="rId4"/>
          <a:stretch/>
        </p:blipFill>
        <p:spPr>
          <a:xfrm>
            <a:off x="5346720" y="5065560"/>
            <a:ext cx="3668760" cy="1633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C:\Users\user\Desktop\9876.gif"/>
          <p:cNvPicPr/>
          <p:nvPr/>
        </p:nvPicPr>
        <p:blipFill>
          <a:blip r:embed="rId5"/>
          <a:stretch/>
        </p:blipFill>
        <p:spPr>
          <a:xfrm>
            <a:off x="214200" y="5572080"/>
            <a:ext cx="1857600" cy="1100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C:\Users\user\Desktop\clear-skin.jpg"/>
          <p:cNvPicPr/>
          <p:nvPr/>
        </p:nvPicPr>
        <p:blipFill>
          <a:blip r:embed="rId1"/>
          <a:stretch/>
        </p:blipFill>
        <p:spPr>
          <a:xfrm rot="20342400">
            <a:off x="-53640" y="5170320"/>
            <a:ext cx="1760400" cy="1481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C:\Users\user\Desktop\MASCARA-FACIAL.jpg"/>
          <p:cNvPicPr/>
          <p:nvPr/>
        </p:nvPicPr>
        <p:blipFill>
          <a:blip r:embed="rId2"/>
          <a:stretch/>
        </p:blipFill>
        <p:spPr>
          <a:xfrm>
            <a:off x="3143160" y="5143680"/>
            <a:ext cx="2786040" cy="150012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1"/>
          <p:cNvSpPr/>
          <p:nvPr/>
        </p:nvSpPr>
        <p:spPr>
          <a:xfrm>
            <a:off x="928800" y="2000160"/>
            <a:ext cx="7072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briol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abriola"/>
              </a:rPr>
              <a:t>Красивая и здоровая кожа - богатство и предмет гордости каждой девушки, а также отражение внутреннего состояния всего организма.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Gabriol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Gabriola"/>
              </a:rPr>
              <a:t>Чистка лица - необходимая процедура для поддержания красоты и тонуса кожи лица. Процедура предполагает одновременное очищение, омоложение, питание и увлажнение кож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Gabriola"/>
              </a:rPr>
              <a:t>Для поддержания кожи лица в хорошем состоянии существуют различные салонные процедур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Прямоугольник 2" descr=""/>
          <p:cNvPicPr/>
          <p:nvPr/>
        </p:nvPicPr>
        <p:blipFill>
          <a:blip r:embed="rId3"/>
          <a:stretch/>
        </p:blipFill>
        <p:spPr>
          <a:xfrm>
            <a:off x="2511360" y="762120"/>
            <a:ext cx="4230720" cy="1145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C:\Users\Солнышко\Desktop\Финальная часть дипломной\logo_college_150.gif"/>
          <p:cNvPicPr/>
          <p:nvPr/>
        </p:nvPicPr>
        <p:blipFill>
          <a:blip r:embed="rId4"/>
          <a:stretch/>
        </p:blipFill>
        <p:spPr>
          <a:xfrm>
            <a:off x="0" y="44280"/>
            <a:ext cx="1844640" cy="1729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C:\Users\user\Desktop\information_items_186.jpg"/>
          <p:cNvPicPr/>
          <p:nvPr/>
        </p:nvPicPr>
        <p:blipFill>
          <a:blip r:embed="rId5"/>
          <a:stretch/>
        </p:blipFill>
        <p:spPr>
          <a:xfrm rot="1051200">
            <a:off x="7245000" y="5216040"/>
            <a:ext cx="1938240" cy="1451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50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1785960" y="367200"/>
            <a:ext cx="6119640" cy="20120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Segoe Print"/>
                <a:ea typeface="Times New Roman"/>
              </a:rPr>
              <a:t>Целью</a:t>
            </a:r>
            <a:r>
              <a:rPr b="0" lang="ru-RU" sz="1400" spc="-1" strike="noStrike">
                <a:solidFill>
                  <a:srgbClr val="000000"/>
                </a:solidFill>
                <a:latin typeface="Segoe Print"/>
                <a:ea typeface="Times New Roman"/>
              </a:rPr>
              <a:t> данной выпускной квалификационной работы является выявление особенностей выполнения механической чистки для кожи лица с различными недостаткам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Segoe Print"/>
                <a:ea typeface="Times New Roman"/>
              </a:rPr>
              <a:t>Цель определила постановку следующих </a:t>
            </a:r>
            <a:r>
              <a:rPr b="1" lang="ru-RU" sz="1400" spc="-1" strike="noStrike">
                <a:solidFill>
                  <a:srgbClr val="000000"/>
                </a:solidFill>
                <a:latin typeface="Segoe Print"/>
                <a:ea typeface="Times New Roman"/>
              </a:rPr>
              <a:t>задач</a:t>
            </a:r>
            <a:r>
              <a:rPr b="0" lang="ru-RU" sz="1400" spc="-1" strike="noStrike">
                <a:solidFill>
                  <a:srgbClr val="000000"/>
                </a:solidFill>
                <a:latin typeface="Segoe Print"/>
                <a:ea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Segoe Print"/>
                <a:ea typeface="Times New Roman"/>
              </a:rPr>
              <a:t>- изучить проблемы и недостатки кожи лица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Segoe Print"/>
                <a:ea typeface="Times New Roman"/>
              </a:rPr>
              <a:t>- рассмотреть алгоритм</a:t>
            </a:r>
            <a:r>
              <a:rPr b="0" lang="ru-RU" sz="1400" spc="-1" strike="noStrike">
                <a:solidFill>
                  <a:srgbClr val="1f497d"/>
                </a:solidFill>
                <a:latin typeface="Segoe Print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Segoe Print"/>
                <a:ea typeface="Times New Roman"/>
              </a:rPr>
              <a:t>выполнения механической чистки кожи лица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Segoe Print"/>
                <a:ea typeface="Times New Roman"/>
              </a:rPr>
              <a:t>- выявить особенности выполнения механической чистки лица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" descr="C:\Users\Солнышко\Desktop\Финальная часть дипломной\logo_college_150.gif"/>
          <p:cNvPicPr/>
          <p:nvPr/>
        </p:nvPicPr>
        <p:blipFill>
          <a:blip r:embed="rId1"/>
          <a:stretch/>
        </p:blipFill>
        <p:spPr>
          <a:xfrm>
            <a:off x="0" y="44280"/>
            <a:ext cx="1844640" cy="172908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3"/>
          <p:cNvSpPr/>
          <p:nvPr/>
        </p:nvSpPr>
        <p:spPr>
          <a:xfrm>
            <a:off x="1785960" y="2576880"/>
            <a:ext cx="6143760" cy="11595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Segoe Print"/>
                <a:ea typeface="Times New Roman"/>
              </a:rPr>
              <a:t>Объектом исследования </a:t>
            </a:r>
            <a:r>
              <a:rPr b="0" lang="ru-RU" sz="1400" spc="-1" strike="noStrike">
                <a:solidFill>
                  <a:srgbClr val="000000"/>
                </a:solidFill>
                <a:latin typeface="Segoe Print"/>
                <a:ea typeface="Times New Roman"/>
              </a:rPr>
              <a:t>является механическая чистка кожи лиц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Segoe Print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Segoe Print"/>
                <a:ea typeface="Times New Roman"/>
              </a:rPr>
              <a:t>Предметом исследования</a:t>
            </a:r>
            <a:r>
              <a:rPr b="0" lang="ru-RU" sz="1400" spc="-1" strike="noStrike">
                <a:solidFill>
                  <a:srgbClr val="000000"/>
                </a:solidFill>
                <a:latin typeface="Segoe Print"/>
                <a:ea typeface="Times New Roman"/>
              </a:rPr>
              <a:t> является</a:t>
            </a:r>
            <a:r>
              <a:rPr b="1" lang="ru-RU" sz="1400" spc="-1" strike="noStrike">
                <a:solidFill>
                  <a:srgbClr val="000000"/>
                </a:solidFill>
                <a:latin typeface="Segoe Print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Segoe Print"/>
                <a:ea typeface="Times New Roman"/>
              </a:rPr>
              <a:t>выполнение механической чистки кожи лица с различными недостаткам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785960" y="3931560"/>
            <a:ext cx="6143760" cy="7333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Segoe Print"/>
                <a:ea typeface="Times New Roman"/>
              </a:rPr>
              <a:t>Гипотеза исследования:</a:t>
            </a:r>
            <a:r>
              <a:rPr b="0" lang="ru-RU" sz="1400" spc="-1" strike="noStrike">
                <a:solidFill>
                  <a:srgbClr val="000000"/>
                </a:solidFill>
                <a:latin typeface="Segoe Print"/>
                <a:ea typeface="Times New Roman"/>
              </a:rPr>
              <a:t> выполнение</a:t>
            </a:r>
            <a:r>
              <a:rPr b="1" lang="ru-RU" sz="1400" spc="-1" strike="noStrike">
                <a:solidFill>
                  <a:srgbClr val="000000"/>
                </a:solidFill>
                <a:latin typeface="Segoe Print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Segoe Print"/>
                <a:ea typeface="Times New Roman"/>
              </a:rPr>
              <a:t>механической чистки лица может быть разнообразным для кожи с различными недостаткам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1785960" y="4899960"/>
            <a:ext cx="6143760" cy="13726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Segoe Print"/>
              </a:rPr>
              <a:t>Базой исследования </a:t>
            </a:r>
            <a:r>
              <a:rPr b="0" lang="ru-RU" sz="1400" spc="-1" strike="noStrike">
                <a:solidFill>
                  <a:srgbClr val="000000"/>
                </a:solidFill>
                <a:latin typeface="Segoe Print"/>
              </a:rPr>
              <a:t>данной выпускной квалификационной работы является салон красоты «Совершенство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Segoe Print"/>
              </a:rPr>
              <a:t>Рассматриваемая тема исследования может быть интересна для учащихся и преподавателей косметических курсов, профессиональных учебных заведений, а также будет полезна всем интересующимся вопросами глубокого очищения кожи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horz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C:\Users\Солнышко\Desktop\Финальная часть дипломной\logo_college_150.gif"/>
          <p:cNvPicPr/>
          <p:nvPr/>
        </p:nvPicPr>
        <p:blipFill>
          <a:blip r:embed="rId1"/>
          <a:stretch/>
        </p:blipFill>
        <p:spPr>
          <a:xfrm>
            <a:off x="0" y="44280"/>
            <a:ext cx="1844640" cy="1729080"/>
          </a:xfrm>
          <a:prstGeom prst="rect">
            <a:avLst/>
          </a:prstGeom>
          <a:ln w="0">
            <a:noFill/>
          </a:ln>
        </p:spPr>
      </p:pic>
      <p:pic>
        <p:nvPicPr>
          <p:cNvPr id="59" name="TextBox 5" descr=""/>
          <p:cNvPicPr/>
          <p:nvPr/>
        </p:nvPicPr>
        <p:blipFill>
          <a:blip r:embed="rId2"/>
          <a:stretch/>
        </p:blipFill>
        <p:spPr>
          <a:xfrm>
            <a:off x="2809800" y="-92160"/>
            <a:ext cx="3840120" cy="74448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6"/>
          <p:cNvSpPr/>
          <p:nvPr/>
        </p:nvSpPr>
        <p:spPr>
          <a:xfrm>
            <a:off x="1714680" y="500040"/>
            <a:ext cx="742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жа - это очень сложный орган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коже различают три основных слоя: эпидермис (надкожицу), дерму (собственно кожу) и гиподерму (подкожно - жировую клетчатку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7"/>
          <p:cNvSpPr/>
          <p:nvPr/>
        </p:nvSpPr>
        <p:spPr>
          <a:xfrm>
            <a:off x="1785960" y="1428840"/>
            <a:ext cx="6072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пидермис - поверхностный слой кожи. В нем есть 5 слоев клеток, различных по форме, величине и функциям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огово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лестящи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ернисты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Шиповаты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азальны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6" descr="F:\Диплом\приложения\1.jpg"/>
          <p:cNvPicPr/>
          <p:nvPr/>
        </p:nvPicPr>
        <p:blipFill>
          <a:blip r:embed="rId3"/>
          <a:stretch/>
        </p:blipFill>
        <p:spPr>
          <a:xfrm>
            <a:off x="5357880" y="2071800"/>
            <a:ext cx="3786120" cy="31050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0"/>
          <p:cNvSpPr/>
          <p:nvPr/>
        </p:nvSpPr>
        <p:spPr>
          <a:xfrm>
            <a:off x="785880" y="3695400"/>
            <a:ext cx="4714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Дерма - второй слой кож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В дерме находится коллагеново-эластиновый комплекс. Коллагеновые волокна обеспечивают упругость, а эластиновые - растяжимость нашей кож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19"/>
          <p:cNvSpPr/>
          <p:nvPr/>
        </p:nvSpPr>
        <p:spPr>
          <a:xfrm>
            <a:off x="785880" y="5072040"/>
            <a:ext cx="8001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Гиподерма - самый внутренний слой кож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Она же подкожная клетчатка. Состоит только из жировых клеток - адипоцитов. В гиподерме располагаются кровеносные и лимфатические сосуды, а так же нервные окончания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C:\Users\Солнышко\Desktop\Финальная часть дипломной\logo_college_150.gif"/>
          <p:cNvPicPr/>
          <p:nvPr/>
        </p:nvPicPr>
        <p:blipFill>
          <a:blip r:embed="rId1"/>
          <a:stretch/>
        </p:blipFill>
        <p:spPr>
          <a:xfrm>
            <a:off x="0" y="44280"/>
            <a:ext cx="1844640" cy="1729080"/>
          </a:xfrm>
          <a:prstGeom prst="rect">
            <a:avLst/>
          </a:prstGeom>
          <a:ln w="0">
            <a:noFill/>
          </a:ln>
        </p:spPr>
      </p:pic>
      <p:pic>
        <p:nvPicPr>
          <p:cNvPr id="66" name="TextBox 8" descr=""/>
          <p:cNvPicPr/>
          <p:nvPr/>
        </p:nvPicPr>
        <p:blipFill>
          <a:blip r:embed="rId2"/>
          <a:stretch/>
        </p:blipFill>
        <p:spPr>
          <a:xfrm>
            <a:off x="2743200" y="560520"/>
            <a:ext cx="4194000" cy="639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F:\Диплом\приложения\2.jpg"/>
          <p:cNvPicPr/>
          <p:nvPr/>
        </p:nvPicPr>
        <p:blipFill>
          <a:blip r:embed="rId3"/>
          <a:stretch/>
        </p:blipFill>
        <p:spPr>
          <a:xfrm rot="19794000">
            <a:off x="1257480" y="1485720"/>
            <a:ext cx="1726920" cy="1339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F:\Диплом\приложения\3.jpg"/>
          <p:cNvPicPr/>
          <p:nvPr/>
        </p:nvPicPr>
        <p:blipFill>
          <a:blip r:embed="rId4"/>
          <a:stretch/>
        </p:blipFill>
        <p:spPr>
          <a:xfrm rot="1299000">
            <a:off x="6660720" y="1509480"/>
            <a:ext cx="1835280" cy="12207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2" descr="F:\Диплом\приложения\4.jpg"/>
          <p:cNvPicPr/>
          <p:nvPr/>
        </p:nvPicPr>
        <p:blipFill>
          <a:blip r:embed="rId5"/>
          <a:stretch/>
        </p:blipFill>
        <p:spPr>
          <a:xfrm rot="1545000">
            <a:off x="561600" y="4581360"/>
            <a:ext cx="2297160" cy="1420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F:\Диплом\приложения\5.png"/>
          <p:cNvPicPr/>
          <p:nvPr/>
        </p:nvPicPr>
        <p:blipFill>
          <a:blip r:embed="rId6"/>
          <a:stretch/>
        </p:blipFill>
        <p:spPr>
          <a:xfrm rot="20059800">
            <a:off x="6802200" y="4535640"/>
            <a:ext cx="2138400" cy="1425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4" descr="F:\Диплом\приложения\6.jpg"/>
          <p:cNvPicPr/>
          <p:nvPr/>
        </p:nvPicPr>
        <p:blipFill>
          <a:blip r:embed="rId7"/>
          <a:stretch/>
        </p:blipFill>
        <p:spPr>
          <a:xfrm>
            <a:off x="3786120" y="5214960"/>
            <a:ext cx="1997280" cy="13572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6" descr="F:\Диплом\приложения\7.jpg"/>
          <p:cNvPicPr/>
          <p:nvPr/>
        </p:nvPicPr>
        <p:blipFill>
          <a:blip r:embed="rId8"/>
          <a:stretch/>
        </p:blipFill>
        <p:spPr>
          <a:xfrm>
            <a:off x="3857760" y="1285920"/>
            <a:ext cx="2071440" cy="114300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23"/>
          <p:cNvSpPr/>
          <p:nvPr/>
        </p:nvSpPr>
        <p:spPr>
          <a:xfrm>
            <a:off x="1643040" y="2928960"/>
            <a:ext cx="6572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 выраженности тех или иных признаков, таких как цвет (пигментация), аллергическая реагенность, эластичность, профиль кожи, увлажненность, засаленность, состояние сосудов и т.п. - выделяется свыше тридцати типов кожи. Одна из самых распространенных и наиболее практически оправданных классификации типов кожи - в зависимости от баланса функционирования сальных и потовых желез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анные типы кожи имеют свои собственные недостатк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C:\Users\Солнышко\Desktop\Финальная часть дипломной\logo_college_150.gif"/>
          <p:cNvPicPr/>
          <p:nvPr/>
        </p:nvPicPr>
        <p:blipFill>
          <a:blip r:embed="rId1"/>
          <a:stretch/>
        </p:blipFill>
        <p:spPr>
          <a:xfrm>
            <a:off x="0" y="44280"/>
            <a:ext cx="1844640" cy="172908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оугольник 2" descr=""/>
          <p:cNvPicPr/>
          <p:nvPr/>
        </p:nvPicPr>
        <p:blipFill>
          <a:blip r:embed="rId2"/>
          <a:stretch/>
        </p:blipFill>
        <p:spPr>
          <a:xfrm>
            <a:off x="2468520" y="201600"/>
            <a:ext cx="4481640" cy="55404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3"/>
          <p:cNvSpPr/>
          <p:nvPr/>
        </p:nvSpPr>
        <p:spPr>
          <a:xfrm>
            <a:off x="1928880" y="857160"/>
            <a:ext cx="578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того чтобы добавить коже полезных свойств и избавиться от недостатков, на помощь придет современная косметология, которая предлагает множество различных процедур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928800" y="2011680"/>
            <a:ext cx="6429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Существуют в современной косметологии различные  косметические способы и методы по очищению кожи лица, такие как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45072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атравматичная чистк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45072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механическая чистк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45072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ультразвуковая чистк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45072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вакуумная чистк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45072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химическая чистк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45072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дезинкрустац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4" descr="F:\Диплом\приложения\8.jpg"/>
          <p:cNvPicPr/>
          <p:nvPr/>
        </p:nvPicPr>
        <p:blipFill>
          <a:blip r:embed="rId3"/>
          <a:stretch/>
        </p:blipFill>
        <p:spPr>
          <a:xfrm>
            <a:off x="5500800" y="2909880"/>
            <a:ext cx="2000160" cy="1471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F:\Диплом\приложения\9.jpg"/>
          <p:cNvPicPr/>
          <p:nvPr/>
        </p:nvPicPr>
        <p:blipFill>
          <a:blip r:embed="rId4"/>
          <a:stretch/>
        </p:blipFill>
        <p:spPr>
          <a:xfrm>
            <a:off x="3071880" y="5143680"/>
            <a:ext cx="1919160" cy="1285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F:\Диплом\приложения\10.jpg"/>
          <p:cNvPicPr/>
          <p:nvPr/>
        </p:nvPicPr>
        <p:blipFill>
          <a:blip r:embed="rId5"/>
          <a:stretch/>
        </p:blipFill>
        <p:spPr>
          <a:xfrm>
            <a:off x="857160" y="5286240"/>
            <a:ext cx="1928880" cy="12891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F:\Диплом\приложения\11.jpg"/>
          <p:cNvPicPr/>
          <p:nvPr/>
        </p:nvPicPr>
        <p:blipFill>
          <a:blip r:embed="rId6"/>
          <a:stretch/>
        </p:blipFill>
        <p:spPr>
          <a:xfrm>
            <a:off x="5072040" y="4572000"/>
            <a:ext cx="243684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C:\Users\Солнышко\Desktop\Финальная часть дипломной\logo_college_150.gif"/>
          <p:cNvPicPr/>
          <p:nvPr/>
        </p:nvPicPr>
        <p:blipFill>
          <a:blip r:embed="rId1"/>
          <a:stretch/>
        </p:blipFill>
        <p:spPr>
          <a:xfrm>
            <a:off x="0" y="44280"/>
            <a:ext cx="1844640" cy="172908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2"/>
          <p:cNvSpPr/>
          <p:nvPr/>
        </p:nvSpPr>
        <p:spPr>
          <a:xfrm>
            <a:off x="1785960" y="428760"/>
            <a:ext cx="6357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ждому человеку приходилось сталкиваться на своем лице с различными косметическими недостатками, такими как черные точки и угри. На сегодняшний день уровень косметологии довольно высок и позволяет решить проблему, связанную с устранением этого недуга и преданием ей более здорового вид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1285920" y="2223720"/>
            <a:ext cx="7143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Чистка лица -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наиболее распространенная и действенная косметическая процедура. Периодически чистка лица требуется всем людям, но особенно чистка лица необходима людям, испытывающим проблемы с кожей, так как основное предназначение чистки лица - избавление кожи от так называемых черных точек и всех видов угрей, причины появления которых могут быть самыми разными - от простого загрязнения до нарушения деятельности некоторых желез внутренней секреци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1357200" y="4082400"/>
            <a:ext cx="70009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В процессе исследования были изучены проблемы и недостатки кожи лица, рассмотрен алгоритм</a:t>
            </a:r>
            <a:r>
              <a:rPr b="0" lang="ru-RU" sz="1600" spc="-1" strike="noStrike">
                <a:solidFill>
                  <a:srgbClr val="1f497d"/>
                </a:solidFill>
                <a:latin typeface="Calibri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выполнения механической чистки кожи лица, выявлены особенности выполнения механической чистки лица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Кроме того, была доказана эффективность механической чистки для кожи с различными недостаткам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Задачи, поставленные в начале исследования, и цель работы были достигнуты. Гипотеза, - выполнение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механической чистки лица может быть разнообразным для кожи с различными недостатками - доказан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C:\Users\Солнышко\Desktop\Финальная часть дипломной\logo_college_150.gif"/>
          <p:cNvPicPr/>
          <p:nvPr/>
        </p:nvPicPr>
        <p:blipFill>
          <a:blip r:embed="rId1"/>
          <a:stretch/>
        </p:blipFill>
        <p:spPr>
          <a:xfrm>
            <a:off x="0" y="44280"/>
            <a:ext cx="1844640" cy="1729080"/>
          </a:xfrm>
          <a:prstGeom prst="rect">
            <a:avLst/>
          </a:prstGeom>
          <a:ln w="0">
            <a:noFill/>
          </a:ln>
        </p:spPr>
      </p:pic>
      <p:pic>
        <p:nvPicPr>
          <p:cNvPr id="87" name="Прямоугольник 2" descr=""/>
          <p:cNvPicPr/>
          <p:nvPr/>
        </p:nvPicPr>
        <p:blipFill>
          <a:blip r:embed="rId2"/>
          <a:stretch/>
        </p:blipFill>
        <p:spPr>
          <a:xfrm>
            <a:off x="895320" y="2749680"/>
            <a:ext cx="765828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8T20:01:29Z</dcterms:created>
  <dc:creator>Катенок</dc:creator>
  <dc:description/>
  <dc:language>en-US</dc:language>
  <cp:lastModifiedBy>user</cp:lastModifiedBy>
  <dcterms:modified xsi:type="dcterms:W3CDTF">2013-06-13T06:33:46Z</dcterms:modified>
  <cp:revision>29</cp:revision>
  <dc:subject/>
  <dc:title>Презентация PowerPoint</dc:title>
</cp:coreProperties>
</file>