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A27-56B3-4B16-A0C3-C1F0FE4F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203-CE65-4C67-9E8E-19D03F3A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A33-7DD4-4D83-BAA6-507565C3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CD1-6AFD-46C4-B664-FAEC9E1B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1C8-652E-4D0A-8A70-41EC1B96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9E9-6E3A-4BBC-95C6-8EB61F2E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28E-7843-466F-A3EF-93243DDE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CA7-679B-498C-A97F-D16940DD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361-622A-4562-A91C-CB51D9DF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735-E8E6-4638-85F2-1F5EC2B1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678-346A-42EF-8A77-497CF872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1AC-D3EC-4740-92ED-A05AEF31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5906-665E-4AE2-AAE3-B2E7A1F6E1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Солнышко\Desktop\Финальная часть дипломной\logo_college_150.gif"/>
          <p:cNvPicPr/>
          <p:nvPr/>
        </p:nvPicPr>
        <p:blipFill>
          <a:blip r:embed="rId1"/>
          <a:stretch/>
        </p:blipFill>
        <p:spPr>
          <a:xfrm>
            <a:off x="0" y="44280"/>
            <a:ext cx="1844640" cy="17290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895320" y="1305000"/>
            <a:ext cx="6816600" cy="133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Users\Солнышко\Desktop\Финальная часть дипломной\0_42bc0_7da7545_orig.png"/>
          <p:cNvPicPr/>
          <p:nvPr/>
        </p:nvPicPr>
        <p:blipFill>
          <a:blip r:embed="rId3"/>
          <a:stretch/>
        </p:blipFill>
        <p:spPr>
          <a:xfrm>
            <a:off x="7524720" y="0"/>
            <a:ext cx="15843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324000" y="2957760"/>
            <a:ext cx="852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ПУСКНАЯ КВАЛИФИКАЦИОННАЯ РАБО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ма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и выполнения механической чистки кожи лиц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 различными недостат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Rectangle 9" descr=""/>
          <p:cNvPicPr/>
          <p:nvPr/>
        </p:nvPicPr>
        <p:blipFill>
          <a:blip r:embed="rId4"/>
          <a:stretch/>
        </p:blipFill>
        <p:spPr>
          <a:xfrm>
            <a:off x="5346720" y="5065560"/>
            <a:ext cx="3668760" cy="1633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:\Users\user\Desktop\9876.gif"/>
          <p:cNvPicPr/>
          <p:nvPr/>
        </p:nvPicPr>
        <p:blipFill>
          <a:blip r:embed="rId5"/>
          <a:stretch/>
        </p:blipFill>
        <p:spPr>
          <a:xfrm>
            <a:off x="214200" y="5572080"/>
            <a:ext cx="1857600" cy="110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er\Desktop\clear-skin.jpg"/>
          <p:cNvPicPr/>
          <p:nvPr/>
        </p:nvPicPr>
        <p:blipFill>
          <a:blip r:embed="rId1"/>
          <a:stretch/>
        </p:blipFill>
        <p:spPr>
          <a:xfrm rot="20342400">
            <a:off x="-53640" y="5170320"/>
            <a:ext cx="1760400" cy="1481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user\Desktop\MASCARA-FACIAL.jpg"/>
          <p:cNvPicPr/>
          <p:nvPr/>
        </p:nvPicPr>
        <p:blipFill>
          <a:blip r:embed="rId2"/>
          <a:stretch/>
        </p:blipFill>
        <p:spPr>
          <a:xfrm>
            <a:off x="3143160" y="5143680"/>
            <a:ext cx="2786040" cy="15001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928800" y="2000160"/>
            <a:ext cx="70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briol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briola"/>
              </a:rPr>
              <a:t>Красивая и здоровая кожа - богатство и предмет гордости каждой девушки, а также отражение внутреннего состояния всего организма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briol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briola"/>
              </a:rPr>
              <a:t>Чистка лица - необходимая процедура для поддержания красоты и тонуса кожи лица. Процедура предполагает одновременное очищение, омоложение, питание и увлажнение кож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briola"/>
              </a:rPr>
              <a:t>Для поддержания кожи лица в хорошем состоянии существуют различные салонные процед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2" descr=""/>
          <p:cNvPicPr/>
          <p:nvPr/>
        </p:nvPicPr>
        <p:blipFill>
          <a:blip r:embed="rId3"/>
          <a:stretch/>
        </p:blipFill>
        <p:spPr>
          <a:xfrm>
            <a:off x="2511360" y="762120"/>
            <a:ext cx="4230720" cy="114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Солнышко\Desktop\Финальная часть дипломной\logo_college_150.gif"/>
          <p:cNvPicPr/>
          <p:nvPr/>
        </p:nvPicPr>
        <p:blipFill>
          <a:blip r:embed="rId4"/>
          <a:stretch/>
        </p:blipFill>
        <p:spPr>
          <a:xfrm>
            <a:off x="0" y="44280"/>
            <a:ext cx="1844640" cy="172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user\Desktop\information_items_186.jpg"/>
          <p:cNvPicPr/>
          <p:nvPr/>
        </p:nvPicPr>
        <p:blipFill>
          <a:blip r:embed="rId5"/>
          <a:stretch/>
        </p:blipFill>
        <p:spPr>
          <a:xfrm rot="1051200">
            <a:off x="7245000" y="5216040"/>
            <a:ext cx="1938240" cy="1451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785960" y="367200"/>
            <a:ext cx="6119640" cy="2012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Целью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 данной выпускной квалификационной работы является выявление особенностей выполнения механической чистки для кожи лица с различными недостатк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Цель определила постановку следующих </a:t>
            </a:r>
            <a:r>
              <a:rPr b="1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задач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- изучить проблемы и недостатки кожи лиц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- рассмотреть алгоритм</a:t>
            </a:r>
            <a:r>
              <a:rPr b="0" lang="ru-RU" sz="1400" spc="-1" strike="noStrike">
                <a:solidFill>
                  <a:srgbClr val="1f497d"/>
                </a:solidFill>
                <a:latin typeface="Segoe Print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выполнения механической чистки кожи лиц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- выявить особенности выполнения механической чистки лиц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:\Users\Солнышко\Desktop\Финальная часть дипломной\logo_college_150.gif"/>
          <p:cNvPicPr/>
          <p:nvPr/>
        </p:nvPicPr>
        <p:blipFill>
          <a:blip r:embed="rId1"/>
          <a:stretch/>
        </p:blipFill>
        <p:spPr>
          <a:xfrm>
            <a:off x="0" y="44280"/>
            <a:ext cx="1844640" cy="1729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1785960" y="2576880"/>
            <a:ext cx="6143760" cy="1159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Объектом исследования 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является механическая чистка кожи лиц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Предметом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 является</a:t>
            </a:r>
            <a:r>
              <a:rPr b="1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выполнение механической чистки кожи лица с различными недостатк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85960" y="3931560"/>
            <a:ext cx="6143760" cy="733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Гипотеза исследования: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 выполнение</a:t>
            </a:r>
            <a:r>
              <a:rPr b="1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механической чистки лица может быть разнообразным для кожи с различными недостатк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785960" y="4899960"/>
            <a:ext cx="6143760" cy="1372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egoe Print"/>
              </a:rPr>
              <a:t>Базой исследования 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</a:rPr>
              <a:t>данной выпускной квалификационной работы является салон красоты «Совершенство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egoe Print"/>
              </a:rPr>
              <a:t>Рассматриваемая тема исследования может быть интересна для учащихся и преподавателей косметических курсов, профессиональных учебных заведений, а также будет полезна всем интересующимся вопросами глубокого очищения кож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:\Users\Солнышко\Desktop\Финальная часть дипломной\logo_college_150.gif"/>
          <p:cNvPicPr/>
          <p:nvPr/>
        </p:nvPicPr>
        <p:blipFill>
          <a:blip r:embed="rId1"/>
          <a:stretch/>
        </p:blipFill>
        <p:spPr>
          <a:xfrm>
            <a:off x="0" y="44280"/>
            <a:ext cx="1844640" cy="17290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5" descr=""/>
          <p:cNvPicPr/>
          <p:nvPr/>
        </p:nvPicPr>
        <p:blipFill>
          <a:blip r:embed="rId2"/>
          <a:stretch/>
        </p:blipFill>
        <p:spPr>
          <a:xfrm>
            <a:off x="2809800" y="-92160"/>
            <a:ext cx="3840120" cy="7444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1714680" y="50004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жа - это очень сложный орга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же различают три основных слоя: эпидермис (надкожицу), дерму (собственно кожу) и гиподерму (подкожно - жировую клетчатку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1785960" y="1428840"/>
            <a:ext cx="60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пидермис - поверхностный слой кожи. В нем есть 5 слоев клеток, различных по форме, величине и функциям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гов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лестящ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ернист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иповат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заль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F:\Диплом\приложения\1.jpg"/>
          <p:cNvPicPr/>
          <p:nvPr/>
        </p:nvPicPr>
        <p:blipFill>
          <a:blip r:embed="rId3"/>
          <a:stretch/>
        </p:blipFill>
        <p:spPr>
          <a:xfrm>
            <a:off x="5357880" y="2071800"/>
            <a:ext cx="3786120" cy="3105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0"/>
          <p:cNvSpPr/>
          <p:nvPr/>
        </p:nvSpPr>
        <p:spPr>
          <a:xfrm>
            <a:off x="785880" y="3695400"/>
            <a:ext cx="471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Дерма - второй слой кож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 дерме находится коллагеново-эластиновый комплекс. Коллагеновые волокна обеспечивают упругость, а эластиновые - растяжимость нашей ко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785880" y="507204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иподерма - самый внутренний слой кож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Она же подкожная клетчатка. Состоит только из жировых клеток - адипоцитов. В гиподерме располагаются кровеносные и лимфатические сосуды, а так же нервные окончани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:\Users\Солнышко\Desktop\Финальная часть дипломной\logo_college_150.gif"/>
          <p:cNvPicPr/>
          <p:nvPr/>
        </p:nvPicPr>
        <p:blipFill>
          <a:blip r:embed="rId1"/>
          <a:stretch/>
        </p:blipFill>
        <p:spPr>
          <a:xfrm>
            <a:off x="0" y="44280"/>
            <a:ext cx="1844640" cy="172908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8" descr=""/>
          <p:cNvPicPr/>
          <p:nvPr/>
        </p:nvPicPr>
        <p:blipFill>
          <a:blip r:embed="rId2"/>
          <a:stretch/>
        </p:blipFill>
        <p:spPr>
          <a:xfrm>
            <a:off x="2743200" y="560520"/>
            <a:ext cx="4194000" cy="63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F:\Диплом\приложения\2.jpg"/>
          <p:cNvPicPr/>
          <p:nvPr/>
        </p:nvPicPr>
        <p:blipFill>
          <a:blip r:embed="rId3"/>
          <a:stretch/>
        </p:blipFill>
        <p:spPr>
          <a:xfrm rot="19794000">
            <a:off x="1257480" y="1485720"/>
            <a:ext cx="1726920" cy="133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F:\Диплом\приложения\3.jpg"/>
          <p:cNvPicPr/>
          <p:nvPr/>
        </p:nvPicPr>
        <p:blipFill>
          <a:blip r:embed="rId4"/>
          <a:stretch/>
        </p:blipFill>
        <p:spPr>
          <a:xfrm rot="1299000">
            <a:off x="6660720" y="1509480"/>
            <a:ext cx="1835280" cy="1220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F:\Диплом\приложения\4.jpg"/>
          <p:cNvPicPr/>
          <p:nvPr/>
        </p:nvPicPr>
        <p:blipFill>
          <a:blip r:embed="rId5"/>
          <a:stretch/>
        </p:blipFill>
        <p:spPr>
          <a:xfrm rot="1545000">
            <a:off x="561600" y="4581360"/>
            <a:ext cx="2297160" cy="142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F:\Диплом\приложения\5.png"/>
          <p:cNvPicPr/>
          <p:nvPr/>
        </p:nvPicPr>
        <p:blipFill>
          <a:blip r:embed="rId6"/>
          <a:stretch/>
        </p:blipFill>
        <p:spPr>
          <a:xfrm rot="20059800">
            <a:off x="6802200" y="4535640"/>
            <a:ext cx="2138400" cy="142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F:\Диплом\приложения\6.jpg"/>
          <p:cNvPicPr/>
          <p:nvPr/>
        </p:nvPicPr>
        <p:blipFill>
          <a:blip r:embed="rId7"/>
          <a:stretch/>
        </p:blipFill>
        <p:spPr>
          <a:xfrm>
            <a:off x="3786120" y="5214960"/>
            <a:ext cx="1997280" cy="1357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F:\Диплом\приложения\7.jpg"/>
          <p:cNvPicPr/>
          <p:nvPr/>
        </p:nvPicPr>
        <p:blipFill>
          <a:blip r:embed="rId8"/>
          <a:stretch/>
        </p:blipFill>
        <p:spPr>
          <a:xfrm>
            <a:off x="3857760" y="1285920"/>
            <a:ext cx="207144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3"/>
          <p:cNvSpPr/>
          <p:nvPr/>
        </p:nvSpPr>
        <p:spPr>
          <a:xfrm>
            <a:off x="1643040" y="2928960"/>
            <a:ext cx="6572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выраженности тех или иных признаков, таких как цвет (пигментация), аллергическая реагенность, эластичность, профиль кожи, увлажненность, засаленность, состояние сосудов и т.п. - выделяется свыше тридцати типов кожи. Одна из самых распространенных и наиболее практически оправданных классификации типов кожи - в зависимости от баланса функционирования сальных и потовых желе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нные типы кожи имеют свои собственные недостат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C:\Users\Солнышко\Desktop\Финальная часть дипломной\logo_college_150.gif"/>
          <p:cNvPicPr/>
          <p:nvPr/>
        </p:nvPicPr>
        <p:blipFill>
          <a:blip r:embed="rId1"/>
          <a:stretch/>
        </p:blipFill>
        <p:spPr>
          <a:xfrm>
            <a:off x="0" y="44280"/>
            <a:ext cx="1844640" cy="172908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2468520" y="201600"/>
            <a:ext cx="4481640" cy="5540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1928880" y="85716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того чтобы добавить коже полезных свойств и избавиться от недостатков, на помощь придет современная косметология, которая предлагает множество различных процеду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28800" y="2011680"/>
            <a:ext cx="642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уществуют в современной косметологии различные  косметические способы и методы по очищению кожи лица, такие ка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атравматичная чис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ханическая чис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льтразвуковая чис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куумная чис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мическая чис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зинкруста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F:\Диплом\приложения\8.jpg"/>
          <p:cNvPicPr/>
          <p:nvPr/>
        </p:nvPicPr>
        <p:blipFill>
          <a:blip r:embed="rId3"/>
          <a:stretch/>
        </p:blipFill>
        <p:spPr>
          <a:xfrm>
            <a:off x="5500800" y="2909880"/>
            <a:ext cx="2000160" cy="1471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F:\Диплом\приложения\9.jpg"/>
          <p:cNvPicPr/>
          <p:nvPr/>
        </p:nvPicPr>
        <p:blipFill>
          <a:blip r:embed="rId4"/>
          <a:stretch/>
        </p:blipFill>
        <p:spPr>
          <a:xfrm>
            <a:off x="3071880" y="5143680"/>
            <a:ext cx="1919160" cy="1285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F:\Диплом\приложения\10.jpg"/>
          <p:cNvPicPr/>
          <p:nvPr/>
        </p:nvPicPr>
        <p:blipFill>
          <a:blip r:embed="rId5"/>
          <a:stretch/>
        </p:blipFill>
        <p:spPr>
          <a:xfrm>
            <a:off x="857160" y="5286240"/>
            <a:ext cx="1928880" cy="128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:\Диплом\приложения\11.jpg"/>
          <p:cNvPicPr/>
          <p:nvPr/>
        </p:nvPicPr>
        <p:blipFill>
          <a:blip r:embed="rId6"/>
          <a:stretch/>
        </p:blipFill>
        <p:spPr>
          <a:xfrm>
            <a:off x="5072040" y="4572000"/>
            <a:ext cx="24368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Users\Солнышко\Desktop\Финальная часть дипломной\logo_college_150.gif"/>
          <p:cNvPicPr/>
          <p:nvPr/>
        </p:nvPicPr>
        <p:blipFill>
          <a:blip r:embed="rId1"/>
          <a:stretch/>
        </p:blipFill>
        <p:spPr>
          <a:xfrm>
            <a:off x="0" y="44280"/>
            <a:ext cx="1844640" cy="17290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1785960" y="428760"/>
            <a:ext cx="635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человеку приходилось сталкиваться на своем лице с различными косметическими недостатками, такими как черные точки и угри. На сегодняшний день уровень косметологии довольно высок и позволяет решить проблему, связанную с устранением этого недуга и преданием ей более здорового ви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85920" y="2223720"/>
            <a:ext cx="7143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стка лица -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наиболее распространенная и действенная косметическая процедура. Периодически чистка лица требуется всем людям, но особенно чистка лица необходима людям, испытывающим проблемы с кожей, так как основное предназначение чистки лица - избавление кожи от так называемых черных точек и всех видов угрей, причины появления которых могут быть самыми разными - от простого загрязнения до нарушения деятельности некоторых желез внутренней секре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357200" y="4082400"/>
            <a:ext cx="7000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процессе исследования были изучены проблемы и недостатки кожи лица, рассмотрен алгоритм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полнения механической чистки кожи лица, выявлены особенности выполнения механической чистки лиц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оме того, была доказана эффективность механической чистки для кожи с различными недостат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и, поставленные в начале исследования, и цель работы были достигнуты. Гипотеза, - выполнение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ханической чистки лица может быть разнообразным для кожи с различными недостатками - доказа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:\Users\Солнышко\Desktop\Финальная часть дипломной\logo_college_150.gif"/>
          <p:cNvPicPr/>
          <p:nvPr/>
        </p:nvPicPr>
        <p:blipFill>
          <a:blip r:embed="rId1"/>
          <a:stretch/>
        </p:blipFill>
        <p:spPr>
          <a:xfrm>
            <a:off x="0" y="44280"/>
            <a:ext cx="1844640" cy="172908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" descr=""/>
          <p:cNvPicPr/>
          <p:nvPr/>
        </p:nvPicPr>
        <p:blipFill>
          <a:blip r:embed="rId2"/>
          <a:stretch/>
        </p:blipFill>
        <p:spPr>
          <a:xfrm>
            <a:off x="895320" y="2749680"/>
            <a:ext cx="76582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user</cp:lastModifiedBy>
  <dcterms:modified xsi:type="dcterms:W3CDTF">2013-06-13T06:33:46Z</dcterms:modified>
  <cp:revision>29</cp:revision>
  <dc:subject/>
  <dc:title>Презентация PowerPoint</dc:title>
</cp:coreProperties>
</file>