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F2B-8B09-42A8-8B11-040DA586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A35E-3041-4002-BB1A-E68B2FAB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0620-B310-47A8-BF7B-8FD55FD6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C0E5-AB81-4602-829F-1B1F9EAF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1F3E-BC37-45C8-BC80-107C36940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74C2-A83D-4D0A-8398-7485F1EB0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29AB-E0AD-43A1-9DA1-6C2EC262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A3E7-44B4-4F3A-966C-CA2FA5EA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BDE9-5A49-48F5-99D7-1A53A663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5415-2BAC-4B27-965A-60793900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55585-B991-4202-A7C1-85E5B5F4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840-BDDA-42AE-AF89-DE13441C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8CCF-EB76-4A9B-995D-8AFE3D0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FB5F-BD4A-4A34-B3CE-E061A90A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7F28-2136-431B-A5AD-8FFA1D60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4EF7-6724-4B38-B8AD-3B690EA4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8C1E-CB8E-4B6B-90AE-DB0F501E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FDD-7431-4574-A2D0-29887A6B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D328-AA00-4933-8FB9-5F80F551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DBFB-5A2D-4D6D-8DD4-6F0B448B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32A-0470-44E0-AB02-0E3AE991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477-A86F-4A9F-9B26-8789B8AE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829-AD7A-4CDE-9DD9-1C1D678D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CD75-5A99-4F7D-9C63-17C0B1B2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A652-97F8-4D5A-8771-9891386A27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38A2-E619-493C-9BA9-AB73ACD2CC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../../../Program%20Files/Physicon/Open%20Physics%202.6.%20Part%202/content/chapter3/section/paragraph7/theory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../../../Program%20Files/Physicon/Open%20Physics%202.6.%20Part%202/content/chapter1/section/paragraph16/theory.html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Электростатик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кон Кулон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дготовил: Дуйсенбаев Алише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98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98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принцип суперпозиции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Если заряженное тело взаимодействует одновременно с несколькими заряженными телами, то результирующая сила, действующая на данное тело, равна векторной сумме сил, действующих на это тело со стороны всех других заряженных тел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ринцип суперпозиции электростатических сил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3" name="Picture 4" descr="1-1-4"/>
          <p:cNvPicPr/>
          <p:nvPr/>
        </p:nvPicPr>
        <p:blipFill>
          <a:blip r:embed="rId1"/>
          <a:stretch/>
        </p:blipFill>
        <p:spPr>
          <a:xfrm>
            <a:off x="755640" y="1484280"/>
            <a:ext cx="75614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5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99"/>
                </a:solidFill>
                <a:latin typeface="Arial"/>
              </a:rPr>
              <a:t>Электрический заряд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 это физическая величина, характеризующая свойство частиц или тел вступать в электромагнитные силовые взаимодейств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Электрический заряд обычно обозначается буквам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98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выводы: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96472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уществует два рода электрических зарядов, условно названных положительными и отрицательны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Заряды могут передаваться (например, при непосредственном контакте) от одного тела к другому. В отличие от массы тела электрический заряд не является неотъемлемой характеристикой данного тела. Одно и то же тело в разных условиях может иметь разный заряд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дноименные заряды отталкиваются, разноименные – притягиваются. В этом также проявляется принципиальное отличие электромагнитных сил от гравитационных. Гравитационные силы всегда являются силами притяжени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5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99"/>
                </a:solidFill>
                <a:latin typeface="Arial"/>
              </a:rPr>
              <a:t>закон сохранения электрического заряда</a:t>
            </a: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 изолированной системе алгебраическая сумма зарядов всех тел остается постоянной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+ 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+ 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+ ... +</a:t>
            </a: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q</a:t>
            </a:r>
            <a:r>
              <a:rPr b="0" i="1" lang="en-US" sz="3200" spc="-1" strike="noStrike" baseline="-25000">
                <a:solidFill>
                  <a:srgbClr val="ffffff"/>
                </a:solidFill>
                <a:latin typeface="Verdana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 = const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еренос заряда с заряженного тела на электрометр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9" name="Picture 4" descr="1-1-1"/>
          <p:cNvPicPr/>
          <p:nvPr/>
        </p:nvPicPr>
        <p:blipFill>
          <a:blip r:embed="rId1"/>
          <a:stretch/>
        </p:blipFill>
        <p:spPr>
          <a:xfrm>
            <a:off x="324000" y="1628640"/>
            <a:ext cx="8820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ибор Куло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Picture 4" descr="1-1-2"/>
          <p:cNvPicPr/>
          <p:nvPr/>
        </p:nvPicPr>
        <p:blipFill>
          <a:blip r:embed="rId1"/>
          <a:stretch/>
        </p:blipFill>
        <p:spPr>
          <a:xfrm>
            <a:off x="1835280" y="1484280"/>
            <a:ext cx="640872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Arial"/>
              </a:rPr>
              <a:t>Силы взаимодействия одноименных и разноименных зарядов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050560" y="1989000"/>
            <a:ext cx="51850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5" descr="1-1-3"/>
          <p:cNvPicPr/>
          <p:nvPr/>
        </p:nvPicPr>
        <p:blipFill>
          <a:blip r:embed="rId2"/>
          <a:stretch/>
        </p:blipFill>
        <p:spPr>
          <a:xfrm>
            <a:off x="2195640" y="1341360"/>
            <a:ext cx="49687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1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закон  Кулон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илы взаимодействия неподвижных зарядов прямо пропорциональны произведению модулей зарядов и обратно пропорциональны квадрату расстояния между ними: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5" descr="63230164548948-4"/>
          <p:cNvPicPr/>
          <p:nvPr/>
        </p:nvPicPr>
        <p:blipFill>
          <a:blip r:embed="rId3"/>
          <a:stretch/>
        </p:blipFill>
        <p:spPr>
          <a:xfrm>
            <a:off x="2268360" y="4292640"/>
            <a:ext cx="39592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0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98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98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В Международной системе СИ за единицу заряда принят </a:t>
            </a:r>
            <a:r>
              <a:rPr b="1" lang="ru-RU" sz="4400" spc="-1" strike="noStrike">
                <a:solidFill>
                  <a:srgbClr val="ffff99"/>
                </a:solidFill>
                <a:latin typeface="Arial"/>
              </a:rPr>
              <a:t>кулон</a:t>
            </a: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 (Кл).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3141360"/>
            <a:ext cx="82296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Кулон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– это заряд, проходящий за 1 с через поперечное сечение проводника при силе тока 1 А. Единица силы тока (</a:t>
            </a:r>
            <a:r>
              <a:rPr b="0" lang="ru-RU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ампер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) в СИ является наряду с единицами длины, времени и массы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основной единицей измерения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4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98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9:15:00Z</dcterms:created>
  <dc:creator>Гость</dc:creator>
  <dc:description/>
  <dc:language>en-US</dc:language>
  <cp:lastModifiedBy>Терехина Светлана</cp:lastModifiedBy>
  <dcterms:modified xsi:type="dcterms:W3CDTF">2016-11-13T14:45:57Z</dcterms:modified>
  <cp:revision>6</cp:revision>
  <dc:subject/>
  <dc:title>Электростатика</dc:title>
</cp:coreProperties>
</file>