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248D-597C-4AF0-8B8F-AFD7C341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A2F3-BAB3-48E4-9539-BAB9E6F4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5DCC-D24F-48A1-AAF5-6CB7A5E4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F15C-69B3-49B7-A25D-64336B5E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8468-C5B9-44CB-B074-0F95D583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186-7E8C-4386-BE1C-EADAEE7E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614A-39DD-4CA2-A29A-6153F0E3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22C9-CBF5-458F-B071-BE1796C5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C157-21D2-4080-A5DB-DD434223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C3DD-EDA3-453D-8836-3502F83A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07A-022F-454F-A9F2-098C38BF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493F-746A-4EB1-93DF-3D121FD1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A0C5-FD26-464F-B81A-50BBD9DD2E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Лекция № 14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ы физиологи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нутренней секреции паращитовидных желез, поджелудочной железы, гонад (половых желез), эпифиза, тимуса и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PUD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систе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- Инсулин-независимый сахарный диабет</a:t>
            </a:r>
            <a:br>
              <a:rPr sz="3200"/>
            </a:b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- Инсулин-зависимый сахарный диабет</a:t>
            </a:r>
            <a:br>
              <a:rPr sz="3200"/>
            </a:br>
            <a:br>
              <a:rPr sz="4000"/>
            </a:b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Инсулин и контринсулярные гормоны: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2852640"/>
          <a:ext cx="8229600" cy="3081600"/>
        </p:xfrm>
        <a:graphic>
          <a:graphicData uri="http://schemas.openxmlformats.org/drawingml/2006/table">
            <a:tbl>
              <a:tblPr/>
              <a:tblGrid>
                <a:gridCol w="2890800"/>
                <a:gridCol w="5338800"/>
              </a:tblGrid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сул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юкаг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матотропный горм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роксин (фракции Т3 и Т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юкокортикои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дроге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холам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471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e701"/>
                </a:solidFill>
                <a:uFillTx/>
                <a:latin typeface="Arial"/>
              </a:rPr>
              <a:t>Половые гормоны 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Женск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- эстрогены (эстрон, эстрадиол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- гестагены (прогестерон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Мужск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- андрогены (тестостерон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000"/>
                </a:solidFill>
                <a:latin typeface="Arial"/>
              </a:rPr>
              <a:t>Схема головного мозга человека</a:t>
            </a:r>
            <a:endParaRPr b="0" lang="en-US" sz="35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Основные эффекты инсулина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e701"/>
                </a:solidFill>
                <a:latin typeface="Arial"/>
              </a:rPr>
              <a:t>Эпифиз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екретирует мелатонин. Синтез и секреция мелатонина усиливается в темноте и угнетается на свету. Мелатонин принимает участие в регуляции циркадианных ритм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e701"/>
                </a:solidFill>
                <a:latin typeface="Arial"/>
              </a:rPr>
              <a:t>Тиму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рган иммунной системы, здесь происходит созревание специфических Т-лимфоцитов. Вырабатывает пептиды (тимозин, тимопоэтин), которые участвуют в регуляции функционального состояния иммунной системы. Некоторые пептиды тимуса обладают более широким спектром действ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e701"/>
                </a:solidFill>
                <a:latin typeface="Arial"/>
              </a:rPr>
              <a:t>APUD</a:t>
            </a:r>
            <a:r>
              <a:rPr b="1" lang="ru-RU" sz="2600" spc="-1" strike="noStrike">
                <a:solidFill>
                  <a:srgbClr val="ffe701"/>
                </a:solidFill>
                <a:latin typeface="Arial"/>
              </a:rPr>
              <a:t>-система</a:t>
            </a:r>
            <a:r>
              <a:rPr b="1" lang="en-US" sz="2600" spc="-1" strike="noStrike">
                <a:solidFill>
                  <a:srgbClr val="ffe701"/>
                </a:solidFill>
                <a:latin typeface="Arial"/>
              </a:rPr>
              <a:t> (</a:t>
            </a:r>
            <a:r>
              <a:rPr b="1" lang="ru-RU" sz="2600" spc="-1" strike="noStrike">
                <a:solidFill>
                  <a:srgbClr val="ffe701"/>
                </a:solidFill>
                <a:latin typeface="Arial"/>
              </a:rPr>
              <a:t>англ. </a:t>
            </a:r>
            <a:r>
              <a:rPr b="1" lang="en-US" sz="2600" spc="-1" strike="noStrike">
                <a:solidFill>
                  <a:srgbClr val="ffe701"/>
                </a:solidFill>
                <a:latin typeface="Arial"/>
              </a:rPr>
              <a:t>Amine Precursor Uptake &amp; Decarboxilatio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летки секретируют катехоламины и пептиды (последние вовлечены в регуляцию пищевого поведения и пищеварительных процессов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Механизмы общей регуляции деятельности желез внутренней секреции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инципы регуляции желез внутренней секреции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47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Основной гормон паращитовидных желез и его эффекты: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100" spc="-1" strike="noStrike" u="sng">
                <a:solidFill>
                  <a:srgbClr val="ffffff"/>
                </a:solidFill>
                <a:uFillTx/>
                <a:latin typeface="Arial"/>
              </a:rPr>
              <a:t>Паратирин (паратгормон или паратиреоидный гормон)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вает увеличение уровня кальция в крови. Органами-мишенями для этого гормона являются кости и почки. В костной ткани паратирин усиливает функцию остеокластов, что способствует деминерализации кости и повышению уровня кальция и фосфора в плазме крови. В канальцевом аппарате почек паратирин стимулирует реабсорбцию кальция и тормозит реабсорбцию фосфатов, что приводит к гиперкальциемии и фосфатурии. Паратирин усиливает синтез кальцитриола, который является активным метаболитом витамин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Регуляция обмена кальция в организме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362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Механизмы регуляции обмена кальция в организме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993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47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Признаки дисфункции паращитовидных желез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гипофун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ли при удалении околощитовидных желез животное погибает от тетанических судорог. Это связано с тем, что в случае низкого содержания кальция в крови резко усиливается нервно-мышечная возбудим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перпродукци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атирина приводит к деминерализации и резорбции костной ткани, развитию остеопороза. Резко увеличивается уровень кальция в плазме крови, в результате чего усиливается склонность к камнеобразованию в органах мочеполовой системы. Гиперкальциемия способствует развитию выраженных нарушений электрической стабильности сердца, а также образованию язв в пищеварительном тракте, возникновение которых обусловлено стимулирующим действием ионов Са2+ на выработку гастрина и соляной кислоты в желуд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Гормоны поджелудочной железы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fffff"/>
                </a:solidFill>
                <a:uFillTx/>
                <a:latin typeface="Arial"/>
              </a:rPr>
              <a:t>Инсулин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(пептид, состоящий из А-цепи – 21 аминокислотный остаток и В-цепь – 30 остатков)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интезируется бета клетками островков Лангерганса (на их долю приходится около 60% от общего количества эндокринных клеток островкового аппарата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fffff"/>
                </a:solidFill>
                <a:uFillTx/>
                <a:latin typeface="Arial"/>
              </a:rPr>
              <a:t>Глюкагон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(пептид, состоящий из 29 аминокислотных остатков).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интезируется альфа клетками островков Лангерганса (на их долю приходится около 25% от общего количества эндокринных клеток островкового аппарата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fffff"/>
                </a:solidFill>
                <a:uFillTx/>
                <a:latin typeface="Arial"/>
              </a:rPr>
              <a:t>Соматостатин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(пептид, состоящий из 14 аминокислотных остатков).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интезируется дельта клетками островков Лангерганса (на их долю приходится около 15% от общего количества эндокринных клеток островкового аппарата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Основные эффекты инсулина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Углеводный обмен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увеличивает проницаемость клеточных мембран для глюкоз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активирует глюкокиназу, ингибируя фосфорилазу (что способствует образованию гликогена и тормозит его ращеплени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Жировой обмен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на уровне организма в целом инсулин способствует накоплению липидов и стимулирует синтез триглицеридов, угнетает активность липаз (что способствует депонированию липидов и угнетает их гидролиз);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 местный (локальный) эффект – липолитически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Белковый обмен: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тиимулирует транспорт в клетки аминокислот, стимулирует биосинтез белк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Взаимодействие между эндокринными клетками островкового аппарата поджелудочной железы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(штриховые связи – ингибирующие, непрерывные – стимулирующие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Функциональные связи островкового аппарата поджелудочной железы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20:02:42Z</dcterms:created>
  <dc:creator>И.В. Филиппов</dc:creator>
  <dc:description/>
  <dc:language>en-US</dc:language>
  <cp:lastModifiedBy>И.В. Филиппов</cp:lastModifiedBy>
  <dcterms:modified xsi:type="dcterms:W3CDTF">2008-10-29T17:14:27Z</dcterms:modified>
  <cp:revision>26</cp:revision>
  <dc:subject/>
  <dc:title>Лекция 13</dc:title>
</cp:coreProperties>
</file>