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3ED-FE33-4420-80E0-CE6725F0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443-1A2A-4748-A068-870F4EF8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8BF-E157-4822-84FB-B9BD786D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68F-0911-471C-9EB9-E99E2B26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1FB-3E8C-4ADA-9D21-05E23A77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191-6E45-4712-8E82-A76EFCE6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FD3-16BE-4F6E-BBC5-B979BE2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C52-7037-44AE-966F-E6DCBAD6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638-AEEC-4070-9094-6E52117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7DF-1819-4F86-BCDA-2DA2E7B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A8D-7781-4DD8-93ED-68DF2382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084-2B8C-4C33-AFE5-10384C67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C00B-7DA6-4A3D-9D8F-A9EA006734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Лекция № 1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физиологи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нутренней секреции паращитовидных желез, поджелудочной железы, гонад (половых желез), эпифиза, тимуса и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UD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сист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- Инсулин-независимый сахарный диабет</a:t>
            </a:r>
            <a:br>
              <a:rPr sz="3200"/>
            </a:b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- Инсулин-зависимый сахарный диабет</a:t>
            </a:r>
            <a:br>
              <a:rPr sz="3200"/>
            </a:br>
            <a:br>
              <a:rPr sz="40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нсулин и контринсулярные гормоны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852640"/>
          <a:ext cx="8229600" cy="308160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ул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юкаг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матотропный горм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роксин (фракции Т3 и Т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юкокортикои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дрог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хо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e701"/>
                </a:solidFill>
                <a:uFillTx/>
                <a:latin typeface="Arial"/>
              </a:rPr>
              <a:t>Половые гормоны 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Жен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эстрогены (эстрон, эстрадио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гестагены (прогестеро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Муж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андрогены (тестостеро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00"/>
                </a:solidFill>
                <a:latin typeface="Arial"/>
              </a:rPr>
              <a:t>Схема головного мозга человека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Основные эффекты инсулина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701"/>
                </a:solidFill>
                <a:latin typeface="Arial"/>
              </a:rPr>
              <a:t>Эпифи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кретирует мелатонин. Синтез и секреция мелатонина усиливается в темноте и угнетается на свету. Мелатонин принимает участие в регуляции циркадианных ритм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701"/>
                </a:solidFill>
                <a:latin typeface="Arial"/>
              </a:rPr>
              <a:t>Тиму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рган иммунной системы, здесь происходит созревание специфических Т-лимфоцитов. Вырабатывает пептиды (тимозин, тимопоэтин), которые участвуют в регуляции функционального состояния иммунной системы. Некоторые пептиды тимуса обладают более широким спектром действ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e701"/>
                </a:solidFill>
                <a:latin typeface="Arial"/>
              </a:rPr>
              <a:t>APUD</a:t>
            </a:r>
            <a:r>
              <a:rPr b="1" lang="ru-RU" sz="2600" spc="-1" strike="noStrike">
                <a:solidFill>
                  <a:srgbClr val="ffe701"/>
                </a:solidFill>
                <a:latin typeface="Arial"/>
              </a:rPr>
              <a:t>-система</a:t>
            </a:r>
            <a:r>
              <a:rPr b="1" lang="en-US" sz="2600" spc="-1" strike="noStrike">
                <a:solidFill>
                  <a:srgbClr val="ffe701"/>
                </a:solidFill>
                <a:latin typeface="Arial"/>
              </a:rPr>
              <a:t> (</a:t>
            </a:r>
            <a:r>
              <a:rPr b="1" lang="ru-RU" sz="2600" spc="-1" strike="noStrike">
                <a:solidFill>
                  <a:srgbClr val="ffe701"/>
                </a:solidFill>
                <a:latin typeface="Arial"/>
              </a:rPr>
              <a:t>англ. </a:t>
            </a:r>
            <a:r>
              <a:rPr b="1" lang="en-US" sz="2600" spc="-1" strike="noStrike">
                <a:solidFill>
                  <a:srgbClr val="ffe701"/>
                </a:solidFill>
                <a:latin typeface="Arial"/>
              </a:rPr>
              <a:t>Amine Precursor Uptake &amp; Decarboxil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летки секретируют катехоламины и пептиды (последние вовлечены в регуляцию пищевого поведения и пищеварительных процессов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Механизмы общей регуляции деятельности желез внутренней секре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инципы регуляции желез внутренней секреции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Основной гормон паращитовидных желез и его эффекты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100" spc="-1" strike="noStrike" u="sng">
                <a:solidFill>
                  <a:srgbClr val="ffffff"/>
                </a:solidFill>
                <a:uFillTx/>
                <a:latin typeface="Arial"/>
              </a:rPr>
              <a:t>Паратирин (паратгормон или паратиреоидный гормон)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вает увеличение уровня кальция в крови. Органами-мишенями для этого гормона являются кости и почки. В костной ткани паратирин усиливает функцию остеокластов, что способствует деминерализации кости и повышению уровня кальция и фосфора в плазме крови. В канальцевом аппарате почек паратирин стимулирует реабсорбцию кальция и тормозит реабсорбцию фосфатов, что приводит к гиперкальциемии и фосфатурии. Паратирин усиливает синтез кальцитриола, который является активным метаболитом витами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Регуляция обмена кальция в организме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62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Механизмы регуляции обмена кальция в организме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Признаки дисфункции паращитовидных желез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гипофун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ли при удалении околощитовидных желез животное погибает от тетанических судорог. Это связано с тем, что в случае низкого содержания кальция в крови резко усиливается нервно-мышечная возбуд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ерпродукц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тирина приводит к деминерализации и резорбции костной ткани, развитию остеопороза. Резко увеличивается уровень кальция в плазме крови, в результате чего усиливается склонность к камнеобразованию в органах мочеполовой системы. Гиперкальциемия способствует развитию выраженных нарушений электрической стабильности сердца, а также образованию язв в пищеварительном тракте, возникновение которых обусловлено стимулирующим действием ионов Са2+ на выработку гастрина и соляной кислоты в желу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Гормоны поджелудочной железы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Инсулин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ептид, состоящий из А-цепи – 21 аминокислотный остаток и В-цепь – 30 остатков)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интезируется бета клетками островков Лангерганса (на их долю приходится около 60% от общего количества эндокринных клеток островкового аппарата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Глюкагон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ептид, состоящий из 29 аминокислотных остатков)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интезируется альфа клетками островков Лангерганса (на их долю приходится около 25% от общего количества эндокринных клеток островкового аппарата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Соматостатин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ептид, состоящий из 14 аминокислотных остатков)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интезируется дельта клетками островков Лангерганса (на их долю приходится около 15% от общего количества эндокринных клеток островкового аппарата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Основные эффекты инсулина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Углеводный обмен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увеличивает проницаемость клеточных мембран для глюкоз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активирует глюкокиназу, ингибируя фосфорилазу (что способствует образованию гликогена и тормозит его ращепле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Жировой обмен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на уровне организма в целом инсулин способствует накоплению липидов и стимулирует синтез триглицеридов, угнетает активность липаз (что способствует депонированию липидов и угнетает их гидролиз)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местный (локальный) эффект – липолитическ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Белковый обмен: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тиимулирует транспорт в клетки аминокислот, стимулирует биосинтез бел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заимодействие между эндокринными клетками островкового аппарата поджелудочной железы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(штриховые связи – ингибирующие, непрерывные – стимулирующие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ункциональные связи островкового аппарата поджелудочной железы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20:02:42Z</dcterms:created>
  <dc:creator>И.В. Филиппов</dc:creator>
  <dc:description/>
  <dc:language>en-US</dc:language>
  <cp:lastModifiedBy>И.В. Филиппов</cp:lastModifiedBy>
  <dcterms:modified xsi:type="dcterms:W3CDTF">2008-10-29T17:14:27Z</dcterms:modified>
  <cp:revision>26</cp:revision>
  <dc:subject/>
  <dc:title>Лекция 13</dc:title>
</cp:coreProperties>
</file>