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942C-3C3E-4D24-914B-4C28B24BCC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DCD-A014-4AE9-A8EA-F095224690B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C513-ED74-48BE-9539-84C21412E10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C2F-76F0-49E8-AC99-9DA881BFCA4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DF0-A4E1-4969-B001-2668A8EBD0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97E-13CB-40C3-8053-0320F916AB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14FC-3109-41D7-83A0-973BD84090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279F-C4F0-47EB-93A0-DCAC5A24847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F11F-EEC1-422F-9F08-36FD528312B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402B-152A-4203-B3F1-3F8D7E3B3B9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2E9B-D1F6-4703-8987-452B777BB1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535-C8C6-4FB0-B184-25366964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358-B79A-4639-8724-863DFE06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486-1F02-43E4-89AF-1E467D94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A01-85C7-4CAB-938C-003E5F50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9B99-DCC2-492F-AA74-A89530B5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ACA9-45F3-4512-A259-0A283548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3C77-F537-4EF0-B8FD-93BF0D3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4FD8-7ED8-41FE-B980-85F3EB25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FF07-090C-40EE-BBD7-A4DF3217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1BB-6014-43DE-95FE-139ED123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C15F-2080-49BC-9C2A-6977060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7E4-A468-448C-A6AA-E5EA291F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E717-E822-442C-B0F0-889D04C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546C-A8B8-4CBF-A2C5-3E574B6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611D-D5EE-45E0-8C23-66102E4F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6C8C-8D18-42C4-AE03-6348B707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FF98-E6EA-4E6C-A795-CD31135A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44B-3B20-40A0-BAE9-E3B5D058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8F6-C0B5-40CA-8F0C-9C0E5EC4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9F2-EC0B-4C61-A35C-7211B0B6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AE-01AC-43FB-9AD1-057AEEC3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935C-4464-47EB-929D-DC4E8F93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B98-803A-4F20-AC58-B487BD9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0FC-4721-462A-98F6-8436CF7E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EF27-68EC-473E-9F10-521867F495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ECD-0BC3-4DED-8757-994F5E285B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755640" y="26028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зентац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1763640" y="2492280"/>
            <a:ext cx="316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7" name="Picture 6" descr="escher_twon_drawing-hands"/>
          <p:cNvPicPr/>
          <p:nvPr/>
        </p:nvPicPr>
        <p:blipFill>
          <a:blip r:embed="rId1"/>
          <a:stretch/>
        </p:blipFill>
        <p:spPr>
          <a:xfrm>
            <a:off x="0" y="4379760"/>
            <a:ext cx="2994120" cy="247824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3132000" y="3645000"/>
            <a:ext cx="5796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ознани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знавательные процессы.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42920" y="141480"/>
            <a:ext cx="56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началом школьного обучения интенсивно развивается словесно-логическое, понятийное мыш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ление взрослого человека включает признаки всех трех видов: предметно-действенного, наглядно-образного и понятийного. Соотношение этих видов мышления при этом определяется не только возрастными, но и индивидуальными особенностями и связано с доминированием одного из полушар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6" descr="вооббб"/>
          <p:cNvPicPr/>
          <p:nvPr/>
        </p:nvPicPr>
        <p:blipFill>
          <a:blip r:embed="rId1"/>
          <a:srcRect l="5626" t="15784" r="11025" b="5263"/>
          <a:stretch/>
        </p:blipFill>
        <p:spPr>
          <a:xfrm>
            <a:off x="5929200" y="0"/>
            <a:ext cx="3214800" cy="425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Воооообра"/>
          <p:cNvPicPr/>
          <p:nvPr/>
        </p:nvPicPr>
        <p:blipFill>
          <a:blip r:embed="rId2"/>
          <a:stretch/>
        </p:blipFill>
        <p:spPr>
          <a:xfrm>
            <a:off x="4786200" y="3591000"/>
            <a:ext cx="4357800" cy="326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Мышшшление"/>
          <p:cNvPicPr/>
          <p:nvPr/>
        </p:nvPicPr>
        <p:blipFill>
          <a:blip r:embed="rId3"/>
          <a:stretch/>
        </p:blipFill>
        <p:spPr>
          <a:xfrm>
            <a:off x="0" y="3578400"/>
            <a:ext cx="48578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сознание"/>
          <p:cNvPicPr/>
          <p:nvPr/>
        </p:nvPicPr>
        <p:blipFill>
          <a:blip r:embed="rId1"/>
          <a:stretch/>
        </p:blipFill>
        <p:spPr>
          <a:xfrm>
            <a:off x="5940360" y="4281480"/>
            <a:ext cx="3203640" cy="2576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073200"/>
          <p:cNvPicPr/>
          <p:nvPr/>
        </p:nvPicPr>
        <p:blipFill>
          <a:blip r:embed="rId2"/>
          <a:stretch/>
        </p:blipFill>
        <p:spPr>
          <a:xfrm>
            <a:off x="0" y="4365720"/>
            <a:ext cx="2130480" cy="2492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539640" y="119772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лубокой древности философы и мыслители напряженно искали разгадку сознания. На протяжении многих веков ведутся споры вокруг сущности сознания и возможностей его позна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знания окружающего мира необходимо его осознание, с этим положением вряд ли кто станет сейчас спорить. Без сознания не может быть никакого внимания, памяти, мышления. В сознании задействованы все психические процессы, состояния и свойства человека, сознание — это единство всех форм познания и переживаний человека и его отношение к осознанному. Рассмотрение внимания в когнитивной психологии без учета сознания, влияющего на психические процессы просто невозмож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2411280" y="115920"/>
            <a:ext cx="4321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108000" y="1698480"/>
            <a:ext cx="611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ние всегда связано с протекающими в мозгу процессами и не существует помимо ни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ние является высшей формой отражения мира и связано с членораздельной речью, логическими обобщениями, абстрактными понятиями, что присуще только человеку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жнем сознания, способом его существования является зн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развивает созн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чь (язык) формируют созн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ние является функцией мозг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ние многокомпонентное, но составляет единое цело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нание активно и обладает возможностью воздействовать на окружающую действитель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9" descr="brrrr"/>
          <p:cNvPicPr/>
          <p:nvPr/>
        </p:nvPicPr>
        <p:blipFill>
          <a:blip r:embed="rId1"/>
          <a:srcRect l="27855" t="1565" r="26973" b="16926"/>
          <a:stretch/>
        </p:blipFill>
        <p:spPr>
          <a:xfrm>
            <a:off x="6149880" y="2276640"/>
            <a:ext cx="2959200" cy="40050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0"/>
          <p:cNvSpPr txBox="1"/>
          <p:nvPr/>
        </p:nvSpPr>
        <p:spPr>
          <a:xfrm>
            <a:off x="684360" y="287280"/>
            <a:ext cx="7489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вязь сознан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протекающими в мозгу процессам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554160"/>
          <p:cNvPicPr/>
          <p:nvPr/>
        </p:nvPicPr>
        <p:blipFill>
          <a:blip r:embed="rId1"/>
          <a:stretch/>
        </p:blipFill>
        <p:spPr>
          <a:xfrm>
            <a:off x="5364000" y="1484280"/>
            <a:ext cx="3343320" cy="2230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8760" y="2060640"/>
            <a:ext cx="87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продуктив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но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тракт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ивн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характеризуется тем, что, пользуясь им, человек по собственному желанию, усилием воли вызывает у себя соответствующие образы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ы пассивного вообр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спонтанно, помимо воли и желания человек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уктивное во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личается тем, что в нем действительность сознательно конструируется человеком, а не просто механически копируется или воссоздается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епродуктивном воображ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вится задача воспроизвести реальность в том виде, какова она есть, и хотя здесь также присутствует элемент фантазии, такое воображение больше напоминает восприятие или память. В зависимости от характера образов, которыми оперирует воображение, различают иногд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ное и абстрактное вообра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WordArt 8"/>
          <p:cNvSpPr txBox="1"/>
          <p:nvPr/>
        </p:nvSpPr>
        <p:spPr>
          <a:xfrm>
            <a:off x="468360" y="333360"/>
            <a:ext cx="554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воображения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177840" y="1047600"/>
            <a:ext cx="626580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гглютин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соединение несоединяемых в реальности качеств, свойств, частей предмето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ербол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увеличение или уменьшение объекта и его частей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т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сглаживание различий предметов и выявление черт сходства между ни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остр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подчеркивание каких-либо признаков объекта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из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выделение существенного, повторяющегося в однородных явлениях, и воплощение его в конкретном образ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ют условия, способствующие нахождению творческого решения: наблюдательность, легкость комбинирования, чуткость к проявлению проб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1692360" y="11592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ормы воображения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6" descr="вообрааа"/>
          <p:cNvPicPr/>
          <p:nvPr/>
        </p:nvPicPr>
        <p:blipFill>
          <a:blip r:embed="rId1"/>
          <a:srcRect l="0" t="8121" r="0" b="4257"/>
          <a:stretch/>
        </p:blipFill>
        <p:spPr>
          <a:xfrm>
            <a:off x="5830920" y="2276640"/>
            <a:ext cx="3313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108000" y="109260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ение памяти началось много веков назад, когда человек стал, хотя и смутно, догадываться о том, что он способен запоминать и хранить информаци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древние греки в соответствии с принятым в то время способом записи считали, что информация в виде каких-то материальных частиц попадает в голову и оставляет отпечатки на мягком веществе мозга, как на глине или воске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е тысячи лет спустя французский философ и естествоиспытатель Р. Декарт предположил, что частое использование одних и тех же пустотелых трубок (так он представлял себе строение нервных волокон) приводит к их растяжению и снижению сопротивления, что сопровождается формированием навыков - т.е. запоминанием.  Позже - в 19 и начале 20 веков - в связи  с созданием таких систем, как телефонная сеть, магнитофоны и другие устройства, механизмы памяти трактовали в соответствии с принципами, на которых основаны механизмы действия перечисленных выше устройст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2773440" y="189000"/>
            <a:ext cx="31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3399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мя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ff3399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4" name="Picture 6" descr="памя"/>
          <p:cNvPicPr/>
          <p:nvPr/>
        </p:nvPicPr>
        <p:blipFill>
          <a:blip r:embed="rId1"/>
          <a:srcRect l="0" t="0" r="8074" b="11496"/>
          <a:stretch/>
        </p:blipFill>
        <p:spPr>
          <a:xfrm>
            <a:off x="6588000" y="3286080"/>
            <a:ext cx="25005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08000" y="1987200"/>
            <a:ext cx="90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игате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вязанная с запоминание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оспроизведением движений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ферой которой является запоминание чувственных образов предметов, явлений и их свойств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весно – логи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вязанная с запоминанием, узнаванием и воспроизведением мыслей, понятий и т.д., этот вид памяти непосредственно связан с обучение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альная памя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ответственная за запоминание и воспроизведение чувственных восприятий совместно с вызывающими их объекта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оизво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характеризуется тем, что человек запоминает и воспроизводит образы не ставя какой либо цели запомнить это и воспроизве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извольн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думанная с определенной целью и задачей усвоить и воспроизвести материал, используя те или иные прием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96720" y="549360"/>
            <a:ext cx="4751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ды памяти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6" descr="память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508720" y="0"/>
            <a:ext cx="3635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thinking"/>
          <p:cNvPicPr/>
          <p:nvPr/>
        </p:nvPicPr>
        <p:blipFill>
          <a:blip r:embed="rId1"/>
          <a:stretch/>
        </p:blipFill>
        <p:spPr>
          <a:xfrm>
            <a:off x="6337440" y="3645000"/>
            <a:ext cx="2771640" cy="26924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900000" y="333360"/>
            <a:ext cx="5257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ышлени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50920" y="169920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овокупность умственных процессов, лежащих в основе познания; к мышлению именно относят активную сторону познания: внимание, восприятие, процесс ассоциаций, образование понятий и суждений. В более тесном логическом смысле мышление заключает в себе лишь образование суждений и умозаключений путем анализа пон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50920" y="3500280"/>
            <a:ext cx="608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шление осуществляется в форме речи, при этом основным элементом мысли является понятие. Понятие отражает общее, существенное, закономерное в предметах и явлениях действительности. Понятие обозначается словом, поэтому мыслить понятиями — это значит мыслить словами. Понятия формируются в процессе исторического развития человечества и усваиваются в процессе индивидуального развити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79280" y="1343520"/>
            <a:ext cx="856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выми являю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а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трагир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ть мысленное разложение целого на части или мысленное выделение отдельных его свойств или сторо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те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мысленное соединение частей, предметов или явлен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озволяет устанавливать сходство или различие между предметами и явлениями на основе мысленного выделения их частей или свойст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тра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важнейшая характеристика мышления, представляет собой отвлечение каких-либо свойств предметов и явлений от других и их изолированное рассмотр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о-действенное мыш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вляется ведущим у ребенка до 2—3-летнего возраста и проявляется в процессе непосредственных действий с предметами. Этот вид мышления является исходным в формировании любой мыслительной операции. Для него характерен целый ряд особенност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лядно-образное мыш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же характеризуется синкретизмом, насыщено эмоциями, для него характерна низкая критичность и эгоцентризм, невозможность правильного соотнесения частного и общего, непонимание обратимых отноше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1044720" y="260280"/>
            <a:ext cx="66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перации мышления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2:06:10Z</dcterms:created>
  <dc:creator>МОУ Ново-Павловская сош</dc:creator>
  <dc:description/>
  <dc:language>en-US</dc:language>
  <cp:lastModifiedBy>Пользователь</cp:lastModifiedBy>
  <dcterms:modified xsi:type="dcterms:W3CDTF">2010-09-13T11:23:27Z</dcterms:modified>
  <cp:revision>7</cp:revision>
  <dc:subject/>
  <dc:title>Слайд 1</dc:title>
</cp:coreProperties>
</file>